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643-67F7-49B6-A58F-A69E80AA8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3AC-C75B-4369-9926-8C007873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020-166A-49DC-BD41-F11615111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F67B-06AE-4B80-B13F-EF8BBF2E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D71C-729C-4639-B77B-24212E4E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6A0-6096-421F-B8A5-F3F81695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10E-579B-439E-897B-B10BA620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88D5-465C-474A-866F-5B3BDC78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C03A-6276-4C9F-A430-A31B001B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ADD7-8D7F-4B60-931B-207152F9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4175-2F8C-4906-A2B3-42844E2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E8F-AA39-488D-8989-B1CE02A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C12F-AEC6-4F6F-8AC0-6DFAC09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0FA1-8B58-451C-BE16-CAA388F3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EE57-0DCD-487A-8E7A-433F7C00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A52F-3391-46B3-8CA1-79A5BB223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76E5-7ACF-4C37-AEE4-417BCC20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1E9-609B-4BEA-A83E-9161390A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FDDE-57FD-441A-8963-977BFAB6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110-C0D9-4CC3-A1D9-A0283F60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07F5-77C8-41E1-AE63-9CEDC590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1E3-3798-490B-8EC4-F6817C2B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009-F572-4D2D-BB1B-A9D65710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2D95-999D-41FD-B8A1-0E4B52C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05360" y="228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02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6463-55A4-48A6-9B6B-B181C96DE4C2}" type="slidenum">
              <a:rPr b="0" lang="en-US" sz="16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AC18-ED6B-46FC-889A-0B55E4C5A70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bf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2956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8872560" cy="6870600"/>
            <a:chOff x="0" y="0"/>
            <a:chExt cx="8872560" cy="6870600"/>
          </a:xfrm>
        </p:grpSpPr>
        <p:sp>
          <p:nvSpPr>
            <p:cNvPr id="94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ce99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6400" cy="68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INTRODUÇÃO À LINGUAGEM JAVA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705360" cy="3048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exta Aul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Manipulação de imagens com</a:t>
            </a: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 java.awt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Gerenciamento de </a:t>
            </a: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processos</a:t>
            </a: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 e </a:t>
            </a:r>
            <a:r>
              <a:rPr b="1" lang="pt-BR" sz="2800" spc="-1" strike="noStrike">
                <a:solidFill>
                  <a:srgbClr val="402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402000"/>
                </a:solidFill>
                <a:latin typeface="Times New Roman"/>
              </a:rPr>
              <a:t>Nilsa Areán García</a:t>
            </a:r>
            <a:endParaRPr b="0" lang="en-US" sz="36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09.11.2002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9463-A3CC-4BB9-A588-2B156434FE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Consumidore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sumidores de imagens são responsáveis por receber os dados dos pixels provindos dos produtores e realizar algumas operações básica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strar a imagem num dispositivo de saíd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alisar o conteúdo da image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sumidores de imagens implementam métodos da interface ImageConsume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158-790D-4258-911A-DFB861607E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Observadore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bservadores de imagens são responsáveis por observar o processo de consumo de dados pelos consumidores de imagens, de modo que as informações posssam ser passadas para outras class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483-0080-411D-AD42-1F9BBD1ADA2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rocesso de leitura de imagens(I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50840" y="2484360"/>
            <a:ext cx="122688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19600" y="2484360"/>
            <a:ext cx="163980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PROD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90680" y="2484360"/>
            <a:ext cx="195084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92480" y="2666880"/>
            <a:ext cx="1511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92880" y="266688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50840" y="4846680"/>
            <a:ext cx="122688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19600" y="4846680"/>
            <a:ext cx="163980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PROD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90680" y="4846680"/>
            <a:ext cx="195084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92480" y="5029200"/>
            <a:ext cx="1511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92880" y="502920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24960" y="2897280"/>
            <a:ext cx="10378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largura 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altura 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70320" y="3354480"/>
            <a:ext cx="239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hamar setDimension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24600" y="5335560"/>
            <a:ext cx="10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mapa d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ores 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94360" y="5716440"/>
            <a:ext cx="2365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hamar setColorMode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503568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26733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rot="16200000">
            <a:off x="4197240" y="3816360"/>
            <a:ext cx="596880" cy="596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1391-75D8-43E0-B19D-75D333C24C1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rocesso de leitura de imagens(II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840" y="2484360"/>
            <a:ext cx="122688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19600" y="2484360"/>
            <a:ext cx="163980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PROD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90680" y="2484360"/>
            <a:ext cx="195084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92480" y="2666880"/>
            <a:ext cx="1511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492880" y="266688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50840" y="4846680"/>
            <a:ext cx="122688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19600" y="4846680"/>
            <a:ext cx="163980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PROD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90680" y="4846680"/>
            <a:ext cx="195084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92480" y="5029200"/>
            <a:ext cx="1511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92880" y="502920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26760" y="2897280"/>
            <a:ext cx="12268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formato 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69600" y="3354480"/>
            <a:ext cx="1757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hamar setHint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25320" y="5335560"/>
            <a:ext cx="1048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pixels 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92560" y="5716440"/>
            <a:ext cx="1838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hamar setPixel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503568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5880" y="26733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rot="16200000">
            <a:off x="4197240" y="3816360"/>
            <a:ext cx="596880" cy="596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A44-05FA-4E7B-A8D4-E352A91642C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33"/>
                </a:solidFill>
                <a:latin typeface="Times New Roman"/>
              </a:rPr>
              <a:t>Processo de leitura de imagens(III)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50840" y="2484360"/>
            <a:ext cx="122688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19600" y="2484360"/>
            <a:ext cx="163980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PRODUT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90680" y="2484360"/>
            <a:ext cx="195084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92480" y="2666880"/>
            <a:ext cx="1511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92880" y="2666880"/>
            <a:ext cx="12826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26040" y="2897280"/>
            <a:ext cx="1272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Término 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leitur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71040" y="3354480"/>
            <a:ext cx="2466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hamar imageComplete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673360"/>
            <a:ext cx="0" cy="7491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E3A-9165-452C-B326-015230AAE88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Comunicação entre produtores, consumidores e observadore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50840" y="3606840"/>
            <a:ext cx="2033280" cy="39384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Produc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19600" y="2235240"/>
            <a:ext cx="2174760" cy="698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Consum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tPixels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19600" y="3987720"/>
            <a:ext cx="2174760" cy="698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Consum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tPixels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19600" y="5359320"/>
            <a:ext cx="2174760" cy="698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Consum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setPixels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36960" y="2235240"/>
            <a:ext cx="2090880" cy="6987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Observe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imageUpdate(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130560" y="2736360"/>
            <a:ext cx="673200" cy="107964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30560" y="3816360"/>
            <a:ext cx="673200" cy="44460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30560" y="3816360"/>
            <a:ext cx="673200" cy="19684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26040" y="2590920"/>
            <a:ext cx="5968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62E-8A7C-4E7F-8B0E-A3497EB1FE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Um exemplo de observad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port java.awt.imagem.*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class Observad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plements ImageObserver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public boolean imageUpdate(Image image,int flags,int x,int y,int width,int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  height){  // Método observad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f ((flags&amp;HEIGHT)!=0)  // Verifica se já leu a altura da image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System.out.println(“Altura da imagem=“+height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f ((flags&amp;WIDTH)!=0)  // Verifica se já leu a largura da image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System.out.println(“Altura da imagem=“+height);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f ((flags&amp;ALLBITS)!=0){ // Verifica se já leu a altura da image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System.out.println(“Altura da imagem=“+height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return(false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return(true)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440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E2A9-F744-4E92-AA7C-43912BE5BEB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Uso do observado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port java.applet.*;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public class teste_observad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extends Applet{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age img;    // Imagem a ser lid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public void init(){   // Inicialização da apple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g=getImage(getCodeBase(),”imagem.gif”);   // Imagem a ser carregada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Observador observ=new Observador();   // Instancia observad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g.getWidth(observ);   // Mostra comprimento da imagem com observad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img.getHeight(observ);  // Mostra altura da imagem com observador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1F5F-4801-4BEC-8551-EF6C000AAF9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PROCESS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Processos (ou tarefas) são instâncias de um programa. De um mesmo programa, pode-se ter vários processos.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052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Uma das principais tarefas de um sistema operacional(SO) é controlar processos. Sistemas operacionais que conseguem controlar somente um processo são chamados de </a:t>
            </a:r>
            <a:r>
              <a:rPr b="1" lang="pt-BR" sz="2900" spc="-1" strike="noStrike">
                <a:solidFill>
                  <a:srgbClr val="402000"/>
                </a:solidFill>
                <a:latin typeface="Times New Roman"/>
              </a:rPr>
              <a:t>sistemas do tipo monotarefa. </a:t>
            </a: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Sistemas que podem controlar mais de um processo simultaneamente são chamados de </a:t>
            </a:r>
            <a:r>
              <a:rPr b="1" lang="pt-BR" sz="2900" spc="-1" strike="noStrike">
                <a:solidFill>
                  <a:srgbClr val="402000"/>
                </a:solidFill>
                <a:latin typeface="Times New Roman"/>
              </a:rPr>
              <a:t>sistemas do tipo multitarefa</a:t>
            </a: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E02-236E-4394-B4E2-3D86E0416E5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CONTROLE DE PROCESSO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Processos são controlados por um sistema operacional a partir de informações contidas numa estrutura chamada BCP ( Bloco de Controle de Processo). Para cada processo existe uma BCP.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Na BCP estão estruturadas várias informações dos processos, tais como pid, ppid, registradores, ponteiros de instruções, etc.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5240-E9ED-4FC2-929F-98610CFCC0D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Tópicos da Sexta Aul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odutores, consumidores e observado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iltros para image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nceitos básicos de process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ncorrência e semáfor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lasses Runtime e Proces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Interface Runna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Comunicação entre thread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Uso de threads em animaçã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538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E44-AEEA-42BC-A7F9-2BE6FE427DF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2000"/>
                </a:solidFill>
                <a:latin typeface="Times New Roman"/>
              </a:rPr>
              <a:t>ESTADOS DE UM PROCESSO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02000"/>
                </a:solidFill>
                <a:latin typeface="Times New Roman"/>
              </a:rPr>
              <a:t>Um processo pode estar num dos seguintes três estados: pronto, ativo e suspenso.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6680" y="3511440"/>
            <a:ext cx="1892160" cy="74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4960" y="5568840"/>
            <a:ext cx="1892160" cy="749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8680" y="3587760"/>
            <a:ext cx="1892160" cy="7491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14400" y="3643200"/>
            <a:ext cx="148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RON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538320" y="3719520"/>
            <a:ext cx="1112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ATI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1840" y="5700600"/>
            <a:ext cx="1871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SUSPEN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11440" y="3809880"/>
            <a:ext cx="265428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98840" y="4114800"/>
            <a:ext cx="2679840" cy="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936760" y="4349880"/>
            <a:ext cx="1460520" cy="15112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736720" y="4260600"/>
            <a:ext cx="1308240" cy="176508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71800" y="3483000"/>
            <a:ext cx="1527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escalonado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24080" y="4168800"/>
            <a:ext cx="1083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time-ou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919560" y="5006880"/>
            <a:ext cx="16930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solicitação d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operaçã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de E/S ou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omando d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suspensã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31720" y="4930920"/>
            <a:ext cx="19753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realização 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operação d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E/S ou comand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ara pront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73B-7536-473C-8B33-176E4092B8B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2000"/>
                </a:solidFill>
                <a:latin typeface="Times New Roman"/>
              </a:rPr>
              <a:t>CONCORRÊNC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A quantidade de recursos de um sistema (discos, impressora, etc) é muito menor do que a quantidade de processos que podem acessar estes recursos.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O principal problema desta situação ocorre quando dois ou mais processos tentam acessar concorrentemente um determinado recurso. Como o sistema operacional pode gerenciar acesso concorrente ?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B638-22A7-4B33-8F38-84EF530CEB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CONTROLE DE CONCORRÊNCI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xistem várias maneiras de se controlar concorrência de processos. Algumas dos mecanismos  mais comuns sã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semáforos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monitores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402000"/>
                </a:solidFill>
                <a:latin typeface="Times New Roman"/>
              </a:rPr>
              <a:t>procedimentos test_and_set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5F18-3ACF-4ABF-9DA3-5A3D199515F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EMÁFORO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emáforos baseiam-se em estruturas para contagem de acessos concorrentes, geralmente implementados por variáveis inteira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emáforos são manipulados por dois procediment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i="1" lang="pt-BR" sz="3200" spc="-1" strike="noStrike">
                <a:solidFill>
                  <a:srgbClr val="402000"/>
                </a:solidFill>
                <a:latin typeface="Times New Roman"/>
              </a:rPr>
              <a:t>wait(Semáforo s)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pt-BR" sz="3200" spc="-1" strike="noStrike">
                <a:solidFill>
                  <a:srgbClr val="402000"/>
                </a:solidFill>
                <a:latin typeface="Times New Roman"/>
              </a:rPr>
              <a:t>signal(Semáforo 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6C0-B72B-4E6E-AB31-58BAFFF29D1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EXEMPLO PARA USO DE SEMÁFORO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sidere-se um vetor V que é acessado de dois modos: um processo que grava em V e outro que lê informações de V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21080" y="3435480"/>
            <a:ext cx="3949560" cy="52056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8128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6272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3435480"/>
            <a:ext cx="0" cy="52056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35672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78080" y="5264280"/>
            <a:ext cx="2958840" cy="82548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35680" y="5340240"/>
            <a:ext cx="2958840" cy="825480"/>
          </a:xfrm>
          <a:prstGeom prst="ellipse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15480" y="5472000"/>
            <a:ext cx="192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RODUT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760" y="5548320"/>
            <a:ext cx="2296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CONSUMI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978280" y="4032360"/>
            <a:ext cx="1282680" cy="123192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25840" y="4121280"/>
            <a:ext cx="2044800" cy="1206360"/>
          </a:xfrm>
          <a:prstGeom prst="line">
            <a:avLst/>
          </a:prstGeom>
          <a:ln w="1260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23200" y="43750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Leitur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46480" y="43750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Escri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BF8-6493-4B07-B3E8-BCDC045687F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SEMÁFOROS PARA O EXEMPLO ANTERIOR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wait(MUTEX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wait(PRODUZIU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ltera vetor V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wait(MUTEX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ignal(MUTEX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lê dado de V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ignal(PRODUZIU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signal(MUTEX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6840" y="1758960"/>
            <a:ext cx="2578320" cy="2882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92880" y="1758960"/>
            <a:ext cx="2577960" cy="2882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4320" y="4786200"/>
            <a:ext cx="6769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PRODUTOR                                CONSUMIDO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359160" y="2050560"/>
            <a:ext cx="2273400" cy="1079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2901960" y="2432160"/>
            <a:ext cx="2730600" cy="31752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73360" y="1987560"/>
            <a:ext cx="2882880" cy="113040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6E9-537B-417A-A6A8-89BD5A2CB7D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PROCESSOS EM JAV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Java já possui uma série de recursos para disparar e gerenciar processos. É possível com estes mecanismo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bter o processo de execução do interpretador Jav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hamar comandos específicos de um sistema oper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8440" indent="-29844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lançar e controlar lightweight processes com estado reduzido( thread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14EB-2537-4209-B7F0-F8F65D2CFEC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CLASSE Runtime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de Java que representa e gerencia o sistema Java em execuçã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Não se pode instanciar o objeto do tipo Runtime, pois ele já foi instanciado pelo interpretador Java. Porém, pode-se conseguir uma referência do processo em execução, através do métod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Arial"/>
              </a:rPr>
              <a:t>getRuntime(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A9BD-93C3-42DF-A666-CDFB3EE51EE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CLASSE Proces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de Java que representa um processo. Esta classe não tem construtor, pois trata de um objeto externo, ou seja, de um processo que não é criado dentro do Runtime Jav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classe Process ajuda a manipular um processo, bem como gerenciá-l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A88-4D41-4FF2-8838-EDE71E3A4D3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Times New Roman"/>
              </a:rPr>
              <a:t>Exemplo com classe Runtime e Process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class chama_comando_SO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Runtime r=Runtime.getRuntime(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Process p=null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p=r.exec(“/usr/bin/ls”);  // chama ls do Unix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p.waitFor();   // Faz p esperar pelo final do l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catch(Exception e){...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if(p.exitValue()==0) // Verifica código de retorno do process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System.out.println(“Tudo OK com ls”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else System.out.println(“ls deu algum erro”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016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453-6472-4126-80DA-124735F74CC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IMAGE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2000"/>
                </a:solidFill>
                <a:latin typeface="Times New Roman"/>
              </a:rPr>
              <a:t>Existe um mecanismo de carga e desenho de imagens bem simples em Java: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import java.apple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public class Image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extends Applet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Image img;  // Descritor da imagem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public void init(){    // Inicialização da applet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img=getImage(getDocumentBase(),”imagem.gif”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public void paint(Graphics g){  // Desenho do painel da applet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g.drawImage(img,0,0,this);  // Desenha imagem img a partir da posiçã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       // (0,0), usando o painel da applet com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}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402000"/>
                </a:solidFill>
                <a:latin typeface="Arial"/>
              </a:rPr>
              <a:t>        // container(this)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F40-A88C-495E-B5E7-3E4C9535A99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THREAD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Threads são processos leves (lightweight process)  com um estado reduzido. O estado reduzido advém do fato de um grupo de threads compartilharem os mesmos dados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153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02000"/>
                </a:solidFill>
                <a:latin typeface="Times New Roman"/>
              </a:rPr>
              <a:t>Em um sistema com threads, um processo com exatamente um thread é equivalente a um processo clássico. Cada thread pertence a exatamente um processo, compartilhando os dados do processo que o disparou. Threads não podem existir fora de um processo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9F45-43C8-4726-90A0-41505AA8357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Interface Runnable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oda classe que precisa manipular threads, deve primeiramente implementar o métod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402000"/>
                </a:solidFill>
                <a:latin typeface="Arial"/>
              </a:rPr>
              <a:t>public void run(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definido na interface Runnable. Este método define o que o thread disparado pela classe deverá faze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BE5-9FE6-4495-AACD-94B3245D226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CLASSE Thread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Classe utilizada para instanciar threads. Instanciar não significa que o thread começará a ser executa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Existem, basicamente, três construtores para thread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read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-padr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read(String n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construtor com nome do thre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hread(ThreadGroup g,String n)  construtor com base nu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grupo de threads e nome 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750-4760-4926-A53F-AB697BC0C0C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Alguns métodos iniciais da classe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olean isAlive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erifica se thread está ativ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boolean isDaemon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erifica se thread é um daem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start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inicia a execução do thre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stop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para o thre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supend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suspende o thre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resume(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retoma thread suspens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sleep(long t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             deixa thread “dormindo”por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t milisegundo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setName(String s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muda nome do threa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void setPriority(int p)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altera prioridade de execução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402000"/>
                </a:solidFill>
                <a:latin typeface="Arial"/>
              </a:rPr>
              <a:t>( 1 - mínima  10 - máxima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5013-DEFC-4650-8ED0-80B1BEBB914E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1 ( Métodos básicos 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processo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 Runnable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ocessos(){ // Constru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 principal.Thread.currentThread();  // Pega thread corren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 subordinado=new Thread(this,”subordinado”);//Instancia novo thre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Thread subordinado=“+subordinado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ubordinado.start();  //Inicia execução do thread subordina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run(){   // Método de execução dos threa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for(int i=0;i&lt;20;i++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i=“+i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.sleep(1000);    // Deixa thread dormindo durante 1 segun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nterruptedException e){  // Recuperação da exceção de interrupção do thre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Thread interromprido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040-6420-431A-9F57-EC9D69CC1C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2 ( Prioridades 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prioridad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 Runnable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 vezes=0;        // Contador de execuçõ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ivate Thread atual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ivate boolean executando=tru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prioridade(int prio){ // Constru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atual=new Thread(this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atual.setPriority(prio);     // Altera prioridade do Thre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run() {    // Método de execuçã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while(executando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vezes++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stop(){   // Método de parada do thre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executando=fals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start(){  // Método de início do thread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atual.start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3BD-BEA2-49DE-BCD6-2C57BB56FCB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2 ( Continuação 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testeprioridade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.currentThread().setPriority(Thread.MAX_PRIORITY);  // Prioridade 10 para thread corren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ioridade alta=new prioridade(Thread.NORM_PRIORITY+2); // Prioridade 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ioridade baixa= new prioridade(Thread.NORM_PRIORITY-2); // Prioridade 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aixa.start();    // Coloca primeiro o de baixa prioridade na fila de processo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alta.start()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read.sleep(10000);    // Faz thread corrente dormir por 10 segundo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nterrupted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aixa.stop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alta.stop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B1D-70B8-4CBD-9801-53707EE06C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Threads concorrent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hreads podem também acessar recursos concorrentemente, como por exemplo, chamar o método System.out.printl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e um thread utiliza algum método que possa fazer acesso concorrente, há necessidade de sincronizar tal méto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20BE-7FCA-4D9D-8D67-2C178E4F910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Threads concorrent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Threads podem também acessar recursos concorrentemente, como por exemplo, chamar o método System.out.printl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Se um thread utiliza algum método que possa fazer acesso concorrente, há necessidade de sincronizar tal méto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A0F-F375-4AB3-A9EB-398ABBDEA94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1 ( Sem sincronização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concorrent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 Runnable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tring s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ncorrente(String s){ // Constru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is.s=s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ew Thread(this).start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void imprime(){  // Imprime a string do objet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(“[“+s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 Thread.sleep(1000);   // Coloca Thread para dormir durante 1 segundo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nterruptedException e){ ...}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]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run(){   // Método de execução dos thread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rime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900-C31C-492C-890B-D23223E108F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OPERAÇÕES COM IMAGE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ma vez definidas uma ou mais imagens, podem ser realizadas várias operações sobre elas, tais com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ltragem das cores das imag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imação das imagens ( geralmente utilizando threads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2DF-231B-4FDE-AA04-C3F1C0E4E19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1 ( continuação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exemplo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ew concorrente(“Oia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ew concorrente(“nóis aqui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ew concorrente(“traveis.”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O resultado desta execução seria algo do tip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Arial"/>
              </a:rPr>
              <a:t>[Oia[nóis aqui[traveis.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5B0-8405-4341-9AE4-3B5B29317D3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Solução do problema de concorrência do exemplo 1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origem do problema  do exemplo 1 está no acesso concorrente à System.out, uma vez que os threads foram “dormir” sem acabar de produzir toda a saíd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A solução para isto é definir o método imprimir sincronizado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402000"/>
                </a:solidFill>
                <a:latin typeface="Arial"/>
              </a:rPr>
              <a:t>synchronized void imprime(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283-1AE7-451C-AD5C-6AF0A9444D63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Comunicação entre thread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Em Java, threads podem se comunicar através dos seguintes métodos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wait() throws InterruptedException, IllegalMonitorStateException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: indica ao thread que ele deve desistir de um recursos até que seja notificado por outro threa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notify() throws IllegalMonitorStateException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: torna pronto o primeiro thread que chamou wait() para o recurs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02000"/>
                </a:solidFill>
                <a:latin typeface="Times New Roman"/>
              </a:rPr>
              <a:t>notifyAll() throws IllegalMonitorStateException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: torna prontos todos os thread que chamaram wait() para o recurso.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AEB8-0365-44EA-B978-5297A69FCA3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( Definição do recurso 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recurso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 n;    // Recurso é uma variávei inteir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boolean produziu=false;      // Se não alterou variáveil n, fica fals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nchronized int le(){   // lê valor de 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f(!produziu)   // Se n não foi altera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 wait();    // Espera produzi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nterrupted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llegalMonitor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oduziu=fals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otify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eturn(n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nchronized void altera(int n){  // Altera valor de 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f(produziu)   // Alteração colocada anteriormente, porém ainda não lida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ry wait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nterrupted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atch(IllegalMonitorException e){...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is.n=n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oduziu=true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otify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2880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5AA-DD42-442E-AD5A-AB864DAC48C1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Exemplo ( thread produtor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produ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 Runnable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ecurso r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rodutor(recursos r){ // Construtor do produt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is.r=r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(new Thread(this,”PRODUTOR”)).start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run(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nt n=0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while(tru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.altera(n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C54-41AF-4A0B-842B-8BB1C5BE4C4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Exemplo ( thread consumidor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consumid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implements Runnable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ecurso r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onsumidor(recursos r){ // Construtor do consumid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this.r=r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(new Thread(this,”CONSUMIDOR”)).start(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void run(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while(true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 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System.out.println(“Lido dado “+n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CD6-5F24-4757-98E9-BF65B20A594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( utilização do produtor e consumidor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class utilizacao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public static void main(String args[]){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recurso rec=new recurso();     // recurso a ser compartilhado pelo produtor e pelo consumido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ew produtor(rec);                   // inicializa produtor com recurso re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new consumidor(rec);              // inicializa consumidor com recursos rec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D3B-1A64-4B2A-89D1-EA1CD6FA594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402000"/>
                </a:solidFill>
                <a:latin typeface="Times New Roman"/>
              </a:rPr>
              <a:t>Animação com thread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Threads são extremamente úteis para realizar animações. Um dos métodos básicos de animação com thread consiste no seguinte: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Utilizar um container para exibir a animaçã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Especificar um método sincronizado paint() para alterar os quadros da animação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02000"/>
                </a:solidFill>
                <a:latin typeface="Times New Roman"/>
              </a:rPr>
              <a:t>3. Dentro do método run(), chamar repaint() para alterar a animação</a:t>
            </a: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AAC-A02C-477E-8A6F-BB7EB791F24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( animação de uma oval 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lass exempl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tends Canva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mplements Runnable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int pos,          // posição da oval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max=600; // posição máxima da oval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exemplo(){    // Construtor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(new Thread(this,”ANIMAÇÃO”)).start(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synchronized void paint(Graphics g){ // pinta o canva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setColor(Color.Black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drawLine(0,size().height/2,size().width,size().height/2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setColor(Color.yellow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g.fillOval(pos*size().width/max,0,15,size().height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1B2-C845-4567-9460-668D7DFACF4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2000"/>
                </a:solidFill>
                <a:latin typeface="Times New Roman"/>
              </a:rPr>
              <a:t>Exemplo ( continuação )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ublic void run(){  // Execução do thread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while(pos&lt;max)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pos++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repaint();  // Repinta o Canvas com novo pos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ry{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Thread.sleep(100);     // Quadro para por 0,1 segundo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catch(InterruptedException e);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      </a:t>
            </a: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229-2865-4667-9A64-0C8D9D6160E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FILTRAGEM DE COR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A filtragem de cores em Java pode ser feita extendendo a classe abstrata RGBImageFilter, implementando o método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402000"/>
                </a:solidFill>
                <a:latin typeface="Arial"/>
              </a:rPr>
              <a:t>public int filterRGB(int x,int y,int pixel);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Este método recebe as coordenadas (x,y) de um pixel e sua cor pixel, no padrão RGBalfa (32 bits) e pode devolver uma nova cor, no mesmo padrão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54040" y="5645160"/>
            <a:ext cx="6616800" cy="596880"/>
          </a:xfrm>
          <a:prstGeom prst="rect">
            <a:avLst/>
          </a:prstGeom>
          <a:noFill/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640" y="5700600"/>
            <a:ext cx="580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alfa             Red             Green         Blu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564516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564516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5645160"/>
            <a:ext cx="0" cy="59688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75360" y="6280200"/>
            <a:ext cx="578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2000"/>
                </a:solidFill>
                <a:latin typeface="Arial"/>
              </a:rPr>
              <a:t>8 bits            8 bits               8 bits               8 bi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9B8-1B36-418A-8332-D1F0A667C4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EXEMPLO DE FILTRO RGB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02000"/>
                </a:solidFill>
                <a:latin typeface="Times New Roman"/>
              </a:rPr>
              <a:t>Um filtro que retira a componente R (vermelho) de uma imagem:</a:t>
            </a: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import java.awt.image.*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class filtro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extends RGBImageFilter{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public int filterRGB(int x,int y,int pixel){ // Função de filtragem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return(pixel&amp;0xff00ffff);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0C2-48C7-40DC-B578-75BBFEEDDB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UTILIZAÇÃO DO FILTRO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port java.awt.image.*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port java.awt.*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port java.applet.*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class filtrage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extends Applet{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Image original,   // Imagem original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filtrada;    // Imagem filtrad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public void init(){ // Inicialização da applet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original=getImage(getDocumentBase(),”imagem.gif”);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filtrada=createImage(new FilteredImageSource(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                                         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original.getSource(),  // Filtra imagem co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                                           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new Filtro()));              // instância de Filtro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2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545-2D15-4939-9284-54ECA7E176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Times New Roman"/>
              </a:rPr>
              <a:t>Arquitetura mais geral para processamento de image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a se ter maior controle sobre o processamento de uma imagem, podem ser implementadas classes para os vários pontos do processament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produtores (implementam ImageProducer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consumidores(implementam ImageConsumer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 algn="just"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2000"/>
                </a:solidFill>
                <a:latin typeface="Times New Roman"/>
              </a:rPr>
              <a:t>observadores(implementam ImageObserver)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DE5-33B8-4C19-ACAC-F2B2D4EF3F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996633"/>
                </a:solidFill>
                <a:latin typeface="Times New Roman"/>
              </a:rPr>
              <a:t>Produtores</a:t>
            </a:r>
            <a:endParaRPr b="0" lang="en-US" sz="3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tores de imagens são os responsáveis por montar uma plataforma inicial para ler os pixels da imagem e distribuí-los para um ou mais consumidores de imagen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s produtores implementam métodos da interface ImageProduce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01C-98F7-49AF-B2BC-29E89B59B81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1:59:10Z</dcterms:created>
  <dc:creator>IME</dc:creator>
  <dc:description/>
  <dc:language>en-US</dc:language>
  <cp:lastModifiedBy>nilsa</cp:lastModifiedBy>
  <cp:lastPrinted>1999-01-06T09:23:02Z</cp:lastPrinted>
  <dcterms:modified xsi:type="dcterms:W3CDTF">2002-11-06T14:38:15Z</dcterms:modified>
  <cp:revision>13</cp:revision>
  <dc:subject/>
  <dc:title>JAVA: Tecnologia e Tendências</dc:title>
</cp:coreProperties>
</file>