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7D5-F985-456F-8D0D-8C3A41B4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557-BFD5-4263-8DE2-50C0A217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B1F-E797-4A15-8FB0-4A8FC28A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B85-5DAB-4BD9-8F57-DEFBC581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FE45-DE7B-4FE9-9157-F0B589EE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4829-9232-47CB-AD3A-CB15BFFA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BC0B-316C-484D-8016-4AF71CFA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EA0F-A660-43FA-927A-BBA48174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6747-C7B6-419B-84D4-7F5BA0B6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338A-1ED6-49C3-B050-57995035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F899-D909-4EDB-A7D0-0B1BD274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BFF-AA21-4743-BEF8-4F008C65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6997-688D-4D92-BAD9-D773A8D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B0F2-C040-460B-89C5-C912F13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EBBE-CC22-4FCC-9014-5F48CB80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8119-46F3-4A88-B812-E92BDB58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DFB5-2317-44CF-83E7-C323DC3D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291-13F1-42CC-B439-35EC9DBE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F66-C856-4767-8974-2AF6E404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61E-4561-42F1-BE48-8D925823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2D8-1E9E-4535-9879-0CCB7552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6AB-7741-4F40-8099-13153C81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2F0-2FDC-4F05-9727-148915E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6CC-B54B-42CD-B701-B9275A2C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05360" y="228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DB0F-C357-4D45-8063-895CC5100EF0}" type="slidenum"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1FCA-A2C9-42AE-AF8D-D46358DB7B3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8872560" cy="6870600"/>
            <a:chOff x="0" y="0"/>
            <a:chExt cx="8872560" cy="6870600"/>
          </a:xfrm>
        </p:grpSpPr>
        <p:sp>
          <p:nvSpPr>
            <p:cNvPr id="9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6400" cy="68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INTRODUÇÃO À LINGUAGEM JAV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7053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Quinta Aul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02000"/>
                </a:solidFill>
                <a:latin typeface="Times New Roman"/>
              </a:rPr>
              <a:t>Manipulação de interfaces gráficas </a:t>
            </a:r>
            <a:r>
              <a:rPr b="1" lang="pt-BR" sz="3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3400" spc="-1" strike="noStrike">
                <a:solidFill>
                  <a:srgbClr val="402000"/>
                </a:solidFill>
                <a:latin typeface="Times New Roman"/>
              </a:rPr>
              <a:t>com</a:t>
            </a:r>
            <a:r>
              <a:rPr b="1" lang="pt-BR" sz="3400" spc="-1" strike="noStrike">
                <a:solidFill>
                  <a:srgbClr val="402000"/>
                </a:solidFill>
                <a:latin typeface="Times New Roman"/>
              </a:rPr>
              <a:t> java.awt</a:t>
            </a:r>
            <a:endParaRPr b="0" lang="en-US" sz="3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Nilsa Areán Garcí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26.10.2002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5597-809D-4DA5-BAC3-68E9C21E223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Botõ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utton botao=new Button() ;// Botão sem rótul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utton botao1=new Button(“Aperte-me”); // Botão com rótulo Aperte-m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otao1.setLabel(“Fechar”); // Altera rótulo do botã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88880" y="2311560"/>
            <a:ext cx="2689920" cy="6984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Arial"/>
              </a:rPr>
              <a:t>Aperte-m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054240" y="3041280"/>
            <a:ext cx="139680" cy="88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54240" y="3124080"/>
            <a:ext cx="2959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73760" y="3054240"/>
            <a:ext cx="139680" cy="637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19920" y="2203200"/>
            <a:ext cx="0" cy="927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73760" y="2203200"/>
            <a:ext cx="139680" cy="88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041640" y="2209680"/>
            <a:ext cx="29844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216160"/>
            <a:ext cx="0" cy="901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041280" y="2203200"/>
            <a:ext cx="165240" cy="88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FFC-4F4A-42B8-B171-E5A977A890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Rótul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4267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Label rotulo=new Label() ;// Sem rótul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Label  rotulo1=new Label(“Texto”); // Rótulo Tex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rotulo1.setText(“Novo texto”); // Altera texto do rótul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65880" y="1647720"/>
            <a:ext cx="699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tilizados para colocar texto na interfa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88040" y="2584440"/>
            <a:ext cx="187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02000"/>
                </a:solidFill>
                <a:latin typeface="Arial"/>
              </a:rPr>
              <a:t>Texto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B4B-61D9-4456-A96F-1E6D74C013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aixas de seleçã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CheckBox c1=new CheckBox(); // Caixa sem texto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CheckBox c2=new CheckBox(“Cheque especial”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CheckBox c3=new CheckBox(“Cartão crédito”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...boolean estado e=c2.getState(); 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// true - Caixa selecionada  | false - Não selecion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4880" y="1616040"/>
            <a:ext cx="7388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tilizadas para colocar caixas de escolha ( permi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últiplas seleções 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9480" y="2901960"/>
            <a:ext cx="291960" cy="291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92480" y="2901960"/>
            <a:ext cx="291960" cy="291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55720" y="2805120"/>
            <a:ext cx="5897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Cheque especial            Cartão crédito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7440" y="2901960"/>
            <a:ext cx="292320" cy="291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03640" y="283068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2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FFB-0488-4926-8833-1E251E1CB1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Radio Butt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heckBoxGroup caixas=new CheckBoxGroup(); // Grupo de  Botõ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dd(new CheckBox(“Masculino”),caixas,true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add(new CheckBox(“Feminino”,caixas,false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64080" y="5029200"/>
            <a:ext cx="11300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35680" y="502920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7440" y="502920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035680"/>
            <a:ext cx="0" cy="291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4120" y="5035680"/>
            <a:ext cx="0" cy="672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5035680"/>
            <a:ext cx="0" cy="11300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42480" y="5365800"/>
            <a:ext cx="987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Rótul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93680" y="5746680"/>
            <a:ext cx="221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Grupo de botõ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60000" y="6203880"/>
            <a:ext cx="2964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Estado inicial do botã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70560" y="1638360"/>
            <a:ext cx="75301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Utilizadas para colocar caixas de escolha em um grupo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Permitem uma única seleção por grupo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06680" y="2901960"/>
            <a:ext cx="291960" cy="29196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82640" y="297828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90720" y="2805120"/>
            <a:ext cx="1733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Masculino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8480" y="2901960"/>
            <a:ext cx="291960" cy="29196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62880" y="2805120"/>
            <a:ext cx="1591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Feminino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25440" y="2673360"/>
            <a:ext cx="5626080" cy="825480"/>
          </a:xfrm>
          <a:prstGeom prst="rect">
            <a:avLst/>
          </a:prstGeom>
          <a:noFill/>
          <a:ln w="1260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41600" y="3537000"/>
            <a:ext cx="2191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heckBoxGrou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F25-0BC5-4527-8AEF-4E31D7250ED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Opções ( lista drop-down 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hoice escolha=new Choice(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scolha.addItem(“Java”); // Item 0 da list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scolha.addItem(“C++”);  // Item 1 da list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scolha.addItem(“Pascal”);      // Item 2 da list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scolha.select(“C++”);  // Seleciona item 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scolha.select(2);          // Seleciona item Pasc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int item=escolha.getSelectedIndex(); // Número do item selecionad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ring sitem=escolha.getSelectedItem(); // Retorna String d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// item selecionad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75240" y="1616040"/>
            <a:ext cx="7328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Utilizada para selecionar uma única opção de um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lista drop-dow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47600" y="2565360"/>
            <a:ext cx="1065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Java  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6880" y="3022560"/>
            <a:ext cx="11887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C++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Pascal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8840" y="3054240"/>
            <a:ext cx="1511280" cy="7495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35880" y="2521080"/>
            <a:ext cx="444240" cy="5205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8840" y="2521080"/>
            <a:ext cx="1054080" cy="5205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0980000">
            <a:off x="6711480" y="2673000"/>
            <a:ext cx="292320" cy="2919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F2F-FD15-44FC-88B6-92069E0787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List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List lista=new  List(10,true); // Lista com 10 elementos vísiveis e escolh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// múltipl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lista.addItem(“Primeiro”);    // Item 0 da list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lista.addItem(“Segundo”);   // Item 1 da list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lista.addItem(“Terceiro”);    // Item 2 da list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lista.replaceItem(“Zero”,0);  // Substitui o item 0 da lista por Zer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lista.deleteItem(0);  // Retira o item 0 da list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int selecoes[]=lista.getSelectedIndexes(); //  Lista de códigos das escolha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ring selecoes2[]=lista.getSelectedItems(); // Elementos selecionad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74160" y="1638360"/>
            <a:ext cx="7545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Utilizadas para definir elementos de escolhas múltiplas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62320" y="2317680"/>
            <a:ext cx="1269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Primei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gund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Tercei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82840" y="2292480"/>
            <a:ext cx="1282680" cy="10540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8480" y="2292480"/>
            <a:ext cx="291960" cy="105408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8480" y="2292480"/>
            <a:ext cx="291960" cy="291960"/>
          </a:xfrm>
          <a:prstGeom prst="rect">
            <a:avLst/>
          </a:prstGeom>
          <a:solidFill>
            <a:srgbClr val="676767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8480" y="3054240"/>
            <a:ext cx="291960" cy="292320"/>
          </a:xfrm>
          <a:prstGeom prst="rect">
            <a:avLst/>
          </a:prstGeom>
          <a:solidFill>
            <a:srgbClr val="676767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980000">
            <a:off x="4655520" y="3125160"/>
            <a:ext cx="142920" cy="142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21480000">
            <a:off x="4655880" y="2363400"/>
            <a:ext cx="142920" cy="142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8480" y="2597040"/>
            <a:ext cx="291960" cy="139680"/>
          </a:xfrm>
          <a:prstGeom prst="rect">
            <a:avLst/>
          </a:prstGeom>
          <a:solidFill>
            <a:srgbClr val="919191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A76-C75B-45BB-9824-934D7ACE9B0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ampos de text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68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extField texto1=new TextField();   // Campo com número de colunas nã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// especificad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extField texto2=new TextField(40); // Campo com 40 coluna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0200" y="1638360"/>
            <a:ext cx="70196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Utilizados para entrada de dados, numa única linha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36840" y="2908440"/>
            <a:ext cx="6146640" cy="58392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86160" y="2889360"/>
            <a:ext cx="1853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TextFiel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145-455B-4771-86A5-D3CAEE94C70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Áreas de text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680" y="5333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extArea area=new TextArea();     // Área sem um número especificado d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// linhas e coluna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extArea area2=new TextArea(5,40); // 4 linhas e 40 coluna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2360" y="1638360"/>
            <a:ext cx="68673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Utilizadas para entrada de dados, em várias linhas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9840" y="2216160"/>
            <a:ext cx="3873600" cy="18921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26040" y="2216160"/>
            <a:ext cx="292320" cy="18921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26040" y="2216160"/>
            <a:ext cx="292320" cy="531720"/>
          </a:xfrm>
          <a:prstGeom prst="rect">
            <a:avLst/>
          </a:prstGeom>
          <a:solidFill>
            <a:srgbClr val="676767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21480000">
            <a:off x="6103440" y="2211480"/>
            <a:ext cx="138240" cy="220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26040" y="2521080"/>
            <a:ext cx="292320" cy="258480"/>
          </a:xfrm>
          <a:prstGeom prst="rect">
            <a:avLst/>
          </a:prstGeom>
          <a:solidFill>
            <a:srgbClr val="919191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26040" y="3740040"/>
            <a:ext cx="292320" cy="368280"/>
          </a:xfrm>
          <a:prstGeom prst="rect">
            <a:avLst/>
          </a:prstGeom>
          <a:solidFill>
            <a:srgbClr val="676767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0980000">
            <a:off x="6097680" y="3822120"/>
            <a:ext cx="149040" cy="220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9840" y="4121280"/>
            <a:ext cx="3873600" cy="36828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9840" y="4121280"/>
            <a:ext cx="368280" cy="368280"/>
          </a:xfrm>
          <a:prstGeom prst="rect">
            <a:avLst/>
          </a:prstGeom>
          <a:solidFill>
            <a:srgbClr val="676767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45160" y="4121280"/>
            <a:ext cx="368280" cy="368280"/>
          </a:xfrm>
          <a:prstGeom prst="rect">
            <a:avLst/>
          </a:prstGeom>
          <a:solidFill>
            <a:srgbClr val="676767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01960" y="4121280"/>
            <a:ext cx="36828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5940000">
            <a:off x="5793120" y="4202640"/>
            <a:ext cx="149040" cy="220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020000">
            <a:off x="2284920" y="4199400"/>
            <a:ext cx="149400" cy="220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26040" y="4121280"/>
            <a:ext cx="292320" cy="36828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94920" y="2203560"/>
            <a:ext cx="2593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Área de text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33000" y="4603680"/>
            <a:ext cx="118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Coluna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62000" y="262260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Linha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53D-EC8A-4595-A516-9C82DF5F209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Menu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36194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MenuBar barra_menus=new MenuBar();  // Barra de Menu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Menu arquivo=new Menu(“Arquivo”);  // Grupo de opções de arqu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Menu editar=new Menu(“Editar”);   // Grupo de opções de ediçã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rquivo.add(“Abrir”);   // Adiciona a opção Abrir ao grupo Arqu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rquivo.add(“Salvar”); // Adiciona a opção Salvar ao grupo Arqu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ditar.add(“Copiar”);  // Adiciona a opção Copiar ao grupo Edita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ditar.add(“Colar”);  // Adiciona a opção Colar ao grupo Edita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arra_menus.add(arquivo);   // Adiciona grupo Arquivo à barra de menu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arra_menus.add(editar);     // Adiciona grupo Editar à barra de menu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73800" y="1638360"/>
            <a:ext cx="65487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Componentes utilizados para escolhas em listas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10440" y="2235240"/>
            <a:ext cx="3196080" cy="3938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Arquivo        Editar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64880" y="2671920"/>
            <a:ext cx="1280160" cy="69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Abrir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alva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66000" y="23176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MenuBa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61240" y="3003480"/>
            <a:ext cx="105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6680" y="2139840"/>
            <a:ext cx="1815840" cy="1359000"/>
          </a:xfrm>
          <a:prstGeom prst="rect">
            <a:avLst/>
          </a:prstGeom>
          <a:noFill/>
          <a:ln w="1260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F15-A93A-4A29-BE0A-71740490073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anv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0000"/>
          </a:bodyPr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class novo_componente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extends Canvas{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....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public void paint(Graphics g){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// Como pintar o novo componente gráfico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70200" y="1638360"/>
            <a:ext cx="793692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02000"/>
                </a:solidFill>
                <a:latin typeface="Times New Roman"/>
              </a:rPr>
              <a:t>É um componente sem finalidade especial. Na maioria do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02000"/>
                </a:solidFill>
                <a:latin typeface="Times New Roman"/>
              </a:rPr>
              <a:t>casos, é utilizado na criação de componentes gráficos per-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02000"/>
                </a:solidFill>
                <a:latin typeface="Times New Roman"/>
              </a:rPr>
              <a:t>sonalizados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409-22CE-49F0-AD98-C9E79057F89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ópicos da Quinta Aul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Estrutura básica do pacote java.aw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iclo de desenvolvimento de interfaces gráfic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Estrutura básica do java.awt-compon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ontainers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Gerenciadores de layo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Event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DD4-A8A1-47A3-A293-54EA2DACABC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Barras de rolage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crollbar horizontal=new Scrollbar(Scrollbar.HORIZONTAL); // barra de rolagem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horizontal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crollbar vertical=new Scrollbar(Scrollbar.VERTICAL);          // barra de rolagem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vertical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crollbar vert2=new Scrollbar(Scrollbar.VERTICAL,50,10,0,100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73800" y="1638360"/>
            <a:ext cx="5362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Utilizadas para movimentação de telas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04640" y="5746680"/>
            <a:ext cx="5303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Valor inicial   Incremento  Mínimo  Máxim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955680" y="5416560"/>
            <a:ext cx="1841400" cy="368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708520" y="5416560"/>
            <a:ext cx="393840" cy="368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960" y="5416560"/>
            <a:ext cx="444600" cy="368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35880" y="5416560"/>
            <a:ext cx="1206360" cy="368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37880" y="6184800"/>
            <a:ext cx="65289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ert2.setValue(75);    // Muda o valor da posição da barra vert2 para 75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68440" y="2673360"/>
            <a:ext cx="3873600" cy="36828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673360"/>
            <a:ext cx="368280" cy="368280"/>
          </a:xfrm>
          <a:prstGeom prst="rect">
            <a:avLst/>
          </a:prstGeom>
          <a:solidFill>
            <a:srgbClr val="676767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73760" y="2673360"/>
            <a:ext cx="368280" cy="368280"/>
          </a:xfrm>
          <a:prstGeom prst="rect">
            <a:avLst/>
          </a:prstGeom>
          <a:solidFill>
            <a:srgbClr val="676767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30560" y="2673360"/>
            <a:ext cx="36828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5940000">
            <a:off x="6021720" y="2754720"/>
            <a:ext cx="149400" cy="220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6020000">
            <a:off x="2513520" y="2751480"/>
            <a:ext cx="149400" cy="220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BBF-CBC8-4766-BBFA-A9B35C1F39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Métodos de Component (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getSize()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Dimension d = Componente.getSize()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altura = d.height; int largura = d.width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//o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alt =Componente.getWidth()</a:t>
            </a:r>
            <a:r>
              <a:rPr b="1" lang="pt-BR" sz="2000" spc="-1" strike="noStrike">
                <a:solidFill>
                  <a:srgbClr val="402000"/>
                </a:solidFill>
                <a:latin typeface="Times New Roman"/>
              </a:rPr>
              <a:t>;  </a:t>
            </a: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larg=Componente.getHeight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getLocation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Point p = Componente.getLocation()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x = p.x;  int y = p.y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//o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x = Componente.getX(); int y = Componente. getY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A29-C8FC-459C-90BA-A3F568531BC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Métodos de Component (I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getBounds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Rectangle r = Componente.getBounds()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alt = r.height; int larg = r.width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x = r.x; int y = r.y;  //o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alt =Componente.getWidth()</a:t>
            </a:r>
            <a:r>
              <a:rPr b="1" lang="pt-BR" sz="2000" spc="-1" strike="noStrike">
                <a:solidFill>
                  <a:srgbClr val="402000"/>
                </a:solidFill>
                <a:latin typeface="Times New Roman"/>
              </a:rPr>
              <a:t>;  </a:t>
            </a: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larg=Componente.getHeight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Times New Roman"/>
              </a:rPr>
              <a:t>int x = Componente.getX(); int y = Componente.getY();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setEnabled(boolea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setVisible(boolea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setBackground(Color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setForeground(Color)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setFont(Font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20D-B233-4C4A-BCB5-2E6E427776B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ontain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ntainers são elementos que armazenam componentes gráficos. Não é possível usar um componente sem que ele esteja dentro de um container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ntainers podem, também, armazenar outros container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odo Container é um Componen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0D6-5AB7-4FA3-9EFC-21DD0BD0F6C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ontainers de AW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AWT trabalha com quatro tipos de container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ainel ( Panel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Janela ( Window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Fra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iálogo ( Dialog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1FD-5F7F-41BA-A180-DA6B5EC1C98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Métodos de Containers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getComponentCount(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getComponents(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getComponent(in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BFF-3F4B-4C06-9F70-819DBDF0B3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Paine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ainel é um container “puro”, isto, não é propriamente uma janela e seu único propósito é organizar os componentes numa janela, utilizando gerenciadores de layou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m painel, como qualquer outro container, pode ser colocado dentro de outro painel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ma classe muito útil, derivada da classe Panel, é a classe Apple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AEE-D7E7-4CCE-91FB-534BABE3362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Declaração e utilização de painéis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3885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utton botaoAB=new Button(“Abrir”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utton botaoFE=new Button(“Fechar”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anel painel=new Panel();   // Instancia Pain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ainel.add(botaoAB);   // Coloca botão Abrir no pain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ainel.add(botaoFE);   // Coloca botão Fechar no pain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82640" y="1835280"/>
            <a:ext cx="6159600" cy="12063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07520" y="2127240"/>
            <a:ext cx="4654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2000"/>
                </a:solidFill>
                <a:latin typeface="Arial"/>
              </a:rPr>
              <a:t>Abrir                      Fecha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7560" y="2063880"/>
            <a:ext cx="1663560" cy="596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0240" y="2063880"/>
            <a:ext cx="1663920" cy="596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B02-0D5B-4227-8C38-5BA74412C31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Janel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 classe Window, que implementa as funcionalidades de janelas em Java, é muito parecida como Panel, exceto que ela cria sua própria janela de primeiro nível, em vez de estar contida dentro de um Panel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Geralmente, utiliza-se frames no lugar de janelas, uma vez que são mais especializad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27C-62B6-48D8-A962-B7E7D45BC5B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Declaração e utilização de janelas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680" y="4038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utton botaoAB=new Button(“Abrir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utton botaoFE=new Button(“Fechar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Window janela=new Window(“Exemplo de Janela”); // Instancia                                                        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// janela com títul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janela.add(botaoAB);   // Coloca botão Abrir na janel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janela.add(botaoFE);   // Coloca botão Fechar na janel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janela.show();          // Exibe a janel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janela.hide();           // Oculta a janel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35280" y="1758960"/>
            <a:ext cx="5244840" cy="219708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1758960"/>
            <a:ext cx="5244840" cy="444600"/>
          </a:xfrm>
          <a:prstGeom prst="rect">
            <a:avLst/>
          </a:prstGeom>
          <a:solidFill>
            <a:srgbClr val="00279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11240" y="1835280"/>
            <a:ext cx="216000" cy="2156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93840" y="1784520"/>
            <a:ext cx="247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lo de Janel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50080" y="1835280"/>
            <a:ext cx="291960" cy="291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30960" y="1835280"/>
            <a:ext cx="291960" cy="291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840" y="1835280"/>
            <a:ext cx="292320" cy="291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45120" y="2057400"/>
            <a:ext cx="10152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94640" y="1917720"/>
            <a:ext cx="126720" cy="12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769080" y="1917720"/>
            <a:ext cx="177840" cy="12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7280" y="1911240"/>
            <a:ext cx="139680" cy="139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26360" y="1905120"/>
            <a:ext cx="10152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1240" y="2368440"/>
            <a:ext cx="181620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44960" y="2368440"/>
            <a:ext cx="181620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37960" y="2394000"/>
            <a:ext cx="337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Abrir                      Fecha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6AA-D9F0-4CA1-99CA-3BE389DEE81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2000"/>
                </a:solidFill>
                <a:latin typeface="Times New Roman"/>
              </a:rPr>
              <a:t>Objetivos do pacote </a:t>
            </a:r>
            <a:r>
              <a:rPr b="1" lang="pt-BR" sz="4400" spc="-1" strike="noStrike">
                <a:solidFill>
                  <a:srgbClr val="402000"/>
                </a:solidFill>
                <a:latin typeface="Times New Roman"/>
              </a:rPr>
              <a:t>java.aw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Abstract Windowing Toolkit(AWT) oferece uma API para componentes comuns de interface com o usuário(GUI), tais como botões e menu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m dos principais objetivos do AWT é fornecer um ambiente de desenvolvimento de interface  independente da plataforma, o que torna a migração entre sistemas gráficos extremamente rápid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818-EAAF-4445-87D4-81F95ECCC23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Fra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Frames são janelas especializadas que conseguem interagir com o usuário independente de outras janel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m frames, um aplicativo pode criar várias janelas independent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683-16A2-4A53-8059-FAECCA8E960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996633"/>
                </a:solidFill>
                <a:latin typeface="Times New Roman"/>
              </a:rPr>
              <a:t>Declaração e utilização de frames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4038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utton botaoAB=new Button(“Abrir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utton botaoFE=new Button(“Fechar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rame frame=new Frame(“Exemplo de Frame”); // Instancia                                                        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// Frame com títul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rame.add(botaoAB);   // Coloca botão Abrir no fra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rame.add(botaoFE);   // Coloca botão Fechar no fra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rame.show();          // Exibe o fra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rame.hide();           // Oculta o fra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35280" y="1758960"/>
            <a:ext cx="5244840" cy="219708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35280" y="1758960"/>
            <a:ext cx="5244840" cy="444600"/>
          </a:xfrm>
          <a:prstGeom prst="rect">
            <a:avLst/>
          </a:prstGeom>
          <a:solidFill>
            <a:srgbClr val="00279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11240" y="1835280"/>
            <a:ext cx="216000" cy="2156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94200" y="1784520"/>
            <a:ext cx="244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xemplo de Fra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50080" y="1835280"/>
            <a:ext cx="291960" cy="291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0960" y="1835280"/>
            <a:ext cx="291960" cy="291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11840" y="1835280"/>
            <a:ext cx="292320" cy="291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45120" y="2057400"/>
            <a:ext cx="10152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94640" y="1917720"/>
            <a:ext cx="126720" cy="12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6769080" y="1917720"/>
            <a:ext cx="177840" cy="12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7280" y="1911240"/>
            <a:ext cx="139680" cy="139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26360" y="1905120"/>
            <a:ext cx="10152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11240" y="2368440"/>
            <a:ext cx="181620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4960" y="2368440"/>
            <a:ext cx="181620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37960" y="2394000"/>
            <a:ext cx="337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Abrir                      Fecha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59B-CEBD-4E18-8132-06123A29511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Diálog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402000"/>
                </a:solidFill>
                <a:latin typeface="Times New Roman"/>
              </a:rPr>
              <a:t>Dialógos são janelas que são ativadas momentaneamente para redirecionar um processamento. Por exemplo, solicitar confirmação de substituição de arquivo numa operação de cópia.</a:t>
            </a: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402000"/>
                </a:solidFill>
                <a:latin typeface="Times New Roman"/>
              </a:rPr>
              <a:t>Diálogos podem ser:</a:t>
            </a: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 algn="just">
              <a:spcBef>
                <a:spcPts val="6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402000"/>
                </a:solidFill>
                <a:latin typeface="Times New Roman"/>
              </a:rPr>
              <a:t>modais</a:t>
            </a:r>
            <a:r>
              <a:rPr b="0" lang="pt-BR" sz="2700" spc="-1" strike="noStrike">
                <a:solidFill>
                  <a:srgbClr val="402000"/>
                </a:solidFill>
                <a:latin typeface="Times New Roman"/>
              </a:rPr>
              <a:t>: impedem a entrada para outras janelas enquanto estão ativos.</a:t>
            </a: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 algn="just">
              <a:spcBef>
                <a:spcPts val="6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402000"/>
                </a:solidFill>
                <a:latin typeface="Times New Roman"/>
              </a:rPr>
              <a:t>não-modais</a:t>
            </a:r>
            <a:r>
              <a:rPr b="0" lang="pt-BR" sz="2700" spc="-1" strike="noStrike">
                <a:solidFill>
                  <a:srgbClr val="402000"/>
                </a:solidFill>
                <a:latin typeface="Times New Roman"/>
              </a:rPr>
              <a:t>: não impedem a entrada para outras janelas.</a:t>
            </a: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402000"/>
                </a:solidFill>
                <a:latin typeface="Times New Roman"/>
              </a:rPr>
              <a:t>Os elementos de um diálogo são definidos por um frame.</a:t>
            </a: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202-632B-4872-B9EE-9E593129DEF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Declaração e utilização de diálogos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680" y="323820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Button botaoOK=new Button(“OK”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Button botaoNO=new Button(“NO”);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rame frame=new Frame(“Exemplo de Frame”); // Instancia                                                          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Frame com títul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ialog dialogo;   // Referência para diálog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rame.add(new Label(“Deseja substituir o arquivo? “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rame.add(botaoOK);   // Coloca botão Abrir no fram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rame.add(botaoNO);   // Coloca botão Fechar no fram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ialogo=new Dialog(frame,”Exemplo de diálogo”,true); // Cria diálog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|                       |                            |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rame referência     título do diálogo       modal ( false=não modal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ialogo.show();  // Mostra diálog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92480" y="1682640"/>
            <a:ext cx="5244840" cy="151128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92480" y="1682640"/>
            <a:ext cx="5244840" cy="444600"/>
          </a:xfrm>
          <a:prstGeom prst="rect">
            <a:avLst/>
          </a:prstGeom>
          <a:solidFill>
            <a:srgbClr val="00279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8440" y="1758960"/>
            <a:ext cx="216000" cy="2160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51760" y="1708200"/>
            <a:ext cx="258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lo de diálog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7280" y="1758960"/>
            <a:ext cx="291960" cy="291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8160" y="1758960"/>
            <a:ext cx="291960" cy="291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69040" y="1758960"/>
            <a:ext cx="292320" cy="291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2320" y="1981080"/>
            <a:ext cx="10152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51840" y="1841400"/>
            <a:ext cx="126720" cy="12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226280" y="1841400"/>
            <a:ext cx="177840" cy="12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64480" y="1835280"/>
            <a:ext cx="139680" cy="139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83560" y="1828800"/>
            <a:ext cx="10152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52720" y="2241720"/>
            <a:ext cx="38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Deseja substituir o arquivo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14600" y="2470320"/>
            <a:ext cx="18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86600" y="2698920"/>
            <a:ext cx="234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OK                    N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9160" y="2673360"/>
            <a:ext cx="82548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7960" y="2673360"/>
            <a:ext cx="82548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0DC-1F8A-4215-8CE9-26A909756F7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LayoutManag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ada classe que o implementa controla uma lista de Components que são armazenados usando o uma String para cada um. Ele é notificado sempre que se adiciona um Component a um Panel, ou o Panel é redimensionado. Cada Component é gerenciado por um layout e implementa os métodos: preferredSize e minimumSize, que retornam o tmanho preferencial e mínimo para redesenhar cada Compone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C93-9D9F-4472-B5F4-71F15BF4FFF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Gerenciadores de layou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O posicionamento de componentes pode ser controlado através de cinco gerenciadores de layout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FlowLayo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GridLayo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BorderLayo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CardLayo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GridBagLayo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F4E-85B7-447D-943F-C61AA2FE56A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FlowLayou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Trata o container como um conjunto de linhas. A altura das linhas é determinada pela altura dos itens nelas contido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FlowLayout fluxo=new FlowLayout(FlowLayout.CENTER,10,5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Frame frame=new Frame(“Exemplo de frame”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frame.setLayout(fluxo); // Altera fluxo do container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42720" y="4737240"/>
            <a:ext cx="1335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Alinhament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026040" y="5022360"/>
            <a:ext cx="216000" cy="165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758960" y="3282840"/>
            <a:ext cx="6235560" cy="12067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16160" y="3511440"/>
            <a:ext cx="977760" cy="2923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59160" y="3511440"/>
            <a:ext cx="977760" cy="2923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02160" y="3511440"/>
            <a:ext cx="977760" cy="2923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45160" y="3511440"/>
            <a:ext cx="977760" cy="2923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88160" y="3511440"/>
            <a:ext cx="977760" cy="2923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16160" y="4044960"/>
            <a:ext cx="977760" cy="291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59160" y="4044960"/>
            <a:ext cx="977760" cy="291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06640" y="3657600"/>
            <a:ext cx="5816520" cy="0"/>
          </a:xfrm>
          <a:prstGeom prst="line">
            <a:avLst/>
          </a:prstGeom>
          <a:ln w="507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06640" y="4191120"/>
            <a:ext cx="2844720" cy="0"/>
          </a:xfrm>
          <a:prstGeom prst="line">
            <a:avLst/>
          </a:prstGeom>
          <a:ln w="507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37240" y="4070520"/>
            <a:ext cx="1327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tain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93280" y="6184800"/>
            <a:ext cx="33789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Espaçamentos horizontal e vertical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003800" y="5492880"/>
            <a:ext cx="88920" cy="8254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21680" y="5492880"/>
            <a:ext cx="67284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35E-5C3C-475D-97EB-FBE03A1910C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GridLayou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Trata o container como uma matriz de linhas e coluna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4648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66680" y="5486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GridLayout matriz=new GridLayout(3,4);   // 3 linhas e 4 colunas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Frame frame=new Frame(“Exemplo de frame”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frame.setLayout(matriz); // fluxo matricial no container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35280" y="2844720"/>
            <a:ext cx="5778360" cy="22543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3880" y="3054240"/>
            <a:ext cx="120636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511440" y="3054240"/>
            <a:ext cx="120672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83040" y="3054240"/>
            <a:ext cx="120672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54640" y="3054240"/>
            <a:ext cx="120672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3880" y="3740040"/>
            <a:ext cx="120636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1440" y="3740040"/>
            <a:ext cx="120672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83040" y="3740040"/>
            <a:ext cx="120672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54640" y="3740040"/>
            <a:ext cx="120672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63880" y="4425840"/>
            <a:ext cx="120636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11440" y="4425840"/>
            <a:ext cx="1206720" cy="5209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96240" y="509112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Contain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43200" y="242424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Colun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05360" y="3659040"/>
            <a:ext cx="116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Linh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6DB-1B1C-4120-B5A9-27153FE65AE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BorderLayou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Divide o container em até cinco partes, cujos identificadores sã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5334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4419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rame frame=new Frame(“Exemplo de frame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rame.setLayout(new BorderLayout()); // altera layout do fra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dd(“North”, new Button(“Norte”)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dd(“South”, new Button(“Sul”)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dd(“East”, new Button(“Leste”)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dd(“West”, new Button(“Oeste”)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dd(“Center”, new Button(“Centro”)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17400" y="2698920"/>
            <a:ext cx="37490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Nort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West           Center            Eas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Sout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8440" y="2749680"/>
            <a:ext cx="3949920" cy="1511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8440" y="3124080"/>
            <a:ext cx="3949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68440" y="3886200"/>
            <a:ext cx="3949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313056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313056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86400" y="402444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Contain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1EE-B5E8-4B1E-8833-54FF9C53306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ardLayout e GridBagLayou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spcBef>
                <a:spcPts val="6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402000"/>
                </a:solidFill>
                <a:latin typeface="Times New Roman"/>
              </a:rPr>
              <a:t>CardLayout</a:t>
            </a:r>
            <a:r>
              <a:rPr b="0" lang="pt-BR" sz="2700" spc="-1" strike="noStrike">
                <a:solidFill>
                  <a:srgbClr val="402000"/>
                </a:solidFill>
                <a:latin typeface="Times New Roman"/>
              </a:rPr>
              <a:t>: trata o container como uma pilha de fichas. Cada componente é considerada uma ficha separada, e apenas uma delas é visível de cada vez.</a:t>
            </a: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6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402000"/>
                </a:solidFill>
                <a:latin typeface="Times New Roman"/>
              </a:rPr>
              <a:t>GridBagLayout</a:t>
            </a:r>
            <a:r>
              <a:rPr b="0" lang="pt-BR" sz="2700" spc="-1" strike="noStrike">
                <a:solidFill>
                  <a:srgbClr val="402000"/>
                </a:solidFill>
                <a:latin typeface="Times New Roman"/>
              </a:rPr>
              <a:t>: funciona como o GridLayout, dividindo o container em linhas e colunas. Porém, um componente pode ocupar mais de uma célula. Ao adicionar um componente num gerenciamento por GridBagLayout, ele recebe um GridBagConstraint, que tem instruções de posicionamento e dimensionamento.</a:t>
            </a: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4AA-2788-4402-9DFE-8C10A7BAA71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awt </a:t>
            </a: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(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91560" y="1681200"/>
            <a:ext cx="13852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heckBoxGroup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6680" y="2098800"/>
            <a:ext cx="5792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60320" y="4079880"/>
            <a:ext cx="8366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835280"/>
            <a:ext cx="0" cy="44067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1080" y="4267080"/>
            <a:ext cx="18921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5840" y="182880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5840" y="26668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5960" y="2556000"/>
            <a:ext cx="961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Dimen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7320" y="3216240"/>
            <a:ext cx="5976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56280" y="3749760"/>
            <a:ext cx="1726920" cy="453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awt-compnent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4511520"/>
            <a:ext cx="5104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o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15960" y="5070600"/>
            <a:ext cx="104544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ontMetric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4880" y="5527800"/>
            <a:ext cx="84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14880" y="6137280"/>
            <a:ext cx="62352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ag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33526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5840" y="388620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5840" y="464832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25840" y="51814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5840" y="624852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5840" y="56386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25840" y="22096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E30-AC48-415A-A37A-8F21530FBD5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Tipos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ComponentEvent 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Hiding, moving, resizing, show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ContainerEvent 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Adding/removing Component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FocusEvent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Getting/losing focus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KeyEvent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Pressing, releasing, typing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MouseEvent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licking, dragging, entering, exiting, moving, pressing, releasing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WindowEvent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Iconifying, deiconifying, opening, closing, really closed, activating, deactivating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D88-514B-493B-8606-7CB378AE706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Tratamento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18240" y="1738440"/>
            <a:ext cx="527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Evento num componente/contain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0040" y="2562120"/>
            <a:ext cx="4128480" cy="698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oolean handleEvent(Event evt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Arial"/>
              </a:rPr>
              <a:t>Contain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57320" y="3784680"/>
            <a:ext cx="5670720" cy="698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oolean action(Event evt,Object whatAction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02000"/>
                </a:solidFill>
                <a:latin typeface="Arial"/>
              </a:rPr>
              <a:t>Contain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01960" y="5035680"/>
            <a:ext cx="3949560" cy="1358640"/>
          </a:xfrm>
          <a:prstGeom prst="diamond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33960" y="5518080"/>
            <a:ext cx="3209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tainer tratou evento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441080" y="5715000"/>
            <a:ext cx="1460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447920" y="2812680"/>
            <a:ext cx="0" cy="2908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54040" y="2819520"/>
            <a:ext cx="11304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76920" y="4578480"/>
            <a:ext cx="0" cy="44424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76920" y="3359160"/>
            <a:ext cx="0" cy="368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16160"/>
            <a:ext cx="0" cy="29196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64480" y="571500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27600" y="5541840"/>
            <a:ext cx="792720" cy="454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FI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056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67640" y="5319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49040" y="5670720"/>
            <a:ext cx="2388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Enviar even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ara container-pa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C7E-2284-4AA9-9F31-0FF66BC91E9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Ev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Classe que descreve o evento ocorrido. Tem o seguintes atributos importantes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target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: indica a instância do componente em que ocorreu o evento. Utilizado junto com </a:t>
            </a: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instanceof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 para detectar a classe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id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: tipo do evento. A classe já possui várias constantes para os vários tipos de evento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when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: indica o momento de ocorrência do evento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46B-A1AD-4882-AA2D-0244BB73E78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Exemplo de tratament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meufra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extends Frame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meuframe(String titulo){  // Construt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super(titulo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add(new Button(“Botao1”));  // Adiciona botões ao fra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add(new Button(“Botao2”)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49F-9F7C-4F63-A213-EF28BD6AABE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Exemplo de tratamento (continuação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public boolean action(Event evt,Object what){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// Tratamento do evento pelo container meuframe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(if !(evt.target instanceof Button)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return(false); // Se evento não ocorreu num botão, não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// trata evento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String botao=(String) what; // Verifica qual botão recebeu evento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if (botao==“Botao1”) {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if (evt.id==Event.MOUSE_DOWN){ // Verifica clique de mouse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System.out.println(“Clique no botão “+botao+ “ as “+evt.when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return(true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else return(false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return(false);  // Se foi no outro botão, não trata evento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004-AB29-40A7-A931-B49BE942DC5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Lista para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Em Java, os objetos podem registrar listas para eventos. Se não há nada listado quando o vento acontece, então ele não é tratado. Se houver 20 registros na lista, então cada qual poderá processar o evento em uma ordem não definida a </a:t>
            </a:r>
            <a:r>
              <a:rPr b="0" i="1" lang="pt-BR" sz="2800" spc="-1" strike="noStrike">
                <a:solidFill>
                  <a:srgbClr val="402000"/>
                </a:solidFill>
                <a:latin typeface="Times New Roman"/>
              </a:rPr>
              <a:t>priori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Por exemplo, usando a classe Button, ao acionar o botão criado notificar-se-á algum registro do objeto  ActionListener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7C6-8259-4E8E-9B52-D9600143269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public class BotaoEvent extends Applet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implements ActionListener {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private Button b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public void init() {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b = new Button("Press me")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b.addActionListener(this)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add(b)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public void actionPerformed(ActionEvent e) {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if ( e.getSource() == b ) {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getGraphics().drawString("OUCH",20,20)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} }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797-29D3-46D3-BB83-EDCB9F12584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Interface para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Qualquer classe pode implementar a ActionListener, inclusive a própria applet.  Todos os registrados na lista são notificados quando ocorre o event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Se não se deseja tratar o evento, deve-se chamar o método AWTEvent.consume()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Por exemplo, para ignorar a entrada do teclado pode-se usar consume() do KeyEven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então os registros de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KeyListener implementados serão avisados para não tratar o caracte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300-ACBE-4725-8196-1DCF366EB47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Tipos de ações para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ActionEvent - executa comando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AdjustmentEvent - ajusta valor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ItemEvent - altera estado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TextEvent - altera text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5C6-5F6E-40A0-9371-8A4274A3386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Interfaces para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                  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mponentListen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                  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KeyListen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Componen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FocusListener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                  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ouseListener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                  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ouseMotionListen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Contain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ContainerListener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Window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  WindowListener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48E-7267-405F-817E-6514E37C7A8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awt </a:t>
            </a: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(I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91200" y="1681200"/>
            <a:ext cx="6235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se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13080" y="2098800"/>
            <a:ext cx="11674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MediaTrack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60320" y="4079880"/>
            <a:ext cx="8366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1835280"/>
            <a:ext cx="0" cy="44067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4267080"/>
            <a:ext cx="18921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5840" y="182880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5840" y="26668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61040" y="1906560"/>
            <a:ext cx="92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rone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j</a:t>
            </a: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82640" y="1835280"/>
            <a:ext cx="978120" cy="596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17040" y="2556000"/>
            <a:ext cx="5623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12720" y="3216240"/>
            <a:ext cx="7408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olig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22800" y="3749760"/>
            <a:ext cx="1336680" cy="453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MediaEntry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Local ao paco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1640" y="4511520"/>
            <a:ext cx="9115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15600" y="5070600"/>
            <a:ext cx="1641600" cy="453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MenuCompone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awt-compn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17040" y="6137280"/>
            <a:ext cx="68148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oolki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5840" y="33526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25840" y="388620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5840" y="464832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51814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5840" y="624852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22096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668680"/>
            <a:ext cx="1336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ageObserv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Local ao paco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64480" y="2673360"/>
            <a:ext cx="1282680" cy="3682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96520" y="3749760"/>
            <a:ext cx="1446480" cy="45396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ageMediaEntry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Local ao paco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83240" y="3886200"/>
            <a:ext cx="368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054240"/>
            <a:ext cx="0" cy="67320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73360" y="1905120"/>
            <a:ext cx="25020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18240" y="2744640"/>
            <a:ext cx="136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LayoutManag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j</a:t>
            </a: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ava.awt-layou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9840" y="2673360"/>
            <a:ext cx="1359000" cy="596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07F-54DE-48AA-AF7E-4B20B0B7F70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Interfaces e Compone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                       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Butto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Times New Roman"/>
              </a:rPr>
              <a:t>ActionListener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MenuIt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                       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List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                       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TextFiel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                  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List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Times New Roman"/>
              </a:rPr>
              <a:t>ItemListener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CheckboxMenuIt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                 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Checkbox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                 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Choic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Times New Roman"/>
              </a:rPr>
              <a:t>TextListener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TextAre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                              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TextField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Times New Roman"/>
              </a:rPr>
              <a:t>AdjustmentListener</a:t>
            </a: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 Scrollba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A68-EAED-491F-8C94-7D1891B717C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Interfaces e Métodos (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ActionListen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actionPerformed(ActionEvent e)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AdjustmentListen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adjustmentValueChanged(AdjustmentEvent e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ComponentListener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mponentHidden(ComponentEvent e) componentMoved(ComponentEvent e) componentResized(ComponentEvent e) componentShown(ComponentEvent e)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59C-032F-4267-80CE-7CD83FED988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Interfaces e Métodos (I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ContainerListener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mponentAdded(ContainerEvent e) componentRemoved(ContainerEvent e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FocusListen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focusGained(FocusEvent e) focusLost(FocusEvent e)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ItemListener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itemStateChanged(ItemEvent e)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KeyListener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keyPressed(KeyEvent e) keyReleased(KeyEvent e) keyTyped(KeyEvent e)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B84-7F98-4413-9E27-EBAD08830F0E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Interfaces e Métodos (II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MouseListener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ouseClicked(MouseEvent e) mouseEntered(MouseEvent e) mouseExited(MouseEvent e) mousePressed(MouseEvent e) mouseReleased(MouseEvent e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MouseMotionListen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mouseDragged(MouseEvent e) mouseMoved(MouseEvent e)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TextListen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textValueChanged(TextEvent e)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BE9-57BA-457E-A2C8-278A650B00C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Interfaces e Métodos (IV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WindowListener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windowActivated(WindowEvent e) windowClosed(WindowEvent e) windowClosing(WindowEvent e) windowDeactivated(WindowEvent e) windowDeiconified(WindowEvent e) windowIconified(WindowEvent e) windowOpened(WindowEvent e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E3B-DC41-448D-8B49-F4B38840F9B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Própria classe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ublic class MyKeyAdapter extends KeyAdapter {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ublic void keyTyped(KeyEvent e) {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ystem.out.println("User typed: " +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KeyEvent.getKeyText(e.getKeyCode()));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} }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821-84E1-4781-9148-6F455D1BF141}" type="slidenum">
              <a:t>5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Ciclo de desenvolvimento de interfaces gráficas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xistem vários modos de se desenvolver uma interface gráfica. Um dos ciclos de desenvolvimento é o seguint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efinir os componentes da interfa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rganizar os componentes em containers, segundo os gerenciadores de layout disponíve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dicionar tratamento de eventos aos componentes e contain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E9D-1EF3-4D6F-92E8-A9DB829217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mponen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mponentes são os blocos básicos de construção do AWT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usuário final interage diretamente com os componentes. O usuário dispara eventos nos componentes ( clicar o mouse, arrastar um objeto, apertar determinada tecla, etc), que são tratados através de métodos destinados a tal fim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6A6-DD7B-4DA2-9C11-C8589BDC50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mponentes do AW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O AWT disponibiliza os seguintes componente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Botões ( Button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Rótulos ( Label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Caixas de seleção ( CheckBox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Radio Buttons ( CheckBox com CheckBoxGroup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Listas ( List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Opções ( Choice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Campos de texto ( TextField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Áreas de texto ( TextArea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Menus ( Menu e MenuBar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Canvases ( Canvas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Barras de rolagem ( Scrollbar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D82-8050-48A1-B5E8-08E0B1F97D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awt-compone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4240" y="1681200"/>
            <a:ext cx="6706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Butt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31720" y="3470400"/>
            <a:ext cx="8366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35960" y="2976480"/>
            <a:ext cx="102744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0360" y="5643720"/>
            <a:ext cx="142488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MenuCompone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80640" y="2062080"/>
            <a:ext cx="7254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nv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1000" y="2443320"/>
            <a:ext cx="9280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heckBox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82080" y="2900520"/>
            <a:ext cx="6904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hoi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82440" y="3281400"/>
            <a:ext cx="8931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ontain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82440" y="3738600"/>
            <a:ext cx="5806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Label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82800" y="4119480"/>
            <a:ext cx="4528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81360" y="4500720"/>
            <a:ext cx="84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crollba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83160" y="4881600"/>
            <a:ext cx="13413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extComponen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33120" y="4500720"/>
            <a:ext cx="8352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extAre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34920" y="5033880"/>
            <a:ext cx="8521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extFiel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29640" y="2671920"/>
            <a:ext cx="5900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anel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4640" y="2595600"/>
            <a:ext cx="97236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Apple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apple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56200" y="3281400"/>
            <a:ext cx="7650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Window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27840" y="3281400"/>
            <a:ext cx="6476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Dialo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59520" y="3281400"/>
            <a:ext cx="9115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ileDialo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43320" y="3738600"/>
            <a:ext cx="6400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34720" y="5567400"/>
            <a:ext cx="8337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MenuBa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35080" y="6107040"/>
            <a:ext cx="8931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MenuIte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31080" y="5643720"/>
            <a:ext cx="5792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Menu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28560" y="6253200"/>
            <a:ext cx="16398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heckBoxMenuIte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130560"/>
            <a:ext cx="0" cy="2654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8280" y="312408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8280" y="5791320"/>
            <a:ext cx="63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2480" y="3733920"/>
            <a:ext cx="6728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1835280"/>
            <a:ext cx="0" cy="3187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9880" y="182880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220968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9880" y="259092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9880" y="304812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9880" y="342900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9880" y="388620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9880" y="426708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9880" y="464832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9880" y="502920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74968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21480" y="2743200"/>
            <a:ext cx="2919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21480" y="350532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92880" y="3352680"/>
            <a:ext cx="215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35880" y="2819520"/>
            <a:ext cx="9014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11840" y="342900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8160" y="3435480"/>
            <a:ext cx="13968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6240" y="342900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54440"/>
            <a:ext cx="0" cy="520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02360" y="464832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2360" y="518148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0080" y="502920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5797440"/>
            <a:ext cx="0" cy="596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7440" y="579132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7440" y="640080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572148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8480" y="571500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8480" y="624852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2160" y="5867280"/>
            <a:ext cx="63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56600" y="5573880"/>
            <a:ext cx="1290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MenuContain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21680" y="5568840"/>
            <a:ext cx="1358640" cy="292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7640" y="4044960"/>
            <a:ext cx="596880" cy="151128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35880" y="5715000"/>
            <a:ext cx="67284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45160" y="5562720"/>
            <a:ext cx="166356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7240" y="312408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4CB-F3D3-4543-8CDD-2D0DA1453A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1:59:10Z</dcterms:created>
  <dc:creator>IME</dc:creator>
  <dc:description/>
  <dc:language>en-US</dc:language>
  <cp:lastModifiedBy>nilsa</cp:lastModifiedBy>
  <cp:lastPrinted>1999-01-06T09:23:02Z</cp:lastPrinted>
  <dcterms:modified xsi:type="dcterms:W3CDTF">2002-10-25T21:29:43Z</dcterms:modified>
  <cp:revision>18</cp:revision>
  <dc:subject/>
  <dc:title>JAVA: Tecnologia e Tendências</dc:title>
</cp:coreProperties>
</file>