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3899-0638-4657-B5EE-79442D576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C58B-3DD4-49D9-8C46-B715993CE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BD3F-9BEA-4FFC-A80B-5B3F8F7E0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3589-DDC8-4A31-94FE-8F02F2446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1F988-092A-49D0-B090-03A00A99E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5DFB3-E73D-44C6-AE10-9D6720E87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5B0E1-7C73-4F9C-8457-50290F6C3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BB052-ECDA-466C-9BD0-BF1F1E736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909DC-0423-4CA0-9616-0644339BD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BE07A-B466-4C07-80A3-41C8AFBB0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EC0A7-CEED-4583-BEB1-82036968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0FEE-9458-4233-826F-F056BBABD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C1982-A91A-4DF3-B82A-474E6A86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57FA5-BF81-41AE-A22F-71F84E79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F18AF-3E94-461E-AECD-BB16866E2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7F100-430A-4D2D-B69A-E259C0ED1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00513-E3E7-44B5-8E0E-1D43F2BFF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3A4B-2D89-43DB-A240-8264D50E3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9C36-72A2-478C-9EDA-1688E8CC8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0530-A52B-4FAC-A2F0-8D80C0A45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7FBB-FFEB-4D1A-BC00-9CD49538A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180F-00D8-4E01-B2BB-6895932AA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ACE3-B517-422A-9774-7CD6D6FD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8390-6B65-40C2-8C0A-18351946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02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7E574-C974-4228-BF79-49B6B7CD182F}" type="slidenum"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F318A-67EE-488D-A0A2-6A7927C2DC3E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2956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0" y="0"/>
            <a:ext cx="8872560" cy="6870600"/>
            <a:chOff x="0" y="0"/>
            <a:chExt cx="8872560" cy="6870600"/>
          </a:xfrm>
        </p:grpSpPr>
        <p:sp>
          <p:nvSpPr>
            <p:cNvPr id="9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ce99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92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076400" cy="687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402000"/>
                </a:solidFill>
                <a:latin typeface="Times New Roman"/>
              </a:rPr>
              <a:t>INTRODUÇÃO À LINGUAGEM JAVA</a:t>
            </a:r>
            <a:br>
              <a:rPr sz="2000"/>
            </a:b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447920" y="2514240"/>
            <a:ext cx="6705360" cy="304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Quarta Aula</a:t>
            </a:r>
            <a:endParaRPr b="0" lang="en-US" sz="36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02000"/>
                </a:solidFill>
                <a:latin typeface="Times New Roman"/>
              </a:rPr>
              <a:t>Pacotes, Exceções (erros)</a:t>
            </a:r>
            <a:endParaRPr b="0" lang="en-US" sz="34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02000"/>
                </a:solidFill>
                <a:latin typeface="Times New Roman"/>
              </a:rPr>
              <a:t>Pacotes java.io, java.lang e java.util</a:t>
            </a:r>
            <a:endParaRPr b="0" lang="en-US" sz="34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02000"/>
                </a:solidFill>
                <a:latin typeface="Times New Roman"/>
              </a:rPr>
              <a:t>Manipulação do java.awt</a:t>
            </a:r>
            <a:endParaRPr b="0" lang="en-US" sz="34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402000"/>
                </a:solidFill>
                <a:latin typeface="Times New Roman"/>
              </a:rPr>
              <a:t>Nilsa Areán García</a:t>
            </a:r>
            <a:endParaRPr b="0" lang="en-US" sz="36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19.10.2002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88CD8-39C6-4270-AEA9-91558844026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996633"/>
                </a:solidFill>
                <a:latin typeface="Times New Roman"/>
              </a:rPr>
              <a:t>Exemplo com </a:t>
            </a:r>
            <a:r>
              <a:rPr b="1" lang="pt-BR" sz="4400" spc="-1" strike="noStrike">
                <a:solidFill>
                  <a:srgbClr val="996633"/>
                </a:solidFill>
                <a:latin typeface="Times New Roman"/>
              </a:rPr>
              <a:t>finally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class conta{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    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public static void main(String args[]){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        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int den,num;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  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int c[]={1};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       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...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       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try{  // Indicador do trecho crítico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              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int res=num/den;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       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c[999]=res;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  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  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catch(ArithmeticException e) { // Recuperação da exceção aritmética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           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System.out.println(“Dividiu por zero!”);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         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  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catch(ArrayIndexOutOfBoundsException e){ // Recuperação da exceção de estouro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            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System.out.println(“Estourou o índice”);     //      de índice do vetor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  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     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 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finally{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den=1;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    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F267-B7CA-4B76-817A-7103867D307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Lançamento de exceções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Independente de outras exceções que possam ocorrer na execução, uma classe pode forçar o lançamento de exceções ou relançar uma determinada exceção, para que possa ser tratada em diferentes escopos. Isto é feito através da palavra </a:t>
            </a:r>
            <a:r>
              <a:rPr b="1" lang="pt-BR" sz="3200" spc="-1" strike="noStrike">
                <a:solidFill>
                  <a:srgbClr val="402000"/>
                </a:solidFill>
                <a:latin typeface="Times New Roman"/>
              </a:rPr>
              <a:t>throw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throw  new  &lt;construtor da classe de exceção &gt;(parâmetros )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throw &lt;exceção&gt;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2FD4-38CA-4AA3-B5BE-CD2C5E91EE9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996633"/>
                </a:solidFill>
                <a:latin typeface="Times New Roman"/>
              </a:rPr>
              <a:t>Exemplo com </a:t>
            </a:r>
            <a:r>
              <a:rPr b="1" lang="pt-BR" sz="4400" spc="-1" strike="noStrike">
                <a:solidFill>
                  <a:srgbClr val="996633"/>
                </a:solidFill>
                <a:latin typeface="Times New Roman"/>
              </a:rPr>
              <a:t>throw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class exemplo{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  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static void proced_exemplo(){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      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try{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            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// Tenta lançar instância de uma exceção aritmética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            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throw new ArithmeticException(“Divide por zero”)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      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catch(ArithmeticException e){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          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System.out.println(“Erro no método “+e)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          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throw e;  // Relança a exceção para ser tratada em outro escopo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      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  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 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public static void main(String args[]){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      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try{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             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exemplo.proc_exemplo()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      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     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catch(ArithmeticException e){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          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System.out.println(“Retratamento da exceção”)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     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4A24-0036-46D9-A548-00D37F95576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Métodos que podem devolver exceções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02000"/>
                </a:solidFill>
                <a:latin typeface="Times New Roman"/>
              </a:rPr>
              <a:t>Pode-se indicar os tipos de exceção que um método pode devolver utilizando-se a palavra reservada </a:t>
            </a:r>
            <a:r>
              <a:rPr b="1" lang="pt-BR" sz="3000" spc="-1" strike="noStrike">
                <a:solidFill>
                  <a:srgbClr val="402000"/>
                </a:solidFill>
                <a:latin typeface="Times New Roman"/>
              </a:rPr>
              <a:t>throws</a:t>
            </a:r>
            <a:r>
              <a:rPr b="0" lang="pt-BR" sz="30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3052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3052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método(parâmetros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052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throws Exceção1,...,ExceçãoN{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052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       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052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052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02000"/>
                </a:solidFill>
                <a:latin typeface="Times New Roman"/>
              </a:rPr>
              <a:t>Isto força os trechos de programa, que utilizarem este método, a tratarem as exceções com </a:t>
            </a:r>
            <a:r>
              <a:rPr b="1" lang="pt-BR" sz="3000" spc="-1" strike="noStrike">
                <a:solidFill>
                  <a:srgbClr val="402000"/>
                </a:solidFill>
                <a:latin typeface="Times New Roman"/>
              </a:rPr>
              <a:t>catch</a:t>
            </a:r>
            <a:r>
              <a:rPr b="0" lang="pt-BR" sz="3000" spc="-1" strike="noStrike">
                <a:solidFill>
                  <a:srgbClr val="402000"/>
                </a:solidFill>
                <a:latin typeface="Times New Roman"/>
              </a:rPr>
              <a:t> ou </a:t>
            </a:r>
            <a:r>
              <a:rPr b="1" lang="pt-BR" sz="3000" spc="-1" strike="noStrike">
                <a:solidFill>
                  <a:srgbClr val="402000"/>
                </a:solidFill>
                <a:latin typeface="Times New Roman"/>
              </a:rPr>
              <a:t>finally</a:t>
            </a:r>
            <a:r>
              <a:rPr b="0" lang="pt-BR" sz="30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75B9-A232-4F35-BF56-61E974A80AC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996633"/>
                </a:solidFill>
                <a:latin typeface="Times New Roman"/>
              </a:rPr>
              <a:t>Exemplo com </a:t>
            </a:r>
            <a:r>
              <a:rPr b="1" lang="pt-BR" sz="4400" spc="-1" strike="noStrike">
                <a:solidFill>
                  <a:srgbClr val="996633"/>
                </a:solidFill>
                <a:latin typeface="Times New Roman"/>
              </a:rPr>
              <a:t>throw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class erros{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    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static void contas(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throws ArithmeticException,ArrayIndexOutOfBoundsException{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if (den=0){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 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throw new ArithmeticException(“Denominador inválido”)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res=num/den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if (indice&gt;0){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throw new ArrayIndexOutOfBoundsException(“Indice &gt;0”)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c[indice]=res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public static void main(String args[]){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try{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   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contas()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catch(ArithmeticException e){...}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catch(ArrayIndexOutOfBoundsException e){...}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0793-B305-4D5E-B61A-DAC7B46BE69B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Criação de classes de exceções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02000"/>
                </a:solidFill>
                <a:latin typeface="Times New Roman"/>
              </a:rPr>
              <a:t>Novas classes de exceções podem ser construídas extendo-se a classe </a:t>
            </a:r>
            <a:r>
              <a:rPr b="1" lang="pt-BR" sz="3000" spc="-1" strike="noStrike">
                <a:solidFill>
                  <a:srgbClr val="402000"/>
                </a:solidFill>
                <a:latin typeface="Times New Roman"/>
              </a:rPr>
              <a:t>Exception</a:t>
            </a:r>
            <a:r>
              <a:rPr b="0" lang="pt-BR" sz="3000" spc="-1" strike="noStrike">
                <a:solidFill>
                  <a:srgbClr val="402000"/>
                </a:solidFill>
                <a:latin typeface="Times New Roman"/>
              </a:rPr>
              <a:t>. Para isto, basta fazer: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class &lt;NovaClasse&gt;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extends Exception{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atributos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...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construtores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...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public String toString(){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// O que imprimir quando a classe precisar ser impressa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...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Outros métodos...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BCAF-7EA2-4CE8-8259-B01E7BA1196B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Exemplo de criação de nova classe de exceção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classProprioErro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extends Exception{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private int aux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ProprioErro(int a){  //Construtor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     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aux=a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public String toString(){ // Retorna nome da classe e estado interno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    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return(“ProprioErro[“+aux+”]”)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FE76-A0C6-4A10-9C30-154F73A40C48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Utilização da nova class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class calculo{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static void calcula(int a)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throws Proprioerro{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if(a&gt;10)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throw new ProprioErro(a);  // Lança instância da nova classe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...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public static void main(String args[]){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try{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calcula(1);               // Não gera exceção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calcula(300);           // Gera exceção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catch(ProprioErro e){ // Tratamento da nova exceção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System.out.println(“Capturada “+e);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737B-BDA1-42A5-A559-DB098A715549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PACOT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Maneira organizada e hierárquica de se armazenar classes. Tem como objetivos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impedir colisão de nomes de class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proporcionar reutilização de código já criad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Pacotes direcionam o caminho para onde estão os diretórios e arquivos .class 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3B2F-B9A5-4447-8B0E-B57555D13292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Declaração de pacot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Pacotes são declarados utilizando-se a palavra reservada </a:t>
            </a:r>
            <a:r>
              <a:rPr b="1" lang="pt-BR" sz="3200" spc="-1" strike="noStrike">
                <a:solidFill>
                  <a:srgbClr val="402000"/>
                </a:solidFill>
                <a:latin typeface="Times New Roman"/>
              </a:rPr>
              <a:t>package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package caminho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class classe1{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     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class classeN{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     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F357-F94B-4A47-ACB1-621899E13C7D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Tópicos da Quarta Aula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Detecção e tratamento de exceçõ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Construção de classes de exceçõ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Construção de pacotes de class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Utilização de pacotes de class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Restrições de acess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Pacotes básicos da linguagem Jav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Organização do java.io, java.lang e java.uti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Manipulação do java.aw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50DF-2758-4A01-AF0A-27D868A7AC79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Exemplo de declaração de pacotes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       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package pacote.minhasclasses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  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class Funcionario{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                   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String Nome,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                              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RG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                   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float salario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  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       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class Chefe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              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extends Funcionario{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               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       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73160" y="2063880"/>
            <a:ext cx="4940280" cy="440676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26040" y="4038480"/>
            <a:ext cx="59688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90240" y="3795840"/>
            <a:ext cx="1918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02000"/>
                </a:solidFill>
                <a:latin typeface="Times New Roman"/>
              </a:rPr>
              <a:t>empresa.jav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50B8-E231-46E2-8E70-873D2D5B224B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Localização das classes após a compilação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02000"/>
                </a:solidFill>
                <a:latin typeface="Times New Roman"/>
              </a:rPr>
              <a:t>          </a:t>
            </a:r>
            <a:r>
              <a:rPr b="1" lang="pt-BR" sz="3000" spc="-1" strike="noStrike">
                <a:solidFill>
                  <a:srgbClr val="402000"/>
                </a:solidFill>
                <a:latin typeface="Arial"/>
              </a:rPr>
              <a:t>c:\ javac empresa.java        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3359160"/>
            <a:ext cx="0" cy="29196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901960" y="3657600"/>
            <a:ext cx="44460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352680" y="3359160"/>
            <a:ext cx="0" cy="29196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901960" y="3269880"/>
            <a:ext cx="63360" cy="8892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978280" y="3276720"/>
            <a:ext cx="13968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30560" y="3282840"/>
            <a:ext cx="63360" cy="6372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06880" y="3352680"/>
            <a:ext cx="13968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33920" y="4273560"/>
            <a:ext cx="0" cy="29196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740040" y="4572000"/>
            <a:ext cx="36828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740040" y="4184280"/>
            <a:ext cx="63720" cy="8892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16360" y="4191120"/>
            <a:ext cx="21600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044960" y="4197240"/>
            <a:ext cx="63360" cy="6372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121280" y="4267080"/>
            <a:ext cx="13968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4273560"/>
            <a:ext cx="0" cy="29196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40040" y="4572000"/>
            <a:ext cx="52092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90920" y="2901960"/>
            <a:ext cx="0" cy="59688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97040" y="3505320"/>
            <a:ext cx="29232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819520" y="3511440"/>
            <a:ext cx="0" cy="82548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25640" y="4343400"/>
            <a:ext cx="90180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429000" y="4349880"/>
            <a:ext cx="0" cy="158724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35480" y="5181480"/>
            <a:ext cx="128268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435480" y="5943600"/>
            <a:ext cx="128268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347200" y="2424240"/>
            <a:ext cx="538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c:\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339000" y="3262320"/>
            <a:ext cx="1162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pacot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330080" y="4176720"/>
            <a:ext cx="2348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02000"/>
                </a:solidFill>
                <a:latin typeface="Arial"/>
              </a:rPr>
              <a:t>minhasclass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785120" y="5014800"/>
            <a:ext cx="27723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02000"/>
                </a:solidFill>
                <a:latin typeface="Arial"/>
              </a:rPr>
              <a:t>Funcionario.clas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02000"/>
                </a:solidFill>
                <a:latin typeface="Arial"/>
              </a:rPr>
              <a:t>Chefe.clas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13F7-DC6E-44E5-9C27-066A28C50241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Utilização de pacot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Classes em pacotes são acessadas através da  palavra reservada </a:t>
            </a:r>
            <a:r>
              <a:rPr b="1" lang="pt-BR" sz="3200" spc="-1" strike="noStrike">
                <a:solidFill>
                  <a:srgbClr val="402000"/>
                </a:solidFill>
                <a:latin typeface="Times New Roman"/>
              </a:rPr>
              <a:t>import 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package pagamento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import pacote.minhasclasses.Funcionario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import pacote.Chefe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// Ou simplesmente, import pacote.minhasclasses.*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     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class Presidente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         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extends Chefe{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              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     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BBBC-C86E-40DE-9256-EDA703885E51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Variável de ambiente </a:t>
            </a:r>
            <a:r>
              <a:rPr b="1" lang="en-US" sz="4000" spc="-1" strike="noStrike">
                <a:solidFill>
                  <a:srgbClr val="996633"/>
                </a:solidFill>
                <a:latin typeface="Times New Roman"/>
              </a:rPr>
              <a:t>CLASSPATH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Variável que especifica o caminho-padrão para busca das classes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Pode-se tambem especificar o caminho-padrão para busca das classes em tempo de compilação e interpretação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02000"/>
                </a:solidFill>
                <a:latin typeface="Arial"/>
              </a:rPr>
              <a:t>     </a:t>
            </a:r>
            <a:r>
              <a:rPr b="1" lang="pt-BR" sz="2400" spc="-1" strike="noStrike">
                <a:solidFill>
                  <a:srgbClr val="402000"/>
                </a:solidFill>
                <a:latin typeface="Arial"/>
              </a:rPr>
              <a:t>javac -classpath c:\pacote\minhasclasses ..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02000"/>
                </a:solidFill>
                <a:latin typeface="Arial"/>
              </a:rPr>
              <a:t>     </a:t>
            </a:r>
            <a:r>
              <a:rPr b="1" lang="pt-BR" sz="2400" spc="-1" strike="noStrike">
                <a:solidFill>
                  <a:srgbClr val="402000"/>
                </a:solidFill>
                <a:latin typeface="Arial"/>
              </a:rPr>
              <a:t>java  - classpath c:\pacote\minhasclasses ..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FCC0-B7C7-4AE5-BE65-F212C2196CDD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Restrições de acesso a dado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Há cinco tipos de modificadores de acesso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public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default  ( i.e., sem modificador 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protected ( versão 1.0 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privat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private protecte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085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02000"/>
                </a:solidFill>
                <a:latin typeface="Times New Roman"/>
              </a:rPr>
              <a:t>que podem ser aplicados antes da definição de classes, nos atributos e métodos.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C8E6-6B8C-447C-B4B4-E434EB10C1C0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Tabela de Visibilidad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143000" y="1905120"/>
          <a:ext cx="7467480" cy="365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905120"/>
                    <a:ext cx="746748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29C8-79AF-40D0-96E4-82AA927E6CF4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Exemplo de restrição de acesso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class Classe1{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private int num; // Atributo com modificador de acesso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    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class Classe2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extends Classe1{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void altera(){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  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num=3;         // ERRO DE COMPILAÇÃO!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    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}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  // ATRIBUTO num  É PRIVADO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A08C-E6D9-4C3B-B5C5-33A04E997272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PACOTES BÁSICOS DE JAVA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762200" y="2171880"/>
          <a:ext cx="6010200" cy="232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2200" y="2171880"/>
                    <a:ext cx="6010200" cy="23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2520-180F-47CF-980B-DFBFC33BE504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996633"/>
                </a:solidFill>
                <a:latin typeface="Times New Roman"/>
              </a:rPr>
              <a:t>Estrutura básica do pacote </a:t>
            </a:r>
            <a:r>
              <a:rPr b="1" lang="pt-BR" sz="4400" spc="-1" strike="noStrike">
                <a:solidFill>
                  <a:srgbClr val="996633"/>
                </a:solidFill>
                <a:latin typeface="Times New Roman"/>
              </a:rPr>
              <a:t>java.io </a:t>
            </a:r>
            <a:r>
              <a:rPr b="0" lang="pt-BR" sz="4400" spc="-1" strike="noStrike">
                <a:solidFill>
                  <a:srgbClr val="996633"/>
                </a:solidFill>
                <a:latin typeface="Times New Roman"/>
              </a:rPr>
              <a:t>(I)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60320" y="4079880"/>
            <a:ext cx="836640" cy="45396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Object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402000"/>
                </a:solidFill>
                <a:latin typeface="Arial"/>
              </a:rPr>
              <a:t>java.lang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21080" y="4267080"/>
            <a:ext cx="120636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28240" y="4543560"/>
            <a:ext cx="859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402000"/>
                </a:solidFill>
                <a:latin typeface="Arial"/>
              </a:rPr>
              <a:t>Legenda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24000" y="4842000"/>
            <a:ext cx="574560" cy="27144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25440" y="5645160"/>
            <a:ext cx="596880" cy="2919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25440" y="6095880"/>
            <a:ext cx="59688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25440" y="6477120"/>
            <a:ext cx="596880" cy="0"/>
          </a:xfrm>
          <a:prstGeom prst="line">
            <a:avLst/>
          </a:prstGeom>
          <a:ln w="12600">
            <a:solidFill>
              <a:srgbClr val="402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24000" y="5222880"/>
            <a:ext cx="574560" cy="271440"/>
          </a:xfrm>
          <a:prstGeom prst="rect">
            <a:avLst/>
          </a:prstGeom>
          <a:solidFill>
            <a:srgbClr val="dadada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66320" y="4848120"/>
            <a:ext cx="1679400" cy="17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CLASSE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CLASSE ABSTRATA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INTERFACE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extend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implement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049640" y="1793880"/>
            <a:ext cx="444960" cy="27144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2000"/>
                </a:solidFill>
                <a:latin typeface="Arial"/>
              </a:rPr>
              <a:t>File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119320" y="2790720"/>
            <a:ext cx="884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DataInput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63880" y="2749680"/>
            <a:ext cx="1206360" cy="2919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047840" y="2327400"/>
            <a:ext cx="1208520" cy="27144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FileDescriptor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048920" y="3241800"/>
            <a:ext cx="1071360" cy="271440"/>
          </a:xfrm>
          <a:prstGeom prst="rect">
            <a:avLst/>
          </a:prstGeom>
          <a:solidFill>
            <a:srgbClr val="dadada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InputStream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049280" y="5451480"/>
            <a:ext cx="1198080" cy="271440"/>
          </a:xfrm>
          <a:prstGeom prst="rect">
            <a:avLst/>
          </a:prstGeom>
          <a:solidFill>
            <a:srgbClr val="dadada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OutputStream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985920" y="6289560"/>
            <a:ext cx="1413000" cy="27144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StreamTokenizer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646240" y="1717560"/>
            <a:ext cx="1801440" cy="27144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ByteArrayInputStream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649120" y="2403360"/>
            <a:ext cx="1335240" cy="27144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FileInputStream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649120" y="2936880"/>
            <a:ext cx="1444680" cy="27144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FilterInputStream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649120" y="3394080"/>
            <a:ext cx="1487520" cy="27144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PipedInputStream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647680" y="3851280"/>
            <a:ext cx="1793880" cy="27144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SequenceInputStream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649480" y="4282920"/>
            <a:ext cx="1959840" cy="27144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StringBufferInputStream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646600" y="4729320"/>
            <a:ext cx="1927800" cy="27144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ByteArrayOutputStream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649480" y="5222880"/>
            <a:ext cx="1461600" cy="27144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FileOutputStream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649120" y="5680080"/>
            <a:ext cx="1571400" cy="27144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FilterOutputStream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649480" y="6137280"/>
            <a:ext cx="1613880" cy="27144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PipedOutputStream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326720" y="2349360"/>
            <a:ext cx="1441800" cy="24120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402000"/>
                </a:solidFill>
                <a:latin typeface="Arial"/>
              </a:rPr>
              <a:t>BufferedInputStream</a:t>
            </a:r>
            <a:endParaRPr b="0" lang="en-US" sz="1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324200" y="2708280"/>
            <a:ext cx="1402200" cy="27144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DataInputStream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323480" y="3122640"/>
            <a:ext cx="1519560" cy="22608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402000"/>
                </a:solidFill>
                <a:latin typeface="Arial"/>
              </a:rPr>
              <a:t>LineNumberInputStream</a:t>
            </a:r>
            <a:endParaRPr b="0" lang="en-US" sz="9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326360" y="3492360"/>
            <a:ext cx="1531800" cy="24120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402000"/>
                </a:solidFill>
                <a:latin typeface="Arial"/>
              </a:rPr>
              <a:t>PushBackInputStream</a:t>
            </a:r>
            <a:endParaRPr b="0" lang="en-US" sz="1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0880" y="5103720"/>
            <a:ext cx="1415880" cy="22608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402000"/>
                </a:solidFill>
                <a:latin typeface="Arial"/>
              </a:rPr>
              <a:t>BufferedOutputStream</a:t>
            </a:r>
            <a:endParaRPr b="0" lang="en-US" sz="9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399440" y="5460840"/>
            <a:ext cx="1420560" cy="25632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402000"/>
                </a:solidFill>
                <a:latin typeface="Arial"/>
              </a:rPr>
              <a:t>DataOutputStream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400160" y="5832360"/>
            <a:ext cx="1047240" cy="27144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PrintStream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40040" y="1905120"/>
            <a:ext cx="29232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740040" y="2438280"/>
            <a:ext cx="29232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740040" y="3352680"/>
            <a:ext cx="29232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740040" y="5638680"/>
            <a:ext cx="29232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740040" y="6400800"/>
            <a:ext cx="21600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733920" y="1911240"/>
            <a:ext cx="0" cy="448308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16560" y="1828800"/>
            <a:ext cx="21600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416560" y="2514600"/>
            <a:ext cx="21600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16560" y="3048120"/>
            <a:ext cx="21600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16560" y="3505320"/>
            <a:ext cx="21600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416560" y="4038480"/>
            <a:ext cx="21600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16560" y="4419720"/>
            <a:ext cx="21600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416560" y="4876920"/>
            <a:ext cx="21600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416560" y="5410080"/>
            <a:ext cx="21600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416560" y="5867280"/>
            <a:ext cx="21600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16560" y="6172200"/>
            <a:ext cx="21600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410080" y="4883040"/>
            <a:ext cx="0" cy="128268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264280" y="5638680"/>
            <a:ext cx="13968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410080" y="1835280"/>
            <a:ext cx="0" cy="257796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111640" y="3429000"/>
            <a:ext cx="29232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7169040" y="2507760"/>
            <a:ext cx="139680" cy="54612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7169040" y="2889360"/>
            <a:ext cx="139680" cy="16488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169040" y="3054240"/>
            <a:ext cx="139680" cy="13968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169040" y="3054240"/>
            <a:ext cx="139680" cy="52092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7245360" y="5250960"/>
            <a:ext cx="139680" cy="54612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7245360" y="5632560"/>
            <a:ext cx="139680" cy="16488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45360" y="5797440"/>
            <a:ext cx="139680" cy="21600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06080" y="6296040"/>
            <a:ext cx="1010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DataOutput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50280" y="6254640"/>
            <a:ext cx="1206360" cy="2923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282840" y="2819520"/>
            <a:ext cx="4254480" cy="0"/>
          </a:xfrm>
          <a:prstGeom prst="line">
            <a:avLst/>
          </a:prstGeom>
          <a:ln w="12600">
            <a:solidFill>
              <a:srgbClr val="402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8686800" y="5708160"/>
            <a:ext cx="0" cy="546120"/>
          </a:xfrm>
          <a:prstGeom prst="line">
            <a:avLst/>
          </a:prstGeom>
          <a:ln w="12600">
            <a:solidFill>
              <a:srgbClr val="402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117520" y="3324240"/>
            <a:ext cx="1217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FilenameFilter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063880" y="3282840"/>
            <a:ext cx="1206360" cy="2923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8B2B-75B5-4344-A08B-B1CF71658661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996633"/>
                </a:solidFill>
                <a:latin typeface="Times New Roman"/>
              </a:rPr>
              <a:t>Estrutura básica do pacote </a:t>
            </a:r>
            <a:r>
              <a:rPr b="1" lang="pt-BR" sz="4400" spc="-1" strike="noStrike">
                <a:solidFill>
                  <a:srgbClr val="996633"/>
                </a:solidFill>
                <a:latin typeface="Times New Roman"/>
              </a:rPr>
              <a:t>java.io </a:t>
            </a:r>
            <a:r>
              <a:rPr b="0" lang="pt-BR" sz="4400" spc="-1" strike="noStrike">
                <a:solidFill>
                  <a:srgbClr val="996633"/>
                </a:solidFill>
                <a:latin typeface="Times New Roman"/>
              </a:rPr>
              <a:t>(II)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660320" y="2403360"/>
            <a:ext cx="836640" cy="45396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Object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402000"/>
                </a:solidFill>
                <a:latin typeface="Arial"/>
              </a:rPr>
              <a:t>java.lang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521080" y="2666880"/>
            <a:ext cx="189216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28240" y="4543560"/>
            <a:ext cx="859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402000"/>
                </a:solidFill>
                <a:latin typeface="Arial"/>
              </a:rPr>
              <a:t>Legenda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224000" y="4842000"/>
            <a:ext cx="574560" cy="27144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225440" y="5645160"/>
            <a:ext cx="596880" cy="2919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225440" y="6095880"/>
            <a:ext cx="59688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5440" y="6477120"/>
            <a:ext cx="596880" cy="0"/>
          </a:xfrm>
          <a:prstGeom prst="line">
            <a:avLst/>
          </a:prstGeom>
          <a:ln w="12600">
            <a:solidFill>
              <a:srgbClr val="402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224000" y="5222880"/>
            <a:ext cx="574560" cy="271440"/>
          </a:xfrm>
          <a:prstGeom prst="rect">
            <a:avLst/>
          </a:prstGeom>
          <a:solidFill>
            <a:srgbClr val="dadada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966320" y="4848120"/>
            <a:ext cx="1679400" cy="17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CLASSE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CLASSE ABSTRATA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INTERFACE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extend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implement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55720" y="2403360"/>
            <a:ext cx="945000" cy="45396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Throwable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402000"/>
                </a:solidFill>
                <a:latin typeface="Arial"/>
              </a:rPr>
              <a:t>java.lang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122720" y="3089160"/>
            <a:ext cx="1685520" cy="45396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Except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402000"/>
                </a:solidFill>
                <a:latin typeface="Arial"/>
              </a:rPr>
              <a:t>java.lang-exception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876920" y="2901960"/>
            <a:ext cx="0" cy="13968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328280" y="3851280"/>
            <a:ext cx="1073160" cy="27144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IOExcept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309360" y="3927600"/>
            <a:ext cx="1225440" cy="27144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EOFExcept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333840" y="4430880"/>
            <a:ext cx="1892880" cy="27144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FileNotFoundExcept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333480" y="5070600"/>
            <a:ext cx="1877760" cy="27144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InterruptedIOExcept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333840" y="5603760"/>
            <a:ext cx="2054520" cy="27144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UTFDataFormatExcept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26040" y="4038480"/>
            <a:ext cx="29232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26040" y="4572000"/>
            <a:ext cx="29232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26040" y="5257800"/>
            <a:ext cx="29232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26040" y="5791320"/>
            <a:ext cx="29232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019920" y="4044960"/>
            <a:ext cx="0" cy="173988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876920" y="4197240"/>
            <a:ext cx="0" cy="74952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883040" y="4952880"/>
            <a:ext cx="113040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876920" y="3587760"/>
            <a:ext cx="0" cy="21600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8592-7435-46A6-8806-E2BFC1555418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Exceçõ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02000"/>
                </a:solidFill>
                <a:latin typeface="Times New Roman"/>
              </a:rPr>
              <a:t>Em Java, a ocorrência de erros (exceções) durante a execução de um programa não necessariamente significa que o programa termina.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02000"/>
                </a:solidFill>
                <a:latin typeface="Times New Roman"/>
              </a:rPr>
              <a:t>A linguagem já provê um mecanismo para indicar trechos críticos num programa e recuperar eventuais exceções ocorridas nestes trechos, sem parar a execução do programa.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749D-FB21-41F2-91CE-0EA0F77FF385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CLASSE Fil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Classe que descreve os vários atributos de um arquivo ou diretório, tais como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-312120" algn="just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modos de acesso ( leitura/escrita 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-312120" algn="just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caminho absolut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-312120" algn="just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caminho relativ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-312120" algn="just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tipo ( diretório/arquivo 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Além disto, permite criar de diretórios e renomear arquivos/diretórios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9D82-E279-46BD-90CE-B34647E4E1F9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Construtores  e métodos da classe Fil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CONSTRUTORES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File(String caminho)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construtor de diretórios/arquivos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   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throws NullPointException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File(String caminho,String nome)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construtor com nome separado do caminho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File(String diretorio,String nome)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construtor com diretório e nome do arquivo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MÉTODOS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boolean canRead()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arquivo/diretório pode ser lido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boolean canWrite()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pode-se gravar no arquivo/diretório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boolean delete()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deleta arquivo/diretório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boolean exists()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verifica se arquivo/diretório existem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boolean isAbsolute()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verifica se caminho é absoluto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boolean isDirectory()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verifica se objeto é diretório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boolean isFile()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verifica se objeto é arquivo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boolean mKdir()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cira diretório do objeto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boolean mKdirs()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cria diretórios do caminho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boolean renameTo(String novo)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mudar nome do arquivo/diretório para novo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66D6-1A0E-4065-B5C4-971DA9AABA6A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Outros métodos da classe Fil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String getAbsolutePath()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pega caminho absoluto do objeto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String getName()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pega nome do arquivo/diretório/caminho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String getParent()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pega diretório-pai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String getPath()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pega caminho relativo.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String[] list()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lista todos os arquivos e subdiretórios de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um determinado diretório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String [] list (FilenameFilter f)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lista todos os arquivos e subdiretórios de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um determinado diretório, segundo um filtro f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long lastModified()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data da última modificação, no formato long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D53C-F256-4E52-A1D2-AC5BD95747FB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996633"/>
                </a:solidFill>
                <a:latin typeface="Times New Roman"/>
              </a:rPr>
              <a:t>Interface FilenameFilter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Conjunto de protótipos de métodos para filtrar consultas a respeito de arquivos e diretórios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O método mais importante desta interface é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public boolean accept(File dir,String nome_arq )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que permite aceitar, ou não, o arquivo de nome nome_arq, localizado em dir, para o resultado da filtragem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2B27-0044-41BB-A2C9-D77052ACE936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996633"/>
                </a:solidFill>
                <a:latin typeface="Times New Roman"/>
              </a:rPr>
              <a:t>Exemplo de File com FilenameFilter</a:t>
            </a:r>
            <a:endParaRPr b="0" lang="en-US" sz="3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import java.io.*;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public class Filtrado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extends File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implements FilenameFilter{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   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String extensao;    // Extensão de um arquivo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  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Filtrado(String extensao){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     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this.extensao=extensao;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  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   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public boolean accept(File dir,String nome){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   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// Retorna true se nome termina com uma determinada extensão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       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return (nome.endsWith(extensao));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    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   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4663-8340-4892-80E1-F3C7A2EF7395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996633"/>
                </a:solidFill>
                <a:latin typeface="Times New Roman"/>
              </a:rPr>
              <a:t>Utilização da classe Filtrado</a:t>
            </a:r>
            <a:endParaRPr b="0" lang="en-US" sz="3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class listagem{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public static void main(String args[]){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   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FilenameFilter arquivo=new Filtrado(“.java”); 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   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File diretorio=new File(“c:\java”);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   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String [] aceitos=diretorio.list(arquivo);  // lista todos os arquivo com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            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// a extensão .java do diretório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            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// c:\java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                       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...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05C8-39D6-4E93-B0ED-868FABEFA016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Entrada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2000"/>
                </a:solidFill>
                <a:latin typeface="Times New Roman"/>
              </a:rPr>
              <a:t>Na maioria das situações, as operações de entrada em Java são feitas com base nas seguintes classes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02000"/>
                </a:solidFill>
                <a:latin typeface="Times New Roman"/>
              </a:rPr>
              <a:t>InputStream</a:t>
            </a:r>
            <a:r>
              <a:rPr b="0" lang="pt-BR" sz="2800" spc="-1" strike="noStrike">
                <a:solidFill>
                  <a:srgbClr val="402000"/>
                </a:solidFill>
                <a:latin typeface="Times New Roman"/>
              </a:rPr>
              <a:t>, classe abstrata que descreve as características básica de uma stream de entrada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02000"/>
                </a:solidFill>
                <a:latin typeface="Times New Roman"/>
              </a:rPr>
              <a:t>FileInputStream</a:t>
            </a:r>
            <a:r>
              <a:rPr b="0" lang="pt-BR" sz="2800" spc="-1" strike="noStrike">
                <a:solidFill>
                  <a:srgbClr val="402000"/>
                </a:solidFill>
                <a:latin typeface="Times New Roman"/>
              </a:rPr>
              <a:t>, que permite a leitura somente a nível de bytes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02000"/>
                </a:solidFill>
                <a:latin typeface="Times New Roman"/>
              </a:rPr>
              <a:t>DataInputStream</a:t>
            </a:r>
            <a:r>
              <a:rPr b="0" lang="pt-BR" sz="2800" spc="-1" strike="noStrike">
                <a:solidFill>
                  <a:srgbClr val="402000"/>
                </a:solidFill>
                <a:latin typeface="Times New Roman"/>
              </a:rPr>
              <a:t>, que permite a leitura a nível de tipos básicos (inteiros, longs, floats, etc)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62FA-6D20-4DC2-BB3C-9DAF4E29CBE0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996633"/>
                </a:solidFill>
                <a:latin typeface="Times New Roman"/>
              </a:rPr>
              <a:t>Classe InputStream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2000"/>
                </a:solidFill>
                <a:latin typeface="Times New Roman"/>
              </a:rPr>
              <a:t>A classe abstrata InputStream possui, entre outros métodos, os seguintes métodos básicos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int available()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devolve o número de bytes do arquivo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throws IOException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void reset()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posiciona o ponteiro do arquivo no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throws IOException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no início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EE5D-7A06-4214-AC05-FF1B91CF13A4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996633"/>
                </a:solidFill>
                <a:latin typeface="Times New Roman"/>
              </a:rPr>
              <a:t>Classe FileInputStream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2000"/>
                </a:solidFill>
                <a:latin typeface="Times New Roman"/>
              </a:rPr>
              <a:t>A abertura do arquivo dá-se, efetivamente, na instanciação desta classe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CONTRUTORES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FileInputStream(String)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construtor com nome e diretorio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  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throws FileNotFoundException,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    no formato String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     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IOException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FileInputStream(File)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construtor com objeto File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  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throws FileNotFoundException,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    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                     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IOException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FileInputStream(FileDescriptor)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construtor com descritor de arquivo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  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throws FileNotFoundException,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     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IOException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3EAD-0C0C-452B-AD09-223160AA57FE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996633"/>
                </a:solidFill>
                <a:latin typeface="Times New Roman"/>
              </a:rPr>
              <a:t>Alguns métodos da classe  FileInputStream</a:t>
            </a:r>
            <a:endParaRPr b="0" lang="en-US" sz="3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int read()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            leitura de um byte do arquivo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throws IOException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int read(byte b[])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leitura de um vetor de bytes (b)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throws IOException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int read(byte b[],int pos,int tam)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leitura de vetor de bytes, armazenando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throws IOException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a partir da posição pos, tam bytes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void close()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fecha o arquivo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82F5-E4C9-445C-B1E3-EF1BBE1AC4B6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Sintaxe para tratamento de exceçõ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try{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       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... // Trecho crítico do programa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catch(Exceção e){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      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... // Tratamento da exceção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finally{  // Eliminação de precedência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      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00A5-C6CC-44AF-BB7A-63E00A575278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996633"/>
                </a:solidFill>
                <a:latin typeface="Times New Roman"/>
              </a:rPr>
              <a:t>Exemplo de leitura com FileInputStream</a:t>
            </a:r>
            <a:endParaRPr b="0" lang="en-US" sz="3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import java.io.*;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class exemplo_leitura{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public static void main(String args[]){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FileInputStream arq;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int tam;   // Tamanho do arquivo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try{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     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arq=new FileInputStream(“codigo.exe”);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     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tam=arq.available();  // Recupera quantidade de bytes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     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int b[]=new int[tam];  // Vetor para armazenar os bytes lidos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     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for(int i=0;i&lt;tam;i++)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       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b[i]= arq.read();         // Leitura de bytes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     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...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                      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arq.close();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                 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catch(FileNotFoundException e){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   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System.out.println(e);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catch(IOException e){System.out.println(e);}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}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C102-D09D-4419-833F-E6AE524218EC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996633"/>
                </a:solidFill>
                <a:latin typeface="Times New Roman"/>
              </a:rPr>
              <a:t>Classe DataInputStream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2000"/>
                </a:solidFill>
                <a:latin typeface="Times New Roman"/>
              </a:rPr>
              <a:t>Como a abertura do arquivo já foi feita numa camada mais baixa, esta classe somente se preocupa em ler a quantidade de bytes necessários para formar o tipo de retorno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402000"/>
                </a:solidFill>
                <a:latin typeface="Times New Roman"/>
              </a:rPr>
              <a:t>Possui um único construtor, cujo parâmetro é uma classe derivada de InputStream (geralmente FileInputStream)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402000"/>
                </a:solidFill>
                <a:latin typeface="Arial"/>
              </a:rPr>
              <a:t>DataInputStream(InputStream entrada)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B7FC-7685-4ABF-AC57-C1BBF9F1A62E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996633"/>
                </a:solidFill>
                <a:latin typeface="Times New Roman"/>
              </a:rPr>
              <a:t>Alguns métodos da classe  DataInputStream</a:t>
            </a:r>
            <a:endParaRPr b="0" lang="en-US" sz="3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boolean readBoolean()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leitura de booleanos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   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throws IOException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byte readByte()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leitura de bytes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   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throws IOException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char readChar()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leitura de chars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   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throws IOException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double readDouble()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leitura de doubles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   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throws IOException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float readFloat()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leitura de floats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   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throws IOException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long readLong()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leitura de longs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   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throws IOexception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int readInt()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leitura de inteiros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   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throws IOException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String readLine()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leitura de uma linha do arquivo (UNICODE)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    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throws IOException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String readUFT()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leitura de uma linha do arquivo (ASCII)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    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throws IOException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3D9E-AE28-4836-82CF-F8D5AEF146CD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996633"/>
                </a:solidFill>
                <a:latin typeface="Times New Roman"/>
              </a:rPr>
              <a:t>Exemplo de leitura com DataInputStream</a:t>
            </a:r>
            <a:endParaRPr b="0" lang="en-US" sz="3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import java.io.*;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class exemplo_leitura{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public static void main(String args[]){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File arq=new File(“/java”,”principal.class”);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InputStream arquivo;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 </a:t>
            </a: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DataInputStream entrada_dados;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try{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     </a:t>
            </a: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arquivo =new FileInputStream(arq);  // Camada interna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     </a:t>
            </a: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entrada_dados=new DataInputStream(arquivo);  // Camada externa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     </a:t>
            </a: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System.out.println(entrada_dados.readInt()); // Leitura de um inteiro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     </a:t>
            </a: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// ...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                         </a:t>
            </a: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arquivo.close();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                 </a:t>
            </a: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catch(FileNotFoundException e){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   </a:t>
            </a: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System.out.println(e);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catch(IOException e){System.out.println(e);}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}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5FB8-83A0-4FC2-A396-A85FBAA2945C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Saída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2000"/>
                </a:solidFill>
                <a:latin typeface="Times New Roman"/>
              </a:rPr>
              <a:t>Na maioria das situações, as operações de saída em Java são feitas com base nas seguintes classes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02000"/>
                </a:solidFill>
                <a:latin typeface="Times New Roman"/>
              </a:rPr>
              <a:t>OutputStream</a:t>
            </a:r>
            <a:r>
              <a:rPr b="0" lang="pt-BR" sz="2800" spc="-1" strike="noStrike">
                <a:solidFill>
                  <a:srgbClr val="402000"/>
                </a:solidFill>
                <a:latin typeface="Times New Roman"/>
              </a:rPr>
              <a:t>, classe abstrata que descreve as características básica de uma stream de saída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02000"/>
                </a:solidFill>
                <a:latin typeface="Times New Roman"/>
              </a:rPr>
              <a:t>FileOutputStream</a:t>
            </a:r>
            <a:r>
              <a:rPr b="0" lang="pt-BR" sz="2800" spc="-1" strike="noStrike">
                <a:solidFill>
                  <a:srgbClr val="402000"/>
                </a:solidFill>
                <a:latin typeface="Times New Roman"/>
              </a:rPr>
              <a:t>, que permite a escrita somente a nível de bytes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02000"/>
                </a:solidFill>
                <a:latin typeface="Times New Roman"/>
              </a:rPr>
              <a:t>DataOutputStream</a:t>
            </a:r>
            <a:r>
              <a:rPr b="0" lang="pt-BR" sz="2800" spc="-1" strike="noStrike">
                <a:solidFill>
                  <a:srgbClr val="402000"/>
                </a:solidFill>
                <a:latin typeface="Times New Roman"/>
              </a:rPr>
              <a:t>, que permite a escrita a nível de tipos básicos (inteiros, longs, floats, etc)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F940-AC84-4732-8E8C-8731F24EDCD5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996633"/>
                </a:solidFill>
                <a:latin typeface="Times New Roman"/>
              </a:rPr>
              <a:t>Classe OutputStream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2000"/>
                </a:solidFill>
                <a:latin typeface="Times New Roman"/>
              </a:rPr>
              <a:t>A classe abstrata OutputStream possui, entre outros métodos, o seguinte método básico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void flush()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descarrega o buffer de arquivo no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throws IOException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arquivo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FCCF-759C-412B-B726-3D564112B874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996633"/>
                </a:solidFill>
                <a:latin typeface="Times New Roman"/>
              </a:rPr>
              <a:t>Classe FileOutputStream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2000"/>
                </a:solidFill>
                <a:latin typeface="Times New Roman"/>
              </a:rPr>
              <a:t>A abertura do arquivo para escrita dá-se, efetivamente, na instanciação desta classe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CONTRUTORES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FileOutputStream(String)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construtor com nome e diretório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  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throws FileNotFoundException,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    no formato String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     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IOException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FileOutputStream(File)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construtor com objeto File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  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throws FileNotFoundException,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    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                     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IOException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FileOutputStream(FileDescriptor)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construtor com descritor de arquivo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  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throws FileNotFoundException,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     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IOException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D35F-8247-44C0-925F-273B618D0746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996633"/>
                </a:solidFill>
                <a:latin typeface="Times New Roman"/>
              </a:rPr>
              <a:t>Alguns métodos da classe  FileOutputStream</a:t>
            </a:r>
            <a:endParaRPr b="0" lang="en-US" sz="3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void write(byte)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escrita de um byte do arquivo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throws IOException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void write(byte b[])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escrita de um vetor de bytes (b)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throws IOException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void write(byte b[],int pos,int tam)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escrita de vetor de bytes, armazenando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throws IOException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a partir da posição pos, tam bytes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void close()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fecha o arquivo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CB6D-A433-4214-9649-68890B6579AA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996633"/>
                </a:solidFill>
                <a:latin typeface="Times New Roman"/>
              </a:rPr>
              <a:t>Classe DataOutputStream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2000"/>
                </a:solidFill>
                <a:latin typeface="Times New Roman"/>
              </a:rPr>
              <a:t>Como a abertura do arquivo já foi feita numa camada mais baixa, esta classe somente se preocupa em gravar a quantidade de bytes formadores do tipo a ser gravado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402000"/>
                </a:solidFill>
                <a:latin typeface="Times New Roman"/>
              </a:rPr>
              <a:t>Possui um único construtor, cujo parâmetro é uma classe derivada de OutputStream (geralmente FileOutputStream)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402000"/>
                </a:solidFill>
                <a:latin typeface="Arial"/>
              </a:rPr>
              <a:t>DataOutputStream(OutputStream saída)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989D-F36E-4608-A692-457DFA685655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996633"/>
                </a:solidFill>
                <a:latin typeface="Times New Roman"/>
              </a:rPr>
              <a:t>Alguns métodos da classe  DataOutputStream</a:t>
            </a:r>
            <a:endParaRPr b="0" lang="en-US" sz="3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void writeBoolean(boolean)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escrita de booleanos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   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throws IOException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void writeByte(byte)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escrita de bytes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   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throws IOException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void writeChar(char)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escrita de chars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   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throws IOException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void  writeDouble(double)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escrita de doubles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   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throws IOException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void writeFloat(float)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escrita de floats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   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throws IOException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void writeLong(long)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escrita de longs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   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throws IOexception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void writeInt(int)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escrita de inteiros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   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throws IOException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void writeLine(String)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escrita de uma linha do arquivo 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(UNICODE)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    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throws IOException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void  writeUFT(String)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escrita de uma linha do arquivo 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 (ASCII)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    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throws IOException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1896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D49D-C0AE-466B-84EE-E787E4E9B8EC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Exemplo de trecho crítico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class conta{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    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public static void main(String args[]){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        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int den=0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        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int num=30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        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int res=num/den;   // Trecho crítico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    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A execução do .class correspondente a esta classe provocaria a seguinte mensagem de erro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...&gt; java.lang.ArithmeticException: / by zero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at ... conta ..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3BFC-0F5D-480F-8E0B-1DF8B4527888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996633"/>
                </a:solidFill>
                <a:latin typeface="Times New Roman"/>
              </a:rPr>
              <a:t>Exemplo de escrita com DataOutputStream</a:t>
            </a:r>
            <a:endParaRPr b="0" lang="en-US" sz="3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7072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402000"/>
                </a:solidFill>
                <a:latin typeface="Arial"/>
              </a:rPr>
              <a:t>import java.io.*;</a:t>
            </a:r>
            <a:endParaRPr b="0" lang="en-US" sz="1000" spc="-1" strike="noStrike">
              <a:solidFill>
                <a:srgbClr val="402000"/>
              </a:solidFill>
              <a:latin typeface="Times New Roman"/>
            </a:endParaRPr>
          </a:p>
          <a:p>
            <a:pPr marL="27072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402000"/>
                </a:solidFill>
                <a:latin typeface="Arial"/>
              </a:rPr>
              <a:t>class exemplo_gravação{</a:t>
            </a:r>
            <a:endParaRPr b="0" lang="en-US" sz="1000" spc="-1" strike="noStrike">
              <a:solidFill>
                <a:srgbClr val="402000"/>
              </a:solidFill>
              <a:latin typeface="Times New Roman"/>
            </a:endParaRPr>
          </a:p>
          <a:p>
            <a:pPr marL="27072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000" spc="-1" strike="noStrike">
                <a:solidFill>
                  <a:srgbClr val="402000"/>
                </a:solidFill>
                <a:latin typeface="Arial"/>
              </a:rPr>
              <a:t>public static void main(String args[]){</a:t>
            </a:r>
            <a:endParaRPr b="0" lang="en-US" sz="1000" spc="-1" strike="noStrike">
              <a:solidFill>
                <a:srgbClr val="402000"/>
              </a:solidFill>
              <a:latin typeface="Times New Roman"/>
            </a:endParaRPr>
          </a:p>
          <a:p>
            <a:pPr marL="27072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000" spc="-1" strike="noStrike">
                <a:solidFill>
                  <a:srgbClr val="402000"/>
                </a:solidFill>
                <a:latin typeface="Arial"/>
              </a:rPr>
              <a:t>File arq=new File(“C:\java”,”principal.class”);      // Copiará principal.class para principal2.class</a:t>
            </a:r>
            <a:endParaRPr b="0" lang="en-US" sz="1000" spc="-1" strike="noStrike">
              <a:solidFill>
                <a:srgbClr val="402000"/>
              </a:solidFill>
              <a:latin typeface="Times New Roman"/>
            </a:endParaRPr>
          </a:p>
          <a:p>
            <a:pPr marL="27072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000" spc="-1" strike="noStrike">
                <a:solidFill>
                  <a:srgbClr val="402000"/>
                </a:solidFill>
                <a:latin typeface="Arial"/>
              </a:rPr>
              <a:t>File arq2=new File(“C:\java”,”principal2.class”);</a:t>
            </a:r>
            <a:endParaRPr b="0" lang="en-US" sz="1000" spc="-1" strike="noStrike">
              <a:solidFill>
                <a:srgbClr val="402000"/>
              </a:solidFill>
              <a:latin typeface="Times New Roman"/>
            </a:endParaRPr>
          </a:p>
          <a:p>
            <a:pPr marL="27072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000" spc="-1" strike="noStrike">
                <a:solidFill>
                  <a:srgbClr val="402000"/>
                </a:solidFill>
                <a:latin typeface="Arial"/>
              </a:rPr>
              <a:t>InputStream entrada_baixa;</a:t>
            </a:r>
            <a:endParaRPr b="0" lang="en-US" sz="1000" spc="-1" strike="noStrike">
              <a:solidFill>
                <a:srgbClr val="402000"/>
              </a:solidFill>
              <a:latin typeface="Times New Roman"/>
            </a:endParaRPr>
          </a:p>
          <a:p>
            <a:pPr marL="27072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402000"/>
                </a:solidFill>
                <a:latin typeface="Arial"/>
              </a:rPr>
              <a:t> </a:t>
            </a:r>
            <a:r>
              <a:rPr b="1" lang="pt-BR" sz="1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000" spc="-1" strike="noStrike">
                <a:solidFill>
                  <a:srgbClr val="402000"/>
                </a:solidFill>
                <a:latin typeface="Arial"/>
              </a:rPr>
              <a:t>DataInputStream entrada_alta;</a:t>
            </a:r>
            <a:endParaRPr b="0" lang="en-US" sz="1000" spc="-1" strike="noStrike">
              <a:solidFill>
                <a:srgbClr val="402000"/>
              </a:solidFill>
              <a:latin typeface="Times New Roman"/>
            </a:endParaRPr>
          </a:p>
          <a:p>
            <a:pPr marL="27072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000" spc="-1" strike="noStrike">
                <a:solidFill>
                  <a:srgbClr val="402000"/>
                </a:solidFill>
                <a:latin typeface="Arial"/>
              </a:rPr>
              <a:t>OutputStream saida_baixa;</a:t>
            </a:r>
            <a:endParaRPr b="0" lang="en-US" sz="1000" spc="-1" strike="noStrike">
              <a:solidFill>
                <a:srgbClr val="402000"/>
              </a:solidFill>
              <a:latin typeface="Times New Roman"/>
            </a:endParaRPr>
          </a:p>
          <a:p>
            <a:pPr marL="27072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000" spc="-1" strike="noStrike">
                <a:solidFill>
                  <a:srgbClr val="402000"/>
                </a:solidFill>
                <a:latin typeface="Arial"/>
              </a:rPr>
              <a:t>DataOutputStream saida_alta;</a:t>
            </a:r>
            <a:endParaRPr b="0" lang="en-US" sz="1000" spc="-1" strike="noStrike">
              <a:solidFill>
                <a:srgbClr val="402000"/>
              </a:solidFill>
              <a:latin typeface="Times New Roman"/>
            </a:endParaRPr>
          </a:p>
          <a:p>
            <a:pPr marL="27072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000" spc="-1" strike="noStrike">
                <a:solidFill>
                  <a:srgbClr val="402000"/>
                </a:solidFill>
                <a:latin typeface="Arial"/>
              </a:rPr>
              <a:t>try{</a:t>
            </a:r>
            <a:endParaRPr b="0" lang="en-US" sz="1000" spc="-1" strike="noStrike">
              <a:solidFill>
                <a:srgbClr val="402000"/>
              </a:solidFill>
              <a:latin typeface="Times New Roman"/>
            </a:endParaRPr>
          </a:p>
          <a:p>
            <a:pPr marL="27072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000" spc="-1" strike="noStrike">
                <a:solidFill>
                  <a:srgbClr val="402000"/>
                </a:solidFill>
                <a:latin typeface="Arial"/>
              </a:rPr>
              <a:t>     </a:t>
            </a:r>
            <a:r>
              <a:rPr b="1" lang="pt-BR" sz="1000" spc="-1" strike="noStrike">
                <a:solidFill>
                  <a:srgbClr val="402000"/>
                </a:solidFill>
                <a:latin typeface="Arial"/>
              </a:rPr>
              <a:t>entrada_baixa=new FileInputStream(arq);  // Camada interna</a:t>
            </a:r>
            <a:endParaRPr b="0" lang="en-US" sz="1000" spc="-1" strike="noStrike">
              <a:solidFill>
                <a:srgbClr val="402000"/>
              </a:solidFill>
              <a:latin typeface="Times New Roman"/>
            </a:endParaRPr>
          </a:p>
          <a:p>
            <a:pPr marL="27072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000" spc="-1" strike="noStrike">
                <a:solidFill>
                  <a:srgbClr val="402000"/>
                </a:solidFill>
                <a:latin typeface="Arial"/>
              </a:rPr>
              <a:t>     </a:t>
            </a:r>
            <a:r>
              <a:rPr b="1" lang="pt-BR" sz="1000" spc="-1" strike="noStrike">
                <a:solidFill>
                  <a:srgbClr val="402000"/>
                </a:solidFill>
                <a:latin typeface="Arial"/>
              </a:rPr>
              <a:t>entrada_alta=new DataInputStream(entrada_baixa);  // Camada externa</a:t>
            </a:r>
            <a:endParaRPr b="0" lang="en-US" sz="1000" spc="-1" strike="noStrike">
              <a:solidFill>
                <a:srgbClr val="402000"/>
              </a:solidFill>
              <a:latin typeface="Times New Roman"/>
            </a:endParaRPr>
          </a:p>
          <a:p>
            <a:pPr marL="27072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000" spc="-1" strike="noStrike">
                <a:solidFill>
                  <a:srgbClr val="402000"/>
                </a:solidFill>
                <a:latin typeface="Arial"/>
              </a:rPr>
              <a:t>     </a:t>
            </a:r>
            <a:r>
              <a:rPr b="1" lang="pt-BR" sz="1000" spc="-1" strike="noStrike">
                <a:solidFill>
                  <a:srgbClr val="402000"/>
                </a:solidFill>
                <a:latin typeface="Arial"/>
              </a:rPr>
              <a:t>saida_baixa=new FileOutputStream(arq2);</a:t>
            </a:r>
            <a:endParaRPr b="0" lang="en-US" sz="1000" spc="-1" strike="noStrike">
              <a:solidFill>
                <a:srgbClr val="402000"/>
              </a:solidFill>
              <a:latin typeface="Times New Roman"/>
            </a:endParaRPr>
          </a:p>
          <a:p>
            <a:pPr marL="27072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000" spc="-1" strike="noStrike">
                <a:solidFill>
                  <a:srgbClr val="402000"/>
                </a:solidFill>
                <a:latin typeface="Arial"/>
              </a:rPr>
              <a:t>     </a:t>
            </a:r>
            <a:r>
              <a:rPr b="1" lang="pt-BR" sz="1000" spc="-1" strike="noStrike">
                <a:solidFill>
                  <a:srgbClr val="402000"/>
                </a:solidFill>
                <a:latin typeface="Arial"/>
              </a:rPr>
              <a:t>saida_alta=new DataOutputStream(saida_baixa);</a:t>
            </a:r>
            <a:endParaRPr b="0" lang="en-US" sz="1000" spc="-1" strike="noStrike">
              <a:solidFill>
                <a:srgbClr val="402000"/>
              </a:solidFill>
              <a:latin typeface="Times New Roman"/>
            </a:endParaRPr>
          </a:p>
          <a:p>
            <a:pPr marL="27072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000" spc="-1" strike="noStrike">
                <a:solidFill>
                  <a:srgbClr val="402000"/>
                </a:solidFill>
                <a:latin typeface="Arial"/>
              </a:rPr>
              <a:t>     </a:t>
            </a:r>
            <a:r>
              <a:rPr b="1" lang="pt-BR" sz="1000" spc="-1" strike="noStrike">
                <a:solidFill>
                  <a:srgbClr val="402000"/>
                </a:solidFill>
                <a:latin typeface="Arial"/>
              </a:rPr>
              <a:t>try{</a:t>
            </a:r>
            <a:endParaRPr b="0" lang="en-US" sz="1000" spc="-1" strike="noStrike">
              <a:solidFill>
                <a:srgbClr val="402000"/>
              </a:solidFill>
              <a:latin typeface="Times New Roman"/>
            </a:endParaRPr>
          </a:p>
          <a:p>
            <a:pPr marL="27072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000" spc="-1" strike="noStrike">
                <a:solidFill>
                  <a:srgbClr val="402000"/>
                </a:solidFill>
                <a:latin typeface="Arial"/>
              </a:rPr>
              <a:t>            </a:t>
            </a:r>
            <a:r>
              <a:rPr b="1" lang="pt-BR" sz="1000" spc="-1" strike="noStrike">
                <a:solidFill>
                  <a:srgbClr val="402000"/>
                </a:solidFill>
                <a:latin typeface="Arial"/>
              </a:rPr>
              <a:t>while(true)</a:t>
            </a:r>
            <a:endParaRPr b="0" lang="en-US" sz="1000" spc="-1" strike="noStrike">
              <a:solidFill>
                <a:srgbClr val="402000"/>
              </a:solidFill>
              <a:latin typeface="Times New Roman"/>
            </a:endParaRPr>
          </a:p>
          <a:p>
            <a:pPr marL="27072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000" spc="-1" strike="noStrike">
                <a:solidFill>
                  <a:srgbClr val="402000"/>
                </a:solidFill>
                <a:latin typeface="Arial"/>
              </a:rPr>
              <a:t>saida_alta.writeInt(entrada_alta.readInt());</a:t>
            </a:r>
            <a:endParaRPr b="0" lang="en-US" sz="1000" spc="-1" strike="noStrike">
              <a:solidFill>
                <a:srgbClr val="402000"/>
              </a:solidFill>
              <a:latin typeface="Times New Roman"/>
            </a:endParaRPr>
          </a:p>
          <a:p>
            <a:pPr marL="27072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000" spc="-1" strike="noStrike">
                <a:solidFill>
                  <a:srgbClr val="402000"/>
                </a:solidFill>
                <a:latin typeface="Arial"/>
              </a:rPr>
              <a:t>     </a:t>
            </a:r>
            <a:r>
              <a:rPr b="1" lang="pt-BR" sz="10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402000"/>
              </a:solidFill>
              <a:latin typeface="Times New Roman"/>
            </a:endParaRPr>
          </a:p>
          <a:p>
            <a:pPr marL="27072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000" spc="-1" strike="noStrike">
                <a:solidFill>
                  <a:srgbClr val="402000"/>
                </a:solidFill>
                <a:latin typeface="Arial"/>
              </a:rPr>
              <a:t>     </a:t>
            </a:r>
            <a:r>
              <a:rPr b="1" lang="pt-BR" sz="1000" spc="-1" strike="noStrike">
                <a:solidFill>
                  <a:srgbClr val="402000"/>
                </a:solidFill>
                <a:latin typeface="Arial"/>
              </a:rPr>
              <a:t>catch(EOFException e);</a:t>
            </a:r>
            <a:endParaRPr b="0" lang="en-US" sz="1000" spc="-1" strike="noStrike">
              <a:solidFill>
                <a:srgbClr val="402000"/>
              </a:solidFill>
              <a:latin typeface="Times New Roman"/>
            </a:endParaRPr>
          </a:p>
          <a:p>
            <a:pPr marL="27072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000" spc="-1" strike="noStrike">
                <a:solidFill>
                  <a:srgbClr val="402000"/>
                </a:solidFill>
                <a:latin typeface="Arial"/>
              </a:rPr>
              <a:t>     </a:t>
            </a:r>
            <a:r>
              <a:rPr b="1" lang="pt-BR" sz="1000" spc="-1" strike="noStrike">
                <a:solidFill>
                  <a:srgbClr val="402000"/>
                </a:solidFill>
                <a:latin typeface="Arial"/>
              </a:rPr>
              <a:t>entrada_baixa.close();</a:t>
            </a:r>
            <a:endParaRPr b="0" lang="en-US" sz="1000" spc="-1" strike="noStrike">
              <a:solidFill>
                <a:srgbClr val="402000"/>
              </a:solidFill>
              <a:latin typeface="Times New Roman"/>
            </a:endParaRPr>
          </a:p>
          <a:p>
            <a:pPr marL="27072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000" spc="-1" strike="noStrike">
                <a:solidFill>
                  <a:srgbClr val="402000"/>
                </a:solidFill>
                <a:latin typeface="Arial"/>
              </a:rPr>
              <a:t>     </a:t>
            </a:r>
            <a:r>
              <a:rPr b="1" lang="pt-BR" sz="1000" spc="-1" strike="noStrike">
                <a:solidFill>
                  <a:srgbClr val="402000"/>
                </a:solidFill>
                <a:latin typeface="Arial"/>
              </a:rPr>
              <a:t>saida_baixa.close();</a:t>
            </a:r>
            <a:endParaRPr b="0" lang="en-US" sz="1000" spc="-1" strike="noStrike">
              <a:solidFill>
                <a:srgbClr val="402000"/>
              </a:solidFill>
              <a:latin typeface="Times New Roman"/>
            </a:endParaRPr>
          </a:p>
          <a:p>
            <a:pPr marL="27072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0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402000"/>
              </a:solidFill>
              <a:latin typeface="Times New Roman"/>
            </a:endParaRPr>
          </a:p>
          <a:p>
            <a:pPr marL="27072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402000"/>
                </a:solidFill>
                <a:latin typeface="Arial"/>
              </a:rPr>
              <a:t>                 </a:t>
            </a:r>
            <a:r>
              <a:rPr b="1" lang="pt-BR" sz="1000" spc="-1" strike="noStrike">
                <a:solidFill>
                  <a:srgbClr val="402000"/>
                </a:solidFill>
                <a:latin typeface="Arial"/>
              </a:rPr>
              <a:t>catch(FileNotFoundException e){</a:t>
            </a:r>
            <a:endParaRPr b="0" lang="en-US" sz="1000" spc="-1" strike="noStrike">
              <a:solidFill>
                <a:srgbClr val="402000"/>
              </a:solidFill>
              <a:latin typeface="Times New Roman"/>
            </a:endParaRPr>
          </a:p>
          <a:p>
            <a:pPr marL="27072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000" spc="-1" strike="noStrike">
                <a:solidFill>
                  <a:srgbClr val="402000"/>
                </a:solidFill>
                <a:latin typeface="Arial"/>
              </a:rPr>
              <a:t>   </a:t>
            </a:r>
            <a:r>
              <a:rPr b="1" lang="pt-BR" sz="1000" spc="-1" strike="noStrike">
                <a:solidFill>
                  <a:srgbClr val="402000"/>
                </a:solidFill>
                <a:latin typeface="Arial"/>
              </a:rPr>
              <a:t>System.out.println(e);</a:t>
            </a:r>
            <a:endParaRPr b="0" lang="en-US" sz="1000" spc="-1" strike="noStrike">
              <a:solidFill>
                <a:srgbClr val="402000"/>
              </a:solidFill>
              <a:latin typeface="Times New Roman"/>
            </a:endParaRPr>
          </a:p>
          <a:p>
            <a:pPr marL="27072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0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402000"/>
              </a:solidFill>
              <a:latin typeface="Times New Roman"/>
            </a:endParaRPr>
          </a:p>
          <a:p>
            <a:pPr marL="27072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000" spc="-1" strike="noStrike">
                <a:solidFill>
                  <a:srgbClr val="402000"/>
                </a:solidFill>
                <a:latin typeface="Arial"/>
              </a:rPr>
              <a:t>catch(IOException e){System.out.println(e);}</a:t>
            </a:r>
            <a:endParaRPr b="0" lang="en-US" sz="1000" spc="-1" strike="noStrike">
              <a:solidFill>
                <a:srgbClr val="402000"/>
              </a:solidFill>
              <a:latin typeface="Times New Roman"/>
            </a:endParaRPr>
          </a:p>
          <a:p>
            <a:pPr marL="27072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0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402000"/>
              </a:solidFill>
              <a:latin typeface="Times New Roman"/>
            </a:endParaRPr>
          </a:p>
          <a:p>
            <a:pPr marL="27072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402000"/>
                </a:solidFill>
                <a:latin typeface="Arial"/>
              </a:rPr>
              <a:t>}</a:t>
            </a:r>
            <a:r>
              <a:rPr b="1" lang="pt-BR" sz="1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000" spc="-1" strike="noStrike">
                <a:solidFill>
                  <a:srgbClr val="402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402000"/>
              </a:solidFill>
              <a:latin typeface="Times New Roman"/>
            </a:endParaRPr>
          </a:p>
          <a:p>
            <a:pPr marL="27072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D264-FE28-4661-A54D-98D8F3F9BC32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996633"/>
                </a:solidFill>
                <a:latin typeface="Times New Roman"/>
              </a:rPr>
              <a:t>Estrutura básica do pacote </a:t>
            </a:r>
            <a:r>
              <a:rPr b="1" lang="pt-BR" sz="4400" spc="-1" strike="noStrike">
                <a:solidFill>
                  <a:srgbClr val="996633"/>
                </a:solidFill>
                <a:latin typeface="Times New Roman"/>
              </a:rPr>
              <a:t>java.lang </a:t>
            </a:r>
            <a:r>
              <a:rPr b="0" lang="pt-BR" sz="4400" spc="-1" strike="noStrike">
                <a:solidFill>
                  <a:srgbClr val="996633"/>
                </a:solidFill>
                <a:latin typeface="Times New Roman"/>
              </a:rPr>
              <a:t>(I)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192280" y="1681200"/>
            <a:ext cx="783360" cy="27144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Boolea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189760" y="2098800"/>
            <a:ext cx="894600" cy="27144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Character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190480" y="2556000"/>
            <a:ext cx="590040" cy="27144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Clas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190120" y="2987640"/>
            <a:ext cx="1098720" cy="271440"/>
          </a:xfrm>
          <a:prstGeom prst="rect">
            <a:avLst/>
          </a:prstGeom>
          <a:solidFill>
            <a:srgbClr val="dadada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ClassLoader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191920" y="3592440"/>
            <a:ext cx="842760" cy="27144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Compiler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192640" y="4156200"/>
            <a:ext cx="536400" cy="27144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Math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191920" y="4689360"/>
            <a:ext cx="757440" cy="271440"/>
          </a:xfrm>
          <a:prstGeom prst="rect">
            <a:avLst/>
          </a:prstGeom>
          <a:solidFill>
            <a:srgbClr val="dadada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189760" y="5146560"/>
            <a:ext cx="777240" cy="271440"/>
          </a:xfrm>
          <a:prstGeom prst="rect">
            <a:avLst/>
          </a:prstGeom>
          <a:solidFill>
            <a:srgbClr val="dadada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Proces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192640" y="5603760"/>
            <a:ext cx="790920" cy="27144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Runtime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189400" y="6137280"/>
            <a:ext cx="1413000" cy="271440"/>
          </a:xfrm>
          <a:prstGeom prst="rect">
            <a:avLst/>
          </a:prstGeom>
          <a:solidFill>
            <a:srgbClr val="dadada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SecurityManager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813680" y="4156200"/>
            <a:ext cx="657000" cy="27144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Object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301160" y="4079880"/>
            <a:ext cx="698040" cy="27144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Double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301160" y="4537080"/>
            <a:ext cx="545760" cy="27144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Float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300080" y="4994280"/>
            <a:ext cx="690480" cy="27144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Integer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301880" y="5527800"/>
            <a:ext cx="553320" cy="27144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Long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419720" y="1835280"/>
            <a:ext cx="0" cy="440676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010280" y="4197240"/>
            <a:ext cx="0" cy="143532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521080" y="4267080"/>
            <a:ext cx="189216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425840" y="1828800"/>
            <a:ext cx="74952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425840" y="2209680"/>
            <a:ext cx="74952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425840" y="2666880"/>
            <a:ext cx="74952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425840" y="3124080"/>
            <a:ext cx="74952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425840" y="3733920"/>
            <a:ext cx="74952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425840" y="4267080"/>
            <a:ext cx="74952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425840" y="4800600"/>
            <a:ext cx="74952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425840" y="5257800"/>
            <a:ext cx="74952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25840" y="5715000"/>
            <a:ext cx="74952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425840" y="6248520"/>
            <a:ext cx="74952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026040" y="4800600"/>
            <a:ext cx="97812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016760" y="4191120"/>
            <a:ext cx="21600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016760" y="4724280"/>
            <a:ext cx="21600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016760" y="5181480"/>
            <a:ext cx="29196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016760" y="5638680"/>
            <a:ext cx="21600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41920" y="2486160"/>
            <a:ext cx="928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Croneable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87560" y="2444760"/>
            <a:ext cx="977760" cy="2919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128240" y="4543560"/>
            <a:ext cx="859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402000"/>
                </a:solidFill>
                <a:latin typeface="Arial"/>
              </a:rPr>
              <a:t>Legenda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224000" y="4842000"/>
            <a:ext cx="574560" cy="27144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225440" y="5645160"/>
            <a:ext cx="596880" cy="2919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225440" y="6095880"/>
            <a:ext cx="59688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225440" y="6477120"/>
            <a:ext cx="596880" cy="0"/>
          </a:xfrm>
          <a:prstGeom prst="line">
            <a:avLst/>
          </a:prstGeom>
          <a:ln w="12600">
            <a:solidFill>
              <a:srgbClr val="402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224000" y="5222880"/>
            <a:ext cx="574560" cy="271440"/>
          </a:xfrm>
          <a:prstGeom prst="rect">
            <a:avLst/>
          </a:prstGeom>
          <a:solidFill>
            <a:srgbClr val="dadada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66320" y="4848120"/>
            <a:ext cx="1679400" cy="17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CLASSE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CLASSE ABSTRATA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INTERFACE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extend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implement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53AA-CAB6-4F00-A7BB-A0DE074E6C98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996633"/>
                </a:solidFill>
                <a:latin typeface="Times New Roman"/>
              </a:rPr>
              <a:t>Estrutura básica do pacote </a:t>
            </a:r>
            <a:r>
              <a:rPr b="1" lang="pt-BR" sz="4400" spc="-1" strike="noStrike">
                <a:solidFill>
                  <a:srgbClr val="996633"/>
                </a:solidFill>
                <a:latin typeface="Times New Roman"/>
              </a:rPr>
              <a:t>java.lang </a:t>
            </a:r>
            <a:r>
              <a:rPr b="0" lang="pt-BR" sz="4400" spc="-1" strike="noStrike">
                <a:solidFill>
                  <a:srgbClr val="996633"/>
                </a:solidFill>
                <a:latin typeface="Times New Roman"/>
              </a:rPr>
              <a:t>(II)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192640" y="2098800"/>
            <a:ext cx="1147680" cy="27144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ThreadGroup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553160" y="5375160"/>
            <a:ext cx="1114200" cy="27144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ThreadDeath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190480" y="2987640"/>
            <a:ext cx="725400" cy="27144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192640" y="3592440"/>
            <a:ext cx="1069920" cy="27144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StringBuffer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193000" y="4156200"/>
            <a:ext cx="621720" cy="27144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String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92640" y="4689360"/>
            <a:ext cx="945000" cy="27144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Throwable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890000" y="3622680"/>
            <a:ext cx="657000" cy="27144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Object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597040" y="3733920"/>
            <a:ext cx="189252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425840" y="2209680"/>
            <a:ext cx="74952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425840" y="2666880"/>
            <a:ext cx="74952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425840" y="3124080"/>
            <a:ext cx="74952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425840" y="3733920"/>
            <a:ext cx="74952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425840" y="4267080"/>
            <a:ext cx="74952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425840" y="4800600"/>
            <a:ext cx="74952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805120" y="2638440"/>
            <a:ext cx="876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Runnable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749680" y="2597040"/>
            <a:ext cx="977760" cy="2923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128240" y="4543560"/>
            <a:ext cx="859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402000"/>
                </a:solidFill>
                <a:latin typeface="Arial"/>
              </a:rPr>
              <a:t>Legenda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224000" y="4842000"/>
            <a:ext cx="574560" cy="27144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225440" y="5645160"/>
            <a:ext cx="596880" cy="2919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225440" y="6095880"/>
            <a:ext cx="59688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225440" y="6477120"/>
            <a:ext cx="596880" cy="0"/>
          </a:xfrm>
          <a:prstGeom prst="line">
            <a:avLst/>
          </a:prstGeom>
          <a:ln w="12600">
            <a:solidFill>
              <a:srgbClr val="402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224000" y="5222880"/>
            <a:ext cx="574560" cy="271440"/>
          </a:xfrm>
          <a:prstGeom prst="rect">
            <a:avLst/>
          </a:prstGeom>
          <a:solidFill>
            <a:srgbClr val="dadada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66320" y="4848120"/>
            <a:ext cx="1679400" cy="17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CLASSE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CLASSE ABSTRATA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INTERFACE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extend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implement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419720" y="2216160"/>
            <a:ext cx="0" cy="242568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419720" y="4654440"/>
            <a:ext cx="0" cy="13968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740040" y="2743200"/>
            <a:ext cx="1435320" cy="0"/>
          </a:xfrm>
          <a:prstGeom prst="line">
            <a:avLst/>
          </a:prstGeom>
          <a:ln w="12600">
            <a:solidFill>
              <a:srgbClr val="402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799240" y="5375160"/>
            <a:ext cx="1269720" cy="45396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Error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402000"/>
                </a:solidFill>
                <a:latin typeface="Arial"/>
              </a:rPr>
              <a:t>java.lang-erro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799240" y="6060960"/>
            <a:ext cx="1685520" cy="45396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Except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402000"/>
                </a:solidFill>
                <a:latin typeface="Arial"/>
              </a:rPr>
              <a:t>java.lang-exception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191920" y="2556000"/>
            <a:ext cx="690480" cy="27144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Thread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410080" y="5035680"/>
            <a:ext cx="0" cy="128268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416560" y="5562720"/>
            <a:ext cx="36828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416560" y="6324480"/>
            <a:ext cx="36828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093080" y="5562720"/>
            <a:ext cx="44424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09BC-DED2-4434-A13B-6A4AF52B1D01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996633"/>
                </a:solidFill>
                <a:latin typeface="Times New Roman"/>
              </a:rPr>
              <a:t>CLASSE Objec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Todas as classes em Java são derivadas de uma superclasse chamada </a:t>
            </a:r>
            <a:r>
              <a:rPr b="1" lang="pt-BR" sz="3200" spc="-1" strike="noStrike">
                <a:solidFill>
                  <a:srgbClr val="402000"/>
                </a:solidFill>
                <a:latin typeface="Times New Roman"/>
              </a:rPr>
              <a:t>Object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Com Object, por exemplo, pode-se simular polimorfismo universal paramétrico, não suportado explicitamente por Java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07C9-628B-4D43-9A4B-D43DEC2C4E62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Exemplo - Pilha Genérica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class pilha{     // Pilha genérica    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int tam,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topo;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Object []vetor;    // Vetor de elementos genéricos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pilha(int tam){     // Construtor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this.tam=tam;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topo=-1;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vetor=new Object[tam];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C784-F232-427F-8AA8-3987455C03BA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Exemplo - Pilha genérica (continuação )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public void insere(Object elemento){  // Insere um elemento na pilha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if(topo!=tam){  // Verifica se pilha não está cheia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    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topo++;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    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vetor[topo]=elemento;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 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else System.out.println(“Pilha cheia!”);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public Object retira(){  // Retira um elemento da pilha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if(topo!=-1){  // Verifica se pilha não está vazia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  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Object  elemento=vetor[topo];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  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topo--;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  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return(elemento);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else{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         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System.out.println(“Pilha vazia!”);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         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return(-1);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}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353A-1CB1-4742-8E1C-554D21ACF20C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Utilização da pilha genérica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class exemplo{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public static void main(String args[]){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pilha p=new pilha(5);   // Instanciação de uma pilha com 5 objetos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p.insere(new String(“Um elemento”));  // Insere uma string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p.insere(new Float(1.5));  // Insere um número em ponto flutuante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p.insere(new Integer(1)); // Insere um número inteiro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p.insere(new Character(‘a’)); // Insere um caracter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p.insere(new pilha(10));   // Insere uma pilha como elemento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p.remove();   // Remove último elemento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for(int i=1;i&lt;=4;i++)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   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System.out.println(p.remove());     // Remove e imprime outros elementos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4A33-5823-4C1B-BC48-5A3FC8A7C249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996633"/>
                </a:solidFill>
                <a:latin typeface="Times New Roman"/>
              </a:rPr>
              <a:t>CLASSE Boolean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A classe </a:t>
            </a:r>
            <a:r>
              <a:rPr b="1" lang="pt-BR" sz="3200" spc="-1" strike="noStrike">
                <a:solidFill>
                  <a:srgbClr val="402000"/>
                </a:solidFill>
                <a:latin typeface="Times New Roman"/>
              </a:rPr>
              <a:t>Boolean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 é uma classe final que dá suporte ao tipo básico boolean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-301680" algn="just">
              <a:lnSpc>
                <a:spcPct val="10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CONSTANTES ( Boolean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FALSE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TRUE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-301680" algn="just">
              <a:lnSpc>
                <a:spcPct val="10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CONSTRUTORES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Boolean(boolean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Boolean(String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-301680" algn="just">
              <a:lnSpc>
                <a:spcPct val="10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ALGUNS MÉTODOS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static boolean getBoolean(String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static Boolean valueOf(String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86BB-8477-4447-9F5C-A9ECEEC82CC9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996633"/>
                </a:solidFill>
                <a:latin typeface="Times New Roman"/>
              </a:rPr>
              <a:t>CLASSE Character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A classe </a:t>
            </a:r>
            <a:r>
              <a:rPr b="1" lang="pt-BR" sz="3200" spc="-1" strike="noStrike">
                <a:solidFill>
                  <a:srgbClr val="402000"/>
                </a:solidFill>
                <a:latin typeface="Times New Roman"/>
              </a:rPr>
              <a:t>Character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 é uma classe final que dá suporte ao tipo básico char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 algn="just">
              <a:lnSpc>
                <a:spcPct val="100000"/>
              </a:lnSpc>
              <a:spcBef>
                <a:spcPts val="451"/>
              </a:spcBef>
              <a:buClr>
                <a:srgbClr val="ce9964"/>
              </a:buClr>
              <a:buSzPct val="9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02000"/>
                </a:solidFill>
                <a:latin typeface="Arial"/>
              </a:rPr>
              <a:t>CONSTRUTOR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402000"/>
                </a:solidFill>
                <a:latin typeface="Arial"/>
              </a:rPr>
              <a:t>Character(char)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 algn="just">
              <a:lnSpc>
                <a:spcPct val="100000"/>
              </a:lnSpc>
              <a:spcBef>
                <a:spcPts val="451"/>
              </a:spcBef>
              <a:buClr>
                <a:srgbClr val="ce9964"/>
              </a:buClr>
              <a:buSzPct val="9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02000"/>
                </a:solidFill>
                <a:latin typeface="Arial"/>
              </a:rPr>
              <a:t>ALGUNS MÉTODOS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402000"/>
                </a:solidFill>
                <a:latin typeface="Arial"/>
              </a:rPr>
              <a:t>static boolean isDigit(char)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402000"/>
                </a:solidFill>
                <a:latin typeface="Arial"/>
              </a:rPr>
              <a:t>static boolean isLowerCase(char)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402000"/>
                </a:solidFill>
                <a:latin typeface="Arial"/>
              </a:rPr>
              <a:t>static boolean isUpperCase(char)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402000"/>
                </a:solidFill>
                <a:latin typeface="Arial"/>
              </a:rPr>
              <a:t>static boolean isSpace(char)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402000"/>
                </a:solidFill>
                <a:latin typeface="Arial"/>
              </a:rPr>
              <a:t>static char toLowerCase(char)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402000"/>
                </a:solidFill>
                <a:latin typeface="Arial"/>
              </a:rPr>
              <a:t>static char toUpperCase(char)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7726-8BF6-4F87-8F3E-A0EE40404CDD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996633"/>
                </a:solidFill>
                <a:latin typeface="Times New Roman"/>
              </a:rPr>
              <a:t>CLASSES String e StringBuffer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As classes </a:t>
            </a:r>
            <a:r>
              <a:rPr b="1" lang="pt-BR" sz="3200" spc="-1" strike="noStrike">
                <a:solidFill>
                  <a:srgbClr val="402000"/>
                </a:solidFill>
                <a:latin typeface="Times New Roman"/>
              </a:rPr>
              <a:t>String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 e </a:t>
            </a:r>
            <a:r>
              <a:rPr b="1" lang="pt-BR" sz="3200" spc="-1" strike="noStrike">
                <a:solidFill>
                  <a:srgbClr val="402000"/>
                </a:solidFill>
                <a:latin typeface="Times New Roman"/>
              </a:rPr>
              <a:t>StringBuffer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 são classes finais, que têm o objetivo de manipular cadeias de caracteres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O estado interno de um objeto da classe </a:t>
            </a:r>
            <a:r>
              <a:rPr b="1" lang="pt-BR" sz="3200" spc="-1" strike="noStrike">
                <a:solidFill>
                  <a:srgbClr val="402000"/>
                </a:solidFill>
                <a:latin typeface="Times New Roman"/>
              </a:rPr>
              <a:t>String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 não pode ser alterado. O mesmo não ocorre com objetos da classe </a:t>
            </a:r>
            <a:r>
              <a:rPr b="1" lang="pt-BR" sz="3200" spc="-1" strike="noStrike">
                <a:solidFill>
                  <a:srgbClr val="402000"/>
                </a:solidFill>
                <a:latin typeface="Times New Roman"/>
              </a:rPr>
              <a:t>StringBuffer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, cujo estado interno pode alterado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36F7-79BD-4530-90A3-2335A46E302F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Tratamento do trecho crítico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402000"/>
                </a:solidFill>
                <a:latin typeface="Arial"/>
              </a:rPr>
              <a:t>class conta{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02000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402000"/>
                </a:solidFill>
                <a:latin typeface="Arial"/>
              </a:rPr>
              <a:t>public static void main(String args[]){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02000"/>
                </a:solidFill>
                <a:latin typeface="Arial"/>
              </a:rPr>
              <a:t>        </a:t>
            </a:r>
            <a:r>
              <a:rPr b="1" lang="pt-BR" sz="1800" spc="-1" strike="noStrike">
                <a:solidFill>
                  <a:srgbClr val="402000"/>
                </a:solidFill>
                <a:latin typeface="Arial"/>
              </a:rPr>
              <a:t>int den=0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02000"/>
                </a:solidFill>
                <a:latin typeface="Arial"/>
              </a:rPr>
              <a:t>        </a:t>
            </a:r>
            <a:r>
              <a:rPr b="1" lang="pt-BR" sz="1800" spc="-1" strike="noStrike">
                <a:solidFill>
                  <a:srgbClr val="402000"/>
                </a:solidFill>
                <a:latin typeface="Arial"/>
              </a:rPr>
              <a:t>int num=30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02000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402000"/>
                </a:solidFill>
                <a:latin typeface="Arial"/>
              </a:rPr>
              <a:t>try{  // Indicador do trecho crítico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02000"/>
                </a:solidFill>
                <a:latin typeface="Arial"/>
              </a:rPr>
              <a:t>              </a:t>
            </a:r>
            <a:r>
              <a:rPr b="1" lang="pt-BR" sz="1800" spc="-1" strike="noStrike">
                <a:solidFill>
                  <a:srgbClr val="402000"/>
                </a:solidFill>
                <a:latin typeface="Arial"/>
              </a:rPr>
              <a:t>int res=num/den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402000"/>
                </a:solidFill>
                <a:latin typeface="Arial"/>
              </a:rPr>
              <a:t>  </a:t>
            </a:r>
            <a:r>
              <a:rPr b="1" lang="pt-BR" sz="18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402000"/>
                </a:solidFill>
                <a:latin typeface="Arial"/>
              </a:rPr>
              <a:t>  </a:t>
            </a:r>
            <a:r>
              <a:rPr b="1" lang="pt-BR" sz="1800" spc="-1" strike="noStrike">
                <a:solidFill>
                  <a:srgbClr val="402000"/>
                </a:solidFill>
                <a:latin typeface="Arial"/>
              </a:rPr>
              <a:t>catch(ArithmeticException e) { // Recuperação da exceção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02000"/>
                </a:solidFill>
                <a:latin typeface="Arial"/>
              </a:rPr>
              <a:t>           </a:t>
            </a:r>
            <a:r>
              <a:rPr b="1" lang="pt-BR" sz="1800" spc="-1" strike="noStrike">
                <a:solidFill>
                  <a:srgbClr val="402000"/>
                </a:solidFill>
                <a:latin typeface="Arial"/>
              </a:rPr>
              <a:t>System.out.println(“Dividiu por zero!”)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02000"/>
                </a:solidFill>
                <a:latin typeface="Arial"/>
              </a:rPr>
              <a:t>            </a:t>
            </a:r>
            <a:r>
              <a:rPr b="1" lang="pt-BR" sz="1800" spc="-1" strike="noStrike">
                <a:solidFill>
                  <a:srgbClr val="402000"/>
                </a:solidFill>
                <a:latin typeface="Arial"/>
              </a:rPr>
              <a:t>den=1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02000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02000"/>
                </a:solidFill>
                <a:latin typeface="Arial"/>
              </a:rPr>
              <a:t>      </a:t>
            </a:r>
            <a:r>
              <a:rPr b="1" lang="pt-BR" sz="1800" spc="-1" strike="noStrike">
                <a:solidFill>
                  <a:srgbClr val="402000"/>
                </a:solidFill>
                <a:latin typeface="Arial"/>
              </a:rPr>
              <a:t>... // Continuação do program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02000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753D-56C3-4CCF-99F8-3F50C60ABF2B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996633"/>
                </a:solidFill>
                <a:latin typeface="Times New Roman"/>
              </a:rPr>
              <a:t>CLASSE String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Pode-se inicializar um objeto </a:t>
            </a:r>
            <a:r>
              <a:rPr b="1" lang="pt-BR" sz="3200" spc="-1" strike="noStrike">
                <a:solidFill>
                  <a:srgbClr val="402000"/>
                </a:solidFill>
                <a:latin typeface="Times New Roman"/>
              </a:rPr>
              <a:t>String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 com uma sequência de caracteres entre aspas ou utilizando seus construtores.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Estas seqüências podem ser concatenadas ( com +) , para produzir novas instâncias da classe </a:t>
            </a:r>
            <a:r>
              <a:rPr b="1" lang="pt-BR" sz="3200" spc="-1" strike="noStrike">
                <a:solidFill>
                  <a:srgbClr val="402000"/>
                </a:solidFill>
                <a:latin typeface="Times New Roman"/>
              </a:rPr>
              <a:t>String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0475-FDB3-461E-B9B9-DBE4D128A784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996633"/>
                </a:solidFill>
                <a:latin typeface="Times New Roman"/>
              </a:rPr>
              <a:t>Construtores da classe String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String()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Construtor-padrão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String(String)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Construtor com outra String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String(char [])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Construtor com vetor de caracteres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String(char [],int pos,int q)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Construtor com parte de um vetor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throws 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StringIndexOutOfBoundsException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String(StringBuffer)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Construtor com StringBuffer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String(byte[],int hibyte)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Construtor com vetor de códigos </a:t>
            </a: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UNICODE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String(byte[], int hibyte,int pos,int q)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Construtor com parte de um vetor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throws 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StringIndexOutOfBoundsException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8DD2-8884-482D-BAD5-27BD3F977712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Times New Roman"/>
              </a:rPr>
              <a:t>Alguns métodos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String toLowerCase();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Conversão para minúsculas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String toUpperCase();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Conversão para maiúsculas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String concat(String);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Concatenação entre objetos String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String replace(char a,char n);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Substitui a por n e devolve String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String substring(int inicio);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Devolve substring a partir de início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String substring(int inicio,int fim)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Substring entre inicio e fim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throws StringIndexOutOfBoundsException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char[] toCharArray()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Converte String para um array de char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char charAt(int pos)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Caracter na posição pos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boolean endsWith(String)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Verificação de sufixos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boolean equals(Object)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Verifica igualdade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boolean equalsIgnoreCase(String)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Verifica igualdade ignorando maiúsculas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boolean startsWith(String)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Verificação de sufixos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int compareTo(String)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0 = iguais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&lt; 0 Objeto menor que o parâmetro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&gt; 1 Objeto maior que o parâmetro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BD8D-3ADA-4507-B76B-E692E413B6F8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996633"/>
                </a:solidFill>
                <a:latin typeface="Times New Roman"/>
              </a:rPr>
              <a:t>CLASSE StringBuffer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8000"/>
          </a:bodyPr>
          <a:p>
            <a:pPr marL="1987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A classe </a:t>
            </a:r>
            <a:r>
              <a:rPr b="1" lang="pt-BR" sz="3200" spc="-1" strike="noStrike">
                <a:solidFill>
                  <a:srgbClr val="402000"/>
                </a:solidFill>
                <a:latin typeface="Times New Roman"/>
              </a:rPr>
              <a:t>StringBuffer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 funciona como se fosse uma classe auxiliar da classe String. É sempre utilizada em operações da classe </a:t>
            </a:r>
            <a:r>
              <a:rPr b="1" lang="pt-BR" sz="3200" spc="-1" strike="noStrike">
                <a:solidFill>
                  <a:srgbClr val="402000"/>
                </a:solidFill>
                <a:latin typeface="Times New Roman"/>
              </a:rPr>
              <a:t>String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 que envolvam alterações de conteúdo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1987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Os construtores da classe </a:t>
            </a:r>
            <a:r>
              <a:rPr b="1" lang="pt-BR" sz="3200" spc="-1" strike="noStrike">
                <a:solidFill>
                  <a:srgbClr val="402000"/>
                </a:solidFill>
                <a:latin typeface="Times New Roman"/>
              </a:rPr>
              <a:t>StringBuffer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 reservam o tamanho fornecido pelo parâmetro de contrução, mais o espaço de 16 caracteres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91C3-8697-4391-B1EF-172AF3A44355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996633"/>
                </a:solidFill>
                <a:latin typeface="Times New Roman"/>
              </a:rPr>
              <a:t>Construtores da classe StringBuffer</a:t>
            </a:r>
            <a:endParaRPr b="0" lang="en-US" sz="3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StringBuffer()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Construtor-padrão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StringBuffer(int tam)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Construtor com valor do tamanho tam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StringBuffer(String)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Construtor com String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Exemplos: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StringBuffer b1=new StringBuffer();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StringBuffer b2=new StringBuffer(10);   // StringBuffer de tamanho 10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StringBuffer b3=new StringBuffer(“Java”); // StringBuffer de tamanho 4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EE3E-4CFA-489B-989F-D94A2B1DB013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996633"/>
                </a:solidFill>
                <a:latin typeface="Times New Roman"/>
              </a:rPr>
              <a:t>Alguns métodos da classe StringBuffer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void append(parâmetro)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concatenação no final ( Object,String,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char[], boolean, char, int, float e double)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void append(char[],int inic,int tam)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concatenação de parte de um vetor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void insert(int inic,parâmetro)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insere parametro em inic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throws StringIndexOutOfBoundsException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char charAt(int pos)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caracter na posição pos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char setCharAt(int pos,char c)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coloca caracter c na posição pos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throws StringIndexOutOfBoundsException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String toString()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devolve String correspondente ao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StringBuffer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B2BD-D4E7-4260-8E59-FBF901E22D52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996633"/>
                </a:solidFill>
                <a:latin typeface="Times New Roman"/>
              </a:rPr>
              <a:t>Capacidade e tamanho de um StringBuffer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apacidade é a quantidade máxima de armazenamento e tamanho é a quantidade contínua de posições ocupadas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225440" y="4349880"/>
            <a:ext cx="6845400" cy="36828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225440" y="4349880"/>
            <a:ext cx="444600" cy="368280"/>
          </a:xfrm>
          <a:prstGeom prst="rect">
            <a:avLst/>
          </a:prstGeom>
          <a:solidFill>
            <a:srgbClr val="ce9964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682640" y="4349880"/>
            <a:ext cx="444600" cy="368280"/>
          </a:xfrm>
          <a:prstGeom prst="rect">
            <a:avLst/>
          </a:prstGeom>
          <a:solidFill>
            <a:srgbClr val="ce9964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139840" y="4349880"/>
            <a:ext cx="444600" cy="368280"/>
          </a:xfrm>
          <a:prstGeom prst="rect">
            <a:avLst/>
          </a:prstGeom>
          <a:solidFill>
            <a:srgbClr val="ce9964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597040" y="4349880"/>
            <a:ext cx="444600" cy="368280"/>
          </a:xfrm>
          <a:prstGeom prst="rect">
            <a:avLst/>
          </a:prstGeom>
          <a:solidFill>
            <a:srgbClr val="ce9964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54240" y="4349880"/>
            <a:ext cx="444600" cy="368280"/>
          </a:xfrm>
          <a:prstGeom prst="rect">
            <a:avLst/>
          </a:prstGeom>
          <a:solidFill>
            <a:srgbClr val="ce9964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511440" y="4349880"/>
            <a:ext cx="444600" cy="36828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968640" y="4349880"/>
            <a:ext cx="444600" cy="36828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425840" y="4349880"/>
            <a:ext cx="444600" cy="36828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883040" y="4349880"/>
            <a:ext cx="444600" cy="36828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340240" y="4349880"/>
            <a:ext cx="444600" cy="36828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797440" y="4349880"/>
            <a:ext cx="444600" cy="36828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254640" y="4349880"/>
            <a:ext cx="444600" cy="36828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711840" y="4349880"/>
            <a:ext cx="444600" cy="36828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169040" y="4349880"/>
            <a:ext cx="444600" cy="36828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626240" y="4349880"/>
            <a:ext cx="444600" cy="36828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278720" y="4321080"/>
            <a:ext cx="2167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2000"/>
                </a:solidFill>
                <a:latin typeface="Arial"/>
              </a:rPr>
              <a:t>C    U</a:t>
            </a:r>
            <a:r>
              <a:rPr b="1" lang="en-US" sz="18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402000"/>
                </a:solidFill>
                <a:latin typeface="Arial"/>
              </a:rPr>
              <a:t>R    S     O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269720" y="3917880"/>
            <a:ext cx="6731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Arial"/>
              </a:rPr>
              <a:t>0     1    2     3    4    5     6    7     8    9   11   12  13  14   15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231920" y="4952880"/>
            <a:ext cx="2260440" cy="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430640" y="5014800"/>
            <a:ext cx="2825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02000"/>
                </a:solidFill>
                <a:latin typeface="Arial"/>
              </a:rPr>
              <a:t>tamanho ( length 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231920" y="5562720"/>
            <a:ext cx="6832440" cy="0"/>
          </a:xfrm>
          <a:prstGeom prst="line">
            <a:avLst/>
          </a:prstGeom>
          <a:ln w="25560">
            <a:solidFill>
              <a:srgbClr val="402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271240" y="5548320"/>
            <a:ext cx="3519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02000"/>
                </a:solidFill>
                <a:latin typeface="Arial"/>
              </a:rPr>
              <a:t>capacidade ( capacity 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7B33-0C12-4ACC-9BA9-7307131EC701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996633"/>
                </a:solidFill>
                <a:latin typeface="Times New Roman"/>
              </a:rPr>
              <a:t>Métodos que trabalham com capacidade e tamanho</a:t>
            </a:r>
            <a:endParaRPr b="0" lang="en-US" sz="3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int capacity()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devolve capacidade do StringBuffer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int length()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devolve tamanho do StringBuffer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void ensureCapacity(int cap)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altera capacidade do StringBuffer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void setLength(int tam)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altera tamanho do StringBuffer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throws StringIndexOutOfBoundsException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ATENÇÃO: a alteração de capacidade e tamanho, para valores menores que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a quantidade de caracteres do StringBuffer, ocasiona perda de carateres.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035000" y="3587760"/>
            <a:ext cx="7531200" cy="90180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C562-F977-46F3-AFDF-E8F9D1A87310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996633"/>
                </a:solidFill>
                <a:latin typeface="Times New Roman"/>
              </a:rPr>
              <a:t>Estrutura básica do pacote </a:t>
            </a:r>
            <a:r>
              <a:rPr b="1" lang="pt-BR" sz="4400" spc="-1" strike="noStrike">
                <a:solidFill>
                  <a:srgbClr val="996633"/>
                </a:solidFill>
                <a:latin typeface="Times New Roman"/>
              </a:rPr>
              <a:t>java.util </a:t>
            </a:r>
            <a:r>
              <a:rPr b="0" lang="pt-BR" sz="4400" spc="-1" strike="noStrike">
                <a:solidFill>
                  <a:srgbClr val="996633"/>
                </a:solidFill>
                <a:latin typeface="Times New Roman"/>
              </a:rPr>
              <a:t>(I)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192280" y="1681200"/>
            <a:ext cx="621720" cy="27144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BitSet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115240" y="2098800"/>
            <a:ext cx="512280" cy="27144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2000"/>
                </a:solidFill>
                <a:latin typeface="Arial"/>
              </a:rPr>
              <a:t>Date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660320" y="4079880"/>
            <a:ext cx="836640" cy="45396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Object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402000"/>
                </a:solidFill>
                <a:latin typeface="Arial"/>
              </a:rPr>
              <a:t>java.lang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419720" y="1835280"/>
            <a:ext cx="0" cy="440676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521080" y="4267080"/>
            <a:ext cx="189216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425840" y="1828800"/>
            <a:ext cx="74952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425840" y="2666880"/>
            <a:ext cx="67320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737360" y="2486160"/>
            <a:ext cx="928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Croneable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j</a:t>
            </a:r>
            <a:r>
              <a:rPr b="1" i="1" lang="pt-BR" sz="1200" spc="-1" strike="noStrike">
                <a:solidFill>
                  <a:srgbClr val="402000"/>
                </a:solidFill>
                <a:latin typeface="Arial"/>
              </a:rPr>
              <a:t>ava.lang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682640" y="2444760"/>
            <a:ext cx="978120" cy="59688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128240" y="4543560"/>
            <a:ext cx="859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402000"/>
                </a:solidFill>
                <a:latin typeface="Arial"/>
              </a:rPr>
              <a:t>Legenda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224000" y="4842000"/>
            <a:ext cx="574560" cy="27144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225440" y="5645160"/>
            <a:ext cx="596880" cy="2919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225440" y="6095880"/>
            <a:ext cx="59688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225440" y="6477120"/>
            <a:ext cx="596880" cy="0"/>
          </a:xfrm>
          <a:prstGeom prst="line">
            <a:avLst/>
          </a:prstGeom>
          <a:ln w="12600">
            <a:solidFill>
              <a:srgbClr val="402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224000" y="5222880"/>
            <a:ext cx="574560" cy="271440"/>
          </a:xfrm>
          <a:prstGeom prst="rect">
            <a:avLst/>
          </a:prstGeom>
          <a:solidFill>
            <a:srgbClr val="dadada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66320" y="4848120"/>
            <a:ext cx="1679400" cy="17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CLASSE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CLASSE ABSTRATA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INTERFACE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extend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implement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115240" y="2556000"/>
            <a:ext cx="928080" cy="271440"/>
          </a:xfrm>
          <a:prstGeom prst="rect">
            <a:avLst/>
          </a:prstGeom>
          <a:solidFill>
            <a:srgbClr val="dadada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Dictionary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114160" y="3063960"/>
            <a:ext cx="1344240" cy="45396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HashTableEntry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402000"/>
                </a:solidFill>
                <a:latin typeface="Arial"/>
              </a:rPr>
              <a:t>Local ao pacote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115240" y="3749760"/>
            <a:ext cx="1810440" cy="45396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HashTableEnumerator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402000"/>
                </a:solidFill>
                <a:latin typeface="Arial"/>
              </a:rPr>
              <a:t>Local ao pacote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115240" y="4435560"/>
            <a:ext cx="1513440" cy="45396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VectorEnumerator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402000"/>
                </a:solidFill>
                <a:latin typeface="Arial"/>
              </a:rPr>
              <a:t>Local ao pacote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113800" y="5070600"/>
            <a:ext cx="1015200" cy="27144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Observable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116320" y="5527800"/>
            <a:ext cx="790920" cy="27144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Random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115600" y="6137280"/>
            <a:ext cx="1335240" cy="27144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StringTokenizer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425840" y="3352680"/>
            <a:ext cx="67320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425840" y="3886200"/>
            <a:ext cx="67320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425840" y="4648320"/>
            <a:ext cx="67320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425840" y="5181480"/>
            <a:ext cx="67320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425840" y="6248520"/>
            <a:ext cx="67320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425840" y="5638680"/>
            <a:ext cx="67320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425840" y="2209680"/>
            <a:ext cx="67320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486480" y="2556000"/>
            <a:ext cx="954000" cy="27144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HashTable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705440" y="2556000"/>
            <a:ext cx="937440" cy="27144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102360" y="2666880"/>
            <a:ext cx="36828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473960" y="2666880"/>
            <a:ext cx="21600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347200" y="3400560"/>
            <a:ext cx="1114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Enumerat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292480" y="3359160"/>
            <a:ext cx="1206360" cy="2919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673360" y="2743200"/>
            <a:ext cx="1511280" cy="0"/>
          </a:xfrm>
          <a:prstGeom prst="line">
            <a:avLst/>
          </a:prstGeom>
          <a:ln w="12600">
            <a:solidFill>
              <a:srgbClr val="402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962520" y="3511440"/>
            <a:ext cx="0" cy="2882880"/>
          </a:xfrm>
          <a:prstGeom prst="line">
            <a:avLst/>
          </a:prstGeom>
          <a:ln w="12600">
            <a:solidFill>
              <a:srgbClr val="402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968640" y="4038480"/>
            <a:ext cx="1130400" cy="0"/>
          </a:xfrm>
          <a:prstGeom prst="line">
            <a:avLst/>
          </a:prstGeom>
          <a:ln w="12600">
            <a:solidFill>
              <a:srgbClr val="402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968640" y="4800600"/>
            <a:ext cx="1130400" cy="0"/>
          </a:xfrm>
          <a:prstGeom prst="line">
            <a:avLst/>
          </a:prstGeom>
          <a:ln w="12600">
            <a:solidFill>
              <a:srgbClr val="402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968640" y="6400800"/>
            <a:ext cx="1130400" cy="0"/>
          </a:xfrm>
          <a:prstGeom prst="line">
            <a:avLst/>
          </a:prstGeom>
          <a:ln w="12600">
            <a:solidFill>
              <a:srgbClr val="402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511440" y="3505320"/>
            <a:ext cx="444600" cy="0"/>
          </a:xfrm>
          <a:prstGeom prst="line">
            <a:avLst/>
          </a:prstGeom>
          <a:ln w="12600">
            <a:solidFill>
              <a:srgbClr val="402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191120" y="1911240"/>
            <a:ext cx="0" cy="978120"/>
          </a:xfrm>
          <a:prstGeom prst="line">
            <a:avLst/>
          </a:prstGeom>
          <a:ln w="12600">
            <a:solidFill>
              <a:srgbClr val="402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197240" y="1905120"/>
            <a:ext cx="901800" cy="0"/>
          </a:xfrm>
          <a:prstGeom prst="line">
            <a:avLst/>
          </a:prstGeom>
          <a:ln w="12600">
            <a:solidFill>
              <a:srgbClr val="402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197240" y="2895480"/>
            <a:ext cx="2197080" cy="0"/>
          </a:xfrm>
          <a:prstGeom prst="line">
            <a:avLst/>
          </a:prstGeom>
          <a:ln w="12600">
            <a:solidFill>
              <a:srgbClr val="402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6400800" y="2812680"/>
            <a:ext cx="0" cy="88920"/>
          </a:xfrm>
          <a:prstGeom prst="line">
            <a:avLst/>
          </a:prstGeom>
          <a:ln w="12600">
            <a:solidFill>
              <a:srgbClr val="402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407280" y="2819520"/>
            <a:ext cx="63360" cy="0"/>
          </a:xfrm>
          <a:prstGeom prst="line">
            <a:avLst/>
          </a:prstGeom>
          <a:ln w="12600">
            <a:solidFill>
              <a:srgbClr val="402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116440" y="1876320"/>
            <a:ext cx="853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Observer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911240" y="1835280"/>
            <a:ext cx="1206720" cy="2919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B345-6021-4A40-996B-F217EB93DC40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996633"/>
                </a:solidFill>
                <a:latin typeface="Times New Roman"/>
              </a:rPr>
              <a:t>Estrutura básica do pacote </a:t>
            </a:r>
            <a:r>
              <a:rPr b="1" lang="pt-BR" sz="4400" spc="-1" strike="noStrike">
                <a:solidFill>
                  <a:srgbClr val="996633"/>
                </a:solidFill>
                <a:latin typeface="Times New Roman"/>
              </a:rPr>
              <a:t>java.util </a:t>
            </a:r>
            <a:r>
              <a:rPr b="0" lang="pt-BR" sz="4400" spc="-1" strike="noStrike">
                <a:solidFill>
                  <a:srgbClr val="996633"/>
                </a:solidFill>
                <a:latin typeface="Times New Roman"/>
              </a:rPr>
              <a:t>(II)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660320" y="3394080"/>
            <a:ext cx="836640" cy="45396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Object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402000"/>
                </a:solidFill>
                <a:latin typeface="Arial"/>
              </a:rPr>
              <a:t>java.lang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419720" y="2673360"/>
            <a:ext cx="0" cy="135900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521080" y="3657600"/>
            <a:ext cx="189216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425840" y="2666880"/>
            <a:ext cx="67320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737360" y="2486160"/>
            <a:ext cx="928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Croneable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j</a:t>
            </a:r>
            <a:r>
              <a:rPr b="1" i="1" lang="pt-BR" sz="1200" spc="-1" strike="noStrike">
                <a:solidFill>
                  <a:srgbClr val="402000"/>
                </a:solidFill>
                <a:latin typeface="Arial"/>
              </a:rPr>
              <a:t>ava.lang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682640" y="2444760"/>
            <a:ext cx="978120" cy="59688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128240" y="4543560"/>
            <a:ext cx="859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402000"/>
                </a:solidFill>
                <a:latin typeface="Arial"/>
              </a:rPr>
              <a:t>Legenda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224000" y="4842000"/>
            <a:ext cx="574560" cy="27144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225440" y="5645160"/>
            <a:ext cx="596880" cy="2919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225440" y="6095880"/>
            <a:ext cx="59688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225440" y="6477120"/>
            <a:ext cx="596880" cy="0"/>
          </a:xfrm>
          <a:prstGeom prst="line">
            <a:avLst/>
          </a:prstGeom>
          <a:ln w="12600">
            <a:solidFill>
              <a:srgbClr val="402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224000" y="5222880"/>
            <a:ext cx="574560" cy="271440"/>
          </a:xfrm>
          <a:prstGeom prst="rect">
            <a:avLst/>
          </a:prstGeom>
          <a:solidFill>
            <a:srgbClr val="dadada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966320" y="4848120"/>
            <a:ext cx="1679400" cy="17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CLASSE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CLASSE ABSTRATA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INTERFACE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extend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implement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114880" y="2556000"/>
            <a:ext cx="657000" cy="27144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2000"/>
                </a:solidFill>
                <a:latin typeface="Arial"/>
              </a:rPr>
              <a:t>Vector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425840" y="4038480"/>
            <a:ext cx="67320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673360" y="2743200"/>
            <a:ext cx="2425680" cy="0"/>
          </a:xfrm>
          <a:prstGeom prst="line">
            <a:avLst/>
          </a:prstGeom>
          <a:ln w="12600">
            <a:solidFill>
              <a:srgbClr val="402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608520" y="2174760"/>
            <a:ext cx="1336680" cy="45396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ObserverList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402000"/>
                </a:solidFill>
                <a:latin typeface="Arial"/>
              </a:rPr>
              <a:t>Local ao pacote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638400" y="3052800"/>
            <a:ext cx="590040" cy="27144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Stack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248520" y="2444760"/>
            <a:ext cx="0" cy="74916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254640" y="2438280"/>
            <a:ext cx="29232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254640" y="3200400"/>
            <a:ext cx="36828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797440" y="2666880"/>
            <a:ext cx="44460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116320" y="3851280"/>
            <a:ext cx="945000" cy="45396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Throwable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402000"/>
                </a:solidFill>
                <a:latin typeface="Arial"/>
              </a:rPr>
              <a:t>java.lang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113440" y="4537080"/>
            <a:ext cx="1685520" cy="45396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Except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402000"/>
                </a:solidFill>
                <a:latin typeface="Arial"/>
              </a:rPr>
              <a:t>java.lang-exception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113440" y="5299200"/>
            <a:ext cx="1685520" cy="45396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RuntimeExcept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402000"/>
                </a:solidFill>
                <a:latin typeface="Arial"/>
              </a:rPr>
              <a:t>java.lang-exception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893760" y="6137280"/>
            <a:ext cx="1786320" cy="27144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EmptyStackExcept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181200" y="6137280"/>
            <a:ext cx="2081880" cy="27144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NoSuchElementExcept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638680" y="4349880"/>
            <a:ext cx="0" cy="13968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638680" y="5035680"/>
            <a:ext cx="0" cy="29196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502160" y="6019920"/>
            <a:ext cx="303516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495680" y="6026040"/>
            <a:ext cx="0" cy="6372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543800" y="6026040"/>
            <a:ext cx="0" cy="6372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638680" y="5797440"/>
            <a:ext cx="0" cy="21600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0F34-9EC6-4280-87D5-96A6BCFB8737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Trechos críticos com vários tratamentos de exceçõ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 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class conta{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    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public static void main(String args[]){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        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int den,num;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  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int c[]={1};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       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...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       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try{  // Indicador do trecho crítico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              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int res=num/den;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       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c[999]=res;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  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  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catch(ArithmeticException e) { // Recuperação da exceção aritmética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           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System.out.println(“Dividiu por zero!”);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            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den=1;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         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  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catch(ArrayIndexOutOfBoundsException e){ // Recuperação da exceção de estouro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            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System.out.println(“Estourou o índice”);     //      de índice do vetor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  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      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... // Continuação do programa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    </a:t>
            </a: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9CE9-CF2E-4FD8-B084-766BC2E404AB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996633"/>
                </a:solidFill>
                <a:latin typeface="Times New Roman"/>
              </a:rPr>
              <a:t>CLASSE Stack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Classe derivada de Vector, que representa pilhas genéricas de Objects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Construtor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Stack()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Métodos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boolean empty()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verifica se pilha está vazia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int search(Object el)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verifica se el está na pilha, retornando a posição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void push(Object el)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empilha elemento el na pilha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Object pop()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desemepilha elemento da pilha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throws EmptyStackException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Object peek()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devolve elemento do topo da pilha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throws EmptyStackException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0DC6-0933-4AE2-A75A-D1F28506D5AD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1" lang="pt-BR" sz="4400" spc="-1" strike="noStrike">
                <a:solidFill>
                  <a:srgbClr val="996633"/>
                </a:solidFill>
                <a:latin typeface="Times New Roman"/>
              </a:rPr>
              <a:t>Exemplo da classe Stack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import java.util.Stack;   // Importa definição da classe Stack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class exemplo_pilha{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public static void main(String args[]){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Stack pilha=new Stack();     // Instancia pilha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int el1;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String el2;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pilha.push(new Integer(1));          // Empilha referência de um objeto Integer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pilha.push(new String(“Java”));  // Empilha referência de um objeto Strin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try{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     </a:t>
            </a: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el2=(String) pilha.pop();     // Desempilha Strin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     </a:t>
            </a: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el1=((Integer) pilha.pop()).intValue();  // Desempilha valor do inteiro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catch(EmptyStackException e){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     </a:t>
            </a: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System.out.println(e);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7A35-C7D0-4FC0-935B-DE06E50A9F08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Classe Dat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Classe que representa datas e horários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Construtores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Date()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Construtor-padrão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Date(long)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Construtor com data no formato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long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Date(ano,mes,dia)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Date(ano,mes,dia,hora,minuto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Date(ano,mes,dia,hora,minuto,segundos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Date(String)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Data e hora no formato String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9461-BA24-49A2-B357-DCFADC7F1CCF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33"/>
                </a:solidFill>
                <a:latin typeface="Times New Roman"/>
              </a:rPr>
              <a:t>Alguns métodos da classe Date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void setDate(int)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altera data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void setDay(int)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altera dia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void setHours(int)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altera hora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void setMinutes(int)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altera minutos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void setSeconds(int)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altera segundos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void setMonth(int)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altera mês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void setYear(int)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altera ano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void setTime(long)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altera tempo no formato long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int getDate()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recupera data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int getDay()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recupera dia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int getHours()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recupera hora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int getMinutes()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recupera minutos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int getSeconds()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recupera segundos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int getMonth()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recupera mês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int getYear()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recupera ano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long getTime()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recuperar tempo no formato long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String toString()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converte data e horario para String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7082-CE07-4803-935C-A782BB2D9FF1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996633"/>
                </a:solidFill>
                <a:latin typeface="Times New Roman"/>
              </a:rPr>
              <a:t>Classe Random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Classe que representa seqüências aleatórias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Construtores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Random()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construtor-padrão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Random(long semente)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construtor com padrão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Métodos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double nextDouble()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próximo double aleatório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float nextFloat()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próximo float aleatório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int nextInt()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próximo int aleatório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long nextLong()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próximo long aleatório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double nextGaussian()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próximo long com distribuição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de Gauss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void setSeed(long sem)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altera semente na geração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272E-8DFC-45E9-81FC-E6F5BD7E2F05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996633"/>
                </a:solidFill>
                <a:latin typeface="Times New Roman"/>
              </a:rPr>
              <a:t>Exemplo da classe Random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...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Date semente=new Date();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Random aleatorio=new Random(semente.getTime());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int N=aleatorio.nextInt();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for(int i=0;i&lt;=N;i++){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System.out.println((aleatorio.nextFloat()*aleatorio.nextInt()));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aleatorio.setSeed(aleatorio.nextLong());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...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6DC4-4455-45C9-B936-94AB12E3E13B}" type="slidenum">
              <a:t>75</a:t>
            </a:fld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402000"/>
                </a:solidFill>
                <a:latin typeface="Times New Roman"/>
              </a:rPr>
              <a:t>Manipulação do java.awt </a:t>
            </a:r>
            <a:r>
              <a:rPr b="0" i="1" lang="pt-BR" sz="4400" spc="-1" strike="noStrike">
                <a:solidFill>
                  <a:srgbClr val="402000"/>
                </a:solidFill>
                <a:latin typeface="Times New Roman"/>
              </a:rPr>
              <a:t>  Handler</a:t>
            </a:r>
            <a:r>
              <a:rPr b="0" lang="pt-BR" sz="4400" spc="-1" strike="noStrike">
                <a:solidFill>
                  <a:srgbClr val="402000"/>
                </a:solidFill>
                <a:latin typeface="Times New Roman"/>
              </a:rPr>
              <a:t> gráfico </a:t>
            </a:r>
            <a:r>
              <a:rPr b="1" lang="pt-BR" sz="4400" spc="-1" strike="noStrike">
                <a:solidFill>
                  <a:srgbClr val="402000"/>
                </a:solidFill>
                <a:latin typeface="Times New Roman"/>
              </a:rPr>
              <a:t>Graphic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02000"/>
                </a:solidFill>
                <a:latin typeface="Times New Roman"/>
              </a:rPr>
              <a:t>Em qualquer sistema de desenho, são necessários manipuladores(</a:t>
            </a:r>
            <a:r>
              <a:rPr b="0" i="1" lang="pt-BR" sz="3000" spc="-1" strike="noStrike">
                <a:solidFill>
                  <a:srgbClr val="402000"/>
                </a:solidFill>
                <a:latin typeface="Times New Roman"/>
              </a:rPr>
              <a:t>handlers</a:t>
            </a:r>
            <a:r>
              <a:rPr b="0" lang="pt-BR" sz="3000" spc="-1" strike="noStrike">
                <a:solidFill>
                  <a:srgbClr val="402000"/>
                </a:solidFill>
                <a:latin typeface="Times New Roman"/>
              </a:rPr>
              <a:t>)  gráficos para efetuar operações primitivas, tais como exibir imagens, desenhar primitivas gráficas, alterar atributos de desenho.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02000"/>
                </a:solidFill>
                <a:latin typeface="Times New Roman"/>
              </a:rPr>
              <a:t>O manipulador gráfico do Java é definido pela classe abstrata </a:t>
            </a:r>
            <a:r>
              <a:rPr b="1" lang="pt-BR" sz="3000" spc="-1" strike="noStrike">
                <a:solidFill>
                  <a:srgbClr val="402000"/>
                </a:solidFill>
                <a:latin typeface="Times New Roman"/>
              </a:rPr>
              <a:t>Graphics</a:t>
            </a:r>
            <a:r>
              <a:rPr b="0" lang="pt-BR" sz="3000" spc="-1" strike="noStrike">
                <a:solidFill>
                  <a:srgbClr val="402000"/>
                </a:solidFill>
                <a:latin typeface="Times New Roman"/>
              </a:rPr>
              <a:t>. Cada componente ou container tem sua própria implementação dos métodos de manipulação gráfica.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A1C6-677E-468E-A973-4CFE842A924D}" type="slidenum">
              <a:t>76</a:t>
            </a:fld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402000"/>
                </a:solidFill>
                <a:latin typeface="Times New Roman"/>
              </a:rPr>
              <a:t>Métodos paint, repaint e updat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2000"/>
                </a:solidFill>
                <a:latin typeface="Times New Roman"/>
              </a:rPr>
              <a:t>Sempre que um elemento visível aparece na tela ou precisa ser redesenhado, são utilizados os seguintes métodos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08520" indent="-308520" algn="just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402000"/>
                </a:solidFill>
                <a:latin typeface="Times New Roman"/>
              </a:rPr>
              <a:t>public void paint(Graphics g)</a:t>
            </a:r>
            <a:r>
              <a:rPr b="0" lang="pt-BR" sz="2800" spc="-1" strike="noStrike">
                <a:solidFill>
                  <a:srgbClr val="402000"/>
                </a:solidFill>
                <a:latin typeface="Times New Roman"/>
              </a:rPr>
              <a:t>: responsável pelo desenho na área gráfica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08520" indent="-308520" algn="just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402000"/>
                </a:solidFill>
                <a:latin typeface="Times New Roman"/>
              </a:rPr>
              <a:t>public void repaint()</a:t>
            </a:r>
            <a:r>
              <a:rPr b="0" lang="pt-BR" sz="2800" spc="-1" strike="noStrike">
                <a:solidFill>
                  <a:srgbClr val="402000"/>
                </a:solidFill>
                <a:latin typeface="Times New Roman"/>
              </a:rPr>
              <a:t>: pode ser chamado toda vez que a área gráfica precisar ser redesenhada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08520" indent="-308520" algn="just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402000"/>
                </a:solidFill>
                <a:latin typeface="Times New Roman"/>
              </a:rPr>
              <a:t>public void update(Graphics g)</a:t>
            </a:r>
            <a:r>
              <a:rPr b="0" lang="pt-BR" sz="2800" spc="-1" strike="noStrike">
                <a:solidFill>
                  <a:srgbClr val="402000"/>
                </a:solidFill>
                <a:latin typeface="Times New Roman"/>
              </a:rPr>
              <a:t>: é chamado por repaint para sinalizar que a área gráfica precisa ser atualizada. Limpa a área gráfica e chama paint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52A6-8CEA-450F-B713-1A0D761832BC}" type="slidenum">
              <a:t>77</a:t>
            </a:fld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Times New Roman"/>
              </a:rPr>
              <a:t>Sistema de coordenadas do AWT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063880" y="2216160"/>
            <a:ext cx="5549760" cy="372096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959920" y="3871800"/>
            <a:ext cx="2514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ÁREA GRÁFIC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801440" y="1738440"/>
            <a:ext cx="2804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(0,0)                     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509840" y="3948120"/>
            <a:ext cx="38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597040" y="1981080"/>
            <a:ext cx="105408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676520" y="2216160"/>
            <a:ext cx="0" cy="151128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063880" y="3505320"/>
            <a:ext cx="3797280" cy="0"/>
          </a:xfrm>
          <a:prstGeom prst="line">
            <a:avLst/>
          </a:prstGeom>
          <a:ln w="12600">
            <a:solidFill>
              <a:srgbClr val="402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5867280" y="2203200"/>
            <a:ext cx="0" cy="1307880"/>
          </a:xfrm>
          <a:prstGeom prst="line">
            <a:avLst/>
          </a:prstGeom>
          <a:ln w="12600">
            <a:solidFill>
              <a:srgbClr val="402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928840" y="3414600"/>
            <a:ext cx="809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(x,y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797440" y="3435480"/>
            <a:ext cx="139680" cy="139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86BA-777C-4702-B693-FC705196ED14}" type="slidenum">
              <a:t>78</a:t>
            </a:fld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2000"/>
                </a:solidFill>
                <a:latin typeface="Times New Roman"/>
              </a:rPr>
              <a:t>Primitivas gráfica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2000"/>
                </a:solidFill>
                <a:latin typeface="Times New Roman"/>
              </a:rPr>
              <a:t>O </a:t>
            </a:r>
            <a:r>
              <a:rPr b="0" i="1" lang="pt-BR" sz="2800" spc="-1" strike="noStrike">
                <a:solidFill>
                  <a:srgbClr val="402000"/>
                </a:solidFill>
                <a:latin typeface="Times New Roman"/>
              </a:rPr>
              <a:t>handler</a:t>
            </a:r>
            <a:r>
              <a:rPr b="0" lang="pt-BR" sz="2800" spc="-1" strike="noStrike">
                <a:solidFill>
                  <a:srgbClr val="402000"/>
                </a:solidFill>
                <a:latin typeface="Times New Roman"/>
              </a:rPr>
              <a:t> gráfico </a:t>
            </a:r>
            <a:r>
              <a:rPr b="1" lang="pt-BR" sz="2800" spc="-1" strike="noStrike">
                <a:solidFill>
                  <a:srgbClr val="402000"/>
                </a:solidFill>
                <a:latin typeface="Times New Roman"/>
              </a:rPr>
              <a:t>Graphics </a:t>
            </a:r>
            <a:r>
              <a:rPr b="0" lang="pt-BR" sz="2800" spc="-1" strike="noStrike">
                <a:solidFill>
                  <a:srgbClr val="402000"/>
                </a:solidFill>
                <a:latin typeface="Times New Roman"/>
              </a:rPr>
              <a:t>já deixa disponível uma série de metodos abstratos ( implementados pelos componentes e containers ), para se desenhar uma série de elementos gráficos, tais como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-322200" algn="just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2000"/>
                </a:solidFill>
                <a:latin typeface="Times New Roman"/>
              </a:rPr>
              <a:t>segmentos de reta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-322200" algn="just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2000"/>
                </a:solidFill>
                <a:latin typeface="Times New Roman"/>
              </a:rPr>
              <a:t>círculos e elips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-322200" algn="just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2000"/>
                </a:solidFill>
                <a:latin typeface="Times New Roman"/>
              </a:rPr>
              <a:t>retângulos e polígono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-322200" algn="just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2000"/>
                </a:solidFill>
                <a:latin typeface="Times New Roman"/>
              </a:rPr>
              <a:t>textos em uma variedade de font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-322200" algn="just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2000"/>
                </a:solidFill>
                <a:latin typeface="Times New Roman"/>
              </a:rPr>
              <a:t>imagen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E068-6987-4E03-9F23-C1B3E7B0035A}" type="slidenum">
              <a:t>79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996633"/>
                </a:solidFill>
                <a:latin typeface="Times New Roman"/>
              </a:rPr>
              <a:t>Try dentro de try ( tratamento local de exceções)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402000"/>
                </a:solidFill>
                <a:latin typeface="Arial"/>
              </a:rPr>
              <a:t> 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class conta{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 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public static void main(String args[]){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     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int den,num,indice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int c[]={1}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    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    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try{  // Indicador do trecho crítico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           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int res=num/den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           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try{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          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c[indice]=res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           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   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catch(ArrayIndexOutOfBoundsException e){ // Recuperação da exceção de estouro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               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System.out.println(“Estourou o índice”);     //      de índice do vetor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        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indice=0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          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catch(ArithmeticException e) { // Recuperação da exceção aritmética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        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System.out.println(“Dividiu por zero!”)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         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den=1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      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... // Continuação do programa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 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30360" y="3359160"/>
            <a:ext cx="6540480" cy="158760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301760" y="2901960"/>
            <a:ext cx="7074000" cy="303516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8F8A-0416-470F-9072-7E5C413749AB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2000"/>
                </a:solidFill>
                <a:latin typeface="Times New Roman"/>
              </a:rPr>
              <a:t>Segmentos de reta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2000"/>
                </a:solidFill>
                <a:latin typeface="Times New Roman"/>
              </a:rPr>
              <a:t>Segmentos de reta são desenhados com o método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2000"/>
                </a:solidFill>
                <a:latin typeface="Arial"/>
              </a:rPr>
              <a:t>void drawLine(int left,int top,int right,int bottom)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402000"/>
                </a:solidFill>
                <a:latin typeface="Arial"/>
              </a:rPr>
              <a:t>import java.awt.*;</a:t>
            </a:r>
            <a:endParaRPr b="0" lang="en-US" sz="23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402000"/>
                </a:solidFill>
                <a:latin typeface="Arial"/>
              </a:rPr>
              <a:t>class desenho</a:t>
            </a:r>
            <a:endParaRPr b="0" lang="en-US" sz="23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300" spc="-1" strike="noStrike">
                <a:solidFill>
                  <a:srgbClr val="402000"/>
                </a:solidFill>
                <a:latin typeface="Arial"/>
              </a:rPr>
              <a:t>extends Frame{</a:t>
            </a:r>
            <a:endParaRPr b="0" lang="en-US" sz="23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300" spc="-1" strike="noStrike">
                <a:solidFill>
                  <a:srgbClr val="402000"/>
                </a:solidFill>
                <a:latin typeface="Arial"/>
              </a:rPr>
              <a:t>public void paint(Graphics g){</a:t>
            </a:r>
            <a:endParaRPr b="0" lang="en-US" sz="23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300" spc="-1" strike="noStrike">
                <a:solidFill>
                  <a:srgbClr val="402000"/>
                </a:solidFill>
                <a:latin typeface="Arial"/>
              </a:rPr>
              <a:t>g.drawLine(0,0,200,100); // linha (0,0)-(200,100)</a:t>
            </a:r>
            <a:endParaRPr b="0" lang="en-US" sz="23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3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23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23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AFB5-2235-456C-BC19-9D15D4DE3997}" type="slidenum">
              <a:t>80</a:t>
            </a:fld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2000"/>
                </a:solidFill>
                <a:latin typeface="Times New Roman"/>
              </a:rPr>
              <a:t>Círculos e elips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2000"/>
                </a:solidFill>
                <a:latin typeface="Times New Roman"/>
              </a:rPr>
              <a:t>Círculos e elipses são desenhados com os métodos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402000"/>
                </a:solidFill>
                <a:latin typeface="Arial"/>
              </a:rPr>
              <a:t>void drawOval(int xc,int yc,int comp,int alt);</a:t>
            </a:r>
            <a:endParaRPr b="0" lang="en-US" sz="25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402000"/>
                </a:solidFill>
                <a:latin typeface="Arial"/>
              </a:rPr>
              <a:t>void fillOval(int xc,int yc,int comp,int alt);</a:t>
            </a:r>
            <a:endParaRPr b="0" lang="en-US" sz="25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import java.awt.*;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class desenho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extends Frame{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public void paint(Graphics g){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g.drawOval(100,100,10,10); // Círculo de raio 10, com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// centro (100,100)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g.drawOval(100,100,100,50); // elipse com centro em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                     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// (100,100), comprimento 100 e altura 50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g.fillOval(100,100,100,50); // elipse anterior preenchida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7222-17D6-49DA-BF5A-FCB1F8A991A9}" type="slidenum">
              <a:t>81</a:t>
            </a:fld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2000"/>
                </a:solidFill>
                <a:latin typeface="Times New Roman"/>
              </a:rPr>
              <a:t>Arco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2000"/>
                </a:solidFill>
                <a:latin typeface="Times New Roman"/>
              </a:rPr>
              <a:t>Arcos são desenhados com os métodos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02000"/>
                </a:solidFill>
                <a:latin typeface="Arial"/>
              </a:rPr>
              <a:t>void drawArc(int x,int y,int comp,int alt, int angInic, int angtotal)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02000"/>
                </a:solidFill>
                <a:latin typeface="Arial"/>
              </a:rPr>
              <a:t>void fillArc(int x,int y,int comp,int alt int angInic, int angtotal)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import java.awt.*;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class desenho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extends Frame{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public void paint(Graphics g){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g.drawArc(25,25,240,240,45,270); 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//arco limitado pelo retangulo(x=25,y=25,comp=240, alt=240) inicia com angulo=45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// conta no sentido anti- horário até atingir o angulo total = 270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g.fillArc (25,25,240,240,45,270); // arco preenchido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02F4-D454-4104-90DF-FF3DEF21AD05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2000"/>
                </a:solidFill>
                <a:latin typeface="Times New Roman"/>
              </a:rPr>
              <a:t>Retângulo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2000"/>
                </a:solidFill>
                <a:latin typeface="Times New Roman"/>
              </a:rPr>
              <a:t>Retângulos são desenhados com os métodos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402000"/>
                </a:solidFill>
                <a:latin typeface="Arial"/>
              </a:rPr>
              <a:t>void drawRect(int x,int y,int comp,int alt);</a:t>
            </a:r>
            <a:endParaRPr b="0" lang="en-US" sz="25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402000"/>
                </a:solidFill>
                <a:latin typeface="Arial"/>
              </a:rPr>
              <a:t>void fillRect(int x,int y,int comp,int alt);</a:t>
            </a:r>
            <a:endParaRPr b="0" lang="en-US" sz="25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import java.awt.*;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class desenho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extends Frame{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public void paint(Graphics g){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g.drawRectl(100,100,10,100); // Retângulo com canto superior esquerdo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   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// (100,100), comprimento 10, altura 100 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g.fillRectl(100,100,10,100);  // Preenche retângulo anterior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26C0-C71F-47C3-A1EE-A2D799C7B79F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2000"/>
                </a:solidFill>
                <a:latin typeface="Times New Roman"/>
              </a:rPr>
              <a:t>Polígono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2000"/>
                </a:solidFill>
                <a:latin typeface="Times New Roman"/>
              </a:rPr>
              <a:t>Polígonos são desenhados com os métodos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402000"/>
                </a:solidFill>
                <a:latin typeface="Arial"/>
              </a:rPr>
              <a:t>void drawPolygon(int x[],int y[],int nvértices);</a:t>
            </a:r>
            <a:endParaRPr b="0" lang="en-US" sz="25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import java.awt.*;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class desenho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extends Frame{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public void paint(Graphics g){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int x[]={100,200,300};  // Coordenadas x dos vértices do polígono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int y[]={300,200,100};  // Coordenadas y dos vértices do polígono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g.drawPolygon(x,y,3); // Desenha polígono de vértices (100,300), (200,200),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 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// (300,100)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   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D9BA-3B50-424E-892A-C9F8C2B0C233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2000"/>
                </a:solidFill>
                <a:latin typeface="Times New Roman"/>
              </a:rPr>
              <a:t>Texto no modo gráfico(I)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Antes de passar aos métodos de desenho de texto no modo gráfico, uma convenção de medidas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338280" y="3060720"/>
            <a:ext cx="2805840" cy="22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900" spc="-1" strike="noStrike">
                <a:solidFill>
                  <a:srgbClr val="402000"/>
                </a:solidFill>
                <a:latin typeface="Arial"/>
              </a:rPr>
              <a:t>Magic</a:t>
            </a:r>
            <a:endParaRPr b="0" lang="en-US" sz="59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402000"/>
                </a:solidFill>
                <a:latin typeface="Arial"/>
              </a:rPr>
              <a:t>Maiden</a:t>
            </a:r>
            <a:endParaRPr b="0" lang="en-US" sz="6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978280" y="3200400"/>
            <a:ext cx="349236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978280" y="3886200"/>
            <a:ext cx="349236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978280" y="3733920"/>
            <a:ext cx="349236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978280" y="5029200"/>
            <a:ext cx="349236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978280" y="4495680"/>
            <a:ext cx="349236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371600" y="2895480"/>
            <a:ext cx="17524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Arial"/>
              </a:rPr>
              <a:t>Ascendente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461280" y="3460680"/>
            <a:ext cx="1877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Arial"/>
              </a:rPr>
              <a:t>Linha de base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507680" y="3841920"/>
            <a:ext cx="1767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Arial"/>
              </a:rPr>
              <a:t>Descendente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324480" y="3892680"/>
            <a:ext cx="0" cy="596880"/>
          </a:xfrm>
          <a:prstGeom prst="line">
            <a:avLst/>
          </a:prstGeom>
          <a:ln w="12600">
            <a:solidFill>
              <a:srgbClr val="402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385320" y="4070520"/>
            <a:ext cx="1424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Arial"/>
              </a:rPr>
              <a:t>Entrelinha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601640" y="4192560"/>
            <a:ext cx="16750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Arial"/>
              </a:rPr>
              <a:t>Ascendente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431360" y="4680000"/>
            <a:ext cx="1767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Arial"/>
              </a:rPr>
              <a:t>Descendente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969E-BBE1-4D3F-A88D-2DB2F0A93EC3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2000"/>
                </a:solidFill>
                <a:latin typeface="Times New Roman"/>
              </a:rPr>
              <a:t>Texto no modo gráfico (II)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2000"/>
                </a:solidFill>
                <a:latin typeface="Times New Roman"/>
              </a:rPr>
              <a:t>Texto, no modo gráfico, é desenhado com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402000"/>
                </a:solidFill>
                <a:latin typeface="Arial"/>
              </a:rPr>
              <a:t>void drawString(String s,int x,int y);</a:t>
            </a:r>
            <a:endParaRPr b="0" lang="en-US" sz="25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import java.awt.*;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class desenho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extends Frame{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public void paint(Graphics g){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g.drawString(“Oi”,10,100); // Desenha texto Oi na linha de base começando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// em (10,100)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E71E-C16C-48EA-A02F-D48C852AA067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2000"/>
                </a:solidFill>
                <a:latin typeface="Times New Roman"/>
              </a:rPr>
              <a:t>Cor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2000"/>
                </a:solidFill>
                <a:latin typeface="Times New Roman"/>
              </a:rPr>
              <a:t>O AWT trabalha com dois sistemas de cores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02000"/>
                </a:solidFill>
                <a:latin typeface="Times New Roman"/>
              </a:rPr>
              <a:t>RGB ( Red-Green-Blue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ce9964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2000"/>
                </a:solidFill>
                <a:latin typeface="Times New Roman"/>
              </a:rPr>
              <a:t>Escala 0-255 e [0,1] para cada component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402000"/>
                </a:solidFill>
                <a:latin typeface="Times New Roman"/>
              </a:rPr>
              <a:t>HSB ( Huge-Saturation-Brightness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2000"/>
                </a:solidFill>
                <a:latin typeface="Times New Roman"/>
              </a:rPr>
              <a:t>Os construtores de instâncias de Color estão no padrão RGB. Porém, existem  métodos prontos para conversão RGB      HSB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273560" y="5867280"/>
            <a:ext cx="596880" cy="0"/>
          </a:xfrm>
          <a:prstGeom prst="line">
            <a:avLst/>
          </a:prstGeom>
          <a:ln w="12600">
            <a:solidFill>
              <a:srgbClr val="402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C474-A838-4F25-AAAF-02D413CE1BAB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2000"/>
                </a:solidFill>
                <a:latin typeface="Times New Roman"/>
              </a:rPr>
              <a:t>Definição e utilização de cor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5000"/>
          </a:bodyPr>
          <a:p>
            <a:pPr marL="22284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402000"/>
                </a:solidFill>
                <a:latin typeface="Times New Roman"/>
              </a:rPr>
              <a:t>Cores são instanciadas por:</a:t>
            </a:r>
            <a:endParaRPr b="0" lang="en-US" sz="2500" spc="-1" strike="noStrike">
              <a:solidFill>
                <a:srgbClr val="402000"/>
              </a:solidFill>
              <a:latin typeface="Times New Roman"/>
            </a:endParaRPr>
          </a:p>
          <a:p>
            <a:pPr marL="222840" indent="0" algn="just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500" spc="-1" strike="noStrike">
                <a:solidFill>
                  <a:srgbClr val="402000"/>
                </a:solidFill>
                <a:latin typeface="Arial"/>
              </a:rPr>
              <a:t>Color(int r,int g,int b);</a:t>
            </a:r>
            <a:endParaRPr b="0" lang="en-US" sz="2500" spc="-1" strike="noStrike">
              <a:solidFill>
                <a:srgbClr val="402000"/>
              </a:solidFill>
              <a:latin typeface="Times New Roman"/>
            </a:endParaRPr>
          </a:p>
          <a:p>
            <a:pPr marL="222840" indent="0" algn="just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500" spc="-1" strike="noStrike">
                <a:solidFill>
                  <a:srgbClr val="402000"/>
                </a:solidFill>
                <a:latin typeface="Arial"/>
              </a:rPr>
              <a:t>Color(float r,float g,float b);</a:t>
            </a:r>
            <a:endParaRPr b="0" lang="en-US" sz="2500" spc="-1" strike="noStrike">
              <a:solidFill>
                <a:srgbClr val="402000"/>
              </a:solidFill>
              <a:latin typeface="Times New Roman"/>
            </a:endParaRPr>
          </a:p>
          <a:p>
            <a:pPr marL="22284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402000"/>
                </a:solidFill>
                <a:latin typeface="Times New Roman"/>
              </a:rPr>
              <a:t>E são utilizadas, principalmente, pelo método:</a:t>
            </a:r>
            <a:endParaRPr b="0" lang="en-US" sz="2500" spc="-1" strike="noStrike">
              <a:solidFill>
                <a:srgbClr val="402000"/>
              </a:solidFill>
              <a:latin typeface="Times New Roman"/>
            </a:endParaRPr>
          </a:p>
          <a:p>
            <a:pPr marL="22284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pt-BR" sz="2500" spc="-1" strike="noStrike">
                <a:solidFill>
                  <a:srgbClr val="402000"/>
                </a:solidFill>
                <a:latin typeface="Arial"/>
              </a:rPr>
              <a:t>setColor(Color c);</a:t>
            </a:r>
            <a:endParaRPr b="0" lang="en-US" sz="2500" spc="-1" strike="noStrike">
              <a:solidFill>
                <a:srgbClr val="402000"/>
              </a:solidFill>
              <a:latin typeface="Times New Roman"/>
            </a:endParaRPr>
          </a:p>
          <a:p>
            <a:pPr marL="22284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402000"/>
                </a:solidFill>
                <a:latin typeface="Times New Roman"/>
              </a:rPr>
              <a:t>definido na classe Graphics.</a:t>
            </a:r>
            <a:endParaRPr b="0" lang="en-US" sz="2500" spc="-1" strike="noStrike">
              <a:solidFill>
                <a:srgbClr val="402000"/>
              </a:solidFill>
              <a:latin typeface="Times New Roman"/>
            </a:endParaRPr>
          </a:p>
          <a:p>
            <a:pPr marL="2228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22284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public void paint(Graphics g){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22284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Color c=new Color(255,255,255);  // Cor branca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22284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g.setColor(c)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22284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     </a:t>
            </a: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22284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2228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222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073160" y="4724280"/>
            <a:ext cx="768348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597D-C7FF-4F9B-A5EC-536A7A324C5D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2000"/>
                </a:solidFill>
                <a:latin typeface="Times New Roman"/>
              </a:rPr>
              <a:t>Imagen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A linguagem Java manipula imagens utilizando as classes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 algn="just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02000"/>
                </a:solidFill>
                <a:latin typeface="Times New Roman"/>
              </a:rPr>
              <a:t>Image</a:t>
            </a: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, definida no pacote </a:t>
            </a:r>
            <a:r>
              <a:rPr b="1" lang="pt-BR" sz="2400" spc="-1" strike="noStrike">
                <a:solidFill>
                  <a:srgbClr val="402000"/>
                </a:solidFill>
                <a:latin typeface="Times New Roman"/>
              </a:rPr>
              <a:t>java.awt</a:t>
            </a: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, que funciona como uma estrutura descritora da imagem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 algn="just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02000"/>
                </a:solidFill>
                <a:latin typeface="Times New Roman"/>
              </a:rPr>
              <a:t>MediaTracker</a:t>
            </a: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, definida no pacote java.awt, para animaçã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 algn="just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classes definidas no pacote </a:t>
            </a:r>
            <a:r>
              <a:rPr b="1" lang="pt-BR" sz="2400" spc="-1" strike="noStrike">
                <a:solidFill>
                  <a:srgbClr val="402000"/>
                </a:solidFill>
                <a:latin typeface="Times New Roman"/>
              </a:rPr>
              <a:t>java.awt.image</a:t>
            </a: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, para operações básicas com imagens, filtragem, por exemplo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Basicamente, estas classes suportam os formatos JPEG e GIF, embora possam ser extendidas classes para tratamento de outros formatos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96D3-3D5F-4E81-8E5C-6EFADF172645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996633"/>
                </a:solidFill>
                <a:latin typeface="Times New Roman"/>
              </a:rPr>
              <a:t>Tratamento com </a:t>
            </a:r>
            <a:r>
              <a:rPr b="1" lang="pt-BR" sz="4000" spc="-1" strike="noStrike">
                <a:solidFill>
                  <a:srgbClr val="996633"/>
                </a:solidFill>
                <a:latin typeface="Times New Roman"/>
              </a:rPr>
              <a:t>finally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Todo comando try exige, pelo menos, uma cláusula catch ou finally. Finally é executado antes que o método retorne do erro, garantindo o tratamento antes de qualquer catch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Assim, finally tem precedência máxima sobre todos os outros tratamentos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77F1-D434-43D7-9600-32F9DBFC1717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996633"/>
                </a:solidFill>
                <a:latin typeface="Times New Roman"/>
              </a:rPr>
              <a:t>Estrutura básica do pacote </a:t>
            </a:r>
            <a:r>
              <a:rPr b="1" lang="pt-BR" sz="4400" spc="-1" strike="noStrike">
                <a:solidFill>
                  <a:srgbClr val="996633"/>
                </a:solidFill>
                <a:latin typeface="Times New Roman"/>
              </a:rPr>
              <a:t>java.awt.imag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609560" y="2814480"/>
            <a:ext cx="836640" cy="45396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Object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402000"/>
                </a:solidFill>
                <a:latin typeface="Arial"/>
              </a:rPr>
              <a:t>java.lang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128240" y="4543560"/>
            <a:ext cx="859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402000"/>
                </a:solidFill>
                <a:latin typeface="Arial"/>
              </a:rPr>
              <a:t>Legenda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224000" y="4842000"/>
            <a:ext cx="574560" cy="27144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225440" y="5645160"/>
            <a:ext cx="596880" cy="2919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225440" y="6095880"/>
            <a:ext cx="59688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225440" y="6477120"/>
            <a:ext cx="596880" cy="0"/>
          </a:xfrm>
          <a:prstGeom prst="line">
            <a:avLst/>
          </a:prstGeom>
          <a:ln w="12600">
            <a:solidFill>
              <a:srgbClr val="402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224000" y="5222880"/>
            <a:ext cx="574560" cy="271440"/>
          </a:xfrm>
          <a:prstGeom prst="rect">
            <a:avLst/>
          </a:prstGeom>
          <a:solidFill>
            <a:srgbClr val="dadada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966320" y="4848120"/>
            <a:ext cx="1679400" cy="17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CLASSE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CLASSE ABSTRATA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INTERFACE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extend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implement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736160" y="2251080"/>
            <a:ext cx="1019520" cy="271440"/>
          </a:xfrm>
          <a:prstGeom prst="rect">
            <a:avLst/>
          </a:prstGeom>
          <a:solidFill>
            <a:srgbClr val="dadada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ColorModel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715080" y="3774960"/>
            <a:ext cx="1335240" cy="271440"/>
          </a:xfrm>
          <a:prstGeom prst="rect">
            <a:avLst/>
          </a:prstGeom>
          <a:solidFill>
            <a:srgbClr val="dadada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RGBImageFilter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715800" y="1793880"/>
            <a:ext cx="1452600" cy="27144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DirectColorModel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716880" y="2556000"/>
            <a:ext cx="1418760" cy="27144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IndexColorModel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734000" y="3470400"/>
            <a:ext cx="996840" cy="27144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ImageFilter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715440" y="3241800"/>
            <a:ext cx="1351800" cy="27144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CropImageFilter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732560" y="4079880"/>
            <a:ext cx="1693080" cy="27144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FilteredImageSource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731840" y="4613400"/>
            <a:ext cx="1726920" cy="27144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MemoryImageSource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369520" y="2104920"/>
            <a:ext cx="1295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ImageObserver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675880" y="3705120"/>
            <a:ext cx="1377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ImageConsumer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675880" y="4238640"/>
            <a:ext cx="1293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ImageProducer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368440" y="2063880"/>
            <a:ext cx="1282680" cy="2919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673360" y="3664080"/>
            <a:ext cx="1359000" cy="2919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673360" y="4197240"/>
            <a:ext cx="1359000" cy="2923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419720" y="2368440"/>
            <a:ext cx="0" cy="234972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425840" y="2362320"/>
            <a:ext cx="29232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425840" y="3657600"/>
            <a:ext cx="29232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425840" y="4191120"/>
            <a:ext cx="29232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425840" y="4724280"/>
            <a:ext cx="29232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444760" y="3048120"/>
            <a:ext cx="196848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324480" y="1911240"/>
            <a:ext cx="0" cy="82548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330960" y="1905120"/>
            <a:ext cx="36828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330960" y="2743200"/>
            <a:ext cx="36828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797440" y="2362320"/>
            <a:ext cx="52092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477120" y="3359160"/>
            <a:ext cx="0" cy="52056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483240" y="3352680"/>
            <a:ext cx="21600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483240" y="3886200"/>
            <a:ext cx="21600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797440" y="3657600"/>
            <a:ext cx="67320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044960" y="3809880"/>
            <a:ext cx="977760" cy="0"/>
          </a:xfrm>
          <a:prstGeom prst="line">
            <a:avLst/>
          </a:prstGeom>
          <a:ln w="12600">
            <a:solidFill>
              <a:srgbClr val="402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V="1">
            <a:off x="5029200" y="3727080"/>
            <a:ext cx="0" cy="88920"/>
          </a:xfrm>
          <a:prstGeom prst="line">
            <a:avLst/>
          </a:prstGeom>
          <a:ln w="12600">
            <a:solidFill>
              <a:srgbClr val="402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044960" y="4267080"/>
            <a:ext cx="673200" cy="0"/>
          </a:xfrm>
          <a:prstGeom prst="line">
            <a:avLst/>
          </a:prstGeom>
          <a:ln w="12600">
            <a:solidFill>
              <a:srgbClr val="402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191120" y="4273560"/>
            <a:ext cx="0" cy="520560"/>
          </a:xfrm>
          <a:prstGeom prst="line">
            <a:avLst/>
          </a:prstGeom>
          <a:ln w="12600">
            <a:solidFill>
              <a:srgbClr val="402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197240" y="4800600"/>
            <a:ext cx="520920" cy="0"/>
          </a:xfrm>
          <a:prstGeom prst="line">
            <a:avLst/>
          </a:prstGeom>
          <a:ln w="12600">
            <a:solidFill>
              <a:srgbClr val="402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695E-5A9F-4892-A856-BA5D722CF784}" type="slidenum">
              <a:t>90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8T15:06:56Z</dcterms:created>
  <dc:creator>IME</dc:creator>
  <dc:description/>
  <dc:language>en-US</dc:language>
  <cp:lastModifiedBy>nilsa</cp:lastModifiedBy>
  <cp:lastPrinted>2000-01-07T19:05:41Z</cp:lastPrinted>
  <dcterms:modified xsi:type="dcterms:W3CDTF">2002-10-18T20:09:18Z</dcterms:modified>
  <cp:revision>16</cp:revision>
  <dc:subject/>
  <dc:title>JAVA: Tecnologia e Tendências</dc:title>
</cp:coreProperties>
</file>