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3B1-FAA8-4448-80BC-83693DFD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C70-3101-4734-B2B1-9F08BE67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4BF-B079-48F5-AF86-70A1B786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77A-318E-4BBC-8486-DBA34E80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0B3E-CE14-449B-A4BB-1A5F3178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AA73-D674-4AF6-AE20-BA5B9B9A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AB95-31B7-4579-93B2-2BD7DEEC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4AB0-743B-4FB4-8D3B-984A1ED9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FDB9-B5B7-40A1-A6B6-7DA621D6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632C-F68C-4B15-A598-E6B1A3EF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4C52-BFBD-40A4-BE94-CD2B1A2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2EA-6FF8-49B7-8476-7F924D79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1A43-D525-4D60-9226-2E6B8CE8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42DC-5B3F-4400-AED2-0638A6CF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76C7-2A38-4AF9-902C-F106D970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23A3-38FD-45D8-9A15-F0F90471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0A80-4E99-4A97-BEAB-407C51CE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5E5-7C40-4C5C-BC54-752AB8CB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578-8C35-40C6-86A4-AA7FCC02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BA2-8B9F-4271-931B-987C1E5D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BBE-17A0-421D-840E-1FB96AA6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D25-DB48-493D-BEDC-4156082F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E4D-2B06-43E6-B44B-1EDC60DF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2D9-D4F9-4455-9D67-56FCD4A0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2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F08A-6E41-41F2-9F93-DD852343A34B}" type="slidenum"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1AC8-2E78-4422-8AF2-B2601E68C00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295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8872560" cy="6870600"/>
            <a:chOff x="0" y="0"/>
            <a:chExt cx="8872560" cy="6870600"/>
          </a:xfrm>
        </p:grpSpPr>
        <p:sp>
          <p:nvSpPr>
            <p:cNvPr id="94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6400" cy="68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02000"/>
                </a:solidFill>
                <a:latin typeface="Times New Roman"/>
              </a:rPr>
              <a:t>INTRODUÇÃO À LINGUAGEM JAVA</a:t>
            </a:r>
            <a:br>
              <a:rPr sz="4000"/>
            </a:b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7053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Terceira Aula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02000"/>
                </a:solidFill>
                <a:latin typeface="Times New Roman"/>
              </a:rPr>
              <a:t>Classes, Polimorfismo e Interfaces</a:t>
            </a:r>
            <a:endParaRPr b="0" lang="en-US" sz="3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2000"/>
                </a:solidFill>
                <a:latin typeface="Times New Roman"/>
              </a:rPr>
              <a:t>Nilsa Areán García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28.09.2002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4669-4454-4A7A-A771-4E6F457346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Destrutore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Java não tem destrutores explícitos. Por exemplo, considere-se a seguinte mudança de referência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admissão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uncionario ze=new Funcionario(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ze.admite(“Ze”,”15.000”,150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ze=new Funcionario(“Ze maria”,”15.001”,200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O que acontece com a primeira instância, alocada, porém não mais referenciada pela variável z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9DF-952F-44A6-83A3-14C3BCF95A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663300"/>
                </a:solidFill>
                <a:latin typeface="Times New Roman"/>
              </a:rPr>
              <a:t>Garbage collectio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De tempos em tempos, o interpretador java dispara um processo de recuperação de áreas de memória alocadas, porém não mais referenciadas ( processo de 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garbag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collection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(“coleta de lixo”)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sto, eventualmente, pode afetar o desempenho da aplicaçã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E30-E4A1-4447-999D-4A04C867FD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3300"/>
                </a:solidFill>
                <a:latin typeface="Times New Roman"/>
              </a:rPr>
              <a:t>Operador de autoreferência </a:t>
            </a:r>
            <a:r>
              <a:rPr b="0" i="1" lang="pt-BR" sz="4400" spc="-1" strike="noStrike">
                <a:solidFill>
                  <a:srgbClr val="663300"/>
                </a:solidFill>
                <a:latin typeface="Times New Roman"/>
              </a:rPr>
              <a:t>thi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this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é um “apontador” para o objeto em questão. Usando este apontador, um método  pode acessar todas os atributos das classe a que pertenc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Ele é criado automaticamente quando um objeto chama um método e “aponta”para o próprio objeto que chamou o métod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E37-9BAC-47E5-929C-1196CF969CA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3300"/>
                </a:solidFill>
                <a:latin typeface="Times New Roman"/>
              </a:rPr>
              <a:t>Exemplo de uso do </a:t>
            </a:r>
            <a:r>
              <a:rPr b="0" i="1" lang="pt-BR" sz="4400" spc="-1" strike="noStrike">
                <a:solidFill>
                  <a:srgbClr val="663300"/>
                </a:solidFill>
                <a:latin typeface="Times New Roman"/>
              </a:rPr>
              <a:t>thi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Funcionario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String nome,RG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loat salario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uncionario(String nome,String RG,float salario)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his.nome=nome;         // Acesso aos atribut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his.RG=RG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his.salario=salario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uncionario()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his(“ “,” “,0.0);  // Construtor que chama construt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5AD-E525-4237-8876-A16AD8FDD03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tributos estático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m atributo com o modificador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static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tem o seu valor compartilhado por todos os objetos da classe, ou seja, só haverá uma cópia dele para todos os objetos da class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or exempl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static float valor_dolar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B8A-A629-42EC-9288-55E33681531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étodos estático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Um método estático é um método que pode ser invocado, mesmo que não haja nenhuma instância da classe, isto é, pode ser referenciado independentemente de qualquer objet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Por exempl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1" lang="pt-BR" sz="2800" spc="-1" strike="noStrike">
                <a:solidFill>
                  <a:srgbClr val="402000"/>
                </a:solidFill>
                <a:latin typeface="Arial"/>
              </a:rPr>
              <a:t>static void cambio(float valor){...}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omo independe da instância, não tem autoreferência ( operador </a:t>
            </a: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this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 ).  Métodos estáticos podem referenciar somente atributos estático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378-431C-4594-ADF0-1A4CA4C8979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Exemplo de atributos e métodos estático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  produtoexportacao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tring nome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loat preco_venda,preco_compra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tatic float valor_dolar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produtoexportacao(String nome,float precov,float precoc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is.nome=nome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is.preco_venda=precov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is.preco_compra=precoc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tatic void cambio(float valor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valor_dolar=valor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8EB-DA6C-4311-B1A7-FE1DDAC13F2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Exemplo de atributos e métodos estáticos(continuação)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  comercio_exterior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public  static void main(String args[]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loat cotacao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tacao=1.50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produtoexportacao.cambio(cotacao);// Chamada de método estátic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// sem instaciaçã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69D-DD47-4D62-BF6D-B7A4BAECBBE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Heranç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Herança é um relacionamento do tipo generalização/ especialização, onde uma classe pode ser derivada( subclasse) de outra mais geral (superclasse), absorvendo todas as características fundamentais e adicionando outras novas características, de tal modo a torná-la mais especializada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230-DDF0-4214-B08E-F93B73AF69A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xemplo para implementação de heranç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01960" y="1682640"/>
            <a:ext cx="2806560" cy="20448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1960" y="4502160"/>
            <a:ext cx="2806560" cy="20448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01960" y="2057400"/>
            <a:ext cx="2806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01960" y="3048120"/>
            <a:ext cx="2806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2080" y="1708200"/>
            <a:ext cx="151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Times New Roman"/>
              </a:rPr>
              <a:t>Funcionar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01960" y="4952880"/>
            <a:ext cx="2806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1960" y="5867280"/>
            <a:ext cx="2806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89120" y="2089080"/>
            <a:ext cx="859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nom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R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salar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09920" y="3079800"/>
            <a:ext cx="1738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umenta(valor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agament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38280" y="4557600"/>
            <a:ext cx="117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hef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34680" y="4984920"/>
            <a:ext cx="1864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onta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gastos_extr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dicional_chef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36120" y="600552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gam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44960" y="4044960"/>
            <a:ext cx="291960" cy="2160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191120" y="3727440"/>
            <a:ext cx="0" cy="3110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4273560"/>
            <a:ext cx="0" cy="216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A49-5CA4-4ADF-B3F4-BF8141A1C6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ópicos da Terceira Aula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Estrutura geral de uma clas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nstrutores e Garbage coll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perador de autoreferência th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tos e métodos estátic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Herança e Polimorfism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es abstrat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étodos abstra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nterfac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4BA-43C6-44C5-AFC4-07AEE1D2E1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3300"/>
                </a:solidFill>
                <a:latin typeface="Times New Roman"/>
              </a:rPr>
              <a:t>Implementação da superclasse Funcionari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 Funcionario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tring nome,RG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loat salário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uncionario(String nomef,String ident,float sal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nome=nomef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RG=ident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alario=sal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void aumenta(float pouco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alario=salario+pouco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loat pagamento(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return (salario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350-2012-4521-890A-80F8EC3A16F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Implementação da subclasse Chefe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Chef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Funcionario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contas, gastos_extra,adicional_chefia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hefe(String nomef,String RG, float sal, float contas,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gastos_extra, float adicional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uper(nome,RG,sal);   // Construtor da superclasse (Funcionario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contas=contas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gastos_extra=gastos_extra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adicional_chefia=adicional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pagamento(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recebe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ebe=this.salario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ebe=recebe+contas+gastos_extra+adicional_chefia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turn(recebe);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6CB-1BEB-4B29-9F46-28B7A490D37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Instanciação da subclasse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ganhando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Chefe joao=new Chefe(“João”,”320”,11150,1250,680, 5000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joao.aumenta(300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System.out.println(“João ganha”+joao.recebe()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                   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1BC-D545-41CD-91B8-E5BE2C7FF97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erador de referência </a:t>
            </a: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sup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super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 é um operador para acessar atributos e métodos das superclasses, a partir das subclasses.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Este operador deve ser usado com bastante cuidado, principalmente na presença de modificadores de acesso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1E6-42A0-48AD-9FE7-8D0FD08C1AC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Implementação da subclasse Chefe com super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Chef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Funcionario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contas, gastos_extra,adicional_chefia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hefe(String nomef,String RG, float sal, float contas,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gastos_extra, float adicional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uper(nome,RG,sal);   // Construtor da superclasse (Funcionario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contas=contas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gastos_extra=gastos_extra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adicional_chefia=adicional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pagamento(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recebe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ebe=super.pagamento(); // Chamada de pagamento() da superclass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ebe=recebe+contas+gastos_extra+adicional_chefia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turn(recebe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1EF-073D-4DF7-93F7-EE1F6485959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POLIMORFISM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bilidade de uma ou mais classes responder a uma mesma mensagem de forma diferent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1720" y="3643200"/>
            <a:ext cx="194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Polimorfis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13320" y="455760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Univers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76560" y="4557600"/>
            <a:ext cx="119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Ad-Ho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00960" y="5776920"/>
            <a:ext cx="708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Paramétrico        Inclusão    Sobrecarga         Coer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( </a:t>
            </a:r>
            <a:r>
              <a:rPr b="0" i="1" lang="pt-BR" sz="2400" spc="-1" strike="noStrike">
                <a:solidFill>
                  <a:srgbClr val="402000"/>
                </a:solidFill>
                <a:latin typeface="Times New Roman"/>
              </a:rPr>
              <a:t>Taxonomia de Cardelli e Wegner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84440" y="4044960"/>
            <a:ext cx="1689120" cy="596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73560" y="4044960"/>
            <a:ext cx="2044800" cy="596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898280" y="4959360"/>
            <a:ext cx="469800" cy="8254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8440" y="4959360"/>
            <a:ext cx="1663920" cy="901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632560" y="4959360"/>
            <a:ext cx="698400" cy="901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30960" y="4959360"/>
            <a:ext cx="1282680" cy="901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C05-B8FA-4871-BEAB-2551B7679A0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OLIMORFISMO UNIVERSAL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ecanismo de trabalho com um número infinito de tip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ode ser de dois tip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aramétrico ( Ex.: templates do C++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de inclusã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DFC-62C8-4892-8ADE-F735FF08492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Times New Roman"/>
              </a:rPr>
              <a:t>Polimorfismo universal paramétrico</a:t>
            </a:r>
            <a:endParaRPr b="0" lang="en-US" sz="3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No polimorfismo paramétrico, um único método é codificado, e ele trabalhará uniformemente num intervalo de tip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Java não implementa polimorfismo universal paramétric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518-90D6-459E-9866-0241E7C4C04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xemplo de polimorfismo universal paramétrico ( em C++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template &lt;class T&gt;  // Tipo 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class Vetor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T *dados;       // Elementos do veto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int tamanho; // Tamanho do veto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public: Vector(int); // Construto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   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~Vector() {delete [] dados;}  // Destruto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  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T&amp; operator[](int i) { return dados[i];}  // Retorna o elemento da posição i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template &lt;class T&gt; Vetor&lt;T&gt;::Vetor(int n)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dados=new T[n]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tamanho=n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main()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Vetor&lt;int&gt; x(5);    // Gera um vetor para armazenar 5 números inteiro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2DB-45EA-4E0C-8BF0-D408638AAB5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Times New Roman"/>
              </a:rPr>
              <a:t>Polimorfismo universal de inclusão</a:t>
            </a:r>
            <a:endParaRPr b="0" lang="en-US" sz="3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 polimorfismo de inclusão está relacionado com a noção de supertipo e subtipo. Um subtipo pode ser usado no contexto do supertip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Em orientação a objetos, isto está relacionado com a noção de subclasse e superclasse. Isto significa que o tratamento da mensagem dependerá do contexto da class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3C1-1BC3-4895-AA8A-D723E5637BD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strutura geral de uma class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&lt; nome da classe &gt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extends &lt; nome da super classe &gt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implements interface1,...,interfaceN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&lt; tipo1 &gt; atributo1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&lt; tipo2 &gt; atributo 2, atributo 3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onstrutor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oid método1(){...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oid método2(&lt;parâmetros&gt;){...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&lt; tipo &gt; método3(){...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&lt; tipo &gt; método4(&lt;parâmetros&gt;){...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80E-562E-4070-917A-4FCE4EAB028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xemplo para polimorfismo universal de inclusã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01960" y="1682640"/>
            <a:ext cx="2806560" cy="20448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01960" y="4502160"/>
            <a:ext cx="2806560" cy="20448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01960" y="2057400"/>
            <a:ext cx="2806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01960" y="3048120"/>
            <a:ext cx="2806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12080" y="1708200"/>
            <a:ext cx="151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Times New Roman"/>
              </a:rPr>
              <a:t>Funcionar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01960" y="4952880"/>
            <a:ext cx="2806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01960" y="5867280"/>
            <a:ext cx="2806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89120" y="2089080"/>
            <a:ext cx="859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nom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R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salar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09920" y="3079800"/>
            <a:ext cx="1738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umenta(valor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agament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38280" y="4557600"/>
            <a:ext cx="117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hef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34680" y="4984920"/>
            <a:ext cx="1864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onta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gastos_extr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dicional_chef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36120" y="600552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gam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44960" y="4044960"/>
            <a:ext cx="291960" cy="2160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191120" y="3727440"/>
            <a:ext cx="0" cy="393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273560"/>
            <a:ext cx="0" cy="216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F46-61A1-48FC-929A-E1A128D34F5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3300"/>
                </a:solidFill>
                <a:latin typeface="Times New Roman"/>
              </a:rPr>
              <a:t>Implementação da superclasse Funcionari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 Funcionario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tring nome,RG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loat salário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uncionario(String nomef,String ident,float sal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nome=nomef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RG=ident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alario=sal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void aumenta(float pouco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alario=salario+pouco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loat pagamento(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return (salario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F2C-D664-4367-B629-C80C7ABBF52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Implementação da subclasse Chefe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Chef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Funcionario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contas, gastos_extra,adicional_chefia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hefe(String nomef,String RG, float sal, float contas,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gastos_extra, float adicional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uper(nome,RG,sal);   // Construtor da superclasse (Funcionario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contas=contas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gastos_extra=gastos_extra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adicional_chefia=adicional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pagamento(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recebe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ebe=super.pagamento();  // Chamada no contexto da superclass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ebe=recebe+contas+gastos_extra+adicional_chefia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turn(recebe);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085-E459-4E53-B9B2-E0953C59A9E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3300"/>
                </a:solidFill>
                <a:latin typeface="Times New Roman"/>
              </a:rPr>
              <a:t>Chamadas na superclasse e subclasse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ganhando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Chefe joao=new Chefe(“João”,”320”,11150,1250,680, 5000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Funcionario maria=new Funcionario(“Maria”,”16.000”,2000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System.out.println(“João ganha”+joao.pagamento()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                                                             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| Chamada no contexto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da subclasse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System.out.println(“Maria ganha”+maria.pagamento());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| Chamada no contexto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da superclasse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                   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0C4-7EC4-4704-9469-B510A4FCE2B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3300"/>
                </a:solidFill>
                <a:latin typeface="Times New Roman"/>
              </a:rPr>
              <a:t>POLIMORFISMO ad-hoc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ecanismo de trabalho com um número finito de tip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 polimorfismo ad-hoc pode ser de dois tip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or coerçã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or sobrecarg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4E2-D783-4B62-B7F2-70A36500241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3300"/>
                </a:solidFill>
                <a:latin typeface="Times New Roman"/>
              </a:rPr>
              <a:t>POLIMORFISMO ad-hoc POR COERÇÃ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eio de contornar a rigidez de tipos monomórfico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 linguagem dá suporte à coerção através de um mapeamento interno entre tipos. O tipo que está sendo mapeado é chamado coargid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453-4E89-4451-8D05-EEDE94E5733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3300"/>
                </a:solidFill>
                <a:latin typeface="Times New Roman"/>
              </a:rPr>
              <a:t>Exemplo de polimorfismo ad-hoc por coersã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numero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num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numero(float num){ // Construto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num=num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soma(float num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num+=num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teste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numero n=new numero(1.3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valor=5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n.soma(valor);    // valor é coargido de int para float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402000"/>
                </a:solidFill>
                <a:latin typeface="Arial"/>
              </a:rPr>
              <a:t>                          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EF8-37F8-4B40-8484-AC6AFF51A3A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3300"/>
                </a:solidFill>
                <a:latin typeface="Times New Roman"/>
              </a:rPr>
              <a:t>POLIMORFISMO ad-hoc POR SOBRECARGA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ermite que um nome de método seja usado mais do que uma vez com dieferentes tipos de parâmetr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 seleção do método adequado é feita com base em comparação dos tipos dos parâmetr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CF9-D469-4037-AAA0-AFED948BDE4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3300"/>
                </a:solidFill>
                <a:latin typeface="Times New Roman"/>
              </a:rPr>
              <a:t>Exemplo de polimorfismo ad-hoc por sobrecarg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complexo{       // Números da forma a+bi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real,imagin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mplexo(float r,float i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al=r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magin=i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mplexo soma(float r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Soma r na parte real e devolve o complexo resultant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mplexo s=new complexo(real+r,imagin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turn(s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mplexo soma(float r,float i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Soma r na parte real e i na parte imaginária e devolve o resultad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mplexo s=new complexo(real+r,imagin+i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turn(s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C37-0ACA-4085-8F9A-27CCA232C3A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3300"/>
                </a:solidFill>
                <a:latin typeface="Times New Roman"/>
              </a:rPr>
              <a:t>Exemplo de polimorfismo ad-hoc por sobrecarga(continuação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 teste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mplexo num=new complexo(1,1);  // Cria 1+i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mplexo num2=num.soma(1);         // Cria 2+i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mplexo num3=num.soma(1,1);      // Cria 2+2i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EA5-9EB8-49CE-9720-D0FC2AAEFB5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nstanciação de classe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nstanciação uma operação que permite evidenciar elementos (objetos) de uma class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nstanciação é uma operação na classe, não uma operação da instância da classe (objeto). Por convenção em Java, a operação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new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cria instâncias de uma classe, responsável pela alocação dos objetos, mas não pela inicialização dos atribut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973-8FAB-4145-BCA0-066B6787731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CLASSES ABSTRATA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ma classe abstrata(ou virtual) é uma classe da qual nunca são criadas instâncias. Ela existe para reunir características comuns de seus descendentes, onde estas características por si só não são suficientes para definir uma instânci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ortanto, não tem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onstrutore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asses instanciáveis são chamadas concreta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769-1E04-4E16-84B9-A941F500299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DECLARAÇÃO DE CLASSES ABSTRATAS EM JAVA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tiliza-se o modificador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abstrac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, antes do início da class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abstract class &lt;nome&gt;{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D11-82D9-4112-8AFC-BB8EA92E650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xemplo de classe abstrat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bstract class figura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tatic int cor=10;     // todas as figuras terão cor 10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void imprime_tipo(int tipo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// Imprime tipo da figur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witch(tipo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ase 0: System.out.println(“Quadrado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ase 1: System.out.println(“Círculo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default: System.out.println(“Figura indefinida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842-4679-400E-87B9-F382339568A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Exemplo de classe abstrata (continuação) 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quadrad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figura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lado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quadrado(float lado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lado=lado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imprime(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Imprime o nome da figura na saída-padr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mprime(0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imprime_completo(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ystem.out.println(“Quadrado de lado “+lado+ “ e cor ”+cor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81B-028D-480E-A445-59F4EF4E6C8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Exemplo de classe abstrata (continuação)  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circul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figura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raio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irculo(float raio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 raio=raio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imprime(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Imprime o nome da figura na saída-padr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mprime(1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imprime_completo(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ystem.out.println(“Círculo de raio “+raio+” e  cor ”+cor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714-ED32-47E7-A7A6-5D3289BE374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MÉTODOS ABSTRATO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étodos abstratos (ou virtuais) são métodos declarados na classe base de uma hierarquia de classes, com a finalidade de definir a forma de uma operação para qual cada subclasse concreta deve providenciar sua própria implementaçã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369-50E1-4FE4-A0C8-1AAABD458AF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lguns detalhes ...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ó métodos de instância podem ser abstratos. Logo, métodos estáticos não podem ser abstrat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o declarar um método como abstrato, não se pode mais acessá-l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étodos abstratos só podem estar dentro de classes abstrata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B9C-7A3E-4A7A-B5E2-CDB89FAA394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Declaração de métodos abstrat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tiliza-se o modificador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abstrac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antes do métod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402000"/>
                </a:solidFill>
                <a:latin typeface="Arial"/>
              </a:rPr>
              <a:t>abstract &lt;tipo&gt; nome do método(...)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CC3-3C9B-4192-8EA4-BE5E3D5C443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xemplo de método abstrat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bstract class numero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bstract void imprime();  // Método imprime abtrat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void imprime(int N){        // Considerado diferente do método anterio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witch(N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ase 0: System.out.println(“Número complexo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ase 1: System.out.println(“Número racional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default: System.out.println(“Número indefinido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554-16EB-44B6-BC1C-8108529A15F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Times New Roman"/>
              </a:rPr>
              <a:t>Exemplo de método abstrato(continuação) </a:t>
            </a:r>
            <a:endParaRPr b="0" lang="en-US" sz="35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complex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numero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imprime(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Imprime o número complexo na saída-padr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ystem.out.println(real+”+”+imagin+”i”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racional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numero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imprime(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Imprime o número complexo na saída-padr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ystem.out.println(numerador+”/”+denominador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759-42E9-4F25-A8C9-C9D2B5F157F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nstrutores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mo um método de classe não pode acessar diretamente os atributos na nova instância, um método de instância(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construto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) precisa ser escrito para inicializar os atribut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Em Java, o nome do construtor é o mesmo nome da classe. Numa mesma classe, podem existir construtores sobrecarregados. O nome do construtor(e possíveis parâmetros) aparece junto com a operação new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95C-B0BD-4B81-AB64-D595BFA4628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odificador final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 modificador final tem comportamentos diferentes, dependendo do local onde é aplicad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tributos: uma vez que é inicializado, não pode mais sofrer alteração (~constante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étodos: nas classes descendentes, não pode mais haver polimorfismo por coerção com o métod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es: não podem mais ser extendida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3C5-A4F2-4D88-B3C8-01F895561EF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xemplo de uso de </a:t>
            </a: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final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class classe1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final double pi=3.1415926535;    // Inicialização de pi ( funciona como constante 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final void calcula()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pi=2.718;    // ERRO DE COMPILAÇÃO! pi já foi inicializado!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inal class classe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extends classe1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void calcula(){...};  //ERRO! calcula() é final na superclass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 classe3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extends classe2{  // ERRO! classe2 é final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A1B-E973-4CC2-B73E-AF32C837014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NTERFACE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ma interface é uma lista de métodos para um determinado fim. Interfaces têm várias características importante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s métodos são genéricos e podem ser implementados por qualquer classe, independente da hierarquia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ma mesma classe pode implementar métodos de várias interfaces diferent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terfaces podem generalizar outras interfaces, inclusive com herança múltipla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54F-11FC-4B62-8F17-ECC58B11F91B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DECLARAÇÃO DE INTERFACE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public interface &lt;nome&gt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extends interface1,...,interfaceN{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&lt;tipo&gt; atributo1 = inicialização1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&lt;tipo&gt; atributo2 = inicialização2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&lt;tipo&gt; public metodo1(parâmetros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02000"/>
                </a:solidFill>
                <a:latin typeface="Times New Roman"/>
              </a:rPr>
              <a:t>Os atributos de uma interface fazem papel de constantes para a classe que implementa a interface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FBC-8207-4F4A-A7B4-56B627BB074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UTILIZAÇÃO DE INTERFACE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class &lt;nome&gt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implements interface1,...,interfaceN{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&lt;tipo&gt; public metodo1(parâmetros){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Implementação..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A8F-F334-44AE-A4F0-5F2DF4E1AA2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Exemplo ( Interfaces para um sistema gráfico )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interface Rotacao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void roda(float grau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void rodaesquerda(float grau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void rodadireita(float grau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interface Reflexao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void refleteordenada(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void refleteabscissa(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void refleteorigem(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DD7-592D-4447-BA09-EEA9D2EF31D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Exemplo ( Interfaces para um sistema gráfico )(continuação)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interface Transform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extends Rotacao, Reflexao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void reduz(int escala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void aumenta(int escala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interface Constantes_Geometricas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loat pi=3.1415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loat angulo_reto=90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loat PI=180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DC2-756E-4EE8-AA07-46CC47AF9FD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Exemplo de implementação de interface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public class Quadrad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implements Transforma,Constantes_Geometricas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int lado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Quadrado(int lado){ // Construto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this.lado=lado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public void aumenta(int escala){ // Protótipo da interface Transform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lado=lado*escala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public void roda(float graus){ // Protótipo da interface Rotaca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float radianos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radianos=(graus*PI)/pi;  // Constantes da interface Constantes_Geometrica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5C9-2616-41D6-817C-005D0BA16C87}" type="slidenum">
              <a:t>57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xemplo de construto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 Funcionario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tring nome,RG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loat salário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uncionario(String nomef,String ident,float sal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nome=nomef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RG=ident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alario=sal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 admissão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uncionario ze=new Funcionario(“Zé”,”15.000”,150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F43-4D91-4DBC-944E-D25A50460B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nstrutores implícito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 Funcionario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tring nome,RG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loat salário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void admite(String nomef,String ident,float sal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nome=nomef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RG=ident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alario=sal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 admissão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uncionario ze=new Funcionario(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ze.admite(“Ze”,”15.000”,150)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F13-6BDB-4682-93EE-B659270D11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nstrutores sobrecarregados(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 Funcionario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tring nome,RG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loat salário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uncionario(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nome=“ “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RG=“ “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alario=0.0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uncionario(String nomef,String ident,float sal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nome=nomef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RG=ident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salario=sal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void admite(String nomef,String ident,float sal){...}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065-87CC-4B87-B617-8A63EE4E03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nstrutores sobrecarregados(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sando a classe anterior, poderíamos inicializar as instâncias de dois mod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admissão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uncionario ze=new Funcionario(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uncionario maria=new Funcionario(“Maria”,”0”,300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ze.admite(“Ze”,”15.000”,150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932-611B-4F88-94AD-B4E82FB1E42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10:59:04Z</dcterms:created>
  <dc:creator>IME</dc:creator>
  <dc:description/>
  <dc:language>en-US</dc:language>
  <cp:lastModifiedBy>nilsa</cp:lastModifiedBy>
  <cp:lastPrinted>1999-01-06T09:23:02Z</cp:lastPrinted>
  <dcterms:modified xsi:type="dcterms:W3CDTF">2002-09-24T01:31:18Z</dcterms:modified>
  <cp:revision>5</cp:revision>
  <dc:subject/>
  <dc:title>JAVA: Tecnologia e Tendências</dc:title>
</cp:coreProperties>
</file>