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0B8-A2B2-4E8E-A559-7E67D103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24CC-AF31-4AE0-BCA9-2006ECD0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38A3-048D-47D5-B01C-303BA803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2883-C7FD-40AE-85B1-E44540D8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AAA9-6916-480C-94FD-D390374D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BA2E-E631-4121-AB58-E8FD32DE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C67B-F2C5-495F-B9C8-0DE3F888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DB39-6027-440D-B2C8-8933A874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01B2-057C-4AC4-8B12-F3901F54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8DC3-93B3-48EF-B928-0119F4F7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9CCC-A9D6-400A-9158-F8D29E67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48CF-65A0-4C65-BFC8-A78AC274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3B67-FAB7-4AF2-B299-D25942AC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F7C6-BB4E-4CAA-B492-A7614660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7598-125E-42C0-94A2-355BCC49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673B-2D69-4ABB-8267-5B255028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A3D4-9AAA-4247-B625-C2ECDF24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FCBE-DCF6-4EAC-A12B-B2E96F0F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9151-AD40-4882-B945-A23782DA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519A-5AC4-4A0E-AC9E-B085D6D6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5D42-45CF-44EE-B7D0-6B251D37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A72B-1C93-4B59-8B1C-4BC62C13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4014-0412-4870-AFF3-7E0AA656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8D67-A952-461B-AE5F-9420E57E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93396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0CF7-3927-4D03-B08C-56F72C6FA6A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D623-60B7-491A-AAB2-C647110069F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2956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0"/>
            <a:ext cx="8872560" cy="6870600"/>
            <a:chOff x="0" y="0"/>
            <a:chExt cx="8872560" cy="6870600"/>
          </a:xfrm>
        </p:grpSpPr>
        <p:sp>
          <p:nvSpPr>
            <p:cNvPr id="9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76400" cy="68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402000"/>
                </a:solidFill>
                <a:latin typeface="Times New Roman"/>
              </a:rPr>
              <a:t>INTRODUÇÃO À LINGUAGEM JAVA</a:t>
            </a:r>
            <a:br>
              <a:rPr sz="4000"/>
            </a:b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70536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Segunda Aula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2000"/>
                </a:solidFill>
                <a:latin typeface="Times New Roman"/>
              </a:rPr>
              <a:t>Programando com a linguagem Java e Applets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2000"/>
                </a:solidFill>
                <a:latin typeface="Times New Roman"/>
              </a:rPr>
              <a:t>Nilsa Areán García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21.09.2002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E5AD-A8CB-4709-9CB7-E20393E5F8D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ipos básicos(II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float( 32 bits - Precisão simples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Variação:-3,4E-38... +3,4E+38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double ( 64 bits  - Precisão dupla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Variação:-1,7E-308... +1,7E+308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E7A-D43D-4F96-88C1-0137BA4A2C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ipos básicos(III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har( 16 bits sem sinal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Variação: 0... 65535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Inclui UNICODE ( alfabetos latino, grego, cirílico, ideogramas japonês, etc 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boolean ( 1 bit - tipo lógico 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Variação: true ou fal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7689-7143-4B6F-9D52-95CE211BD47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Operadores básicos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referência a método, função ou atributo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de um objeto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separador de identificadore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402000"/>
                </a:solidFill>
                <a:latin typeface="Times New Roman"/>
              </a:rPr>
              <a:t>;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separador de declarações e comando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402000"/>
                </a:solidFill>
                <a:latin typeface="Times New Roman"/>
              </a:rPr>
              <a:t>[ ]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declarador de matrizes e delimitador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de índice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402000"/>
                </a:solidFill>
                <a:latin typeface="Times New Roman"/>
              </a:rPr>
              <a:t>{ }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separador de blocos e escopos locai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402000"/>
                </a:solidFill>
                <a:latin typeface="Times New Roman"/>
              </a:rPr>
              <a:t>(  )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precedência de operadores, listas de 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parâmetro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D4ED-B6D5-4048-A880-C2D18CBE2D9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Operadores aritméticos (I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dição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=x + 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ubtração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=x - 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ivisão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=y / 4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%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sto da divisão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=y % 5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++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cremento de 1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++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++x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--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cremento de 1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--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--x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B01-879F-457E-BFEA-9DF2354E282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Operadores aritméticos (II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+=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tribuição aditiva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x+=3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Tem o mesmo efeito de x=x+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-=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tribuição subtrativa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x-=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*=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tribuição multiplicativa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x*=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/=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tribuição divisiva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x/=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%=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tribuição de resto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x%=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2B89-BECA-4FC4-8ED5-440D90A18FB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Operadores relacionais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= =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gual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= = 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!=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iferent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!=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ior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&gt;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enor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&lt;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gt;=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ior ou igual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&gt;=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=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enor ou igual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&lt;=y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905F-1A0E-47AC-8C32-858DBA5D729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Operadores lógicos e binários (I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~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negação bit a bit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~x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&gt;&gt;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pt-BR" sz="3200" spc="-1" strike="noStrike">
                <a:solidFill>
                  <a:srgbClr val="402000"/>
                </a:solidFill>
                <a:latin typeface="Times New Roman"/>
              </a:rPr>
              <a:t>shift right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x&gt;&gt;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&gt;&gt;&gt;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pt-BR" sz="3200" spc="-1" strike="noStrike">
                <a:solidFill>
                  <a:srgbClr val="402000"/>
                </a:solidFill>
                <a:latin typeface="Times New Roman"/>
              </a:rPr>
              <a:t>shift right 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sem sinal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x&gt;&gt;&gt;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&lt;&lt;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pt-BR" sz="3200" spc="-1" strike="noStrike">
                <a:solidFill>
                  <a:srgbClr val="402000"/>
                </a:solidFill>
                <a:latin typeface="Times New Roman"/>
              </a:rPr>
              <a:t>shift left </a:t>
            </a:r>
            <a:r>
              <a:rPr b="0" i="1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x&lt;&lt;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&gt;&gt;=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tribuição c/ </a:t>
            </a:r>
            <a:r>
              <a:rPr b="0" i="1" lang="pt-BR" sz="3200" spc="-1" strike="noStrike">
                <a:solidFill>
                  <a:srgbClr val="402000"/>
                </a:solidFill>
                <a:latin typeface="Times New Roman"/>
              </a:rPr>
              <a:t>shift right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x&gt;&gt;=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&lt;&lt;=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atribuição c/ </a:t>
            </a:r>
            <a:r>
              <a:rPr b="0" i="1" lang="pt-BR" sz="3200" spc="-1" strike="noStrike">
                <a:solidFill>
                  <a:srgbClr val="402000"/>
                </a:solidFill>
                <a:latin typeface="Times New Roman"/>
              </a:rPr>
              <a:t>shift left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x&lt;&lt;=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&gt;&gt;&gt;=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tribuição c/ </a:t>
            </a:r>
            <a:r>
              <a:rPr b="0" i="1" lang="pt-BR" sz="3200" spc="-1" strike="noStrike">
                <a:solidFill>
                  <a:srgbClr val="402000"/>
                </a:solidFill>
                <a:latin typeface="Times New Roman"/>
              </a:rPr>
              <a:t>shift right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x&gt;&gt;&gt;=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sem si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ABE-7CD3-496D-9A9D-4464CEB510A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Operadores lógicos e binários (II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&amp;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nd lógico bit a bit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x&amp;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|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or lógico bit a bit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x|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^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xor lógico bit a bit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x^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&amp;=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tribuição com &amp;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x&amp;=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|=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tribuição com |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x|=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^=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tribuição com ^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x^=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EA6B-F856-418C-9440-0E8277D5C97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63300"/>
                </a:solidFill>
                <a:latin typeface="Times New Roman"/>
              </a:rPr>
              <a:t>Operadores lógicos e binários (III)</a:t>
            </a:r>
            <a:endParaRPr b="0" lang="en-US" sz="43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? :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pt-BR" sz="3200" spc="-1" strike="noStrike">
                <a:solidFill>
                  <a:srgbClr val="402000"/>
                </a:solidFill>
                <a:latin typeface="Times New Roman"/>
              </a:rPr>
              <a:t>if-then-else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lógico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x=((y&gt;3)?5:6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||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pt-BR" sz="3200" spc="-1" strike="noStrike">
                <a:solidFill>
                  <a:srgbClr val="402000"/>
                </a:solidFill>
                <a:latin typeface="Times New Roman"/>
              </a:rPr>
              <a:t>or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dinâmico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(x&gt;y) || (z&gt;=6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&amp;&amp;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pt-BR" sz="3200" spc="-1" strike="noStrike">
                <a:solidFill>
                  <a:srgbClr val="402000"/>
                </a:solidFill>
                <a:latin typeface="Times New Roman"/>
              </a:rPr>
              <a:t>and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dinâmico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(x&gt;y) &amp;&amp; (z&lt;4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!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not dinâmico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!(x&gt;y)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307-95D4-4BBD-8070-7C01F1558CC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Precedência de operadores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17524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( ) [] . ; ,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++ -- !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* / %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+ -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&gt;&gt; &lt;&lt; &gt;&gt;&gt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&gt; &lt;  &gt;=  &lt;=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== !=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|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&amp;&amp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||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?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=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276720" y="1974600"/>
            <a:ext cx="0" cy="450828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2063880"/>
            <a:ext cx="0" cy="440676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27160" y="2271600"/>
            <a:ext cx="1952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ument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prioridade d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resoluçã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27040" y="2271600"/>
            <a:ext cx="2715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iminui prioridad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e resoluçã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720-5F23-4D77-8821-8DF02FB3899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Tópicos da Segunda Aul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intaxe da linguagem Java e programaçã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e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anismo de funcionamento das apple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anismos de segurança com apple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rutura do pacot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va.apple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ação de apple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terfaceamento de applets com páginas WWW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FD1A-A0AB-450B-8319-29460587FC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omandos de controle (I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Condicio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if ( expressão booleana 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bloco 1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else bloco2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7172-FF12-4D17-ABD9-AEC041EC5DF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omandos de controle (II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Exemplo de condicio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if ((x&gt;5) &amp;&amp; (y!=70)){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x=x+5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y= y+48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else if (x&lt;=5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x=48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else x=20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880D-69AE-483F-B89C-F8E5E214CE9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omandos de controle (III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Seleçã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switch (expressão){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case valor1: bloco1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break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..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case valorN: blocoN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break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default: bloco N+1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E4E-73A0-4442-AC48-9526DE7CBDB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omandos de controle (IV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Exemplo de seleçã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2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clicado%=4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switch(clicado){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case 0: saida=3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break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case 1: saida=2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break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default: saida=0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System.out.println(saida);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4525-E9CC-4461-886C-4CB054E0D8E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omandos de controle (V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Repetição com whi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while( expressão booleana ){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              </a:t>
            </a: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bloco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3AC-70FF-403E-862B-CDE35F28754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omandos de controle (VI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Exemplo de repetição com whi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while(x&gt;6){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              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while(y&gt;9){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                 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while((z&gt;=6) &amp;&amp; (m!=10)){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z++;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m%=10;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                 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y=z+m;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             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             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x+=y;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16160" y="3359160"/>
            <a:ext cx="4254480" cy="204480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87560" y="2978280"/>
            <a:ext cx="4711680" cy="3187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25640" y="3740040"/>
            <a:ext cx="1663920" cy="97812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3F79-C67B-4F02-80BE-EEA4B272534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omandos de controle (VII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Repetição com do-whi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do{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            </a:t>
            </a: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Bloco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} while(expressão booleana)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70D7-3156-4BFC-B528-55D65A0F219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omandos de controle (VIII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Exemplo de repetição com do-while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do{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do{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                 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do{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z++;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m%=10;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                 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} while((z&gt;=6) &amp;&amp; (m!=10));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y=z+m;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             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} while(y&gt;9);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             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x+=y;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2200" spc="-1" strike="noStrike">
                <a:solidFill>
                  <a:srgbClr val="402000"/>
                </a:solidFill>
                <a:latin typeface="Arial"/>
              </a:rPr>
              <a:t>} while(x&gt;6);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25640" y="3587760"/>
            <a:ext cx="1435320" cy="8254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92480" y="3206880"/>
            <a:ext cx="3720960" cy="19684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82640" y="2749680"/>
            <a:ext cx="4559400" cy="3187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C4A-B77D-4498-9D63-4F188D54E1F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omandos de controle (IX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Repetição com f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for(inicialização;condição-limite;iteração){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Bloco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BA9B-2734-439A-9C7B-8F90BFD7F0C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omandos de controle (X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Exemplo de repetição com f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for(x=0,y=0;(x&lt;100) &amp; (y&lt;=20));x++,y++){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for (int z=-5;z&lt;10;z+=3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              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System.out.println(z)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System.out.println(y)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8440" y="3511440"/>
            <a:ext cx="3949920" cy="44460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6680" y="2978280"/>
            <a:ext cx="5016240" cy="15112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8D82-E22B-4114-BEA8-B998C1D4620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Mecanismo de Trabalho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2133720"/>
            <a:ext cx="1752480" cy="9144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57600" y="4343400"/>
            <a:ext cx="1752480" cy="9144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23623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java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480" y="46483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18288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3048120"/>
            <a:ext cx="0" cy="1295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5257800"/>
            <a:ext cx="0" cy="4572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4560" y="152388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Programa Java ( .java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99880" y="335268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Classes ( .class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84040" y="545148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xecução do códig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69480" y="232740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Compilador Ja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2440" y="4537080"/>
            <a:ext cx="25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Interpretador Ja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2590920"/>
            <a:ext cx="533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9160" y="23623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co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200400" y="3733920"/>
            <a:ext cx="12952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2600" y="3546360"/>
            <a:ext cx="198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Bytecod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9720" y="4038480"/>
            <a:ext cx="253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Instruções Java Virtua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Machine - JV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33D0-AE6D-4CE7-BEB1-ECE6947029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3300"/>
                </a:solidFill>
                <a:latin typeface="Times New Roman"/>
              </a:rPr>
              <a:t>Declaração de </a:t>
            </a:r>
            <a:r>
              <a:rPr b="0" i="1" lang="pt-BR" sz="4400" spc="-1" strike="noStrike">
                <a:solidFill>
                  <a:srgbClr val="663300"/>
                </a:solidFill>
                <a:latin typeface="Times New Roman"/>
              </a:rPr>
              <a:t>arrays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tipo &lt;variável&gt;[]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tipo []&lt;variável&gt;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tipo &lt;variável&gt;[][]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tipo [][] &lt;variável&gt;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30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402000"/>
                </a:solidFill>
                <a:latin typeface="Arial"/>
              </a:rPr>
              <a:t>tipo &lt;variável&gt;[]=new tipo[dimensão];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402000"/>
                </a:solidFill>
                <a:latin typeface="Arial"/>
              </a:rPr>
              <a:t>tipo &lt;variável&gt;[][]=new tipo[dim1][dim2];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2341-DE3B-4EF3-85D3-75990AD385B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3300"/>
                </a:solidFill>
                <a:latin typeface="Times New Roman"/>
              </a:rPr>
              <a:t>Exemplos de declaração de </a:t>
            </a:r>
            <a:r>
              <a:rPr b="0" i="1" lang="pt-BR" sz="4000" spc="-1" strike="noStrike">
                <a:solidFill>
                  <a:srgbClr val="663300"/>
                </a:solidFill>
                <a:latin typeface="Times New Roman"/>
              </a:rPr>
              <a:t>arrays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int vetor[]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int [] vetor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float matriz[][]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402000"/>
                </a:solidFill>
                <a:latin typeface="Arial"/>
              </a:rPr>
              <a:t>boolean [][]m;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402000"/>
                </a:solidFill>
                <a:latin typeface="Arial"/>
              </a:rPr>
              <a:t>int vetor[]=new int[100];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boolean matriz[][]=new boolean[100][100];</a:t>
            </a:r>
            <a:r>
              <a:rPr b="1" lang="pt-BR" sz="30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883C-1A97-44A7-ABB3-AF4BAEC718D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3300"/>
                </a:solidFill>
                <a:latin typeface="Times New Roman"/>
              </a:rPr>
              <a:t>Inicialização de </a:t>
            </a:r>
            <a:r>
              <a:rPr b="0" i="1" lang="pt-BR" sz="4000" spc="-1" strike="noStrike">
                <a:solidFill>
                  <a:srgbClr val="663300"/>
                </a:solidFill>
                <a:latin typeface="Times New Roman"/>
              </a:rPr>
              <a:t>arrays </a:t>
            </a:r>
            <a:r>
              <a:rPr b="0" lang="pt-BR" sz="4000" spc="-1" strike="noStrike">
                <a:solidFill>
                  <a:srgbClr val="663300"/>
                </a:solidFill>
                <a:latin typeface="Times New Roman"/>
              </a:rPr>
              <a:t>na declaração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int v[]={3,4,5}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float matriz[][]={{1.5,1.6,1.9},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                            </a:t>
            </a: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{1.5*2,3,6},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                            </a:t>
            </a: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{5*(1.2+2),8,9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                           </a:t>
            </a: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12BD-D4B5-42B4-AE4F-142BAF301CF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3300"/>
                </a:solidFill>
                <a:latin typeface="Times New Roman"/>
              </a:rPr>
              <a:t>Referências a elementos dos </a:t>
            </a:r>
            <a:r>
              <a:rPr b="0" i="1" lang="pt-BR" sz="4000" spc="-1" strike="noStrike">
                <a:solidFill>
                  <a:srgbClr val="663300"/>
                </a:solidFill>
                <a:latin typeface="Times New Roman"/>
              </a:rPr>
              <a:t>arrays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&lt;variável&gt;[índice]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2000"/>
                </a:solidFill>
                <a:latin typeface="Arial"/>
              </a:rPr>
              <a:t>for(i=0;i&lt;100;i++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2000"/>
                </a:solidFill>
                <a:latin typeface="Arial"/>
              </a:rPr>
              <a:t>v[i]=i*40;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2000"/>
                </a:solidFill>
                <a:latin typeface="Arial"/>
              </a:rPr>
              <a:t>v[0]=v[0]-100;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402000"/>
                </a:solidFill>
                <a:latin typeface="Arial"/>
              </a:rPr>
              <a:t>for(i=1;i&lt;50;i++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2000"/>
                </a:solidFill>
                <a:latin typeface="Arial"/>
              </a:rPr>
              <a:t>m[i][i]=v[i]-v[0];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8211-DEFA-4903-AB00-D0513AA3223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Padrões de comentário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/* .............*/    ( Estilo C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// ...............      ( Estilo C++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B703-9329-4E40-98D9-AFE75332677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Exemplo de uma classe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lass numero_racional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int numerador,         // Numerador do númer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denominador;     // Denominador do númer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numero_racional(int num,int denom){  // Construto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 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numerador=num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 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denominador=denom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float racional_para_float(){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// Converte números racionais para ponto flutuant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float real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real= (float) numerador/(float) denominador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return(real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18A3-9B9E-4523-BC32-15565208C38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APPLETS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Applets são pequenos aplicativos escritos em Java que são acessados num servidor da Internet, transportados pela rede, instalados e executados automaticamente na máquina-cliente com parte de um documento WWW. 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Assim que uma applet chega ao cliente, ela tem acesso limitado aos recursos para produzir uma interface com o usuário executar cálculos complexos, sem introduzir o risco de vírus ou quebra da integridade dos dados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131-0C25-4C8E-85CD-3851804C939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Mecanismo de carregamento de applets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25440" y="2139840"/>
            <a:ext cx="1206720" cy="349272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8080" y="2368440"/>
            <a:ext cx="901440" cy="216000"/>
          </a:xfrm>
          <a:prstGeom prst="rect">
            <a:avLst/>
          </a:prstGeom>
          <a:solidFill>
            <a:srgbClr val="000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8080" y="2825640"/>
            <a:ext cx="901440" cy="216000"/>
          </a:xfrm>
          <a:prstGeom prst="rect">
            <a:avLst/>
          </a:prstGeom>
          <a:solidFill>
            <a:srgbClr val="000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8080" y="3359160"/>
            <a:ext cx="901440" cy="216000"/>
          </a:xfrm>
          <a:prstGeom prst="rect">
            <a:avLst/>
          </a:prstGeom>
          <a:solidFill>
            <a:srgbClr val="000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8080" y="3816360"/>
            <a:ext cx="901440" cy="216000"/>
          </a:xfrm>
          <a:prstGeom prst="rect">
            <a:avLst/>
          </a:prstGeom>
          <a:solidFill>
            <a:srgbClr val="000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8080" y="4273560"/>
            <a:ext cx="901440" cy="216000"/>
          </a:xfrm>
          <a:prstGeom prst="rect">
            <a:avLst/>
          </a:prstGeom>
          <a:solidFill>
            <a:srgbClr val="000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8080" y="4730760"/>
            <a:ext cx="901440" cy="216000"/>
          </a:xfrm>
          <a:prstGeom prst="rect">
            <a:avLst/>
          </a:prstGeom>
          <a:solidFill>
            <a:srgbClr val="000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8080" y="5187960"/>
            <a:ext cx="901440" cy="216000"/>
          </a:xfrm>
          <a:prstGeom prst="rect">
            <a:avLst/>
          </a:prstGeom>
          <a:solidFill>
            <a:srgbClr val="000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996840" y="5645160"/>
            <a:ext cx="1587600" cy="216000"/>
          </a:xfrm>
          <a:custGeom>
            <a:avLst/>
            <a:gdLst>
              <a:gd name="textAreaLeft" fmla="*/ 233280 w 1587600"/>
              <a:gd name="textAreaRight" fmla="*/ 1354320 w 1587600"/>
              <a:gd name="textAreaTop" fmla="*/ 31680 h 216000"/>
              <a:gd name="textAreaBottom" fmla="*/ 184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030" y="21600"/>
                </a:lnTo>
                <a:lnTo>
                  <a:pt x="2570" y="21600"/>
                </a:lnTo>
                <a:close/>
              </a:path>
            </a:pathLst>
          </a:cu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1765440"/>
            <a:ext cx="0" cy="4775040"/>
          </a:xfrm>
          <a:prstGeom prst="line">
            <a:avLst/>
          </a:prstGeom>
          <a:ln w="2556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35680" y="3054240"/>
            <a:ext cx="596880" cy="1663920"/>
          </a:xfrm>
          <a:custGeom>
            <a:avLst/>
            <a:gdLst>
              <a:gd name="textAreaLeft" fmla="*/ 21600 w 596880"/>
              <a:gd name="textAreaRight" fmla="*/ 575280 w 596880"/>
              <a:gd name="textAreaTop" fmla="*/ 21600 h 1663920"/>
              <a:gd name="textAreaBottom" fmla="*/ 1642320 h 1663920"/>
            </a:gdLst>
            <a:ahLst/>
            <a:rect l="textAreaLeft" t="textAreaTop" r="textAreaRight" b="textAreaBottom"/>
            <a:pathLst>
              <a:path w="21600" h="60191">
                <a:moveTo>
                  <a:pt x="2699" y="0"/>
                </a:moveTo>
                <a:arcTo wR="2699" hR="2699" stAng="16200000" swAng="-5400000"/>
                <a:lnTo>
                  <a:pt x="0" y="57492"/>
                </a:lnTo>
                <a:arcTo wR="2699" hR="2699" stAng="10800000" swAng="-5400000"/>
                <a:lnTo>
                  <a:pt x="18901" y="60191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97440" y="1758960"/>
            <a:ext cx="1587600" cy="410220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97640" y="1758960"/>
            <a:ext cx="1359000" cy="410220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44760" y="3886200"/>
            <a:ext cx="257796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645160" y="2812680"/>
            <a:ext cx="749160" cy="107964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45160" y="3886200"/>
            <a:ext cx="74916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45160" y="3892680"/>
            <a:ext cx="673200" cy="113004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52640" y="5929200"/>
            <a:ext cx="141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Servid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10760" y="6081840"/>
            <a:ext cx="92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Red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55640" y="265284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class loade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62720" y="5396040"/>
            <a:ext cx="807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JV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334120" y="4717800"/>
            <a:ext cx="0" cy="54612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05680" y="5235480"/>
            <a:ext cx="1653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Polític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de seguranç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52720" y="2682720"/>
            <a:ext cx="1338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Recurso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( arquivos,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etc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00200" y="341460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Apple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9880" y="1682640"/>
            <a:ext cx="4483080" cy="478800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57640" y="6081840"/>
            <a:ext cx="119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25840" y="1758960"/>
            <a:ext cx="3035520" cy="4635360"/>
          </a:xfrm>
          <a:prstGeom prst="rect">
            <a:avLst/>
          </a:prstGeom>
          <a:noFill/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7480" y="6005520"/>
            <a:ext cx="175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Navegad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D98D-40EE-4EA2-95C5-BE1A8EFF567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Mecanismos de segurança com applets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s níveis de segurança com applets variam de acordo com sua origem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pplets carregadas localmente tem mecanismos de segurança mais relaxados, a menos que alterados os gerenciadores de segurança (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Security Manager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pplets carregadas remotamente estão sujeitas a sérias restrições de segurança, dependentes dos </a:t>
            </a: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class loader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E9CB-2794-4458-8602-615130694CA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Mecanismos de segurança para carga remota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Os navegadores atuais impõem as seguintes restrições a applets carregadas remotamente: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 algn="just">
              <a:spcBef>
                <a:spcPts val="6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não podem carregar bibliotecas ou definir métodos nativo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 algn="just">
              <a:spcBef>
                <a:spcPts val="6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não podem ler ou escrever em arquivos da máquina-cliente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 algn="just">
              <a:spcBef>
                <a:spcPts val="6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não pode fazer conexões de rede, exceto com o servidor de origem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 algn="just">
              <a:spcBef>
                <a:spcPts val="6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não pode executar nenhum programa do servidor da máquina-cliente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 algn="just">
              <a:spcBef>
                <a:spcPts val="6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não pode ler certas propriedades do sistema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BFB9-691F-40C7-A7F9-8336D65A491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pt-BR" sz="4400" spc="-1" strike="noStrike">
                <a:solidFill>
                  <a:srgbClr val="402000"/>
                </a:solidFill>
                <a:latin typeface="Times New Roman"/>
              </a:rPr>
              <a:t>Estrutura de um arquivo .jav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1828800"/>
            <a:ext cx="5715000" cy="4483080"/>
          </a:xfrm>
          <a:prstGeom prst="rect">
            <a:avLst/>
          </a:prstGeom>
          <a:noFill/>
          <a:ln w="32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Times New Roman"/>
              </a:rPr>
              <a:t>import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pacote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..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Times New Roman"/>
              </a:rPr>
              <a:t>class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classe1{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..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Times New Roman"/>
              </a:rPr>
              <a:t>class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classe2{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402000"/>
                </a:solidFill>
                <a:latin typeface="Times New Roman"/>
              </a:rPr>
              <a:t>public static void main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1" lang="pt-BR" sz="2400" spc="-1" strike="noStrike">
                <a:solidFill>
                  <a:srgbClr val="402000"/>
                </a:solidFill>
                <a:latin typeface="Times New Roman"/>
              </a:rPr>
              <a:t>String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args[]){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7EFF-9BEC-41C9-90BF-288D5706D7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Como os navegadores gerenciam segurança?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da navegador tem uma instância da classe SecurityManager que implementa sua política de segurança. Quando esta instância detecta uma violação, ele lança uma exceção SecurityExceptio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applet, então, pode recuperar esta exceção e reagir apropriadament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4CD5-6A63-4D8B-924E-0D2C4B5B413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Applets carregadas remotamente podem fazer o quê?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Os navegadores atuais liberam as seguintes funcionalidades para applets: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podem realizar conexões de rede com o servidor de origem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podem acionar a exibição de documentos HTML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podem invocar métodos públicos de outras applets na mesma página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não precisam parar de executar quando se muda de página, embora a maioria das applets pare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65F-143E-47FA-8081-9E6EC501ABA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Applets carregadas localmente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pplets carregadas do sistema local de arquivos ( de um diretório especificado no CLASSPATH) não têm nenhuma das restrições das applets carregadas remotamente, a menos que explicitado num mecanismo de segurança local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7C4-9167-4D8A-928B-A5E89EB872A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Estrutura do pacote </a:t>
            </a: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java.applet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18320" y="3271680"/>
            <a:ext cx="65700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28240" y="4543560"/>
            <a:ext cx="85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402000"/>
                </a:solidFill>
                <a:latin typeface="Arial"/>
              </a:rPr>
              <a:t>Legenda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24000" y="4842000"/>
            <a:ext cx="57456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25440" y="5645160"/>
            <a:ext cx="596880" cy="291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25440" y="609588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25440" y="647712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24000" y="5222880"/>
            <a:ext cx="57456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66320" y="4848120"/>
            <a:ext cx="167940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Arial"/>
              </a:rPr>
              <a:t>CLASS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Arial"/>
              </a:rPr>
              <a:t>CLASSE ABSTRAT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Arial"/>
              </a:rPr>
              <a:t>extend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Arial"/>
              </a:rPr>
              <a:t>implemen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65160" y="1738440"/>
            <a:ext cx="7585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s funcionalidades das applets são implementadas com ba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o pacote 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java.apple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27840" y="3281400"/>
            <a:ext cx="102744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80880" y="3281400"/>
            <a:ext cx="89316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Arial"/>
              </a:rPr>
              <a:t>Contain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27720" y="3281400"/>
            <a:ext cx="59004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Arial"/>
              </a:rPr>
              <a:t>Panel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19920" y="3281400"/>
            <a:ext cx="65556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Arial"/>
              </a:rPr>
              <a:t>Apple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45480" y="4049640"/>
            <a:ext cx="1222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Arial"/>
              </a:rPr>
              <a:t>AppletContex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46200" y="4659480"/>
            <a:ext cx="993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Arial"/>
              </a:rPr>
              <a:t>AppletStub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44760" y="5192640"/>
            <a:ext cx="90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Arial"/>
              </a:rPr>
              <a:t>AudioClip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40440" y="4044960"/>
            <a:ext cx="1206720" cy="291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40440" y="4654440"/>
            <a:ext cx="1054080" cy="2923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40440" y="5187960"/>
            <a:ext cx="978120" cy="291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32800" y="4049640"/>
            <a:ext cx="1295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Arial"/>
              </a:rPr>
              <a:t>ImageObserv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68440" y="3968640"/>
            <a:ext cx="1206720" cy="3682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6840" y="2901960"/>
            <a:ext cx="1130400" cy="7491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16160" y="2901960"/>
            <a:ext cx="4254480" cy="7491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16160" y="3816360"/>
            <a:ext cx="4254480" cy="8254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35880" y="2901960"/>
            <a:ext cx="1892160" cy="28065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87560" y="3429000"/>
            <a:ext cx="4446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11440" y="3429000"/>
            <a:ext cx="4446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83040" y="3429000"/>
            <a:ext cx="5209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26040" y="3429000"/>
            <a:ext cx="9018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59760" y="2568600"/>
            <a:ext cx="739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java.lang                               java.awt                                  java.apple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29000" y="4702320"/>
            <a:ext cx="179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java.awt.imag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895480" y="3574800"/>
            <a:ext cx="0" cy="39348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7F13-8684-4DE1-8337-41088768B70A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Implementação de applets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02000"/>
                </a:solidFill>
                <a:latin typeface="Times New Roman"/>
              </a:rPr>
              <a:t>Applets geralmente são implementadas extendendo-se a classe Applet e especificando-se os seguintes métodos: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 algn="just">
              <a:lnSpc>
                <a:spcPct val="100000"/>
              </a:lnSpc>
              <a:spcBef>
                <a:spcPts val="624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2000"/>
                </a:solidFill>
                <a:latin typeface="Arial"/>
              </a:rPr>
              <a:t>public void init() </a:t>
            </a:r>
            <a:r>
              <a:rPr b="0" lang="en-US" sz="2500" spc="-1" strike="noStrike">
                <a:solidFill>
                  <a:srgbClr val="402000"/>
                </a:solidFill>
                <a:latin typeface="Times New Roman"/>
              </a:rPr>
              <a:t>: responsável pela inicialização da applet.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 algn="just">
              <a:lnSpc>
                <a:spcPct val="100000"/>
              </a:lnSpc>
              <a:spcBef>
                <a:spcPts val="624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2000"/>
                </a:solidFill>
                <a:latin typeface="Arial"/>
              </a:rPr>
              <a:t>public void start() </a:t>
            </a:r>
            <a:r>
              <a:rPr b="0" lang="en-US" sz="2500" spc="-1" strike="noStrike">
                <a:solidFill>
                  <a:srgbClr val="402000"/>
                </a:solidFill>
                <a:latin typeface="Times New Roman"/>
              </a:rPr>
              <a:t>: funciona como um ponto de partida depois que uma applet foi interrompida.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 algn="just">
              <a:lnSpc>
                <a:spcPct val="100000"/>
              </a:lnSpc>
              <a:spcBef>
                <a:spcPts val="624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2000"/>
                </a:solidFill>
                <a:latin typeface="Arial"/>
              </a:rPr>
              <a:t>public void stop() </a:t>
            </a:r>
            <a:r>
              <a:rPr b="0" lang="en-US" sz="2500" spc="-1" strike="noStrike">
                <a:solidFill>
                  <a:srgbClr val="402000"/>
                </a:solidFill>
                <a:latin typeface="Times New Roman"/>
              </a:rPr>
              <a:t>: chamado quando o navegador sai da página contendo a applet.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 algn="just">
              <a:lnSpc>
                <a:spcPct val="100000"/>
              </a:lnSpc>
              <a:spcBef>
                <a:spcPts val="624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2000"/>
                </a:solidFill>
                <a:latin typeface="Arial"/>
              </a:rPr>
              <a:t>public void destroy() </a:t>
            </a:r>
            <a:r>
              <a:rPr b="0" lang="en-US" sz="2500" spc="-1" strike="noStrike">
                <a:solidFill>
                  <a:srgbClr val="402000"/>
                </a:solidFill>
                <a:latin typeface="Times New Roman"/>
              </a:rPr>
              <a:t>: chamado quando o navegador determina que a applet seja removida completamente da memória.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9323-5791-4BEB-91DB-3E771FFED9C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Ciclo de vida de uma apple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8080" y="25970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78280" y="2292480"/>
            <a:ext cx="1739880" cy="9777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57400" y="2610000"/>
            <a:ext cx="17845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2000"/>
                </a:solidFill>
                <a:latin typeface="Arial"/>
              </a:rPr>
              <a:t>Inicializando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83240" y="2292480"/>
            <a:ext cx="1739880" cy="9777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38680" y="2533680"/>
            <a:ext cx="162180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2000"/>
                </a:solidFill>
                <a:latin typeface="Arial"/>
              </a:rPr>
              <a:t>Inicializado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83240" y="4730760"/>
            <a:ext cx="1739880" cy="9777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62720" y="4971960"/>
            <a:ext cx="182736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2000"/>
                </a:solidFill>
                <a:latin typeface="Arial"/>
              </a:rPr>
              <a:t>Interrompido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54240" y="4654440"/>
            <a:ext cx="1739880" cy="978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10400" y="4896000"/>
            <a:ext cx="158796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2000"/>
                </a:solidFill>
                <a:latin typeface="Arial"/>
              </a:rPr>
              <a:t>Destruindo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78080" y="5035680"/>
            <a:ext cx="21564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01760" y="4959360"/>
            <a:ext cx="368280" cy="368280"/>
          </a:xfrm>
          <a:prstGeom prst="ellipse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30360" y="2743200"/>
            <a:ext cx="143496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30760" y="2743200"/>
            <a:ext cx="17398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05720" y="3282840"/>
            <a:ext cx="0" cy="143532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7238880" y="3269880"/>
            <a:ext cx="0" cy="146052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794120" y="5181480"/>
            <a:ext cx="168912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1669680" y="5181480"/>
            <a:ext cx="13842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35920" y="2271600"/>
            <a:ext cx="84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init(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62160" y="2347920"/>
            <a:ext cx="1047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start(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00440" y="3871800"/>
            <a:ext cx="1047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start(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99880" y="387180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stop(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14800" y="4786200"/>
            <a:ext cx="148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destroy(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405-CC6C-4075-AE68-E58210DA054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Exemplo de uma apple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import java.awt.*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import java.applet.*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public class minhaapplet // Applets são, geralmente, pública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extends Applet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public void init(){   // Método de inicialização da apple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Button botao1= new Button (“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Por favor: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Pressione-me”);// cria o botão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add(botao1);// Adiciona botão no painel da apple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public boolean action(Event e,Object o){ // Evento no botã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System.out.println(“Fui apertado”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return(true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5EE-A669-4E88-931B-AE090F7F4078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Interfaceamento de applets com páginas WWW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pplets são colocadas facilmente em páginas HTML ( 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per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t 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rkup 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guage) através do marcador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&lt;applet parâmetros&gt;</a:t>
            </a: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      &lt;/applet&gt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608C-A68D-4C52-B59D-E6401AE1705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HTML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HTML é uma linguagem de marcadores de hipertexto. A estrutura de uma página padrão em html é a seguinte: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&lt;html&gt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&lt;head&gt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&lt;title&gt; Título da página&lt;/title&gt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&lt;/head&gt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&lt;body&gt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&lt;/body&gt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&lt;/html</a:t>
            </a:r>
            <a:r>
              <a:rPr b="1" lang="en-US" sz="2600" spc="-1" strike="noStrike">
                <a:solidFill>
                  <a:srgbClr val="402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6840" y="3130560"/>
            <a:ext cx="5473800" cy="12826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6840" y="4502160"/>
            <a:ext cx="5473800" cy="12826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62000" y="3559320"/>
            <a:ext cx="246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Cabeçalho da págin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61280" y="4854600"/>
            <a:ext cx="1987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Corpo da págin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ADC6-35A5-4926-A4F7-17DC3E465BB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Sintaxe completa do marcador &lt;applet&gt;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Arial"/>
              </a:rPr>
              <a:t>&lt;applet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402000"/>
                </a:solidFill>
                <a:latin typeface="Arial"/>
              </a:rPr>
              <a:t>codebase= URL do código da applet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402000"/>
                </a:solidFill>
                <a:latin typeface="Arial"/>
              </a:rPr>
              <a:t>code=.class da applet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402000"/>
                </a:solidFill>
                <a:latin typeface="Arial"/>
              </a:rPr>
              <a:t>alt=texto alternativo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402000"/>
                </a:solidFill>
                <a:latin typeface="Arial"/>
              </a:rPr>
              <a:t>name=nome da instância da applet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402000"/>
                </a:solidFill>
                <a:latin typeface="Arial"/>
              </a:rPr>
              <a:t>width=comprimento do painel da applet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402000"/>
                </a:solidFill>
                <a:latin typeface="Arial"/>
              </a:rPr>
              <a:t>height=altura do painel da applet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402000"/>
                </a:solidFill>
                <a:latin typeface="Arial"/>
              </a:rPr>
              <a:t>align=alinhamento da applet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402000"/>
                </a:solidFill>
                <a:latin typeface="Arial"/>
              </a:rPr>
              <a:t>vspace=espaço acima e abaixo da applet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402000"/>
                </a:solidFill>
                <a:latin typeface="Arial"/>
              </a:rPr>
              <a:t>hspace=espaço de cada lado da applet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Arial"/>
              </a:rPr>
              <a:t>&lt;/applet&gt;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43000" y="2139840"/>
            <a:ext cx="0" cy="37972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01FB-57BC-4C00-8BA8-9A86393816E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3300"/>
                </a:solidFill>
                <a:latin typeface="Times New Roman"/>
              </a:rPr>
              <a:t>Organização de um programa Jav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import pacote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class &lt;nome da classe 1&gt;{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class &lt;nome da classe n&gt;{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public  static void main(String args[]){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05FF-9A87-4D5B-9AB9-647D62DC169E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3300"/>
                </a:solidFill>
                <a:latin typeface="Times New Roman"/>
              </a:rPr>
              <a:t>Atributos importantes do marcador applet(I)</a:t>
            </a:r>
            <a:endParaRPr b="0" lang="en-US" sz="3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codebas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: é um atributo opcional que especifica a URL base do código da applet. O diretório de URL do documento HTML é usado como o codebase, caso este atributo não seja especificado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cod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: é um atributo exigido que especifica o nome do arquivo que contém a applet compilad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372-50AA-4EF2-BBDF-F3952A8E7BA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3300"/>
                </a:solidFill>
                <a:latin typeface="Times New Roman"/>
              </a:rPr>
              <a:t>Atributos importantes do marcador applet(II)</a:t>
            </a:r>
            <a:endParaRPr b="0" lang="en-US" sz="3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2000"/>
                </a:solidFill>
                <a:latin typeface="Times New Roman"/>
              </a:rPr>
              <a:t>name: </a:t>
            </a: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é um atributo opcional para especificar um nome para a instância da applet. As applets devem ter nomes para que as outras applets da mesma página as encontrem pelo nome e se comuniquem. Por exemplo: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02000"/>
                </a:solidFill>
                <a:latin typeface="Arial"/>
              </a:rPr>
              <a:t>&lt;applet code=“minhaapplet.class” name=“ap1” width=100 height=100&gt;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02000"/>
                </a:solidFill>
                <a:latin typeface="Times New Roman"/>
              </a:rPr>
              <a:t>Para uma applet na mesma página se comunicar com esta applet deveria fazer: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minhaapplet man=getAppletContext().getApplet(“ap1”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Com o manipulador man, pode-se chamar os métodos da a instância ap1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2277-7853-446D-8F03-F1F74AA587BD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3300"/>
                </a:solidFill>
                <a:latin typeface="Times New Roman"/>
              </a:rPr>
              <a:t>Passagem de parâmetros para as applets</a:t>
            </a:r>
            <a:endParaRPr b="0" lang="en-US" sz="3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pplets podem receber parâmetros das páginas HTML usando-se o marcador </a:t>
            </a:r>
            <a:r>
              <a:rPr b="1" lang="en-US" sz="3000" spc="-1" strike="noStrike">
                <a:solidFill>
                  <a:srgbClr val="402000"/>
                </a:solidFill>
                <a:latin typeface="Arial"/>
              </a:rPr>
              <a:t>&lt;param ...&gt;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&lt;applet ...&gt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&lt;param name=nome1 value=valor1&gt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&lt;param name=nome2 value=valor2&gt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&lt;param name=nomeN value=valorN&gt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&lt;/applet&gt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2D41-2B87-4FCB-B0A7-EE8C391BD0C1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3300"/>
                </a:solidFill>
                <a:latin typeface="Times New Roman"/>
              </a:rPr>
              <a:t>Recuperação de parâmetros</a:t>
            </a:r>
            <a:endParaRPr b="0" lang="en-US" sz="3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râmetros passados para as applets podem ser recuperados pelo método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String getParameter(String nome_do_parâmetro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&lt;applet code=teste.class width=100 height=100&gt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&lt;param name=fonte value=Arial&gt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&lt;param name=tamanho value=14&gt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&lt;param name=truetype value=true&gt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&lt;/applet&gt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String nome_f=getParameter(“fonte”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int tamanho=Integer.parseInt(getParameter(“tamanho”)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boolean truetp=Boolean.valueOf(getParameter(“truetype”)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96840" y="5340240"/>
            <a:ext cx="7150320" cy="120672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477-4A2F-42F9-8109-C85E693DD159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3300"/>
                </a:solidFill>
                <a:latin typeface="Times New Roman"/>
              </a:rPr>
              <a:t>Outros métodos importantes das applets</a:t>
            </a:r>
            <a:endParaRPr b="0" lang="en-US" sz="3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URL getDocumentBase()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RL do arquivo HTML que iniciou a applet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URL getCodeBase()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: URL base do código da applet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9553-CF70-40E7-902A-B7A470664042}" type="slidenum">
              <a:t>54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Estrutura básica de uma classe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class &lt; nome da classe &gt;{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&lt; tipo1 &gt; atributo1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&lt; tipo2 &gt; atributo 2, atributo 3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constru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void método1(){...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void método2(&lt;parâmetros&gt;){...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&lt; tipo &gt; método3(){...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&lt; tipo &gt; método4(&lt;parâmetros&gt;){...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4AFF-7E7F-4A75-BEB8-571ACA38F13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Palavras reservadas (I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bstract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boolean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break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  by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byte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ase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atch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  ch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lass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onst*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ontinue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  defaul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do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double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else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  exten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final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finally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float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  f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goto*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if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implements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instanceof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int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interface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   long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43640" y="6157800"/>
            <a:ext cx="5974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* Palavras reservadas, mas não implementada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1CD1-A1B8-4F16-A178-7DCC6ED0076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Palavras reservadas (II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native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new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 null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acka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rivate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rotected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 public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retur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return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short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 static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sup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switch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2600" spc="-1" strike="noStrike">
                <a:solidFill>
                  <a:srgbClr val="402000"/>
                </a:solidFill>
                <a:latin typeface="Times New Roman"/>
              </a:rPr>
              <a:t>synchronized</a:t>
            </a:r>
            <a:r>
              <a:rPr b="0" lang="pt-BR" sz="2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26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this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throw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throws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transient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  try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voi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volatile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whi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87D0-45C8-4B43-9B0A-4BFC6996339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ipos básicos(I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byte ( 8 bits 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Variação: -128...+127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short ( 16 bits 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Variação: -32768...+32767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int ( 32 bits 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Variação: -2.147.483.648...+2.147.483.647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long ( 64 bits 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Variação: -9.223.372.036.854.775.808..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              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+9.223.372.036.854.775.807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E71C-3AD0-4079-91DD-83E06E3DDBB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6T11:23:53Z</dcterms:created>
  <dc:creator>IME</dc:creator>
  <dc:description/>
  <dc:language>en-US</dc:language>
  <cp:lastModifiedBy>nilsa</cp:lastModifiedBy>
  <cp:lastPrinted>1999-01-06T09:23:02Z</cp:lastPrinted>
  <dcterms:modified xsi:type="dcterms:W3CDTF">2002-09-13T17:44:39Z</dcterms:modified>
  <cp:revision>58</cp:revision>
  <dc:subject/>
  <dc:title>JAVA: Tecnologia e Tendências</dc:title>
</cp:coreProperties>
</file>