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05C-0780-429C-869E-76220A7F75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306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DDC-EB43-420D-8805-660A36F8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23D-E6F1-4FB8-BDFA-9925A6DB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8EC-6119-4FA9-83EC-7B9A529C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DAA-2CF4-4FD8-A518-033A8B81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5B79-75D2-4D48-9DAA-902CBCE1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CFB2-6A38-4A20-AB26-59A3F8AC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5E24-CD15-4A11-BE6D-10DA0D1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B9BA-4D1C-452A-9327-E6CDDAC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45AC-0817-43BF-9804-D3C0286B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3B6C-C09A-4C2D-8CE1-6932897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3527-36BA-4A3F-861A-34936A9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67A-FDB2-45A1-9445-090801D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A348-EED8-4D6F-B880-BB8BFBB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5353-0C4B-4E12-9A04-9818373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4149-8DC2-439F-BCC7-037DCF52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6CAA-DB6C-4FD4-A074-3EFE5BC2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E270-A194-419C-BA8E-E6E82F47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85E-E071-44A4-A355-CEE3ABDA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317-8481-42A0-AD4D-40ACE51C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654-C5A5-41E4-B8FA-8CBBFA8B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8A5-F5F6-45D4-9B7C-7B06BAFB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BD9-ACEC-4970-A3E1-CF3C4EF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81B-F463-497C-BBF5-19617D6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24D-D1DF-4068-9EAE-2B1C550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23B8-F28C-4531-9E47-08D49E0A914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E0DF-42A5-4345-B084-3C8452C749A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0"/>
            <a:ext cx="8872560" cy="6870600"/>
            <a:chOff x="0" y="0"/>
            <a:chExt cx="8872560" cy="6870600"/>
          </a:xfrm>
        </p:grpSpPr>
        <p:sp>
          <p:nvSpPr>
            <p:cNvPr id="9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6400" cy="68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02000"/>
                </a:solidFill>
                <a:latin typeface="Times New Roman"/>
              </a:rPr>
              <a:t>INTRODUÇÃO À LINGUAGEM JAV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053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rimeira Aul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ogramação Orientada a Objetos e Noções gerais da linguagem Java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ilsa Areán García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14.09.200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D01-3A96-410B-8D4E-1FE3736A948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1720" y="16002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bstrações de conjuntos de obje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362320"/>
            <a:ext cx="2987640" cy="3601800"/>
          </a:xfrm>
          <a:prstGeom prst="rect">
            <a:avLst/>
          </a:prstGeom>
          <a:noFill/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asse SerHuma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P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sce()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uda()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286000"/>
            <a:ext cx="2987640" cy="3601800"/>
          </a:xfrm>
          <a:prstGeom prst="rect">
            <a:avLst/>
          </a:prstGeom>
          <a:noFill/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asse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péc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ocaliz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asce()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orre()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743200"/>
            <a:ext cx="0" cy="83808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809880"/>
            <a:ext cx="0" cy="198144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12408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487692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2960" y="28954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6760" y="4572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ÉTO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A52-440B-46EF-A2BF-A0A60A6444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62520" y="1828800"/>
            <a:ext cx="2057400" cy="2426760"/>
          </a:xfrm>
          <a:prstGeom prst="rect">
            <a:avLst/>
          </a:prstGeom>
          <a:noFill/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lasse SerHuman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dad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PF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asce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studa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57600" y="5334120"/>
            <a:ext cx="911160" cy="979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4120" y="5181480"/>
            <a:ext cx="1130040" cy="106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66680" y="4114800"/>
            <a:ext cx="2057400" cy="2426760"/>
          </a:xfrm>
          <a:prstGeom prst="rect">
            <a:avLst/>
          </a:prstGeom>
          <a:noFill/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Objeto OBJ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ome=Mr.Jon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dade=3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PF=4567889484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asce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studa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14800"/>
            <a:ext cx="2057400" cy="2426760"/>
          </a:xfrm>
          <a:prstGeom prst="rect">
            <a:avLst/>
          </a:prstGeom>
          <a:noFill/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Objeto OBJ2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ome=Mr.Zo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Idade=45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CPF=678696869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Nasce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Estuda(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523880" y="2666880"/>
            <a:ext cx="2438640" cy="1447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90920"/>
            <a:ext cx="1904760" cy="16002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1676520"/>
            <a:ext cx="0" cy="4876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676520"/>
            <a:ext cx="0" cy="4876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83520" y="20224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stanci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5240" y="2133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assific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INSTANCIAÇÃ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865-A2E8-44A4-9E97-DDC109E21E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 objeto é algo caracterizado p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a identificação ( </a:t>
            </a:r>
            <a:r>
              <a:rPr b="0" i="1" lang="pt-BR" sz="3200" spc="-1" strike="noStrike">
                <a:solidFill>
                  <a:srgbClr val="402000"/>
                </a:solidFill>
                <a:latin typeface="Times New Roman"/>
              </a:rPr>
              <a:t>handl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 estado inter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m comportamen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8C3-C66F-43BF-99D7-EB60C2354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Um exemplo...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Gerenciamento de folha de pagament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19320" y="3048120"/>
          <a:ext cx="701028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8120"/>
                    <a:ext cx="70102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494-1F19-4BC7-ABF3-77894CD4D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dentificação e estado intern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exemplo anterior, cada um dos funcionári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de ser identificado por um número, para manipulação pelo siste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ssui um estado interno, definido pela atribuição de valores a Nome, RG e Salá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E2F-4DF4-450B-8770-9DA9F779BA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omportament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No exemplo anterior, os funcionários poderiam estar sujeitos a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ontrataçã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demissã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aumento de salári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Em função destas operações, cada um deles poderia comportar-se de alguma maneira, inclusive com possibilidade de alteração de estado interno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AC8-8A71-4E90-A8B4-C0365C8F44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LASSE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bstrações para representar objetos com características e comportamentos comun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ma classe é formad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r um no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r atribu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r méto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1CD-F9D4-4BC4-8FFB-61E0C6D5E5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ome da class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nome de uma classe é necessário para diferenciá-la de outras classes e para identificar de qual classe um objeto é instânc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o exemplo anterior, poderíamos identificar a classe, que abstrai os objetos da folha de pagamento, p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FUNCIONÁ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78E-82EC-49C8-8771-AC7A2A3CFF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tribu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êm o propósito de representar  as características determinantes do estado interno dos objet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asse Funcioná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m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alá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572000"/>
            <a:ext cx="0" cy="1676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7F8-EDD7-4595-97EC-FEB6AA6B26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Métod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go que implementa um comportamento específico dos objetos de uma classe. São também chamados de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funções-membr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exemplo anteri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contratação(Nome, RG, Salário){........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demissão(){...........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aumento(Porcentagem){........ 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D1A-BCEE-4A1D-8C8D-8D06BEBA5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Tópicos da Primeira Aula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rientação a objetos: princíp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s, objetos e operaçõ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trodução à metodologia OM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ojetos de siste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Linguagens orientadas a 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incipais características da linguagem Ja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tegração de Java com outras platafor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7FC-A801-42E8-B22E-5E2B28B8C5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lasse Funcionári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Classe Funcionário{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Salári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contratação(Nome,RG,Salári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demissão(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umento(Porcentagem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048120" y="213336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819520"/>
            <a:ext cx="0" cy="10666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495680"/>
            <a:ext cx="0" cy="12956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25200" y="1641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dentific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18080" y="3013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4842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éto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430-23D1-4DA8-B785-F2906B14C9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Encapsulament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rientação a objetos introduz um mecanismo importante, chamado encapsulament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 objetivo do encapsulamento é “ocultar” do mundo externo ao objeto os detalhes de implementação e restringir o acesso aos atributos e méto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18C-B0AF-4016-9AC1-15F16BB771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Vantagens introduzidas pelo encapsulament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gurança no acesso ao obje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ior consistência no estado interno, pois evita alteração incorreta de valores dos atribu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ior facilidade de modulariz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elhor gerenciamento no fluxo de d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3E2-B34B-4C68-9B05-FFD25BF3F0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cesso na presença de encapsulamento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a presença ou não de encapsulamento, a comunicação entre um objeto e o mundo externo é feito através de troca de mensagen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ma mensagem é tratada por um método adequado da classe representante do objet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9E7-8549-460E-B8AB-957BE9DCE3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Operações envolvendo class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 classes e objetos podem ser definidas várias operações, extremamente úteis no modelamento e implementaçã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ificação e instanci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generalização e especializ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CB8-3FA6-4B9F-83A8-738596220D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lassificação e instanciaçã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Classificaç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é a operação que divide e uma ou várias categorias ( classes ) os elementos de um domínio, de acordo com as suas características comun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Instanciaç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é a operação inversa. Permite evidenciar um indivíduo ( objeto ) que pertence a uma categoria ( classe 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C4F-4A27-4FF7-945E-B1B6336E71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Generalização e especializaçã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Generalização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é a operação de observação de propriedades ou características comuns a classes diferentes de maneira que possam ser englobadas numa classe mais abrangente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specializaçã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é a operação inversa. Consiste na observação, dentro de uma classe, de propriedades e características específicas de forma a subdividir uma classe genérica ( super-classe) em classes específicas ( sub-classes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40C-C1E7-40CC-9370-E3EBF977E1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TODOLOGIA OMT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MT ( Object Modeling Technique ) é uma técnica de modelagem de software voltada para orientação a objetos, proposta por Rumbaugh e seu grupo,  cuja característica principal é a extensão de notações já conhecidas em desenvolvimento de softwar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AD1-4854-4C26-9F26-47BD3E23CE8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FASES DA METODOLOGI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áli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jeto do sistema e 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C30-1EF9-4651-92B5-068DE027261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ANÁLIS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 objetivo da fase de análise é desenvolver um modelo do que o sistema deve fazer. Este modelo é expresso em termos de classes, objetos, relacionamentos, fluxos de controle dinâmico e transformações funcionai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533-0842-49B9-85E0-A58D74E9E8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ARADIGMA DE ORIENTAÇÃO A OBJETOS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 paradigma  de Orientação a Objetos tem várias características marcant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lta reutilização de softwa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senvolvimento sempre evolutiv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struções complexas a partir de construções simp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nutenção tende a ser simp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7D7-4428-4652-94FD-264701316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PROJETO DO SISTEM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 objetivo do projeto do sistema é verificar o relacionamento dos subsistemas da estrutura do sistema delineado na análise. Para isto, organiza o sistema em subsistemas, identifica concorrência inerente ao problema, aloca subsistemas em processadores e processos, dentre outras taref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238-17FC-46F6-B029-EFD8444D97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PROJETO DE 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 objetivo do projeto de objetos é refinar os modelos provindos da análise e prover uma base detalhada para implementação, sem descer em detalhes particulares de uma linguagem ou base de da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FFB-79A5-4EAF-9B19-ADD9C6B388D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MPLEMENTAÇÃ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sta fase, as classes e relacionamentos refinados durante a fase de projeto de objetos são mapeados em alguma linguagem de programação, base de dados ou implementação em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hardwa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EF5-6ADE-4570-9B68-9E255798B7A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PASSOS DA FASE DE ANÁLISE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. Escrever ou obter uma descrição inicial do proble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2. Construir um modelo de 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3. Construir um modelo dinâ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4. Construir um modelo fun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D01-7A63-47CA-8CD7-2470A6AEAB1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MODELO DE 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creve a estrutura estática dos objetos no sistema: sua identificação, seu relacionamento com outros objetos, seus atributos e suas operações no mundo re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5CE-7D3F-4BE5-9F7F-9B7C8D5DE7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ONSTRUÇÃO DO MODELO DE 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ficar 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struir um dicionário de dados contendo descrições de classes, atributos e relacionamen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icionar relacionamentos entre 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icionar atributos às 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rganizar e simplificar classes usando generalização/especializaçã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 algn="just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grupar classes em módu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201-1AE4-4BF7-9D8D-17139557E9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DIAGRAMAS PARA CLASSE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25440" y="1758960"/>
            <a:ext cx="288288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73560" y="1758960"/>
            <a:ext cx="4406760" cy="41781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4480" y="1967040"/>
            <a:ext cx="280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E DA CLAS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2080" y="1967040"/>
            <a:ext cx="280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E DA CLAS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76800" y="2438280"/>
            <a:ext cx="4403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9320" y="2652840"/>
            <a:ext cx="3647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tribut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tributo: tip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tributo: tipo = valor inici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76800" y="4191120"/>
            <a:ext cx="4403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14800" y="371952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75160" y="4329000"/>
            <a:ext cx="3880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per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peração(argumentos):reto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38480" y="531972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C7F-AF9D-4BC1-B092-3098CA61102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XEMPLO PARA A CLASSE FUNCIONÁRIO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73160" y="1758960"/>
            <a:ext cx="288288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3560" y="1758960"/>
            <a:ext cx="4406760" cy="41781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07680" y="196704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uncioná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3880" y="189072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uncioná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76800" y="2438280"/>
            <a:ext cx="4403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54360" y="2652840"/>
            <a:ext cx="334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Nome: Str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G: Str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alário: Moeda = R$ 0,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76800" y="4191120"/>
            <a:ext cx="4403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3719520"/>
            <a:ext cx="4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76240" y="4329000"/>
            <a:ext cx="3852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ontratação(Nome:String,RG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tring,Salário:Moed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demissão(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umento(X:Porcentagem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7AE-65EA-4522-B14B-F4E72E6A71A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IAGRAMA PARA OBJET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7560" y="2216160"/>
            <a:ext cx="5626080" cy="334008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10760" y="2682720"/>
            <a:ext cx="2901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 Nome da Classe 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11360" y="3338640"/>
            <a:ext cx="25131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lor do atributo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lor do atributo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lor do atributo 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38F-58E0-4198-9EB3-01F40BB5917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OBJETOS DA CLASSE FUNCIONÁRI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9480" y="1835280"/>
            <a:ext cx="3035160" cy="204444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11440" y="4578480"/>
            <a:ext cx="3035520" cy="189216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92880" y="1758960"/>
            <a:ext cx="3035160" cy="212076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7320" y="1890720"/>
            <a:ext cx="2249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( Funcionário 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ntonio da Sil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5.000.4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$ 800,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69280" y="4710240"/>
            <a:ext cx="2089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 Funcionário 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lva Mell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7.010.4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$ 8.000,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44720" y="1967040"/>
            <a:ext cx="2996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( Funcionário 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Manoel Antonio Mell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19.000.84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$ 122,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5CF-9DA0-4506-AA38-A76047222F7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ARADIGMA DE ORIENTAÇÃO A OBJETOS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junto de conceitos e métodos para análise, projeto e implementação de sistem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OA ( Object Oriented Analysis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OD ( Object Oriented Design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OP ( Object Oriented Programming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7B2-16D4-4DE1-864A-385B83D84B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LIGAÇÃO E ASSOCIAÇÃ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4040" y="1724040"/>
            <a:ext cx="7937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gações e associações são meios para estabelecer relacionamentos entre classes ( entre objetos 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ligaç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conexão entre instâncias de 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associaçã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descreve um grupo de ligações com estrutura e semântica comuns ( conexões entre classes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F85-24C6-4D75-A6C0-106E9469CA6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DIAGRAMAS PARA LIGAÇÃO E ASSOCIAÇÃ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54040" y="1911240"/>
            <a:ext cx="2349720" cy="1282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73760" y="1911240"/>
            <a:ext cx="2349360" cy="1282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9600" y="2590920"/>
            <a:ext cx="2041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57280" y="2362320"/>
            <a:ext cx="23464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77000" y="2362320"/>
            <a:ext cx="23461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8080" y="4654440"/>
            <a:ext cx="2349360" cy="113040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73760" y="4654440"/>
            <a:ext cx="2349360" cy="113040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90000" y="189072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í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14040" y="25765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85320" y="189072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ida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10080" y="25765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5257800"/>
            <a:ext cx="2117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37000" y="4633920"/>
            <a:ext cx="104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 Paí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rasil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32320" y="4633920"/>
            <a:ext cx="1402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 Cidade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rasíl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8560" y="219564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em Capit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4880" y="463392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em Capit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75560" y="3338640"/>
            <a:ext cx="557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ssociação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 DIAGRAMA DE CLASSES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6640" y="6005520"/>
            <a:ext cx="568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igação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 DIAGRAMA DE INSTÂNCIA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226-313C-40DD-B249-F0E4541B712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SSOCIAÇÕES TERCIÁRIA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8640" y="2139840"/>
            <a:ext cx="1511280" cy="749520"/>
          </a:xfrm>
          <a:prstGeom prst="diamond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02360" y="2063880"/>
            <a:ext cx="2273400" cy="977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3160" y="2063880"/>
            <a:ext cx="2273400" cy="977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40040" y="4425840"/>
            <a:ext cx="2273400" cy="9781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2905200"/>
            <a:ext cx="0" cy="1508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9800" y="2514600"/>
            <a:ext cx="6699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349440" y="2514600"/>
            <a:ext cx="6188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9600" y="2347920"/>
            <a:ext cx="18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CIPLIN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78520" y="4710240"/>
            <a:ext cx="124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LU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07800" y="2347920"/>
            <a:ext cx="188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1040" y="5776920"/>
            <a:ext cx="371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AGRAMA DE CLAS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8FB-9B31-4FCC-8FD8-3F6BAAEAA63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IAGRAMA DE INSTÂNCIAS PARA ASSOCIAÇÕES TERCIÁRIAS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54040" y="2063880"/>
            <a:ext cx="1968480" cy="105408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21280" y="2139840"/>
            <a:ext cx="1358640" cy="901800"/>
          </a:xfrm>
          <a:prstGeom prst="diamond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54040" y="5416560"/>
            <a:ext cx="1968480" cy="105408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6360" y="3816360"/>
            <a:ext cx="1968480" cy="105408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83240" y="2063880"/>
            <a:ext cx="1968480" cy="105408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83240" y="5340240"/>
            <a:ext cx="1968480" cy="1054080"/>
          </a:xfrm>
          <a:prstGeom prst="roundRect">
            <a:avLst>
              <a:gd name="adj" fmla="val 124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21280" y="5416560"/>
            <a:ext cx="1358640" cy="901800"/>
          </a:xfrm>
          <a:prstGeom prst="diamond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425760" y="2590920"/>
            <a:ext cx="695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95760" y="2590920"/>
            <a:ext cx="974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057480"/>
            <a:ext cx="0" cy="7462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4886280"/>
            <a:ext cx="0" cy="517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9800" y="5867280"/>
            <a:ext cx="10508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425760" y="5867280"/>
            <a:ext cx="695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29920" y="2241720"/>
            <a:ext cx="184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 PROFESSO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sc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6240" y="5594400"/>
            <a:ext cx="184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( PROFESSOR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Mar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41200" y="2241720"/>
            <a:ext cx="1833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 DISCIPLIN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opolog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09520" y="5594400"/>
            <a:ext cx="1897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( DISCIPLINA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nális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04720" y="3994200"/>
            <a:ext cx="1373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( ALUNO 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Lucian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920-525B-47C6-A236-BCD66F3A32C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HERANÇ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É o compartilhamento de atributos e operações entre classes, com base num relacionament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30560" y="3511440"/>
            <a:ext cx="303516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5440" y="5492880"/>
            <a:ext cx="303552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92880" y="5492880"/>
            <a:ext cx="3035160" cy="8254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9880" y="4730760"/>
            <a:ext cx="596880" cy="368280"/>
          </a:xfrm>
          <a:prstGeom prst="triangle">
            <a:avLst>
              <a:gd name="adj" fmla="val 499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48320" y="4338720"/>
            <a:ext cx="0" cy="466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62600" y="5105520"/>
            <a:ext cx="21938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35400" y="5105520"/>
            <a:ext cx="19144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114880"/>
            <a:ext cx="0" cy="365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5114880"/>
            <a:ext cx="0" cy="365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13520" y="3643200"/>
            <a:ext cx="176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per Clas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13680" y="5700600"/>
            <a:ext cx="178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ub-Classe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33400" y="5700600"/>
            <a:ext cx="178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ub-Classe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8B9-9879-485B-884D-EF397091930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heranç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11440" y="1606680"/>
            <a:ext cx="2121120" cy="13586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25440" y="3740040"/>
            <a:ext cx="1892520" cy="901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92880" y="3816360"/>
            <a:ext cx="1892160" cy="977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25440" y="5568840"/>
            <a:ext cx="1892520" cy="901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44960" y="5340240"/>
            <a:ext cx="1892160" cy="1282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64480" y="5340240"/>
            <a:ext cx="1892160" cy="12826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9880" y="3206880"/>
            <a:ext cx="291960" cy="215640"/>
          </a:xfrm>
          <a:prstGeom prst="triangle">
            <a:avLst>
              <a:gd name="adj" fmla="val 499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4959360"/>
            <a:ext cx="292320" cy="216000"/>
          </a:xfrm>
          <a:prstGeom prst="triangle">
            <a:avLst>
              <a:gd name="adj" fmla="val 499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1240" y="4959360"/>
            <a:ext cx="292320" cy="216000"/>
          </a:xfrm>
          <a:prstGeom prst="triangle">
            <a:avLst>
              <a:gd name="adj" fmla="val 49977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495680" y="2966760"/>
            <a:ext cx="0" cy="237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57680" y="3429000"/>
            <a:ext cx="15080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2200" y="3438360"/>
            <a:ext cx="0" cy="3654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206800" y="3429000"/>
            <a:ext cx="22190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3438360"/>
            <a:ext cx="0" cy="2890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057400" y="4643280"/>
            <a:ext cx="0" cy="31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5191200"/>
            <a:ext cx="0" cy="3650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400800" y="4795920"/>
            <a:ext cx="0" cy="162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62800" y="5181480"/>
            <a:ext cx="1127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5191200"/>
            <a:ext cx="0" cy="136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873680" y="5181480"/>
            <a:ext cx="13809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5191200"/>
            <a:ext cx="0" cy="1364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14680" y="1981080"/>
            <a:ext cx="2117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4680" y="2514600"/>
            <a:ext cx="2117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28680" y="4191120"/>
            <a:ext cx="1889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95760" y="4343400"/>
            <a:ext cx="1889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8680" y="5867280"/>
            <a:ext cx="1889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28680" y="6095880"/>
            <a:ext cx="1889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48200" y="5715000"/>
            <a:ext cx="1888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48200" y="6172200"/>
            <a:ext cx="1888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67360" y="5715000"/>
            <a:ext cx="1889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67360" y="6172200"/>
            <a:ext cx="1889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48120" y="1509840"/>
            <a:ext cx="8730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gur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46320" y="1936800"/>
            <a:ext cx="97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osiç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94040" y="2500200"/>
            <a:ext cx="89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ibi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56120" y="3795840"/>
            <a:ext cx="164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mensão 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23200" y="3871800"/>
            <a:ext cx="164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mensão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98440" y="440532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ient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84000" y="5518080"/>
            <a:ext cx="777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o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1720" y="6081840"/>
            <a:ext cx="89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ibi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4240" y="531972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73840" y="5776920"/>
            <a:ext cx="145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clin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51240" y="6234120"/>
            <a:ext cx="89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ibi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46000" y="5289480"/>
            <a:ext cx="120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gmen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70400" y="5700600"/>
            <a:ext cx="135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trem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70400" y="6234120"/>
            <a:ext cx="89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xibi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E36-7C76-4E3B-BB85-538C696B7E5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2000"/>
                </a:solidFill>
                <a:latin typeface="Times New Roman"/>
              </a:rPr>
              <a:t>MODELO DINÂMICO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tiliza diagramas de est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É uma coleção de diagramas de estados que interagem uns com os outros, via compartilhamento de even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representação mostra o estado e a seqüência de estados permitidos nos sistema para uma classe de 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ssui uma estrutura de contro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6C8-66F7-450C-A501-15435752D46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DIAGRAMAS DE ESTAD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ão grafos dirigidos, onde os vértices representam os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stado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e os arcos denotam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transiçõe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, causadas por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vento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65560" y="5842080"/>
            <a:ext cx="432000" cy="431640"/>
          </a:xfrm>
          <a:prstGeom prst="ellipse">
            <a:avLst/>
          </a:prstGeom>
          <a:noFill/>
          <a:ln w="1015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7280" y="4044960"/>
            <a:ext cx="520560" cy="52056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5840" y="4654440"/>
            <a:ext cx="520920" cy="52092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92680" y="3587760"/>
            <a:ext cx="520560" cy="52056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22520" y="3894120"/>
            <a:ext cx="272988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00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003"/>
              </a:path>
            </a:pathLst>
          </a:custGeom>
          <a:noFill/>
          <a:ln cap="rnd"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8480" y="4197600"/>
            <a:ext cx="139320" cy="181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60800" y="4199040"/>
            <a:ext cx="288252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14"/>
              </a:path>
            </a:pathLst>
          </a:custGeom>
          <a:noFill/>
          <a:ln cap="rnd"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16880" y="3817800"/>
            <a:ext cx="440568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7560" y="4808520"/>
            <a:ext cx="3186720" cy="21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30360" y="4648320"/>
            <a:ext cx="5205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9360" y="4730760"/>
            <a:ext cx="1130400" cy="52056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3120000">
            <a:off x="4846320" y="5056200"/>
            <a:ext cx="212760" cy="117360"/>
          </a:xfrm>
          <a:prstGeom prst="triangle">
            <a:avLst>
              <a:gd name="adj" fmla="val 49995"/>
            </a:avLst>
          </a:prstGeom>
          <a:solidFill>
            <a:srgbClr val="402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63880" y="4425840"/>
            <a:ext cx="520560" cy="52092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51560" y="4089240"/>
            <a:ext cx="432000" cy="432000"/>
          </a:xfrm>
          <a:prstGeom prst="ellipse">
            <a:avLst/>
          </a:prstGeom>
          <a:noFill/>
          <a:ln w="10152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60560" y="471024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do Fi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60360" y="585324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do Fi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00960" y="5091120"/>
            <a:ext cx="187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4AF-A8FC-4B54-BE62-26A8F2842CF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2000"/>
                </a:solidFill>
                <a:latin typeface="Times New Roman"/>
              </a:rPr>
              <a:t>NOTAÇÃO DE ESTADO EM OMT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63880" y="2139840"/>
            <a:ext cx="5092560" cy="3340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08960" y="2279520"/>
            <a:ext cx="2764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2000"/>
                </a:solidFill>
                <a:latin typeface="Times New Roman"/>
              </a:rPr>
              <a:t>Nome do estad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0160" y="2911320"/>
            <a:ext cx="377208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faç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: atividade-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entrada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/ ação de entr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saíd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/ ação de saí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E94-D189-418C-873A-8D17D8F974F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OTAÇÃO PARA ESTADOS INICIAIS E FINAI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39840" y="2597040"/>
            <a:ext cx="292320" cy="2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68840" y="4883040"/>
            <a:ext cx="292320" cy="2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7760" y="2216160"/>
            <a:ext cx="227340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9840" y="4502160"/>
            <a:ext cx="227340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6560" y="4730760"/>
            <a:ext cx="596880" cy="59688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8440" y="2743200"/>
            <a:ext cx="12067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25840" y="5029200"/>
            <a:ext cx="9781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41760" y="2500200"/>
            <a:ext cx="198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Estado Inici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94920" y="4862520"/>
            <a:ext cx="183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Estado Fi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C1F-535A-4DFA-8D62-311478C270A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ASSIFICAÇÃO DE SISTEMA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1676520"/>
          <a:ext cx="682632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8263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04A-BE0E-42FC-BEE9-D3B0742E56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OTAÇÃO PARA TRANSIÇÃO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6840" y="2673360"/>
            <a:ext cx="173988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2749680"/>
            <a:ext cx="173988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05280" y="3033720"/>
            <a:ext cx="13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Estado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24840" y="3033720"/>
            <a:ext cx="13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Estado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9680" y="3276720"/>
            <a:ext cx="42544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73520" y="28051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vento(atributos)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[condição]/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4B0-172A-4DCE-BFE6-F57342B496A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EXEMPLO DE CLASSES PARA CONSTRUÇÃO DO MODELO DINÂMIC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82840" y="1911240"/>
            <a:ext cx="2121120" cy="673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73160" y="3587760"/>
            <a:ext cx="1511280" cy="673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9160" y="3587760"/>
            <a:ext cx="2577960" cy="673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3240" y="3587760"/>
            <a:ext cx="2121120" cy="673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04200" y="3673440"/>
            <a:ext cx="124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gniçã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17360" y="3719520"/>
            <a:ext cx="1725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miss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7760" y="371952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elera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21280" y="2597040"/>
            <a:ext cx="368280" cy="292320"/>
          </a:xfrm>
          <a:prstGeom prst="diamond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2901960"/>
            <a:ext cx="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6680" y="3048120"/>
            <a:ext cx="59306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3054240"/>
            <a:ext cx="0" cy="520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3054240"/>
            <a:ext cx="0" cy="520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3054240"/>
            <a:ext cx="0" cy="520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95120" y="204300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r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269-6521-45ED-B1BD-3E9048E11AC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MODELO DINÂMICO PARA Acelerador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8080" y="3892680"/>
            <a:ext cx="29196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9680" y="3511440"/>
            <a:ext cx="135864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30360" y="4038480"/>
            <a:ext cx="12063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0720" y="379584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nati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64480" y="3511440"/>
            <a:ext cx="135864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21280" y="3809880"/>
            <a:ext cx="273024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71840" y="379584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ti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79480" y="3338640"/>
            <a:ext cx="188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Apertar ped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21280" y="4343400"/>
            <a:ext cx="2730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79480" y="3948120"/>
            <a:ext cx="168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Soltar ped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6EF-3F78-4F6E-A7BF-EBDF44807F44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MODELO DINÂMICO PARA Transmissão ( 4 estados 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8080" y="2521080"/>
            <a:ext cx="29196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49680" y="2139840"/>
            <a:ext cx="135864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30360" y="2666880"/>
            <a:ext cx="12063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81080" y="242424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eut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64480" y="2139840"/>
            <a:ext cx="135864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1280" y="2438280"/>
            <a:ext cx="273024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19560" y="242424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Rever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80920" y="196704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archa(ré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21280" y="2971800"/>
            <a:ext cx="2730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82640" y="4425840"/>
            <a:ext cx="135900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64480" y="4425840"/>
            <a:ext cx="135864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33200" y="4024440"/>
            <a:ext cx="1681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onto mor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54240" y="4724280"/>
            <a:ext cx="3797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54240" y="5257800"/>
            <a:ext cx="37972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44960" y="3206880"/>
            <a:ext cx="3873600" cy="12063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06880" y="3206880"/>
            <a:ext cx="3949560" cy="120636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898280" y="3206880"/>
            <a:ext cx="927000" cy="120636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279520" y="3206880"/>
            <a:ext cx="774720" cy="12063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19560" y="478620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gun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59240" y="4786200"/>
            <a:ext cx="135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rimei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85640" y="4329000"/>
            <a:ext cx="162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archa(2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7960" y="3338640"/>
            <a:ext cx="169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archa(2a.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52680" y="4862520"/>
            <a:ext cx="162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archa(1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99280" y="3262320"/>
            <a:ext cx="1681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onto mor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80920" y="2576520"/>
            <a:ext cx="1681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ponto mor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52480" y="3643200"/>
            <a:ext cx="1621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marcha(1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6D5-8D8F-4546-8533-9A0DDA751E6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Eventos que disparam eventos em outras classes de 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6840" y="2673360"/>
            <a:ext cx="173988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16760" y="2749680"/>
            <a:ext cx="1739880" cy="1054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05280" y="3033720"/>
            <a:ext cx="13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Estado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24840" y="3033720"/>
            <a:ext cx="13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Estado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49680" y="3276720"/>
            <a:ext cx="42544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20880" y="2805120"/>
            <a:ext cx="43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vento1(atributos)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[condição]/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87760" y="4959360"/>
            <a:ext cx="2197080" cy="12063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282840"/>
            <a:ext cx="0" cy="166392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23360" y="5396040"/>
            <a:ext cx="1207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asse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06280" y="4100400"/>
            <a:ext cx="24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evento2(atributo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9B9-3C08-4DBC-AF48-0676357D36D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2000"/>
                </a:solidFill>
                <a:latin typeface="Times New Roman"/>
              </a:rPr>
              <a:t>MODELO FUNCIONAL</a:t>
            </a:r>
            <a:endParaRPr b="0" lang="en-US" sz="3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fica valores de entrada e saí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tiliza diagramas de fluxo de dados, a fim de evidenciar dependências funciona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creve o que cada função faz, sem se importar como ou quando é fei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fica restrições entre 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specifica critérios de otimiz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C12-C6C8-443B-81B3-4FC830F0795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IAGRAMA DE FLUXO DE DADOS(DFD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ão grafos orientados, cujos vértices são de um dos seguintes tip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Atore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: objetos ativos que produzem e consomem d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Processo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: transformadores de d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Depósito de dados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: objetos passivos que armazenam d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s arcos representam fluxos ( de dados, de controle e de criação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DC3-BEF8-483A-B184-11DD2F49E5F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presentação de atore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49480" y="2063880"/>
            <a:ext cx="2197080" cy="11300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68840" y="2063880"/>
            <a:ext cx="2197080" cy="11300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82840" y="4197240"/>
            <a:ext cx="3035520" cy="11304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56840" y="2424240"/>
            <a:ext cx="138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rodut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00960" y="242424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61960" y="4557600"/>
            <a:ext cx="311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Produtor-Consumi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320688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94920" y="3338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05720" y="3206880"/>
            <a:ext cx="0" cy="67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66920" y="34146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33920" y="5340240"/>
            <a:ext cx="0" cy="749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47760" y="55483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5340240"/>
            <a:ext cx="0" cy="6732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95680" y="55483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D96-3D77-4C1C-B66D-E6610D2EC46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presentação de process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54240" y="3206880"/>
            <a:ext cx="2959200" cy="120636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60520" y="3643200"/>
            <a:ext cx="238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e do proces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58960" y="2597040"/>
            <a:ext cx="1511280" cy="8254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530360" y="4108320"/>
            <a:ext cx="1587600" cy="4701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873760" y="2432160"/>
            <a:ext cx="1359000" cy="11556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6040" y="3886200"/>
            <a:ext cx="14353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97440" y="4273560"/>
            <a:ext cx="1435320" cy="10540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94920" y="2347920"/>
            <a:ext cx="100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33160" y="3948120"/>
            <a:ext cx="100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19360" y="2652840"/>
            <a:ext cx="100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 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33760" y="3338640"/>
            <a:ext cx="100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 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86040" y="4253040"/>
            <a:ext cx="100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 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C4A-3102-499E-9FA9-D3C7F7E23B2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presentação de depósitos de dad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44520" y="2286000"/>
            <a:ext cx="223524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44520" y="2895480"/>
            <a:ext cx="223524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28600" y="234792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ome do depósi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64240" y="2286000"/>
            <a:ext cx="223524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64240" y="2895480"/>
            <a:ext cx="223524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54560" y="4724280"/>
            <a:ext cx="223488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54560" y="5334120"/>
            <a:ext cx="223488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38280" y="478620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ome do depósi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48320" y="2347920"/>
            <a:ext cx="250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ome do depósi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29019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29019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5340240"/>
            <a:ext cx="0" cy="9781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22800" y="3110040"/>
            <a:ext cx="126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sul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0360" y="3110040"/>
            <a:ext cx="219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rmazenam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52920" y="5700600"/>
            <a:ext cx="3572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sulta e Armazenam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3F5-5DB4-4A70-B1C2-B08C3CDD91C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Por que usar orientação a objetos?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ta reutilização de códig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senvolvimento sempre evolutiv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struções complexas a partir de construções simp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erenciamento tende a ser simp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7EC-0A4B-4BAC-9863-B103644033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presentação de fluxos de dad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7560" y="2666880"/>
            <a:ext cx="32637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57040" y="219564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87560" y="3886200"/>
            <a:ext cx="32637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7560" y="5334120"/>
            <a:ext cx="12063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264280" y="2965320"/>
            <a:ext cx="1054080" cy="9273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87960" y="3892680"/>
            <a:ext cx="1054080" cy="596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06880" y="4718160"/>
            <a:ext cx="901440" cy="6220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06880" y="5340240"/>
            <a:ext cx="825480" cy="6732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33360" y="34146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42640" y="4862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14440" y="31860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00240" y="387180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4760" y="455760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9160" y="539604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38320" y="3490920"/>
            <a:ext cx="2019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uplicação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520" y="5700600"/>
            <a:ext cx="2426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ecomposição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83240" y="5334120"/>
            <a:ext cx="120672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40240" y="4730760"/>
            <a:ext cx="1130400" cy="5968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264280" y="5327640"/>
            <a:ext cx="1206360" cy="7747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62360" y="4862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00240" y="455760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47960" y="585324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ado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62360" y="5700600"/>
            <a:ext cx="2154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omposição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69F-33AC-4629-8AD9-3E8D9D5D18B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completo ( ATM 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01760" y="2216160"/>
            <a:ext cx="143496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33520" y="227160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art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49480" y="3968640"/>
            <a:ext cx="1968480" cy="90180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35880" y="3968640"/>
            <a:ext cx="1968480" cy="90180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16360" y="3968640"/>
            <a:ext cx="1968480" cy="90180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44960" y="5721480"/>
            <a:ext cx="143496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76720" y="577692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Usuá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44920" y="2362320"/>
            <a:ext cx="21589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44920" y="2895480"/>
            <a:ext cx="2158920" cy="0"/>
          </a:xfrm>
          <a:prstGeom prst="line">
            <a:avLst/>
          </a:prstGeom>
          <a:ln w="507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61440" y="242424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565160" y="2901960"/>
            <a:ext cx="1003320" cy="10540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187960" y="2889360"/>
            <a:ext cx="901800" cy="11556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2825640"/>
            <a:ext cx="0" cy="11304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30560" y="44197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97440" y="4419720"/>
            <a:ext cx="8254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479920" y="4883040"/>
            <a:ext cx="2146320" cy="11304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279520" y="4870440"/>
            <a:ext cx="1765440" cy="11556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17520" y="3033720"/>
            <a:ext cx="189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ódigo banco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ódigo cart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08400" y="4024440"/>
            <a:ext cx="1233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ces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98240" y="3948120"/>
            <a:ext cx="1335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ces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23760" y="4024440"/>
            <a:ext cx="92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e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íd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77280" y="5243400"/>
            <a:ext cx="2327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nha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ipo de transação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37240" y="5472000"/>
            <a:ext cx="159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ensagens,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nhei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99520" y="3414600"/>
            <a:ext cx="82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l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98240" y="303372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gênc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FF6-4970-45ED-B2C1-627D9401C3E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jeto do Sistem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termina uma arquitetura geral do sistema, organizando-o em subsistemas, além de outras tarefas adicionais. Esta organização consiste numa decomposição do sistema em subsistemas, que pode ser organizada como uma seqüência de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camada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horizontais ou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partiçõe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verticai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Documento produzid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estrutura básica da arquitetura do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558-F2F4-42FA-82E8-35AC23A0681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tividades do projeto do sistem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rganizar o sistema em subsistemas e alocá-los a processador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dentificar recursos gerais e determinar meios de aces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scolher uma abordagem para implementação, considerando condições-limite e prioridade para resolver confli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4F8-D975-4E77-A245-F488D026E1D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xemplo de projeto do sistem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682640" y="1835280"/>
            <a:ext cx="6769080" cy="44830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2640" y="2590920"/>
            <a:ext cx="67690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82640" y="4724280"/>
            <a:ext cx="67690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82640" y="5562720"/>
            <a:ext cx="67690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2597040"/>
            <a:ext cx="0" cy="2121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00800" y="2597040"/>
            <a:ext cx="0" cy="2121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64080" y="3352680"/>
            <a:ext cx="2730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64080" y="4038480"/>
            <a:ext cx="2730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45960" y="1876320"/>
            <a:ext cx="172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plic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34320" y="4848120"/>
            <a:ext cx="3409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stema oper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45960" y="5686560"/>
            <a:ext cx="176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11880" y="3033720"/>
            <a:ext cx="1699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trole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álogo co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á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7920" y="2638440"/>
            <a:ext cx="131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janel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4400" y="3444840"/>
            <a:ext cx="237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role de tel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90080" y="4176720"/>
            <a:ext cx="231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blioteca gráf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36160" y="3110040"/>
            <a:ext cx="1420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cote d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imul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D45-2569-4B0E-B648-095E18BA724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Interação entre subsistemas (ATM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87560" y="1911240"/>
            <a:ext cx="1739880" cy="4330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209680" y="1670040"/>
            <a:ext cx="0" cy="241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16160" y="1676520"/>
            <a:ext cx="1663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86200" y="1682640"/>
            <a:ext cx="0" cy="4254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727080" y="5943600"/>
            <a:ext cx="165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25840" y="1835280"/>
            <a:ext cx="1739880" cy="4330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16760" y="1911240"/>
            <a:ext cx="1739880" cy="4330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8458200" y="1670040"/>
            <a:ext cx="0" cy="2412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8160" y="1676520"/>
            <a:ext cx="1663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1682640"/>
            <a:ext cx="0" cy="4254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6775560" y="5943600"/>
            <a:ext cx="164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92680" y="4038480"/>
            <a:ext cx="5205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40040" y="44197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78680" y="480060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178680" y="5105520"/>
            <a:ext cx="8254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6840" y="3892680"/>
            <a:ext cx="749520" cy="520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58960" y="41148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39840" y="2139840"/>
            <a:ext cx="128268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39840" y="2978280"/>
            <a:ext cx="128268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25840" y="380988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0" y="3816360"/>
            <a:ext cx="0" cy="825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4412880" y="4648320"/>
            <a:ext cx="165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013080" y="4648320"/>
            <a:ext cx="165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19920" y="465444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26040" y="525780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45360" y="2521080"/>
            <a:ext cx="128268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69040" y="3587760"/>
            <a:ext cx="1435320" cy="1739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21680" y="4044960"/>
            <a:ext cx="1130040" cy="520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321680" y="4730760"/>
            <a:ext cx="1130040" cy="520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39840" y="5568840"/>
            <a:ext cx="1435320" cy="4446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02160" y="5568840"/>
            <a:ext cx="1434960" cy="4446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648320" y="5479560"/>
            <a:ext cx="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54440" y="5486400"/>
            <a:ext cx="1359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5936760" y="5943600"/>
            <a:ext cx="88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93080" y="5645160"/>
            <a:ext cx="1434960" cy="4446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7162920" y="5555880"/>
            <a:ext cx="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69040" y="5562720"/>
            <a:ext cx="1435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10480" y="5568840"/>
            <a:ext cx="0" cy="444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8527680" y="6019920"/>
            <a:ext cx="88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19920" y="5492880"/>
            <a:ext cx="0" cy="444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9640" y="6310440"/>
            <a:ext cx="200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ções A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08080" y="6234120"/>
            <a:ext cx="108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0440" y="623412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an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71960" y="22716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94200" y="3033720"/>
            <a:ext cx="99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rt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93840" y="562464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79840" y="562464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400" y="570060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7760" y="5791320"/>
            <a:ext cx="9018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950080" y="5791320"/>
            <a:ext cx="113004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2160" y="2444760"/>
            <a:ext cx="1511280" cy="520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6520" y="250020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sór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21600" y="3613320"/>
            <a:ext cx="149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anco da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76400" y="41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74240" y="4680000"/>
            <a:ext cx="93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Autori-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zaçõ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376760" y="265284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aqu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050840" y="3841920"/>
            <a:ext cx="678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Usu-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Times New Roman"/>
              </a:rPr>
              <a:t>ár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31040" y="3841920"/>
            <a:ext cx="150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ódigo AT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53280" y="4756320"/>
            <a:ext cx="155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ódigo banc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794400" y="452772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linh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56360" y="513720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linh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35200" y="417672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á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AC3-CF5E-4511-BD6F-E5ED98AC631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JETO DOS OBJET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finamento dos modelos produzidos na fase de análise, para prover uma base detalhada para implementação. São definidas decisões necessárias para realizar o sistema sem descer em detalhes particulares de uma linguagem de programação ou banco de da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Documentos produzido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: modelos detalhados de objetos, dinâmico e funcional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48B-D729-4BD5-B358-6C1D7143F58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tividades importantes do projeto de objetos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bter operações para o modelo de objetos a partir dos modelos dinâmico e funcional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ncontrar uma operação para cada processo no modelo funcion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ir uma operação para cada evento do modelo dinâmico, com dependência do control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0B7-760D-41C2-9677-CCBA315ADCD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tividades importantes do projeto de objetos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jetar algoritmos para implementar operaçõ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scolher algoritmos para minimizar o custo de implementação das operaçõ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lecionar estruturas de dados apropriadas para os algoritm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finir novas classes internas e operações, se necessári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A1C-BF73-4267-8BCB-12A4A7AF91F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tividades importantes do projeto de objetos(I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justar a estrutura de classes para explorar heranç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Rearranjar e ajustar classes e operações para aumentar uso de heranç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Definir comportamentos abstratos comuns para grupos de clas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Usar delegação para compartilhar comportamento onde herança é semanticamente inváli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77D-BDA5-4EAD-A40F-BF7395F5962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Elementos básicos em orientação a 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STANCIAÇÃ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A5B-6467-405C-913E-09ADF8CCC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tividades importantes do projeto de objetos(IV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ojetar implementação de associaçõ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Mapear cada associação como um objeto distinto ou por adicioná-la, como um atributo-objeto, a uma ou mais classes da associaçã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terminar a representação exata de atributos-obje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grupar classes e associações em módu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668-8514-4666-87A4-0AC28D75DC4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Linguagens Orientadas a Objetos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182880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xistem diversas linguagens orientadas a objetos, algumas delas com características bem variadas. Algumas mais familiares sã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Object Pascal ( Delphi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Outras menos familiar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mallTal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iff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9BF-50EC-48C9-8421-7153E83089A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2000"/>
                </a:solidFill>
                <a:latin typeface="Times New Roman"/>
              </a:rPr>
              <a:t>Java x Outras Linguagen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1219320" y="1905120"/>
          <a:ext cx="765648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65648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CBC-22CE-4C68-9451-1E4255C5576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02000"/>
                </a:solidFill>
                <a:latin typeface="Times New Roman"/>
              </a:rPr>
              <a:t>Características Gerais de Java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ltamente portá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Interpret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Sintaxe simp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Multithread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Mecanismos de segurança bastante eficaz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Garbage collection automát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Bom suporte de desenvolvimen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Suporte fácil para aplicações em re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Forte interligação com aplicações WWW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C72-993B-4797-8597-8E1D5B8A420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uporte de Desenvolviment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JDK ( Compilador e Interpretador )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- Editor simpl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- Linha de Coman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Jbuilder ( PC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Visual Café ( PC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de Warrior ( PC-Macintosh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A42-44FE-45B3-9527-F5A2ED9FAE8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Pacotes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167652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 linguagem Java possui uma grande quantidade de classes, organizadas em pacotes ( subdiretórios de classes ). Existem vários pacotes, contendo classes para funções específicas, tais com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struturas de dados básicas ( pilhas, arrays, hashing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ntrada/Saída ( arquivos e impressora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nterfaces Gráficas ( janelas, botões, diálogo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Processamento de Imagens ( filtros, estruturas de dado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omputação Gráfica ( animação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edes ( socket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Banco de Dados ( conexão, SQL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cesso Remoto ( RMI, CORBA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nterface com páginas WWW ( applet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E99-335F-4471-9B50-715F3B38B60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UPORTE GRÁFICO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40760" y="194616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provê três pacotes básicos para tratamento gráfic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16320" y="2936880"/>
            <a:ext cx="62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AWT ( Abstract Windowing Toolkit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- Pacote para interfaces ( GUI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2D ( Processamento de Imagens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3D ( Computação Gráfica Tridimensional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- Integração com VRML ( Virtual Reali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Modeling Language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- Integração com so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04C-1EAC-41AB-A62F-21514D9F378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uporte para redes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1905120"/>
            <a:ext cx="701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utiliza fortemente a arquitetura cliente-servidor para aplicações em red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já possui classes para se trabalhar com alguns protocolos mais comun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HTTP (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H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yper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xt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ansfer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otocol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FTP (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le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ansfer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rotocol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D83-235C-416F-9A6C-70575C5DEB6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uporte para Redes (I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66680" y="3200400"/>
            <a:ext cx="2286000" cy="15238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5105520"/>
            <a:ext cx="2286000" cy="13716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19720" y="1905120"/>
            <a:ext cx="4343400" cy="464796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57400" y="3809880"/>
            <a:ext cx="10666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5791320"/>
            <a:ext cx="1066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429000"/>
            <a:ext cx="106704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81680" y="4495680"/>
            <a:ext cx="106704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781680" y="5715000"/>
            <a:ext cx="106704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1828800"/>
            <a:ext cx="4419360" cy="19051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95680" y="1981080"/>
            <a:ext cx="1676520" cy="3200400"/>
          </a:xfrm>
          <a:prstGeom prst="rect">
            <a:avLst/>
          </a:prstGeom>
          <a:solidFill>
            <a:srgbClr val="00ffff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4114800"/>
            <a:ext cx="1600200" cy="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24080" y="4648320"/>
            <a:ext cx="1600200" cy="1371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00600" y="4114800"/>
            <a:ext cx="198108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24280" y="4648320"/>
            <a:ext cx="2057400" cy="1371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63800" y="52578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plicação cl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63800" y="32004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plicação cl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42280" y="38512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8120" y="58672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82400" y="3505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82400" y="4572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82400" y="5791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ock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48520" y="1946160"/>
            <a:ext cx="26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plicação Servi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20574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erverSock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202400" y="209880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quisição chegan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59080" y="106668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ecanismo de Funcionam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146-0D06-48AD-89F2-757005F5B84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uporte para Banco de Dados (I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19320" y="167652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especificou uma nova gama de protocolos para acesso a banco de dados, chamada JDBC ( Java DataBase Connectivity 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ste ambiente permitiu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Projeto de clientes Java independentes da plataforma, capazes de se conectar com um amplo conjunto de bancos de d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omente detalhes de alto nível de conexão precisam ser especific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ompatibilidade com vários drivers de banco de dados já existentes ( Por exemplo, ODBC.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6FA-AF60-4068-B61A-2BA98EA9798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676520"/>
            <a:ext cx="7467480" cy="464796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1514520" cy="162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1860480" cy="1677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629400" y="2057400"/>
            <a:ext cx="1882800" cy="176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1644480" cy="1521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019920" y="5257800"/>
            <a:ext cx="2562120" cy="903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219320" y="4419720"/>
            <a:ext cx="3119400" cy="163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6EB-D88F-4BF5-8810-3377B9F74A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uporte para Banco de Dados (II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59080" y="11430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ecanismo de Funcionam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8120" y="2057400"/>
            <a:ext cx="3047760" cy="8380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48120" y="3124080"/>
            <a:ext cx="3047760" cy="8384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8120" y="4267080"/>
            <a:ext cx="3047760" cy="8384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48120" y="5486400"/>
            <a:ext cx="3047760" cy="8380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2000" y="289548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3962520"/>
            <a:ext cx="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0" y="51055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133360" y="525780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2971800"/>
            <a:ext cx="0" cy="2286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33720" y="297180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51960" y="2057400"/>
            <a:ext cx="25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brir conexão co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rvidor de B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0040" y="3276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viar consulta SQ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58320" y="44197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eber D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1600" y="571500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cerrar conex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3680" y="358128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Nova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onsulta 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EDE-4E30-474B-A9C7-586E19B3266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uporte para Objetos Remotos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42200" y="1793880"/>
            <a:ext cx="78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 provê um pacote de classes para acesso a objetos remo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java.rmi (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R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mote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M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thod </a:t>
            </a:r>
            <a:r>
              <a:rPr b="0" lang="pt-BR" sz="2400" spc="-1" strike="noStrike" u="sng">
                <a:solidFill>
                  <a:srgbClr val="402000"/>
                </a:solidFill>
                <a:uFillTx/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nvocation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3124080"/>
            <a:ext cx="1676160" cy="12956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52680" y="4876920"/>
            <a:ext cx="1828800" cy="1600200"/>
          </a:xfrm>
          <a:prstGeom prst="ellipse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4952880"/>
            <a:ext cx="1828800" cy="1447920"/>
          </a:xfrm>
          <a:prstGeom prst="ellipse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781680" y="2971800"/>
            <a:ext cx="1676520" cy="12952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819520"/>
            <a:ext cx="3581640" cy="3581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55400" y="33940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86960" y="320040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bje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mo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26760" y="5257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36440" y="54864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K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76520" y="441972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2362320" y="441936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95480" y="541008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895480" y="601992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876920" y="3733920"/>
            <a:ext cx="1904760" cy="1371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5181120" y="4267080"/>
            <a:ext cx="1600200" cy="1143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B3F-80F3-4269-A6E6-FB2EEAF2A16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02000"/>
                </a:solidFill>
                <a:latin typeface="Times New Roman"/>
              </a:rPr>
              <a:t>Interligação de Java com Outras</a:t>
            </a:r>
            <a:br>
              <a:rPr sz="4000"/>
            </a:br>
            <a:r>
              <a:rPr b="0" lang="pt-BR" sz="4000" spc="-1" strike="noStrike">
                <a:solidFill>
                  <a:srgbClr val="402000"/>
                </a:solidFill>
                <a:latin typeface="Times New Roman"/>
              </a:rPr>
              <a:t>Plataformas (I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90720" y="22096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Objetos Java podem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Invocar métodos de outras linguagens ( C,C++, por exemplo). Estes métodos são chamados métodos nativ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Serem invocados por outras linguagens, através uma interface chamada JNI ( Java Native Interface ), que estabelece uma série de regras para conversão de tipos e chamadas de méto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EF2-30EF-4876-83BD-B2266DA5089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02000"/>
                </a:solidFill>
                <a:latin typeface="Times New Roman"/>
              </a:rPr>
              <a:t>Interligação de Java com Outras</a:t>
            </a:r>
            <a:br>
              <a:rPr sz="4000"/>
            </a:br>
            <a:r>
              <a:rPr b="0" lang="pt-BR" sz="4000" spc="-1" strike="noStrike">
                <a:solidFill>
                  <a:srgbClr val="402000"/>
                </a:solidFill>
                <a:latin typeface="Times New Roman"/>
              </a:rPr>
              <a:t>Plataformas (II)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143000" y="2362320"/>
            <a:ext cx="763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incipal finalidad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anter compatibilidade com sistemas já desenvolvidos   anteriorment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incipal problem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anter portabilidade, principalmente na cham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e métodos nativ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03D-1FB1-4F34-AB05-EF19EFE3ED5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lassificando os objetos...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7543800" cy="464796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1514520" cy="162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934320" y="1752480"/>
            <a:ext cx="1644480" cy="1521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1882800" cy="1768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267080" y="4648320"/>
            <a:ext cx="3119400" cy="1633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048120" y="1828800"/>
            <a:ext cx="1860480" cy="1677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5257800" y="3048120"/>
            <a:ext cx="2562120" cy="903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>
            <a:off x="3200400" y="1676520"/>
            <a:ext cx="2819520" cy="46479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59720" y="369900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ERES HUMAN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59960" y="42321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NIMA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541-73DB-4352-90C7-E773AFAD28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1:23:53Z</dcterms:created>
  <dc:creator>IME</dc:creator>
  <dc:description/>
  <dc:language>en-US</dc:language>
  <cp:lastModifiedBy>nilsa</cp:lastModifiedBy>
  <cp:lastPrinted>1999-01-06T09:23:02Z</cp:lastPrinted>
  <dcterms:modified xsi:type="dcterms:W3CDTF">2002-09-13T17:43:45Z</dcterms:modified>
  <cp:revision>46</cp:revision>
  <dc:subject/>
  <dc:title>JAVA: Tecnologia e Tendências</dc:title>
</cp:coreProperties>
</file>