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6784A-C14B-4EA6-AD6C-D298B2C5E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7E15A-083D-4066-85B8-38B1F9875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38E12-D6CB-422D-9E5A-8BC61FCD5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CB3A2-F96B-42FD-9816-9E4CF34EB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45E29-BBE8-4E0B-9DEE-D0AB6464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DAB14-0E81-45DB-841F-58E7D411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C4BC1-DDD3-41CB-8FBD-60EF654E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E9361-FEA1-451A-B112-2FE4D3E4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55154-BD0B-4891-B974-04DF3AFC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212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3C987-DEA0-43AA-A642-400D3539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02D49-3FDD-4178-B1E2-6D44E4CA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EDC7A-320D-4F67-8802-82608D233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3E278-5B6D-4A67-BD70-EE007E1E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DB7C7-F532-4149-9337-30618EA5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2612A-F4FD-4D7C-B78F-8F6611C2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DB433-3A38-4442-870F-00494EED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96B12-A505-4280-9653-291E25CF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41649-5E6D-438B-85BD-ABF1EF568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13E0-6A12-43CE-9E6B-2D8A67F8E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C67F3-0FF0-4EE5-8A95-69AE389896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A9754-B003-4B91-9BCA-D3FC1A9A9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BB77D-4C05-401E-875D-FFABC494C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8B0D-D1A1-4971-ABBC-D69E7E728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38FF2-DD93-4A65-B7E0-2E68C181C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Copyleft by Fabio K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3FB0-DAA9-499A-86CC-422A541750B0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anner" descr=""/>
          <p:cNvPicPr/>
          <p:nvPr/>
        </p:nvPicPr>
        <p:blipFill>
          <a:blip r:embed="rId3"/>
          <a:stretch/>
        </p:blipFill>
        <p:spPr>
          <a:xfrm>
            <a:off x="152280" y="1066680"/>
            <a:ext cx="8763120" cy="7416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19 / março /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03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Copyleft by Fabio K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7405-0D48-48A1-B9CE-EC3CB7A5149B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anner" descr=""/>
          <p:cNvPicPr/>
          <p:nvPr/>
        </p:nvPicPr>
        <p:blipFill>
          <a:blip r:embed="rId3"/>
          <a:stretch/>
        </p:blipFill>
        <p:spPr>
          <a:xfrm>
            <a:off x="228600" y="1974960"/>
            <a:ext cx="8753400" cy="1073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Arial Black"/>
              </a:rPr>
              <a:t>Programação eXtrema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Desenvolvendo Software com Qualidade e Agilida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1920" y="28954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Prof. Dr. Fabio Kon         Prof. Dr. Alfredo Goldma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Departamento de Ciência da Computaçã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IME / US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19 de março de 2003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LARC – POLI/USP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B1C13-1933-4A1F-BC5B-2FB57BD0A4B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 Quem se Destina XP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885680"/>
            <a:ext cx="83311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rupos de 2 a 10 programa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jetos de 1 a 36 meses (calendári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 1000 a 250 000 linhas de cód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pé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dores  (foco central)(sem hierarqui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einador” ou “Técnico”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coach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companhador” 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tracker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6108F-CFD1-4989-9D65-A618048F7B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Eu Não Me Encaixo Nesses Caso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ocê ainda pode aprender muito sobre desenvolvimento de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rá elementos para repensar as suas prátic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 início se dizi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u você é 100% eXtremo ou não é eXtremo. Não dá prá ser 80% XP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P is now like teenage s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oje não é mais necessariamente assi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9A6E-77C3-43AF-8562-B3FBB9DDD16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s 12 Práticas de XP</a:t>
            </a: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(versão 2000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j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es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e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áf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ign Si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fator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ção Pare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priedade Cole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gração Contínu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mana de 40 h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 junto aos desenvolve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dronização d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5255A-99C2-461D-B3A6-0064FACC456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Princípios Básicos de 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ráp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mplicidade é o melhor negó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danças increment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rregue a bandeira das mudanças /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valorize o medo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Embrace chang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ta qua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1BD1-5A51-4982-85EB-98060E26935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s 4 Variáveis do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Temp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Cus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Qualida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Escopo (foco principal de XP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FBAF8-959C-4FAA-A4A4-ADC3AD3288D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Projeto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se de Explo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uração: 2 a 6 me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rmina quando a primeira versão do software é enviada ao cl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s escrevem “historias”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tory card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dores interagem com clientes e discutem tecnolog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só discutem,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xperimentam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diferentes tecnologias e arquiteturas para o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lanejamento: 1 a 2 d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D3E81-F38D-4EFB-84CC-D5E69B18897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1640" y="1885680"/>
            <a:ext cx="8407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olhe uma história do cl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cura um par liv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olhe um computador para programação pareada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pair programmin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leciona uma tarefa claramente relacionada a uma característica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featur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 desejada pelo cl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6ACBA-C8B3-4A80-95F5-3AD2441823E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8390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scute modificações recentes no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scute história do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mplem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sen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g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F50B-A5DF-42FD-8CFC-848448A0D25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tos constantes no desenvolvimen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ta testes antig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usca oportunidades para simplificaçã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difica desenho e implementação incrementalmente baseado na funcionalidade exigida no mom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eve novos tes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quanto todos os testes não rodam a 100%, o trabalho não está termin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gra novo código ao repositó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73F76-3DC2-4643-91E5-E7CD87AFE75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undamento mais importante de X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o que dá segurança e coragem a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 unidades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(Unit tes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itos pelos programadores para testar cada elemento do sistema (e.g., cada método em cada cas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 funcionalidades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(Functional tes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itos pelos clientes para testar a funcionalidade do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64A1B-69C1-4C28-BCDC-10B6DD4EF03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gramação eXtrema</a:t>
            </a:r>
            <a:br>
              <a:rPr sz="4000"/>
            </a:br>
            <a:r>
              <a:rPr b="0" i="1" lang="pt-BR" sz="4400" spc="-1" strike="noStrike">
                <a:solidFill>
                  <a:srgbClr val="000000"/>
                </a:solidFill>
                <a:latin typeface="Arial Black"/>
              </a:rPr>
              <a:t>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todologia de desenvolvimento de software aperfeiçoada nos últimos 5 an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anhou notoriedade a partir da OOPSLA’200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me principal: Kent Be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FC387-7ABA-4B12-858A-88192AF1688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as unidades do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m que estar sempre funcionando a 10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ão executados várias vezes por d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tados à noite automaticam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as funcio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ão crescendo de 0% a 10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ndo chegam a 100% acabou o proje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65843-9DB6-4EB5-8C2F-630B5DF824E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Códi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drões de estilo adotados pelo grupo intei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mais claro possív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XP não se baseia em documentações detalhadas e extensas (perde-se sincroni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entários sempre que necessá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entários padroniza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gramação Pareada ajuda muit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0359E-672A-4F0E-89F6-700CABDDA0C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gramação Paread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657080"/>
            <a:ext cx="91440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rro de um detectado imediatamente pelo outro (grande economia de temp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ior diversidade de idéias, técnicas, algoritm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quanto um escreve, o outro pensa em contra-exemplos, problemas de eficiência, etc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ergonha de escrever código feio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gambiarra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 na frente do seu p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eamento de acordo com especial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.: Sistema Multimídia Orientado a Obje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40A22-261B-4338-9324-BF8F26FF9EA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priedade Coletiva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o Códi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odelo tradicional: só autor de uma função pode modificá-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XP: o código pertence a to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alguém identifica uma oportunidade para simplificar, consertar ou melhorar código escrito por outra pessoa, que o faç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rode os test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7342D-271D-4BD4-AB6B-2F9022163DF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fatoração</a:t>
            </a:r>
            <a:br>
              <a:rPr sz="4000"/>
            </a:b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(Refactoring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a [pequena] modificação no sistema que não altera o seu comportamento fun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que melhora alguma qualidade não-funcion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mplic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lexi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ar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empe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D4F2-3A3F-4880-BF8A-ECB0E3C898F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s de Refator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nça do nome de variáve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nças nas interfaces dos obje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quenas mudanças arquitetur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ncapsular código repetido em um novo méto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eneralização de méto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aizQuadrada(float x)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raiz(float x, int 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20D99-AAAE-4763-BD44-24748C6305E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lien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sponsável por escrever “histórias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itas vezes é um programador ou é representado por um programador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balha no mesmo espaço físico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vas versões são enviadas para produção todo mês (ou toda seman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do cliente é essenc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quisitos mudam (e isso não é mau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5FF1B-3EBF-4C14-83AD-32BB9FFFEB3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Coach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treinador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geral, o mais experiente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dentifica quem é bom no q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embra a todos as regras do jogo (XP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ventualmente faz programação pare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desenha arquitetura, apenas chama a atenção para oportunidades de melhor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u papel diminui à medida em que o time fica mais mad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A7749-93EE-4C0E-8B4C-077276C6FCD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Tracker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Acompanhador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“consciência”  do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leta estatísticas sobre o andamento do projeto. Alguns ex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úmero de histórias definidas e implementa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úmero d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unit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úmero de testes funcionais definidos e funcionan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úmero de classes, métodos, linhas de códi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ntém histórico do progress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az estimativas para o futu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448C0-7B7F-4EE3-941A-C907B3A09A0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ando XP Não Deve Ser Experimentad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885680"/>
            <a:ext cx="89917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 cliente não aceita as regras do jo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 cliente quer uma especificação detalhada do sistema antes de começ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s programadores não estão dispostos a seguir (todas) as regr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(quase) todos os programadores do time são medíoc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FC08B-253E-45CF-99C5-9489FE2343A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Reações a 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lguns odeiam, outros am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em gosta de programar ama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ixa o bom programador livre para fazer o que ele faria se não houvesse regr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orça o [mau] programador a se comportar de uma forma similar ao bom programad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DA7CB-4908-4E90-BCC4-51D0EC41449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ando XP Não Deve Ser Experimentad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rupos grandes (&gt;10 programadore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rápido não é possíve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stema demora 6h para compi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 demoram 12h  para rod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igência de certificação que demora me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 custo de mudanças é essencialmente exponenc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não é possível realizar testes (muito rar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C5242-E2F9-4ECC-89B3-2E9EE599D7D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clusã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Vencendo os Me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10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er códi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r de idé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r em frente sem saber tudo sobre o fut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fiar em outras pesso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r a arquitetura de um sistema em funcionam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er tes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A336-0A1A-4D5A-AEB1-CD6E8528AA6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s 12 Práticas de XP</a:t>
            </a: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(versão 2000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j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es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e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áf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ign Si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fator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ção Pare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priedade Cole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gração Contínu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mana de 40 h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 junto aos desenvolve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dronização d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4A1B9-7509-49EE-9C93-DE16B6CF4C2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áticas de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s práticas foram refatoradas</a:t>
            </a:r>
            <a:br>
              <a:rPr sz="32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(veja www.extremeprogramming.org/rules.htm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s a idéia é exatamente a mes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vas práticas interessan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erte XP quando a metodologia quebr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va as pesso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 Proxy (by Klau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E58F6-4737-432B-9E78-5405C158460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clus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XP não é para todo mu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todo mundo pode aprender com e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83985-FF28-4D46-8FC1-0FE9A94358F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iores 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forma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5320" y="1885680"/>
            <a:ext cx="8483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f. Dr. Fabio Kon           kon@ime.usp.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f. Dr. Alfredo Goldman  gold@ime.usp.b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ime.usp.br/~kon/pres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ime.usp.br/~x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xispe.com.br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extremeprogramming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C1438-75F0-4796-8461-6C60A29887CC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odelo Tradicional de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0. Levantamento de 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1. Análise de 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2. Desenho da Arquite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3. Implem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4. 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5. Produção / Manuten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D3768-18E6-4E8F-A2E0-B3DB2EAA51D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emissas Básicas do Modelo Tradicion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fazer uma análise de requisitos profunda e detalhada antes de projetar a arquitetura do sistem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fazer um estudo minucioso e elaborar uma descrição detalhada da arquitetura antes de começar a implementá-l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testar o sistema completamente antes de mandar a versão final para o cliente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0D10C-38DA-49F5-9C91-24D821D3D6A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que está por trás deste modelo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-2728800" y="-915120"/>
            <a:ext cx="10196280" cy="594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21" y="0"/>
                </a:moveTo>
                <a:arcTo wR="10800" hR="10800" stAng="-5424988" swAng="5424988"/>
                <a:lnTo>
                  <a:pt x="10800" y="10800"/>
                </a:lnTo>
                <a:close/>
              </a:path>
              <a:path fill="none" w="21600" h="21600">
                <a:moveTo>
                  <a:pt x="10721" y="0"/>
                </a:moveTo>
                <a:arcTo wR="10800" hR="10800" stAng="-5424988" swAng="542498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981080" y="1828440"/>
            <a:ext cx="0" cy="350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5105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623520" y="3282840"/>
            <a:ext cx="31449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usto de mudanç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8560" y="5257800"/>
            <a:ext cx="50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quisitos       desenho                   te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0360" y="556272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álise         implementação   p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43A9-06F2-483A-B5A0-706EB05D779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a realidade hoje em dia fosse outr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981080" y="1828440"/>
            <a:ext cx="0" cy="350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5105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-623520" y="3282840"/>
            <a:ext cx="31449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usto de mudanç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5257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286000" y="4267080"/>
            <a:ext cx="106675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25070-7484-47D1-98BA-CD6CC185FDF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essa fosse a realidad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atitude dos desenvolvedores de software seria completamente diferen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omaríamos as grandes decisões o mais tarde possí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mplementaríamos agora somente o que precisamos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ago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implementaríamos flexibilidade desnecessária (não anteciparíamos necessidad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3699E-5253-434A-A3B0-6D983166E84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essa é a nova realidade !</a:t>
            </a: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(pelo menos em muitos caso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Orientação a Objeto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facilita e cria oportunidades para mudanç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Técnicas de Refatoração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Testes automatizado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nos dão segurança quando fazemos mudanç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rática / cultura de mudança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aprendemos técnicas e adquirimos experiência em lidar com código muta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21270-2BDA-4076-88D4-913FA709663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21:07:07Z</dcterms:created>
  <dc:creator>srg user</dc:creator>
  <dc:description/>
  <dc:language>en-US</dc:language>
  <cp:lastModifiedBy>Gary Burton</cp:lastModifiedBy>
  <cp:lastPrinted>1999-06-03T16:24:05Z</cp:lastPrinted>
  <dcterms:modified xsi:type="dcterms:W3CDTF">2003-03-19T13:14:58Z</dcterms:modified>
  <cp:revision>275</cp:revision>
  <dc:subject/>
  <dc:title>No Slide Title</dc:title>
</cp:coreProperties>
</file>