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BE09B-99BC-41B5-8BDF-D67D56342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CB848-7F5E-48DA-AD0C-AB71E855D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671B6-D259-4C22-BBC7-203C52644E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266ED-508F-44D1-9118-25046E5DC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DBE01-28B5-4C3C-9C91-10AA5241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96AC1-3224-40CB-B7C4-89796F6F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0F159-096B-4531-97EB-77F6A999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F27BB-7293-4EBD-AE10-16762A62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B2BB3-C81F-46A3-B2BD-7F59A16C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6212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0298B-0400-44A0-AD57-DD1B06DE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064CF-4D54-48ED-9F81-0B088E7E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FD459-9F7E-4893-845F-981ED9D48F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B8ABF-CAF1-4D8D-AA2D-93014A6C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BED41-C602-483F-8B5F-6C9192DC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BA1EF-C3DA-4524-BB21-B783EA5F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2ADE6-B15C-4FCF-B34E-617E0760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4192A-96E1-4B93-9BD3-293EE0D1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8CE3D-4C44-4042-8C74-C8F7A27422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13833-B78A-4F91-939A-A55942CBD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FA955-7D01-486D-B813-1A148319C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95A72-2542-43A1-BBC3-902CDA491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36B40-E7E4-4B9B-80B5-311981AC6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227B4-D260-4723-AEE7-F25225D95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873B4-EFA9-4702-B68C-2CE8C9DD3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Copyleft by Fabio K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95E8-8D22-45C4-B57F-FBCFD8664A32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anner" descr=""/>
          <p:cNvPicPr/>
          <p:nvPr/>
        </p:nvPicPr>
        <p:blipFill>
          <a:blip r:embed="rId3"/>
          <a:stretch/>
        </p:blipFill>
        <p:spPr>
          <a:xfrm>
            <a:off x="152280" y="1066680"/>
            <a:ext cx="8763120" cy="7416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5 / dezembro /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03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Copyleft by Fabio K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CCFB-242A-48B1-ADC0-DFA27AA16289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anner" descr=""/>
          <p:cNvPicPr/>
          <p:nvPr/>
        </p:nvPicPr>
        <p:blipFill>
          <a:blip r:embed="rId3"/>
          <a:stretch/>
        </p:blipFill>
        <p:spPr>
          <a:xfrm>
            <a:off x="228600" y="1974960"/>
            <a:ext cx="8753400" cy="1073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Arial Black"/>
              </a:rPr>
              <a:t>Programação eXtrema</a:t>
            </a:r>
            <a:br>
              <a:rPr sz="4400"/>
            </a:b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Desenvolvendo Software com Qualidade e Agilida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1920" y="289548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Prof. Dr. Fabio Kon         Prof. Dr. Alfredo Goldma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Departamento de Ciência da Computaçã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IME / US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5 de dezembro de 200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Black"/>
              </a:rPr>
              <a:t>EXTREME PROGRAMMING BRASI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8C83E-08EE-4F2F-8CD0-13251468E38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 Quem se Destina XP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885680"/>
            <a:ext cx="833112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rupos de 2 a 10 programad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jetos de 1 a 36 meses (calendári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 1000 a 250 000 linhas de códi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pé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dores  (foco central)(sem hierarqui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reinador” ou “Técnico”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coach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companhador” 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tracker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4D227-16CA-478F-99B1-AA258A5A152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 Se Eu Não Me Encaixo Nesses Caso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ocê ainda pode aprender muito sobre desenvolvimento de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rá elementos para repensar as suas prátic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 início se dizi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u você é 100% eXtremo ou não é eXtremo. Não dá prá ser 80% XP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P is now like teenage s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je não é mais necessariamente assi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EC092-45C9-44F1-B873-A244FD82FCD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Princípios Básicos de X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Feedback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ráp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mplicidade é o melhor negóc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udanças increment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rregue a bandeira das mudanças /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valorize o medo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Embrace change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ta qua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D43BE-E7FA-4375-9FEE-9EC40CD786C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s 4 Variáveis do Desenvolvimento de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Temp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Cust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Qualida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Escopo (foco principal de XP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C7623-251B-4ABA-B6F3-8E82C5483E3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Projeto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se de Explor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uração: 2 a 6 mes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rmina quando a primeira versão do software é enviada ao cli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es escrevem “historias”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tory card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dores interagem com clientes e discutem tecnologi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só discutem,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experimentam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diferentes tecnologias e arquiteturas para o sist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lanejamento: 1 a 2 di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A6AE6-5971-401F-9F07-AD6C2FF201F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Dia na Vida de um Programador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31640" y="1885680"/>
            <a:ext cx="84074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olhe uma história do cli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cura um par liv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olhe um computador para programação pareada (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pair programming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leciona uma tarefa claramente relacionada a uma característica (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feature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 desejada pelo cli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1A0F3-3AE2-46BD-BA35-6701E3630F6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Dia na Vida de um Programador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885680"/>
            <a:ext cx="88390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iscute modificações recentes no sist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iscute história do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mplement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sen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tegr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1E4AD-AA29-45A6-878D-341F9683576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Dia na Vida de um Programador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tos constantes no desenvolvimen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cuta testes antig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usca oportunidades para simplificaçã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odifica desenho e implementação incrementalmente baseado na funcionalidade exigida no mom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creve novos tes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quanto todos os testes não rodam a 100%, o trabalho não está termin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tegra novo código ao repositó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ADAF4-0D7A-466E-9DEB-0C48D412CF1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undamento mais importante de X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É o que dá segurança e coragem ao gru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e unidades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(Unit tes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critos pelos programadores para testar cada elemento do sistema (e.g., cada método em cada cas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e funcionalidades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(Functional tes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critos pelos clientes para testar a funcionalidade do sist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E1462-0B83-4D3A-A7A4-7A8C79614D4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as unidades do sist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m que estar sempre funcionando a 10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ão executados várias vezes por d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cutados à noite automaticam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as funcional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ão crescendo de 0% a 10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ando chegam a 100% acabou o proje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3D7D2-68D4-49B9-972B-6937EBF1D30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gramação eXtrema</a:t>
            </a:r>
            <a:br>
              <a:rPr sz="4000"/>
            </a:br>
            <a:r>
              <a:rPr b="0" i="1" lang="pt-BR" sz="4400" spc="-1" strike="noStrike">
                <a:solidFill>
                  <a:srgbClr val="000000"/>
                </a:solidFill>
                <a:latin typeface="Arial Black"/>
              </a:rPr>
              <a:t>X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etodologia de desenvolvimento de software aperfeiçoada nos últimos 5 an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anhou notoriedade a partir da OOPSLA’200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me principal: Kent Be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17F52-32C1-44D4-81AC-63E0C773D42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Códig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drões de estilo adotados pelo grupo intei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mais claro possív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XP não se baseia em documentações detalhadas e extensas (perde-se sincroni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entários sempre que necessár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entários padroniza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gramação Pareada ajuda muito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F2BE8-A4F2-41C2-941E-BC40A09EF1C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gramação Paread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57080"/>
            <a:ext cx="91440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rro de um detectado imediatamente pelo outro (grande economia de temp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ior diversidade de idéias, técnicas, algoritm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quanto um escreve, o outro pensa em contra-exemplos, problemas de eficiência, etc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ergonha de escrever código feio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gambiarra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 na frente do seu p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reamento de acordo com especialid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.: Sistema Multimídia Orientado a Obje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E54E8-83B2-4A07-9DAC-6326C86D34B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priedade Coletiva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o Códig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odelo tradicional: só autor de uma função pode modificá-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XP: o código pertence a to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alguém identifica uma oportunidade para simplificar, consertar ou melhorar código escrito por outra pessoa, que o faç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rode os teste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9196E-7DFD-42D4-A0FE-0C8EDF3B495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efatoramento</a:t>
            </a:r>
            <a:br>
              <a:rPr sz="4000"/>
            </a:b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(Refactoring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a [pequena] modificação no sistema que não altera o seu comportamento func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que melhora alguma qualidade não-funcion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mplic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lexibi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are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empen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B45A0-0896-440A-B863-E307A74D18A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emplos de Refatoram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dança do nome de variáve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danças nas interfaces dos obje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equenas mudanças arquitetur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ncapsular código repetido em um novo méto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eneralização de méto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aizQuadrada(float x)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raiz(float x, int 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C9A83-A80D-4641-B563-51D995ED74F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lien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sponsável por escrever “histórias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itas vezes é um programador ou é representado por um programador do gru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rabalha no mesmo espaço físico do gru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vas versões são enviadas para produção todo mês (ou toda seman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Feedback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do cliente é essenc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quisitos mudam (e isso não é mau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BEF2B-CFF9-4738-8F9E-53B97C43DDB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Coach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(treinador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m geral, o mais experiente do gru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dentifica quem é bom no q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Lembra a todos as regras do jogo (XP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ventualmente faz programação parea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desenha arquitetura, apenas chama a atenção para oportunidades de melhori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u papel diminui à medida em que o time fica mais madu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927BD-93D8-47DF-BCF3-97B7ADE8DB6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Tracker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(Acompanhador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“consciência”  do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leta estatísticas sobre o andamento do projeto. Alguns ex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úmero de historias definidas e implement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úmero de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unit tes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úmero de testes funcionais definidos e funcionan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úmero de classes, métodos, linhas de cód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ntém histórico do progres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z estimativas para o futu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A56C2-C20D-4E54-8BF8-831CDAF2A97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Quando XP Não Deve Ser Experimentada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885680"/>
            <a:ext cx="899172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o cliente não aceita as regras do jog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o cliente quer uma especificação detalhada do sistema antes de começ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os programadores não estão dispostos a seguir (todas) as regr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(quase) todos os programadores do time são medíoc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D5E1E-C931-4EDE-9AF7-57B2699628D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Quando XP Não Deve Ser Experimentada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rupos grandes (&gt;10 programadore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feedback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rápido não é possíve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stema demora 6h para compi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s demoram 12h  para rod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igência de certificação que demora mes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o custo de mudanças é essencialmente exponenc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não é possível realizar testes (muito raro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C25B8-F687-4D0F-91B2-4227EA1D9D2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Reações a X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lguns odeiam, outros am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em gosta de programar ama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ixa o bom programador livre para fazer o que ele faria se não houvesse regr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orça o [mau] programador a se comportar de uma forma similar ao bom programad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5A374-0B9C-4F83-BE3F-BEB2747C677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nclusão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Vencendo os Med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10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rever códig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dar de idé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r em frente sem saber tudo sobre o futu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fiar em outras pesso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dar a arquitetura de um sistema em funcionam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rever tes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DFD43-F355-4E42-B323-F7CB96BA715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s 12 Práticas de XP</a:t>
            </a:r>
            <a:br>
              <a:rPr sz="4000"/>
            </a:b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(versão 2000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ej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es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e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áf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ign Si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fator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ção Pare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priedade Cole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tegração Contínu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mana de 40 ho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e junto aos desenvolved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dronização do cód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2C56B-4F0C-4EE1-94B7-24AD04C845D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áticas de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s práticas foram refatoradas</a:t>
            </a:r>
            <a:br>
              <a:rPr sz="32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(veja www.extremeprogramming.org/rules.htm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s a idéia é exatamente a mes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vas práticas interessan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serte XP quando a metodologia quebr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ova as pesso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lient Proxy (by Klau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3674E-595C-4597-B7F3-891D31D4C1E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nclus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XP não é para todo mu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todo mundo pode aprender com e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5AF2A-087E-4D30-8DF2-1160EDD4EC4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iores 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forma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çõ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55320" y="1885680"/>
            <a:ext cx="8483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f. Dr. Fabio Kon           kon@ime.usp.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f. Dr. Alfredo Goldman  gold@ime.usp.b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www.ime.usp.br/~kon/pres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www.ime.usp.br/~x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www.xispe.com.br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www.extremeprogramming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5B943-4630-4A82-A28A-900BB3485DDB}" type="slidenum">
              <a:t>34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odelo Tradicional de Desenvolvimento de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0. Levantamento de Requisi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1. Análise de Requisi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2. Desenho da Arquitet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3. Implement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4. Te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5. Produção / Manuten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A0C36-ECE0-4C33-9813-B2461AE7D46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emissas Básicas do Modelo Tradicion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É necessário fazer uma análise de requisitos profunda e detalhada antes de projetar a arquitetura do sistem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É necessário fazer um estudo minucioso e elaborar uma descrição detalhada da arquitetura antes de começar a implementá-l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É necessário testar o sistema completamente antes de mandar a versão final para o cliente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1FD39-13B3-4673-A523-96E4D332DC3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que está por trás deste modelo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-2728800" y="-915120"/>
            <a:ext cx="10196280" cy="594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21" y="0"/>
                </a:moveTo>
                <a:arcTo wR="10800" hR="10800" stAng="-5424988" swAng="5424988"/>
                <a:lnTo>
                  <a:pt x="10800" y="10800"/>
                </a:lnTo>
                <a:close/>
              </a:path>
              <a:path fill="none" w="21600" h="21600">
                <a:moveTo>
                  <a:pt x="10721" y="0"/>
                </a:moveTo>
                <a:arcTo wR="10800" hR="10800" stAng="-5424988" swAng="5424988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981080" y="1828440"/>
            <a:ext cx="0" cy="3505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510552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623520" y="3282840"/>
            <a:ext cx="31449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usto de mudanç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8560" y="5257800"/>
            <a:ext cx="502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quisitos       desenho                   te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40360" y="556272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nálise         implementação   p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4EC54-7F8A-42D4-8239-9C2DCE16385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 se a realidade hoje em dia fosse outra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981080" y="1828440"/>
            <a:ext cx="0" cy="3505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510552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-623520" y="3282840"/>
            <a:ext cx="31449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usto de mudanç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5257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286000" y="4267080"/>
            <a:ext cx="1066752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76C42-F66E-4C17-9E1F-0E37879E020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 se essa fosse a realidade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atitude dos desenvolvedores de software seria completamente diferen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omaríamos as grandes decisões o mais tarde possív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mplementaríamos agora somente o que precisamos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ago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implementaríamos flexibilidade desnecessária (não anteciparíamos necessidade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466ED-5D26-46FC-858D-4A490B5753A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 essa é a nova realidade !</a:t>
            </a:r>
            <a:br>
              <a:rPr sz="4000"/>
            </a:b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(pelo menos em muitos caso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Orientação a Objeto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: facilita e cria oportunidades para mudanç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Técnicas de Refatoramento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Testes automatizado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: nos dão segurança quando fazemos mudanç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Prática / cultura de mudança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: aprendemos técnicas e adquirimos experiência em lidar com código muta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EDF3A-D825-46BE-B535-8D91C98F278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21:07:07Z</dcterms:created>
  <dc:creator>srg user</dc:creator>
  <dc:description/>
  <dc:language>en-US</dc:language>
  <cp:lastModifiedBy>Gary Burton</cp:lastModifiedBy>
  <cp:lastPrinted>1999-06-03T16:24:05Z</cp:lastPrinted>
  <dcterms:modified xsi:type="dcterms:W3CDTF">2002-11-25T18:54:20Z</dcterms:modified>
  <cp:revision>272</cp:revision>
  <dc:subject/>
  <dc:title>No Slide Title</dc:title>
</cp:coreProperties>
</file>