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636-F115-46A3-8DB7-7303282C1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osts Fixo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Interconectados por uma rede fixa, de alta velocidade e para alguns protocolos necessita ser confiá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osts Móvei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Equipamentos com suporte a mobilidade, comunicam-se através de um canal sem fio pouco confiável, com  baixo poder de processamento. Podem estar ativos ou in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Equipamentos que provêem a hosts móveis e fixos, serviços específicos da aplic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élula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Área geográfica atendida por um M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andoff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Operação de mudança de cél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RDP será usado para operações de consulta e assinatura em bases de dados no contexto do SI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087-1ECD-4F0F-B445-6E78A944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A32-349E-4E53-95A6-0FB6A054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C31-EFE4-4884-B0C1-87F7312E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95D-9D0C-4C04-9D00-4D0D1D07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663D-AE42-42F7-ABC8-ADBE8642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106A-05EF-4D70-A604-F2FB9C4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12E-F1D7-4329-A8DB-E382EBE4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1D5-39F4-4D25-9FEC-2C2FD62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FD99-8BAD-4BCF-A52E-192647C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9B28-A1C0-4DC7-9C79-9C0250E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974F-C1F8-4AB7-992A-085AC24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B03-8773-4B82-B6CB-477DFA77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983D-2205-4EF0-9E4E-48EC0FA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614-DA5A-45B9-A94A-C00D97B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1F7-C802-4820-84D6-5EBC2F9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C69E-DF6C-4DA2-B34C-71D1FEE9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460-47DC-4232-A3AF-B6FC369B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F6E-C41C-4092-9144-01C5CF3B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A31-4778-490D-9F5D-7C1700C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422-D8C7-4CC1-82AD-DFFEF200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7D9-F0E8-47D1-B8B8-B20EC51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63C-CECD-4143-A279-B102C9C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344-8C52-478B-A347-E5529ED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881-D20F-40EE-9641-A02CF0F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4440" y="6305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986-D787-49D0-A193-85FA8FC393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BC3E-A1B2-4003-AB54-2DFACF3711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tocolos para entrega de mensagens unicast em redes móve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28440" y="38858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Weslley Emmanuel Martins Li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weslley@ime.usp.b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0DE-3095-4A71-B39A-EBFA766F76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cionamento do Mobile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uturas de D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localD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Mh possui um único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h pode migrar entre vários Mss’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migração, a localização do Mh é atualizada no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a mensagem enviada a um Mh é encaminhada ao seu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6400800" y="6172200"/>
            <a:ext cx="1371600" cy="38736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387360"/>
              <a:gd name="textAreaBottom" fmla="*/ 344520 h 387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4042" y="2390"/>
                </a:lnTo>
                <a:lnTo>
                  <a:pt x="2390" y="239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4042" y="19210"/>
                </a:lnTo>
                <a:lnTo>
                  <a:pt x="74042" y="239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2390" y="19210"/>
                </a:lnTo>
                <a:lnTo>
                  <a:pt x="74042" y="1921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2390" y="2390"/>
                </a:lnTo>
                <a:lnTo>
                  <a:pt x="2390" y="1921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149-A7AB-42BE-B9C3-C22313FA0A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na noção de “snapshots” distribuí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ântica “pelo menos uma vez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 que a mensagem seja guardada em todos os Mss’s até a confirmação de recebimento da mensagem pelo M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5D6-09AF-4257-AB28-F1776415BA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rede é um grafo conexo e direcio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nais FIFO uni-direcion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Mss conhece os Mh’s loc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canal de entrada possui um estado associado:OPEN, FLU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igração dos Mh’s é limitada aos ca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D8C-3031-4409-91B9-9B8F65A90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267080"/>
            <a:ext cx="11192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32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57440" y="347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FD1-4948-4877-AB58-D1160BD1B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4267080"/>
            <a:ext cx="11192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63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7440" y="347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800" y="2362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52680" y="2610000"/>
            <a:ext cx="245880" cy="582480"/>
          </a:xfrm>
          <a:custGeom>
            <a:avLst/>
            <a:gdLst/>
            <a:ahLst/>
            <a:rect l="l" t="t" r="r" b="b"/>
            <a:pathLst>
              <a:path w="155" h="367">
                <a:moveTo>
                  <a:pt x="0" y="0"/>
                </a:moveTo>
                <a:cubicBezTo>
                  <a:pt x="19" y="21"/>
                  <a:pt x="96" y="62"/>
                  <a:pt x="122" y="123"/>
                </a:cubicBezTo>
                <a:cubicBezTo>
                  <a:pt x="148" y="184"/>
                  <a:pt x="148" y="316"/>
                  <a:pt x="155" y="36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81280" y="4110120"/>
            <a:ext cx="6634080" cy="1939680"/>
          </a:xfrm>
          <a:custGeom>
            <a:avLst/>
            <a:gdLst/>
            <a:ahLst/>
            <a:rect l="l" t="t" r="r" b="b"/>
            <a:pathLst>
              <a:path w="4179" h="1222">
                <a:moveTo>
                  <a:pt x="0" y="144"/>
                </a:moveTo>
                <a:lnTo>
                  <a:pt x="989" y="1222"/>
                </a:lnTo>
                <a:lnTo>
                  <a:pt x="1456" y="1188"/>
                </a:lnTo>
                <a:lnTo>
                  <a:pt x="2534" y="233"/>
                </a:lnTo>
                <a:lnTo>
                  <a:pt x="4179" y="233"/>
                </a:lnTo>
                <a:lnTo>
                  <a:pt x="4179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200" y="51814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forward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C95-094C-4728-93B9-FEFD63E88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98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375-4DA1-4658-9AD9-9DD694DE4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31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06B-012C-41C2-B67C-D0A1F60D1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64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536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53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868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A57-F8E6-4CDA-B92C-52DAEA68B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97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2040" y="2590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536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53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8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3760" y="251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1120" y="29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00240" y="2616120"/>
            <a:ext cx="628560" cy="355680"/>
          </a:xfrm>
          <a:custGeom>
            <a:avLst/>
            <a:gdLst/>
            <a:ahLst/>
            <a:rect l="l" t="t" r="r" b="b"/>
            <a:pathLst>
              <a:path w="396" h="224">
                <a:moveTo>
                  <a:pt x="396" y="224"/>
                </a:moveTo>
                <a:cubicBezTo>
                  <a:pt x="344" y="144"/>
                  <a:pt x="318" y="64"/>
                  <a:pt x="252" y="32"/>
                </a:cubicBezTo>
                <a:cubicBezTo>
                  <a:pt x="186" y="0"/>
                  <a:pt x="52" y="30"/>
                  <a:pt x="0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3BF-D3E2-455A-9BC5-96753A959A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timiz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inserção de um vetor de estados em cada canal garante que múltiplas origens enviem mensagens simultane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B9E-D30C-49E3-89A3-E7B211CEF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álise de  protocolos de entrega de mens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DP - M. Endler, Dilma M. Silva e K. Oku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RDP - Alan M. Dur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bile IP - IET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napshot - Amy L. Murphy, Gian P. Picco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aração de funcionamento e requisitos: fatoração das características comu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álise de adequação de cada protoc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r um modelo para descrição de protoco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8D8-5167-4829-8B5A-FAC8FA445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7242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47242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27432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895480" y="3276720"/>
            <a:ext cx="9986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495320" y="3276360"/>
            <a:ext cx="8384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198108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4880" y="2130480"/>
            <a:ext cx="936720" cy="536400"/>
          </a:xfrm>
          <a:custGeom>
            <a:avLst/>
            <a:gdLst/>
            <a:ahLst/>
            <a:rect l="l" t="t" r="r" b="b"/>
            <a:pathLst>
              <a:path w="590" h="338">
                <a:moveTo>
                  <a:pt x="0" y="48"/>
                </a:moveTo>
                <a:cubicBezTo>
                  <a:pt x="123" y="12"/>
                  <a:pt x="218" y="0"/>
                  <a:pt x="316" y="48"/>
                </a:cubicBezTo>
                <a:cubicBezTo>
                  <a:pt x="414" y="96"/>
                  <a:pt x="533" y="278"/>
                  <a:pt x="590" y="33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3581280" y="5867280"/>
            <a:ext cx="1371600" cy="38736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387360"/>
              <a:gd name="textAreaBottom" fmla="*/ 344520 h 387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4042" y="2390"/>
                </a:lnTo>
                <a:lnTo>
                  <a:pt x="2390" y="239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4042" y="19210"/>
                </a:lnTo>
                <a:lnTo>
                  <a:pt x="74042" y="239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2390" y="19210"/>
                </a:lnTo>
                <a:lnTo>
                  <a:pt x="74042" y="1921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2390" y="2390"/>
                </a:lnTo>
                <a:lnTo>
                  <a:pt x="2390" y="1921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56C-56E0-4CBE-BE31-55C3AC5FA0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cenarioRDP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74E-6EF5-4D48-AA77-6D4FCAD191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enarioSRDP" descr=""/>
          <p:cNvPicPr/>
          <p:nvPr/>
        </p:nvPicPr>
        <p:blipFill>
          <a:blip r:embed="rId1"/>
          <a:stretch/>
        </p:blipFill>
        <p:spPr>
          <a:xfrm>
            <a:off x="171360" y="304920"/>
            <a:ext cx="8896320" cy="624816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1565280" y="6370560"/>
            <a:ext cx="838080" cy="38124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1240"/>
              <a:gd name="textAreaBottom" fmla="*/ 34632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5479" y="1980"/>
                </a:lnTo>
                <a:lnTo>
                  <a:pt x="1980" y="198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5479" y="19620"/>
                </a:lnTo>
                <a:lnTo>
                  <a:pt x="45479" y="198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479" y="1962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459" h="21600">
                <a:moveTo>
                  <a:pt x="17155" y="7697"/>
                </a:moveTo>
                <a:lnTo>
                  <a:pt x="20446" y="7697"/>
                </a:lnTo>
                <a:lnTo>
                  <a:pt x="20446" y="12703"/>
                </a:lnTo>
                <a:cubicBezTo>
                  <a:pt x="20446" y="13569"/>
                  <a:pt x="21198" y="14255"/>
                  <a:pt x="22170" y="14255"/>
                </a:cubicBezTo>
                <a:lnTo>
                  <a:pt x="23729" y="14255"/>
                </a:lnTo>
                <a:cubicBezTo>
                  <a:pt x="24701" y="14255"/>
                  <a:pt x="25453" y="13569"/>
                  <a:pt x="25453" y="12703"/>
                </a:cubicBezTo>
                <a:lnTo>
                  <a:pt x="25453" y="7697"/>
                </a:lnTo>
                <a:lnTo>
                  <a:pt x="23729" y="7697"/>
                </a:lnTo>
                <a:lnTo>
                  <a:pt x="27021" y="4406"/>
                </a:lnTo>
                <a:lnTo>
                  <a:pt x="30467" y="7697"/>
                </a:lnTo>
                <a:lnTo>
                  <a:pt x="28744" y="7697"/>
                </a:lnTo>
                <a:lnTo>
                  <a:pt x="28744" y="12703"/>
                </a:lnTo>
                <a:cubicBezTo>
                  <a:pt x="28744" y="15300"/>
                  <a:pt x="26326" y="17701"/>
                  <a:pt x="23729" y="17701"/>
                </a:cubicBezTo>
                <a:lnTo>
                  <a:pt x="22170" y="17701"/>
                </a:lnTo>
                <a:cubicBezTo>
                  <a:pt x="19573" y="17701"/>
                  <a:pt x="17155" y="15300"/>
                  <a:pt x="17155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60E-B35A-41EA-BA50-632341F170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cenarioIP" descr=""/>
          <p:cNvPicPr/>
          <p:nvPr/>
        </p:nvPicPr>
        <p:blipFill>
          <a:blip r:embed="rId1"/>
          <a:stretch/>
        </p:blipFill>
        <p:spPr>
          <a:xfrm>
            <a:off x="114480" y="304920"/>
            <a:ext cx="9029520" cy="624816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8E2-79E6-4EEB-8E25-DCBAE9125C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enarioSnapshot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B67-CA54-49F9-904E-CED53D15FA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cro-Protocol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4920" y="1905120"/>
          <a:ext cx="7619760" cy="23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76197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17440" y="4613400"/>
            <a:ext cx="19364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R - R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S - SR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M - 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Ss -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263-0E0A-47C6-9A7C-F21A266EC0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57200" y="2057400"/>
          <a:ext cx="8115480" cy="29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1154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33520" y="5410080"/>
            <a:ext cx="1904760" cy="101592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 - Possí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 -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E13-0F1A-48A8-83A6-BDFE9870CE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ruturas de D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962000" y="1657440"/>
          <a:ext cx="4667400" cy="50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657440"/>
                    <a:ext cx="46674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9DD-9ACD-40E3-8297-7C5C77A639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o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arcabouço para construção de protocolos de entrega de mensagens em rede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ção das mensagens comuns em componente(s) básico(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plagem transparente de mensagens adicionais.(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paração de protocolo de entrega e ordenação de mensagens (proxy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6B0-860C-4D26-ABC2-A6D022E67F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est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istência do prox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 vs. tabel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ção de qualquer protocolo com e sem proxy? (RDP, Snapsho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 ~ serializaça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nsagens comu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âmetros dife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qüências dife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F94-4BFA-4FD5-87A3-6AF5AFFDA6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do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composto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sts Móveis(M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sts Fix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rvi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i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84D-4954-4036-8CD1-76A0331A08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protocolo adaptativo para entrega de resultados em rede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o base comum com interface bá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torar diferenças em objetos distintos permitindo mudança dinâmic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***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nativa: algoritmos com condicionai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endência de algoritmo de avaliação d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o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E94-820D-4440-8E0D-9778E342D0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erência Bibliográf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. Endler,Dilma M. Silva e K.Okuda.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RDP: A Result Delivery Protocol for Mobile Comput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an M. Durham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A conectionless protocol for mobile agents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vid B. Johnson e David A. Maltz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Protocols for Adaptative Wireless and Mobile Networking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y L. Murphy e Gian P. Picco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Reliable Communication for Highly Mobile Agents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042-9D33-469C-8732-2D319A9D34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do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981920" y="1447920"/>
            <a:ext cx="116208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odeloSistema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4AF-B77D-4133-8D18-8FD967673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85840" y="1981080"/>
          <a:ext cx="88009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981080"/>
                    <a:ext cx="8800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2280" y="457200"/>
            <a:ext cx="3581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uposi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10C-25A7-46B8-AAF0-E00FEF6BE1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9154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ocolo não orientado a conex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no estilo de comunicação requisição/respo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rante a entrega confiável de mensagens a Host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F1D-F0D4-4181-BD15-56433826EC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cionamento do 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eúdo do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rrentL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est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eúdo do Mss responsá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505320" y="5715000"/>
            <a:ext cx="1371600" cy="457200"/>
          </a:xfrm>
          <a:custGeom>
            <a:avLst/>
            <a:gdLst>
              <a:gd name="textAreaLeft" fmla="*/ 44640 w 1371600"/>
              <a:gd name="textAreaRight" fmla="*/ 1326960 w 1371600"/>
              <a:gd name="textAreaTop" fmla="*/ 44640 h 457200"/>
              <a:gd name="textAreaBottom" fmla="*/ 4125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2645" y="2121"/>
                </a:lnTo>
                <a:lnTo>
                  <a:pt x="2121" y="2121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2645" y="19479"/>
                </a:lnTo>
                <a:lnTo>
                  <a:pt x="62645" y="2121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2121" y="19479"/>
                </a:lnTo>
                <a:lnTo>
                  <a:pt x="62645" y="19479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2121" y="2121"/>
                </a:lnTo>
                <a:lnTo>
                  <a:pt x="2121" y="1947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394-3F68-46AC-A96D-61ADB3841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ensão do R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rante entrega confiável mesmo em eventuais falhas da rede fix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protocolo de Hand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em noções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de Lix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09880" y="6278400"/>
            <a:ext cx="1371600" cy="389160"/>
          </a:xfrm>
          <a:custGeom>
            <a:avLst/>
            <a:gdLst>
              <a:gd name="textAreaLeft" fmla="*/ 36360 w 1371600"/>
              <a:gd name="textAreaRight" fmla="*/ 1335240 w 1371600"/>
              <a:gd name="textAreaTop" fmla="*/ 36360 h 389160"/>
              <a:gd name="textAreaBottom" fmla="*/ 352800 h 389160"/>
            </a:gdLst>
            <a:ahLst/>
            <a:rect l="textAreaLeft" t="textAreaTop" r="textAreaRight" b="textAreaBottom"/>
            <a:pathLst>
              <a:path w="76079" h="21600">
                <a:moveTo>
                  <a:pt x="0" y="0"/>
                </a:moveTo>
                <a:lnTo>
                  <a:pt x="76079" y="0"/>
                </a:lnTo>
                <a:lnTo>
                  <a:pt x="76079" y="21600"/>
                </a:lnTo>
                <a:lnTo>
                  <a:pt x="0" y="21600"/>
                </a:lnTo>
                <a:close/>
              </a:path>
              <a:path fill="lightenLess" w="76079" h="21600">
                <a:moveTo>
                  <a:pt x="0" y="0"/>
                </a:moveTo>
                <a:lnTo>
                  <a:pt x="76079" y="0"/>
                </a:lnTo>
                <a:lnTo>
                  <a:pt x="74054" y="2025"/>
                </a:lnTo>
                <a:lnTo>
                  <a:pt x="2025" y="2025"/>
                </a:lnTo>
                <a:close/>
              </a:path>
              <a:path fill="darken" w="76079" h="21600">
                <a:moveTo>
                  <a:pt x="76079" y="0"/>
                </a:moveTo>
                <a:lnTo>
                  <a:pt x="76079" y="21600"/>
                </a:lnTo>
                <a:lnTo>
                  <a:pt x="74054" y="19575"/>
                </a:lnTo>
                <a:lnTo>
                  <a:pt x="74054" y="2025"/>
                </a:lnTo>
                <a:close/>
              </a:path>
              <a:path fill="darkenLess" w="76079" h="21600">
                <a:moveTo>
                  <a:pt x="76079" y="21600"/>
                </a:moveTo>
                <a:lnTo>
                  <a:pt x="0" y="21600"/>
                </a:lnTo>
                <a:lnTo>
                  <a:pt x="2025" y="19575"/>
                </a:lnTo>
                <a:lnTo>
                  <a:pt x="74054" y="19575"/>
                </a:lnTo>
                <a:close/>
              </a:path>
              <a:path fill="lighten" w="76079" h="21600">
                <a:moveTo>
                  <a:pt x="0" y="21600"/>
                </a:moveTo>
                <a:lnTo>
                  <a:pt x="0" y="0"/>
                </a:lnTo>
                <a:lnTo>
                  <a:pt x="2025" y="2025"/>
                </a:lnTo>
                <a:lnTo>
                  <a:pt x="2025" y="19575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844-E17F-43D8-8183-D8009D196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obile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63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ocolo para roteamento de pacotes em redes móveis(Camada de Re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aptação para entrega de mensagens (Camada de Aplicaçã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ssificação dos MSS’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 de origem(origM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 responsável(respM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utiliza a idéia de prox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876-19EE-4B48-B7B1-084042C1C5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8:34:28Z</dcterms:created>
  <dc:creator>wmlima</dc:creator>
  <dc:description/>
  <dc:language>en-US</dc:language>
  <cp:lastModifiedBy>Weslley</cp:lastModifiedBy>
  <cp:lastPrinted>2001-10-10T00:47:01Z</cp:lastPrinted>
  <dcterms:modified xsi:type="dcterms:W3CDTF">2001-10-19T14:25:03Z</dcterms:modified>
  <cp:revision>91</cp:revision>
  <dc:subject/>
  <dc:title>Protocolos para entrega de mensagens unicast em redes móveis</dc:title>
</cp:coreProperties>
</file>