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1CA42F-ADAB-4606-AFD1-17020AB03C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no de doutorado do IME/U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or na rede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r que este problema é uma conseqüência exclusiva da computação móv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ixa banda de transmis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aviação, por exemplo, não é possível parar o computador móvel, como no caso dos carros e pedes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5DF-DDE4-4A42-89C9-6D56E083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32E-0A9B-4868-B96D-64AD7793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FDA-9AB5-4EFF-9A0D-06996E16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992-AAD9-4EC4-B235-C9BB5178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9D0A-A6DC-4937-B4B3-C6492792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41AC-E824-49DC-9B5A-5F03C45E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7071-4897-4622-B83D-06AA7B28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CEA9-5EFB-4437-B4D7-23648030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F58C-3D91-401F-AFBE-F249E20A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6501-2FE3-401C-AD80-911E02B6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6602-FA82-4A1B-9D9D-4D57DB8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423-4D4B-455C-9512-241D87CC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378F-2732-4B9E-A661-6956B27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5940-9EB2-4A29-919B-EF688079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A62E-1120-47BB-88FD-EAC20FB5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CC88-20B1-4478-B16B-7603B5D7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BE21-A799-48F2-940D-6133F1C1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44A-351C-4162-A3E1-73DA173A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FC8-F8DD-4B4A-BEA0-6FF9DE1D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12C-D019-47FF-9CCD-5E581FE1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6EB-E200-4F57-825F-58429610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F43-023E-4CCC-806B-ABE6A415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107-FD71-45EC-8488-B059953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4A4-078D-49D4-8D50-1F126F6A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A94E-A1CA-4194-8CBF-7FA3EB6EF87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86CD-4230-45B8-90B1-D88D988A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A478-A4EE-4E95-8647-512AC14C83EB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ACF9-648A-4360-B17D-5ACEA50D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Semântica de “aqui” Para Consultas em Sistemas Transacionais Móve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ênio Akihiro Nas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5486400"/>
            <a:ext cx="1520640" cy="39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168560" cy="174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1592280" cy="92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tores que influenciam a variação de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14D-8CB3-4552-8D7A-003026F769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722F5-95E8-4590-B879-4B9AAD42D2B2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álculo da Velocida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 ser fornecida a velocidade pelo sistema, através da leitura do velocíme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os vindos do sistema, como a medição de velocidade da C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038-FDC2-4E3C-8CED-AD9581F49C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896BD-C821-4BB7-8B43-520FEAA2A284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ria levar a infinitos destinos, se irrest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aplicação de referência, a mobilidade se restringe a um gra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reção e sent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97560" y="4262400"/>
            <a:ext cx="1809720" cy="1346400"/>
            <a:chOff x="4597560" y="4262400"/>
            <a:chExt cx="1809720" cy="1346400"/>
          </a:xfrm>
        </p:grpSpPr>
        <p:sp>
          <p:nvSpPr>
            <p:cNvPr id="186" name=""/>
            <p:cNvSpPr/>
            <p:nvPr/>
          </p:nvSpPr>
          <p:spPr>
            <a:xfrm>
              <a:off x="4597560" y="4633920"/>
              <a:ext cx="950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45080" y="4452480"/>
              <a:ext cx="676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11800" y="4395960"/>
              <a:ext cx="9540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02120" y="516744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69160" y="4262400"/>
              <a:ext cx="950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4120" y="551988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83120" y="528156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5800" y="4338720"/>
              <a:ext cx="950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1880" y="514836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54440" y="4700520"/>
              <a:ext cx="26676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987800" y="4471920"/>
              <a:ext cx="37152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68720" y="5234040"/>
              <a:ext cx="10476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78600" y="5338800"/>
              <a:ext cx="7142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416560" y="4395600"/>
              <a:ext cx="228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702040" y="4424400"/>
              <a:ext cx="22860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740560" y="4300200"/>
              <a:ext cx="26640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5760" y="4329000"/>
              <a:ext cx="304560" cy="8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997600" y="5205240"/>
              <a:ext cx="33336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4" name=""/>
          <p:cNvGraphicFramePr/>
          <p:nvPr/>
        </p:nvGraphicFramePr>
        <p:xfrm>
          <a:off x="1828800" y="4267080"/>
          <a:ext cx="193356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267080"/>
                    <a:ext cx="193356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8D2-EC08-4106-AA95-BEA067A33B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94B7D-48C3-4A61-9655-C840B258FE1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mp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volve várias compon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transmissão (Mh-M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localização do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execução da cons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localização do Mss cor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transmissão (Mss-M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704-C535-44F1-B2E1-855EDCBCCB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81BF2-8C0C-4741-BAAC-97C6F9D0BF0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 do tempo: precisa ser estimado, levando em conta dados estatísticos dos sistemas de monitor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dade: consultada no velocímetro Posição: A partir dessas informações um ou vários vértices do gra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fornecer várias respostas possíve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E0E-03EC-461A-AD43-A7BCC92F8E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BD805-64D8-40F3-A5B2-F000BB0A39D8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ilador de consu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 se “aqui” faz parte da cons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fizer, cria código para efetuar a consu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ção em Java, independente do Banco de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erramentas: Byacc, Jflex,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s: script, semelhante ao Mob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05C-580E-491D-BAE1-AE8C766A1D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13568-70EE-4BEA-B126-70AC5E66C9D6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éias princip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r a consulta, procurando p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não ocorrer o aqui, executa a consulta norm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corr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-process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ós process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DA9-8F17-46D6-974E-33E213F6D1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E2763-9A5E-4ABB-828F-A14BDF5DB8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ção Atual e Futu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ementação Ini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a. Fase: Versão “Standalone”, para t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desenvolvimento. Término previsto para meados do 1o. Semestre/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a. Fase: integr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a. Fase: Finalização (tes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érmino esperado para 3/2002 (1 a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C63-7E78-4AF2-A6C9-96E92ADA31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E3B56-498D-423D-84BC-642ABA0F42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r as semânticas de “aqu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ste das semânticas do “aqui”, através da imple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r o SIDAM como plataforma de teste, estendendo-o com uma nova ferram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blica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95A-E211-4F0F-A9B2-110A7D6B66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45E48-E802-4D8A-83C2-F9A61721C9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EUCONFUS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AF6-E002-41C5-BE73-5E93729292C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C9EAD-7ABC-4A79-BC63-30A88563F7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ar os diversos valores possíveis para a variável “aqui” onde os usuários são móve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r a semântica correta para cada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ar essas semânticas implementando um pré-processador de consultas para o SI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BD0-883F-48A8-B116-517509DA37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CD61A-33CC-45F2-AD18-9052163C214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as Relacion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ra” em bancos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ção é modificada através do tempo e espaço (mais uma dimens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s a objetos móveis em 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nosso caso, os usuários é que são 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pretendemos armazenar informação sobre cada usuário no banco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2AA-8CE5-4718-825A-12B097B9F9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8DBD8-9912-425A-9837-587CF9CC6F70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sultas Envolvendo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Úteis em sistemas de informação de trânsito, como na aplicação de refer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u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neça o restaurante chinês mais próxim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qui implíci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izações ou inclus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teceu um acident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u estou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308-265C-4150-81B4-3062DB28FB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2F228-412D-4A66-A66D-88E906637DE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ras Aplica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amento aé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a tridimen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a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ção de escri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dade bai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C71-6E4D-470F-93F0-76FAD4BC11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15E27-E53B-4D8C-9636-3CF82BC265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qui” Muda 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o usuário é móvel, mu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14400" y="3276720"/>
          <a:ext cx="95580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76720"/>
                    <a:ext cx="9558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666880" y="3276720"/>
            <a:ext cx="276480" cy="21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200400"/>
            <a:ext cx="32400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581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8680" y="2479680"/>
            <a:ext cx="134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2514600"/>
            <a:ext cx="35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cebimento da re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819160" y="3657240"/>
            <a:ext cx="2350440" cy="765000"/>
            <a:chOff x="2819160" y="3657240"/>
            <a:chExt cx="2350440" cy="765000"/>
          </a:xfrm>
        </p:grpSpPr>
        <p:sp>
          <p:nvSpPr>
            <p:cNvPr id="158" name=""/>
            <p:cNvSpPr/>
            <p:nvPr/>
          </p:nvSpPr>
          <p:spPr>
            <a:xfrm flipH="1" flipV="1">
              <a:off x="2819160" y="365724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7400" y="396252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posta obt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29200" y="3276720"/>
          <a:ext cx="955800" cy="26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276720"/>
                    <a:ext cx="9558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6704640" y="3657240"/>
            <a:ext cx="2207520" cy="688680"/>
            <a:chOff x="6704640" y="3657240"/>
            <a:chExt cx="2207520" cy="688680"/>
          </a:xfrm>
        </p:grpSpPr>
        <p:sp>
          <p:nvSpPr>
            <p:cNvPr id="163" name=""/>
            <p:cNvSpPr/>
            <p:nvPr/>
          </p:nvSpPr>
          <p:spPr>
            <a:xfrm>
              <a:off x="6704640" y="3886200"/>
              <a:ext cx="22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posta corre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933960" y="36572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4D2-0503-4C88-8C7A-574FB49BD7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3C8F7-636B-48B6-B1B3-DE986CD94A70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qui” Muda 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666880" y="1676520"/>
          <a:ext cx="477216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477216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781680" y="4648320"/>
            <a:ext cx="15264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552720" y="4266720"/>
            <a:ext cx="228600" cy="3812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324120" y="3352680"/>
            <a:ext cx="228600" cy="9144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867280" y="3352680"/>
            <a:ext cx="457200" cy="304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3352680"/>
            <a:ext cx="15228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65760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DF5-E9E4-4A42-B118-CA620D7854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3415D-AEB3-4669-A700-3CA1DCA114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iferentes Valores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_i - quando a consulta é iniciada pelo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_c - quando a consulta é encerrada no banco de dados (com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_f - quando a resposta é recebida pelo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B92-6590-4270-B064-9F1CFAB8CD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C2F36-4F8B-4C0C-97B6-1C337E1260B2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os dos diferentes valores de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_i - atualiz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ve um aciden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_c - atualiz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est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_f - consul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 o restaurante chinês mais próximo 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130-588E-4153-829F-F0A2314152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B7AC4-5A95-47BC-8C0A-451EAA92294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03:26:33Z</dcterms:created>
  <dc:creator>Eugênio Akihiro Nassu</dc:creator>
  <dc:description/>
  <dc:language>en-US</dc:language>
  <cp:lastModifiedBy>Eugênio Akihiro Nassu</cp:lastModifiedBy>
  <cp:lastPrinted>2001-01-11T02:08:52Z</cp:lastPrinted>
  <dcterms:modified xsi:type="dcterms:W3CDTF">2001-06-04T03:48:20Z</dcterms:modified>
  <cp:revision>26</cp:revision>
  <dc:subject/>
  <dc:title>A semântica de “aqui” em consultas em sistemas com usuários móveis</dc:title>
</cp:coreProperties>
</file>