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F83-4601-4F43-9917-BE7A3628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973-AF61-4D3B-AF1A-F074E2B8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16E8-AABA-4DB3-A115-A5F79D2E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4066-1CC0-4301-84FA-B5BEF70A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49D7-140B-411F-B055-EED39E42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4EF9-8F1D-4E8B-9500-DD04539C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34DE-4739-4795-85ED-9E338B48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42D3-3A26-40CA-B7F5-391796C8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9478-FEAC-4A5B-AB74-BE557A06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8037-1D5E-4712-A25C-A0E7D304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4EDF-0661-4B9D-9BF3-23637260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D19-1950-4D7C-B1C0-4196A22F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A669-A2C3-421F-921D-02C7C10E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DD52-716D-4ED4-AEB7-E2F80DFE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CB9B-1FA5-47EC-A443-EB23DE6D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42BC-AD65-42E7-AA41-0B7ACBF8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F78D-CB97-47E8-828F-7CCD1408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920-3306-41F1-9BD8-1A75C11B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21D-55FC-4236-8F87-27BE0ED1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A4A-AB37-472A-8286-893FEDE3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A43-EA8B-4534-A33D-43ABD16C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B3F-62A3-4DBD-BF4C-DFD5CE3E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CA36-4AA0-479C-BB13-356ADCDB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5DC6-F80A-4213-BDB1-BBB79259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D52B-7C15-44DB-83CA-ADEFD1B906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2975-DCCF-4EBE-A56A-B6EFFA60F1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M ou CORBA 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Alexandre Ricardo Nardi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nardi@ime.usp.b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RBA: Uma Estratégia Horizontal (cont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P: Se os fornecedores todos seguem a mesma especificação, como ganhar no mercado competitivo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R: Existem várias áreas de diferenciação, como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obertura de muitas plataformas: fornecedores oferecem ORB´s cobrindo várias plataformas e linguagens, o que acentua o caráter horizontal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Suporte a plataformas estratégicas: alguns fornecedores focam em linguagens (como COBOL, Smalltalk e Ada) e outros em sistemas operacionai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uncionalidades específicas: de modo semelhante ao que acontece com gerenciadores de BD. Há o risco de perda de flexibilidade!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Serviços: OMG definiu vários serviços que precisam ainda ser implementados para muitas plataformas e linguagen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Uma fraqueza é a área de ferramentas de desenvolvimento, ainda pobre, mas com exceções, como o JBuilder (Inprise), por exemplo. Uma vez que a maioria dos fornecedores não desenvolvem ferramentas de desenvolvimento, este ponto deve ainda persistir, pelo menos a curto praz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Um Exemplo: Suporte a Sistemas no Mainfra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Estratégia Wrapper: código é escrito para ser executado diretamente no servidor, para comunicação com aplicações client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1905120"/>
            <a:ext cx="8381880" cy="2743200"/>
            <a:chOff x="380880" y="1905120"/>
            <a:chExt cx="8381880" cy="2743200"/>
          </a:xfrm>
        </p:grpSpPr>
        <p:sp>
          <p:nvSpPr>
            <p:cNvPr id="111" name=""/>
            <p:cNvSpPr/>
            <p:nvPr/>
          </p:nvSpPr>
          <p:spPr>
            <a:xfrm>
              <a:off x="380880" y="1905120"/>
              <a:ext cx="8381880" cy="27432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973880" y="3944880"/>
              <a:ext cx="5346360" cy="459720"/>
              <a:chOff x="1973880" y="3944880"/>
              <a:chExt cx="5346360" cy="459720"/>
            </a:xfrm>
          </p:grpSpPr>
          <p:sp>
            <p:nvSpPr>
              <p:cNvPr id="113" name=""/>
              <p:cNvSpPr/>
              <p:nvPr/>
            </p:nvSpPr>
            <p:spPr>
              <a:xfrm>
                <a:off x="1973880" y="3944880"/>
                <a:ext cx="1291680" cy="4597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liente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28560" y="3944880"/>
                <a:ext cx="1291680" cy="4597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liente 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001040" y="3944880"/>
                <a:ext cx="1291680" cy="4597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liente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1164960" y="2133720"/>
              <a:ext cx="6967080" cy="916920"/>
              <a:chOff x="1164960" y="2133720"/>
              <a:chExt cx="6967080" cy="91692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4974840" y="2133720"/>
                <a:ext cx="3157200" cy="916920"/>
                <a:chOff x="4974840" y="2133720"/>
                <a:chExt cx="3157200" cy="9169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4979880" y="2133720"/>
                  <a:ext cx="3144960" cy="45972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ffff"/>
                      </a:solidFill>
                      <a:latin typeface="Times New Roman"/>
                    </a:rPr>
                    <a:t>Aplicação MVS/CICS 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974840" y="2590920"/>
                  <a:ext cx="3157200" cy="45972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Wrapper 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1164960" y="2133720"/>
                <a:ext cx="3157200" cy="916920"/>
                <a:chOff x="1164960" y="2133720"/>
                <a:chExt cx="3157200" cy="9169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170000" y="2133720"/>
                  <a:ext cx="3144960" cy="45972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ffffff"/>
                      </a:solidFill>
                      <a:latin typeface="Times New Roman"/>
                    </a:rPr>
                    <a:t>Aplicação MVS/CICS 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164960" y="2590920"/>
                  <a:ext cx="3157200" cy="45972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Wrapper 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" name=""/>
            <p:cNvSpPr/>
            <p:nvPr/>
          </p:nvSpPr>
          <p:spPr>
            <a:xfrm flipV="1">
              <a:off x="2666880" y="304812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6629040" y="304812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666520" y="3048120"/>
              <a:ext cx="198108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647960" y="3048120"/>
              <a:ext cx="198108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480" y="3505320"/>
              <a:ext cx="7924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4600" y="3159000"/>
              <a:ext cx="152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33"/>
                  </a:solidFill>
                  <a:latin typeface="Arial Narrow"/>
                </a:rPr>
                <a:t>Servidor (MV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9720" y="365112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33"/>
                  </a:solidFill>
                  <a:latin typeface="Arial Narrow"/>
                </a:rPr>
                <a:t>Clien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Um Exemplo: Suporte a Sistemas no Mainfra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0" y="52891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Estratégia Gateway: código é escrito para ser executado em objetos que encapsulam comunicação com o servido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80880" y="1600200"/>
            <a:ext cx="8382240" cy="3733560"/>
            <a:chOff x="380880" y="1600200"/>
            <a:chExt cx="8382240" cy="3733560"/>
          </a:xfrm>
        </p:grpSpPr>
        <p:sp>
          <p:nvSpPr>
            <p:cNvPr id="133" name=""/>
            <p:cNvSpPr/>
            <p:nvPr/>
          </p:nvSpPr>
          <p:spPr>
            <a:xfrm>
              <a:off x="380880" y="1600200"/>
              <a:ext cx="8382240" cy="3733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002680" y="4572000"/>
              <a:ext cx="5346360" cy="459720"/>
              <a:chOff x="2002680" y="4572000"/>
              <a:chExt cx="5346360" cy="459720"/>
            </a:xfrm>
          </p:grpSpPr>
          <p:sp>
            <p:nvSpPr>
              <p:cNvPr id="135" name=""/>
              <p:cNvSpPr/>
              <p:nvPr/>
            </p:nvSpPr>
            <p:spPr>
              <a:xfrm>
                <a:off x="2002680" y="4572000"/>
                <a:ext cx="1291680" cy="4597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liente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7360" y="4572000"/>
                <a:ext cx="1291680" cy="4597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liente 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029840" y="4572000"/>
                <a:ext cx="1291680" cy="4597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ffffff"/>
                    </a:solidFill>
                    <a:latin typeface="Times New Roman"/>
                  </a:rPr>
                  <a:t>Cliente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5007600" y="1828800"/>
              <a:ext cx="314496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Aplicação MVS/CICS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97720" y="1828800"/>
              <a:ext cx="3144960" cy="4597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Aplicação MVS/CICS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2720880" y="3657600"/>
              <a:ext cx="198144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702320" y="3657600"/>
              <a:ext cx="192708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480" y="4114800"/>
              <a:ext cx="7925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0400" y="3751200"/>
              <a:ext cx="13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33"/>
                  </a:solidFill>
                  <a:latin typeface="Arial Narrow"/>
                </a:rPr>
                <a:t>Servidor (NT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8920" y="409716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33"/>
                  </a:solidFill>
                  <a:latin typeface="Arial Narrow"/>
                </a:rPr>
                <a:t>Clien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2743200"/>
              <a:ext cx="7925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0800" y="2361960"/>
              <a:ext cx="152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33"/>
                  </a:solidFill>
                  <a:latin typeface="Arial Narrow"/>
                </a:rPr>
                <a:t>Servidor (MV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9720" y="2743200"/>
              <a:ext cx="13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33"/>
                  </a:solidFill>
                  <a:latin typeface="Arial Narrow"/>
                </a:rPr>
                <a:t>Servidor (NT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2770200" y="2286000"/>
              <a:ext cx="9360" cy="228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581880" y="2285640"/>
              <a:ext cx="0" cy="225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192320" y="3200400"/>
              <a:ext cx="6967440" cy="459720"/>
              <a:chOff x="1192320" y="3200400"/>
              <a:chExt cx="6967440" cy="459720"/>
            </a:xfrm>
          </p:grpSpPr>
          <p:sp>
            <p:nvSpPr>
              <p:cNvPr id="151" name=""/>
              <p:cNvSpPr/>
              <p:nvPr/>
            </p:nvSpPr>
            <p:spPr>
              <a:xfrm>
                <a:off x="5002200" y="3200400"/>
                <a:ext cx="3157560" cy="4597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Gateway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192320" y="3200400"/>
                <a:ext cx="3157560" cy="4597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Gateway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M no Servid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foi desenvolvido no modelo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Bottom-Up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, inicialmente para suportar OLE, depois localmente e, só então, no ambiente distribuído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É uma excelente plataforma no ambiente Windows, servindo como “cola” para os diversos serviços e produtos Microsof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Os diferentes tipos de servidores -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in-proces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, local e remoto - fornecem otimizações muito importantes, reduzindo o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overhead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de cada invocação de método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Entretanto, a perda de suporte ao Java, com a eliminação do VJ++ já no Visual Studio.NET deve ter sérias conseqüências em qualquer idéia de interoperabilidad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O suporte a sistemas no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mainframe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é dado principalmente pelo desenvolvimento de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gateway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, embora o desenvolvimento de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wrapper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também exist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RBA no Servid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RBA foi desenvolvido no modelo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Top-Down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, visando interoperabilidade e portabilidade e, posteriormente, comunicação mais eficiente de objetos locais, um dos focos do CCM (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CORBA Component Model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, especificado no CORBA 3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Excelente solução em diversos ambientes, e boa no Windows (nem sempre tão boa quanto COM por não ter acesso às facilidades embutidas no SO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Suporte a sistemas no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mainframe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pode ser dado tando por soluções com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wrapper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quanto com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gateway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, aproveitando as vantagens de um ou outro, conforme a situação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M no Cliente Deskto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Devido à predominância da família Windows, que traz embutida a arquitetura de componentes (COM), e à família de ferramentas de desenvolvimento MS Visual Studio, que detém a maior fatia de mercado em ferramentas para desenvolvimento de aplicações para Windows, COM possui excelente suporte neste ambient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A existência de abordagens diversas para atender a grande número de clientes (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custom, automation 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 dual interface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) é também grande força do COM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RBA no Cliente Deskto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Quando algum cliente não utilizar Windows, COM deixa de ser solução apropriada, dando lugar ao CORBA, muito mais robusto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Os ambientes de desenvolvimento têm evoluído, embora lentament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Salvo para clientes escritos em Java, uma vez que a JVM já inclui ORB, a distribuição de aplicações no desktop não é trivia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M no Cliente Interne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43434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enário ilustrado é típico, quando o servidor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web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for Window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133560" indent="-133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utra possibilidade é o cliente acessar os objetos servidores através de DCOM. Problemas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289440" indent="-111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Navegador deve suportar extensões para Jscript ou VBScript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289440" indent="-111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SO cliente deve suportar DCOM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289440" indent="-111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onfigurações no computador client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289440" indent="-111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Segurança: configuração delicad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2120" y="990720"/>
            <a:ext cx="7938360" cy="3276360"/>
            <a:chOff x="672120" y="990720"/>
            <a:chExt cx="7938360" cy="3276360"/>
          </a:xfrm>
        </p:grpSpPr>
        <p:grpSp>
          <p:nvGrpSpPr>
            <p:cNvPr id="164" name=""/>
            <p:cNvGrpSpPr/>
            <p:nvPr/>
          </p:nvGrpSpPr>
          <p:grpSpPr>
            <a:xfrm>
              <a:off x="672120" y="990720"/>
              <a:ext cx="7938360" cy="3276360"/>
              <a:chOff x="672120" y="990720"/>
              <a:chExt cx="7938360" cy="3276360"/>
            </a:xfrm>
          </p:grpSpPr>
          <p:sp>
            <p:nvSpPr>
              <p:cNvPr id="165" name=""/>
              <p:cNvSpPr/>
              <p:nvPr/>
            </p:nvSpPr>
            <p:spPr>
              <a:xfrm>
                <a:off x="672120" y="1336680"/>
                <a:ext cx="1835640" cy="459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 Narrow"/>
                  </a:rPr>
                  <a:t>Objeto COM 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87960" y="1981080"/>
                <a:ext cx="1835640" cy="459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 Narrow"/>
                  </a:rPr>
                  <a:t>Objeto COM 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87240" y="2895480"/>
                <a:ext cx="1849680" cy="45972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 Narrow"/>
                  </a:rPr>
                  <a:t>Objeto COM 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433160" y="240336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ffff"/>
                    </a:solidFill>
                    <a:latin typeface="Arial Narrow"/>
                  </a:rPr>
                  <a:t>..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60880" y="1260360"/>
                <a:ext cx="1768320" cy="825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 Narrow"/>
                  </a:rPr>
                  <a:t>NT/2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 Narrow"/>
                  </a:rPr>
                  <a:t>usando II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3581280" y="2895480"/>
                <a:ext cx="1387440" cy="1219320"/>
                <a:chOff x="3581280" y="2895480"/>
                <a:chExt cx="1387440" cy="12193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3865320" y="3089160"/>
                  <a:ext cx="193680" cy="466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V="1">
                  <a:off x="3581280" y="2895480"/>
                  <a:ext cx="914400" cy="91440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3733560" y="3048120"/>
                  <a:ext cx="914400" cy="91440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>
                  <a:off x="3886200" y="3200400"/>
                  <a:ext cx="914400" cy="91440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809880" y="3352680"/>
                  <a:ext cx="11588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00"/>
                      </a:solidFill>
                      <a:latin typeface="Arial Narrow"/>
                    </a:rPr>
                    <a:t>Páginas ASP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4114800" y="2057400"/>
                <a:ext cx="0" cy="8380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2514240" y="1523880"/>
                <a:ext cx="762120" cy="152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514240" y="1676520"/>
                <a:ext cx="762120" cy="5331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514240" y="1676520"/>
                <a:ext cx="762120" cy="1447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24480" y="1066680"/>
                <a:ext cx="0" cy="320040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010280" y="1447920"/>
                <a:ext cx="1600200" cy="459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 Narrow"/>
                  </a:rPr>
                  <a:t>Navegado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34840" y="990720"/>
                <a:ext cx="102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Servido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24840" y="990720"/>
                <a:ext cx="87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Client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5028840" y="1676520"/>
                <a:ext cx="1981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5564160" y="1676520"/>
              <a:ext cx="6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 Narrow"/>
                </a:rPr>
                <a:t>HT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RBA no Cliente Interne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enário ilustrado anteriormente é perfeitamente viável com CORBA, substituindo-se ASP por JSP, com as seguintes vantagens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JSP é portável, enquanto ASP obriga o uso de servidor Windows com II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Java é a linguagem com maior suporte pelo CORBA para aplicações clientes (C++ normalmente não é a melhor escolha para o desenvolvimento de aplicações clientes). Como Java é a base do JSP, qualquer ORB para Java pode ser utilizad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09480" y="914400"/>
            <a:ext cx="8001000" cy="3187800"/>
            <a:chOff x="609480" y="914400"/>
            <a:chExt cx="8001000" cy="3187800"/>
          </a:xfrm>
        </p:grpSpPr>
        <p:sp>
          <p:nvSpPr>
            <p:cNvPr id="189" name=""/>
            <p:cNvSpPr/>
            <p:nvPr/>
          </p:nvSpPr>
          <p:spPr>
            <a:xfrm>
              <a:off x="2156760" y="2819520"/>
              <a:ext cx="2166480" cy="4597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 Narrow"/>
                </a:rPr>
                <a:t>Objeto CORBA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13600" y="3505320"/>
              <a:ext cx="2180160" cy="4597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 Narrow"/>
                </a:rPr>
                <a:t>Objeto CORBA 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44600" y="304812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</a:rPr>
                <a:t>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60880" y="1260360"/>
              <a:ext cx="1768320" cy="82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 Narrow"/>
                </a:rPr>
                <a:t>Servidor We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609480" y="914400"/>
              <a:ext cx="1387440" cy="1221840"/>
              <a:chOff x="609480" y="914400"/>
              <a:chExt cx="1387440" cy="1221840"/>
            </a:xfrm>
          </p:grpSpPr>
          <p:sp>
            <p:nvSpPr>
              <p:cNvPr id="194" name=""/>
              <p:cNvSpPr/>
              <p:nvPr/>
            </p:nvSpPr>
            <p:spPr>
              <a:xfrm>
                <a:off x="893880" y="1108080"/>
                <a:ext cx="193680" cy="4665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609480" y="914400"/>
                <a:ext cx="914400" cy="914400"/>
              </a:xfrm>
              <a:prstGeom prst="foldedCorner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762120" y="1066680"/>
                <a:ext cx="914400" cy="914400"/>
              </a:xfrm>
              <a:prstGeom prst="foldedCorner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914400" y="1219320"/>
                <a:ext cx="914400" cy="914400"/>
              </a:xfrm>
              <a:prstGeom prst="foldedCorner">
                <a:avLst>
                  <a:gd name="adj" fmla="val 125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38080" y="1219320"/>
                <a:ext cx="1158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 Narrow"/>
                  </a:rPr>
                  <a:t>Jav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 Narrow"/>
                  </a:rPr>
                  <a:t>file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6324480" y="1066680"/>
              <a:ext cx="0" cy="289584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10280" y="1447920"/>
              <a:ext cx="1600200" cy="1572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 Narrow"/>
                </a:rPr>
                <a:t>Navegad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4840" y="990720"/>
              <a:ext cx="102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Servid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24840" y="990720"/>
              <a:ext cx="8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Clien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028840" y="1676520"/>
              <a:ext cx="1981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828800" y="1676520"/>
              <a:ext cx="1447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96200" y="1981080"/>
              <a:ext cx="831600" cy="703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 Narrow"/>
                </a:rPr>
                <a:t>Jav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 Narrow"/>
                </a:rPr>
                <a:t>Appl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20120" y="2698920"/>
              <a:ext cx="0" cy="349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26560" y="2698920"/>
              <a:ext cx="0" cy="106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07080" y="3733920"/>
              <a:ext cx="3213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3048120"/>
              <a:ext cx="3282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2000" y="1635120"/>
              <a:ext cx="6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 Narrow"/>
                </a:rPr>
                <a:t>HT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71360" y="30481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 Narrow"/>
                </a:rPr>
                <a:t>IIO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47680" y="37339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 Narrow"/>
                </a:rPr>
                <a:t>IIO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Esta abordagem resolve os problemas enfrentados pelo DCO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Suporte a Java pelos navegadores: praticamente todos os navegadores suportam Java, em diferentes versões, o que pode ser resolvido com o Java Plug-in (Sun), que padroniza a JRE, eliminando a necessidade de fazer 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download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do OR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Suporte a SO: quando usando CORBA em um applet Java, o ORB executa sobre a JVM. O ORB não mantém dependências com o 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Segurança: limitada apenas pelo modelo de segurança do Java (chamado 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sandbox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erfa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e CORBA usam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interface definition language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(IDL) próprias para descrever interfa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0240" y="1981080"/>
            <a:ext cx="380988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RBA IDL é mais simples e elegante do que a COM ID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tem melhor suporte de ferramentas para criação e gerenciamento de IDL do que CORB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"/>
          <p:cNvSpPr/>
          <p:nvPr/>
        </p:nvSpPr>
        <p:spPr>
          <a:xfrm>
            <a:off x="217440" y="1636560"/>
            <a:ext cx="1776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Semelha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9280" y="1639800"/>
            <a:ext cx="145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Difere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Apresentar as diferenças e semelhanças entre as arquiteturas, explorando-as de modo a ser possível a escolha por uma ou outra em diversas situaçõ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Apresentar este estudo de forma imparcia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O público alvo desta apresentação compõe-se de profissionais que conheçam os fundamentos das arquiteturas em questão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Não serão enfocados os serviços específicos de COM ou CORB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Tipos de Dad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809880" cy="47307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e CORBA suportam rico conjunto de tipos de dado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e CORBA suportam constantes, enumerações, estruturas e vetor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7307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 define um subconjunto de tipos de dados chamad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automation typ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. Interfaces compatíveis com automação são suportadas em maior número de ambientes clientes. Não há garantia de funcionamento de interfaces não compatíveis com automação fora de C++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Qualquer interface CORBA pode ser usada por qualquer cliente CORBA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2" name=""/>
          <p:cNvSpPr/>
          <p:nvPr/>
        </p:nvSpPr>
        <p:spPr>
          <a:xfrm>
            <a:off x="217440" y="1636560"/>
            <a:ext cx="1776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Semelha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82000" y="1639800"/>
            <a:ext cx="145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Difere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Marshal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e CORBA tratam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marshaling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através de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stub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clientes e servidores. O usuário geralmente não precisa se preocupar com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marshal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00240" y="1981080"/>
            <a:ext cx="380988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 permite que interfaces compatíveis com automação usem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type library marshaling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eliminando a necessidade d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stub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específico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Em CORBA é possível utilizar interfaces de invocação dinâmica (DII) com o mesmo propósit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217440" y="1636560"/>
            <a:ext cx="1776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Semelha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2000" y="1639800"/>
            <a:ext cx="145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Difere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roxies, Stubs e Skelet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e CORBA utilizam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stub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em clientes e servidores no tratamento de condições de acesso remoto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e CORBA geram seus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stub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a partir da ID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00240" y="1981080"/>
            <a:ext cx="396252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 define stubs clientes com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proxi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e stubs servidores com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stub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. CORBA define stubs clientes com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stub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e stubs servidores com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skeleton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Proxi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stub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COM (DLLs) são usadas por qualquer linguagem. Em CORBA, devem ser gerados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stubs/skeleton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para cada combinação ORB/linguagem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217440" y="1636560"/>
            <a:ext cx="1776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Semelha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82000" y="1639800"/>
            <a:ext cx="145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Difere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Object Hand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e CORBA suportam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handle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para referenciar instâncias de objeto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0240" y="1981080"/>
            <a:ext cx="380988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 defin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object handl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com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interface pointer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. CORBA defin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object handl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com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object referenc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RBA suporta herança múltipla na hierarquia de interfaces. COM suporta apenas herança simples, mas permite que um objeto suporte mais de uma interfac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7" name=""/>
          <p:cNvSpPr/>
          <p:nvPr/>
        </p:nvSpPr>
        <p:spPr>
          <a:xfrm>
            <a:off x="217440" y="1636560"/>
            <a:ext cx="1776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Semelha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82000" y="1639800"/>
            <a:ext cx="145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Difere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riação de Objet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e CORBA utilizam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factorie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para criar instâncias de objeto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00240" y="1981080"/>
            <a:ext cx="380988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possui uma interface padrão para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factory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, chamada IClassFactor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Factorie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CORBA são objetos CORB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2" name=""/>
          <p:cNvSpPr/>
          <p:nvPr/>
        </p:nvSpPr>
        <p:spPr>
          <a:xfrm>
            <a:off x="217440" y="1636560"/>
            <a:ext cx="1776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Semelha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82000" y="1639800"/>
            <a:ext cx="145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Difere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Acesso a Objet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e CORBA permitem chamar métodos de modo semelhante à forma nativa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00240" y="1981080"/>
            <a:ext cx="380988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trata erros baseado em valores de retorno HRESUL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RBA suporta tratamento de exceções definidas pelo usuário na ID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"/>
          <p:cNvSpPr/>
          <p:nvPr/>
        </p:nvSpPr>
        <p:spPr>
          <a:xfrm>
            <a:off x="217440" y="1636560"/>
            <a:ext cx="1776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Semelha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82000" y="1639800"/>
            <a:ext cx="145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Difere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Destruição de Objet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2504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tem suporte a contagem de referências distribuída e coleta de lixo – clientes afetam contagem de referências pelo servido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A contagem de referências no CORBA é realizada no cliente para permitir o uso de uma instância do stub por vários objetos clientes. No servidor, se for utilizado C++, pode-se fazer o controle de instâncias por meio de duplicate/releas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1" name=""/>
          <p:cNvSpPr/>
          <p:nvPr/>
        </p:nvSpPr>
        <p:spPr>
          <a:xfrm>
            <a:off x="232200" y="1676520"/>
            <a:ext cx="145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 Narrow"/>
              </a:rPr>
              <a:t>Diferenç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Bridges: Interligando COM e CORB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Há várias abordagens possíveis para a comunicação entre objetos COM e CORBA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Desenvolvimento manual de componentes que conversem com amba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Vantagem: independência de terceiros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Desvantagem: dificuldade de implementação e insegurança quanto ao Java pela MS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Utilização de produtos comerciai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Vantagem: uso de padrão (especificação de integração COM/CORBA inclusa na especificação do CORBA 2.2)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Desvantagem: dependência de produtos de terceiros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Utilização de 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Enterprise Application servers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que dêem suporte a COM e CORB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Vantagem: facilidade de uso e disponibilização de serviços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Desvantagem: mercado ainda incipiente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Existem vários fatores que devem ser levados em consideração na escolha entre COM e CORB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Plataforma: suporte a sistemas de legado, SO´s, linguagens de programação e ferramentas de desenvolviment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Serviços básicos: suporte a transações distribuídas, segurança e privacidade, mensagens assíncronas e gerenciamento de objetos distribuído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utros fatores: imagem do fornecedor, visão e compromisso do fornecedor, exclusividade do fornecedor, disponibilidade do produto e de pessoal de desenvolvimento e cust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Jason Pritchard. COM and CORBA Side by Side (Addison-Wesley, 1999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Don Box. Essential COM (Addison-Wesley, 1998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Dale Rogerson. Inside COM (Microsoft Press, 1997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M. Henning, S. Vinoski. Advanced CORBA Programming with C++ (Addison-Wesley, 1999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: Arquitetura de Component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RBA: Arquitetura Distribuíd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: Uma Estratégia Vertica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RBA: Uma Estratégia Horizonta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no Servido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RBA no Servido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M no Client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RBA no Client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oteiro (cont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Fundamento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Interfac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Tipos de Dado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Marshaling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Proxies, Stubs e Skeleton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bject Handl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riação de Objeto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Acesso a Objeto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Destruição de Objeto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Bridges: Interligando COM e CORB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nclusão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M: Arquitetura de Componen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17640" y="1527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 é a arquitetura de componentes dominante no desktop, devido à dominância dos sistemas Windows neste ambient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 enfoca problemas de desenvolvimento em ambiente desktop, principalmente em aplicações front-end, através de OLE e ActiveX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Há milhares de ActiveX Controls desenvolvidos pela MS e terceiro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s componentes podem ser implementados como servidores in-process, local ou remot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Otimizaçõ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liente não precisa saber o tipo de servidor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Boa arquitetura remota,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desde que no ambiente Window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Problema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Principal: Limitação de plataforma compromete o uso como arquitetura remot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925560" indent="-18504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Existem implementações para COM em UNIX e mainframes, mas muito limitadas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OM em Java exige Microsoft JVM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925560" indent="-18504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Perda de suporte a Java pela MS devido à disputa com a Su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RBA: Arquitetura Distribuíd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19080" y="826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RBA é a arquitetura distribuída dominante, devido à sua origem como especificação de um conjunto de empresas (OMG). A especificação inclui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49720" indent="-211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ORBA IDL: independência de implementação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49720" indent="-211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vocação dinâmic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49720" indent="-211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POA: para criação de servidores portávei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49720" indent="-211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teroperabilidade: ORBs que atendam à especificação podem se comunicar através de IIOP – independência de fornecedor e de plataform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49720" indent="-211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OM/CORBA bridging: possibilidade de uso das forças do COM no cliente – interoperabilidad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49720" indent="-211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Mapeamento para diversas linguagens: C, C++, Java, Smalltalk, COBOL, Ada, Visual Basic (VBOrb!!!), ... PS: algumas destas não estão mapeadas na espec.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49720" indent="-211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Produtos CORBA grátis: JacORB, TAO, Java IDL embutido no JDK 1.2 da Sun, ...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RBA = versatilidad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Problema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49720" indent="-211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existência de modelo de componentes (em desenvolvimento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49720" indent="-211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Burocracia na aprovação das especificações (discutível !!!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49720" indent="-211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Poucas facilidades para aplicações desktop no Windows (exceção: Java applets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M: Uma Estratégia Vertic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A estratégia da MS para dominar o lado dos servidores é ingressar na área como venda de mercadorias (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moditi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), fornecend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softwar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funcional e barato que rode em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ardwar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barato (é muito barato para uma corporação testar sistemas servidores Wintel – Windows/Intel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Para se tornar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modity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a demanda precisa ser alta, o que foi obtido pela MS através do Windows/Office/Visual Basic no lado cliente. O próximo passo são os servidor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A viabilização do Windows NT/2000 tem sido um grande investimento da MS, tendo caminhado bem dada a pouca idade do sistema (lançado em 1993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Além da estabilização d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softwar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ardwar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barato para servidores tem se tornado realidade, e a MS deixou algumas versões do NT/2000 de lado (para PowerPC, por exemplo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M: Uma Estratégia Vertical (cont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A estratégia da MS é visivelmente vertical, dado que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Hardware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: computadores baseados em Intel dominam o mercado 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desktop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, o que provê extensiva base para o 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software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Microsoft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SO no servidor: Windows NT/2000 tem se mostrado suficientemente seguro e funcional. A estratégia é: controlando o SO, MS controla os serviços essenciais (ativação de processos, 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registry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, ...), o que é grande vantagem competitiv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Middleware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: COM é embutido nos SO´s da MS, podendo ser usado por qualquer desenvolvedor escrevendo para a plataforma Window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Serviços: COM+ inclui serviços de transações, execuções assíncronas, modelo de publicação/subscrição de eventos, balanceamento de carga,...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erramentas de desenvolvimento: MS oferece ferramentas sofisticadas, tais como o Visual Basic, Visual C++, Visual Interdev,..., que incluem total suporte a COM e seus serviço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lientes: Windows é a plataforma 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desktop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predominante, fornecendo o IE, que detém ~86% do mercado de navegador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P: Por quê a MS não utiliza padrões da indústria como CORBA?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R: Porque ela não tem a ganhar com isso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RBA: Uma Estratégia Horizont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As metas da OMG incluem o desenvolvimento de especificações como CORBA, voltadas para a criação de soluções de objetos distribuídos interoperáveis e portáveis entre muitas plataformas. O grupo inclui cerca de 800 membros, trabalhando em grande variedade de plataformas servidoras. Alguns fornecedores de soluções CORBA suportam as principais plataformas UNIX, bem como Windows 98, NT/2000 e plataformas em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mainfram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como MVS. Suporte para CORBA em grande espectro de plataformas permite que as mesmas participem cooperativamente em solução distribuída multiplataforma, o que é estratégia bem diferente da da Microsof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Sempre deve ser lembrado que a maior força do CORBA é a interoperabilidade, o que caracteriza a estratégia horizonta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8T13:16:59Z</dcterms:created>
  <dc:creator>Alexandre Ricardo Nardi</dc:creator>
  <dc:description/>
  <dc:language>en-US</dc:language>
  <cp:lastModifiedBy>Alexandre Ricardo Nardi</cp:lastModifiedBy>
  <dcterms:modified xsi:type="dcterms:W3CDTF">2001-06-12T15:35:22Z</dcterms:modified>
  <cp:revision>101</cp:revision>
  <dc:subject/>
  <dc:title>Arquitetura do COM</dc:title>
</cp:coreProperties>
</file>