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8841-C812-4FE4-AE92-B597D81F8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5AF5-E091-4D4F-AD3B-76104A2E0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5BCA-D094-45B8-9B90-AD6917641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D9C3-D316-43FC-A854-C59B5AFB1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00828-1665-4AEC-9DF8-CCBA0A12B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18D85-192B-42CB-A62E-C11DFFF9B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ACA15-9490-4CEB-A340-895AEA4CA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08EE5-C357-48E3-A841-525ECDF9B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A9D4F-F8DD-460D-B49C-65E039E43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13FD6-B34E-446B-9E5D-F81603720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B0FE9-2593-4CAA-9D4A-6658E921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5FCB-87C8-48CE-BE70-7C43B18FF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ADA6F-9654-45B6-9214-4342D6236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4B9CB-B7C6-42AF-89C8-5AB8FE65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A1198-0F6C-4BC0-9BA2-FDF7C86C8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D2397-F516-4A89-B232-0EF6062E5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23BD7-F6E6-44DC-A2A1-D85C6F911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09FA-9B70-476B-B1AA-8FD14BD5B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0112-467E-4F9F-9FBC-6653FBFD7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E29B-DF5E-4BED-8B48-A095A1144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5A2A-4A51-4688-B75F-1E2E0E9FA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2150-87E6-4F9E-9859-012AE087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C1F8-66AD-475B-842E-D18387A3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0AAA-F397-43BE-BFD3-A1BE7D80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330E3-33E0-4CDC-8955-FBA47BB97C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01040-C57C-4DF9-AD7F-8C9010F0EB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Arquitetura do CO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lexandre Ricardo Nard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nardi@ime.usp.b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Fundamentos do COM</a:t>
            </a:r>
            <a:br>
              <a:rPr sz="4400"/>
            </a:b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Interfaces - ID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4495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import "oaidl.idl"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import "ocidl.idl"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pt-BR" sz="1600" spc="-1" strike="noStrike">
                <a:solidFill>
                  <a:srgbClr val="ffffff"/>
                </a:solidFill>
                <a:latin typeface="Arial Narrow"/>
              </a:rPr>
              <a:t>[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object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uuid(B5F3E2FE-B376-11D1-BB1E-00207812E629)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oleautomation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helpstring("IAccount Interface")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ointer_default(uniqu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]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interface IAccount : IUnknow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{</a:t>
            </a:r>
            <a:r>
              <a:rPr b="1" lang="pt-BR" sz="1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[propget, helpstring("property Balance")]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HRESULT Balance([out, retval] double *pVal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[propget, helpstring("property Name")]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HRESULT Name([out, retval] BSTR *pVal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[helpstring("method Deposit")]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HRESULT Deposit([in] double amount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48320" y="17524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 Narrow"/>
              </a:rPr>
              <a:t>   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[helpstring("method Withdraw")]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HRESULT Withdraw([in] double amount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}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[   object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uuid(B5F3E2FF-B376-11D1-BB1E-00207812E629)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oleautomation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helpstring("IAccountInit Interface")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ointer_default(uniqu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]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interface IAccountInit : IUnknow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{   const int E_INVALID_NAME = 0x80040200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    </a:t>
            </a:r>
            <a:r>
              <a:rPr b="1" lang="pt-BR" sz="1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[helpstring("method Init")]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HRESULT Init([in] BSTR name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}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Fundamentos do COM</a:t>
            </a:r>
            <a:br>
              <a:rPr sz="4400"/>
            </a:b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Interfaces - ID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4495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[   object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uuid(B5F3E2FD-B376-11D1-BB1E-00207812E629)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oleautomation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helpstring("ICheckingAccount Interface")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ointer_default(uniqu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]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interface ICheckingAccount : IAccou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{</a:t>
            </a:r>
            <a:r>
              <a:rPr b="1" lang="pt-BR" sz="1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[helpstring("method WithdrawUsingCheck")]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HRESULT WithdrawUsingCheck(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pt-BR" sz="16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[in] long</a:t>
            </a:r>
            <a:r>
              <a:rPr b="1" lang="pt-BR" sz="1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checkNumber, [in] double amount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}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[   uuid(B5F3E2F0-B376-11D1-BB1E-00207812E629)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version(1.0)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helpstring("ComCppServer 1.0 Type Library"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]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library COMCPPSERVERLi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importlib("stdole32.tlb"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importlib("stdole2.tlb"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[   uuid(B5F3E300-B376-11D1-BB1E-00207812E629)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helpstring("Ch3CheckingAccount Class"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]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coclass CheckingAccou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{   interface IAccoun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interface IAccountIni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[default] interface ICheckingAccoun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}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}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Fundamentos do COM</a:t>
            </a:r>
            <a:br>
              <a:rPr sz="4400"/>
            </a:b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Interface IUnknow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Deve ser implementada por todo objeto C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Métod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QueryInterface: retorna um ponteiro para uma inte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ddRef: quando um cliente recebe um interface pointer de outro cliente, o primeiro deve chamar este méto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Release: chamado por todo cliente, quando não precisar mais do obje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Fundamentos do COM</a:t>
            </a:r>
            <a:br>
              <a:rPr sz="4400"/>
            </a:b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Interface IUnknown - Exempl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1905120"/>
            <a:ext cx="4343400" cy="38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BOOL MyCheckingAccount::SetInterfaces(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IUnknown* pIUnknown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// Reset all interface pointer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Reset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HRESULT hr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void*   pInterface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// Query the IUnknown interface to get th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// ICheckingAccount interfac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hr = pIUnknown-&gt;QueryInterface(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 Narro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IID_ICheckingAccount, &amp;pInterface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m_pICheckingAccount =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 Narro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(</a:t>
            </a:r>
            <a:r>
              <a:rPr b="1" lang="pt-BR" sz="1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ICheckingAccount*)</a:t>
            </a:r>
            <a:r>
              <a:rPr b="1" lang="pt-BR" sz="1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Interface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0" y="1905120"/>
            <a:ext cx="4572000" cy="38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// Query the ICheckingAccount interface to get th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// IAccount interfac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hr = m_pICheckingAccount-&gt;QueryInterface(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 Narro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IID_IAccount, &amp;pInterface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m_pIAccount = (IAccount*)</a:t>
            </a:r>
            <a:r>
              <a:rPr b="1" lang="pt-BR" sz="1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Interface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// Query the IAccount interface to get th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// IAccountInit interfac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hr = m_pIAccount-&gt;QueryInterface(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 Narro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IID_IAccountInit, &amp;pInterface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m_pIAccountInit = (IAccountInit*)pInterface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return TRUE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Fundamentos do COM</a:t>
            </a:r>
            <a:br>
              <a:rPr sz="4400"/>
            </a:b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Tipos de Interfa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ustom Interfa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OM IDL suporta o tratamento de tipos simples (</a:t>
            </a: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int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long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,...) e complexos (</a:t>
            </a: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arrays, structs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,..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Nem todo ambiente de desenvolvimento suporta tipos complexos (VB, VJ++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ustom interfaces são eficientes, tendo mapeamento direto em </a:t>
            </a: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vta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133720" y="2544840"/>
            <a:ext cx="6851520" cy="327636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Fundamentos do COM</a:t>
            </a:r>
            <a:br>
              <a:rPr sz="4400"/>
            </a:br>
            <a:r>
              <a:rPr b="0" lang="pt-BR" sz="3600" spc="-1" strike="noStrike">
                <a:solidFill>
                  <a:srgbClr val="ffcc66"/>
                </a:solidFill>
                <a:latin typeface="Arial"/>
              </a:rPr>
              <a:t>Acessando um Objeto – Custom Interface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5200" y="2392200"/>
            <a:ext cx="1063080" cy="459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li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463760" y="2579760"/>
            <a:ext cx="609480" cy="152280"/>
            <a:chOff x="1463760" y="2579760"/>
            <a:chExt cx="609480" cy="152280"/>
          </a:xfrm>
        </p:grpSpPr>
        <p:sp>
          <p:nvSpPr>
            <p:cNvPr id="168" name=""/>
            <p:cNvSpPr/>
            <p:nvPr/>
          </p:nvSpPr>
          <p:spPr>
            <a:xfrm>
              <a:off x="1463760" y="2579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616040" y="2655720"/>
              <a:ext cx="4572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432160" y="3089160"/>
            <a:ext cx="2819160" cy="2595960"/>
            <a:chOff x="2432160" y="3089160"/>
            <a:chExt cx="2819160" cy="2595960"/>
          </a:xfrm>
        </p:grpSpPr>
        <p:sp>
          <p:nvSpPr>
            <p:cNvPr id="171" name=""/>
            <p:cNvSpPr/>
            <p:nvPr/>
          </p:nvSpPr>
          <p:spPr>
            <a:xfrm>
              <a:off x="2432160" y="3089160"/>
              <a:ext cx="2819160" cy="398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Ponteiro para Método 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432160" y="3528720"/>
              <a:ext cx="2819160" cy="398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Ponteiro para Método 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432160" y="3966840"/>
              <a:ext cx="2819160" cy="398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Ponteiro para Método 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432160" y="4404960"/>
              <a:ext cx="2819160" cy="398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Ponteiro para Método 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432160" y="4846320"/>
              <a:ext cx="2819160" cy="398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Ponteiro para Método 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432160" y="5286240"/>
              <a:ext cx="2819160" cy="398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Ponteiro para Método 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6095880" y="2620800"/>
            <a:ext cx="2819520" cy="2779920"/>
            <a:chOff x="6095880" y="2620800"/>
            <a:chExt cx="2819520" cy="2779920"/>
          </a:xfrm>
        </p:grpSpPr>
        <p:sp>
          <p:nvSpPr>
            <p:cNvPr id="178" name=""/>
            <p:cNvSpPr/>
            <p:nvPr/>
          </p:nvSpPr>
          <p:spPr>
            <a:xfrm>
              <a:off x="6095880" y="2620800"/>
              <a:ext cx="2819520" cy="3988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QueryInterface() {...}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095880" y="3097080"/>
              <a:ext cx="2819520" cy="3988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AddRef() {...}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95880" y="3573360"/>
              <a:ext cx="2819520" cy="3988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Release() {...}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95880" y="4049280"/>
              <a:ext cx="2819520" cy="398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Depósito() {...}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095880" y="4525560"/>
              <a:ext cx="2819520" cy="398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Retirada() {...}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095880" y="5001840"/>
              <a:ext cx="2819520" cy="398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Transferência() {...}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5249160" y="2990160"/>
            <a:ext cx="738720" cy="342000"/>
            <a:chOff x="5249160" y="2990160"/>
            <a:chExt cx="738720" cy="342000"/>
          </a:xfrm>
        </p:grpSpPr>
        <p:sp>
          <p:nvSpPr>
            <p:cNvPr id="185" name=""/>
            <p:cNvSpPr/>
            <p:nvPr/>
          </p:nvSpPr>
          <p:spPr>
            <a:xfrm rot="20349600">
              <a:off x="5269680" y="3151080"/>
              <a:ext cx="1900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5454000" y="2990160"/>
              <a:ext cx="533880" cy="203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5255640" y="3475800"/>
            <a:ext cx="738360" cy="342000"/>
            <a:chOff x="5255640" y="3475800"/>
            <a:chExt cx="738360" cy="342000"/>
          </a:xfrm>
        </p:grpSpPr>
        <p:sp>
          <p:nvSpPr>
            <p:cNvPr id="188" name=""/>
            <p:cNvSpPr/>
            <p:nvPr/>
          </p:nvSpPr>
          <p:spPr>
            <a:xfrm rot="20349600">
              <a:off x="5276160" y="3636720"/>
              <a:ext cx="1900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5460120" y="3475800"/>
              <a:ext cx="533880" cy="203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5255640" y="3933000"/>
            <a:ext cx="738360" cy="342000"/>
            <a:chOff x="5255640" y="3933000"/>
            <a:chExt cx="738360" cy="342000"/>
          </a:xfrm>
        </p:grpSpPr>
        <p:sp>
          <p:nvSpPr>
            <p:cNvPr id="191" name=""/>
            <p:cNvSpPr/>
            <p:nvPr/>
          </p:nvSpPr>
          <p:spPr>
            <a:xfrm rot="20349600">
              <a:off x="5276160" y="4093920"/>
              <a:ext cx="1900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5460120" y="3933000"/>
              <a:ext cx="533880" cy="203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5255640" y="4390200"/>
            <a:ext cx="738360" cy="342000"/>
            <a:chOff x="5255640" y="4390200"/>
            <a:chExt cx="738360" cy="342000"/>
          </a:xfrm>
        </p:grpSpPr>
        <p:sp>
          <p:nvSpPr>
            <p:cNvPr id="194" name=""/>
            <p:cNvSpPr/>
            <p:nvPr/>
          </p:nvSpPr>
          <p:spPr>
            <a:xfrm rot="20349600">
              <a:off x="5276160" y="4551120"/>
              <a:ext cx="1900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5460120" y="4390200"/>
              <a:ext cx="533880" cy="203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5255640" y="4771440"/>
            <a:ext cx="738720" cy="342000"/>
            <a:chOff x="5255640" y="4771440"/>
            <a:chExt cx="738720" cy="342000"/>
          </a:xfrm>
        </p:grpSpPr>
        <p:sp>
          <p:nvSpPr>
            <p:cNvPr id="197" name=""/>
            <p:cNvSpPr/>
            <p:nvPr/>
          </p:nvSpPr>
          <p:spPr>
            <a:xfrm rot="20349600">
              <a:off x="5276160" y="4932360"/>
              <a:ext cx="1900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5460480" y="4771440"/>
              <a:ext cx="533880" cy="203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5255640" y="5228640"/>
            <a:ext cx="738720" cy="342000"/>
            <a:chOff x="5255640" y="5228640"/>
            <a:chExt cx="738720" cy="342000"/>
          </a:xfrm>
        </p:grpSpPr>
        <p:sp>
          <p:nvSpPr>
            <p:cNvPr id="200" name=""/>
            <p:cNvSpPr/>
            <p:nvPr/>
          </p:nvSpPr>
          <p:spPr>
            <a:xfrm rot="20349600">
              <a:off x="5276160" y="5389560"/>
              <a:ext cx="1900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5460480" y="5228640"/>
              <a:ext cx="533880" cy="203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2089080" y="2540880"/>
            <a:ext cx="325440" cy="585000"/>
            <a:chOff x="2089080" y="2540880"/>
            <a:chExt cx="325440" cy="585000"/>
          </a:xfrm>
        </p:grpSpPr>
        <p:sp>
          <p:nvSpPr>
            <p:cNvPr id="203" name=""/>
            <p:cNvSpPr/>
            <p:nvPr/>
          </p:nvSpPr>
          <p:spPr>
            <a:xfrm rot="3910200">
              <a:off x="2113920" y="25657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222280" y="2711160"/>
              <a:ext cx="192240" cy="414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3413880" y="266220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33"/>
                </a:solidFill>
                <a:latin typeface="Times New Roman"/>
              </a:rPr>
              <a:t>vt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104760" y="5288040"/>
            <a:ext cx="1915200" cy="459720"/>
            <a:chOff x="104760" y="5288040"/>
            <a:chExt cx="1915200" cy="459720"/>
          </a:xfrm>
        </p:grpSpPr>
        <p:sp>
          <p:nvSpPr>
            <p:cNvPr id="207" name=""/>
            <p:cNvSpPr/>
            <p:nvPr/>
          </p:nvSpPr>
          <p:spPr>
            <a:xfrm>
              <a:off x="536040" y="5288040"/>
              <a:ext cx="148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IUnknow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04760" y="5416560"/>
              <a:ext cx="380880" cy="228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Fundamentos do COM</a:t>
            </a:r>
            <a:br>
              <a:rPr sz="4400"/>
            </a:b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Tipos de Interfa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utomation Interfa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Implementação da interface IDispatch para suporte a invocação dinâmica de métodos, comum em ambientes interpretados (VBScript, JScrip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Suporte para </a:t>
            </a: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automation ty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ficiência pelo menos 10x menor do que uso de custom interfac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133720" y="1828800"/>
            <a:ext cx="6851520" cy="497664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Fundamentos do COM</a:t>
            </a:r>
            <a:br>
              <a:rPr sz="4400"/>
            </a:br>
            <a:r>
              <a:rPr b="0" lang="pt-BR" sz="3200" spc="-1" strike="noStrike">
                <a:solidFill>
                  <a:srgbClr val="ffcc66"/>
                </a:solidFill>
                <a:latin typeface="Arial"/>
              </a:rPr>
              <a:t>Acessando um Objeto – Automation Interface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5200" y="1676520"/>
            <a:ext cx="1063080" cy="459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li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1463760" y="1863720"/>
            <a:ext cx="609480" cy="152280"/>
            <a:chOff x="1463760" y="1863720"/>
            <a:chExt cx="609480" cy="152280"/>
          </a:xfrm>
        </p:grpSpPr>
        <p:sp>
          <p:nvSpPr>
            <p:cNvPr id="215" name=""/>
            <p:cNvSpPr/>
            <p:nvPr/>
          </p:nvSpPr>
          <p:spPr>
            <a:xfrm>
              <a:off x="1463760" y="18637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16040" y="1939680"/>
              <a:ext cx="4572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2432160" y="2373480"/>
            <a:ext cx="2819160" cy="398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Ponteiro para Método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432160" y="2813040"/>
            <a:ext cx="2819160" cy="398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Ponteiro para Método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432160" y="3251160"/>
            <a:ext cx="2819160" cy="398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Ponteiro para Método 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432160" y="3689280"/>
            <a:ext cx="2819160" cy="398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Ponteiro para Método 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432160" y="4130640"/>
            <a:ext cx="2819160" cy="398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Ponteiro para Método 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432160" y="4570560"/>
            <a:ext cx="2819160" cy="398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Ponteiro para Método 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432160" y="5008680"/>
            <a:ext cx="2819160" cy="398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Ponteiro para Método 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6095880" y="1905120"/>
            <a:ext cx="2819520" cy="4683600"/>
            <a:chOff x="6095880" y="1905120"/>
            <a:chExt cx="2819520" cy="4683600"/>
          </a:xfrm>
        </p:grpSpPr>
        <p:sp>
          <p:nvSpPr>
            <p:cNvPr id="225" name=""/>
            <p:cNvSpPr/>
            <p:nvPr/>
          </p:nvSpPr>
          <p:spPr>
            <a:xfrm>
              <a:off x="6095880" y="1905120"/>
              <a:ext cx="2819520" cy="3988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QueryInterface() {...}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095880" y="2381400"/>
              <a:ext cx="2819520" cy="3988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AddRef() {...}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095880" y="2857680"/>
              <a:ext cx="2819520" cy="3988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Release() {...}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095880" y="3332160"/>
              <a:ext cx="2819520" cy="3988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GetIDsOfNames() {...}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095880" y="3808440"/>
              <a:ext cx="2819520" cy="3988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GetTypeInfo() {...}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095880" y="4284720"/>
              <a:ext cx="2819520" cy="3988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GetTypeInfoCount() {...}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095880" y="4761000"/>
              <a:ext cx="2819520" cy="3988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Invoke() {...}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095880" y="5237280"/>
              <a:ext cx="2819520" cy="398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Depósito() {...}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095880" y="5713560"/>
              <a:ext cx="2819520" cy="398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Retirada() {...}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095880" y="6189840"/>
              <a:ext cx="2819520" cy="398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Transferência() {...}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5249160" y="2274120"/>
            <a:ext cx="738360" cy="342000"/>
            <a:chOff x="5249160" y="2274120"/>
            <a:chExt cx="738360" cy="342000"/>
          </a:xfrm>
        </p:grpSpPr>
        <p:sp>
          <p:nvSpPr>
            <p:cNvPr id="236" name=""/>
            <p:cNvSpPr/>
            <p:nvPr/>
          </p:nvSpPr>
          <p:spPr>
            <a:xfrm rot="20349600">
              <a:off x="5269680" y="2435040"/>
              <a:ext cx="1900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5453640" y="2274120"/>
              <a:ext cx="533880" cy="203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255640" y="2760120"/>
            <a:ext cx="738720" cy="342000"/>
            <a:chOff x="5255640" y="2760120"/>
            <a:chExt cx="738720" cy="342000"/>
          </a:xfrm>
        </p:grpSpPr>
        <p:sp>
          <p:nvSpPr>
            <p:cNvPr id="239" name=""/>
            <p:cNvSpPr/>
            <p:nvPr/>
          </p:nvSpPr>
          <p:spPr>
            <a:xfrm rot="20349600">
              <a:off x="5276160" y="2921040"/>
              <a:ext cx="1900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460480" y="2760120"/>
              <a:ext cx="533880" cy="203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5255640" y="3217320"/>
            <a:ext cx="738720" cy="342000"/>
            <a:chOff x="5255640" y="3217320"/>
            <a:chExt cx="738720" cy="342000"/>
          </a:xfrm>
        </p:grpSpPr>
        <p:sp>
          <p:nvSpPr>
            <p:cNvPr id="242" name=""/>
            <p:cNvSpPr/>
            <p:nvPr/>
          </p:nvSpPr>
          <p:spPr>
            <a:xfrm rot="20349600">
              <a:off x="5276160" y="3378240"/>
              <a:ext cx="1900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5460480" y="3217320"/>
              <a:ext cx="533880" cy="203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5255640" y="3674520"/>
            <a:ext cx="738720" cy="342000"/>
            <a:chOff x="5255640" y="3674520"/>
            <a:chExt cx="738720" cy="342000"/>
          </a:xfrm>
        </p:grpSpPr>
        <p:sp>
          <p:nvSpPr>
            <p:cNvPr id="245" name=""/>
            <p:cNvSpPr/>
            <p:nvPr/>
          </p:nvSpPr>
          <p:spPr>
            <a:xfrm rot="20349600">
              <a:off x="5276160" y="3835440"/>
              <a:ext cx="1900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5460480" y="3674520"/>
              <a:ext cx="533880" cy="203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5255640" y="4055400"/>
            <a:ext cx="738720" cy="342000"/>
            <a:chOff x="5255640" y="4055400"/>
            <a:chExt cx="738720" cy="342000"/>
          </a:xfrm>
        </p:grpSpPr>
        <p:sp>
          <p:nvSpPr>
            <p:cNvPr id="248" name=""/>
            <p:cNvSpPr/>
            <p:nvPr/>
          </p:nvSpPr>
          <p:spPr>
            <a:xfrm rot="20349600">
              <a:off x="5276160" y="4216320"/>
              <a:ext cx="1900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5460480" y="4055400"/>
              <a:ext cx="533880" cy="203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5255640" y="4512600"/>
            <a:ext cx="738720" cy="342000"/>
            <a:chOff x="5255640" y="4512600"/>
            <a:chExt cx="738720" cy="342000"/>
          </a:xfrm>
        </p:grpSpPr>
        <p:sp>
          <p:nvSpPr>
            <p:cNvPr id="251" name=""/>
            <p:cNvSpPr/>
            <p:nvPr/>
          </p:nvSpPr>
          <p:spPr>
            <a:xfrm rot="20349600">
              <a:off x="5276160" y="4673520"/>
              <a:ext cx="1900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5460480" y="4512600"/>
              <a:ext cx="533880" cy="203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5255640" y="4969800"/>
            <a:ext cx="738720" cy="342000"/>
            <a:chOff x="5255640" y="4969800"/>
            <a:chExt cx="738720" cy="342000"/>
          </a:xfrm>
        </p:grpSpPr>
        <p:sp>
          <p:nvSpPr>
            <p:cNvPr id="254" name=""/>
            <p:cNvSpPr/>
            <p:nvPr/>
          </p:nvSpPr>
          <p:spPr>
            <a:xfrm rot="20349600">
              <a:off x="5276160" y="5130720"/>
              <a:ext cx="1900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5460480" y="4969800"/>
              <a:ext cx="533880" cy="203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2089080" y="1824840"/>
            <a:ext cx="325440" cy="585000"/>
            <a:chOff x="2089080" y="1824840"/>
            <a:chExt cx="325440" cy="585000"/>
          </a:xfrm>
        </p:grpSpPr>
        <p:sp>
          <p:nvSpPr>
            <p:cNvPr id="257" name=""/>
            <p:cNvSpPr/>
            <p:nvPr/>
          </p:nvSpPr>
          <p:spPr>
            <a:xfrm rot="3910200">
              <a:off x="2113920" y="1849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222280" y="1995120"/>
              <a:ext cx="192240" cy="414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3413880" y="194616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33"/>
                </a:solidFill>
                <a:latin typeface="Times New Roman"/>
              </a:rPr>
              <a:t>vt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104760" y="4572000"/>
            <a:ext cx="1915200" cy="459720"/>
            <a:chOff x="104760" y="4572000"/>
            <a:chExt cx="1915200" cy="459720"/>
          </a:xfrm>
        </p:grpSpPr>
        <p:sp>
          <p:nvSpPr>
            <p:cNvPr id="261" name=""/>
            <p:cNvSpPr/>
            <p:nvPr/>
          </p:nvSpPr>
          <p:spPr>
            <a:xfrm>
              <a:off x="536040" y="4572000"/>
              <a:ext cx="148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IUnknow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04760" y="4700520"/>
              <a:ext cx="380880" cy="228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115920" y="4952880"/>
            <a:ext cx="1796760" cy="459720"/>
            <a:chOff x="115920" y="4952880"/>
            <a:chExt cx="1796760" cy="459720"/>
          </a:xfrm>
        </p:grpSpPr>
        <p:sp>
          <p:nvSpPr>
            <p:cNvPr id="264" name=""/>
            <p:cNvSpPr/>
            <p:nvPr/>
          </p:nvSpPr>
          <p:spPr>
            <a:xfrm>
              <a:off x="544680" y="4952880"/>
              <a:ext cx="136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IDispatch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15920" y="5081760"/>
              <a:ext cx="380880" cy="228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8381880" y="5105520"/>
            <a:ext cx="0" cy="3808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534520" y="5105520"/>
            <a:ext cx="0" cy="838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686800" y="5105520"/>
            <a:ext cx="0" cy="12952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Fundamentos do COM</a:t>
            </a:r>
            <a:br>
              <a:rPr sz="4400"/>
            </a:b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Tipos de Interfa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Dual Interfa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Suporte para interfaces convencionais e de automaç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Limitação: deve utilizar apenas </a:t>
            </a: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automation ty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2133720" y="1828800"/>
            <a:ext cx="6851520" cy="497664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Fundamentos do COM</a:t>
            </a:r>
            <a:br>
              <a:rPr sz="4400"/>
            </a:br>
            <a:r>
              <a:rPr b="0" lang="pt-BR" sz="3200" spc="-1" strike="noStrike">
                <a:solidFill>
                  <a:srgbClr val="ffcc66"/>
                </a:solidFill>
                <a:latin typeface="Arial"/>
              </a:rPr>
              <a:t>Acessando um Objeto – Dual Interface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85200" y="1676520"/>
            <a:ext cx="1063080" cy="459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li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1463760" y="1863720"/>
            <a:ext cx="609480" cy="152280"/>
            <a:chOff x="1463760" y="1863720"/>
            <a:chExt cx="609480" cy="152280"/>
          </a:xfrm>
        </p:grpSpPr>
        <p:sp>
          <p:nvSpPr>
            <p:cNvPr id="275" name=""/>
            <p:cNvSpPr/>
            <p:nvPr/>
          </p:nvSpPr>
          <p:spPr>
            <a:xfrm>
              <a:off x="1463760" y="18637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616040" y="1939680"/>
              <a:ext cx="4572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2432160" y="2373480"/>
            <a:ext cx="2818800" cy="4352400"/>
            <a:chOff x="2432160" y="2373480"/>
            <a:chExt cx="2818800" cy="4352400"/>
          </a:xfrm>
        </p:grpSpPr>
        <p:sp>
          <p:nvSpPr>
            <p:cNvPr id="278" name=""/>
            <p:cNvSpPr/>
            <p:nvPr/>
          </p:nvSpPr>
          <p:spPr>
            <a:xfrm>
              <a:off x="2432160" y="2373480"/>
              <a:ext cx="2818800" cy="398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Ponteiro para Método 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432160" y="2812680"/>
              <a:ext cx="2818800" cy="398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Ponteiro para Método 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432160" y="3251880"/>
              <a:ext cx="2818800" cy="398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Ponteiro para Método 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432160" y="3689640"/>
              <a:ext cx="2818800" cy="398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Ponteiro para Método 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432160" y="4130280"/>
              <a:ext cx="2818800" cy="398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Ponteiro para Método 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432160" y="4569840"/>
              <a:ext cx="2818800" cy="398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Ponteiro para Método 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432160" y="5009040"/>
              <a:ext cx="2818800" cy="398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Ponteiro para Método 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432160" y="5448240"/>
              <a:ext cx="2818800" cy="398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Ponteiro para Método 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432160" y="5887440"/>
              <a:ext cx="2818800" cy="398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Ponteiro para Método 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432160" y="6327000"/>
              <a:ext cx="2818800" cy="398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Ponteiro para Método 1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6095880" y="1905120"/>
            <a:ext cx="2819520" cy="4683600"/>
            <a:chOff x="6095880" y="1905120"/>
            <a:chExt cx="2819520" cy="4683600"/>
          </a:xfrm>
        </p:grpSpPr>
        <p:sp>
          <p:nvSpPr>
            <p:cNvPr id="289" name=""/>
            <p:cNvSpPr/>
            <p:nvPr/>
          </p:nvSpPr>
          <p:spPr>
            <a:xfrm>
              <a:off x="6095880" y="1905120"/>
              <a:ext cx="2819520" cy="3988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QueryInterface() {...}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95880" y="2381400"/>
              <a:ext cx="2819520" cy="3988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AddRef() {...}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95880" y="2857680"/>
              <a:ext cx="2819520" cy="3988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Release() {...}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095880" y="3332160"/>
              <a:ext cx="2819520" cy="3988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GetIDsOfNames() {...}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95880" y="3808440"/>
              <a:ext cx="2819520" cy="3988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GetTypeInfo() {...}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095880" y="4284720"/>
              <a:ext cx="2819520" cy="3988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GetTypeInfoCount() {...}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095880" y="4761000"/>
              <a:ext cx="2819520" cy="3988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Invoke() {...}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095880" y="5237280"/>
              <a:ext cx="2819520" cy="398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Depósito() {...}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095880" y="5713560"/>
              <a:ext cx="2819520" cy="398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Retirada() {...}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95880" y="6189840"/>
              <a:ext cx="2819520" cy="398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Transferência() {...}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5249160" y="2274120"/>
            <a:ext cx="738360" cy="342000"/>
            <a:chOff x="5249160" y="2274120"/>
            <a:chExt cx="738360" cy="342000"/>
          </a:xfrm>
        </p:grpSpPr>
        <p:sp>
          <p:nvSpPr>
            <p:cNvPr id="300" name=""/>
            <p:cNvSpPr/>
            <p:nvPr/>
          </p:nvSpPr>
          <p:spPr>
            <a:xfrm rot="20349600">
              <a:off x="5269680" y="2435040"/>
              <a:ext cx="1900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5453640" y="2274120"/>
              <a:ext cx="533880" cy="203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255640" y="2760120"/>
            <a:ext cx="738720" cy="342000"/>
            <a:chOff x="5255640" y="2760120"/>
            <a:chExt cx="738720" cy="342000"/>
          </a:xfrm>
        </p:grpSpPr>
        <p:sp>
          <p:nvSpPr>
            <p:cNvPr id="303" name=""/>
            <p:cNvSpPr/>
            <p:nvPr/>
          </p:nvSpPr>
          <p:spPr>
            <a:xfrm rot="20349600">
              <a:off x="5276160" y="2921040"/>
              <a:ext cx="1900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5460480" y="2760120"/>
              <a:ext cx="533880" cy="203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5255640" y="3217320"/>
            <a:ext cx="738720" cy="342000"/>
            <a:chOff x="5255640" y="3217320"/>
            <a:chExt cx="738720" cy="342000"/>
          </a:xfrm>
        </p:grpSpPr>
        <p:sp>
          <p:nvSpPr>
            <p:cNvPr id="306" name=""/>
            <p:cNvSpPr/>
            <p:nvPr/>
          </p:nvSpPr>
          <p:spPr>
            <a:xfrm rot="20349600">
              <a:off x="5276160" y="3378240"/>
              <a:ext cx="1900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5460480" y="3217320"/>
              <a:ext cx="533880" cy="203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5255640" y="3674520"/>
            <a:ext cx="738720" cy="342000"/>
            <a:chOff x="5255640" y="3674520"/>
            <a:chExt cx="738720" cy="342000"/>
          </a:xfrm>
        </p:grpSpPr>
        <p:sp>
          <p:nvSpPr>
            <p:cNvPr id="309" name=""/>
            <p:cNvSpPr/>
            <p:nvPr/>
          </p:nvSpPr>
          <p:spPr>
            <a:xfrm rot="20349600">
              <a:off x="5276160" y="3835440"/>
              <a:ext cx="1900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5460480" y="3674520"/>
              <a:ext cx="533880" cy="203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5255640" y="4055400"/>
            <a:ext cx="738720" cy="342000"/>
            <a:chOff x="5255640" y="4055400"/>
            <a:chExt cx="738720" cy="342000"/>
          </a:xfrm>
        </p:grpSpPr>
        <p:sp>
          <p:nvSpPr>
            <p:cNvPr id="312" name=""/>
            <p:cNvSpPr/>
            <p:nvPr/>
          </p:nvSpPr>
          <p:spPr>
            <a:xfrm rot="20349600">
              <a:off x="5276160" y="4216320"/>
              <a:ext cx="1900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5460480" y="4055400"/>
              <a:ext cx="533880" cy="203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5255640" y="4512600"/>
            <a:ext cx="738720" cy="342000"/>
            <a:chOff x="5255640" y="4512600"/>
            <a:chExt cx="738720" cy="342000"/>
          </a:xfrm>
        </p:grpSpPr>
        <p:sp>
          <p:nvSpPr>
            <p:cNvPr id="315" name=""/>
            <p:cNvSpPr/>
            <p:nvPr/>
          </p:nvSpPr>
          <p:spPr>
            <a:xfrm rot="20349600">
              <a:off x="5276160" y="4673520"/>
              <a:ext cx="1900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5460480" y="4512600"/>
              <a:ext cx="533880" cy="203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5255640" y="4969800"/>
            <a:ext cx="738720" cy="342000"/>
            <a:chOff x="5255640" y="4969800"/>
            <a:chExt cx="738720" cy="342000"/>
          </a:xfrm>
        </p:grpSpPr>
        <p:sp>
          <p:nvSpPr>
            <p:cNvPr id="318" name=""/>
            <p:cNvSpPr/>
            <p:nvPr/>
          </p:nvSpPr>
          <p:spPr>
            <a:xfrm rot="20349600">
              <a:off x="5276160" y="5130720"/>
              <a:ext cx="1900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5460480" y="4969800"/>
              <a:ext cx="533880" cy="203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5250600" y="5470200"/>
            <a:ext cx="757440" cy="258120"/>
            <a:chOff x="5250600" y="5470200"/>
            <a:chExt cx="757440" cy="258120"/>
          </a:xfrm>
        </p:grpSpPr>
        <p:sp>
          <p:nvSpPr>
            <p:cNvPr id="321" name=""/>
            <p:cNvSpPr/>
            <p:nvPr/>
          </p:nvSpPr>
          <p:spPr>
            <a:xfrm rot="20759400">
              <a:off x="5266080" y="5555160"/>
              <a:ext cx="1900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5453640" y="5470200"/>
              <a:ext cx="554400" cy="138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5250600" y="5927400"/>
            <a:ext cx="757440" cy="258120"/>
            <a:chOff x="5250600" y="5927400"/>
            <a:chExt cx="757440" cy="258120"/>
          </a:xfrm>
        </p:grpSpPr>
        <p:sp>
          <p:nvSpPr>
            <p:cNvPr id="324" name=""/>
            <p:cNvSpPr/>
            <p:nvPr/>
          </p:nvSpPr>
          <p:spPr>
            <a:xfrm rot="20759400">
              <a:off x="5266080" y="6012360"/>
              <a:ext cx="1900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5453640" y="5927400"/>
              <a:ext cx="554400" cy="138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5250600" y="6384600"/>
            <a:ext cx="757440" cy="258120"/>
            <a:chOff x="5250600" y="6384600"/>
            <a:chExt cx="757440" cy="258120"/>
          </a:xfrm>
        </p:grpSpPr>
        <p:sp>
          <p:nvSpPr>
            <p:cNvPr id="327" name=""/>
            <p:cNvSpPr/>
            <p:nvPr/>
          </p:nvSpPr>
          <p:spPr>
            <a:xfrm rot="20759400">
              <a:off x="5266080" y="6469560"/>
              <a:ext cx="1900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5453640" y="6384600"/>
              <a:ext cx="554400" cy="138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2089080" y="1824840"/>
            <a:ext cx="325440" cy="585000"/>
            <a:chOff x="2089080" y="1824840"/>
            <a:chExt cx="325440" cy="585000"/>
          </a:xfrm>
        </p:grpSpPr>
        <p:sp>
          <p:nvSpPr>
            <p:cNvPr id="330" name=""/>
            <p:cNvSpPr/>
            <p:nvPr/>
          </p:nvSpPr>
          <p:spPr>
            <a:xfrm rot="3910200">
              <a:off x="2113920" y="1849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222280" y="1995120"/>
              <a:ext cx="192240" cy="414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3413880" y="194616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33"/>
                </a:solidFill>
                <a:latin typeface="Times New Roman"/>
              </a:rPr>
              <a:t>vt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104760" y="4572000"/>
            <a:ext cx="1915200" cy="459720"/>
            <a:chOff x="104760" y="4572000"/>
            <a:chExt cx="1915200" cy="459720"/>
          </a:xfrm>
        </p:grpSpPr>
        <p:sp>
          <p:nvSpPr>
            <p:cNvPr id="334" name=""/>
            <p:cNvSpPr/>
            <p:nvPr/>
          </p:nvSpPr>
          <p:spPr>
            <a:xfrm>
              <a:off x="536040" y="4572000"/>
              <a:ext cx="148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IUnknow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04760" y="4700520"/>
              <a:ext cx="380880" cy="228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115920" y="4952880"/>
            <a:ext cx="1796760" cy="459720"/>
            <a:chOff x="115920" y="4952880"/>
            <a:chExt cx="1796760" cy="459720"/>
          </a:xfrm>
        </p:grpSpPr>
        <p:sp>
          <p:nvSpPr>
            <p:cNvPr id="337" name=""/>
            <p:cNvSpPr/>
            <p:nvPr/>
          </p:nvSpPr>
          <p:spPr>
            <a:xfrm>
              <a:off x="544680" y="4952880"/>
              <a:ext cx="136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IDispatch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15920" y="5081760"/>
              <a:ext cx="380880" cy="228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8381880" y="5105520"/>
            <a:ext cx="0" cy="3808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534520" y="5105520"/>
            <a:ext cx="0" cy="838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686800" y="5105520"/>
            <a:ext cx="0" cy="12952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Objetiv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presentar uma visão geral da infra-estrutura e funcionamento do COM, sem entrar em detalhes sobre os serviços oferecidos, como de transações, chamadas assíncronas,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Estabelecer parâmetros que possibilitem comparação com o CORBA, assunto do seminário “COM ou CORBA ?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Fundamentos do COM</a:t>
            </a:r>
            <a:br>
              <a:rPr sz="4400"/>
            </a:b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Tipos de Dados - Automaçã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685800" y="1981080"/>
          <a:ext cx="8153280" cy="4656240"/>
        </p:xfrm>
        <a:graphic>
          <a:graphicData uri="http://schemas.openxmlformats.org/drawingml/2006/table">
            <a:tbl>
              <a:tblPr/>
              <a:tblGrid>
                <a:gridCol w="2209680"/>
                <a:gridCol w="5943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 IDL Typ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criç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or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iro de 16 bits com sin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iro de 32 bits com sin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loa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úmero em ponto flutuante com 32 bi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úmero em ponto flutuante com 64 bi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ST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ray com tamanho pré-fixado de caracteres de 2 byt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IANT_BO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ort integer used to indicate true or fal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uble representando dat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Unknown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nteiro genérico para interfa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Dispatch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nteiro para interface de automaç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IA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on de todos os tipos de automaç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FEARRA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a gerenciar arrays multi-dimensionais de tamanho variáv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"/>
          <p:cNvGrpSpPr/>
          <p:nvPr/>
        </p:nvGrpSpPr>
        <p:grpSpPr>
          <a:xfrm>
            <a:off x="196920" y="914400"/>
            <a:ext cx="4267080" cy="5715000"/>
            <a:chOff x="196920" y="914400"/>
            <a:chExt cx="4267080" cy="5715000"/>
          </a:xfrm>
        </p:grpSpPr>
        <p:sp>
          <p:nvSpPr>
            <p:cNvPr id="345" name=""/>
            <p:cNvSpPr/>
            <p:nvPr/>
          </p:nvSpPr>
          <p:spPr>
            <a:xfrm>
              <a:off x="196920" y="914400"/>
              <a:ext cx="4267080" cy="5715000"/>
            </a:xfrm>
            <a:prstGeom prst="rect">
              <a:avLst/>
            </a:prstGeom>
            <a:solidFill>
              <a:srgbClr val="0000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ff"/>
                  </a:solidFill>
                  <a:latin typeface="Arial"/>
                </a:rPr>
                <a:t>Computador X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69720" y="1306440"/>
              <a:ext cx="3942000" cy="318924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ff"/>
                  </a:solidFill>
                  <a:latin typeface="Arial"/>
                </a:rPr>
                <a:t>Processo Clien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6520" y="1712880"/>
              <a:ext cx="1474560" cy="1155600"/>
            </a:xfrm>
            <a:prstGeom prst="roundRect">
              <a:avLst>
                <a:gd name="adj" fmla="val 12347"/>
              </a:avLst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ff"/>
                  </a:solidFill>
                  <a:latin typeface="Arial"/>
                </a:rPr>
                <a:t>Aplicaçã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ff"/>
                  </a:solidFill>
                  <a:latin typeface="Arial"/>
                </a:rPr>
                <a:t>Clien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752560" y="1420920"/>
              <a:ext cx="1495440" cy="1127160"/>
            </a:xfrm>
            <a:prstGeom prst="roundRect">
              <a:avLst>
                <a:gd name="adj" fmla="val 12361"/>
              </a:avLst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ffff"/>
                  </a:solidFill>
                  <a:latin typeface="Arial"/>
                </a:rPr>
                <a:t>Servidor in-process (DLL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9" name=""/>
            <p:cNvGrpSpPr/>
            <p:nvPr/>
          </p:nvGrpSpPr>
          <p:grpSpPr>
            <a:xfrm>
              <a:off x="2516040" y="1569960"/>
              <a:ext cx="1438200" cy="430200"/>
              <a:chOff x="2516040" y="1569960"/>
              <a:chExt cx="1438200" cy="430200"/>
            </a:xfrm>
          </p:grpSpPr>
          <p:sp>
            <p:nvSpPr>
              <p:cNvPr id="350" name=""/>
              <p:cNvSpPr/>
              <p:nvPr/>
            </p:nvSpPr>
            <p:spPr>
              <a:xfrm>
                <a:off x="2850840" y="1569960"/>
                <a:ext cx="1103400" cy="430200"/>
              </a:xfrm>
              <a:prstGeom prst="roundRect">
                <a:avLst>
                  <a:gd name="adj" fmla="val 12287"/>
                </a:avLst>
              </a:prstGeom>
              <a:solidFill>
                <a:srgbClr val="ff0033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ffffff"/>
                    </a:solidFill>
                    <a:latin typeface="Arial"/>
                  </a:rPr>
                  <a:t>Objeto in-proces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51" name=""/>
              <p:cNvGrpSpPr/>
              <p:nvPr/>
            </p:nvGrpSpPr>
            <p:grpSpPr>
              <a:xfrm>
                <a:off x="2516040" y="1630800"/>
                <a:ext cx="344520" cy="126000"/>
                <a:chOff x="2516040" y="1630800"/>
                <a:chExt cx="344520" cy="12600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2516040" y="1630800"/>
                  <a:ext cx="136440" cy="1260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2646000" y="1690560"/>
                  <a:ext cx="214560" cy="1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"/>
              <p:cNvGrpSpPr/>
              <p:nvPr/>
            </p:nvGrpSpPr>
            <p:grpSpPr>
              <a:xfrm>
                <a:off x="2516040" y="1868760"/>
                <a:ext cx="344520" cy="126000"/>
                <a:chOff x="2516040" y="1868760"/>
                <a:chExt cx="344520" cy="12600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2516040" y="1868760"/>
                  <a:ext cx="136440" cy="1260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2646000" y="1928520"/>
                  <a:ext cx="214560" cy="1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57" name=""/>
            <p:cNvSpPr/>
            <p:nvPr/>
          </p:nvSpPr>
          <p:spPr>
            <a:xfrm flipV="1">
              <a:off x="1981080" y="1712880"/>
              <a:ext cx="544680" cy="496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63080" y="761760"/>
            <a:ext cx="8458200" cy="75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Fundamentos do COM</a:t>
            </a:r>
            <a:br>
              <a:rPr sz="4400"/>
            </a:b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                        Tipos de</a:t>
            </a:r>
            <a:br>
              <a:rPr sz="4400"/>
            </a:b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                            Servidor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658800" y="2870280"/>
            <a:ext cx="3505320" cy="3682800"/>
            <a:chOff x="658800" y="2870280"/>
            <a:chExt cx="3505320" cy="3682800"/>
          </a:xfrm>
        </p:grpSpPr>
        <p:grpSp>
          <p:nvGrpSpPr>
            <p:cNvPr id="360" name=""/>
            <p:cNvGrpSpPr/>
            <p:nvPr/>
          </p:nvGrpSpPr>
          <p:grpSpPr>
            <a:xfrm>
              <a:off x="658800" y="4948200"/>
              <a:ext cx="3505320" cy="1604880"/>
              <a:chOff x="658800" y="4948200"/>
              <a:chExt cx="3505320" cy="1604880"/>
            </a:xfrm>
          </p:grpSpPr>
          <p:sp>
            <p:nvSpPr>
              <p:cNvPr id="361" name=""/>
              <p:cNvSpPr/>
              <p:nvPr/>
            </p:nvSpPr>
            <p:spPr>
              <a:xfrm>
                <a:off x="658800" y="4948200"/>
                <a:ext cx="3505320" cy="1604880"/>
              </a:xfrm>
              <a:prstGeom prst="rect">
                <a:avLst/>
              </a:prstGeom>
              <a:solidFill>
                <a:srgbClr val="00ffff">
                  <a:alpha val="5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000" spc="-1" strike="noStrike">
                    <a:solidFill>
                      <a:srgbClr val="ffffff"/>
                    </a:solidFill>
                    <a:latin typeface="Arial"/>
                  </a:rPr>
                  <a:t>Processo Servidor Local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374920" y="5074920"/>
                <a:ext cx="1712880" cy="1157760"/>
              </a:xfrm>
              <a:prstGeom prst="roundRect">
                <a:avLst>
                  <a:gd name="adj" fmla="val 12361"/>
                </a:avLst>
              </a:prstGeom>
              <a:solidFill>
                <a:srgbClr val="3366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ffffff"/>
                    </a:solidFill>
                    <a:latin typeface="Arial"/>
                  </a:rPr>
                  <a:t>Servidor local (out-of-process)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63" name=""/>
              <p:cNvGrpSpPr/>
              <p:nvPr/>
            </p:nvGrpSpPr>
            <p:grpSpPr>
              <a:xfrm>
                <a:off x="2106720" y="5144040"/>
                <a:ext cx="1460520" cy="592200"/>
                <a:chOff x="2106720" y="5144040"/>
                <a:chExt cx="1460520" cy="59220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2441880" y="5144040"/>
                  <a:ext cx="1125360" cy="592200"/>
                </a:xfrm>
                <a:prstGeom prst="roundRect">
                  <a:avLst>
                    <a:gd name="adj" fmla="val 12287"/>
                  </a:avLst>
                </a:prstGeom>
                <a:solidFill>
                  <a:srgbClr val="ff0033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200" spc="-1" strike="noStrike">
                      <a:solidFill>
                        <a:srgbClr val="ffffff"/>
                      </a:solidFill>
                      <a:latin typeface="Arial"/>
                    </a:rPr>
                    <a:t>Objeto Local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5" name=""/>
                <p:cNvGrpSpPr/>
                <p:nvPr/>
              </p:nvGrpSpPr>
              <p:grpSpPr>
                <a:xfrm>
                  <a:off x="2106720" y="5272200"/>
                  <a:ext cx="344520" cy="129240"/>
                  <a:chOff x="2106720" y="5272200"/>
                  <a:chExt cx="344520" cy="12924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2106720" y="5272200"/>
                    <a:ext cx="136800" cy="129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2238480" y="5333400"/>
                    <a:ext cx="212760" cy="144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106720" y="5516280"/>
                  <a:ext cx="344520" cy="129240"/>
                  <a:chOff x="2106720" y="5516280"/>
                  <a:chExt cx="344520" cy="12924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106720" y="5516280"/>
                    <a:ext cx="136800" cy="129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238480" y="5577480"/>
                    <a:ext cx="212760" cy="144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1" name=""/>
              <p:cNvSpPr/>
              <p:nvPr/>
            </p:nvSpPr>
            <p:spPr>
              <a:xfrm>
                <a:off x="773280" y="5061600"/>
                <a:ext cx="898560" cy="981360"/>
              </a:xfrm>
              <a:custGeom>
                <a:avLst/>
                <a:gdLst>
                  <a:gd name="textAreaLeft" fmla="*/ 32400 w 898560"/>
                  <a:gd name="textAreaRight" fmla="*/ 866160 w 898560"/>
                  <a:gd name="textAreaTop" fmla="*/ 32400 h 981360"/>
                  <a:gd name="textAreaBottom" fmla="*/ 948960 h 981360"/>
                </a:gdLst>
                <a:ahLst/>
                <a:rect l="textAreaLeft" t="textAreaTop" r="textAreaRight" b="textAreaBottom"/>
                <a:pathLst>
                  <a:path w="21600" h="23590">
                    <a:moveTo>
                      <a:pt x="2664" y="0"/>
                    </a:moveTo>
                    <a:arcTo wR="2664" hR="2664" stAng="16200000" swAng="-5400000"/>
                    <a:lnTo>
                      <a:pt x="0" y="20926"/>
                    </a:lnTo>
                    <a:arcTo wR="2664" hR="2664" stAng="10800000" swAng="-5400000"/>
                    <a:lnTo>
                      <a:pt x="18936" y="23590"/>
                    </a:lnTo>
                    <a:arcTo wR="2664" hR="2664" stAng="5400000" swAng="-5400000"/>
                    <a:lnTo>
                      <a:pt x="21600" y="2664"/>
                    </a:lnTo>
                    <a:arcTo wR="2664" hR="2664" stAng="0" swAng="-5400000"/>
                    <a:close/>
                  </a:path>
                </a:pathLst>
              </a:custGeom>
              <a:solidFill>
                <a:srgbClr val="3366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887400" y="5208120"/>
                <a:ext cx="689040" cy="520200"/>
              </a:xfrm>
              <a:prstGeom prst="roundRect">
                <a:avLst>
                  <a:gd name="adj" fmla="val 12255"/>
                </a:avLst>
              </a:prstGeom>
              <a:solidFill>
                <a:srgbClr val="ff0033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Stu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V="1">
                <a:off x="1560600" y="5337360"/>
                <a:ext cx="574560" cy="10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74" name=""/>
            <p:cNvSpPr/>
            <p:nvPr/>
          </p:nvSpPr>
          <p:spPr>
            <a:xfrm>
              <a:off x="1496160" y="4572000"/>
              <a:ext cx="42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P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5" name=""/>
            <p:cNvGrpSpPr/>
            <p:nvPr/>
          </p:nvGrpSpPr>
          <p:grpSpPr>
            <a:xfrm>
              <a:off x="1192320" y="4343400"/>
              <a:ext cx="380880" cy="761760"/>
              <a:chOff x="1192320" y="4343400"/>
              <a:chExt cx="380880" cy="761760"/>
            </a:xfrm>
          </p:grpSpPr>
          <p:sp>
            <p:nvSpPr>
              <p:cNvPr id="376" name=""/>
              <p:cNvSpPr/>
              <p:nvPr/>
            </p:nvSpPr>
            <p:spPr>
              <a:xfrm flipH="1">
                <a:off x="1226880" y="4343400"/>
                <a:ext cx="346320" cy="682560"/>
              </a:xfrm>
              <a:custGeom>
                <a:avLst/>
                <a:gdLst/>
                <a:ahLst/>
                <a:rect l="l" t="t" r="r" b="b"/>
                <a:pathLst>
                  <a:path w="1964" h="689">
                    <a:moveTo>
                      <a:pt x="0" y="0"/>
                    </a:moveTo>
                    <a:lnTo>
                      <a:pt x="1188" y="461"/>
                    </a:lnTo>
                    <a:lnTo>
                      <a:pt x="1041" y="319"/>
                    </a:lnTo>
                    <a:lnTo>
                      <a:pt x="1964" y="689"/>
                    </a:lnTo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H="1">
                <a:off x="1192320" y="4955040"/>
                <a:ext cx="41040" cy="150120"/>
              </a:xfrm>
              <a:custGeom>
                <a:avLst/>
                <a:gdLst/>
                <a:ahLst/>
                <a:rect l="l" t="t" r="r" b="b"/>
                <a:pathLst>
                  <a:path w="233" h="151">
                    <a:moveTo>
                      <a:pt x="233" y="151"/>
                    </a:moveTo>
                    <a:lnTo>
                      <a:pt x="49" y="0"/>
                    </a:lnTo>
                    <a:lnTo>
                      <a:pt x="0" y="130"/>
                    </a:lnTo>
                    <a:lnTo>
                      <a:pt x="233" y="151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897120" y="2870280"/>
              <a:ext cx="1440" cy="512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9" name=""/>
            <p:cNvGrpSpPr/>
            <p:nvPr/>
          </p:nvGrpSpPr>
          <p:grpSpPr>
            <a:xfrm>
              <a:off x="811440" y="3243240"/>
              <a:ext cx="1371600" cy="1103400"/>
              <a:chOff x="811440" y="3243240"/>
              <a:chExt cx="1371600" cy="1103400"/>
            </a:xfrm>
          </p:grpSpPr>
          <p:sp>
            <p:nvSpPr>
              <p:cNvPr id="380" name=""/>
              <p:cNvSpPr/>
              <p:nvPr/>
            </p:nvSpPr>
            <p:spPr>
              <a:xfrm>
                <a:off x="1116360" y="3243240"/>
                <a:ext cx="1066680" cy="1103400"/>
              </a:xfrm>
              <a:custGeom>
                <a:avLst/>
                <a:gdLst>
                  <a:gd name="textAreaLeft" fmla="*/ 38520 w 1066680"/>
                  <a:gd name="textAreaRight" fmla="*/ 1028160 w 1066680"/>
                  <a:gd name="textAreaTop" fmla="*/ 38520 h 1103400"/>
                  <a:gd name="textAreaBottom" fmla="*/ 1064880 h 1103400"/>
                </a:gdLst>
                <a:ahLst/>
                <a:rect l="textAreaLeft" t="textAreaTop" r="textAreaRight" b="textAreaBottom"/>
                <a:pathLst>
                  <a:path w="21600" h="22343">
                    <a:moveTo>
                      <a:pt x="2664" y="0"/>
                    </a:moveTo>
                    <a:arcTo wR="2664" hR="2664" stAng="16200000" swAng="-5400000"/>
                    <a:lnTo>
                      <a:pt x="0" y="19679"/>
                    </a:lnTo>
                    <a:arcTo wR="2664" hR="2664" stAng="10800000" swAng="-5400000"/>
                    <a:lnTo>
                      <a:pt x="18936" y="22343"/>
                    </a:lnTo>
                    <a:arcTo wR="2664" hR="2664" stAng="5400000" swAng="-5400000"/>
                    <a:lnTo>
                      <a:pt x="21600" y="2664"/>
                    </a:lnTo>
                    <a:arcTo wR="2664" hR="2664" stAng="0" swAng="-5400000"/>
                    <a:close/>
                  </a:path>
                </a:pathLst>
              </a:custGeom>
              <a:solidFill>
                <a:srgbClr val="3366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ffffff"/>
                    </a:solidFill>
                    <a:latin typeface="Arial"/>
                  </a:rPr>
                  <a:t>COM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1268640" y="3312720"/>
                <a:ext cx="762120" cy="563760"/>
              </a:xfrm>
              <a:prstGeom prst="roundRect">
                <a:avLst>
                  <a:gd name="adj" fmla="val 12255"/>
                </a:avLst>
              </a:prstGeom>
              <a:solidFill>
                <a:srgbClr val="ff0033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000" spc="-1" strike="noStrike">
                    <a:solidFill>
                      <a:srgbClr val="ffffff"/>
                    </a:solidFill>
                    <a:latin typeface="Arial"/>
                  </a:rPr>
                  <a:t>Proxy p/ objeto local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82" name=""/>
              <p:cNvGrpSpPr/>
              <p:nvPr/>
            </p:nvGrpSpPr>
            <p:grpSpPr>
              <a:xfrm>
                <a:off x="811440" y="3591360"/>
                <a:ext cx="474840" cy="138960"/>
                <a:chOff x="811440" y="3591360"/>
                <a:chExt cx="474840" cy="13896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811440" y="3591360"/>
                  <a:ext cx="181080" cy="1389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 flipV="1">
                  <a:off x="984600" y="3646080"/>
                  <a:ext cx="301680" cy="11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5" name=""/>
              <p:cNvGrpSpPr/>
              <p:nvPr/>
            </p:nvGrpSpPr>
            <p:grpSpPr>
              <a:xfrm>
                <a:off x="811440" y="3382560"/>
                <a:ext cx="474840" cy="138960"/>
                <a:chOff x="811440" y="3382560"/>
                <a:chExt cx="474840" cy="13896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811440" y="3382560"/>
                  <a:ext cx="181080" cy="1389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 flipV="1">
                  <a:off x="984600" y="3437280"/>
                  <a:ext cx="301680" cy="11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88" name=""/>
            <p:cNvSpPr/>
            <p:nvPr/>
          </p:nvSpPr>
          <p:spPr>
            <a:xfrm>
              <a:off x="852480" y="5715000"/>
              <a:ext cx="71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ffff"/>
                  </a:solidFill>
                  <a:latin typeface="Arial"/>
                </a:rPr>
                <a:t>CO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1981080" y="2819520"/>
            <a:ext cx="6983640" cy="3789360"/>
            <a:chOff x="1981080" y="2819520"/>
            <a:chExt cx="6983640" cy="3789360"/>
          </a:xfrm>
        </p:grpSpPr>
        <p:sp>
          <p:nvSpPr>
            <p:cNvPr id="390" name=""/>
            <p:cNvSpPr/>
            <p:nvPr/>
          </p:nvSpPr>
          <p:spPr>
            <a:xfrm>
              <a:off x="4570920" y="5105520"/>
              <a:ext cx="42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P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083200" y="3936960"/>
              <a:ext cx="3881520" cy="2671920"/>
            </a:xfrm>
            <a:prstGeom prst="rect">
              <a:avLst/>
            </a:prstGeom>
            <a:solidFill>
              <a:srgbClr val="0000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ff"/>
                  </a:solidFill>
                  <a:latin typeface="Arial"/>
                </a:rPr>
                <a:t>Computador 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981080" y="2819520"/>
              <a:ext cx="671760" cy="6159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2625840" y="3270240"/>
              <a:ext cx="1371600" cy="1103400"/>
              <a:chOff x="2625840" y="3270240"/>
              <a:chExt cx="1371600" cy="1103400"/>
            </a:xfrm>
          </p:grpSpPr>
          <p:sp>
            <p:nvSpPr>
              <p:cNvPr id="394" name=""/>
              <p:cNvSpPr/>
              <p:nvPr/>
            </p:nvSpPr>
            <p:spPr>
              <a:xfrm>
                <a:off x="2930760" y="3270240"/>
                <a:ext cx="1066680" cy="1103400"/>
              </a:xfrm>
              <a:custGeom>
                <a:avLst/>
                <a:gdLst>
                  <a:gd name="textAreaLeft" fmla="*/ 38520 w 1066680"/>
                  <a:gd name="textAreaRight" fmla="*/ 1028160 w 1066680"/>
                  <a:gd name="textAreaTop" fmla="*/ 38520 h 1103400"/>
                  <a:gd name="textAreaBottom" fmla="*/ 1064880 h 1103400"/>
                </a:gdLst>
                <a:ahLst/>
                <a:rect l="textAreaLeft" t="textAreaTop" r="textAreaRight" b="textAreaBottom"/>
                <a:pathLst>
                  <a:path w="21600" h="22343">
                    <a:moveTo>
                      <a:pt x="2664" y="0"/>
                    </a:moveTo>
                    <a:arcTo wR="2664" hR="2664" stAng="16200000" swAng="-5400000"/>
                    <a:lnTo>
                      <a:pt x="0" y="19679"/>
                    </a:lnTo>
                    <a:arcTo wR="2664" hR="2664" stAng="10800000" swAng="-5400000"/>
                    <a:lnTo>
                      <a:pt x="18936" y="22343"/>
                    </a:lnTo>
                    <a:arcTo wR="2664" hR="2664" stAng="5400000" swAng="-5400000"/>
                    <a:lnTo>
                      <a:pt x="21600" y="2664"/>
                    </a:lnTo>
                    <a:arcTo wR="2664" hR="2664" stAng="0" swAng="-5400000"/>
                    <a:close/>
                  </a:path>
                </a:pathLst>
              </a:custGeom>
              <a:solidFill>
                <a:srgbClr val="3366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ffffff"/>
                    </a:solidFill>
                    <a:latin typeface="Arial"/>
                  </a:rPr>
                  <a:t>DCOM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083040" y="3339720"/>
                <a:ext cx="762120" cy="563760"/>
              </a:xfrm>
              <a:prstGeom prst="roundRect">
                <a:avLst>
                  <a:gd name="adj" fmla="val 12255"/>
                </a:avLst>
              </a:prstGeom>
              <a:solidFill>
                <a:srgbClr val="ff0033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000" spc="-1" strike="noStrike">
                    <a:solidFill>
                      <a:srgbClr val="ffffff"/>
                    </a:solidFill>
                    <a:latin typeface="Arial"/>
                  </a:rPr>
                  <a:t>Proxy p/ objeto remoto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6" name=""/>
              <p:cNvGrpSpPr/>
              <p:nvPr/>
            </p:nvGrpSpPr>
            <p:grpSpPr>
              <a:xfrm>
                <a:off x="2625840" y="3618360"/>
                <a:ext cx="474840" cy="138960"/>
                <a:chOff x="2625840" y="3618360"/>
                <a:chExt cx="474840" cy="13896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2625840" y="3618360"/>
                  <a:ext cx="181080" cy="1389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 flipV="1">
                  <a:off x="2799000" y="3673080"/>
                  <a:ext cx="301680" cy="11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" name=""/>
              <p:cNvGrpSpPr/>
              <p:nvPr/>
            </p:nvGrpSpPr>
            <p:grpSpPr>
              <a:xfrm>
                <a:off x="2625840" y="3409560"/>
                <a:ext cx="474840" cy="138960"/>
                <a:chOff x="2625840" y="3409560"/>
                <a:chExt cx="474840" cy="13896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2625840" y="3409560"/>
                  <a:ext cx="181080" cy="1389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 flipV="1">
                  <a:off x="2799000" y="3464280"/>
                  <a:ext cx="301680" cy="11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02" name=""/>
            <p:cNvGrpSpPr/>
            <p:nvPr/>
          </p:nvGrpSpPr>
          <p:grpSpPr>
            <a:xfrm>
              <a:off x="3613320" y="4370760"/>
              <a:ext cx="1831320" cy="990360"/>
              <a:chOff x="3613320" y="4370760"/>
              <a:chExt cx="1831320" cy="990360"/>
            </a:xfrm>
          </p:grpSpPr>
          <p:sp>
            <p:nvSpPr>
              <p:cNvPr id="403" name=""/>
              <p:cNvSpPr/>
              <p:nvPr/>
            </p:nvSpPr>
            <p:spPr>
              <a:xfrm flipV="1">
                <a:off x="3613320" y="4370400"/>
                <a:ext cx="1674360" cy="894600"/>
              </a:xfrm>
              <a:custGeom>
                <a:avLst/>
                <a:gdLst/>
                <a:ahLst/>
                <a:rect l="l" t="t" r="r" b="b"/>
                <a:pathLst>
                  <a:path w="1938" h="1083">
                    <a:moveTo>
                      <a:pt x="0" y="1083"/>
                    </a:moveTo>
                    <a:lnTo>
                      <a:pt x="1165" y="364"/>
                    </a:lnTo>
                    <a:lnTo>
                      <a:pt x="1020" y="585"/>
                    </a:lnTo>
                    <a:lnTo>
                      <a:pt x="1938" y="0"/>
                    </a:lnTo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V="1">
                <a:off x="5249520" y="5209200"/>
                <a:ext cx="195120" cy="151920"/>
              </a:xfrm>
              <a:custGeom>
                <a:avLst/>
                <a:gdLst/>
                <a:ahLst/>
                <a:rect l="l" t="t" r="r" b="b"/>
                <a:pathLst>
                  <a:path w="226" h="183">
                    <a:moveTo>
                      <a:pt x="226" y="0"/>
                    </a:moveTo>
                    <a:lnTo>
                      <a:pt x="0" y="65"/>
                    </a:lnTo>
                    <a:lnTo>
                      <a:pt x="67" y="183"/>
                    </a:lnTo>
                    <a:lnTo>
                      <a:pt x="22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05" name=""/>
            <p:cNvSpPr/>
            <p:nvPr/>
          </p:nvSpPr>
          <p:spPr>
            <a:xfrm>
              <a:off x="5288040" y="4379760"/>
              <a:ext cx="3510000" cy="190980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ff"/>
                  </a:solidFill>
                  <a:latin typeface="Arial"/>
                </a:rPr>
                <a:t>Processo Servidor Remot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856560" y="4770360"/>
              <a:ext cx="1788840" cy="1378080"/>
            </a:xfrm>
            <a:prstGeom prst="roundRect">
              <a:avLst>
                <a:gd name="adj" fmla="val 12361"/>
              </a:avLst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ffff"/>
                  </a:solidFill>
                  <a:latin typeface="Arial"/>
                </a:rPr>
                <a:t>Servidor remot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ffff"/>
                  </a:solidFill>
                  <a:latin typeface="Arial"/>
                </a:rPr>
                <a:t>(out-of-process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07" name=""/>
            <p:cNvGrpSpPr/>
            <p:nvPr/>
          </p:nvGrpSpPr>
          <p:grpSpPr>
            <a:xfrm>
              <a:off x="6678720" y="4975200"/>
              <a:ext cx="1460520" cy="704880"/>
              <a:chOff x="6678720" y="4975200"/>
              <a:chExt cx="1460520" cy="704880"/>
            </a:xfrm>
          </p:grpSpPr>
          <p:sp>
            <p:nvSpPr>
              <p:cNvPr id="408" name=""/>
              <p:cNvSpPr/>
              <p:nvPr/>
            </p:nvSpPr>
            <p:spPr>
              <a:xfrm>
                <a:off x="7013880" y="4975200"/>
                <a:ext cx="1125360" cy="704880"/>
              </a:xfrm>
              <a:prstGeom prst="roundRect">
                <a:avLst>
                  <a:gd name="adj" fmla="val 12287"/>
                </a:avLst>
              </a:prstGeom>
              <a:solidFill>
                <a:srgbClr val="ff0033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ffffff"/>
                    </a:solidFill>
                    <a:latin typeface="Arial"/>
                  </a:rPr>
                  <a:t>Objeto Remoto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09" name=""/>
              <p:cNvGrpSpPr/>
              <p:nvPr/>
            </p:nvGrpSpPr>
            <p:grpSpPr>
              <a:xfrm>
                <a:off x="6678720" y="5127840"/>
                <a:ext cx="344520" cy="154080"/>
                <a:chOff x="6678720" y="5127840"/>
                <a:chExt cx="344520" cy="15408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6678720" y="5127840"/>
                  <a:ext cx="136800" cy="1540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6810480" y="5200920"/>
                  <a:ext cx="212760" cy="1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" name=""/>
              <p:cNvGrpSpPr/>
              <p:nvPr/>
            </p:nvGrpSpPr>
            <p:grpSpPr>
              <a:xfrm>
                <a:off x="6678720" y="5418360"/>
                <a:ext cx="344520" cy="154080"/>
                <a:chOff x="6678720" y="5418360"/>
                <a:chExt cx="344520" cy="15408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6678720" y="5418360"/>
                  <a:ext cx="136800" cy="1540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6810480" y="5491440"/>
                  <a:ext cx="212760" cy="1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15" name=""/>
            <p:cNvSpPr/>
            <p:nvPr/>
          </p:nvSpPr>
          <p:spPr>
            <a:xfrm>
              <a:off x="5394240" y="4878360"/>
              <a:ext cx="1082880" cy="1168560"/>
            </a:xfrm>
            <a:custGeom>
              <a:avLst/>
              <a:gdLst>
                <a:gd name="textAreaLeft" fmla="*/ 38880 w 1082880"/>
                <a:gd name="textAreaRight" fmla="*/ 1044000 w 1082880"/>
                <a:gd name="textAreaTop" fmla="*/ 38880 h 1168560"/>
                <a:gd name="textAreaBottom" fmla="*/ 1129680 h 1168560"/>
              </a:gdLst>
              <a:ahLst/>
              <a:rect l="textAreaLeft" t="textAreaTop" r="textAreaRight" b="textAreaBottom"/>
              <a:pathLst>
                <a:path w="21600" h="23308">
                  <a:moveTo>
                    <a:pt x="2664" y="0"/>
                  </a:moveTo>
                  <a:arcTo wR="2664" hR="2664" stAng="16200000" swAng="-5400000"/>
                  <a:lnTo>
                    <a:pt x="0" y="20644"/>
                  </a:lnTo>
                  <a:arcTo wR="2664" hR="2664" stAng="10800000" swAng="-5400000"/>
                  <a:lnTo>
                    <a:pt x="18936" y="23308"/>
                  </a:lnTo>
                  <a:arcTo wR="2664" hR="2664" stAng="5400000" swAng="-5400000"/>
                  <a:lnTo>
                    <a:pt x="21600" y="2664"/>
                  </a:lnTo>
                  <a:arcTo wR="2664" hR="2664" stAng="0" swAng="-5400000"/>
                  <a:close/>
                </a:path>
              </a:pathLst>
            </a:cu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508720" y="5052960"/>
              <a:ext cx="689040" cy="619200"/>
            </a:xfrm>
            <a:prstGeom prst="roundRect">
              <a:avLst>
                <a:gd name="adj" fmla="val 12255"/>
              </a:avLst>
            </a:prstGeom>
            <a:solidFill>
              <a:srgbClr val="ff003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Stub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6194520" y="5207040"/>
              <a:ext cx="48744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>
        <p:strips dir="rd"/>
      </p:transition>
    </mc:Choice>
    <mc:Fallback>
      <p:transition spd="slow">
        <p:strips dir="rd"/>
      </p:transition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Fundamentos do COM</a:t>
            </a:r>
            <a:br>
              <a:rPr sz="4400"/>
            </a:b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Proxies e Stub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380880" y="2057400"/>
          <a:ext cx="3581280" cy="2176560"/>
        </p:xfrm>
        <a:graphic>
          <a:graphicData uri="http://schemas.openxmlformats.org/drawingml/2006/table">
            <a:tbl>
              <a:tblPr/>
              <a:tblGrid>
                <a:gridCol w="3581280"/>
              </a:tblGrid>
              <a:tr h="63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ien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x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DLL gerada pelo MIDL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</a:tr>
              <a:tr h="63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/DCO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0" name=""/>
          <p:cNvGraphicFramePr/>
          <p:nvPr/>
        </p:nvGraphicFramePr>
        <p:xfrm>
          <a:off x="2133720" y="4419720"/>
          <a:ext cx="2209680" cy="2176200"/>
        </p:xfrm>
        <a:graphic>
          <a:graphicData uri="http://schemas.openxmlformats.org/drawingml/2006/table">
            <a:tbl>
              <a:tblPr/>
              <a:tblGrid>
                <a:gridCol w="2209680"/>
              </a:tblGrid>
              <a:tr h="63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ien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x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oleaut32.dll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</a:tr>
              <a:tr h="63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/DCO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88920" y="4737240"/>
            <a:ext cx="1862280" cy="1557000"/>
          </a:xfrm>
          <a:prstGeom prst="rect">
            <a:avLst/>
          </a:prstGeom>
          <a:solidFill>
            <a:srgbClr val="00ffff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Type libr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(TLB ger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pelo MID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936800" y="5557680"/>
            <a:ext cx="196920" cy="5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5257800" y="2057400"/>
          <a:ext cx="3581280" cy="2144880"/>
        </p:xfrm>
        <a:graphic>
          <a:graphicData uri="http://schemas.openxmlformats.org/drawingml/2006/table">
            <a:tbl>
              <a:tblPr/>
              <a:tblGrid>
                <a:gridCol w="3581280"/>
              </a:tblGrid>
              <a:tr h="60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rvid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ub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DLL gerada pelo MIDL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</a:tr>
              <a:tr h="63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/DCO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4" name=""/>
          <p:cNvGraphicFramePr/>
          <p:nvPr/>
        </p:nvGraphicFramePr>
        <p:xfrm>
          <a:off x="4800600" y="4419720"/>
          <a:ext cx="2209680" cy="2176200"/>
        </p:xfrm>
        <a:graphic>
          <a:graphicData uri="http://schemas.openxmlformats.org/drawingml/2006/table">
            <a:tbl>
              <a:tblPr/>
              <a:tblGrid>
                <a:gridCol w="2209680"/>
              </a:tblGrid>
              <a:tr h="63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rvid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ub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oleaut32.dll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</a:tr>
              <a:tr h="63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/DCO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425" name=""/>
          <p:cNvSpPr/>
          <p:nvPr/>
        </p:nvSpPr>
        <p:spPr>
          <a:xfrm>
            <a:off x="7227720" y="4656240"/>
            <a:ext cx="1862280" cy="1557000"/>
          </a:xfrm>
          <a:prstGeom prst="rect">
            <a:avLst/>
          </a:prstGeom>
          <a:solidFill>
            <a:srgbClr val="00ffff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Type libr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(TLB ger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pelo MID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010280" y="5486400"/>
            <a:ext cx="196920" cy="4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962520" y="3886200"/>
            <a:ext cx="1295280" cy="152280"/>
          </a:xfrm>
          <a:custGeom>
            <a:avLst/>
            <a:gdLst/>
            <a:ahLst/>
            <a:rect l="l" t="t" r="r" b="b"/>
            <a:pathLst>
              <a:path w="1152" h="288">
                <a:moveTo>
                  <a:pt x="0" y="144"/>
                </a:moveTo>
                <a:lnTo>
                  <a:pt x="624" y="0"/>
                </a:lnTo>
                <a:lnTo>
                  <a:pt x="576" y="192"/>
                </a:lnTo>
                <a:lnTo>
                  <a:pt x="1152" y="48"/>
                </a:lnTo>
                <a:lnTo>
                  <a:pt x="480" y="288"/>
                </a:lnTo>
                <a:lnTo>
                  <a:pt x="528" y="96"/>
                </a:lnTo>
                <a:lnTo>
                  <a:pt x="0" y="14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343400" y="6324480"/>
            <a:ext cx="457200" cy="76320"/>
          </a:xfrm>
          <a:custGeom>
            <a:avLst/>
            <a:gdLst/>
            <a:ahLst/>
            <a:rect l="l" t="t" r="r" b="b"/>
            <a:pathLst>
              <a:path w="1152" h="288">
                <a:moveTo>
                  <a:pt x="0" y="144"/>
                </a:moveTo>
                <a:lnTo>
                  <a:pt x="624" y="0"/>
                </a:lnTo>
                <a:lnTo>
                  <a:pt x="576" y="192"/>
                </a:lnTo>
                <a:lnTo>
                  <a:pt x="1152" y="48"/>
                </a:lnTo>
                <a:lnTo>
                  <a:pt x="480" y="288"/>
                </a:lnTo>
                <a:lnTo>
                  <a:pt x="528" y="96"/>
                </a:lnTo>
                <a:lnTo>
                  <a:pt x="0" y="14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269240" y="358128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RP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191120" y="6553080"/>
            <a:ext cx="6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RP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Fundamentos do COM</a:t>
            </a:r>
            <a:br>
              <a:rPr sz="4400"/>
            </a:b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Marshal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432" name=""/>
          <p:cNvGraphicFramePr/>
          <p:nvPr/>
        </p:nvGraphicFramePr>
        <p:xfrm>
          <a:off x="210960" y="1838160"/>
          <a:ext cx="8686800" cy="4916520"/>
        </p:xfrm>
        <a:graphic>
          <a:graphicData uri="http://schemas.openxmlformats.org/drawingml/2006/table">
            <a:tbl>
              <a:tblPr/>
              <a:tblGrid>
                <a:gridCol w="3200400"/>
                <a:gridCol w="54864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po de interface clien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po de Marsha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ff">
                        <a:alpha val="50000"/>
                      </a:srgbClr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stom interfac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xy/stub (DLL) deve ser registrada em cada computador clien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stom interface como [oleautomation]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istrar type library ou registrar proxy/stub (DLL) em cada clien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tomation interfac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Dispatch já está instalada (nada a fazer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</a:tr>
              <a:tr h="16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al interfac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istrar type library ou registrar proxy/stub (DLL) em cada clien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s clientes usando apenas IDispatch, nada a faz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3" name=""/>
          <p:cNvGrpSpPr/>
          <p:nvPr/>
        </p:nvGrpSpPr>
        <p:grpSpPr>
          <a:xfrm>
            <a:off x="380880" y="1981080"/>
            <a:ext cx="3733920" cy="2971800"/>
            <a:chOff x="380880" y="1981080"/>
            <a:chExt cx="3733920" cy="2971800"/>
          </a:xfrm>
        </p:grpSpPr>
        <p:sp>
          <p:nvSpPr>
            <p:cNvPr id="434" name=""/>
            <p:cNvSpPr/>
            <p:nvPr/>
          </p:nvSpPr>
          <p:spPr>
            <a:xfrm>
              <a:off x="380880" y="1981080"/>
              <a:ext cx="3733920" cy="2971800"/>
            </a:xfrm>
            <a:prstGeom prst="rect">
              <a:avLst/>
            </a:prstGeom>
            <a:solidFill>
              <a:srgbClr val="0000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82320" y="1981080"/>
              <a:ext cx="135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ff"/>
                  </a:solidFill>
                  <a:latin typeface="Arial Narrow"/>
                </a:rPr>
                <a:t>Cliente.EX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Fundamentos do COM</a:t>
            </a:r>
            <a:br>
              <a:rPr sz="4400"/>
            </a:br>
            <a:r>
              <a:rPr b="0" lang="pt-BR" sz="3600" spc="-1" strike="noStrike">
                <a:solidFill>
                  <a:srgbClr val="ffcc66"/>
                </a:solidFill>
                <a:latin typeface="Arial"/>
              </a:rPr>
              <a:t>Criação de Objetos – Servidor In-Proces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80880" y="4952880"/>
            <a:ext cx="3733920" cy="1295640"/>
          </a:xfrm>
          <a:prstGeom prst="rect">
            <a:avLst/>
          </a:prstGeom>
          <a:solidFill>
            <a:srgbClr val="0000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                     </a:t>
            </a: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OLE32.D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            </a:t>
            </a: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CoGetClassObj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               </a:t>
            </a: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CoLoad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               </a:t>
            </a: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DLLGetClassObj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2209680"/>
            <a:ext cx="4343400" cy="1219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Service Control Manager (SC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svchost.exe / rpcss.d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00600" y="4191120"/>
            <a:ext cx="3886200" cy="1371600"/>
          </a:xfrm>
          <a:prstGeom prst="can">
            <a:avLst>
              <a:gd name="adj" fmla="val 25000"/>
            </a:avLst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RegD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{CLSID}  -  Servidor.D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33520" y="220968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invoca CoGetClassObj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31360" y="2514600"/>
            <a:ext cx="289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invoca Fac::CreateInst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29200" y="2819520"/>
            <a:ext cx="255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invoca Obj::MeuMéto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1828800" y="3138480"/>
            <a:ext cx="1905120" cy="1662120"/>
            <a:chOff x="1828800" y="3138480"/>
            <a:chExt cx="1905120" cy="1662120"/>
          </a:xfrm>
        </p:grpSpPr>
        <p:sp>
          <p:nvSpPr>
            <p:cNvPr id="444" name=""/>
            <p:cNvSpPr/>
            <p:nvPr/>
          </p:nvSpPr>
          <p:spPr>
            <a:xfrm>
              <a:off x="1828800" y="3200400"/>
              <a:ext cx="1905120" cy="1600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832040" y="3138480"/>
              <a:ext cx="1355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 Narrow"/>
                </a:rPr>
                <a:t>Servidor.DL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1828800" y="2590920"/>
            <a:ext cx="304920" cy="2743200"/>
          </a:xfrm>
          <a:prstGeom prst="downArrow">
            <a:avLst>
              <a:gd name="adj1" fmla="val 50000"/>
              <a:gd name="adj2" fmla="val 224911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rot="3067200">
            <a:off x="4419360" y="3047760"/>
            <a:ext cx="304560" cy="2590560"/>
          </a:xfrm>
          <a:prstGeom prst="upArrow">
            <a:avLst>
              <a:gd name="adj1" fmla="val 50000"/>
              <a:gd name="adj2" fmla="val 212648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477120" y="3446640"/>
            <a:ext cx="533160" cy="744480"/>
          </a:xfrm>
          <a:prstGeom prst="upDownArrow">
            <a:avLst>
              <a:gd name="adj1" fmla="val 50000"/>
              <a:gd name="adj2" fmla="val 27798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rot="19438200">
            <a:off x="3213000" y="4220640"/>
            <a:ext cx="2667240" cy="304920"/>
          </a:xfrm>
          <a:prstGeom prst="leftArrow">
            <a:avLst>
              <a:gd name="adj1" fmla="val 50000"/>
              <a:gd name="adj2" fmla="val 218684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686160" y="4176720"/>
            <a:ext cx="2818800" cy="581040"/>
            <a:chOff x="686160" y="4176720"/>
            <a:chExt cx="2818800" cy="581040"/>
          </a:xfrm>
        </p:grpSpPr>
        <p:sp>
          <p:nvSpPr>
            <p:cNvPr id="451" name=""/>
            <p:cNvSpPr/>
            <p:nvPr/>
          </p:nvSpPr>
          <p:spPr>
            <a:xfrm>
              <a:off x="686160" y="419112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Arial"/>
                </a:rPr>
                <a:t>Ob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52" name=""/>
            <p:cNvGrpSpPr/>
            <p:nvPr/>
          </p:nvGrpSpPr>
          <p:grpSpPr>
            <a:xfrm>
              <a:off x="1370880" y="4176720"/>
              <a:ext cx="2134080" cy="581040"/>
              <a:chOff x="1370880" y="4176720"/>
              <a:chExt cx="2134080" cy="581040"/>
            </a:xfrm>
          </p:grpSpPr>
          <p:sp>
            <p:nvSpPr>
              <p:cNvPr id="453" name=""/>
              <p:cNvSpPr/>
              <p:nvPr/>
            </p:nvSpPr>
            <p:spPr>
              <a:xfrm>
                <a:off x="2058840" y="4176720"/>
                <a:ext cx="1446120" cy="581040"/>
              </a:xfrm>
              <a:prstGeom prst="roundRect">
                <a:avLst>
                  <a:gd name="adj" fmla="val 16667"/>
                </a:avLst>
              </a:prstGeom>
              <a:solidFill>
                <a:srgbClr val="ff0033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ffffff"/>
                    </a:solidFill>
                    <a:latin typeface="Arial Narrow"/>
                  </a:rPr>
                  <a:t>MeuObjeto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r>
                  <a:rPr b="1" lang="pt-BR" sz="1600" spc="-1" strike="noStrike">
                    <a:solidFill>
                      <a:srgbClr val="ffffff"/>
                    </a:solidFill>
                    <a:latin typeface="Arial Narrow"/>
                  </a:rPr>
                  <a:t>MeuMétodo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454" name=""/>
              <p:cNvCxnSpPr>
                <a:stCxn id="453" idx="1"/>
              </p:cNvCxnSpPr>
              <p:nvPr/>
            </p:nvCxnSpPr>
            <p:spPr>
              <a:xfrm flipH="1">
                <a:off x="1370880" y="4466880"/>
                <a:ext cx="687960" cy="1080"/>
              </a:xfrm>
              <a:prstGeom prst="straightConnector1">
                <a:avLst/>
              </a:prstGeom>
              <a:ln w="25560">
                <a:solidFill>
                  <a:srgbClr val="ffffff"/>
                </a:solidFill>
                <a:miter/>
                <a:tailEnd len="lg" type="oval" w="lg"/>
              </a:ln>
            </p:spPr>
          </p:cxnSp>
        </p:grpSp>
      </p:grpSp>
      <p:sp>
        <p:nvSpPr>
          <p:cNvPr id="455" name=""/>
          <p:cNvSpPr/>
          <p:nvPr/>
        </p:nvSpPr>
        <p:spPr>
          <a:xfrm>
            <a:off x="2585880" y="4033800"/>
            <a:ext cx="38124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rot="16074600">
            <a:off x="-676080" y="3426840"/>
            <a:ext cx="2361960" cy="533520"/>
          </a:xfrm>
          <a:custGeom>
            <a:avLst/>
            <a:gdLst>
              <a:gd name="textAreaLeft" fmla="*/ 0 w 2361960"/>
              <a:gd name="textAreaRight" fmla="*/ 2362320 w 23619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2777121"/>
                <a:lnTo>
                  <a:pt x="1737" y="16675"/>
                </a:lnTo>
                <a:arcTo wR="10800" hR="10800" stAng="8822879" swAng="12777121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133720" y="4800600"/>
            <a:ext cx="380880" cy="838080"/>
          </a:xfrm>
          <a:prstGeom prst="upArrow">
            <a:avLst>
              <a:gd name="adj1" fmla="val 50000"/>
              <a:gd name="adj2" fmla="val 55009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687960" y="3505320"/>
            <a:ext cx="2817000" cy="581040"/>
            <a:chOff x="687960" y="3505320"/>
            <a:chExt cx="2817000" cy="581040"/>
          </a:xfrm>
        </p:grpSpPr>
        <p:sp>
          <p:nvSpPr>
            <p:cNvPr id="459" name=""/>
            <p:cNvSpPr/>
            <p:nvPr/>
          </p:nvSpPr>
          <p:spPr>
            <a:xfrm>
              <a:off x="687960" y="3567240"/>
              <a:ext cx="70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Arial"/>
                </a:rPr>
                <a:t>Fa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60" name=""/>
            <p:cNvGrpSpPr/>
            <p:nvPr/>
          </p:nvGrpSpPr>
          <p:grpSpPr>
            <a:xfrm>
              <a:off x="1370880" y="3505320"/>
              <a:ext cx="2134080" cy="581040"/>
              <a:chOff x="1370880" y="3505320"/>
              <a:chExt cx="2134080" cy="581040"/>
            </a:xfrm>
          </p:grpSpPr>
          <p:sp>
            <p:nvSpPr>
              <p:cNvPr id="461" name=""/>
              <p:cNvSpPr/>
              <p:nvPr/>
            </p:nvSpPr>
            <p:spPr>
              <a:xfrm>
                <a:off x="2058840" y="3505320"/>
                <a:ext cx="1446120" cy="581040"/>
              </a:xfrm>
              <a:prstGeom prst="roundRect">
                <a:avLst>
                  <a:gd name="adj" fmla="val 16667"/>
                </a:avLst>
              </a:prstGeom>
              <a:solidFill>
                <a:srgbClr val="ff0033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ffffff"/>
                    </a:solidFill>
                    <a:latin typeface="Arial Narrow"/>
                  </a:rPr>
                  <a:t>ClassFactory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r>
                  <a:rPr b="1" lang="pt-BR" sz="1600" spc="-1" strike="noStrike">
                    <a:solidFill>
                      <a:srgbClr val="ffffff"/>
                    </a:solidFill>
                    <a:latin typeface="Arial Narrow"/>
                  </a:rPr>
                  <a:t>CreateInstanc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462" name=""/>
              <p:cNvCxnSpPr>
                <a:stCxn id="461" idx="1"/>
              </p:cNvCxnSpPr>
              <p:nvPr/>
            </p:nvCxnSpPr>
            <p:spPr>
              <a:xfrm flipH="1">
                <a:off x="1370880" y="3795480"/>
                <a:ext cx="687960" cy="1080"/>
              </a:xfrm>
              <a:prstGeom prst="straightConnector1">
                <a:avLst/>
              </a:prstGeom>
              <a:ln w="25560">
                <a:solidFill>
                  <a:srgbClr val="ffffff"/>
                </a:solidFill>
                <a:miter/>
                <a:tailEnd len="lg" type="oval" w="lg"/>
              </a:ln>
            </p:spPr>
          </p:cxnSp>
        </p:grpSp>
      </p:grpSp>
      <p:sp>
        <p:nvSpPr>
          <p:cNvPr id="463" name=""/>
          <p:cNvSpPr/>
          <p:nvPr/>
        </p:nvSpPr>
        <p:spPr>
          <a:xfrm>
            <a:off x="2590920" y="4114800"/>
            <a:ext cx="380880" cy="1752480"/>
          </a:xfrm>
          <a:prstGeom prst="upArrow">
            <a:avLst>
              <a:gd name="adj1" fmla="val 50000"/>
              <a:gd name="adj2" fmla="val 115028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209680" y="3200400"/>
            <a:ext cx="228600" cy="1295280"/>
          </a:xfrm>
          <a:prstGeom prst="downArrow">
            <a:avLst>
              <a:gd name="adj1" fmla="val 50000"/>
              <a:gd name="adj2" fmla="val 141654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379600" y="2844720"/>
            <a:ext cx="152640" cy="990720"/>
          </a:xfrm>
          <a:prstGeom prst="downArrow">
            <a:avLst>
              <a:gd name="adj1" fmla="val 50000"/>
              <a:gd name="adj2" fmla="val 162264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rot="20801400">
            <a:off x="1143000" y="3962160"/>
            <a:ext cx="304920" cy="1981080"/>
          </a:xfrm>
          <a:prstGeom prst="downArrow">
            <a:avLst>
              <a:gd name="adj1" fmla="val 50000"/>
              <a:gd name="adj2" fmla="val 162426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rot="16074600">
            <a:off x="-1567440" y="3808800"/>
            <a:ext cx="4189680" cy="533520"/>
          </a:xfrm>
          <a:custGeom>
            <a:avLst/>
            <a:gdLst>
              <a:gd name="textAreaLeft" fmla="*/ 0 w 4189680"/>
              <a:gd name="textAreaRight" fmla="*/ 4190040 w 418968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4744" y="12188"/>
                </a:moveTo>
                <a:arcTo wR="-6213" hR="-6213" stAng="10025465" swAng="-12002585"/>
                <a:lnTo>
                  <a:pt x="1737" y="16675"/>
                </a:lnTo>
                <a:arcTo wR="10800" hR="10800" stAng="8822879" swAng="12002585"/>
                <a:lnTo>
                  <a:pt x="23959" y="7784"/>
                </a:lnTo>
                <a:lnTo>
                  <a:pt x="20207" y="13767"/>
                </a:lnTo>
                <a:lnTo>
                  <a:pt x="14224" y="10015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5334120" y="3200400"/>
            <a:ext cx="3276360" cy="1371600"/>
          </a:xfrm>
          <a:prstGeom prst="can">
            <a:avLst>
              <a:gd name="adj" fmla="val 25000"/>
            </a:avLst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RegD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{CLSID}  -  Servidor.EX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5257800" y="2152800"/>
            <a:ext cx="3429000" cy="3181320"/>
            <a:chOff x="5257800" y="2152800"/>
            <a:chExt cx="3429000" cy="3181320"/>
          </a:xfrm>
        </p:grpSpPr>
        <p:grpSp>
          <p:nvGrpSpPr>
            <p:cNvPr id="470" name=""/>
            <p:cNvGrpSpPr/>
            <p:nvPr/>
          </p:nvGrpSpPr>
          <p:grpSpPr>
            <a:xfrm>
              <a:off x="5257800" y="2152800"/>
              <a:ext cx="3429000" cy="3181320"/>
              <a:chOff x="5257800" y="2152800"/>
              <a:chExt cx="3429000" cy="3181320"/>
            </a:xfrm>
          </p:grpSpPr>
          <p:sp>
            <p:nvSpPr>
              <p:cNvPr id="471" name=""/>
              <p:cNvSpPr/>
              <p:nvPr/>
            </p:nvSpPr>
            <p:spPr>
              <a:xfrm>
                <a:off x="5257800" y="2152800"/>
                <a:ext cx="3429000" cy="3181320"/>
              </a:xfrm>
              <a:prstGeom prst="rect">
                <a:avLst/>
              </a:prstGeom>
              <a:solidFill>
                <a:srgbClr val="0000ff"/>
              </a:soli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336280" y="2209680"/>
                <a:ext cx="1500480" cy="3988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000" spc="-1" strike="noStrike">
                    <a:solidFill>
                      <a:srgbClr val="ffffff"/>
                    </a:solidFill>
                    <a:latin typeface="Arial Narrow"/>
                  </a:rPr>
                  <a:t>Servidor.EXE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73" name=""/>
            <p:cNvSpPr/>
            <p:nvPr/>
          </p:nvSpPr>
          <p:spPr>
            <a:xfrm>
              <a:off x="5407200" y="4038480"/>
              <a:ext cx="31251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ff"/>
                  </a:solidFill>
                  <a:latin typeface="Arial Narrow"/>
                </a:rPr>
                <a:t>WinMai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ff"/>
                  </a:solidFill>
                  <a:latin typeface="Arial Narrow"/>
                </a:rPr>
                <a:t>   </a:t>
              </a:r>
              <a:r>
                <a:rPr b="1" lang="pt-BR" sz="2000" spc="-1" strike="noStrike">
                  <a:solidFill>
                    <a:srgbClr val="ffffff"/>
                  </a:solidFill>
                  <a:latin typeface="Arial Narrow"/>
                </a:rPr>
                <a:t>CoInitializ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ff"/>
                  </a:solidFill>
                  <a:latin typeface="Arial Narrow"/>
                </a:rPr>
                <a:t>   </a:t>
              </a:r>
              <a:r>
                <a:rPr b="1" lang="pt-BR" sz="2000" spc="-1" strike="noStrike">
                  <a:solidFill>
                    <a:srgbClr val="ffffff"/>
                  </a:solidFill>
                  <a:latin typeface="Arial Narrow"/>
                </a:rPr>
                <a:t>Cria e registra ClassFactor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380880" y="1981080"/>
            <a:ext cx="3733920" cy="2971800"/>
            <a:chOff x="380880" y="1981080"/>
            <a:chExt cx="3733920" cy="2971800"/>
          </a:xfrm>
        </p:grpSpPr>
        <p:sp>
          <p:nvSpPr>
            <p:cNvPr id="475" name=""/>
            <p:cNvSpPr/>
            <p:nvPr/>
          </p:nvSpPr>
          <p:spPr>
            <a:xfrm>
              <a:off x="380880" y="1981080"/>
              <a:ext cx="3733920" cy="2971800"/>
            </a:xfrm>
            <a:prstGeom prst="rect">
              <a:avLst/>
            </a:prstGeom>
            <a:solidFill>
              <a:srgbClr val="0000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82320" y="1981080"/>
              <a:ext cx="135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ff"/>
                  </a:solidFill>
                  <a:latin typeface="Arial Narrow"/>
                </a:rPr>
                <a:t>Cliente.EX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Fundamentos do COM</a:t>
            </a:r>
            <a:br>
              <a:rPr sz="4400"/>
            </a:br>
            <a:r>
              <a:rPr b="0" lang="pt-BR" sz="3600" spc="-1" strike="noStrike">
                <a:solidFill>
                  <a:srgbClr val="ffcc66"/>
                </a:solidFill>
                <a:latin typeface="Arial"/>
              </a:rPr>
              <a:t>Criação de Objetos – Servidor Local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80880" y="4952880"/>
            <a:ext cx="3733920" cy="838440"/>
          </a:xfrm>
          <a:prstGeom prst="rect">
            <a:avLst/>
          </a:prstGeom>
          <a:solidFill>
            <a:srgbClr val="0000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                     </a:t>
            </a: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OLE32.D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            </a:t>
            </a: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CoGetClassObj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606920" y="5527800"/>
            <a:ext cx="4343400" cy="12189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Service Control Manager (SC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svchost.exe / rpcss.d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33520" y="220968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invoca CoGetClassObj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31360" y="2514600"/>
            <a:ext cx="289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invoca Fac::CreateInst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29200" y="2819520"/>
            <a:ext cx="255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invoca Obj::MeuMéto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828800" y="2590920"/>
            <a:ext cx="304920" cy="2743200"/>
          </a:xfrm>
          <a:prstGeom prst="downArrow">
            <a:avLst>
              <a:gd name="adj1" fmla="val 50000"/>
              <a:gd name="adj2" fmla="val 224911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 rot="17352000">
            <a:off x="3695400" y="4991400"/>
            <a:ext cx="304560" cy="1447920"/>
          </a:xfrm>
          <a:prstGeom prst="upArrow">
            <a:avLst>
              <a:gd name="adj1" fmla="val 50000"/>
              <a:gd name="adj2" fmla="val 118853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553080" y="4724280"/>
            <a:ext cx="533520" cy="744480"/>
          </a:xfrm>
          <a:prstGeom prst="upDownArrow">
            <a:avLst>
              <a:gd name="adj1" fmla="val 50000"/>
              <a:gd name="adj2" fmla="val 27779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 rot="1306800">
            <a:off x="3038400" y="5603760"/>
            <a:ext cx="1524240" cy="304920"/>
          </a:xfrm>
          <a:prstGeom prst="leftArrow">
            <a:avLst>
              <a:gd name="adj1" fmla="val 50000"/>
              <a:gd name="adj2" fmla="val 124970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4348440" y="3343320"/>
            <a:ext cx="2818800" cy="581040"/>
            <a:chOff x="4348440" y="3343320"/>
            <a:chExt cx="2818800" cy="581040"/>
          </a:xfrm>
        </p:grpSpPr>
        <p:sp>
          <p:nvSpPr>
            <p:cNvPr id="488" name=""/>
            <p:cNvSpPr/>
            <p:nvPr/>
          </p:nvSpPr>
          <p:spPr>
            <a:xfrm>
              <a:off x="4348440" y="335772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Arial"/>
                </a:rPr>
                <a:t>Ob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89" name=""/>
            <p:cNvGrpSpPr/>
            <p:nvPr/>
          </p:nvGrpSpPr>
          <p:grpSpPr>
            <a:xfrm>
              <a:off x="5033160" y="3343320"/>
              <a:ext cx="2134080" cy="581040"/>
              <a:chOff x="5033160" y="3343320"/>
              <a:chExt cx="2134080" cy="581040"/>
            </a:xfrm>
          </p:grpSpPr>
          <p:sp>
            <p:nvSpPr>
              <p:cNvPr id="490" name=""/>
              <p:cNvSpPr/>
              <p:nvPr/>
            </p:nvSpPr>
            <p:spPr>
              <a:xfrm>
                <a:off x="5721120" y="3343320"/>
                <a:ext cx="1446120" cy="581040"/>
              </a:xfrm>
              <a:prstGeom prst="roundRect">
                <a:avLst>
                  <a:gd name="adj" fmla="val 16667"/>
                </a:avLst>
              </a:prstGeom>
              <a:solidFill>
                <a:srgbClr val="ff0033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ffffff"/>
                    </a:solidFill>
                    <a:latin typeface="Arial Narrow"/>
                  </a:rPr>
                  <a:t>MeuObjeto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r>
                  <a:rPr b="1" lang="pt-BR" sz="1600" spc="-1" strike="noStrike">
                    <a:solidFill>
                      <a:srgbClr val="ffffff"/>
                    </a:solidFill>
                    <a:latin typeface="Arial Narrow"/>
                  </a:rPr>
                  <a:t>MeuMétodo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491" name=""/>
              <p:cNvCxnSpPr>
                <a:stCxn id="490" idx="1"/>
              </p:cNvCxnSpPr>
              <p:nvPr/>
            </p:nvCxnSpPr>
            <p:spPr>
              <a:xfrm flipH="1">
                <a:off x="5033160" y="3633480"/>
                <a:ext cx="687960" cy="1080"/>
              </a:xfrm>
              <a:prstGeom prst="straightConnector1">
                <a:avLst/>
              </a:prstGeom>
              <a:ln w="25560">
                <a:solidFill>
                  <a:srgbClr val="ffffff"/>
                </a:solidFill>
                <a:miter/>
                <a:tailEnd len="lg" type="oval" w="lg"/>
              </a:ln>
            </p:spPr>
          </p:cxnSp>
        </p:grpSp>
      </p:grpSp>
      <p:sp>
        <p:nvSpPr>
          <p:cNvPr id="492" name=""/>
          <p:cNvSpPr/>
          <p:nvPr/>
        </p:nvSpPr>
        <p:spPr>
          <a:xfrm>
            <a:off x="6248520" y="3200400"/>
            <a:ext cx="38088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rot="16074600">
            <a:off x="-518040" y="3578400"/>
            <a:ext cx="2055960" cy="533160"/>
          </a:xfrm>
          <a:custGeom>
            <a:avLst/>
            <a:gdLst>
              <a:gd name="textAreaLeft" fmla="*/ 0 w 2055960"/>
              <a:gd name="textAreaRight" fmla="*/ 2056320 w 20559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2777121"/>
                <a:lnTo>
                  <a:pt x="1737" y="16675"/>
                </a:lnTo>
                <a:arcTo wR="10800" hR="10800" stAng="8822879" swAng="12777121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4350240" y="2671920"/>
            <a:ext cx="2817000" cy="581040"/>
            <a:chOff x="4350240" y="2671920"/>
            <a:chExt cx="2817000" cy="581040"/>
          </a:xfrm>
        </p:grpSpPr>
        <p:sp>
          <p:nvSpPr>
            <p:cNvPr id="495" name=""/>
            <p:cNvSpPr/>
            <p:nvPr/>
          </p:nvSpPr>
          <p:spPr>
            <a:xfrm>
              <a:off x="4350240" y="2733840"/>
              <a:ext cx="70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Arial"/>
                </a:rPr>
                <a:t>Fa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96" name=""/>
            <p:cNvGrpSpPr/>
            <p:nvPr/>
          </p:nvGrpSpPr>
          <p:grpSpPr>
            <a:xfrm>
              <a:off x="5033160" y="2671920"/>
              <a:ext cx="2134080" cy="581040"/>
              <a:chOff x="5033160" y="2671920"/>
              <a:chExt cx="2134080" cy="581040"/>
            </a:xfrm>
          </p:grpSpPr>
          <p:sp>
            <p:nvSpPr>
              <p:cNvPr id="497" name=""/>
              <p:cNvSpPr/>
              <p:nvPr/>
            </p:nvSpPr>
            <p:spPr>
              <a:xfrm>
                <a:off x="5721120" y="2671920"/>
                <a:ext cx="1446120" cy="581040"/>
              </a:xfrm>
              <a:prstGeom prst="roundRect">
                <a:avLst>
                  <a:gd name="adj" fmla="val 16667"/>
                </a:avLst>
              </a:prstGeom>
              <a:solidFill>
                <a:srgbClr val="ff0033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ffffff"/>
                    </a:solidFill>
                    <a:latin typeface="Arial Narrow"/>
                  </a:rPr>
                  <a:t>ClassFactory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r>
                  <a:rPr b="1" lang="pt-BR" sz="1600" spc="-1" strike="noStrike">
                    <a:solidFill>
                      <a:srgbClr val="ffffff"/>
                    </a:solidFill>
                    <a:latin typeface="Arial Narrow"/>
                  </a:rPr>
                  <a:t>CreateInstanc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498" name=""/>
              <p:cNvCxnSpPr>
                <a:stCxn id="497" idx="1"/>
              </p:cNvCxnSpPr>
              <p:nvPr/>
            </p:nvCxnSpPr>
            <p:spPr>
              <a:xfrm flipH="1">
                <a:off x="5033160" y="2962080"/>
                <a:ext cx="687960" cy="1080"/>
              </a:xfrm>
              <a:prstGeom prst="straightConnector1">
                <a:avLst/>
              </a:prstGeom>
              <a:ln w="25560">
                <a:solidFill>
                  <a:srgbClr val="ffffff"/>
                </a:solidFill>
                <a:miter/>
                <a:tailEnd len="lg" type="oval" w="lg"/>
              </a:ln>
            </p:spPr>
          </p:cxnSp>
        </p:grpSp>
      </p:grpSp>
      <p:sp>
        <p:nvSpPr>
          <p:cNvPr id="499" name=""/>
          <p:cNvSpPr/>
          <p:nvPr/>
        </p:nvSpPr>
        <p:spPr>
          <a:xfrm rot="15792000">
            <a:off x="4706640" y="2760120"/>
            <a:ext cx="306360" cy="2252520"/>
          </a:xfrm>
          <a:prstGeom prst="downArrow">
            <a:avLst>
              <a:gd name="adj1" fmla="val 50000"/>
              <a:gd name="adj2" fmla="val 183813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rot="15032400">
            <a:off x="4640760" y="2263680"/>
            <a:ext cx="360360" cy="2327400"/>
          </a:xfrm>
          <a:prstGeom prst="downArrow">
            <a:avLst>
              <a:gd name="adj1" fmla="val 50000"/>
              <a:gd name="adj2" fmla="val 161464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 rot="21578400">
            <a:off x="2361960" y="4874040"/>
            <a:ext cx="4554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rot="16074600">
            <a:off x="-1567440" y="3808800"/>
            <a:ext cx="4189680" cy="533520"/>
          </a:xfrm>
          <a:custGeom>
            <a:avLst/>
            <a:gdLst>
              <a:gd name="textAreaLeft" fmla="*/ 0 w 4189680"/>
              <a:gd name="textAreaRight" fmla="*/ 4190040 w 418968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4744" y="12188"/>
                </a:moveTo>
                <a:arcTo wR="-6213" hR="-6213" stAng="10025465" swAng="-12002585"/>
                <a:lnTo>
                  <a:pt x="1737" y="16675"/>
                </a:lnTo>
                <a:arcTo wR="10800" hR="10800" stAng="8822879" swAng="12002585"/>
                <a:lnTo>
                  <a:pt x="23959" y="7784"/>
                </a:lnTo>
                <a:lnTo>
                  <a:pt x="20207" y="13767"/>
                </a:lnTo>
                <a:lnTo>
                  <a:pt x="14224" y="10015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248520" y="3284640"/>
            <a:ext cx="390240" cy="1439640"/>
          </a:xfrm>
          <a:prstGeom prst="upArrow">
            <a:avLst>
              <a:gd name="adj1" fmla="val 50000"/>
              <a:gd name="adj2" fmla="val 92228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945400" y="6389640"/>
            <a:ext cx="164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 Narrow"/>
              </a:rPr>
              <a:t>CreateProc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rot="18000">
            <a:off x="6021000" y="4417920"/>
            <a:ext cx="442800" cy="2082960"/>
          </a:xfrm>
          <a:prstGeom prst="upArrow">
            <a:avLst>
              <a:gd name="adj1" fmla="val 50000"/>
              <a:gd name="adj2" fmla="val 117602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728800" y="2878200"/>
            <a:ext cx="304920" cy="761760"/>
          </a:xfrm>
          <a:prstGeom prst="downArrow">
            <a:avLst>
              <a:gd name="adj1" fmla="val 50000"/>
              <a:gd name="adj2" fmla="val 62456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362320" y="3156120"/>
            <a:ext cx="303120" cy="501480"/>
          </a:xfrm>
          <a:prstGeom prst="downArrow">
            <a:avLst>
              <a:gd name="adj1" fmla="val 50000"/>
              <a:gd name="adj2" fmla="val 41360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916920" y="3657600"/>
            <a:ext cx="2740680" cy="1143000"/>
            <a:chOff x="916920" y="3657600"/>
            <a:chExt cx="2740680" cy="1143000"/>
          </a:xfrm>
        </p:grpSpPr>
        <p:sp>
          <p:nvSpPr>
            <p:cNvPr id="509" name=""/>
            <p:cNvSpPr/>
            <p:nvPr/>
          </p:nvSpPr>
          <p:spPr>
            <a:xfrm>
              <a:off x="2211480" y="3657600"/>
              <a:ext cx="1446120" cy="1143000"/>
            </a:xfrm>
            <a:prstGeom prst="roundRect">
              <a:avLst>
                <a:gd name="adj" fmla="val 16667"/>
              </a:avLst>
            </a:prstGeom>
            <a:solidFill>
              <a:srgbClr val="ff00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ff"/>
                  </a:solidFill>
                  <a:latin typeface="Arial Narrow"/>
                </a:rPr>
                <a:t>Proxy par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ff"/>
                  </a:solidFill>
                  <a:latin typeface="Arial Narrow"/>
                </a:rPr>
                <a:t>Servidor.EX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/>
            <p:nvPr/>
          </p:nvCxnSpPr>
          <p:spPr>
            <a:xfrm flipH="1">
              <a:off x="1523880" y="3962160"/>
              <a:ext cx="687960" cy="108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lg" type="oval" w="lg"/>
            </a:ln>
          </p:spPr>
        </p:cxnSp>
        <p:sp>
          <p:nvSpPr>
            <p:cNvPr id="511" name=""/>
            <p:cNvSpPr/>
            <p:nvPr/>
          </p:nvSpPr>
          <p:spPr>
            <a:xfrm>
              <a:off x="916920" y="3733920"/>
              <a:ext cx="61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Arial Narrow"/>
                </a:rPr>
                <a:t>Fa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915840" y="4191120"/>
            <a:ext cx="1295640" cy="459720"/>
            <a:chOff x="915840" y="4191120"/>
            <a:chExt cx="1295640" cy="459720"/>
          </a:xfrm>
        </p:grpSpPr>
        <p:cxnSp>
          <p:nvCxnSpPr>
            <p:cNvPr id="513" name=""/>
            <p:cNvCxnSpPr/>
            <p:nvPr/>
          </p:nvCxnSpPr>
          <p:spPr>
            <a:xfrm flipH="1">
              <a:off x="1523880" y="4419360"/>
              <a:ext cx="687960" cy="108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lg" type="oval" w="lg"/>
            </a:ln>
          </p:spPr>
        </p:cxnSp>
        <p:sp>
          <p:nvSpPr>
            <p:cNvPr id="514" name=""/>
            <p:cNvSpPr/>
            <p:nvPr/>
          </p:nvSpPr>
          <p:spPr>
            <a:xfrm>
              <a:off x="915840" y="419112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Arial Narrow"/>
                </a:rPr>
                <a:t>Ob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4653000" y="1217520"/>
            <a:ext cx="4303800" cy="54864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Narrow"/>
              </a:rPr>
              <a:t>Computador 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1280" y="1219320"/>
            <a:ext cx="4303800" cy="54864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Narrow"/>
              </a:rPr>
              <a:t>Computador 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5481720" y="1992240"/>
            <a:ext cx="3429000" cy="3181320"/>
            <a:chOff x="5481720" y="1992240"/>
            <a:chExt cx="3429000" cy="3181320"/>
          </a:xfrm>
        </p:grpSpPr>
        <p:grpSp>
          <p:nvGrpSpPr>
            <p:cNvPr id="518" name=""/>
            <p:cNvGrpSpPr/>
            <p:nvPr/>
          </p:nvGrpSpPr>
          <p:grpSpPr>
            <a:xfrm>
              <a:off x="5481720" y="1992240"/>
              <a:ext cx="3429000" cy="3181320"/>
              <a:chOff x="5481720" y="1992240"/>
              <a:chExt cx="3429000" cy="3181320"/>
            </a:xfrm>
          </p:grpSpPr>
          <p:sp>
            <p:nvSpPr>
              <p:cNvPr id="519" name=""/>
              <p:cNvSpPr/>
              <p:nvPr/>
            </p:nvSpPr>
            <p:spPr>
              <a:xfrm>
                <a:off x="5481720" y="1992240"/>
                <a:ext cx="3429000" cy="3181320"/>
              </a:xfrm>
              <a:prstGeom prst="rect">
                <a:avLst/>
              </a:prstGeom>
              <a:solidFill>
                <a:srgbClr val="0000ff"/>
              </a:soli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560200" y="2049120"/>
                <a:ext cx="1500480" cy="3988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000" spc="-1" strike="noStrike">
                    <a:solidFill>
                      <a:srgbClr val="ffffff"/>
                    </a:solidFill>
                    <a:latin typeface="Arial Narrow"/>
                  </a:rPr>
                  <a:t>Servidor.EXE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21" name=""/>
            <p:cNvSpPr/>
            <p:nvPr/>
          </p:nvSpPr>
          <p:spPr>
            <a:xfrm>
              <a:off x="5631120" y="3877920"/>
              <a:ext cx="31251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ff"/>
                  </a:solidFill>
                  <a:latin typeface="Arial Narrow"/>
                </a:rPr>
                <a:t>WinMai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ff"/>
                  </a:solidFill>
                  <a:latin typeface="Arial Narrow"/>
                </a:rPr>
                <a:t>   </a:t>
              </a:r>
              <a:r>
                <a:rPr b="1" lang="pt-BR" sz="2000" spc="-1" strike="noStrike">
                  <a:solidFill>
                    <a:srgbClr val="ffffff"/>
                  </a:solidFill>
                  <a:latin typeface="Arial Narrow"/>
                </a:rPr>
                <a:t>CoInitializ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ff"/>
                  </a:solidFill>
                  <a:latin typeface="Arial Narrow"/>
                </a:rPr>
                <a:t>   </a:t>
              </a:r>
              <a:r>
                <a:rPr b="1" lang="pt-BR" sz="2000" spc="-1" strike="noStrike">
                  <a:solidFill>
                    <a:srgbClr val="ffffff"/>
                  </a:solidFill>
                  <a:latin typeface="Arial Narrow"/>
                </a:rPr>
                <a:t>Cria e registra ClassFactor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345960" y="1787400"/>
            <a:ext cx="3733920" cy="2971800"/>
            <a:chOff x="345960" y="1787400"/>
            <a:chExt cx="3733920" cy="2971800"/>
          </a:xfrm>
        </p:grpSpPr>
        <p:sp>
          <p:nvSpPr>
            <p:cNvPr id="523" name=""/>
            <p:cNvSpPr/>
            <p:nvPr/>
          </p:nvSpPr>
          <p:spPr>
            <a:xfrm>
              <a:off x="345960" y="1787400"/>
              <a:ext cx="3733920" cy="2971800"/>
            </a:xfrm>
            <a:prstGeom prst="rect">
              <a:avLst/>
            </a:prstGeom>
            <a:solidFill>
              <a:srgbClr val="0000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47400" y="1787400"/>
              <a:ext cx="135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ff"/>
                  </a:solidFill>
                  <a:latin typeface="Arial Narrow"/>
                </a:rPr>
                <a:t>Cliente.EX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Fundamentos do COM</a:t>
            </a:r>
            <a:br>
              <a:rPr sz="4400"/>
            </a:br>
            <a:r>
              <a:rPr b="0" lang="pt-BR" sz="3600" spc="-1" strike="noStrike">
                <a:solidFill>
                  <a:srgbClr val="ffcc66"/>
                </a:solidFill>
                <a:latin typeface="Arial"/>
              </a:rPr>
              <a:t>Criação de Objetos – Servidor Remoto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5960" y="4759200"/>
            <a:ext cx="3733920" cy="838440"/>
          </a:xfrm>
          <a:prstGeom prst="rect">
            <a:avLst/>
          </a:prstGeom>
          <a:solidFill>
            <a:srgbClr val="0000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                     </a:t>
            </a: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OLE32.D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            </a:t>
            </a: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CoGetClassObj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98600" y="201600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invoca CoGetClassObj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96440" y="2320920"/>
            <a:ext cx="289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invoca Fac::CreateInst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94280" y="2625840"/>
            <a:ext cx="255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invoca Obj::MeuMéto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793880" y="2397240"/>
            <a:ext cx="304920" cy="2743200"/>
          </a:xfrm>
          <a:prstGeom prst="downArrow">
            <a:avLst>
              <a:gd name="adj1" fmla="val 50000"/>
              <a:gd name="adj2" fmla="val 224911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V="1" rot="3842400">
            <a:off x="2725560" y="5640480"/>
            <a:ext cx="633240" cy="328680"/>
          </a:xfrm>
          <a:prstGeom prst="leftArrow">
            <a:avLst>
              <a:gd name="adj1" fmla="val 50000"/>
              <a:gd name="adj2" fmla="val 48165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4572360" y="3182760"/>
            <a:ext cx="2818800" cy="581040"/>
            <a:chOff x="4572360" y="3182760"/>
            <a:chExt cx="2818800" cy="581040"/>
          </a:xfrm>
        </p:grpSpPr>
        <p:sp>
          <p:nvSpPr>
            <p:cNvPr id="533" name=""/>
            <p:cNvSpPr/>
            <p:nvPr/>
          </p:nvSpPr>
          <p:spPr>
            <a:xfrm>
              <a:off x="4572360" y="319716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Ob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34" name=""/>
            <p:cNvGrpSpPr/>
            <p:nvPr/>
          </p:nvGrpSpPr>
          <p:grpSpPr>
            <a:xfrm>
              <a:off x="5257080" y="3182760"/>
              <a:ext cx="2134080" cy="581040"/>
              <a:chOff x="5257080" y="3182760"/>
              <a:chExt cx="2134080" cy="581040"/>
            </a:xfrm>
          </p:grpSpPr>
          <p:sp>
            <p:nvSpPr>
              <p:cNvPr id="535" name=""/>
              <p:cNvSpPr/>
              <p:nvPr/>
            </p:nvSpPr>
            <p:spPr>
              <a:xfrm>
                <a:off x="5945040" y="3182760"/>
                <a:ext cx="1446120" cy="581040"/>
              </a:xfrm>
              <a:prstGeom prst="roundRect">
                <a:avLst>
                  <a:gd name="adj" fmla="val 16667"/>
                </a:avLst>
              </a:prstGeom>
              <a:solidFill>
                <a:srgbClr val="ff0033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ffffff"/>
                    </a:solidFill>
                    <a:latin typeface="Arial Narrow"/>
                  </a:rPr>
                  <a:t>MeuObjeto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r>
                  <a:rPr b="1" lang="pt-BR" sz="1600" spc="-1" strike="noStrike">
                    <a:solidFill>
                      <a:srgbClr val="ffffff"/>
                    </a:solidFill>
                    <a:latin typeface="Arial Narrow"/>
                  </a:rPr>
                  <a:t>MeuMétodo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536" name=""/>
              <p:cNvCxnSpPr>
                <a:stCxn id="535" idx="1"/>
              </p:cNvCxnSpPr>
              <p:nvPr/>
            </p:nvCxnSpPr>
            <p:spPr>
              <a:xfrm flipH="1">
                <a:off x="5257080" y="3472920"/>
                <a:ext cx="687960" cy="1080"/>
              </a:xfrm>
              <a:prstGeom prst="straightConnector1">
                <a:avLst/>
              </a:prstGeom>
              <a:ln w="25560">
                <a:solidFill>
                  <a:srgbClr val="ffffff"/>
                </a:solidFill>
                <a:miter/>
                <a:tailEnd len="lg" type="oval" w="lg"/>
              </a:ln>
            </p:spPr>
          </p:cxnSp>
        </p:grpSp>
      </p:grpSp>
      <p:sp>
        <p:nvSpPr>
          <p:cNvPr id="537" name=""/>
          <p:cNvSpPr/>
          <p:nvPr/>
        </p:nvSpPr>
        <p:spPr>
          <a:xfrm>
            <a:off x="6472080" y="3040200"/>
            <a:ext cx="38124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rot="16074600">
            <a:off x="-552960" y="3384720"/>
            <a:ext cx="2055960" cy="533160"/>
          </a:xfrm>
          <a:custGeom>
            <a:avLst/>
            <a:gdLst>
              <a:gd name="textAreaLeft" fmla="*/ 0 w 2055960"/>
              <a:gd name="textAreaRight" fmla="*/ 2056320 w 20559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2777121"/>
                <a:lnTo>
                  <a:pt x="1737" y="16675"/>
                </a:lnTo>
                <a:arcTo wR="10800" hR="10800" stAng="8822879" swAng="12777121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4574160" y="2511360"/>
            <a:ext cx="2817000" cy="581040"/>
            <a:chOff x="4574160" y="2511360"/>
            <a:chExt cx="2817000" cy="581040"/>
          </a:xfrm>
        </p:grpSpPr>
        <p:sp>
          <p:nvSpPr>
            <p:cNvPr id="540" name=""/>
            <p:cNvSpPr/>
            <p:nvPr/>
          </p:nvSpPr>
          <p:spPr>
            <a:xfrm>
              <a:off x="4574160" y="2573280"/>
              <a:ext cx="70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Fa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41" name=""/>
            <p:cNvGrpSpPr/>
            <p:nvPr/>
          </p:nvGrpSpPr>
          <p:grpSpPr>
            <a:xfrm>
              <a:off x="5257080" y="2511360"/>
              <a:ext cx="2134080" cy="581040"/>
              <a:chOff x="5257080" y="2511360"/>
              <a:chExt cx="2134080" cy="581040"/>
            </a:xfrm>
          </p:grpSpPr>
          <p:sp>
            <p:nvSpPr>
              <p:cNvPr id="542" name=""/>
              <p:cNvSpPr/>
              <p:nvPr/>
            </p:nvSpPr>
            <p:spPr>
              <a:xfrm>
                <a:off x="5945040" y="2511360"/>
                <a:ext cx="1446120" cy="581040"/>
              </a:xfrm>
              <a:prstGeom prst="roundRect">
                <a:avLst>
                  <a:gd name="adj" fmla="val 16667"/>
                </a:avLst>
              </a:prstGeom>
              <a:solidFill>
                <a:srgbClr val="ff0033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ffffff"/>
                    </a:solidFill>
                    <a:latin typeface="Arial Narrow"/>
                  </a:rPr>
                  <a:t>ClassFactory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r>
                  <a:rPr b="1" lang="pt-BR" sz="1600" spc="-1" strike="noStrike">
                    <a:solidFill>
                      <a:srgbClr val="ffffff"/>
                    </a:solidFill>
                    <a:latin typeface="Arial Narrow"/>
                  </a:rPr>
                  <a:t>CreateInstanc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543" name=""/>
              <p:cNvCxnSpPr>
                <a:stCxn id="542" idx="1"/>
              </p:cNvCxnSpPr>
              <p:nvPr/>
            </p:nvCxnSpPr>
            <p:spPr>
              <a:xfrm flipH="1">
                <a:off x="5257080" y="2801520"/>
                <a:ext cx="687960" cy="1080"/>
              </a:xfrm>
              <a:prstGeom prst="straightConnector1">
                <a:avLst/>
              </a:prstGeom>
              <a:ln w="25560">
                <a:solidFill>
                  <a:srgbClr val="ffffff"/>
                </a:solidFill>
                <a:miter/>
                <a:tailEnd len="lg" type="oval" w="lg"/>
              </a:ln>
            </p:spPr>
          </p:cxnSp>
        </p:grpSp>
      </p:grpSp>
      <p:sp>
        <p:nvSpPr>
          <p:cNvPr id="544" name=""/>
          <p:cNvSpPr/>
          <p:nvPr/>
        </p:nvSpPr>
        <p:spPr>
          <a:xfrm rot="15792000">
            <a:off x="4671720" y="2566440"/>
            <a:ext cx="306360" cy="2252520"/>
          </a:xfrm>
          <a:prstGeom prst="downArrow">
            <a:avLst>
              <a:gd name="adj1" fmla="val 50000"/>
              <a:gd name="adj2" fmla="val 183813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rot="15032400">
            <a:off x="4605840" y="2070000"/>
            <a:ext cx="360360" cy="2327400"/>
          </a:xfrm>
          <a:prstGeom prst="downArrow">
            <a:avLst>
              <a:gd name="adj1" fmla="val 50000"/>
              <a:gd name="adj2" fmla="val 161464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V="1" rot="21578400">
            <a:off x="2327040" y="4680360"/>
            <a:ext cx="4554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rot="16074600">
            <a:off x="-1602360" y="3615120"/>
            <a:ext cx="4189680" cy="533520"/>
          </a:xfrm>
          <a:custGeom>
            <a:avLst/>
            <a:gdLst>
              <a:gd name="textAreaLeft" fmla="*/ 0 w 4189680"/>
              <a:gd name="textAreaRight" fmla="*/ 4190040 w 418968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4744" y="12188"/>
                </a:moveTo>
                <a:arcTo wR="-6213" hR="-6213" stAng="10025465" swAng="-12002585"/>
                <a:lnTo>
                  <a:pt x="1737" y="16675"/>
                </a:lnTo>
                <a:arcTo wR="10800" hR="10800" stAng="8822879" swAng="12002585"/>
                <a:lnTo>
                  <a:pt x="23959" y="7784"/>
                </a:lnTo>
                <a:lnTo>
                  <a:pt x="20207" y="13767"/>
                </a:lnTo>
                <a:lnTo>
                  <a:pt x="14224" y="10015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472080" y="3124080"/>
            <a:ext cx="390600" cy="1440000"/>
          </a:xfrm>
          <a:prstGeom prst="upArrow">
            <a:avLst>
              <a:gd name="adj1" fmla="val 50000"/>
              <a:gd name="adj2" fmla="val 92166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rot="18000">
            <a:off x="5638320" y="4191120"/>
            <a:ext cx="443160" cy="1523880"/>
          </a:xfrm>
          <a:prstGeom prst="upArrow">
            <a:avLst>
              <a:gd name="adj1" fmla="val 50000"/>
              <a:gd name="adj2" fmla="val 859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693880" y="268452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327400" y="2962440"/>
            <a:ext cx="303120" cy="501480"/>
          </a:xfrm>
          <a:prstGeom prst="downArrow">
            <a:avLst>
              <a:gd name="adj1" fmla="val 50000"/>
              <a:gd name="adj2" fmla="val 41360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882000" y="3463920"/>
            <a:ext cx="2740680" cy="1143000"/>
            <a:chOff x="882000" y="3463920"/>
            <a:chExt cx="2740680" cy="1143000"/>
          </a:xfrm>
        </p:grpSpPr>
        <p:sp>
          <p:nvSpPr>
            <p:cNvPr id="553" name=""/>
            <p:cNvSpPr/>
            <p:nvPr/>
          </p:nvSpPr>
          <p:spPr>
            <a:xfrm>
              <a:off x="2176560" y="3463920"/>
              <a:ext cx="1446120" cy="1143000"/>
            </a:xfrm>
            <a:prstGeom prst="roundRect">
              <a:avLst>
                <a:gd name="adj" fmla="val 16667"/>
              </a:avLst>
            </a:prstGeom>
            <a:solidFill>
              <a:srgbClr val="ff00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ff"/>
                  </a:solidFill>
                  <a:latin typeface="Arial Narrow"/>
                </a:rPr>
                <a:t>Proxy par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ff"/>
                  </a:solidFill>
                  <a:latin typeface="Arial Narrow"/>
                </a:rPr>
                <a:t>Servidor.EX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54" name=""/>
            <p:cNvCxnSpPr/>
            <p:nvPr/>
          </p:nvCxnSpPr>
          <p:spPr>
            <a:xfrm flipH="1">
              <a:off x="1488960" y="3768480"/>
              <a:ext cx="687960" cy="108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lg" type="oval" w="lg"/>
            </a:ln>
          </p:spPr>
        </p:cxnSp>
        <p:sp>
          <p:nvSpPr>
            <p:cNvPr id="555" name=""/>
            <p:cNvSpPr/>
            <p:nvPr/>
          </p:nvSpPr>
          <p:spPr>
            <a:xfrm>
              <a:off x="882000" y="3540240"/>
              <a:ext cx="61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Arial Narrow"/>
                </a:rPr>
                <a:t>Fa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880920" y="3997440"/>
            <a:ext cx="1295640" cy="459720"/>
            <a:chOff x="880920" y="3997440"/>
            <a:chExt cx="1295640" cy="459720"/>
          </a:xfrm>
        </p:grpSpPr>
        <p:cxnSp>
          <p:nvCxnSpPr>
            <p:cNvPr id="557" name=""/>
            <p:cNvCxnSpPr/>
            <p:nvPr/>
          </p:nvCxnSpPr>
          <p:spPr>
            <a:xfrm flipH="1">
              <a:off x="1488960" y="4225680"/>
              <a:ext cx="687960" cy="108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lg" type="oval" w="lg"/>
            </a:ln>
          </p:spPr>
        </p:cxnSp>
        <p:sp>
          <p:nvSpPr>
            <p:cNvPr id="558" name=""/>
            <p:cNvSpPr/>
            <p:nvPr/>
          </p:nvSpPr>
          <p:spPr>
            <a:xfrm>
              <a:off x="880920" y="399744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Arial Narrow"/>
                </a:rPr>
                <a:t>Ob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2438280" y="5791320"/>
            <a:ext cx="1447920" cy="8380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SC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08000" y="5835600"/>
            <a:ext cx="2209680" cy="685800"/>
          </a:xfrm>
          <a:prstGeom prst="can">
            <a:avLst>
              <a:gd name="adj" fmla="val 25000"/>
            </a:avLst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Narrow"/>
              </a:rPr>
              <a:t>RegD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Narrow"/>
              </a:rPr>
              <a:t>{AppID} – Computador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105520" y="5791320"/>
            <a:ext cx="1447560" cy="8380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SC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048640" y="6064200"/>
            <a:ext cx="164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CreateProc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715080" y="5824440"/>
            <a:ext cx="2209680" cy="685800"/>
          </a:xfrm>
          <a:prstGeom prst="can">
            <a:avLst>
              <a:gd name="adj" fmla="val 25000"/>
            </a:avLst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Narrow"/>
              </a:rPr>
              <a:t>RegD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Narrow"/>
              </a:rPr>
              <a:t>{CLSID} – Servidor.EX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981080" y="6095880"/>
            <a:ext cx="685800" cy="228600"/>
          </a:xfrm>
          <a:prstGeom prst="leftRightArrow">
            <a:avLst>
              <a:gd name="adj1" fmla="val 50000"/>
              <a:gd name="adj2" fmla="val 59722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248520" y="6019920"/>
            <a:ext cx="685800" cy="228600"/>
          </a:xfrm>
          <a:prstGeom prst="leftRightArrow">
            <a:avLst>
              <a:gd name="adj1" fmla="val 50000"/>
              <a:gd name="adj2" fmla="val 59722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V="1" rot="20054400">
            <a:off x="2862000" y="5492520"/>
            <a:ext cx="307800" cy="609120"/>
          </a:xfrm>
          <a:prstGeom prst="upArrow">
            <a:avLst>
              <a:gd name="adj1" fmla="val 50000"/>
              <a:gd name="adj2" fmla="val 49474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987720" y="6041880"/>
            <a:ext cx="990720" cy="304920"/>
          </a:xfrm>
          <a:prstGeom prst="rightArrow">
            <a:avLst>
              <a:gd name="adj1" fmla="val 50000"/>
              <a:gd name="adj2" fmla="val 81228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3977640" y="603252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Fundamentos do COM</a:t>
            </a:r>
            <a:br>
              <a:rPr sz="4400"/>
            </a:b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Criação de Objetos - Exempl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0" y="1585800"/>
            <a:ext cx="4572000" cy="50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BOOL MyCheckingAccount::Init(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 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const CString&amp; name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  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const CString&amp; serverName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  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CString&amp; errmsg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// Create server inf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COSERVERINFO  serverInf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serverInfo.dwReserved1 = 0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serverInfo.dwReserved2 = 0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serverInfo.pwszName    =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serverName.AllocSysString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serverInfo.pAuthInfo   = NULL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// Get the factory 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IClassFactory* pICF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HRESULT hr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809880" y="1509840"/>
            <a:ext cx="5791320" cy="556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hr = CoGetClassObje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 Narrow"/>
              </a:rPr>
              <a:t>   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(CLSID_Ch3CheckingAccount,</a:t>
            </a:r>
            <a:r>
              <a:rPr b="1" lang="pt-BR" sz="1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CLSCTX_LOCAL_SERVER |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 Narro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CLSCTX_REMOTE_SERVER,</a:t>
            </a:r>
            <a:r>
              <a:rPr b="1" lang="pt-BR" sz="1600" spc="-1" strike="noStrike">
                <a:solidFill>
                  <a:srgbClr val="ffffff"/>
                </a:solidFill>
                <a:latin typeface="Arial Narrow"/>
              </a:rPr>
              <a:t> &amp;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ServerInfo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 Narro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IID_IClassFactory,</a:t>
            </a:r>
            <a:r>
              <a:rPr b="1" lang="pt-BR" sz="16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(void**)&amp;pICF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::SysFreeString(serverInfo.pwszName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// Create the instance 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IUnknown* pIUk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hr = pICF-&gt;CreateInstance(NULL,IID_IUnknown, (void**)&amp;pIUk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ICF-&gt;Release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// Set the interfaces</a:t>
            </a:r>
            <a:r>
              <a:rPr b="1" lang="pt-BR" sz="1600" spc="-1" strike="noStrike">
                <a:solidFill>
                  <a:srgbClr val="ffffff"/>
                </a:solidFill>
                <a:latin typeface="Arial Narrow"/>
              </a:rPr>
              <a:t> with QueryInterfa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SetInterfaces(pIUk)</a:t>
            </a:r>
            <a:r>
              <a:rPr b="1" lang="pt-BR" sz="1600" spc="-1" strike="noStrike">
                <a:solidFill>
                  <a:srgbClr val="ffffff"/>
                </a:solidFill>
                <a:latin typeface="Arial Narro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// Initialize the nam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BSTR bstrName = name.AllocSysString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hr = m_pIAccountInit-&gt;Init(bstrName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::SysFreeString(bstrName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return TRUE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Fundamentos do COM</a:t>
            </a:r>
            <a:br>
              <a:rPr sz="4400"/>
            </a:b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Destruição de Objet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OM suporta contagem de referências e coleta de lixo distribuí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Quando o cliente não mais necessitar de um objeto, deve invocar o método IUnknown::Release, que decrementa o número de referências. Ao chegar a zero, o objeto é destruí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m ambientes distribuídos há grande chance do cliente perder comunicação com o servidor: para isso são utilizadas estratégias como </a:t>
            </a: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pinging/delta-pinging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, otimizadas de modo a não haver degradação significativa de perform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Fundamentos do COM</a:t>
            </a:r>
            <a:br>
              <a:rPr sz="4400"/>
            </a:b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Destruição de Objetos - Exempl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866960" y="2286000"/>
            <a:ext cx="5410080" cy="39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MyCheckingAccount::~MyCheckingAccount(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Reset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void MyCheckingAccount::Reset(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if (m_pIAccount) m_pIAccount-&gt;Release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m_pIAccount = NULL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if (m_pIAccountInit) m_pIAccountInit-&gt;Release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m_pIAccountInit = NULL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if (m_pICheckingAccount) m_pICheckingAccount-&gt;Release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m_pICheckingAccount = NULL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Roteir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Histór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Objetos X Componen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Fundamentos do C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Interfa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cessando um obje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Tipos de servid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roxies e Stub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Marsha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riação de obje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Destruição de obje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Referência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Jason Pritchard. COM and CORBA Side by Side (Addison-Wesley, 1999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Don Box. Essential COM (Addison-Wesley, 1998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Dale Rogerson. Inside COM (Microsoft Press, 1997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David Chappell. Understanding ActiveX and OLE (Microsoft Press, 1996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Microsoft Developer Network, em                                    http : // www.microsoft.com/msd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lexandre Nardi. Curso “Organização e Desenvolvimento de Sistemas Distribuídos Utilizando Windows DNA” (Microsoft/Opus Software, 200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Mary Kirtland. COM+ Internal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Históric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88: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ncepção do 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Influenciado por trabalhos prévios em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malltalk, C++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 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OSF Distributed Computing Environment (DC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93: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rimeira versão do COM, como parte do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LE 2.0 SD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Apenas comunicação loc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6-bit/single-thread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94: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Lançamento do Win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ws NT 3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Suporte para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2-bit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ID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95: Windows NT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51/Windows 9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Pequenas melhorias, como suporte para ambiente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re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1640" y="114300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96: Windows NT 4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CE-based Distributed COM (DCOM) protoc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Melhorias em segurança e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rea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96: Microsoft Transaction Server (MTS) 1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mponent-based Distributed Application Framewor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98: Windows NT 4.0 Option P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crosoft Transaction Server 2.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crosoft Message Queue (MSMQ) 1.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ternet Information Server 4.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2000: Windows 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COM+, com a incorporação de diversos serviç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Históric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5715000" cy="4077000"/>
          </a:xfrm>
          <a:prstGeom prst="rect">
            <a:avLst/>
          </a:prstGeom>
          <a:ln w="0">
            <a:noFill/>
          </a:ln>
        </p:spPr>
      </p:pic>
      <p:grpSp>
        <p:nvGrpSpPr>
          <p:cNvPr id="99" name=""/>
          <p:cNvGrpSpPr/>
          <p:nvPr/>
        </p:nvGrpSpPr>
        <p:grpSpPr>
          <a:xfrm>
            <a:off x="4197240" y="1746720"/>
            <a:ext cx="4939200" cy="1756440"/>
            <a:chOff x="4197240" y="1746720"/>
            <a:chExt cx="4939200" cy="1756440"/>
          </a:xfrm>
        </p:grpSpPr>
        <p:grpSp>
          <p:nvGrpSpPr>
            <p:cNvPr id="100" name=""/>
            <p:cNvGrpSpPr/>
            <p:nvPr/>
          </p:nvGrpSpPr>
          <p:grpSpPr>
            <a:xfrm>
              <a:off x="4197240" y="1746720"/>
              <a:ext cx="2316240" cy="1756440"/>
              <a:chOff x="4197240" y="1746720"/>
              <a:chExt cx="2316240" cy="1756440"/>
            </a:xfrm>
          </p:grpSpPr>
          <p:sp>
            <p:nvSpPr>
              <p:cNvPr id="101" name=""/>
              <p:cNvSpPr/>
              <p:nvPr/>
            </p:nvSpPr>
            <p:spPr>
              <a:xfrm flipH="1" flipV="1" rot="21279600">
                <a:off x="4264920" y="1860480"/>
                <a:ext cx="2019240" cy="1551600"/>
              </a:xfrm>
              <a:custGeom>
                <a:avLst/>
                <a:gdLst/>
                <a:ahLst/>
                <a:rect l="l" t="t" r="r" b="b"/>
                <a:pathLst>
                  <a:path w="941" h="1023">
                    <a:moveTo>
                      <a:pt x="940" y="0"/>
                    </a:moveTo>
                    <a:lnTo>
                      <a:pt x="929" y="54"/>
                    </a:lnTo>
                    <a:lnTo>
                      <a:pt x="919" y="80"/>
                    </a:lnTo>
                    <a:lnTo>
                      <a:pt x="909" y="111"/>
                    </a:lnTo>
                    <a:lnTo>
                      <a:pt x="898" y="143"/>
                    </a:lnTo>
                    <a:lnTo>
                      <a:pt x="887" y="173"/>
                    </a:lnTo>
                    <a:lnTo>
                      <a:pt x="872" y="203"/>
                    </a:lnTo>
                    <a:lnTo>
                      <a:pt x="858" y="230"/>
                    </a:lnTo>
                    <a:lnTo>
                      <a:pt x="842" y="261"/>
                    </a:lnTo>
                    <a:lnTo>
                      <a:pt x="819" y="298"/>
                    </a:lnTo>
                    <a:lnTo>
                      <a:pt x="793" y="333"/>
                    </a:lnTo>
                    <a:lnTo>
                      <a:pt x="768" y="364"/>
                    </a:lnTo>
                    <a:lnTo>
                      <a:pt x="741" y="400"/>
                    </a:lnTo>
                    <a:lnTo>
                      <a:pt x="709" y="434"/>
                    </a:lnTo>
                    <a:lnTo>
                      <a:pt x="678" y="467"/>
                    </a:lnTo>
                    <a:lnTo>
                      <a:pt x="650" y="497"/>
                    </a:lnTo>
                    <a:lnTo>
                      <a:pt x="618" y="529"/>
                    </a:lnTo>
                    <a:lnTo>
                      <a:pt x="589" y="557"/>
                    </a:lnTo>
                    <a:lnTo>
                      <a:pt x="557" y="589"/>
                    </a:lnTo>
                    <a:lnTo>
                      <a:pt x="525" y="619"/>
                    </a:lnTo>
                    <a:lnTo>
                      <a:pt x="485" y="651"/>
                    </a:lnTo>
                    <a:lnTo>
                      <a:pt x="456" y="677"/>
                    </a:lnTo>
                    <a:lnTo>
                      <a:pt x="414" y="708"/>
                    </a:lnTo>
                    <a:lnTo>
                      <a:pt x="377" y="735"/>
                    </a:lnTo>
                    <a:lnTo>
                      <a:pt x="339" y="762"/>
                    </a:lnTo>
                    <a:lnTo>
                      <a:pt x="299" y="784"/>
                    </a:lnTo>
                    <a:lnTo>
                      <a:pt x="269" y="801"/>
                    </a:lnTo>
                    <a:lnTo>
                      <a:pt x="235" y="817"/>
                    </a:lnTo>
                    <a:lnTo>
                      <a:pt x="212" y="1022"/>
                    </a:lnTo>
                    <a:lnTo>
                      <a:pt x="204" y="990"/>
                    </a:lnTo>
                    <a:lnTo>
                      <a:pt x="191" y="967"/>
                    </a:lnTo>
                    <a:lnTo>
                      <a:pt x="184" y="939"/>
                    </a:lnTo>
                    <a:lnTo>
                      <a:pt x="167" y="917"/>
                    </a:lnTo>
                    <a:lnTo>
                      <a:pt x="155" y="901"/>
                    </a:lnTo>
                    <a:lnTo>
                      <a:pt x="147" y="885"/>
                    </a:lnTo>
                    <a:lnTo>
                      <a:pt x="134" y="868"/>
                    </a:lnTo>
                    <a:lnTo>
                      <a:pt x="121" y="852"/>
                    </a:lnTo>
                    <a:lnTo>
                      <a:pt x="101" y="836"/>
                    </a:lnTo>
                    <a:lnTo>
                      <a:pt x="83" y="818"/>
                    </a:lnTo>
                    <a:lnTo>
                      <a:pt x="64" y="800"/>
                    </a:lnTo>
                    <a:lnTo>
                      <a:pt x="42" y="785"/>
                    </a:lnTo>
                    <a:lnTo>
                      <a:pt x="19" y="769"/>
                    </a:lnTo>
                    <a:lnTo>
                      <a:pt x="0" y="757"/>
                    </a:lnTo>
                    <a:lnTo>
                      <a:pt x="12" y="738"/>
                    </a:lnTo>
                    <a:lnTo>
                      <a:pt x="31" y="722"/>
                    </a:lnTo>
                    <a:lnTo>
                      <a:pt x="46" y="705"/>
                    </a:lnTo>
                    <a:lnTo>
                      <a:pt x="65" y="681"/>
                    </a:lnTo>
                    <a:lnTo>
                      <a:pt x="86" y="660"/>
                    </a:lnTo>
                    <a:lnTo>
                      <a:pt x="100" y="640"/>
                    </a:lnTo>
                    <a:lnTo>
                      <a:pt x="114" y="620"/>
                    </a:lnTo>
                    <a:lnTo>
                      <a:pt x="128" y="597"/>
                    </a:lnTo>
                    <a:lnTo>
                      <a:pt x="141" y="577"/>
                    </a:lnTo>
                    <a:lnTo>
                      <a:pt x="160" y="552"/>
                    </a:lnTo>
                    <a:lnTo>
                      <a:pt x="174" y="533"/>
                    </a:lnTo>
                    <a:lnTo>
                      <a:pt x="185" y="509"/>
                    </a:lnTo>
                    <a:lnTo>
                      <a:pt x="200" y="488"/>
                    </a:lnTo>
                    <a:lnTo>
                      <a:pt x="212" y="465"/>
                    </a:lnTo>
                    <a:lnTo>
                      <a:pt x="225" y="446"/>
                    </a:lnTo>
                    <a:lnTo>
                      <a:pt x="240" y="421"/>
                    </a:lnTo>
                    <a:lnTo>
                      <a:pt x="254" y="390"/>
                    </a:lnTo>
                    <a:lnTo>
                      <a:pt x="248" y="598"/>
                    </a:lnTo>
                    <a:lnTo>
                      <a:pt x="295" y="580"/>
                    </a:lnTo>
                    <a:lnTo>
                      <a:pt x="333" y="560"/>
                    </a:lnTo>
                    <a:lnTo>
                      <a:pt x="401" y="523"/>
                    </a:lnTo>
                    <a:lnTo>
                      <a:pt x="436" y="503"/>
                    </a:lnTo>
                    <a:lnTo>
                      <a:pt x="468" y="482"/>
                    </a:lnTo>
                    <a:lnTo>
                      <a:pt x="510" y="455"/>
                    </a:lnTo>
                    <a:lnTo>
                      <a:pt x="555" y="424"/>
                    </a:lnTo>
                    <a:lnTo>
                      <a:pt x="588" y="394"/>
                    </a:lnTo>
                    <a:lnTo>
                      <a:pt x="637" y="355"/>
                    </a:lnTo>
                    <a:lnTo>
                      <a:pt x="673" y="323"/>
                    </a:lnTo>
                    <a:lnTo>
                      <a:pt x="701" y="293"/>
                    </a:lnTo>
                    <a:lnTo>
                      <a:pt x="730" y="266"/>
                    </a:lnTo>
                    <a:lnTo>
                      <a:pt x="747" y="248"/>
                    </a:lnTo>
                    <a:lnTo>
                      <a:pt x="768" y="214"/>
                    </a:lnTo>
                    <a:lnTo>
                      <a:pt x="790" y="184"/>
                    </a:lnTo>
                    <a:lnTo>
                      <a:pt x="816" y="149"/>
                    </a:lnTo>
                    <a:lnTo>
                      <a:pt x="840" y="104"/>
                    </a:lnTo>
                    <a:lnTo>
                      <a:pt x="861" y="70"/>
                    </a:lnTo>
                    <a:lnTo>
                      <a:pt x="880" y="2"/>
                    </a:lnTo>
                    <a:lnTo>
                      <a:pt x="940" y="0"/>
                    </a:lnTo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ffff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H="1" flipV="1" rot="21279600">
                <a:off x="4387680" y="1838880"/>
                <a:ext cx="2057760" cy="1549800"/>
              </a:xfrm>
              <a:custGeom>
                <a:avLst/>
                <a:gdLst/>
                <a:ahLst/>
                <a:rect l="l" t="t" r="r" b="b"/>
                <a:pathLst>
                  <a:path w="959" h="1022">
                    <a:moveTo>
                      <a:pt x="958" y="0"/>
                    </a:moveTo>
                    <a:lnTo>
                      <a:pt x="947" y="53"/>
                    </a:lnTo>
                    <a:lnTo>
                      <a:pt x="938" y="80"/>
                    </a:lnTo>
                    <a:lnTo>
                      <a:pt x="930" y="110"/>
                    </a:lnTo>
                    <a:lnTo>
                      <a:pt x="919" y="140"/>
                    </a:lnTo>
                    <a:lnTo>
                      <a:pt x="907" y="172"/>
                    </a:lnTo>
                    <a:lnTo>
                      <a:pt x="892" y="202"/>
                    </a:lnTo>
                    <a:lnTo>
                      <a:pt x="877" y="229"/>
                    </a:lnTo>
                    <a:lnTo>
                      <a:pt x="859" y="260"/>
                    </a:lnTo>
                    <a:lnTo>
                      <a:pt x="836" y="297"/>
                    </a:lnTo>
                    <a:lnTo>
                      <a:pt x="811" y="331"/>
                    </a:lnTo>
                    <a:lnTo>
                      <a:pt x="785" y="364"/>
                    </a:lnTo>
                    <a:lnTo>
                      <a:pt x="759" y="397"/>
                    </a:lnTo>
                    <a:lnTo>
                      <a:pt x="727" y="432"/>
                    </a:lnTo>
                    <a:lnTo>
                      <a:pt x="694" y="465"/>
                    </a:lnTo>
                    <a:lnTo>
                      <a:pt x="663" y="495"/>
                    </a:lnTo>
                    <a:lnTo>
                      <a:pt x="633" y="529"/>
                    </a:lnTo>
                    <a:lnTo>
                      <a:pt x="602" y="556"/>
                    </a:lnTo>
                    <a:lnTo>
                      <a:pt x="569" y="588"/>
                    </a:lnTo>
                    <a:lnTo>
                      <a:pt x="537" y="618"/>
                    </a:lnTo>
                    <a:lnTo>
                      <a:pt x="499" y="649"/>
                    </a:lnTo>
                    <a:lnTo>
                      <a:pt x="465" y="676"/>
                    </a:lnTo>
                    <a:lnTo>
                      <a:pt x="425" y="708"/>
                    </a:lnTo>
                    <a:lnTo>
                      <a:pt x="385" y="734"/>
                    </a:lnTo>
                    <a:lnTo>
                      <a:pt x="350" y="760"/>
                    </a:lnTo>
                    <a:lnTo>
                      <a:pt x="308" y="784"/>
                    </a:lnTo>
                    <a:lnTo>
                      <a:pt x="277" y="801"/>
                    </a:lnTo>
                    <a:lnTo>
                      <a:pt x="240" y="818"/>
                    </a:lnTo>
                    <a:lnTo>
                      <a:pt x="224" y="1021"/>
                    </a:lnTo>
                    <a:lnTo>
                      <a:pt x="211" y="989"/>
                    </a:lnTo>
                    <a:lnTo>
                      <a:pt x="198" y="965"/>
                    </a:lnTo>
                    <a:lnTo>
                      <a:pt x="186" y="939"/>
                    </a:lnTo>
                    <a:lnTo>
                      <a:pt x="174" y="917"/>
                    </a:lnTo>
                    <a:lnTo>
                      <a:pt x="162" y="899"/>
                    </a:lnTo>
                    <a:lnTo>
                      <a:pt x="152" y="881"/>
                    </a:lnTo>
                    <a:lnTo>
                      <a:pt x="135" y="868"/>
                    </a:lnTo>
                    <a:lnTo>
                      <a:pt x="121" y="853"/>
                    </a:lnTo>
                    <a:lnTo>
                      <a:pt x="106" y="836"/>
                    </a:lnTo>
                    <a:lnTo>
                      <a:pt x="84" y="822"/>
                    </a:lnTo>
                    <a:lnTo>
                      <a:pt x="66" y="802"/>
                    </a:lnTo>
                    <a:lnTo>
                      <a:pt x="43" y="785"/>
                    </a:lnTo>
                    <a:lnTo>
                      <a:pt x="20" y="769"/>
                    </a:lnTo>
                    <a:lnTo>
                      <a:pt x="0" y="756"/>
                    </a:lnTo>
                    <a:lnTo>
                      <a:pt x="14" y="740"/>
                    </a:lnTo>
                    <a:lnTo>
                      <a:pt x="31" y="723"/>
                    </a:lnTo>
                    <a:lnTo>
                      <a:pt x="48" y="705"/>
                    </a:lnTo>
                    <a:lnTo>
                      <a:pt x="65" y="681"/>
                    </a:lnTo>
                    <a:lnTo>
                      <a:pt x="88" y="660"/>
                    </a:lnTo>
                    <a:lnTo>
                      <a:pt x="103" y="641"/>
                    </a:lnTo>
                    <a:lnTo>
                      <a:pt x="113" y="622"/>
                    </a:lnTo>
                    <a:lnTo>
                      <a:pt x="129" y="599"/>
                    </a:lnTo>
                    <a:lnTo>
                      <a:pt x="146" y="575"/>
                    </a:lnTo>
                    <a:lnTo>
                      <a:pt x="162" y="552"/>
                    </a:lnTo>
                    <a:lnTo>
                      <a:pt x="178" y="531"/>
                    </a:lnTo>
                    <a:lnTo>
                      <a:pt x="190" y="510"/>
                    </a:lnTo>
                    <a:lnTo>
                      <a:pt x="202" y="488"/>
                    </a:lnTo>
                    <a:lnTo>
                      <a:pt x="215" y="465"/>
                    </a:lnTo>
                    <a:lnTo>
                      <a:pt x="227" y="446"/>
                    </a:lnTo>
                    <a:lnTo>
                      <a:pt x="243" y="421"/>
                    </a:lnTo>
                    <a:lnTo>
                      <a:pt x="257" y="391"/>
                    </a:lnTo>
                    <a:lnTo>
                      <a:pt x="254" y="599"/>
                    </a:lnTo>
                    <a:lnTo>
                      <a:pt x="301" y="582"/>
                    </a:lnTo>
                    <a:lnTo>
                      <a:pt x="340" y="560"/>
                    </a:lnTo>
                    <a:lnTo>
                      <a:pt x="412" y="523"/>
                    </a:lnTo>
                    <a:lnTo>
                      <a:pt x="445" y="505"/>
                    </a:lnTo>
                    <a:lnTo>
                      <a:pt x="479" y="483"/>
                    </a:lnTo>
                    <a:lnTo>
                      <a:pt x="533" y="445"/>
                    </a:lnTo>
                    <a:lnTo>
                      <a:pt x="568" y="423"/>
                    </a:lnTo>
                    <a:lnTo>
                      <a:pt x="608" y="397"/>
                    </a:lnTo>
                    <a:lnTo>
                      <a:pt x="642" y="374"/>
                    </a:lnTo>
                    <a:lnTo>
                      <a:pt x="670" y="352"/>
                    </a:lnTo>
                    <a:lnTo>
                      <a:pt x="694" y="334"/>
                    </a:lnTo>
                    <a:lnTo>
                      <a:pt x="723" y="311"/>
                    </a:lnTo>
                    <a:lnTo>
                      <a:pt x="754" y="286"/>
                    </a:lnTo>
                    <a:lnTo>
                      <a:pt x="778" y="260"/>
                    </a:lnTo>
                    <a:lnTo>
                      <a:pt x="801" y="234"/>
                    </a:lnTo>
                    <a:lnTo>
                      <a:pt x="828" y="206"/>
                    </a:lnTo>
                    <a:lnTo>
                      <a:pt x="847" y="177"/>
                    </a:lnTo>
                    <a:lnTo>
                      <a:pt x="870" y="144"/>
                    </a:lnTo>
                    <a:lnTo>
                      <a:pt x="890" y="116"/>
                    </a:lnTo>
                    <a:lnTo>
                      <a:pt x="908" y="84"/>
                    </a:lnTo>
                    <a:lnTo>
                      <a:pt x="926" y="52"/>
                    </a:lnTo>
                    <a:lnTo>
                      <a:pt x="958" y="0"/>
                    </a:lnTo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ffff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H="1" flipV="1" rot="21279600">
                <a:off x="5697360" y="1801800"/>
                <a:ext cx="208080" cy="316800"/>
              </a:xfrm>
              <a:custGeom>
                <a:avLst/>
                <a:gdLst/>
                <a:ahLst/>
                <a:rect l="l" t="t" r="r" b="b"/>
                <a:pathLst>
                  <a:path w="97" h="209">
                    <a:moveTo>
                      <a:pt x="66" y="201"/>
                    </a:moveTo>
                    <a:lnTo>
                      <a:pt x="0" y="208"/>
                    </a:lnTo>
                    <a:lnTo>
                      <a:pt x="6" y="8"/>
                    </a:lnTo>
                    <a:lnTo>
                      <a:pt x="96" y="0"/>
                    </a:lnTo>
                    <a:lnTo>
                      <a:pt x="66" y="201"/>
                    </a:lnTo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ffff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flipV="1" rot="21279600">
                <a:off x="5731920" y="2443680"/>
                <a:ext cx="176040" cy="326160"/>
              </a:xfrm>
              <a:custGeom>
                <a:avLst/>
                <a:gdLst/>
                <a:ahLst/>
                <a:rect l="l" t="t" r="r" b="b"/>
                <a:pathLst>
                  <a:path w="82" h="215">
                    <a:moveTo>
                      <a:pt x="81" y="0"/>
                    </a:moveTo>
                    <a:lnTo>
                      <a:pt x="8" y="7"/>
                    </a:lnTo>
                    <a:lnTo>
                      <a:pt x="0" y="214"/>
                    </a:lnTo>
                    <a:lnTo>
                      <a:pt x="36" y="205"/>
                    </a:lnTo>
                    <a:lnTo>
                      <a:pt x="71" y="189"/>
                    </a:lnTo>
                    <a:lnTo>
                      <a:pt x="81" y="0"/>
                    </a:lnTo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ffff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105" name="excel" descr="*"/>
            <p:cNvPicPr/>
            <p:nvPr/>
          </p:nvPicPr>
          <p:blipFill>
            <a:blip r:embed="rId2"/>
            <a:stretch/>
          </p:blipFill>
          <p:spPr>
            <a:xfrm>
              <a:off x="6477120" y="1828800"/>
              <a:ext cx="62856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7108560" y="1905120"/>
              <a:ext cx="202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ffff"/>
                  </a:solidFill>
                  <a:latin typeface="Arial Narrow"/>
                </a:rPr>
                <a:t>Microsoft Excel 20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394040" y="2286000"/>
              <a:ext cx="129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OBJEC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685800" y="3384000"/>
            <a:ext cx="3429000" cy="3274560"/>
            <a:chOff x="685800" y="3384000"/>
            <a:chExt cx="3429000" cy="3274560"/>
          </a:xfrm>
        </p:grpSpPr>
        <p:grpSp>
          <p:nvGrpSpPr>
            <p:cNvPr id="109" name=""/>
            <p:cNvGrpSpPr/>
            <p:nvPr/>
          </p:nvGrpSpPr>
          <p:grpSpPr>
            <a:xfrm>
              <a:off x="970560" y="3384000"/>
              <a:ext cx="1536120" cy="1981080"/>
              <a:chOff x="970560" y="3384000"/>
              <a:chExt cx="1536120" cy="1981080"/>
            </a:xfrm>
          </p:grpSpPr>
          <p:sp>
            <p:nvSpPr>
              <p:cNvPr id="110" name=""/>
              <p:cNvSpPr/>
              <p:nvPr/>
            </p:nvSpPr>
            <p:spPr>
              <a:xfrm rot="10479600">
                <a:off x="1053720" y="3458880"/>
                <a:ext cx="1269000" cy="1851120"/>
              </a:xfrm>
              <a:custGeom>
                <a:avLst/>
                <a:gdLst/>
                <a:ahLst/>
                <a:rect l="l" t="t" r="r" b="b"/>
                <a:pathLst>
                  <a:path w="941" h="1023">
                    <a:moveTo>
                      <a:pt x="940" y="0"/>
                    </a:moveTo>
                    <a:lnTo>
                      <a:pt x="929" y="54"/>
                    </a:lnTo>
                    <a:lnTo>
                      <a:pt x="919" y="80"/>
                    </a:lnTo>
                    <a:lnTo>
                      <a:pt x="909" y="111"/>
                    </a:lnTo>
                    <a:lnTo>
                      <a:pt x="898" y="143"/>
                    </a:lnTo>
                    <a:lnTo>
                      <a:pt x="887" y="173"/>
                    </a:lnTo>
                    <a:lnTo>
                      <a:pt x="872" y="203"/>
                    </a:lnTo>
                    <a:lnTo>
                      <a:pt x="858" y="230"/>
                    </a:lnTo>
                    <a:lnTo>
                      <a:pt x="842" y="261"/>
                    </a:lnTo>
                    <a:lnTo>
                      <a:pt x="819" y="298"/>
                    </a:lnTo>
                    <a:lnTo>
                      <a:pt x="793" y="333"/>
                    </a:lnTo>
                    <a:lnTo>
                      <a:pt x="768" y="364"/>
                    </a:lnTo>
                    <a:lnTo>
                      <a:pt x="741" y="400"/>
                    </a:lnTo>
                    <a:lnTo>
                      <a:pt x="709" y="434"/>
                    </a:lnTo>
                    <a:lnTo>
                      <a:pt x="678" y="467"/>
                    </a:lnTo>
                    <a:lnTo>
                      <a:pt x="650" y="497"/>
                    </a:lnTo>
                    <a:lnTo>
                      <a:pt x="618" y="529"/>
                    </a:lnTo>
                    <a:lnTo>
                      <a:pt x="589" y="557"/>
                    </a:lnTo>
                    <a:lnTo>
                      <a:pt x="557" y="589"/>
                    </a:lnTo>
                    <a:lnTo>
                      <a:pt x="525" y="619"/>
                    </a:lnTo>
                    <a:lnTo>
                      <a:pt x="485" y="651"/>
                    </a:lnTo>
                    <a:lnTo>
                      <a:pt x="456" y="677"/>
                    </a:lnTo>
                    <a:lnTo>
                      <a:pt x="414" y="708"/>
                    </a:lnTo>
                    <a:lnTo>
                      <a:pt x="377" y="735"/>
                    </a:lnTo>
                    <a:lnTo>
                      <a:pt x="339" y="762"/>
                    </a:lnTo>
                    <a:lnTo>
                      <a:pt x="299" y="784"/>
                    </a:lnTo>
                    <a:lnTo>
                      <a:pt x="269" y="801"/>
                    </a:lnTo>
                    <a:lnTo>
                      <a:pt x="235" y="817"/>
                    </a:lnTo>
                    <a:lnTo>
                      <a:pt x="212" y="1022"/>
                    </a:lnTo>
                    <a:lnTo>
                      <a:pt x="204" y="990"/>
                    </a:lnTo>
                    <a:lnTo>
                      <a:pt x="191" y="967"/>
                    </a:lnTo>
                    <a:lnTo>
                      <a:pt x="184" y="939"/>
                    </a:lnTo>
                    <a:lnTo>
                      <a:pt x="167" y="917"/>
                    </a:lnTo>
                    <a:lnTo>
                      <a:pt x="155" y="901"/>
                    </a:lnTo>
                    <a:lnTo>
                      <a:pt x="147" y="885"/>
                    </a:lnTo>
                    <a:lnTo>
                      <a:pt x="134" y="868"/>
                    </a:lnTo>
                    <a:lnTo>
                      <a:pt x="121" y="852"/>
                    </a:lnTo>
                    <a:lnTo>
                      <a:pt x="101" y="836"/>
                    </a:lnTo>
                    <a:lnTo>
                      <a:pt x="83" y="818"/>
                    </a:lnTo>
                    <a:lnTo>
                      <a:pt x="64" y="800"/>
                    </a:lnTo>
                    <a:lnTo>
                      <a:pt x="42" y="785"/>
                    </a:lnTo>
                    <a:lnTo>
                      <a:pt x="19" y="769"/>
                    </a:lnTo>
                    <a:lnTo>
                      <a:pt x="0" y="757"/>
                    </a:lnTo>
                    <a:lnTo>
                      <a:pt x="12" y="738"/>
                    </a:lnTo>
                    <a:lnTo>
                      <a:pt x="31" y="722"/>
                    </a:lnTo>
                    <a:lnTo>
                      <a:pt x="46" y="705"/>
                    </a:lnTo>
                    <a:lnTo>
                      <a:pt x="65" y="681"/>
                    </a:lnTo>
                    <a:lnTo>
                      <a:pt x="86" y="660"/>
                    </a:lnTo>
                    <a:lnTo>
                      <a:pt x="100" y="640"/>
                    </a:lnTo>
                    <a:lnTo>
                      <a:pt x="114" y="620"/>
                    </a:lnTo>
                    <a:lnTo>
                      <a:pt x="128" y="597"/>
                    </a:lnTo>
                    <a:lnTo>
                      <a:pt x="141" y="577"/>
                    </a:lnTo>
                    <a:lnTo>
                      <a:pt x="160" y="552"/>
                    </a:lnTo>
                    <a:lnTo>
                      <a:pt x="174" y="533"/>
                    </a:lnTo>
                    <a:lnTo>
                      <a:pt x="185" y="509"/>
                    </a:lnTo>
                    <a:lnTo>
                      <a:pt x="200" y="488"/>
                    </a:lnTo>
                    <a:lnTo>
                      <a:pt x="212" y="465"/>
                    </a:lnTo>
                    <a:lnTo>
                      <a:pt x="225" y="446"/>
                    </a:lnTo>
                    <a:lnTo>
                      <a:pt x="240" y="421"/>
                    </a:lnTo>
                    <a:lnTo>
                      <a:pt x="254" y="390"/>
                    </a:lnTo>
                    <a:lnTo>
                      <a:pt x="248" y="598"/>
                    </a:lnTo>
                    <a:lnTo>
                      <a:pt x="295" y="580"/>
                    </a:lnTo>
                    <a:lnTo>
                      <a:pt x="333" y="560"/>
                    </a:lnTo>
                    <a:lnTo>
                      <a:pt x="401" y="523"/>
                    </a:lnTo>
                    <a:lnTo>
                      <a:pt x="436" y="503"/>
                    </a:lnTo>
                    <a:lnTo>
                      <a:pt x="468" y="482"/>
                    </a:lnTo>
                    <a:lnTo>
                      <a:pt x="510" y="455"/>
                    </a:lnTo>
                    <a:lnTo>
                      <a:pt x="555" y="424"/>
                    </a:lnTo>
                    <a:lnTo>
                      <a:pt x="588" y="394"/>
                    </a:lnTo>
                    <a:lnTo>
                      <a:pt x="637" y="355"/>
                    </a:lnTo>
                    <a:lnTo>
                      <a:pt x="673" y="323"/>
                    </a:lnTo>
                    <a:lnTo>
                      <a:pt x="701" y="293"/>
                    </a:lnTo>
                    <a:lnTo>
                      <a:pt x="730" y="266"/>
                    </a:lnTo>
                    <a:lnTo>
                      <a:pt x="747" y="248"/>
                    </a:lnTo>
                    <a:lnTo>
                      <a:pt x="768" y="214"/>
                    </a:lnTo>
                    <a:lnTo>
                      <a:pt x="790" y="184"/>
                    </a:lnTo>
                    <a:lnTo>
                      <a:pt x="816" y="149"/>
                    </a:lnTo>
                    <a:lnTo>
                      <a:pt x="840" y="104"/>
                    </a:lnTo>
                    <a:lnTo>
                      <a:pt x="861" y="70"/>
                    </a:lnTo>
                    <a:lnTo>
                      <a:pt x="880" y="2"/>
                    </a:lnTo>
                    <a:lnTo>
                      <a:pt x="940" y="0"/>
                    </a:lnTo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ffff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0479600">
                <a:off x="1130040" y="3440160"/>
                <a:ext cx="1293120" cy="1848960"/>
              </a:xfrm>
              <a:custGeom>
                <a:avLst/>
                <a:gdLst/>
                <a:ahLst/>
                <a:rect l="l" t="t" r="r" b="b"/>
                <a:pathLst>
                  <a:path w="959" h="1022">
                    <a:moveTo>
                      <a:pt x="958" y="0"/>
                    </a:moveTo>
                    <a:lnTo>
                      <a:pt x="947" y="53"/>
                    </a:lnTo>
                    <a:lnTo>
                      <a:pt x="938" y="80"/>
                    </a:lnTo>
                    <a:lnTo>
                      <a:pt x="930" y="110"/>
                    </a:lnTo>
                    <a:lnTo>
                      <a:pt x="919" y="140"/>
                    </a:lnTo>
                    <a:lnTo>
                      <a:pt x="907" y="172"/>
                    </a:lnTo>
                    <a:lnTo>
                      <a:pt x="892" y="202"/>
                    </a:lnTo>
                    <a:lnTo>
                      <a:pt x="877" y="229"/>
                    </a:lnTo>
                    <a:lnTo>
                      <a:pt x="859" y="260"/>
                    </a:lnTo>
                    <a:lnTo>
                      <a:pt x="836" y="297"/>
                    </a:lnTo>
                    <a:lnTo>
                      <a:pt x="811" y="331"/>
                    </a:lnTo>
                    <a:lnTo>
                      <a:pt x="785" y="364"/>
                    </a:lnTo>
                    <a:lnTo>
                      <a:pt x="759" y="397"/>
                    </a:lnTo>
                    <a:lnTo>
                      <a:pt x="727" y="432"/>
                    </a:lnTo>
                    <a:lnTo>
                      <a:pt x="694" y="465"/>
                    </a:lnTo>
                    <a:lnTo>
                      <a:pt x="663" y="495"/>
                    </a:lnTo>
                    <a:lnTo>
                      <a:pt x="633" y="529"/>
                    </a:lnTo>
                    <a:lnTo>
                      <a:pt x="602" y="556"/>
                    </a:lnTo>
                    <a:lnTo>
                      <a:pt x="569" y="588"/>
                    </a:lnTo>
                    <a:lnTo>
                      <a:pt x="537" y="618"/>
                    </a:lnTo>
                    <a:lnTo>
                      <a:pt x="499" y="649"/>
                    </a:lnTo>
                    <a:lnTo>
                      <a:pt x="465" y="676"/>
                    </a:lnTo>
                    <a:lnTo>
                      <a:pt x="425" y="708"/>
                    </a:lnTo>
                    <a:lnTo>
                      <a:pt x="385" y="734"/>
                    </a:lnTo>
                    <a:lnTo>
                      <a:pt x="350" y="760"/>
                    </a:lnTo>
                    <a:lnTo>
                      <a:pt x="308" y="784"/>
                    </a:lnTo>
                    <a:lnTo>
                      <a:pt x="277" y="801"/>
                    </a:lnTo>
                    <a:lnTo>
                      <a:pt x="240" y="818"/>
                    </a:lnTo>
                    <a:lnTo>
                      <a:pt x="224" y="1021"/>
                    </a:lnTo>
                    <a:lnTo>
                      <a:pt x="211" y="989"/>
                    </a:lnTo>
                    <a:lnTo>
                      <a:pt x="198" y="965"/>
                    </a:lnTo>
                    <a:lnTo>
                      <a:pt x="186" y="939"/>
                    </a:lnTo>
                    <a:lnTo>
                      <a:pt x="174" y="917"/>
                    </a:lnTo>
                    <a:lnTo>
                      <a:pt x="162" y="899"/>
                    </a:lnTo>
                    <a:lnTo>
                      <a:pt x="152" y="881"/>
                    </a:lnTo>
                    <a:lnTo>
                      <a:pt x="135" y="868"/>
                    </a:lnTo>
                    <a:lnTo>
                      <a:pt x="121" y="853"/>
                    </a:lnTo>
                    <a:lnTo>
                      <a:pt x="106" y="836"/>
                    </a:lnTo>
                    <a:lnTo>
                      <a:pt x="84" y="822"/>
                    </a:lnTo>
                    <a:lnTo>
                      <a:pt x="66" y="802"/>
                    </a:lnTo>
                    <a:lnTo>
                      <a:pt x="43" y="785"/>
                    </a:lnTo>
                    <a:lnTo>
                      <a:pt x="20" y="769"/>
                    </a:lnTo>
                    <a:lnTo>
                      <a:pt x="0" y="756"/>
                    </a:lnTo>
                    <a:lnTo>
                      <a:pt x="14" y="740"/>
                    </a:lnTo>
                    <a:lnTo>
                      <a:pt x="31" y="723"/>
                    </a:lnTo>
                    <a:lnTo>
                      <a:pt x="48" y="705"/>
                    </a:lnTo>
                    <a:lnTo>
                      <a:pt x="65" y="681"/>
                    </a:lnTo>
                    <a:lnTo>
                      <a:pt x="88" y="660"/>
                    </a:lnTo>
                    <a:lnTo>
                      <a:pt x="103" y="641"/>
                    </a:lnTo>
                    <a:lnTo>
                      <a:pt x="113" y="622"/>
                    </a:lnTo>
                    <a:lnTo>
                      <a:pt x="129" y="599"/>
                    </a:lnTo>
                    <a:lnTo>
                      <a:pt x="146" y="575"/>
                    </a:lnTo>
                    <a:lnTo>
                      <a:pt x="162" y="552"/>
                    </a:lnTo>
                    <a:lnTo>
                      <a:pt x="178" y="531"/>
                    </a:lnTo>
                    <a:lnTo>
                      <a:pt x="190" y="510"/>
                    </a:lnTo>
                    <a:lnTo>
                      <a:pt x="202" y="488"/>
                    </a:lnTo>
                    <a:lnTo>
                      <a:pt x="215" y="465"/>
                    </a:lnTo>
                    <a:lnTo>
                      <a:pt x="227" y="446"/>
                    </a:lnTo>
                    <a:lnTo>
                      <a:pt x="243" y="421"/>
                    </a:lnTo>
                    <a:lnTo>
                      <a:pt x="257" y="391"/>
                    </a:lnTo>
                    <a:lnTo>
                      <a:pt x="254" y="599"/>
                    </a:lnTo>
                    <a:lnTo>
                      <a:pt x="301" y="582"/>
                    </a:lnTo>
                    <a:lnTo>
                      <a:pt x="340" y="560"/>
                    </a:lnTo>
                    <a:lnTo>
                      <a:pt x="412" y="523"/>
                    </a:lnTo>
                    <a:lnTo>
                      <a:pt x="445" y="505"/>
                    </a:lnTo>
                    <a:lnTo>
                      <a:pt x="479" y="483"/>
                    </a:lnTo>
                    <a:lnTo>
                      <a:pt x="533" y="445"/>
                    </a:lnTo>
                    <a:lnTo>
                      <a:pt x="568" y="423"/>
                    </a:lnTo>
                    <a:lnTo>
                      <a:pt x="608" y="397"/>
                    </a:lnTo>
                    <a:lnTo>
                      <a:pt x="642" y="374"/>
                    </a:lnTo>
                    <a:lnTo>
                      <a:pt x="670" y="352"/>
                    </a:lnTo>
                    <a:lnTo>
                      <a:pt x="694" y="334"/>
                    </a:lnTo>
                    <a:lnTo>
                      <a:pt x="723" y="311"/>
                    </a:lnTo>
                    <a:lnTo>
                      <a:pt x="754" y="286"/>
                    </a:lnTo>
                    <a:lnTo>
                      <a:pt x="778" y="260"/>
                    </a:lnTo>
                    <a:lnTo>
                      <a:pt x="801" y="234"/>
                    </a:lnTo>
                    <a:lnTo>
                      <a:pt x="828" y="206"/>
                    </a:lnTo>
                    <a:lnTo>
                      <a:pt x="847" y="177"/>
                    </a:lnTo>
                    <a:lnTo>
                      <a:pt x="870" y="144"/>
                    </a:lnTo>
                    <a:lnTo>
                      <a:pt x="890" y="116"/>
                    </a:lnTo>
                    <a:lnTo>
                      <a:pt x="908" y="84"/>
                    </a:lnTo>
                    <a:lnTo>
                      <a:pt x="926" y="52"/>
                    </a:lnTo>
                    <a:lnTo>
                      <a:pt x="958" y="0"/>
                    </a:lnTo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ffff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0479600">
                <a:off x="1920960" y="3418920"/>
                <a:ext cx="130680" cy="378000"/>
              </a:xfrm>
              <a:custGeom>
                <a:avLst/>
                <a:gdLst/>
                <a:ahLst/>
                <a:rect l="l" t="t" r="r" b="b"/>
                <a:pathLst>
                  <a:path w="97" h="209">
                    <a:moveTo>
                      <a:pt x="66" y="201"/>
                    </a:moveTo>
                    <a:lnTo>
                      <a:pt x="0" y="208"/>
                    </a:lnTo>
                    <a:lnTo>
                      <a:pt x="6" y="8"/>
                    </a:lnTo>
                    <a:lnTo>
                      <a:pt x="96" y="0"/>
                    </a:lnTo>
                    <a:lnTo>
                      <a:pt x="66" y="201"/>
                    </a:lnTo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ffff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0479600">
                <a:off x="1976760" y="4183200"/>
                <a:ext cx="110520" cy="388800"/>
              </a:xfrm>
              <a:custGeom>
                <a:avLst/>
                <a:gdLst/>
                <a:ahLst/>
                <a:rect l="l" t="t" r="r" b="b"/>
                <a:pathLst>
                  <a:path w="82" h="215">
                    <a:moveTo>
                      <a:pt x="81" y="0"/>
                    </a:moveTo>
                    <a:lnTo>
                      <a:pt x="8" y="7"/>
                    </a:lnTo>
                    <a:lnTo>
                      <a:pt x="0" y="214"/>
                    </a:lnTo>
                    <a:lnTo>
                      <a:pt x="36" y="205"/>
                    </a:lnTo>
                    <a:lnTo>
                      <a:pt x="71" y="189"/>
                    </a:lnTo>
                    <a:lnTo>
                      <a:pt x="81" y="0"/>
                    </a:lnTo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ffff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14" name=""/>
            <p:cNvGraphicFramePr/>
            <p:nvPr/>
          </p:nvGraphicFramePr>
          <p:xfrm>
            <a:off x="685800" y="5410080"/>
            <a:ext cx="990720" cy="949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85800" y="5410080"/>
                      <a:ext cx="990720" cy="94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6" name=""/>
            <p:cNvSpPr/>
            <p:nvPr/>
          </p:nvSpPr>
          <p:spPr>
            <a:xfrm>
              <a:off x="1816560" y="5222880"/>
              <a:ext cx="144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LINK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812960" y="5649840"/>
              <a:ext cx="23018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ff"/>
                  </a:solidFill>
                  <a:latin typeface="Arial Narrow"/>
                </a:rPr>
                <a:t>Dados permanecem no arquivo de orige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489560" y="3369600"/>
            <a:ext cx="4349520" cy="3049200"/>
            <a:chOff x="4489560" y="3369600"/>
            <a:chExt cx="4349520" cy="3049200"/>
          </a:xfrm>
        </p:grpSpPr>
        <p:sp>
          <p:nvSpPr>
            <p:cNvPr id="119" name=""/>
            <p:cNvSpPr/>
            <p:nvPr/>
          </p:nvSpPr>
          <p:spPr>
            <a:xfrm>
              <a:off x="6404760" y="5288040"/>
              <a:ext cx="200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EMBEDD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400800" y="5715000"/>
              <a:ext cx="2438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ff"/>
                  </a:solidFill>
                  <a:latin typeface="Arial Narrow"/>
                </a:rPr>
                <a:t>Dados são copiados para o arquivo destin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21" name=""/>
            <p:cNvGraphicFramePr/>
            <p:nvPr/>
          </p:nvGraphicFramePr>
          <p:xfrm>
            <a:off x="5257800" y="5410080"/>
            <a:ext cx="990720" cy="949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257800" y="5410080"/>
                      <a:ext cx="990720" cy="94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23" name=""/>
            <p:cNvGrpSpPr/>
            <p:nvPr/>
          </p:nvGrpSpPr>
          <p:grpSpPr>
            <a:xfrm>
              <a:off x="4489560" y="3369600"/>
              <a:ext cx="1536480" cy="1981080"/>
              <a:chOff x="4489560" y="3369600"/>
              <a:chExt cx="1536480" cy="1981080"/>
            </a:xfrm>
          </p:grpSpPr>
          <p:sp>
            <p:nvSpPr>
              <p:cNvPr id="124" name=""/>
              <p:cNvSpPr/>
              <p:nvPr/>
            </p:nvSpPr>
            <p:spPr>
              <a:xfrm flipH="1" rot="11120400">
                <a:off x="4673160" y="3444120"/>
                <a:ext cx="1269000" cy="1851480"/>
              </a:xfrm>
              <a:custGeom>
                <a:avLst/>
                <a:gdLst/>
                <a:ahLst/>
                <a:rect l="l" t="t" r="r" b="b"/>
                <a:pathLst>
                  <a:path w="941" h="1023">
                    <a:moveTo>
                      <a:pt x="940" y="0"/>
                    </a:moveTo>
                    <a:lnTo>
                      <a:pt x="929" y="54"/>
                    </a:lnTo>
                    <a:lnTo>
                      <a:pt x="919" y="80"/>
                    </a:lnTo>
                    <a:lnTo>
                      <a:pt x="909" y="111"/>
                    </a:lnTo>
                    <a:lnTo>
                      <a:pt x="898" y="143"/>
                    </a:lnTo>
                    <a:lnTo>
                      <a:pt x="887" y="173"/>
                    </a:lnTo>
                    <a:lnTo>
                      <a:pt x="872" y="203"/>
                    </a:lnTo>
                    <a:lnTo>
                      <a:pt x="858" y="230"/>
                    </a:lnTo>
                    <a:lnTo>
                      <a:pt x="842" y="261"/>
                    </a:lnTo>
                    <a:lnTo>
                      <a:pt x="819" y="298"/>
                    </a:lnTo>
                    <a:lnTo>
                      <a:pt x="793" y="333"/>
                    </a:lnTo>
                    <a:lnTo>
                      <a:pt x="768" y="364"/>
                    </a:lnTo>
                    <a:lnTo>
                      <a:pt x="741" y="400"/>
                    </a:lnTo>
                    <a:lnTo>
                      <a:pt x="709" y="434"/>
                    </a:lnTo>
                    <a:lnTo>
                      <a:pt x="678" y="467"/>
                    </a:lnTo>
                    <a:lnTo>
                      <a:pt x="650" y="497"/>
                    </a:lnTo>
                    <a:lnTo>
                      <a:pt x="618" y="529"/>
                    </a:lnTo>
                    <a:lnTo>
                      <a:pt x="589" y="557"/>
                    </a:lnTo>
                    <a:lnTo>
                      <a:pt x="557" y="589"/>
                    </a:lnTo>
                    <a:lnTo>
                      <a:pt x="525" y="619"/>
                    </a:lnTo>
                    <a:lnTo>
                      <a:pt x="485" y="651"/>
                    </a:lnTo>
                    <a:lnTo>
                      <a:pt x="456" y="677"/>
                    </a:lnTo>
                    <a:lnTo>
                      <a:pt x="414" y="708"/>
                    </a:lnTo>
                    <a:lnTo>
                      <a:pt x="377" y="735"/>
                    </a:lnTo>
                    <a:lnTo>
                      <a:pt x="339" y="762"/>
                    </a:lnTo>
                    <a:lnTo>
                      <a:pt x="299" y="784"/>
                    </a:lnTo>
                    <a:lnTo>
                      <a:pt x="269" y="801"/>
                    </a:lnTo>
                    <a:lnTo>
                      <a:pt x="235" y="817"/>
                    </a:lnTo>
                    <a:lnTo>
                      <a:pt x="212" y="1022"/>
                    </a:lnTo>
                    <a:lnTo>
                      <a:pt x="204" y="990"/>
                    </a:lnTo>
                    <a:lnTo>
                      <a:pt x="191" y="967"/>
                    </a:lnTo>
                    <a:lnTo>
                      <a:pt x="184" y="939"/>
                    </a:lnTo>
                    <a:lnTo>
                      <a:pt x="167" y="917"/>
                    </a:lnTo>
                    <a:lnTo>
                      <a:pt x="155" y="901"/>
                    </a:lnTo>
                    <a:lnTo>
                      <a:pt x="147" y="885"/>
                    </a:lnTo>
                    <a:lnTo>
                      <a:pt x="134" y="868"/>
                    </a:lnTo>
                    <a:lnTo>
                      <a:pt x="121" y="852"/>
                    </a:lnTo>
                    <a:lnTo>
                      <a:pt x="101" y="836"/>
                    </a:lnTo>
                    <a:lnTo>
                      <a:pt x="83" y="818"/>
                    </a:lnTo>
                    <a:lnTo>
                      <a:pt x="64" y="800"/>
                    </a:lnTo>
                    <a:lnTo>
                      <a:pt x="42" y="785"/>
                    </a:lnTo>
                    <a:lnTo>
                      <a:pt x="19" y="769"/>
                    </a:lnTo>
                    <a:lnTo>
                      <a:pt x="0" y="757"/>
                    </a:lnTo>
                    <a:lnTo>
                      <a:pt x="12" y="738"/>
                    </a:lnTo>
                    <a:lnTo>
                      <a:pt x="31" y="722"/>
                    </a:lnTo>
                    <a:lnTo>
                      <a:pt x="46" y="705"/>
                    </a:lnTo>
                    <a:lnTo>
                      <a:pt x="65" y="681"/>
                    </a:lnTo>
                    <a:lnTo>
                      <a:pt x="86" y="660"/>
                    </a:lnTo>
                    <a:lnTo>
                      <a:pt x="100" y="640"/>
                    </a:lnTo>
                    <a:lnTo>
                      <a:pt x="114" y="620"/>
                    </a:lnTo>
                    <a:lnTo>
                      <a:pt x="128" y="597"/>
                    </a:lnTo>
                    <a:lnTo>
                      <a:pt x="141" y="577"/>
                    </a:lnTo>
                    <a:lnTo>
                      <a:pt x="160" y="552"/>
                    </a:lnTo>
                    <a:lnTo>
                      <a:pt x="174" y="533"/>
                    </a:lnTo>
                    <a:lnTo>
                      <a:pt x="185" y="509"/>
                    </a:lnTo>
                    <a:lnTo>
                      <a:pt x="200" y="488"/>
                    </a:lnTo>
                    <a:lnTo>
                      <a:pt x="212" y="465"/>
                    </a:lnTo>
                    <a:lnTo>
                      <a:pt x="225" y="446"/>
                    </a:lnTo>
                    <a:lnTo>
                      <a:pt x="240" y="421"/>
                    </a:lnTo>
                    <a:lnTo>
                      <a:pt x="254" y="390"/>
                    </a:lnTo>
                    <a:lnTo>
                      <a:pt x="248" y="598"/>
                    </a:lnTo>
                    <a:lnTo>
                      <a:pt x="295" y="580"/>
                    </a:lnTo>
                    <a:lnTo>
                      <a:pt x="333" y="560"/>
                    </a:lnTo>
                    <a:lnTo>
                      <a:pt x="401" y="523"/>
                    </a:lnTo>
                    <a:lnTo>
                      <a:pt x="436" y="503"/>
                    </a:lnTo>
                    <a:lnTo>
                      <a:pt x="468" y="482"/>
                    </a:lnTo>
                    <a:lnTo>
                      <a:pt x="510" y="455"/>
                    </a:lnTo>
                    <a:lnTo>
                      <a:pt x="555" y="424"/>
                    </a:lnTo>
                    <a:lnTo>
                      <a:pt x="588" y="394"/>
                    </a:lnTo>
                    <a:lnTo>
                      <a:pt x="637" y="355"/>
                    </a:lnTo>
                    <a:lnTo>
                      <a:pt x="673" y="323"/>
                    </a:lnTo>
                    <a:lnTo>
                      <a:pt x="701" y="293"/>
                    </a:lnTo>
                    <a:lnTo>
                      <a:pt x="730" y="266"/>
                    </a:lnTo>
                    <a:lnTo>
                      <a:pt x="747" y="248"/>
                    </a:lnTo>
                    <a:lnTo>
                      <a:pt x="768" y="214"/>
                    </a:lnTo>
                    <a:lnTo>
                      <a:pt x="790" y="184"/>
                    </a:lnTo>
                    <a:lnTo>
                      <a:pt x="816" y="149"/>
                    </a:lnTo>
                    <a:lnTo>
                      <a:pt x="840" y="104"/>
                    </a:lnTo>
                    <a:lnTo>
                      <a:pt x="861" y="70"/>
                    </a:lnTo>
                    <a:lnTo>
                      <a:pt x="880" y="2"/>
                    </a:lnTo>
                    <a:lnTo>
                      <a:pt x="940" y="0"/>
                    </a:lnTo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ffff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 rot="11120400">
                <a:off x="4572360" y="3425760"/>
                <a:ext cx="1293120" cy="1848960"/>
              </a:xfrm>
              <a:custGeom>
                <a:avLst/>
                <a:gdLst/>
                <a:ahLst/>
                <a:rect l="l" t="t" r="r" b="b"/>
                <a:pathLst>
                  <a:path w="959" h="1022">
                    <a:moveTo>
                      <a:pt x="958" y="0"/>
                    </a:moveTo>
                    <a:lnTo>
                      <a:pt x="947" y="53"/>
                    </a:lnTo>
                    <a:lnTo>
                      <a:pt x="938" y="80"/>
                    </a:lnTo>
                    <a:lnTo>
                      <a:pt x="930" y="110"/>
                    </a:lnTo>
                    <a:lnTo>
                      <a:pt x="919" y="140"/>
                    </a:lnTo>
                    <a:lnTo>
                      <a:pt x="907" y="172"/>
                    </a:lnTo>
                    <a:lnTo>
                      <a:pt x="892" y="202"/>
                    </a:lnTo>
                    <a:lnTo>
                      <a:pt x="877" y="229"/>
                    </a:lnTo>
                    <a:lnTo>
                      <a:pt x="859" y="260"/>
                    </a:lnTo>
                    <a:lnTo>
                      <a:pt x="836" y="297"/>
                    </a:lnTo>
                    <a:lnTo>
                      <a:pt x="811" y="331"/>
                    </a:lnTo>
                    <a:lnTo>
                      <a:pt x="785" y="364"/>
                    </a:lnTo>
                    <a:lnTo>
                      <a:pt x="759" y="397"/>
                    </a:lnTo>
                    <a:lnTo>
                      <a:pt x="727" y="432"/>
                    </a:lnTo>
                    <a:lnTo>
                      <a:pt x="694" y="465"/>
                    </a:lnTo>
                    <a:lnTo>
                      <a:pt x="663" y="495"/>
                    </a:lnTo>
                    <a:lnTo>
                      <a:pt x="633" y="529"/>
                    </a:lnTo>
                    <a:lnTo>
                      <a:pt x="602" y="556"/>
                    </a:lnTo>
                    <a:lnTo>
                      <a:pt x="569" y="588"/>
                    </a:lnTo>
                    <a:lnTo>
                      <a:pt x="537" y="618"/>
                    </a:lnTo>
                    <a:lnTo>
                      <a:pt x="499" y="649"/>
                    </a:lnTo>
                    <a:lnTo>
                      <a:pt x="465" y="676"/>
                    </a:lnTo>
                    <a:lnTo>
                      <a:pt x="425" y="708"/>
                    </a:lnTo>
                    <a:lnTo>
                      <a:pt x="385" y="734"/>
                    </a:lnTo>
                    <a:lnTo>
                      <a:pt x="350" y="760"/>
                    </a:lnTo>
                    <a:lnTo>
                      <a:pt x="308" y="784"/>
                    </a:lnTo>
                    <a:lnTo>
                      <a:pt x="277" y="801"/>
                    </a:lnTo>
                    <a:lnTo>
                      <a:pt x="240" y="818"/>
                    </a:lnTo>
                    <a:lnTo>
                      <a:pt x="224" y="1021"/>
                    </a:lnTo>
                    <a:lnTo>
                      <a:pt x="211" y="989"/>
                    </a:lnTo>
                    <a:lnTo>
                      <a:pt x="198" y="965"/>
                    </a:lnTo>
                    <a:lnTo>
                      <a:pt x="186" y="939"/>
                    </a:lnTo>
                    <a:lnTo>
                      <a:pt x="174" y="917"/>
                    </a:lnTo>
                    <a:lnTo>
                      <a:pt x="162" y="899"/>
                    </a:lnTo>
                    <a:lnTo>
                      <a:pt x="152" y="881"/>
                    </a:lnTo>
                    <a:lnTo>
                      <a:pt x="135" y="868"/>
                    </a:lnTo>
                    <a:lnTo>
                      <a:pt x="121" y="853"/>
                    </a:lnTo>
                    <a:lnTo>
                      <a:pt x="106" y="836"/>
                    </a:lnTo>
                    <a:lnTo>
                      <a:pt x="84" y="822"/>
                    </a:lnTo>
                    <a:lnTo>
                      <a:pt x="66" y="802"/>
                    </a:lnTo>
                    <a:lnTo>
                      <a:pt x="43" y="785"/>
                    </a:lnTo>
                    <a:lnTo>
                      <a:pt x="20" y="769"/>
                    </a:lnTo>
                    <a:lnTo>
                      <a:pt x="0" y="756"/>
                    </a:lnTo>
                    <a:lnTo>
                      <a:pt x="14" y="740"/>
                    </a:lnTo>
                    <a:lnTo>
                      <a:pt x="31" y="723"/>
                    </a:lnTo>
                    <a:lnTo>
                      <a:pt x="48" y="705"/>
                    </a:lnTo>
                    <a:lnTo>
                      <a:pt x="65" y="681"/>
                    </a:lnTo>
                    <a:lnTo>
                      <a:pt x="88" y="660"/>
                    </a:lnTo>
                    <a:lnTo>
                      <a:pt x="103" y="641"/>
                    </a:lnTo>
                    <a:lnTo>
                      <a:pt x="113" y="622"/>
                    </a:lnTo>
                    <a:lnTo>
                      <a:pt x="129" y="599"/>
                    </a:lnTo>
                    <a:lnTo>
                      <a:pt x="146" y="575"/>
                    </a:lnTo>
                    <a:lnTo>
                      <a:pt x="162" y="552"/>
                    </a:lnTo>
                    <a:lnTo>
                      <a:pt x="178" y="531"/>
                    </a:lnTo>
                    <a:lnTo>
                      <a:pt x="190" y="510"/>
                    </a:lnTo>
                    <a:lnTo>
                      <a:pt x="202" y="488"/>
                    </a:lnTo>
                    <a:lnTo>
                      <a:pt x="215" y="465"/>
                    </a:lnTo>
                    <a:lnTo>
                      <a:pt x="227" y="446"/>
                    </a:lnTo>
                    <a:lnTo>
                      <a:pt x="243" y="421"/>
                    </a:lnTo>
                    <a:lnTo>
                      <a:pt x="257" y="391"/>
                    </a:lnTo>
                    <a:lnTo>
                      <a:pt x="254" y="599"/>
                    </a:lnTo>
                    <a:lnTo>
                      <a:pt x="301" y="582"/>
                    </a:lnTo>
                    <a:lnTo>
                      <a:pt x="340" y="560"/>
                    </a:lnTo>
                    <a:lnTo>
                      <a:pt x="412" y="523"/>
                    </a:lnTo>
                    <a:lnTo>
                      <a:pt x="445" y="505"/>
                    </a:lnTo>
                    <a:lnTo>
                      <a:pt x="479" y="483"/>
                    </a:lnTo>
                    <a:lnTo>
                      <a:pt x="533" y="445"/>
                    </a:lnTo>
                    <a:lnTo>
                      <a:pt x="568" y="423"/>
                    </a:lnTo>
                    <a:lnTo>
                      <a:pt x="608" y="397"/>
                    </a:lnTo>
                    <a:lnTo>
                      <a:pt x="642" y="374"/>
                    </a:lnTo>
                    <a:lnTo>
                      <a:pt x="670" y="352"/>
                    </a:lnTo>
                    <a:lnTo>
                      <a:pt x="694" y="334"/>
                    </a:lnTo>
                    <a:lnTo>
                      <a:pt x="723" y="311"/>
                    </a:lnTo>
                    <a:lnTo>
                      <a:pt x="754" y="286"/>
                    </a:lnTo>
                    <a:lnTo>
                      <a:pt x="778" y="260"/>
                    </a:lnTo>
                    <a:lnTo>
                      <a:pt x="801" y="234"/>
                    </a:lnTo>
                    <a:lnTo>
                      <a:pt x="828" y="206"/>
                    </a:lnTo>
                    <a:lnTo>
                      <a:pt x="847" y="177"/>
                    </a:lnTo>
                    <a:lnTo>
                      <a:pt x="870" y="144"/>
                    </a:lnTo>
                    <a:lnTo>
                      <a:pt x="890" y="116"/>
                    </a:lnTo>
                    <a:lnTo>
                      <a:pt x="908" y="84"/>
                    </a:lnTo>
                    <a:lnTo>
                      <a:pt x="926" y="52"/>
                    </a:lnTo>
                    <a:lnTo>
                      <a:pt x="958" y="0"/>
                    </a:lnTo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ffff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11120400">
                <a:off x="4944240" y="3403800"/>
                <a:ext cx="130680" cy="378360"/>
              </a:xfrm>
              <a:custGeom>
                <a:avLst/>
                <a:gdLst/>
                <a:ahLst/>
                <a:rect l="l" t="t" r="r" b="b"/>
                <a:pathLst>
                  <a:path w="97" h="209">
                    <a:moveTo>
                      <a:pt x="66" y="201"/>
                    </a:moveTo>
                    <a:lnTo>
                      <a:pt x="0" y="208"/>
                    </a:lnTo>
                    <a:lnTo>
                      <a:pt x="6" y="8"/>
                    </a:lnTo>
                    <a:lnTo>
                      <a:pt x="96" y="0"/>
                    </a:lnTo>
                    <a:lnTo>
                      <a:pt x="66" y="201"/>
                    </a:lnTo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ffff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 rot="11120400">
                <a:off x="4908960" y="4168440"/>
                <a:ext cx="110520" cy="389160"/>
              </a:xfrm>
              <a:custGeom>
                <a:avLst/>
                <a:gdLst/>
                <a:ahLst/>
                <a:rect l="l" t="t" r="r" b="b"/>
                <a:pathLst>
                  <a:path w="82" h="215">
                    <a:moveTo>
                      <a:pt x="81" y="0"/>
                    </a:moveTo>
                    <a:lnTo>
                      <a:pt x="8" y="7"/>
                    </a:lnTo>
                    <a:lnTo>
                      <a:pt x="0" y="214"/>
                    </a:lnTo>
                    <a:lnTo>
                      <a:pt x="36" y="205"/>
                    </a:lnTo>
                    <a:lnTo>
                      <a:pt x="71" y="189"/>
                    </a:lnTo>
                    <a:lnTo>
                      <a:pt x="81" y="0"/>
                    </a:lnTo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ffff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5030640" y="3809880"/>
            <a:ext cx="858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0" spc="-1" strike="noStrike">
                <a:solidFill>
                  <a:srgbClr val="ff0033"/>
                </a:solidFill>
                <a:latin typeface="Arial"/>
              </a:rPr>
              <a:t>X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Históric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O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Visual Edi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OLE 2.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uto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ctive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ctiveX Contro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ctiveX Docu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ctiveX DLL e EX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Windows DNA (Distributed interNet Applications Architectur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ráticas de programação recomend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Microsoft .N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m desenvolvim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Objetos X Component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Obje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rioridade para encapsulamento e reutilização de implementação através de heranç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Interfaces de objetos representam um contra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omponen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rioridade para conectividade (pluggabilit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É possível implementar um componente sem usar objeto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ncapsulamento é conseqüê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Herança deveria ser resultado de bom 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Fundamentos do COM</a:t>
            </a:r>
            <a:br>
              <a:rPr sz="4400"/>
            </a:b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Interfa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São contratos que descrevem as funcionalidades disponibilizadas pelos objetos do sist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Definidas através da linguagem IDL (da Microsoft) – Interface Definition Langu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or vezes substituído por Type Libraries, arquivos compilados (binários) que contém uma descrição padronizada de um objeto COM. Muito utilizado por clientes VB – facilita a codificação, eliminando a necessidade de conhecer a estrutura da IDL. Entretanto, muitas vezes é necessário utilizar ID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OM suporta herança (simples) de interfaces, mas não de implementaç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362320" y="1828800"/>
            <a:ext cx="5813280" cy="4948200"/>
          </a:xfrm>
          <a:prstGeom prst="rect">
            <a:avLst/>
          </a:prstGeom>
          <a:solidFill>
            <a:srgbClr val="0000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coclass CheckingAccou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Fundamentos do COM</a:t>
            </a:r>
            <a:br>
              <a:rPr sz="4400"/>
            </a:b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Interfaces – Um exempl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90920" y="2438280"/>
            <a:ext cx="5333760" cy="14479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90920" y="243828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IAccou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971800" y="2835360"/>
          <a:ext cx="4724280" cy="669960"/>
        </p:xfrm>
        <a:graphic>
          <a:graphicData uri="http://schemas.openxmlformats.org/drawingml/2006/table">
            <a:tbl>
              <a:tblPr/>
              <a:tblGrid>
                <a:gridCol w="820800"/>
                <a:gridCol w="39034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am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posit(amoun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ala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Withdraw(amoun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2590920" y="3962520"/>
            <a:ext cx="5333760" cy="10825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90920" y="396252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IAccountIn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2971800" y="4359240"/>
          <a:ext cx="4724280" cy="335160"/>
        </p:xfrm>
        <a:graphic>
          <a:graphicData uri="http://schemas.openxmlformats.org/drawingml/2006/table">
            <a:tbl>
              <a:tblPr/>
              <a:tblGrid>
                <a:gridCol w="838080"/>
                <a:gridCol w="38862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it(name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"/>
          <p:cNvSpPr/>
          <p:nvPr/>
        </p:nvSpPr>
        <p:spPr>
          <a:xfrm>
            <a:off x="2590920" y="5105520"/>
            <a:ext cx="5333760" cy="16002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510552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ICheckingAccount:IAccou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2971800" y="5502240"/>
          <a:ext cx="4724280" cy="1004760"/>
        </p:xfrm>
        <a:graphic>
          <a:graphicData uri="http://schemas.openxmlformats.org/drawingml/2006/table">
            <a:tbl>
              <a:tblPr/>
              <a:tblGrid>
                <a:gridCol w="838080"/>
                <a:gridCol w="38862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am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posit(amoun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ala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Withdraw(amoun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WithdrawUsingCheck(checkNumber, amoun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148" name=""/>
          <p:cNvCxnSpPr/>
          <p:nvPr/>
        </p:nvCxnSpPr>
        <p:spPr>
          <a:xfrm flipH="1">
            <a:off x="1904400" y="3123720"/>
            <a:ext cx="68796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lg" type="oval" w="lg"/>
          </a:ln>
        </p:spPr>
      </p:cxnSp>
      <p:cxnSp>
        <p:nvCxnSpPr>
          <p:cNvPr id="149" name=""/>
          <p:cNvCxnSpPr/>
          <p:nvPr/>
        </p:nvCxnSpPr>
        <p:spPr>
          <a:xfrm flipH="1">
            <a:off x="1904400" y="4495320"/>
            <a:ext cx="68796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lg" type="oval" w="lg"/>
          </a:ln>
        </p:spPr>
      </p:cxnSp>
      <p:cxnSp>
        <p:nvCxnSpPr>
          <p:cNvPr id="150" name=""/>
          <p:cNvCxnSpPr/>
          <p:nvPr/>
        </p:nvCxnSpPr>
        <p:spPr>
          <a:xfrm flipH="1">
            <a:off x="1904400" y="5866920"/>
            <a:ext cx="68796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lg" type="oval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8T13:16:59Z</dcterms:created>
  <dc:creator>Alexandre Ricardo Nardi</dc:creator>
  <dc:description/>
  <dc:language>en-US</dc:language>
  <cp:lastModifiedBy>Alexandre Ricardo Nardi</cp:lastModifiedBy>
  <dcterms:modified xsi:type="dcterms:W3CDTF">2001-05-25T15:45:00Z</dcterms:modified>
  <cp:revision>66</cp:revision>
  <dc:subject/>
  <dc:title>Arquitetura do COM</dc:title>
</cp:coreProperties>
</file>