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5B9F-5025-4C5B-9344-97E64FAD5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49D86-DAFB-42E6-AACA-1C9644EE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1D8BF-CE75-4387-BE3C-044A0AA81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AB5A8-F9DB-412B-99F8-BBE066459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C025A-3E8E-41D9-B3CA-8EFD18E4B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414BB-B6E8-494B-B72C-17C3281D2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F52B5-1E47-4A08-8D87-D8A3C0CF4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6AFAB-2A9C-454F-ACAA-DBEBD0EEE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C9B70-06B8-4099-91D3-7E63B703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F59AF-BC85-4420-9394-0814ED7D3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F0674-E537-41D9-B973-377C7DF21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4481-52CB-458B-AB6A-BF428BB30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F04AE-46F8-49D5-B9FC-83A1F304C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3FD1A-F395-4D88-ACA8-F90012632F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8D4DAF-D858-4BF6-B614-6BAFED9BA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D9BD8-0EA5-4960-AB2E-A5F102AC2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B538D9-0D58-4FF6-BF7D-719B615DA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37A8-9038-404B-86C2-3A67CEA54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5AEC-A6B0-424C-8D14-070A0030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8CA05-7FF6-4923-B58E-D6CD2D4AD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35CA-8D17-45E6-8D80-FEDBE8B69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65165-D02F-4BF5-8EA1-35300853D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E8324-1ECA-4562-9F29-35EC8653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81562-1944-4CD6-A8A6-EA5B51065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CBFB8-33E8-442B-8A81-EDCB077851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B4AEC-49A8-4ADC-8B8D-AA3BE6211C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2" marL="914400" algn="ctr">
              <a:spcBef>
                <a:spcPts val="601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 Narrow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4" marL="1828800" algn="ctr">
              <a:spcBef>
                <a:spcPts val="499"/>
              </a:spcBef>
              <a:buClr>
                <a:srgbClr val="00ffff"/>
              </a:buClr>
              <a:buFont typeface="Arial Narrow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212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Visão Geral do </a:t>
            </a:r>
            <a:br>
              <a:rPr sz="4400"/>
            </a:b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CORBA Component Model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lexandre Ricardo Nardi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nardi@ime.usp.b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Uma referência a uma instância do componente Foo aparece para os clientes como um objeto CORBA tradicional. Assim, cliente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-una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podem invocar operações através de uma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equivalent interfac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é aquela que identifica unicamente a instância do componente, e que pode herdar de outras interfaces, chamada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upported interfac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Vimos que é difícil estender objetos CORBA apenas por herança. Como alternativa, CCM define o conceito denomina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et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semelhante às interfaces dos componentes COM, permitindo suporte a interfaces não relacionadas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unrelated interfa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. Os clientes podem navegar pelas interfaces de um componente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et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equivalent interfa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por intermédio da interfac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Naviga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definida em CORBA::CCMObject (herdada por todos os componentes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</a:t>
            </a:r>
            <a:br>
              <a:rPr sz="4400"/>
            </a:br>
            <a:r>
              <a:rPr b="0" lang="pt-BR" sz="2800" spc="-1" strike="noStrike">
                <a:solidFill>
                  <a:srgbClr val="ffcc66"/>
                </a:solidFill>
                <a:latin typeface="Arial"/>
              </a:rPr>
              <a:t>Gerenciamento do Ciclo de Vida dos Componentes</a:t>
            </a:r>
            <a:endParaRPr b="0" lang="en-US" sz="28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11430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É importante que o servidor de componentes trate adequadamente os problemas relativos a gerenciamento do ciclo de vida dos componentes, e que os clientes auxiliem os servidores no tratamento relativo às instâncias de componentes que utilize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servidor deve saber quando criar e destruir instâncias no sentido de evita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resource leak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RBA Object Servi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efine 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Lifecycle Servic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não é de uso obrigatório, fazendo com que o desenvolvedor implemente sua própria estratégia de gerenciament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introduz a palavra-chav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interface que pode ser usada pelos clientes para controlar o ciclo do componente, podendo se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keyles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suporte a operaçõe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ou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keyed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. Possui o méto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remove_component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notifica o servidor para tratar da remoção de uma instância conforme sua estratégi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</a:t>
            </a:r>
            <a:br>
              <a:rPr sz="4400"/>
            </a:br>
            <a:r>
              <a:rPr b="0" lang="pt-BR" sz="3600" spc="-1" strike="noStrike">
                <a:solidFill>
                  <a:srgbClr val="ffcc66"/>
                </a:solidFill>
                <a:latin typeface="Arial"/>
              </a:rPr>
              <a:t>Cenários de Uso de Componentes</a:t>
            </a: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cliente deve obter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o componente. Para isso, CCM define a interfac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semelhante a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MG Naming Servic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implementa um serviço de diretório para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hom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. Para obter referência a esta interface utiliza-se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resolve_initial_references(“HomeFinder”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 partir desta referência, utiliza-se um dos métodos da interfac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para se obter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o componente. Por exemplo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20720" indent="-2772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ind_home_by_name(“HomeDoComponenteA”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Uma vez com uma referência à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o componente, o cliente usa operações d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ac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ou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find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conforme apropriado, para obter uma referência ao component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Por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ão mecanismos de interação com entidades externas, como serviços fornecidos pelo ORB, outros componentes ou clientes. Existem os seguintes tipo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Facet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(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unrelated interface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): permitem reutilização através de composição, ao invés de heranç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Receptacle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modo de um componente delegar operações a outros componen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Event sources/sink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para publicação/subscrição a event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Attributes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: facilitam a configuração dos componen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sses mecanismos podem ser utilizados pelo cliente, mas o objetivo principal dos três últimos relaciona-se à configuração dos componentes, sendo utilizados pela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CM deployment framework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Port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609480" y="1447920"/>
            <a:ext cx="3186000" cy="3693960"/>
            <a:chOff x="609480" y="1447920"/>
            <a:chExt cx="3186000" cy="3693960"/>
          </a:xfrm>
        </p:grpSpPr>
        <p:sp>
          <p:nvSpPr>
            <p:cNvPr id="150" name=""/>
            <p:cNvSpPr/>
            <p:nvPr/>
          </p:nvSpPr>
          <p:spPr>
            <a:xfrm>
              <a:off x="1324080" y="2149560"/>
              <a:ext cx="1752480" cy="228600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286000"/>
                <a:gd name="textAreaBottom" fmla="*/ 2200680 h 2286000"/>
              </a:gdLst>
              <a:ahLst/>
              <a:rect l="textAreaLeft" t="textAreaTop" r="textAreaRight" b="textAreaBottom"/>
              <a:pathLst>
                <a:path w="21600" h="28174">
                  <a:moveTo>
                    <a:pt x="3600" y="0"/>
                  </a:moveTo>
                  <a:arcTo wR="3600" hR="3600" stAng="16200000" swAng="-5400000"/>
                  <a:lnTo>
                    <a:pt x="0" y="24574"/>
                  </a:lnTo>
                  <a:arcTo wR="3600" hR="3600" stAng="10800000" swAng="-5400000"/>
                  <a:lnTo>
                    <a:pt x="18000" y="28174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51" name=""/>
            <p:cNvGrpSpPr/>
            <p:nvPr/>
          </p:nvGrpSpPr>
          <p:grpSpPr>
            <a:xfrm>
              <a:off x="609480" y="2301840"/>
              <a:ext cx="717120" cy="488880"/>
              <a:chOff x="609480" y="2301840"/>
              <a:chExt cx="717120" cy="488880"/>
            </a:xfrm>
          </p:grpSpPr>
          <p:sp>
            <p:nvSpPr>
              <p:cNvPr id="152" name=""/>
              <p:cNvSpPr/>
              <p:nvPr/>
            </p:nvSpPr>
            <p:spPr>
              <a:xfrm flipH="1">
                <a:off x="858960" y="26827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609480" y="25621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74000" y="23018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1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361960" y="1447920"/>
              <a:ext cx="228600" cy="706320"/>
              <a:chOff x="2361960" y="1447920"/>
              <a:chExt cx="228600" cy="706320"/>
            </a:xfrm>
          </p:grpSpPr>
          <p:sp>
            <p:nvSpPr>
              <p:cNvPr id="156" name=""/>
              <p:cNvSpPr/>
              <p:nvPr/>
            </p:nvSpPr>
            <p:spPr>
              <a:xfrm flipV="1">
                <a:off x="2469960" y="169704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 rot="5400000">
                <a:off x="2361960" y="14479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609480" y="2759040"/>
              <a:ext cx="717120" cy="488880"/>
              <a:chOff x="609480" y="2759040"/>
              <a:chExt cx="717120" cy="488880"/>
            </a:xfrm>
          </p:grpSpPr>
          <p:sp>
            <p:nvSpPr>
              <p:cNvPr id="159" name=""/>
              <p:cNvSpPr/>
              <p:nvPr/>
            </p:nvSpPr>
            <p:spPr>
              <a:xfrm flipH="1">
                <a:off x="858960" y="31399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609480" y="30193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774000" y="27590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2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2" name=""/>
            <p:cNvGrpSpPr/>
            <p:nvPr/>
          </p:nvGrpSpPr>
          <p:grpSpPr>
            <a:xfrm>
              <a:off x="609480" y="3216240"/>
              <a:ext cx="717120" cy="488880"/>
              <a:chOff x="609480" y="3216240"/>
              <a:chExt cx="717120" cy="488880"/>
            </a:xfrm>
          </p:grpSpPr>
          <p:sp>
            <p:nvSpPr>
              <p:cNvPr id="163" name=""/>
              <p:cNvSpPr/>
              <p:nvPr/>
            </p:nvSpPr>
            <p:spPr>
              <a:xfrm flipH="1">
                <a:off x="858960" y="359712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609480" y="34765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774000" y="32162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3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6" name=""/>
            <p:cNvGrpSpPr/>
            <p:nvPr/>
          </p:nvGrpSpPr>
          <p:grpSpPr>
            <a:xfrm>
              <a:off x="2438280" y="4435560"/>
              <a:ext cx="228600" cy="706320"/>
              <a:chOff x="2438280" y="4435560"/>
              <a:chExt cx="228600" cy="706320"/>
            </a:xfrm>
          </p:grpSpPr>
          <p:sp>
            <p:nvSpPr>
              <p:cNvPr id="167" name=""/>
              <p:cNvSpPr/>
              <p:nvPr/>
            </p:nvSpPr>
            <p:spPr>
              <a:xfrm>
                <a:off x="255888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16200000">
                <a:off x="2438280" y="49132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69" name=""/>
            <p:cNvGrpSpPr/>
            <p:nvPr/>
          </p:nvGrpSpPr>
          <p:grpSpPr>
            <a:xfrm>
              <a:off x="1676520" y="4435560"/>
              <a:ext cx="228600" cy="706320"/>
              <a:chOff x="1676520" y="4435560"/>
              <a:chExt cx="228600" cy="706320"/>
            </a:xfrm>
          </p:grpSpPr>
          <p:sp>
            <p:nvSpPr>
              <p:cNvPr id="170" name=""/>
              <p:cNvSpPr/>
              <p:nvPr/>
            </p:nvSpPr>
            <p:spPr>
              <a:xfrm>
                <a:off x="179712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 rot="16200000">
                <a:off x="1676520" y="491328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2" name=""/>
            <p:cNvGrpSpPr/>
            <p:nvPr/>
          </p:nvGrpSpPr>
          <p:grpSpPr>
            <a:xfrm>
              <a:off x="3089160" y="3825360"/>
              <a:ext cx="706320" cy="228600"/>
              <a:chOff x="3089160" y="3825360"/>
              <a:chExt cx="706320" cy="228600"/>
            </a:xfrm>
          </p:grpSpPr>
          <p:sp>
            <p:nvSpPr>
              <p:cNvPr id="173" name=""/>
              <p:cNvSpPr/>
              <p:nvPr/>
            </p:nvSpPr>
            <p:spPr>
              <a:xfrm>
                <a:off x="3089160" y="39333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10800000">
                <a:off x="3566880" y="38253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3089160" y="3368160"/>
              <a:ext cx="706320" cy="228600"/>
              <a:chOff x="3089160" y="3368160"/>
              <a:chExt cx="706320" cy="228600"/>
            </a:xfrm>
          </p:grpSpPr>
          <p:sp>
            <p:nvSpPr>
              <p:cNvPr id="176" name=""/>
              <p:cNvSpPr/>
              <p:nvPr/>
            </p:nvSpPr>
            <p:spPr>
              <a:xfrm>
                <a:off x="3089160" y="34761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10800000">
                <a:off x="3566880" y="33681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3089160" y="2377800"/>
              <a:ext cx="706320" cy="228600"/>
              <a:chOff x="3089160" y="2377800"/>
              <a:chExt cx="706320" cy="228600"/>
            </a:xfrm>
          </p:grpSpPr>
          <p:sp>
            <p:nvSpPr>
              <p:cNvPr id="179" name=""/>
              <p:cNvSpPr/>
              <p:nvPr/>
            </p:nvSpPr>
            <p:spPr>
              <a:xfrm>
                <a:off x="3089160" y="24858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 rot="10800000">
                <a:off x="3566880" y="23778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81" name=""/>
            <p:cNvSpPr/>
            <p:nvPr/>
          </p:nvSpPr>
          <p:spPr>
            <a:xfrm rot="16200000">
              <a:off x="2588400" y="2457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Attribu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23880" y="214956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omponente 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906200" y="397836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Ev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3760" y="4130640"/>
              <a:ext cx="47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48640" y="413064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 rot="16200000">
              <a:off x="2438280" y="3597840"/>
              <a:ext cx="109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Receptac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rot="5400000">
              <a:off x="1121760" y="300852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Face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88" name=""/>
            <p:cNvGrpSpPr/>
            <p:nvPr/>
          </p:nvGrpSpPr>
          <p:grpSpPr>
            <a:xfrm>
              <a:off x="1800360" y="2911320"/>
              <a:ext cx="838080" cy="914400"/>
              <a:chOff x="1800360" y="2911320"/>
              <a:chExt cx="838080" cy="914400"/>
            </a:xfrm>
          </p:grpSpPr>
          <p:sp>
            <p:nvSpPr>
              <p:cNvPr id="189" name=""/>
              <p:cNvSpPr/>
              <p:nvPr/>
            </p:nvSpPr>
            <p:spPr>
              <a:xfrm>
                <a:off x="1800360" y="2911320"/>
                <a:ext cx="838080" cy="304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1800360" y="3215880"/>
                <a:ext cx="83808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1800360" y="3520800"/>
                <a:ext cx="83808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92" name=""/>
            <p:cNvSpPr/>
            <p:nvPr/>
          </p:nvSpPr>
          <p:spPr>
            <a:xfrm>
              <a:off x="2209680" y="2638440"/>
              <a:ext cx="0" cy="2919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209680" y="2638440"/>
              <a:ext cx="59400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94" name=""/>
          <p:cNvGrpSpPr/>
          <p:nvPr/>
        </p:nvGrpSpPr>
        <p:grpSpPr>
          <a:xfrm>
            <a:off x="5257800" y="1447920"/>
            <a:ext cx="3185640" cy="3693960"/>
            <a:chOff x="5257800" y="1447920"/>
            <a:chExt cx="3185640" cy="3693960"/>
          </a:xfrm>
        </p:grpSpPr>
        <p:sp>
          <p:nvSpPr>
            <p:cNvPr id="195" name=""/>
            <p:cNvSpPr/>
            <p:nvPr/>
          </p:nvSpPr>
          <p:spPr>
            <a:xfrm>
              <a:off x="5972040" y="2149560"/>
              <a:ext cx="1752120" cy="2286000"/>
            </a:xfrm>
            <a:custGeom>
              <a:avLst/>
              <a:gdLst>
                <a:gd name="textAreaLeft" fmla="*/ 85320 w 1752120"/>
                <a:gd name="textAreaRight" fmla="*/ 1666800 w 1752120"/>
                <a:gd name="textAreaTop" fmla="*/ 85320 h 2286000"/>
                <a:gd name="textAreaBottom" fmla="*/ 2200680 h 2286000"/>
              </a:gdLst>
              <a:ahLst/>
              <a:rect l="textAreaLeft" t="textAreaTop" r="textAreaRight" b="textAreaBottom"/>
              <a:pathLst>
                <a:path w="21600" h="28180">
                  <a:moveTo>
                    <a:pt x="3600" y="0"/>
                  </a:moveTo>
                  <a:arcTo wR="3600" hR="3600" stAng="16200000" swAng="-5400000"/>
                  <a:lnTo>
                    <a:pt x="0" y="24580"/>
                  </a:lnTo>
                  <a:arcTo wR="3600" hR="3600" stAng="10800000" swAng="-5400000"/>
                  <a:lnTo>
                    <a:pt x="18000" y="28180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96" name=""/>
            <p:cNvGrpSpPr/>
            <p:nvPr/>
          </p:nvGrpSpPr>
          <p:grpSpPr>
            <a:xfrm>
              <a:off x="5257800" y="2301840"/>
              <a:ext cx="716400" cy="488880"/>
              <a:chOff x="5257800" y="2301840"/>
              <a:chExt cx="716400" cy="488880"/>
            </a:xfrm>
          </p:grpSpPr>
          <p:sp>
            <p:nvSpPr>
              <p:cNvPr id="197" name=""/>
              <p:cNvSpPr/>
              <p:nvPr/>
            </p:nvSpPr>
            <p:spPr>
              <a:xfrm flipH="1">
                <a:off x="5506560" y="268272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5257800" y="25621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5421600" y="23018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4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0" name=""/>
            <p:cNvGrpSpPr/>
            <p:nvPr/>
          </p:nvGrpSpPr>
          <p:grpSpPr>
            <a:xfrm>
              <a:off x="7010280" y="1447920"/>
              <a:ext cx="228240" cy="706320"/>
              <a:chOff x="7010280" y="1447920"/>
              <a:chExt cx="228240" cy="706320"/>
            </a:xfrm>
          </p:grpSpPr>
          <p:sp>
            <p:nvSpPr>
              <p:cNvPr id="201" name=""/>
              <p:cNvSpPr/>
              <p:nvPr/>
            </p:nvSpPr>
            <p:spPr>
              <a:xfrm flipV="1">
                <a:off x="7118280" y="169704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5400000">
                <a:off x="7009920" y="144792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3" name=""/>
            <p:cNvGrpSpPr/>
            <p:nvPr/>
          </p:nvGrpSpPr>
          <p:grpSpPr>
            <a:xfrm>
              <a:off x="5257800" y="2759040"/>
              <a:ext cx="716400" cy="488880"/>
              <a:chOff x="5257800" y="2759040"/>
              <a:chExt cx="716400" cy="488880"/>
            </a:xfrm>
          </p:grpSpPr>
          <p:sp>
            <p:nvSpPr>
              <p:cNvPr id="204" name=""/>
              <p:cNvSpPr/>
              <p:nvPr/>
            </p:nvSpPr>
            <p:spPr>
              <a:xfrm flipH="1">
                <a:off x="5506560" y="313992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5257800" y="30193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5421600" y="27590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5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5257800" y="3216240"/>
              <a:ext cx="716400" cy="488880"/>
              <a:chOff x="5257800" y="3216240"/>
              <a:chExt cx="716400" cy="48888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5506560" y="3597120"/>
                <a:ext cx="45684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5257800" y="3476520"/>
                <a:ext cx="22824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421600" y="3216240"/>
                <a:ext cx="5526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pt-BR" sz="2000" spc="-1" strike="noStrike">
                    <a:solidFill>
                      <a:srgbClr val="ffffff"/>
                    </a:solidFill>
                    <a:latin typeface="Arial Narrow"/>
                  </a:rPr>
                  <a:t>op6</a:t>
                </a:r>
                <a:endParaRPr b="0" lang="en-US" sz="20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086240" y="4435560"/>
              <a:ext cx="228240" cy="706320"/>
              <a:chOff x="7086240" y="4435560"/>
              <a:chExt cx="228240" cy="706320"/>
            </a:xfrm>
          </p:grpSpPr>
          <p:sp>
            <p:nvSpPr>
              <p:cNvPr id="212" name=""/>
              <p:cNvSpPr/>
              <p:nvPr/>
            </p:nvSpPr>
            <p:spPr>
              <a:xfrm>
                <a:off x="720648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rot="16200000">
                <a:off x="7085880" y="491328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6324480" y="4435560"/>
              <a:ext cx="228240" cy="706320"/>
              <a:chOff x="6324480" y="4435560"/>
              <a:chExt cx="228240" cy="706320"/>
            </a:xfrm>
          </p:grpSpPr>
          <p:sp>
            <p:nvSpPr>
              <p:cNvPr id="215" name=""/>
              <p:cNvSpPr/>
              <p:nvPr/>
            </p:nvSpPr>
            <p:spPr>
              <a:xfrm>
                <a:off x="6444720" y="4435560"/>
                <a:ext cx="0" cy="4572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rot="16200000">
                <a:off x="6324120" y="4913280"/>
                <a:ext cx="228600" cy="22824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737120" y="3825360"/>
              <a:ext cx="706320" cy="228600"/>
              <a:chOff x="7737120" y="3825360"/>
              <a:chExt cx="706320" cy="228600"/>
            </a:xfrm>
          </p:grpSpPr>
          <p:sp>
            <p:nvSpPr>
              <p:cNvPr id="218" name=""/>
              <p:cNvSpPr/>
              <p:nvPr/>
            </p:nvSpPr>
            <p:spPr>
              <a:xfrm>
                <a:off x="7737120" y="39333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0800000">
                <a:off x="8214840" y="38253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737120" y="3368160"/>
              <a:ext cx="706320" cy="228600"/>
              <a:chOff x="7737120" y="3368160"/>
              <a:chExt cx="706320" cy="228600"/>
            </a:xfrm>
          </p:grpSpPr>
          <p:sp>
            <p:nvSpPr>
              <p:cNvPr id="221" name=""/>
              <p:cNvSpPr/>
              <p:nvPr/>
            </p:nvSpPr>
            <p:spPr>
              <a:xfrm>
                <a:off x="7737120" y="347616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rot="10800000">
                <a:off x="8214840" y="33681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7737120" y="2377800"/>
              <a:ext cx="706320" cy="228600"/>
              <a:chOff x="7737120" y="2377800"/>
              <a:chExt cx="706320" cy="228600"/>
            </a:xfrm>
          </p:grpSpPr>
          <p:sp>
            <p:nvSpPr>
              <p:cNvPr id="224" name=""/>
              <p:cNvSpPr/>
              <p:nvPr/>
            </p:nvSpPr>
            <p:spPr>
              <a:xfrm>
                <a:off x="7737120" y="2485800"/>
                <a:ext cx="4572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rot="10800000">
                <a:off x="8214840" y="23778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 rot="16200000">
              <a:off x="7236360" y="245736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Attribut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171840" y="2149560"/>
              <a:ext cx="136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600" spc="-1" strike="noStrike">
                  <a:solidFill>
                    <a:srgbClr val="000000"/>
                  </a:solidFill>
                  <a:latin typeface="Arial Narrow"/>
                </a:rPr>
                <a:t>Componente 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554160" y="3978360"/>
              <a:ext cx="691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Even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11360" y="4130640"/>
              <a:ext cx="478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ink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096600" y="413064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source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16200000">
              <a:off x="7086240" y="3597840"/>
              <a:ext cx="1099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Receptacle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5769720" y="3008520"/>
              <a:ext cx="682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600" spc="-1" strike="noStrike">
                  <a:solidFill>
                    <a:srgbClr val="000000"/>
                  </a:solidFill>
                  <a:latin typeface="Arial Narrow"/>
                </a:rPr>
                <a:t>Facets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33" name=""/>
            <p:cNvGrpSpPr/>
            <p:nvPr/>
          </p:nvGrpSpPr>
          <p:grpSpPr>
            <a:xfrm>
              <a:off x="6448320" y="2911320"/>
              <a:ext cx="837720" cy="914400"/>
              <a:chOff x="6448320" y="2911320"/>
              <a:chExt cx="837720" cy="914400"/>
            </a:xfrm>
          </p:grpSpPr>
          <p:sp>
            <p:nvSpPr>
              <p:cNvPr id="234" name=""/>
              <p:cNvSpPr/>
              <p:nvPr/>
            </p:nvSpPr>
            <p:spPr>
              <a:xfrm>
                <a:off x="6448320" y="2911320"/>
                <a:ext cx="837720" cy="30456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6448320" y="3215880"/>
                <a:ext cx="83772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6448320" y="3520800"/>
                <a:ext cx="837720" cy="304920"/>
              </a:xfrm>
              <a:prstGeom prst="rect">
                <a:avLst/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37" name=""/>
            <p:cNvSpPr/>
            <p:nvPr/>
          </p:nvSpPr>
          <p:spPr>
            <a:xfrm>
              <a:off x="6857640" y="2638440"/>
              <a:ext cx="0" cy="29196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857640" y="2638440"/>
              <a:ext cx="593640" cy="0"/>
            </a:xfrm>
            <a:prstGeom prst="line">
              <a:avLst/>
            </a:prstGeom>
            <a:ln cap="rnd" w="936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3835440" y="1544760"/>
            <a:ext cx="3174480" cy="1927440"/>
            <a:chOff x="3835440" y="1544760"/>
            <a:chExt cx="3174480" cy="1927440"/>
          </a:xfrm>
        </p:grpSpPr>
        <p:grpSp>
          <p:nvGrpSpPr>
            <p:cNvPr id="240" name=""/>
            <p:cNvGrpSpPr/>
            <p:nvPr/>
          </p:nvGrpSpPr>
          <p:grpSpPr>
            <a:xfrm>
              <a:off x="3835440" y="1544760"/>
              <a:ext cx="279360" cy="1927440"/>
              <a:chOff x="3835440" y="1544760"/>
              <a:chExt cx="279360" cy="1927440"/>
            </a:xfrm>
          </p:grpSpPr>
          <p:sp>
            <p:nvSpPr>
              <p:cNvPr id="241" name=""/>
              <p:cNvSpPr/>
              <p:nvPr/>
            </p:nvSpPr>
            <p:spPr>
              <a:xfrm>
                <a:off x="3835440" y="3472200"/>
                <a:ext cx="26532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 flipV="1">
                <a:off x="4114800" y="1544760"/>
                <a:ext cx="0" cy="1927440"/>
              </a:xfrm>
              <a:prstGeom prst="line">
                <a:avLst/>
              </a:prstGeom>
              <a:ln w="93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43" name=""/>
            <p:cNvSpPr/>
            <p:nvPr/>
          </p:nvSpPr>
          <p:spPr>
            <a:xfrm flipH="1">
              <a:off x="4114440" y="1547640"/>
              <a:ext cx="28954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3816360" y="3123720"/>
            <a:ext cx="1059480" cy="820800"/>
            <a:chOff x="3816360" y="3123720"/>
            <a:chExt cx="1059480" cy="820800"/>
          </a:xfrm>
        </p:grpSpPr>
        <p:sp>
          <p:nvSpPr>
            <p:cNvPr id="245" name=""/>
            <p:cNvSpPr/>
            <p:nvPr/>
          </p:nvSpPr>
          <p:spPr>
            <a:xfrm>
              <a:off x="3816360" y="3944520"/>
              <a:ext cx="100728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4875840" y="3123720"/>
              <a:ext cx="0" cy="82044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7" name=""/>
          <p:cNvSpPr/>
          <p:nvPr/>
        </p:nvSpPr>
        <p:spPr>
          <a:xfrm flipH="1">
            <a:off x="4876920" y="3124080"/>
            <a:ext cx="3808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3489840" y="4495680"/>
            <a:ext cx="2129760" cy="2062440"/>
            <a:chOff x="3489840" y="4495680"/>
            <a:chExt cx="2129760" cy="2062440"/>
          </a:xfrm>
        </p:grpSpPr>
        <p:sp>
          <p:nvSpPr>
            <p:cNvPr id="249" name=""/>
            <p:cNvSpPr/>
            <p:nvPr/>
          </p:nvSpPr>
          <p:spPr>
            <a:xfrm>
              <a:off x="3505320" y="4495680"/>
              <a:ext cx="2023920" cy="20574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822120" y="4724280"/>
              <a:ext cx="1396080" cy="609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Channel 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822120" y="5410080"/>
              <a:ext cx="1396080" cy="609480"/>
            </a:xfrm>
            <a:prstGeom prst="ellipse">
              <a:avLst/>
            </a:prstGeom>
            <a:solidFill>
              <a:srgbClr val="969696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Even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1800" spc="-1" strike="noStrike">
                  <a:solidFill>
                    <a:srgbClr val="000000"/>
                  </a:solidFill>
                  <a:latin typeface="Arial Narrow"/>
                </a:rPr>
                <a:t>Channel 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489840" y="6159240"/>
              <a:ext cx="212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000000"/>
                  </a:solidFill>
                  <a:latin typeface="Arial Narrow"/>
                </a:rPr>
                <a:t>Notification Servic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53" name=""/>
          <p:cNvSpPr/>
          <p:nvPr/>
        </p:nvSpPr>
        <p:spPr>
          <a:xfrm>
            <a:off x="266688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257800" y="5029200"/>
            <a:ext cx="1143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87400" y="5715000"/>
            <a:ext cx="202248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87400" y="5181480"/>
            <a:ext cx="0" cy="5335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5257800" y="5181480"/>
            <a:ext cx="1957320" cy="533520"/>
            <a:chOff x="5257800" y="5181480"/>
            <a:chExt cx="1957320" cy="533520"/>
          </a:xfrm>
        </p:grpSpPr>
        <p:sp>
          <p:nvSpPr>
            <p:cNvPr id="258" name=""/>
            <p:cNvSpPr/>
            <p:nvPr/>
          </p:nvSpPr>
          <p:spPr>
            <a:xfrm>
              <a:off x="5257800" y="5715000"/>
              <a:ext cx="1957320" cy="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214760" y="5181480"/>
              <a:ext cx="0" cy="533520"/>
            </a:xfrm>
            <a:prstGeom prst="line">
              <a:avLst/>
            </a:prstGeom>
            <a:ln w="93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5547600" y="467208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259960" y="121932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9600" y="3581280"/>
            <a:ext cx="51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us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04600" y="468936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cons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8400" y="5370480"/>
            <a:ext cx="102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cons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059920" y="5375160"/>
            <a:ext cx="83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fffff"/>
                </a:solidFill>
                <a:latin typeface="Arial Narrow"/>
              </a:rPr>
              <a:t>public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Component Implementation Framework (CIF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0" y="17524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define grande número de interfaces (por exemplo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Naviga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para suportar a estrutura e funcionalidade dos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As implementações de muitas dessas interfaces podem ser geradas automaticamente: esse é o objetivo d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RBA Component Implementation Framework (CIF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define uma linguagem declarativa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Implementation Definition Language (CIDL)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para descrever implementações e persistência de estado de componentes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om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IF usa a CIDL para gerar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skeleton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que automatizam tarefas básicas, como navegação, ativação e gerenciamento de est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3200" spc="-1" strike="noStrike">
                <a:solidFill>
                  <a:srgbClr val="ffcc66"/>
                </a:solidFill>
                <a:latin typeface="Arial"/>
              </a:rPr>
              <a:t>Component Implementation Framework (CIF)</a:t>
            </a:r>
            <a:endParaRPr b="0" lang="en-US" sz="32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04920" y="13716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Arquivos CI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7391520" y="27432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tub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137160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Repositor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13716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Arquivos ID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7080" y="152388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ID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791680" y="1371600"/>
            <a:ext cx="1189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ID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(component-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aware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638680" y="274320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erv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kelet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133720" y="274320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kelet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0880" y="274320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Description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85800" y="419112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Implementat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ource 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038480" y="563868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mpon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(DLL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91320" y="5638680"/>
            <a:ext cx="144756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Progra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7467480" y="4191120"/>
            <a:ext cx="1447920" cy="91440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li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Sour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 Narrow"/>
              </a:rPr>
              <a:t>Co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4192200" y="434340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5792400" y="4343400"/>
            <a:ext cx="1105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ompilado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ffff"/>
                </a:solidFill>
                <a:latin typeface="Arial Narrow"/>
              </a:rPr>
              <a:t>C++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828800" y="1752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 flipH="1">
            <a:off x="3276000" y="1752480"/>
            <a:ext cx="533160" cy="152640"/>
          </a:xfrm>
          <a:prstGeom prst="rightArrow">
            <a:avLst>
              <a:gd name="adj1" fmla="val 50000"/>
              <a:gd name="adj2" fmla="val 87323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6781680" y="1752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5410080" y="1752480"/>
            <a:ext cx="533520" cy="152640"/>
          </a:xfrm>
          <a:prstGeom prst="rightArrow">
            <a:avLst>
              <a:gd name="adj1" fmla="val 50000"/>
              <a:gd name="adj2" fmla="val 87382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>
            <a:off x="6858000" y="4572000"/>
            <a:ext cx="533520" cy="152280"/>
          </a:xfrm>
          <a:prstGeom prst="rightArrow">
            <a:avLst>
              <a:gd name="adj1" fmla="val 50000"/>
              <a:gd name="adj2" fmla="val 8758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209680" y="4572000"/>
            <a:ext cx="1905120" cy="152280"/>
          </a:xfrm>
          <a:prstGeom prst="rightArrow">
            <a:avLst>
              <a:gd name="adj1" fmla="val 50000"/>
              <a:gd name="adj2" fmla="val 312766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2743200" y="2057400"/>
            <a:ext cx="152280" cy="609480"/>
          </a:xfrm>
          <a:prstGeom prst="downArrow">
            <a:avLst>
              <a:gd name="adj1" fmla="val 50000"/>
              <a:gd name="adj2" fmla="val 100059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324480" y="2438280"/>
            <a:ext cx="152640" cy="228600"/>
          </a:xfrm>
          <a:prstGeom prst="downArrow">
            <a:avLst>
              <a:gd name="adj1" fmla="val 50000"/>
              <a:gd name="adj2" fmla="val 37441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 rot="3111600">
            <a:off x="2089080" y="192240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 rot="4021800">
            <a:off x="5545080" y="3341520"/>
            <a:ext cx="152280" cy="1447920"/>
          </a:xfrm>
          <a:prstGeom prst="downArrow">
            <a:avLst>
              <a:gd name="adj1" fmla="val 50000"/>
              <a:gd name="adj2" fmla="val 23770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rot="4021800">
            <a:off x="7277040" y="3314520"/>
            <a:ext cx="152280" cy="1447920"/>
          </a:xfrm>
          <a:prstGeom prst="downArrow">
            <a:avLst>
              <a:gd name="adj1" fmla="val 50000"/>
              <a:gd name="adj2" fmla="val 237707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 flipH="1" rot="17578200">
            <a:off x="3694680" y="3314880"/>
            <a:ext cx="152280" cy="1447560"/>
          </a:xfrm>
          <a:prstGeom prst="downArrow">
            <a:avLst>
              <a:gd name="adj1" fmla="val 50000"/>
              <a:gd name="adj2" fmla="val 23764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 flipH="1" rot="18488400">
            <a:off x="7162920" y="1980720"/>
            <a:ext cx="152280" cy="914400"/>
          </a:xfrm>
          <a:prstGeom prst="downArrow">
            <a:avLst>
              <a:gd name="adj1" fmla="val 50000"/>
              <a:gd name="adj2" fmla="val 15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648320" y="49528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248520" y="4952880"/>
            <a:ext cx="152280" cy="609840"/>
          </a:xfrm>
          <a:prstGeom prst="downArrow">
            <a:avLst>
              <a:gd name="adj1" fmla="val 50000"/>
              <a:gd name="adj2" fmla="val 100118"/>
            </a:avLst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ontain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o vimos, componentes são empacotados em DLLs e executados em servidores de componentes. As implementações dos componentes dependem do POA para encaminhar requisições de clientes para os serv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s componentes não precisam saber como tratar problemas como a  criação de  hierarquia de POAs e localizar serviços do CCM. Para isso foram definidos os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ntaine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com as seguintes funcionalidad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Ativação/desativação de implementações de componentes, preservando recursos (como memória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ornecimento de camada de adaptação com os serviços de transação, persistência, segurança e notificaçã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ornecimento de camada de adaptação para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callback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Gerenciamento de políticas do PO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ontainer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91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gerenciamento do tempo de vida dos serventes é feito através de políticas que controlam o momento de ativação/desativação dos componentes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Method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ativação/desativação a cada chamada de método, limitando o uso de memória ao tempo de duração da operação, mas acrescentando o custo de ativação e desativação do compon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Transaction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ativação/desativação a cada transação. Memória permanece alocada durante a transaçã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mponent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o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ainer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ativa o componente quando for feita a primeira chamada a alguma de suas operações, e desativa quando explicitamente requisitado pela aplicação, desalocando a memória utilizada pelo compon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ainer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: o componente será ativado quando for feita a primeira chamada a alguma de suas operações e, ao final da execução da mesma, será desativado. Entretanto, a memória permanecerá alocada até que o </a:t>
            </a:r>
            <a:r>
              <a:rPr b="1" i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container</a:t>
            </a:r>
            <a:r>
              <a:rPr b="1" lang="en-US" sz="2000" spc="-1" strike="noStrike">
                <a:solidFill>
                  <a:srgbClr val="ffffff"/>
                </a:solidFill>
                <a:latin typeface="Arial Narrow"/>
                <a:ea typeface="Times New Roman"/>
              </a:rPr>
              <a:t> decida desalocá-l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Component Categories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Estende o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ORBA Usage Model,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que classifica o padrão de interação entre o container, o POA e os serviços de CORBA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São especificadas em arquivo CIDL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  <p:graphicFrame>
        <p:nvGraphicFramePr>
          <p:cNvPr id="305" name=""/>
          <p:cNvGraphicFramePr/>
          <p:nvPr/>
        </p:nvGraphicFramePr>
        <p:xfrm>
          <a:off x="231840" y="3314880"/>
          <a:ext cx="8758080" cy="3367080"/>
        </p:xfrm>
        <a:graphic>
          <a:graphicData uri="http://schemas.openxmlformats.org/drawingml/2006/table">
            <a:tbl>
              <a:tblPr/>
              <a:tblGrid>
                <a:gridCol w="1720800"/>
                <a:gridCol w="1747800"/>
                <a:gridCol w="1425600"/>
                <a:gridCol w="1263600"/>
                <a:gridCol w="26002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ategoria do Component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RBA Usag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ipo de API do Contain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Keyed Hom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nterfa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xempl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rvice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tatel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Wrappers</a:t>
                      </a: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 para aplic. procedurais de legad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onvers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ess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Iteradore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roc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urá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Nã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ras de negócio. Ex.: carrinho de comp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43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Duráve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t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Si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Peças num inventário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bjetiv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Apresentar os problemas existentes atualmente em CORBA que o CCM pretende resolver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Familiarizar o participante com os termos usados pelo CC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Mostrar a estrutura geral do CCM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Desenvolvedor</a:t>
            </a:r>
            <a:br>
              <a:rPr sz="4400"/>
            </a:br>
            <a:r>
              <a:rPr b="0" lang="pt-BR" sz="4000" spc="-1" strike="noStrike">
                <a:solidFill>
                  <a:srgbClr val="ffcc66"/>
                </a:solidFill>
                <a:latin typeface="Arial"/>
              </a:rPr>
              <a:t>Empacotamento e Distribuição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0" y="198108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m sistemas distribuídos, componentes podem ser implantados em diversos servidores e sistemas operacionais. Além disso, um componente pode depender de outros componentes, tornando o processo de empacotamento e distribuição bem complic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descreve componentes e suas dependências usand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Open Software Description (OSD)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é um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XML Document Type Defini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(DTD)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definido pelo consórcio WWW. Componentes são empacotados em DLLs.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ackage descripto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são documentos XML em conformidade com o OSD DTD, descrevendo o conteúdo da DLL e suas dependência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OSD também defin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assembly descriptor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descrevem instruções de implantação e topologia dos componentes, e objetiva o suporte à implantação automátic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RB Exten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14479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Simplificam a implementação da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CCM framework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focando também em melhorias de performanc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Locality-constrained interfaces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: permite comunicação local entre componente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ntainer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melhorando a performanc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xtensões a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Interface Repository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IR): o modelo do CCM utiliza largamente a navegação através das interfaces dos componentes, o que já era possível utilizando o IR, mas ganhou em desempenho ao se utilizar CCMObject, uma vez que a chamada de operações é feita de modo “co-locado”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xtensões à IDL, com construções para importação de declarações de tipos definidos em arquivos separados, e mecanismos para controlar identificadores no I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18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Outras Tecnolog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Enterprise Java Bean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 (EJB): a especificação do CCM foi modelada em muitos pontos baseada na do EJB. Entretanto, CCM utiliza CORBA como arquitetura para interoperabilidade, não estando associada a uma linguagem em particular. CCM também define mapeamento entre os dois padrõe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Microsoft .NET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: possui vários pontos em comum com o CCM sendo, entretanto, limitada às plataformas Microsoft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eferência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Object Management Group. 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Don Box. Essential COM (Addison-Wesley, 1998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M. Henning, S. Vinoski. Advanced CORBA Programming with C++ (Addison-Wesley, 1999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fffff"/>
                </a:solidFill>
                <a:latin typeface="Arial Narrow"/>
              </a:rPr>
              <a:t>E. Gamma et al. Design Patterns: Elements of Reusable Object-Oriented Software (Addison-Wesley, 1994)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Narrow"/>
              </a:rPr>
              <a:t>http://ditec.um.es/~dsevilla/ccm/</a:t>
            </a:r>
            <a:endParaRPr b="1" lang="en-US" sz="32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Introdução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presentação do CC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Ponto de vista do cliente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Equivalent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Supported interfac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Port mechanisms: Facets (provided interfaces)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Gerenciamento do ciclo-de-vida dos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1143000" indent="-228600"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Home interfac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enários de uso de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Roteir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Ponto de vista do desenvolvedor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2" marL="788400" indent="-15768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Port mechanisms: Receptacles, Event sources/sinks, Attribute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Hom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nfiguração de Component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Implementation Framework (CIF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ntainer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mponent Categories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Packaging and Deploymen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ORB Extension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Outras Tecnologia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nterprise Java Beans (EJB)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512640" indent="-196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Microsoft .NET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Referências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-17640" y="152712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CORBA tem sido utilizado por um número crescente de aplicações distribuídas, como pode ser visto em “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success stories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” em </a:t>
            </a:r>
            <a:r>
              <a:rPr b="1" i="1" lang="pt-BR" sz="2800" spc="-1" strike="noStrike">
                <a:solidFill>
                  <a:srgbClr val="ffffff"/>
                </a:solidFill>
                <a:latin typeface="Arial Narrow"/>
              </a:rPr>
              <a:t>http://www.omg.org</a:t>
            </a: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, devido a características  com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Independência de linguagem, sistema operacional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hardware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localização relativa entre cliente e servido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rviços com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naming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trading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e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event notification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, que fornecem reusabilidade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Serviços essenciais como o de transações e seguranç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Entretanto, a especificação de CORBA 2.3 não atende bem a pontos tais como: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padrão para implantação (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deployment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) de objet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suporte para o uso de subconjuntos de funcionalidades “comuns”. Por exemplo, um grande número de aplicações utiliza apenas um subconjunto das possíveis configurações do POA e, apesar disso, o desenvolvedor deve conhecer muitas políticas do POA para conseguir o efeito desejado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Dificuldade para estender funcionalidades de objetos CORBA, possível apenas através de herança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definição de serviços obrigatórios: a aplicação deve possuir código que trate a indisponibilidade de serviços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lvl="1" marL="631440" indent="-24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Falta de padrão para gerenciamento de ciclo-de-vida de objetos: apesar da existência do “</a:t>
            </a:r>
            <a:r>
              <a:rPr b="1" i="1" lang="pt-BR" sz="2000" spc="-1" strike="noStrike">
                <a:solidFill>
                  <a:srgbClr val="ffffff"/>
                </a:solidFill>
                <a:latin typeface="Arial Narrow"/>
              </a:rPr>
              <a:t>Lifecycle Service</a:t>
            </a: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”, seu uso não é obrigatório, o que dificulta o trabalho no cliente</a:t>
            </a:r>
            <a:endParaRPr b="1" lang="en-US" sz="2000" spc="-1" strike="noStrike">
              <a:solidFill>
                <a:srgbClr val="ffffff"/>
              </a:solidFill>
              <a:latin typeface="Arial Narrow"/>
            </a:endParaRPr>
          </a:p>
          <a:p>
            <a:pPr marL="291600" indent="-29160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Problemas como esses levam à produção de aplicações com objetos fortemente acoplados (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tightly coupled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) difíceis de modelar, reutilizar, implantar, manter e estende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Introdução (cont.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om o objetivo de solucionar esses problemas, a OMG adotou o </a:t>
            </a:r>
            <a:r>
              <a:rPr b="1" i="1" lang="pt-BR" sz="2400" spc="-1" strike="noStrike">
                <a:solidFill>
                  <a:srgbClr val="ffffff"/>
                </a:solidFill>
                <a:latin typeface="Arial Narrow"/>
              </a:rPr>
              <a:t>CORBA Component Model</a:t>
            </a: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 (CCM) como parte da especificação de CORBA 3.0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estende o modelo de objetos de CORBA, definindo funcionalidades e serviços que permitem que o desenvolvedor implemente, gerencie, configure e implante componentes que integrem os serviços de CORBA, como segurança, transações, persistência e eventos, em um ambiente padronizado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CCM permite maior reutilização de servidores e mais flexibilidade para configuração dinâmica de aplicações CORBA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Nesta apresentação, veremos as principais funcionalidades e serviços definidos pelo CC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Apresentação do CCM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610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Uma das principais contribuições do CCM é a padronização do processo de desenvolvimento, que pode ser resumido como: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desenvolvedor de componentes define, em IDL, as interfaces que as implementações dos componentes irão suportar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desenvolvedor implementa os componentes utilizando ferramentas disponibilizadas pelo fornecedor do CC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componente é empacotado em uma DLL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9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ffffff"/>
                </a:solidFill>
                <a:latin typeface="Arial Narrow"/>
              </a:rPr>
              <a:t>O componente é implantado por mecanismo desenvolvido pelo fornecedor do CCM</a:t>
            </a:r>
            <a:endParaRPr b="1" lang="en-US" sz="2400" spc="-1" strike="noStrike">
              <a:solidFill>
                <a:srgbClr val="ffffff"/>
              </a:solidFill>
              <a:latin typeface="Arial Narrow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ffff99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ffffff"/>
                </a:solidFill>
                <a:latin typeface="Arial Narrow"/>
              </a:rPr>
              <a:t>A seguir apresentaremos os componentes do CCM sob as ópticas do cliente e do desenvolvedor, e as extensões dos ORB´s necessárias para suporte ao CCM</a:t>
            </a:r>
            <a:endParaRPr b="1" lang="en-US" sz="28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0000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ffcc66"/>
                </a:solidFill>
                <a:latin typeface="Arial"/>
              </a:rPr>
              <a:t>Ponto de Vista do Client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59120" y="990720"/>
            <a:ext cx="7357320" cy="22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                                                            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ID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interface A, B;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component Foo supports A, B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definição de </a:t>
            </a:r>
            <a:r>
              <a:rPr b="1" i="1" lang="pt-BR" sz="2000" spc="-1" strike="noStrike">
                <a:solidFill>
                  <a:srgbClr val="0000ff"/>
                </a:solidFill>
                <a:latin typeface="Arial Narrow"/>
              </a:rPr>
              <a:t>equivalent interfac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{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e </a:t>
            </a:r>
            <a:r>
              <a:rPr b="1" i="1" lang="pt-BR" sz="2000" spc="-1" strike="noStrike">
                <a:solidFill>
                  <a:srgbClr val="0000ff"/>
                </a:solidFill>
                <a:latin typeface="Arial Narrow"/>
              </a:rPr>
              <a:t>supported interfac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provides W, X, Y, Z;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</a:t>
            </a:r>
            <a:r>
              <a:rPr b="1" i="1" lang="pt-BR" sz="2000" spc="-1" strike="noStrike">
                <a:solidFill>
                  <a:srgbClr val="0000ff"/>
                </a:solidFill>
                <a:latin typeface="Arial Narrow"/>
              </a:rPr>
              <a:t>Facets (provided interface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. . .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	</a:t>
            </a: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// outras definições do compon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ff"/>
                </a:solidFill>
                <a:latin typeface="Arial Narrow"/>
              </a:rPr>
              <a:t>};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429000" y="4114800"/>
            <a:ext cx="2133720" cy="2602080"/>
          </a:xfrm>
          <a:prstGeom prst="rect">
            <a:avLst/>
          </a:prstGeom>
          <a:solidFill>
            <a:srgbClr val="b2b2b2"/>
          </a:solidFill>
          <a:ln w="9360">
            <a:solidFill>
              <a:srgbClr val="ffffff"/>
            </a:solidFill>
            <a:miter/>
          </a:ln>
          <a:effectLst>
            <a:outerShdw dist="71785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29000" y="41911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Component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 Narrow"/>
              </a:rPr>
              <a:t>Fo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666880" y="4876920"/>
            <a:ext cx="2306520" cy="533160"/>
            <a:chOff x="2666880" y="4876920"/>
            <a:chExt cx="2306520" cy="533160"/>
          </a:xfrm>
        </p:grpSpPr>
        <p:grpSp>
          <p:nvGrpSpPr>
            <p:cNvPr id="109" name=""/>
            <p:cNvGrpSpPr/>
            <p:nvPr/>
          </p:nvGrpSpPr>
          <p:grpSpPr>
            <a:xfrm>
              <a:off x="2666880" y="5105520"/>
              <a:ext cx="2306520" cy="304560"/>
              <a:chOff x="2666880" y="5105520"/>
              <a:chExt cx="2306520" cy="304560"/>
            </a:xfrm>
          </p:grpSpPr>
          <p:sp>
            <p:nvSpPr>
              <p:cNvPr id="110" name=""/>
              <p:cNvSpPr/>
              <p:nvPr/>
            </p:nvSpPr>
            <p:spPr>
              <a:xfrm>
                <a:off x="3830400" y="510552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2916000" y="525780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2666880" y="513720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2917800" y="4876920"/>
              <a:ext cx="37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W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2666880" y="5283360"/>
            <a:ext cx="2306520" cy="533160"/>
            <a:chOff x="2666880" y="5283360"/>
            <a:chExt cx="2306520" cy="533160"/>
          </a:xfrm>
        </p:grpSpPr>
        <p:grpSp>
          <p:nvGrpSpPr>
            <p:cNvPr id="115" name=""/>
            <p:cNvGrpSpPr/>
            <p:nvPr/>
          </p:nvGrpSpPr>
          <p:grpSpPr>
            <a:xfrm>
              <a:off x="2666880" y="5511960"/>
              <a:ext cx="2306520" cy="304560"/>
              <a:chOff x="2666880" y="5511960"/>
              <a:chExt cx="2306520" cy="304560"/>
            </a:xfrm>
          </p:grpSpPr>
          <p:sp>
            <p:nvSpPr>
              <p:cNvPr id="116" name=""/>
              <p:cNvSpPr/>
              <p:nvPr/>
            </p:nvSpPr>
            <p:spPr>
              <a:xfrm>
                <a:off x="3830400" y="551196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>
                <a:off x="2916000" y="566424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2666880" y="554364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2946600" y="5283360"/>
              <a:ext cx="3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2666880" y="5689440"/>
            <a:ext cx="2306520" cy="533160"/>
            <a:chOff x="2666880" y="5689440"/>
            <a:chExt cx="2306520" cy="533160"/>
          </a:xfrm>
        </p:grpSpPr>
        <p:grpSp>
          <p:nvGrpSpPr>
            <p:cNvPr id="121" name=""/>
            <p:cNvGrpSpPr/>
            <p:nvPr/>
          </p:nvGrpSpPr>
          <p:grpSpPr>
            <a:xfrm>
              <a:off x="2666880" y="5918040"/>
              <a:ext cx="2306520" cy="304560"/>
              <a:chOff x="2666880" y="5918040"/>
              <a:chExt cx="2306520" cy="304560"/>
            </a:xfrm>
          </p:grpSpPr>
          <p:sp>
            <p:nvSpPr>
              <p:cNvPr id="122" name=""/>
              <p:cNvSpPr/>
              <p:nvPr/>
            </p:nvSpPr>
            <p:spPr>
              <a:xfrm>
                <a:off x="3830400" y="591804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2916000" y="607032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666880" y="594972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25" name=""/>
            <p:cNvSpPr/>
            <p:nvPr/>
          </p:nvSpPr>
          <p:spPr>
            <a:xfrm>
              <a:off x="2946600" y="5689440"/>
              <a:ext cx="3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2666880" y="6095880"/>
            <a:ext cx="2306520" cy="533160"/>
            <a:chOff x="2666880" y="6095880"/>
            <a:chExt cx="2306520" cy="533160"/>
          </a:xfrm>
        </p:grpSpPr>
        <p:grpSp>
          <p:nvGrpSpPr>
            <p:cNvPr id="127" name=""/>
            <p:cNvGrpSpPr/>
            <p:nvPr/>
          </p:nvGrpSpPr>
          <p:grpSpPr>
            <a:xfrm>
              <a:off x="2666880" y="6324480"/>
              <a:ext cx="2306520" cy="304560"/>
              <a:chOff x="2666880" y="6324480"/>
              <a:chExt cx="2306520" cy="304560"/>
            </a:xfrm>
          </p:grpSpPr>
          <p:sp>
            <p:nvSpPr>
              <p:cNvPr id="128" name=""/>
              <p:cNvSpPr/>
              <p:nvPr/>
            </p:nvSpPr>
            <p:spPr>
              <a:xfrm>
                <a:off x="3830400" y="6324480"/>
                <a:ext cx="1143000" cy="304560"/>
              </a:xfrm>
              <a:prstGeom prst="roundRect">
                <a:avLst>
                  <a:gd name="adj" fmla="val 16667"/>
                </a:avLst>
              </a:prstGeom>
              <a:solidFill>
                <a:srgbClr val="969696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flipH="1">
                <a:off x="2916000" y="6476760"/>
                <a:ext cx="914400" cy="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2666880" y="6356160"/>
                <a:ext cx="228600" cy="22860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/>
            <p:cNvSpPr/>
            <p:nvPr/>
          </p:nvSpPr>
          <p:spPr>
            <a:xfrm>
              <a:off x="2952000" y="609588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000" spc="-1" strike="noStrike">
                  <a:solidFill>
                    <a:srgbClr val="ffffff"/>
                  </a:solidFill>
                  <a:latin typeface="Arial Narrow"/>
                </a:rPr>
                <a:t>Z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800600" y="3499560"/>
            <a:ext cx="228600" cy="611640"/>
            <a:chOff x="4800600" y="3499560"/>
            <a:chExt cx="228600" cy="611640"/>
          </a:xfrm>
        </p:grpSpPr>
        <p:sp>
          <p:nvSpPr>
            <p:cNvPr id="133" name=""/>
            <p:cNvSpPr/>
            <p:nvPr/>
          </p:nvSpPr>
          <p:spPr>
            <a:xfrm flipV="1">
              <a:off x="4918320" y="3745800"/>
              <a:ext cx="0" cy="3654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flipV="1" rot="5400000">
              <a:off x="4800600" y="3499200"/>
              <a:ext cx="228600" cy="2286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5" name=""/>
          <p:cNvSpPr/>
          <p:nvPr/>
        </p:nvSpPr>
        <p:spPr>
          <a:xfrm>
            <a:off x="2521440" y="3200400"/>
            <a:ext cx="2174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Equivalent interfac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(suporta as interface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A e B por herança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8360" y="5410080"/>
            <a:ext cx="1125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Facet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(provide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ffff"/>
                </a:solidFill>
                <a:latin typeface="Arial Narrow"/>
              </a:rPr>
              <a:t>interfaces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105520" y="5257800"/>
            <a:ext cx="152280" cy="1206360"/>
          </a:xfrm>
          <a:custGeom>
            <a:avLst/>
            <a:gdLst>
              <a:gd name="textAreaLeft" fmla="*/ 0 w 152280"/>
              <a:gd name="textAreaRight" fmla="*/ 55080 w 152280"/>
              <a:gd name="textAreaTop" fmla="*/ 31320 h 1206360"/>
              <a:gd name="textAreaBottom" fmla="*/ 1175040 h 120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5867280"/>
            <a:ext cx="566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79320" y="5649840"/>
            <a:ext cx="187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ffffff"/>
                </a:solidFill>
                <a:latin typeface="Arial Narrow"/>
              </a:rPr>
              <a:t>Implementaçõe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8T13:16:59Z</dcterms:created>
  <dc:creator>Alexandre Ricardo Nardi</dc:creator>
  <dc:description/>
  <dc:language>en-US</dc:language>
  <cp:lastModifiedBy>Alexandre Ricardo Nardi</cp:lastModifiedBy>
  <dcterms:modified xsi:type="dcterms:W3CDTF">2001-09-11T12:24:00Z</dcterms:modified>
  <cp:revision>143</cp:revision>
  <dc:subject/>
  <dc:title>Arquitetura do COM</dc:title>
</cp:coreProperties>
</file>