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2222-1EC7-420A-A2BD-680A17E6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7D9A-AA7F-4E19-9345-9A5C9646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8C0F-5CCC-41D9-A0DF-A4690F27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958-47CB-4466-9800-A40DC169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0E0F-64DB-4593-A7CB-E25CDB25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165E-3535-4CE9-942B-101D110F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6EF3-EE63-43AF-B8FE-99117857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301B-9F84-425C-9D2E-3EF93970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3FEA-19FA-4DD3-8392-D40AC9B6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16A1-B06E-4932-9579-384B2BE7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BDFB-D88E-4C85-97AF-707E47D1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3C61-FE6C-4906-ACE2-54CCBDBE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DB2D-DC10-4590-9DF3-DB9A46FC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7237-51B5-40D6-A049-6BC24E55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EF7B-2FE2-4BE9-B42D-B875DA3A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73B9-773D-4C68-BA30-849E9E17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EDE6-D3B9-42FF-8167-8A427793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57FA-1F14-4109-8B75-7AC24E6D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94AF-17BC-4D1D-802B-0AF950B0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F59D-BB7A-4F5D-A8B9-CD321C80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0A43-0311-49AF-A056-92D2F2A7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7BA1-03EC-433A-B2E8-0E3002D6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4565-0EB3-4C40-B23D-6AC75BC3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18CA-AC16-48BE-B45A-36705623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5D90-6E62-4FBA-AC9B-8145DE4D60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A2C7-6F09-428A-B829-449E9DD93A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Rounded MT Bold"/>
              </a:rPr>
              <a:t>Otimizações de um Protocolo para Multicast Atômico em Computação Mó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74320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Candidato</a:t>
            </a:r>
            <a:r>
              <a:rPr b="1" lang="pt-BR" sz="24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Mateus de Freitas Ribe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Orientador</a:t>
            </a:r>
            <a:r>
              <a:rPr b="1" lang="pt-BR" sz="24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Prof. Markus E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Co-orientador</a:t>
            </a:r>
            <a:r>
              <a:rPr b="1" lang="pt-BR" sz="24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Prof. Fábio K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São Paulo, 01 de junho de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imitações do A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120600" y="1747080"/>
            <a:ext cx="807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Não é escalável em relação ao nº de Mss’s no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Número grande de trocas de mensag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9600" y="297072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9040" y="464724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9040" y="373284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9040" y="556164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s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32004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396252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487692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579132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32004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8000" y="33523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3962520"/>
            <a:ext cx="3808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96252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32920" y="41144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57400" y="480060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57400" y="571500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9120" y="542412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46320" y="44949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743200" y="3962520"/>
            <a:ext cx="1522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05120" y="4907160"/>
            <a:ext cx="90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Ok/N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743200" y="396252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19320" y="58672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62200" y="579096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as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3962520"/>
            <a:ext cx="3049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3962520"/>
            <a:ext cx="381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69520" y="426672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63360" y="450972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480060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571500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7040" y="542412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267080" y="3962520"/>
            <a:ext cx="2286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86520" y="511920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Ack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267080" y="3962520"/>
            <a:ext cx="381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8120" y="58672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38720" y="579096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as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29200" y="3962520"/>
            <a:ext cx="3808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396252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77880" y="412884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86640" y="586692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as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5867280"/>
            <a:ext cx="601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77360" y="624816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Diagrama Espaço-T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E3FB-B9D8-494E-94E4-21CC172BA5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 A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/h: Apresentaçã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1557360"/>
            <a:ext cx="8686800" cy="63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1) Valem as mesmas suposições do A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+ o número de Mss é muito gra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2) Elementos Envolvi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obile Hosts (Mh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obile Suport Stations (Mss’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Intermediate Multicast Servers (IM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3) Mensagens Envolvid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cast(</a:t>
            </a: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dest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): requisição de multic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New: nova msg retransmitida  por um IMS ou M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Reply: resposta de um Mh (pode ser oK/ NoK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ReplySet(</a:t>
            </a: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): resposta de um Mss para o Ms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 Rounded MT Bold"/>
              </a:rPr>
              <a:t>init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4729-5CE1-439D-A913-69D4460BBE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O AM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C/h: Apresentação (Cont.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1071360"/>
            <a:ext cx="8915400" cy="58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Status: msg de status de um multic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Ack: confirmação de um Mh de recebimento de uma ms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AckSet(</a:t>
            </a: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): confirmação enviada por um Mss para Ms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 Rounded MT Bold"/>
              </a:rPr>
              <a:t>init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Del: remoção de uma mensag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Greet: enviada de um Mh para um Mss sempre que estiver entrando em nova célula (ou retornando de inatividad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DeReg: solicitação de desvinculação de um M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DeRegAck: confirmação de desvinculação de um M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ff"/>
                </a:solidFill>
                <a:latin typeface="Arial Rounded MT Bold"/>
              </a:rPr>
              <a:t>LocationUpdate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: msg de atualização de localização do M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809880"/>
            <a:ext cx="8455320" cy="2590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1840" y="63428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3300"/>
                </a:solidFill>
                <a:latin typeface="Arial Rounded MT Bold"/>
              </a:rPr>
              <a:t>Hand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09E4-9A6E-46ED-BE0B-C9B4643DD8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O AM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C/h: Apresentação (Cont.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"/>
          <p:cNvSpPr/>
          <p:nvPr/>
        </p:nvSpPr>
        <p:spPr>
          <a:xfrm>
            <a:off x="187560" y="167544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4) Troca de Mensage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914400" y="2362320"/>
          <a:ext cx="7066080" cy="56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06608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1371600" y="40384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29718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5105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6248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0C61-5E00-4C70-8CAC-784EF951D4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O AM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C/h: Apresentação (Cont.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1538640"/>
            <a:ext cx="891540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5) Principais benefíci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Escalabilidade em relação ao número de Mss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Menor número de msgs trocadas na rede fix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Multicasts pendentes ficam armazenados em um número  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enor de nós </a:t>
            </a:r>
            <a:r>
              <a:rPr b="0" lang="pt-BR" sz="24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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Mss só precisam guardar o MsgID dos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ulticasts já entreg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F486-EAAA-4A6E-846F-B505FDF5F4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racterísticas do A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/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1585800"/>
            <a:ext cx="8915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IMSs são elementos intermediários: Mss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IMS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M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Apenas os IMSs são repositórios de mensag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Os IMSs são responsáveis por difundir New para os M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Em vez de difundir New para todos os Mss’s, envia somente para os Mss’s t.q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Mh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(M.Dest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Mss.LocalMh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IMS" descr=""/>
          <p:cNvPicPr/>
          <p:nvPr/>
        </p:nvPicPr>
        <p:blipFill>
          <a:blip r:embed="rId1"/>
          <a:stretch/>
        </p:blipFill>
        <p:spPr>
          <a:xfrm>
            <a:off x="457200" y="4111560"/>
            <a:ext cx="7924680" cy="27464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 flipV="1">
            <a:off x="1066680" y="6095520"/>
            <a:ext cx="3812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624744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M (4,7,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523880" y="4495320"/>
            <a:ext cx="2514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80840" y="46479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448080" y="4633920"/>
            <a:ext cx="914400" cy="130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47480" y="51811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62480" y="4633920"/>
            <a:ext cx="990720" cy="130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39F-C630-4868-9F1F-04712E2803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Características do AM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C/h (Cont.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1611000"/>
            <a:ext cx="8915400" cy="33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Necessidade de haver mapeamento Mh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Mss nos IM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apeamento é atualizado sempre que um hand-off é completado ou quando um Mh entra ou sai do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Após uma atualização, uma IMS retransmite toda msg armazenada para a qual Mh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 Rounded MT Bold"/>
              </a:rPr>
              <a:t>new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M.D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Garantia de que Ms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 Rounded MT Bold"/>
              </a:rPr>
              <a:t>init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vai receber uma resposta de todos os Mhs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M.D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40BD-8D32-4E2B-B0DA-87EBA14093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Hand-off no AM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C/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3429000" y="190512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38240" y="1904040"/>
            <a:ext cx="7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426708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320" y="4203000"/>
            <a:ext cx="104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s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 Rounded MT Bold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8880" y="4267080"/>
            <a:ext cx="135108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54080" y="4240800"/>
            <a:ext cx="1096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s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3560" y="5496480"/>
            <a:ext cx="8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5410080"/>
            <a:ext cx="6858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5485320"/>
            <a:ext cx="8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68560" y="5398920"/>
            <a:ext cx="6858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3800" y="54759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5410080"/>
            <a:ext cx="6858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62" idx="1"/>
          </p:cNvCxnSpPr>
          <p:nvPr/>
        </p:nvCxnSpPr>
        <p:spPr>
          <a:xfrm flipH="1">
            <a:off x="1142640" y="2133360"/>
            <a:ext cx="2286720" cy="20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/>
          <p:nvPr/>
        </p:nvCxnSpPr>
        <p:spPr>
          <a:xfrm flipV="1">
            <a:off x="1599840" y="2437920"/>
            <a:ext cx="198180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/>
          <p:nvPr/>
        </p:nvCxnSpPr>
        <p:spPr>
          <a:xfrm flipV="1" rot="10800000">
            <a:off x="1050120" y="472392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/>
          <p:nvPr/>
        </p:nvCxnSpPr>
        <p:spPr>
          <a:xfrm flipV="1">
            <a:off x="1279080" y="47235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endCxn id="271" idx="2"/>
          </p:cNvCxnSpPr>
          <p:nvPr/>
        </p:nvCxnSpPr>
        <p:spPr>
          <a:xfrm>
            <a:off x="1447920" y="4723920"/>
            <a:ext cx="2421360" cy="98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/>
          <p:nvPr/>
        </p:nvCxnSpPr>
        <p:spPr>
          <a:xfrm flipV="1">
            <a:off x="4572000" y="4800240"/>
            <a:ext cx="2820240" cy="9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/>
          <p:nvPr/>
        </p:nvCxnSpPr>
        <p:spPr>
          <a:xfrm flipH="1">
            <a:off x="1904760" y="4343400"/>
            <a:ext cx="533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/>
          <p:nvPr/>
        </p:nvCxnSpPr>
        <p:spPr>
          <a:xfrm>
            <a:off x="1905120" y="4648320"/>
            <a:ext cx="533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>
            <a:off x="7848720" y="473544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8001000" y="47239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66" idx="1"/>
            <a:endCxn id="263" idx="2"/>
          </p:cNvCxnSpPr>
          <p:nvPr/>
        </p:nvCxnSpPr>
        <p:spPr>
          <a:xfrm rot="10800000">
            <a:off x="4101480" y="2361600"/>
            <a:ext cx="3137400" cy="2143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/>
          <p:nvPr/>
        </p:nvCxnSpPr>
        <p:spPr>
          <a:xfrm>
            <a:off x="4343040" y="2361960"/>
            <a:ext cx="2896200" cy="19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 flipH="1" flipV="1">
            <a:off x="4723920" y="2133720"/>
            <a:ext cx="312444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90560" y="29091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36440" y="306144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85720" y="51951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66880" y="397584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De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76720" y="4585680"/>
            <a:ext cx="14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DeReg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012560" y="3120840"/>
            <a:ext cx="109980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98920" y="33519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74960" y="304740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12760" y="525708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gre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26760" y="17280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{Mh1@Ol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70600" y="207108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{Mh2@Ol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1905120"/>
            <a:ext cx="685800" cy="38088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495200" y="175176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{Mh1@Ol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2040" y="2056680"/>
            <a:ext cx="17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 Rounded MT Bold"/>
              </a:rPr>
              <a:t>{Mh2@new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670-B6AB-42E0-829D-A74C1EE83A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ncionamento do A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/h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2133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600" y="1852920"/>
            <a:ext cx="875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Mss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 Rounded MT Bold"/>
              </a:rPr>
              <a:t>i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7432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66680" y="36576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66680" y="42670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66680" y="58672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47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05120" y="47242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40" y="25135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20" y="3331080"/>
            <a:ext cx="74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Mss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 Rounded MT Bold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800" y="5540760"/>
            <a:ext cx="75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Rounded MT Bold"/>
              </a:rPr>
              <a:t>Mss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 Rounded MT Bold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-1800" y="3940560"/>
            <a:ext cx="65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Rounded MT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1800" y="4474080"/>
            <a:ext cx="65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21337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14720" y="2285640"/>
            <a:ext cx="14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M.Dest={1,2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3880" y="27432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90120" y="29714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05120" y="364320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6840" y="335232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05120" y="365760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61520" y="37335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133720" y="365724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27600" y="3885840"/>
            <a:ext cx="4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05120" y="4724280"/>
            <a:ext cx="380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87440" y="518112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Gr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590920" y="2133360"/>
            <a:ext cx="3808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33560" y="2345400"/>
            <a:ext cx="514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819520" y="2743200"/>
            <a:ext cx="60948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755800" y="3045600"/>
            <a:ext cx="903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Lo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05320" y="2743200"/>
            <a:ext cx="22860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14000" y="47239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5837400"/>
            <a:ext cx="68580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91960" y="555588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3809880" y="5333760"/>
            <a:ext cx="152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53341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85000" y="5409720"/>
            <a:ext cx="4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572000" y="2133360"/>
            <a:ext cx="38088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33760" y="2269080"/>
            <a:ext cx="514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95280" y="59436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68040" y="594324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as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21337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32800" y="220932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2743200"/>
            <a:ext cx="53352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57800" y="27432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38680" y="364176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20760" y="335232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15000" y="365760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32800" y="388584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80520" y="48765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943600" y="365724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68800" y="3809520"/>
            <a:ext cx="5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67280" y="583740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9360" y="555588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867280" y="5333760"/>
            <a:ext cx="152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53341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97400" y="5333760"/>
            <a:ext cx="5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324480" y="2133360"/>
            <a:ext cx="15264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05400" y="243792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AckSet{1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629400" y="2133360"/>
            <a:ext cx="53352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48400" y="281916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AckSet{2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29200" y="5943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11240" y="594324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as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238880" y="213372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235280" y="220932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5943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94280" y="5943240"/>
            <a:ext cx="40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467480" y="5334120"/>
            <a:ext cx="152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03640" y="540972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Le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7696080" y="2743200"/>
            <a:ext cx="38124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985160" y="3121200"/>
            <a:ext cx="9032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Lo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43200" y="533412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50320" y="510516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952040" y="533376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3300"/>
                </a:solidFill>
                <a:latin typeface="Arial Rounded MT Bold"/>
              </a:rPr>
              <a:t>Turned 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60C4-13D8-489C-9C1C-98A61A93CF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antagens e Desvantagens do A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/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6" name=""/>
          <p:cNvSpPr/>
          <p:nvPr/>
        </p:nvSpPr>
        <p:spPr>
          <a:xfrm>
            <a:off x="152280" y="1828800"/>
            <a:ext cx="883944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Vantagens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IMSs são intermediários mais simples que os Mss´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Quantidade de IMSs muito menor que a de Mss´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Menor número de msgs difundidas na rede fix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Desvantagens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Sobrecarga na rede fixa depende da taxa de migração (t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 Rounded MT Bold"/>
              </a:rPr>
              <a:t>mig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) dos hosts móve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Maior complexidade do protoco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4AED-1CA2-4C21-AA79-5320149631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oteir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752480"/>
            <a:ext cx="8610480" cy="5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Objetiv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Visão Geral do Protocolo A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C </a:t>
            </a:r>
            <a:r>
              <a:rPr b="0" lang="pt-BR" sz="2400" spc="-1" strike="noStrike" u="sng">
                <a:solidFill>
                  <a:srgbClr val="996633"/>
                </a:solidFill>
                <a:uFillTx/>
                <a:latin typeface="Arial Rounded MT Bold"/>
                <a:hlinkClick r:id="rId1" action="ppaction://hlinksldjump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Suposições do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Fases do A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Funcio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Limitações do A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Uma Otimização: o A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C /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Apresen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Caracter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Hand-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Funcio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Vantagens/Desvanta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Conclusões e Resultad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BDE1-3B87-4008-B6D4-05B412CF64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ões e Resultados Esperad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"/>
          <p:cNvSpPr/>
          <p:nvPr/>
        </p:nvSpPr>
        <p:spPr>
          <a:xfrm>
            <a:off x="228600" y="1752480"/>
            <a:ext cx="89154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A introdução dos IMSs não garante uma redução no número de msgs trocadas para todos os c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Porém o A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C/h representa uma redução no tráfego da rede em muitos c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Devemos identificar quais fatores, além de uma t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 Rounded MT Bold"/>
              </a:rPr>
              <a:t>mig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baixa, tornam o uso do AM2C/h apropri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Obter dados, através de simulações, de modo a identificar em quais casos quais dos protocolos é o mais adequ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605-AFE7-4C26-A25D-C9DDB1F598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ferência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1752480"/>
            <a:ext cx="8915400" cy="60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arkus Endler. A Protocol for Atomic Multicast Among Mobile Hosts. In </a:t>
            </a: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Dial M Workshop/Mobicom´99, Seatle (USA)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, pages 56-63. ACM, August 199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Ricardo C.A. da Rocha and Markus Endler. Flexible Simulation of Distributed Protocols for Mobile Computing. </a:t>
            </a: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Proc. of 3rd Int. Workshop on Modeling, Analysis and Simulation of Wireless and Mobile Systems (MSWIM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pp. 123--126, Boston. August 11th,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Arup Acharya and B. R. Badrinath. Delivering Multicast Messages. In </a:t>
            </a: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Networks with Mobile Hosts. In 13th International Conference os Distributed Computing Systems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, pages 292-299, Pittsburgh, US, May 199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rId1" action="ppaction://hlinksldjump"/>
          </p:cNvPr>
          <p:cNvSpPr/>
          <p:nvPr/>
        </p:nvSpPr>
        <p:spPr>
          <a:xfrm>
            <a:off x="3962520" y="25909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7493"/>
                </a:moveTo>
                <a:lnTo>
                  <a:pt x="10884" y="7493"/>
                </a:lnTo>
                <a:lnTo>
                  <a:pt x="10884" y="12828"/>
                </a:lnTo>
                <a:cubicBezTo>
                  <a:pt x="10884" y="13751"/>
                  <a:pt x="11685" y="14482"/>
                  <a:pt x="12721" y="14482"/>
                </a:cubicBezTo>
                <a:lnTo>
                  <a:pt x="14383" y="14482"/>
                </a:lnTo>
                <a:cubicBezTo>
                  <a:pt x="15419" y="14482"/>
                  <a:pt x="16220" y="13751"/>
                  <a:pt x="16220" y="12828"/>
                </a:cubicBezTo>
                <a:lnTo>
                  <a:pt x="16220" y="7493"/>
                </a:lnTo>
                <a:lnTo>
                  <a:pt x="14383" y="7493"/>
                </a:lnTo>
                <a:lnTo>
                  <a:pt x="17891" y="3985"/>
                </a:lnTo>
                <a:lnTo>
                  <a:pt x="21564" y="7493"/>
                </a:lnTo>
                <a:lnTo>
                  <a:pt x="19727" y="7493"/>
                </a:lnTo>
                <a:lnTo>
                  <a:pt x="19727" y="12828"/>
                </a:lnTo>
                <a:cubicBezTo>
                  <a:pt x="19727" y="15596"/>
                  <a:pt x="17151" y="18155"/>
                  <a:pt x="14383" y="18155"/>
                </a:cubicBezTo>
                <a:lnTo>
                  <a:pt x="12721" y="18155"/>
                </a:lnTo>
                <a:cubicBezTo>
                  <a:pt x="9953" y="18155"/>
                  <a:pt x="7377" y="15596"/>
                  <a:pt x="7377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rId2" action="ppaction://hlinksldjump"/>
          </p:cNvPr>
          <p:cNvSpPr/>
          <p:nvPr/>
        </p:nvSpPr>
        <p:spPr>
          <a:xfrm>
            <a:off x="1143000" y="45720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7493"/>
                </a:moveTo>
                <a:lnTo>
                  <a:pt x="10901" y="7493"/>
                </a:lnTo>
                <a:lnTo>
                  <a:pt x="10901" y="12828"/>
                </a:lnTo>
                <a:cubicBezTo>
                  <a:pt x="10901" y="13751"/>
                  <a:pt x="11702" y="14482"/>
                  <a:pt x="12738" y="14482"/>
                </a:cubicBezTo>
                <a:lnTo>
                  <a:pt x="14400" y="14482"/>
                </a:lnTo>
                <a:cubicBezTo>
                  <a:pt x="15436" y="14482"/>
                  <a:pt x="16236" y="13751"/>
                  <a:pt x="16236" y="12828"/>
                </a:cubicBezTo>
                <a:lnTo>
                  <a:pt x="16236" y="7493"/>
                </a:lnTo>
                <a:lnTo>
                  <a:pt x="14400" y="7493"/>
                </a:lnTo>
                <a:lnTo>
                  <a:pt x="17908" y="3985"/>
                </a:lnTo>
                <a:lnTo>
                  <a:pt x="21581" y="7493"/>
                </a:lnTo>
                <a:lnTo>
                  <a:pt x="19744" y="7493"/>
                </a:lnTo>
                <a:lnTo>
                  <a:pt x="19744" y="12828"/>
                </a:lnTo>
                <a:cubicBezTo>
                  <a:pt x="19744" y="15596"/>
                  <a:pt x="17168" y="18155"/>
                  <a:pt x="14400" y="18155"/>
                </a:cubicBezTo>
                <a:lnTo>
                  <a:pt x="12738" y="18155"/>
                </a:lnTo>
                <a:cubicBezTo>
                  <a:pt x="9970" y="18155"/>
                  <a:pt x="7394" y="15596"/>
                  <a:pt x="7394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rId3" action="ppaction://hlinksldjump"/>
          </p:cNvPr>
          <p:cNvSpPr/>
          <p:nvPr/>
        </p:nvSpPr>
        <p:spPr>
          <a:xfrm>
            <a:off x="3886200" y="62485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7493"/>
                </a:moveTo>
                <a:lnTo>
                  <a:pt x="10901" y="7493"/>
                </a:lnTo>
                <a:lnTo>
                  <a:pt x="10901" y="12828"/>
                </a:lnTo>
                <a:cubicBezTo>
                  <a:pt x="10901" y="13751"/>
                  <a:pt x="11702" y="14482"/>
                  <a:pt x="12738" y="14482"/>
                </a:cubicBezTo>
                <a:lnTo>
                  <a:pt x="14400" y="14482"/>
                </a:lnTo>
                <a:cubicBezTo>
                  <a:pt x="15436" y="14482"/>
                  <a:pt x="16236" y="13751"/>
                  <a:pt x="16236" y="12828"/>
                </a:cubicBezTo>
                <a:lnTo>
                  <a:pt x="16236" y="7493"/>
                </a:lnTo>
                <a:lnTo>
                  <a:pt x="14400" y="7493"/>
                </a:lnTo>
                <a:lnTo>
                  <a:pt x="17908" y="3985"/>
                </a:lnTo>
                <a:lnTo>
                  <a:pt x="21581" y="7493"/>
                </a:lnTo>
                <a:lnTo>
                  <a:pt x="19744" y="7493"/>
                </a:lnTo>
                <a:lnTo>
                  <a:pt x="19744" y="12828"/>
                </a:lnTo>
                <a:cubicBezTo>
                  <a:pt x="19744" y="15596"/>
                  <a:pt x="17168" y="18155"/>
                  <a:pt x="14400" y="18155"/>
                </a:cubicBezTo>
                <a:lnTo>
                  <a:pt x="12738" y="18155"/>
                </a:lnTo>
                <a:cubicBezTo>
                  <a:pt x="9970" y="18155"/>
                  <a:pt x="7394" y="15596"/>
                  <a:pt x="7394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4C48-EBF1-4344-A246-BFF8C2DE0B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bjetivos do Trabalh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860840"/>
            <a:ext cx="861048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Implementar o A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C no simulador MobiCS </a:t>
            </a:r>
            <a:r>
              <a:rPr b="0" lang="pt-BR" sz="2400" spc="-1" strike="noStrike" u="sng">
                <a:solidFill>
                  <a:srgbClr val="996633"/>
                </a:solidFill>
                <a:uFillTx/>
                <a:latin typeface="Arial Rounded MT Bold"/>
                <a:hlinkClick r:id="rId1" action="ppaction://hlinksldjump"/>
              </a:rPr>
              <a:t>[2]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Avaliar o desempenho para diversos modelos de simulação estocás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Investigar possíveis otimizações para o A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C (tema do presente seminá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Implementar e testar a(s) otimização(ões) no Mob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Identificar para quais cenários (modelos de simulação) cada um dos protocolos tem o melhor desempen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3D09-B1EF-411A-81C4-38929C5B41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isão Geral do A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491480"/>
            <a:ext cx="8686800" cy="43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Extensão do protocolo MCAST </a:t>
            </a:r>
            <a:r>
              <a:rPr b="0" lang="pt-BR" sz="2400" spc="-1" strike="noStrike" u="sng">
                <a:solidFill>
                  <a:srgbClr val="996633"/>
                </a:solidFill>
                <a:uFillTx/>
                <a:latin typeface="Arial Rounded MT Bold"/>
                <a:hlinkClick r:id="rId1" action="ppaction://hlinksldjump"/>
              </a:rPr>
              <a:t>[3]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, de Acharya e Badrin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Política de Entrega de Mensage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No MCAST = </a:t>
            </a: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Somente um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- No A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C = </a:t>
            </a: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Todos ou Nenhum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multicast é </a:t>
            </a:r>
            <a:r>
              <a:rPr b="0" lang="pt-BR" sz="2400" spc="-1" strike="noStrike">
                <a:solidFill>
                  <a:srgbClr val="0000ff"/>
                </a:solidFill>
                <a:latin typeface="Arial Rounded MT Bold"/>
              </a:rPr>
              <a:t>atô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otivação: aplicações com requisitos de visões consist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Exemplo: coordenação de veículos pela CET; equipe de resgate; frota de táx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6DB-75C6-42EB-8CB4-C0B4D90833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posições do A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980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1)  Modelo de Rede: rede móvel estrut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modelo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5634000" cy="2131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502740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2)  Em um dado momento um host móvel (Mh) está associado a exatamente uma estação-base (Mss), chamada de </a:t>
            </a: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RespMss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2D1-D977-4244-B781-6370D069EF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Suposições do AM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C (Cont.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746360"/>
            <a:ext cx="8915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3) Existe uma conexão entre todos os elementos da rede fixa e a comunicação entre eles é confiá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4)  Um Mh é capaz de se mover de uma célula para outra. Neste caso, o protocolo de </a:t>
            </a: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Hand-off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é execut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03480" y="398628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29840" y="3921840"/>
            <a:ext cx="104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s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 Rounded MT Bold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4005360"/>
            <a:ext cx="135108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40760" y="3998160"/>
            <a:ext cx="1096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s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4723560"/>
            <a:ext cx="8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4648320"/>
            <a:ext cx="6858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102" idx="6"/>
            <a:endCxn id="100" idx="2"/>
          </p:cNvCxnSpPr>
          <p:nvPr/>
        </p:nvCxnSpPr>
        <p:spPr>
          <a:xfrm flipV="1">
            <a:off x="4572000" y="4480920"/>
            <a:ext cx="2418480" cy="47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 flipH="1">
            <a:off x="2514240" y="41004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425304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60480" y="464760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gre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72520" y="380916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DeR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4266360"/>
            <a:ext cx="14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DeReg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4400" y="540900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5)  Um Mh pode estar ou </a:t>
            </a: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ativado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ou </a:t>
            </a: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desativado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20CE-F9F4-4511-86FE-68E9020682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Suposições do AM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C (Cont.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1954440"/>
            <a:ext cx="883944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6)  Quando um Mh migra de uma célula para outra, este é considerado inativo para os Mss’s das células em quest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7)  Depois de se anunciar a um Mss, seja Ms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 Rounded MT Bold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, (através da msg Greet), um Mh não responde a nenhum outro Mss que não seja Ms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 Rounded MT Bold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82F-6659-48AA-BE74-BC664D1F8F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ases do A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4479840" y="37558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812960"/>
            <a:ext cx="85341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Essencialmente, o A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C consiste de um </a:t>
            </a: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Two Phase Commit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mais uma fase de “coleta de lix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Uma msg de multicast só será processada se </a:t>
            </a:r>
            <a:r>
              <a:rPr b="0" lang="pt-BR" sz="2400" spc="-1" strike="noStrike">
                <a:solidFill>
                  <a:srgbClr val="0000ff"/>
                </a:solidFill>
                <a:latin typeface="Arial Rounded MT Bold"/>
              </a:rPr>
              <a:t>todos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os destinatários estiverem disponíveis na 1ª fase. Neste caso o multicast é </a:t>
            </a:r>
            <a:r>
              <a:rPr b="0" lang="pt-BR" sz="2400" spc="-1" strike="noStrike">
                <a:solidFill>
                  <a:srgbClr val="0000ff"/>
                </a:solidFill>
                <a:latin typeface="Arial Rounded MT Bold"/>
              </a:rPr>
              <a:t>confirmado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, c.c. é </a:t>
            </a:r>
            <a:r>
              <a:rPr b="0" lang="pt-BR" sz="2400" spc="-1" strike="noStrike">
                <a:solidFill>
                  <a:srgbClr val="0000ff"/>
                </a:solidFill>
                <a:latin typeface="Arial Rounded MT Bold"/>
              </a:rPr>
              <a:t>abortado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A 2ª fase garante que todos os destinatários serão eventualmente informados sobre o status final do multic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Finalmente, a última fase é executada a fim de remover a informação sobre o status final do multic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6B92-0B36-4435-9B93-3BD5723E4C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ncionamento do A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228600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28954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365760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960" y="53341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2960" y="594360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1911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5000" y="4800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1911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6840" y="205632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440" y="266616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440" y="342792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440" y="510444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s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6840" y="396144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6840" y="571392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h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2860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46880" y="236196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Mcast {2,3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895480"/>
            <a:ext cx="68580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8000" y="30477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289548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364320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8240" y="335232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365760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09240" y="36572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05120" y="3657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7920" y="3809520"/>
            <a:ext cx="4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362320" y="289512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02000" y="312372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531180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9120" y="502236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743200" y="2895480"/>
            <a:ext cx="60948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64120" y="327636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6019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89840" y="601956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Fas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2895480"/>
            <a:ext cx="60948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63760" y="388584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289548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363384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96520" y="334620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3657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34840" y="373356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53341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13800" y="54097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362320" y="533376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45120" y="5486040"/>
            <a:ext cx="4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800600" y="289512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37280" y="297144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Ack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531180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01440" y="502236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533412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20960" y="55623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724280" y="533376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7520" y="5562360"/>
            <a:ext cx="5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105520" y="2895480"/>
            <a:ext cx="68580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0400" y="396216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Ack{3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41911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04720" y="449532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Gr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867280" y="480060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68520" y="48765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48006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9120" y="4952520"/>
            <a:ext cx="5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248520" y="2895480"/>
            <a:ext cx="60948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35680" y="32000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Ack{2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3920" y="60199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14280" y="6019560"/>
            <a:ext cx="75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Fas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2895480"/>
            <a:ext cx="60948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11600" y="434304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289548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3000" y="312372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6019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60195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as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809880" y="22856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228600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11120" y="23619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8040" y="2361960"/>
            <a:ext cx="5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63244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Diagrama espaço-t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8E5-62B3-4C6F-A84F-631661AC00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19:10:18Z</dcterms:created>
  <dc:creator>Mateus de Freitas Ribeiro</dc:creator>
  <dc:description/>
  <dc:language>en-US</dc:language>
  <cp:lastModifiedBy>LCPD</cp:lastModifiedBy>
  <dcterms:modified xsi:type="dcterms:W3CDTF">2001-06-01T16:17:20Z</dcterms:modified>
  <cp:revision>209</cp:revision>
  <dc:subject/>
  <dc:title>Uma Otimização para um Protocolo de Multicast Atômico em Computação Móvel</dc:title>
</cp:coreProperties>
</file>