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E05-6B5A-4DA4-BA55-B4EF7855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D5C-0512-44E3-A33F-FBE400EC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DB9-AF6D-420B-8D29-3C631B35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688-04CD-4DCA-AC55-DC42D7E4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087B-311A-4654-B81C-27E6AAA4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A4BD-0A81-4883-A330-18FD76DA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8195-29D9-4B51-95B7-8855FDB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CCD-C98D-4DAF-9E92-A0AB9D5F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D8B-7B5E-46A0-B5E0-DE524138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F564-786C-412E-ADC2-E967E3F3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20D2-192E-40E0-979B-ED9CC59D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AE9-B563-45EB-812A-F0474B74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F741-C3FD-4B86-A72F-387EAE66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23A2-3655-49E2-A18D-FEE52C39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DB1B-22DF-48F5-A2FE-27E67C64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F94A-FEE1-45CB-918A-E90DB6C5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71B2-63CE-42E0-8F55-ABB27BB0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BC7-9C0F-4071-979D-0B2A10C8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4AF-6791-4A7A-A0AB-42B1EE9F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D09-7307-4BB0-9752-E2528E9F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A79-E912-4B46-83BD-FE5BB6F9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BC6-C037-4B87-968F-E815651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EB6-A15B-41D2-A592-AD22468D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0FD-5620-4F66-8758-DCE742A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C644-5F4A-48A6-8CE5-CABA706591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2E5A-EDD8-4BE7-8039-FF5F76A53E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Computação Ubíqua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548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lindo Flávio da Conce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lindo@ime.usp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336480"/>
            <a:ext cx="7775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Passado, presente e futuro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jitsu TeamPad 760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tium 166 MM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0 X 600 pix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1 X 15 X 1,5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50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Lucent 200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teampad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238560" cy="281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19C-92E5-4D23-B727-4AC57CE9FB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quitetura do Gu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60360" y="2595600"/>
            <a:ext cx="879480" cy="728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2000" y="2514600"/>
            <a:ext cx="880920" cy="728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280" y="4133880"/>
            <a:ext cx="3743280" cy="810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781520"/>
            <a:ext cx="990360" cy="8096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55880" y="5348160"/>
            <a:ext cx="1431720" cy="10526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2"/>
            <a:endCxn id="120" idx="1"/>
          </p:cNvCxnSpPr>
          <p:nvPr/>
        </p:nvCxnSpPr>
        <p:spPr>
          <a:xfrm>
            <a:off x="799920" y="3324240"/>
            <a:ext cx="108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671560" y="3243240"/>
            <a:ext cx="108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1" idx="0"/>
            <a:endCxn id="120" idx="1"/>
          </p:cNvCxnSpPr>
          <p:nvPr/>
        </p:nvCxnSpPr>
        <p:spPr>
          <a:xfrm flipV="1">
            <a:off x="799920" y="4174920"/>
            <a:ext cx="1080" cy="60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2" idx="0"/>
            <a:endCxn id="120" idx="2"/>
          </p:cNvCxnSpPr>
          <p:nvPr/>
        </p:nvCxnSpPr>
        <p:spPr>
          <a:xfrm flipV="1">
            <a:off x="2671560" y="4214520"/>
            <a:ext cx="1080" cy="11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8" idx="0"/>
            <a:endCxn id="120" idx="3"/>
          </p:cNvCxnSpPr>
          <p:nvPr/>
        </p:nvCxnSpPr>
        <p:spPr>
          <a:xfrm flipV="1">
            <a:off x="4541400" y="4174560"/>
            <a:ext cx="2520" cy="70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120" y="5105520"/>
            <a:ext cx="32076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98600" y="556272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3040" y="579132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5720" y="4876920"/>
            <a:ext cx="1432080" cy="10522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8960" y="511488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78200" y="5191200"/>
            <a:ext cx="32256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92640" y="557208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4960" y="266688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nso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1320" y="2590920"/>
            <a:ext cx="792000" cy="5806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105520" y="2209680"/>
            <a:ext cx="3603240" cy="4114800"/>
            <a:chOff x="5105520" y="2209680"/>
            <a:chExt cx="3603240" cy="4114800"/>
          </a:xfrm>
        </p:grpSpPr>
        <p:sp>
          <p:nvSpPr>
            <p:cNvPr id="138" name=""/>
            <p:cNvSpPr/>
            <p:nvPr/>
          </p:nvSpPr>
          <p:spPr>
            <a:xfrm>
              <a:off x="5867280" y="3200400"/>
              <a:ext cx="2362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2209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70360" y="2451960"/>
              <a:ext cx="70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ROX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1000" y="2209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31240" y="2361600"/>
              <a:ext cx="677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WEB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er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66040" y="350532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3320" y="3747240"/>
              <a:ext cx="70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ROX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29720" y="47242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3080" y="496656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osi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53080" y="464832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02040" y="4799880"/>
              <a:ext cx="64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Clien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Ag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6" idx="1"/>
              <a:endCxn id="147" idx="6"/>
            </p:cNvCxnSpPr>
            <p:nvPr/>
          </p:nvCxnSpPr>
          <p:spPr>
            <a:xfrm flipH="1" flipV="1">
              <a:off x="7238520" y="4990680"/>
              <a:ext cx="6818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9" idx="4"/>
              <a:endCxn id="143" idx="0"/>
            </p:cNvCxnSpPr>
            <p:nvPr/>
          </p:nvCxnSpPr>
          <p:spPr>
            <a:xfrm>
              <a:off x="6895800" y="2895480"/>
              <a:ext cx="1332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2" idx="1"/>
              <a:endCxn id="140" idx="3"/>
            </p:cNvCxnSpPr>
            <p:nvPr/>
          </p:nvCxnSpPr>
          <p:spPr>
            <a:xfrm flipH="1">
              <a:off x="7302240" y="2590560"/>
              <a:ext cx="730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7" idx="0"/>
            </p:cNvCxnSpPr>
            <p:nvPr/>
          </p:nvCxnSpPr>
          <p:spPr>
            <a:xfrm flipH="1">
              <a:off x="6895440" y="4191120"/>
              <a:ext cx="13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7483320" y="5638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1640" y="5880960"/>
              <a:ext cx="81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Brows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3" idx="1"/>
              <a:endCxn id="147" idx="5"/>
            </p:cNvCxnSpPr>
            <p:nvPr/>
          </p:nvCxnSpPr>
          <p:spPr>
            <a:xfrm flipH="1" flipV="1">
              <a:off x="7138800" y="5233680"/>
              <a:ext cx="44496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5105520" y="2209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69240" y="245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3"/>
              <a:endCxn id="140" idx="1"/>
            </p:cNvCxnSpPr>
            <p:nvPr/>
          </p:nvCxnSpPr>
          <p:spPr>
            <a:xfrm>
              <a:off x="5788080" y="2590560"/>
              <a:ext cx="75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818-2240-4BEE-A995-CBD4A39D2E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umo ao nível 2 de maturid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tores hum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álises de comport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ltidisciplin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310-1663-4DB1-BECC-33804D00C4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assiopeia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4514760" cy="3736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ARC Lab e Guide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guia multimídia de visi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ção vis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nsagens de a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udo de comport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ato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r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2B4-F1EB-43F5-9B5C-CEB91B7D23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2514240"/>
            <a:ext cx="8178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sers want to construct a experience that incorporates the three entities they value: the guidebook, the room, and their companion(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ARC Lab e Guide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8D4-8163-4B2A-A514-6EDAB61425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iajando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upermercado ubíq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 carrin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 congestioname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ção de custos e esto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ís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C83-5D7F-48F6-8DB9-F5386FA8FA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sultados interessan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 e intens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acos andam em ban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ta muito a ser fe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001-C840-4327-AABB-DD189A913C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BI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to GUIDE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guide.lancs.ac.uk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C Lab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parc.xerox.com/parc-go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and ubiquitous computing readin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cc.gatech.edu/classes/AY2001/cs7470_spring/readings/overview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A19-3C2F-4A25-B966-73DD14D8C8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xt-Aware Computing Applications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ll Schilit, Norman Adams, Roy W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arc Tab Ubiquitous Computing Experimen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y Want,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tronic Guidebooks and Visitor Attention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ison Woodruff, Paul M Aoki, Amy Hust, Margaret H. Szymansk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llenges: An Application Model for Pervasive Comput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ruduth Banavar, James Beck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s of Developing and Deploying a Context-Aware Tourist Guide: The GUIDE Projec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eith Cheverst, Nigel Davies, Keith Mitchell and Adrian Frid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355-4E69-4E87-B974-5FC00E242E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putação Ubíqu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ç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ção de Computação Ubíqu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uridade de novas tecnolog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jetos e seus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CT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U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avras fi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B46-0D12-47F4-9BCF-6A7521D342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ção</a:t>
            </a: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 e objetiv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ilação de resultados recentes e relev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hecer grupos e projetos de pesqu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render um pouco mais sobre a Computação 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 Distribuí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 Mó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 Ubíqua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9B0-EB8E-4245-86A2-D0B7559A9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finição de Comp. Ubíqu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esso móvel a d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ção mass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aços intelig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s intelig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rvasive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3DE-2BDD-44DB-ADBC-07D13D44CE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saf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ruturada X Adho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licações út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oniz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BE9-EF79-4E59-8BD6-8B4D0FB3F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yr4"/>
          <p:cNvSpPr/>
          <p:nvPr/>
        </p:nvSpPr>
        <p:spPr>
          <a:xfrm>
            <a:off x="533520" y="4981680"/>
            <a:ext cx="3276360" cy="1000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turidade de tecnolog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25440" y="5211720"/>
            <a:ext cx="43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Rounded MT Bold"/>
              </a:rPr>
              <a:t>O que podemos fa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61920" y="3987720"/>
            <a:ext cx="5878440" cy="998640"/>
            <a:chOff x="961920" y="3987720"/>
            <a:chExt cx="5878440" cy="998640"/>
          </a:xfrm>
        </p:grpSpPr>
        <p:sp>
          <p:nvSpPr>
            <p:cNvPr id="98" name="Pyr3"/>
            <p:cNvSpPr/>
            <p:nvPr/>
          </p:nvSpPr>
          <p:spPr>
            <a:xfrm>
              <a:off x="961920" y="3987720"/>
              <a:ext cx="2422800" cy="998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14760" y="4267080"/>
              <a:ext cx="322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 Rounded MT Bold"/>
                </a:rPr>
                <a:t>Aplicações úte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382760" y="2986200"/>
            <a:ext cx="6201000" cy="1001520"/>
            <a:chOff x="1382760" y="2986200"/>
            <a:chExt cx="6201000" cy="1001520"/>
          </a:xfrm>
        </p:grpSpPr>
        <p:sp>
          <p:nvSpPr>
            <p:cNvPr id="101" name="Pyr2"/>
            <p:cNvSpPr/>
            <p:nvPr/>
          </p:nvSpPr>
          <p:spPr>
            <a:xfrm>
              <a:off x="1382760" y="2986200"/>
              <a:ext cx="1581120" cy="1001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60080" y="3276720"/>
              <a:ext cx="442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 Rounded MT Bold"/>
                </a:rPr>
                <a:t>Aceitação do merca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08280" y="2133720"/>
            <a:ext cx="2080800" cy="852480"/>
            <a:chOff x="1808280" y="2133720"/>
            <a:chExt cx="2080800" cy="852480"/>
          </a:xfrm>
        </p:grpSpPr>
        <p:sp>
          <p:nvSpPr>
            <p:cNvPr id="104" name="Pyr1"/>
            <p:cNvSpPr/>
            <p:nvPr/>
          </p:nvSpPr>
          <p:spPr>
            <a:xfrm>
              <a:off x="1808280" y="2133720"/>
              <a:ext cx="734760" cy="8524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33760" y="2239920"/>
              <a:ext cx="125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 Rounded MT Bold"/>
                </a:rPr>
                <a:t>Luc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87B-7ADD-4962-B0ED-4D3033D4B3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lguns proje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C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oineiro no PARC Lab da XER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rtol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fraestrutura, serviços distribuídos e interfaces na Universidade de Washingt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Invisible Computing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no 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nTheM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City Guid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em desenvolvimento na Sué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formações turísticas na Universidade de Lanca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E3F-DDD7-4C2D-B262-01735E22E9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ARCTa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dispositivos móveis na rede de um escritó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rdagem estrutu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çou o termo Computação Ubíq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held da Olivetti (monocromático de 10.5 x 7.8 x 2.4 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errado em 95/96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stro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unistroke" descr=""/>
          <p:cNvPicPr/>
          <p:nvPr/>
        </p:nvPicPr>
        <p:blipFill>
          <a:blip r:embed="rId1"/>
          <a:stretch/>
        </p:blipFill>
        <p:spPr>
          <a:xfrm>
            <a:off x="2819520" y="5410080"/>
            <a:ext cx="4010040" cy="11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144-B733-440D-94C5-3A7C5B1409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GU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uia turístico da cidade sensível a localização do usuári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context-awa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bordagem estruturada e baseada em célu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adeo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t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 e liber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Guide2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262404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99A-F26D-4982-84D6-7F97010EC9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0:18Z</dcterms:created>
  <dc:creator>Arlindo Flávio da Conceição</dc:creator>
  <dc:description/>
  <dc:language>en-US</dc:language>
  <cp:lastModifiedBy>Ericsson User</cp:lastModifiedBy>
  <cp:lastPrinted>2001-06-22T14:32:31Z</cp:lastPrinted>
  <dcterms:modified xsi:type="dcterms:W3CDTF">2001-06-22T16:21:09Z</dcterms:modified>
  <cp:revision>234</cp:revision>
  <dc:subject/>
  <dc:title>Apreentação sobre comp ubi</dc:title>
</cp:coreProperties>
</file>