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1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BE2-C8C2-40F5-8B5F-AD22E3B6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0615-E2AB-4CA4-9563-34B4CEAC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9EC8-E5D5-4FBA-A4AE-107AD973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3F9-C634-437E-BD84-5D060980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A6F4-C96A-4512-8BAB-89B4B98D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8DC6-B92C-426C-9345-BC7A4090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7426-A79B-43F0-80D2-31863236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449C-813E-4B40-A615-9AE3F7E1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D2F3-A73C-46C8-8FC5-29526904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29D1-E965-45CE-8AD5-2EAFD160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2228-3500-4C11-83C0-5036356C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FF2-7777-4BA4-8EE7-79B2624D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BD2C-474F-49ED-8C6D-237231CA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FFE1-1D63-4D51-B5EE-3CFD9FA0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0440-8309-4DA6-9A82-AA421F50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F0AE-D314-47FF-B17D-931AB131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7B8B-FC2E-4908-8F3E-D085521C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F37-E591-4D7F-9F28-6F5C3D13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E62-73B0-4D0B-A6A1-560C06C0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D85B-DD5C-40B3-882B-262FAA41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9EBA-2593-4377-A5FA-1B4EE775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7DA-8AEF-41E6-BC59-A360F45E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9819-1630-4C73-BD34-E47EFF44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C8B-90C4-439F-A362-427B7098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E8E7-D220-4897-ACB7-56AAA8AEB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1403-BA8D-46DA-89C2-DAF804635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olíticas de </a:t>
            </a:r>
            <a:r>
              <a:rPr b="0" i="1" lang="pt-BR" sz="4400" spc="-1" strike="noStrike">
                <a:solidFill>
                  <a:srgbClr val="003366"/>
                </a:solidFill>
                <a:latin typeface="Times New Roman"/>
              </a:rPr>
              <a:t>Hand-off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 com Balanceamento de Carga para Computação Móv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95280" y="56386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o de Matemática e Estat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dade de São Pa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34290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lessandro Santiago {santiago@ime.usp.b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lfredo Goldman {gold@ime.usp.b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ulação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mos 3 comportamentos(políti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ocação fixa pur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ocação fixa com tolerância de s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ocação fixa com o modelo suger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Área de cobertura representada por uma matriz 80x80, com 9 ERBs instalad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ERB tem 30 canais, e diâmetro de alcance de 40 unidades, com no máximo 15 unidades na intersecção de ER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drão de mobilidade, segue pontos de origem e destino estipulados aleatori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ultad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312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didas avali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and-off confirmados e Bloqu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amadas confirmadas e Bloque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495680" y="228600"/>
            <a:ext cx="4648320" cy="6400800"/>
            <a:chOff x="4495680" y="228600"/>
            <a:chExt cx="4648320" cy="6400800"/>
          </a:xfrm>
        </p:grpSpPr>
        <p:graphicFrame>
          <p:nvGraphicFramePr>
            <p:cNvPr id="184" name=""/>
            <p:cNvGraphicFramePr/>
            <p:nvPr/>
          </p:nvGraphicFramePr>
          <p:xfrm>
            <a:off x="4495680" y="228600"/>
            <a:ext cx="4648320" cy="3124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95680" y="228600"/>
                      <a:ext cx="4648320" cy="31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"/>
            <p:cNvGraphicFramePr/>
            <p:nvPr/>
          </p:nvGraphicFramePr>
          <p:xfrm>
            <a:off x="4495680" y="3375000"/>
            <a:ext cx="4648320" cy="32544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95680" y="3375000"/>
                      <a:ext cx="4648320" cy="32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4664160" y="228600"/>
          <a:ext cx="4479840" cy="30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4160" y="228600"/>
                    <a:ext cx="44798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648320" y="3581280"/>
          <a:ext cx="4495680" cy="32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581280"/>
                    <a:ext cx="44956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lhor Distribuição da unidades mó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ferece um maior grau de liberdade na alocação de ca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udo de uma nova possibilidade: fazer o hand-off por iniciativa da 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abalhos Futur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lizar uma simulação com um padrão dentro dos padrões de norm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aliar o custo da intersecção(custo/benefíc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tiv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nço e popularização dos dispositivos portát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ção física dos link´s de Comuni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no número de redes móveis de micro e pico cél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diagrama" descr=""/>
          <p:cNvPicPr/>
          <p:nvPr/>
        </p:nvPicPr>
        <p:blipFill>
          <a:blip r:embed="rId1"/>
          <a:stretch/>
        </p:blipFill>
        <p:spPr>
          <a:xfrm>
            <a:off x="2514600" y="2666880"/>
            <a:ext cx="5029200" cy="384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38080" y="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cupação em se manter a conex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762120"/>
            <a:ext cx="822960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PC - Tempo Requerido de Permanência da Cham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mpo que o usuário deseja permanecer na chamada, isto é, tempo total da chamada sem interrup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C - Tempo Atual de Permanência da Cha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ação final da chamada com ou sem interrupçõ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de Cana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cação Fix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cação Dinâ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cação Híbr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delo sugeri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5029200"/>
            <a:ext cx="758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ximizar tempo conexão desej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oveitamento de áreas de intersecção entre células, em Everit´90 diz que 30% a 45% da comunicação ocorre na área de intersec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sinal1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403680" cy="1685880"/>
          </a:xfrm>
          <a:prstGeom prst="rect">
            <a:avLst/>
          </a:prstGeom>
          <a:ln w="0">
            <a:noFill/>
          </a:ln>
        </p:spPr>
      </p:pic>
      <p:pic>
        <p:nvPicPr>
          <p:cNvPr id="141" name="sinal2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6403680" cy="1685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064160" y="99072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 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28195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 Sug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delo sugeri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20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unidade Móvel pode mudar de ERB em 2 casos: Mobilidade ou Balanceamento de Car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cessamento ocorre de forma distribuída nas ER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ecisão de transferir a Unidade Móvel também fica a cargo da ER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ivo de balancear a carga entre as ERBs vizin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delo Sugeri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7" name="areanovo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14680" cy="464688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3048120" y="2819520"/>
            <a:ext cx="2209680" cy="304560"/>
            <a:chOff x="3048120" y="2819520"/>
            <a:chExt cx="2209680" cy="304560"/>
          </a:xfrm>
        </p:grpSpPr>
        <p:sp>
          <p:nvSpPr>
            <p:cNvPr id="149" name=""/>
            <p:cNvSpPr/>
            <p:nvPr/>
          </p:nvSpPr>
          <p:spPr>
            <a:xfrm>
              <a:off x="3048120" y="2819520"/>
              <a:ext cx="304560" cy="22860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2971800"/>
              <a:ext cx="533520" cy="15228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114800" y="2438280"/>
            <a:ext cx="2438280" cy="2057400"/>
            <a:chOff x="4114800" y="2438280"/>
            <a:chExt cx="2438280" cy="2057400"/>
          </a:xfrm>
        </p:grpSpPr>
        <p:sp>
          <p:nvSpPr>
            <p:cNvPr id="152" name=""/>
            <p:cNvSpPr/>
            <p:nvPr/>
          </p:nvSpPr>
          <p:spPr>
            <a:xfrm>
              <a:off x="4114800" y="2438280"/>
              <a:ext cx="228600" cy="22860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1120" y="3124080"/>
              <a:ext cx="152280" cy="45720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95680" y="3124080"/>
              <a:ext cx="228600" cy="22860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43600" y="4114800"/>
              <a:ext cx="152280" cy="38088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72200" y="3809880"/>
              <a:ext cx="380880" cy="15264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657600" y="297180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297180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8120" y="2819520"/>
            <a:ext cx="2209680" cy="304560"/>
            <a:chOff x="3048120" y="2819520"/>
            <a:chExt cx="2209680" cy="304560"/>
          </a:xfrm>
        </p:grpSpPr>
        <p:sp>
          <p:nvSpPr>
            <p:cNvPr id="160" name=""/>
            <p:cNvSpPr/>
            <p:nvPr/>
          </p:nvSpPr>
          <p:spPr>
            <a:xfrm>
              <a:off x="3048120" y="2819520"/>
              <a:ext cx="304560" cy="22860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24280" y="2971800"/>
              <a:ext cx="533520" cy="15228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581280" y="2895480"/>
            <a:ext cx="533520" cy="152640"/>
          </a:xfrm>
          <a:prstGeom prst="lightningBol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486400" y="2514600"/>
            <a:ext cx="457200" cy="609480"/>
          </a:xfrm>
          <a:prstGeom prst="lightningBol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delo sugeri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5" name="area" descr=""/>
          <p:cNvPicPr/>
          <p:nvPr/>
        </p:nvPicPr>
        <p:blipFill>
          <a:blip r:embed="rId1"/>
          <a:stretch/>
        </p:blipFill>
        <p:spPr>
          <a:xfrm>
            <a:off x="1371600" y="3927600"/>
            <a:ext cx="3352680" cy="2930400"/>
          </a:xfrm>
          <a:prstGeom prst="rect">
            <a:avLst/>
          </a:prstGeom>
          <a:ln w="0">
            <a:noFill/>
          </a:ln>
        </p:spPr>
      </p:pic>
      <p:pic>
        <p:nvPicPr>
          <p:cNvPr id="166" name="grafobip" descr=""/>
          <p:cNvPicPr/>
          <p:nvPr/>
        </p:nvPicPr>
        <p:blipFill>
          <a:blip r:embed="rId2"/>
          <a:stretch/>
        </p:blipFill>
        <p:spPr>
          <a:xfrm>
            <a:off x="6095880" y="3200400"/>
            <a:ext cx="2136960" cy="31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1752480" y="1905120"/>
          <a:ext cx="2743200" cy="1603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905120"/>
                    <a:ext cx="274320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068120" y="2057400"/>
            <a:ext cx="4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39720" y="1940040"/>
            <a:ext cx="76320" cy="1447560"/>
          </a:xfrm>
          <a:custGeom>
            <a:avLst/>
            <a:gdLst>
              <a:gd name="textAreaLeft" fmla="*/ 48960 w 76320"/>
              <a:gd name="textAreaRight" fmla="*/ 76320 w 763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50840" y="91440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ais recebidos pela Unidade Mó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0000" y="350532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rea de cob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228600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utura de armazenamento em cada 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alanceamento de Carg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2640" y="990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F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ga crí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amento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28840" y="990360"/>
            <a:ext cx="3809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tr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 Unidade Móvel deverá migr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qual ERB a Unidade deverá migr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Carga" descr=""/>
          <p:cNvPicPr/>
          <p:nvPr/>
        </p:nvPicPr>
        <p:blipFill>
          <a:blip r:embed="rId1"/>
          <a:stretch/>
        </p:blipFill>
        <p:spPr>
          <a:xfrm>
            <a:off x="1295280" y="3429000"/>
            <a:ext cx="2783160" cy="3124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029200" y="3429000"/>
            <a:ext cx="3809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ratégias Princip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r para ERB vizinha com menor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ade móvel que deverá migrar, será aquela com menor mo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5T15:46:24Z</dcterms:created>
  <dc:creator>alessandro</dc:creator>
  <dc:description/>
  <dc:language>en-US</dc:language>
  <cp:lastModifiedBy>alessandro</cp:lastModifiedBy>
  <dcterms:modified xsi:type="dcterms:W3CDTF">2001-11-29T12:34:01Z</dcterms:modified>
  <cp:revision>12</cp:revision>
  <dc:subject/>
  <dc:title>Políticas de Hand-off com Balanceamento de Carga para Computação Móvel</dc:title>
</cp:coreProperties>
</file>