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028113"/>
  <p:custShowLst>
    <p:custShow name="Apresentação personalizada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382-E2A1-45B1-8787-78C93EB6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FBB-AFEB-4035-8603-3324E020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432-D182-48E6-9897-2B95702C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2CAE-0A49-4146-87D8-68439629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E29C-A2C1-4BDE-BA65-CA54F9D6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C9B7-4827-4A57-9FBF-F785AAA8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9540-AB09-40EE-B03C-1BB3DB78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AAAE-02F8-4255-9CC2-E58EA5CB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8A83-082C-4764-A799-1F739384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40A7-C43A-4892-A24E-31D8A920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FB06-9129-446A-9B80-7B9B59AB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CF1-2A19-4D56-B5FA-9AEBB8CB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7CA9-9091-4B27-B32F-D8FEFF7D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5BDF-C408-4832-A7CE-14E8F696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EFB8-5B66-4039-96CF-7EAF30F3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8D6B-B4F4-4A11-877F-1B33E295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A86E-BB68-4B82-9A72-7C1082B7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2EE-AAF9-4C6E-8955-8C8B5B74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F38-0E9F-4C1E-BF57-1ECAD1BC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C72-432E-4C4D-A74F-360BF32F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248-754D-45FE-9D87-44381319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7E2-B0DB-4C02-89FB-477E197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A04-5C37-4B6D-B6C0-8FA26723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7CA-DB03-477E-923B-7AEB7773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2726-8256-49BD-907F-D7C8F9AE5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673E-63DF-48EA-9707-7DF6007C4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e Canais para Comunicação de Dispositivos Móv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o de Matemática e Estat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dade de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4290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lessandro Santiago {santiago@ime.usp.b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752480"/>
            <a:ext cx="304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 (sub-grup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ell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gnal strength measurements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95280" y="1676520"/>
            <a:ext cx="3276720" cy="5223960"/>
            <a:chOff x="1295280" y="1676520"/>
            <a:chExt cx="3276720" cy="5223960"/>
          </a:xfrm>
        </p:grpSpPr>
        <p:sp>
          <p:nvSpPr>
            <p:cNvPr id="186" name=""/>
            <p:cNvSpPr/>
            <p:nvPr/>
          </p:nvSpPr>
          <p:spPr>
            <a:xfrm>
              <a:off x="1295280" y="1676520"/>
              <a:ext cx="327672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First Available (F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Locally Optimized Dynamic Assignment(LOD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lection with maximum usage on the ring(RING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Nearest Neighbor(N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Nearest Neighbor plus one(NN+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447200" y="4327560"/>
              <a:ext cx="2265840" cy="2572920"/>
              <a:chOff x="1447200" y="4327560"/>
              <a:chExt cx="2265840" cy="2572920"/>
            </a:xfrm>
          </p:grpSpPr>
          <p:sp>
            <p:nvSpPr>
              <p:cNvPr id="188" name=""/>
              <p:cNvSpPr/>
              <p:nvPr/>
            </p:nvSpPr>
            <p:spPr>
              <a:xfrm>
                <a:off x="1555920" y="4701960"/>
                <a:ext cx="2157120" cy="673920"/>
              </a:xfrm>
              <a:prstGeom prst="rightArrow">
                <a:avLst>
                  <a:gd name="adj1" fmla="val 50000"/>
                  <a:gd name="adj2" fmla="val 80021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N,NN+1,RING,F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47200" y="4327560"/>
                <a:ext cx="226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rga do Tráfi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28440" y="6226200"/>
                <a:ext cx="1533600" cy="674280"/>
              </a:xfrm>
              <a:prstGeom prst="rightArrow">
                <a:avLst>
                  <a:gd name="adj1" fmla="val 50000"/>
                  <a:gd name="adj2" fmla="val 56861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N,FA,NN+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20960" y="5657760"/>
                <a:ext cx="129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loque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1903680" y="1066680"/>
            <a:ext cx="5349960" cy="536040"/>
            <a:chOff x="1903680" y="1066680"/>
            <a:chExt cx="5349960" cy="536040"/>
          </a:xfrm>
        </p:grpSpPr>
        <p:sp>
          <p:nvSpPr>
            <p:cNvPr id="193" name=""/>
            <p:cNvSpPr/>
            <p:nvPr/>
          </p:nvSpPr>
          <p:spPr>
            <a:xfrm>
              <a:off x="1903680" y="106668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entraliz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2720" y="114300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í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87480" y="1058760"/>
          <a:ext cx="8485200" cy="170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058760"/>
                    <a:ext cx="8485200" cy="170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 X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1676520"/>
            <a:ext cx="3581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 em alto tráf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 flex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priado para Macro-cél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Probabilidade de terminação forçada de cham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o Esforço Compu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 Complexidade na 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 carga de sin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o/Intenso planejamento de freqü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160020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 em moderado ou leve t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priado para Micro-Célu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xa/Moderada Probabilidade de terminação forçada de cham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 Esforço Compu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Complexidade na 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carga de sin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 planejamento de freqüê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9040" y="10666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404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ras Esqu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523880"/>
            <a:ext cx="304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verlapping Ce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Suger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6" name="areanovo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14680" cy="464688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3048120" y="2819520"/>
            <a:ext cx="2209680" cy="304560"/>
            <a:chOff x="3048120" y="2819520"/>
            <a:chExt cx="2209680" cy="304560"/>
          </a:xfrm>
        </p:grpSpPr>
        <p:sp>
          <p:nvSpPr>
            <p:cNvPr id="208" name=""/>
            <p:cNvSpPr/>
            <p:nvPr/>
          </p:nvSpPr>
          <p:spPr>
            <a:xfrm>
              <a:off x="3048120" y="2819520"/>
              <a:ext cx="30456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4280" y="2971800"/>
              <a:ext cx="533520" cy="15228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14800" y="2438280"/>
            <a:ext cx="2438280" cy="2057400"/>
            <a:chOff x="4114800" y="2438280"/>
            <a:chExt cx="2438280" cy="2057400"/>
          </a:xfrm>
        </p:grpSpPr>
        <p:sp>
          <p:nvSpPr>
            <p:cNvPr id="211" name=""/>
            <p:cNvSpPr/>
            <p:nvPr/>
          </p:nvSpPr>
          <p:spPr>
            <a:xfrm>
              <a:off x="4114800" y="2438280"/>
              <a:ext cx="22860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1120" y="3124080"/>
              <a:ext cx="152280" cy="4572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95680" y="3124080"/>
              <a:ext cx="22860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3600" y="4114800"/>
              <a:ext cx="152280" cy="38088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3809880"/>
              <a:ext cx="380880" cy="15264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57600" y="29718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29718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48120" y="2819520"/>
            <a:ext cx="2209680" cy="304560"/>
            <a:chOff x="3048120" y="2819520"/>
            <a:chExt cx="2209680" cy="304560"/>
          </a:xfrm>
        </p:grpSpPr>
        <p:sp>
          <p:nvSpPr>
            <p:cNvPr id="219" name=""/>
            <p:cNvSpPr/>
            <p:nvPr/>
          </p:nvSpPr>
          <p:spPr>
            <a:xfrm>
              <a:off x="3048120" y="2819520"/>
              <a:ext cx="304560" cy="22860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24280" y="2971800"/>
              <a:ext cx="533520" cy="1522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581280" y="2895480"/>
            <a:ext cx="533520" cy="15264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486400" y="2514600"/>
            <a:ext cx="457200" cy="60948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nda não se chegou num modelo defin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modelo é mais adequado a um tipo ambiente, e não ao 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tendência da infra-estrutura de micro ou pico cél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 tendência a alocação dinâ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.Katezela, M. Naghsshineh. Channel assigment schemes for cellular mobile telecomunications systems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inicurso: Infra-estrutura de redes celulares e serviços, em III workshop de comunicação sem fio e computação mó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é Alocação de Cana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cação de Canais Fixa, Dinâmica, Híbr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cação Fix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cação Dinâm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cação Híbr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os esqu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a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5029200" cy="384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cupação em se manter a conex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762120"/>
            <a:ext cx="822960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PC - Tempo Requerido de Permanência da Cham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mpo que o usuário deseja permanecer na chamada, isto é, tempo total da chamada sem interrup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C - Tempo Atual de Permanência da Ch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ação final da chamada com ou sem interrup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 que é Alocação de Cana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são do spectrum de freqüência para formar os ca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600200" y="37335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58128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1480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464832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105520"/>
            <a:ext cx="1616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33920" y="3809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3809880"/>
            <a:ext cx="3049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naL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638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809880"/>
            <a:ext cx="304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3809880"/>
            <a:ext cx="304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3809880"/>
            <a:ext cx="3045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aL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95880" y="3809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5638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3962520"/>
            <a:ext cx="18288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s os canais compartilham a largura de banda, identificação por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9520" y="567684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ü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4720" y="5715000"/>
            <a:ext cx="119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65240" y="5715000"/>
            <a:ext cx="121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e Cana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F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Dinâ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Híbr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ição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ição não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5909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ratégias de Empréstimo de Ca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íbri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mpréstimo canai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219320"/>
            <a:ext cx="3276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from Richest (SB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sic Algorithm(B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.Algorithm with Reassi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First Available(BF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1219320"/>
            <a:ext cx="4724280" cy="1676160"/>
            <a:chOff x="4419720" y="1219320"/>
            <a:chExt cx="4724280" cy="1676160"/>
          </a:xfrm>
        </p:grpSpPr>
        <p:sp>
          <p:nvSpPr>
            <p:cNvPr id="164" name=""/>
            <p:cNvSpPr/>
            <p:nvPr/>
          </p:nvSpPr>
          <p:spPr>
            <a:xfrm>
              <a:off x="4419720" y="1219320"/>
              <a:ext cx="16002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lex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i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67280" y="1219320"/>
              <a:ext cx="16002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lexib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r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i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15200" y="1219320"/>
              <a:ext cx="18288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u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i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i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99cc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ito pou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752480" y="3581280"/>
            <a:ext cx="304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with channel ordering (B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orrow with directional channel locking(BDC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66680" y="1143000"/>
            <a:ext cx="257400" cy="4251600"/>
            <a:chOff x="1066680" y="1143000"/>
            <a:chExt cx="257400" cy="4251600"/>
          </a:xfrm>
        </p:grpSpPr>
        <p:sp>
          <p:nvSpPr>
            <p:cNvPr id="169" name=""/>
            <p:cNvSpPr/>
            <p:nvPr/>
          </p:nvSpPr>
          <p:spPr>
            <a:xfrm>
              <a:off x="1066680" y="1143000"/>
              <a:ext cx="257400" cy="179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3597120"/>
              <a:ext cx="257400" cy="179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IBR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866560" y="3733920"/>
            <a:ext cx="2265480" cy="2572920"/>
            <a:chOff x="5866560" y="3733920"/>
            <a:chExt cx="2265480" cy="2572920"/>
          </a:xfrm>
        </p:grpSpPr>
        <p:sp>
          <p:nvSpPr>
            <p:cNvPr id="172" name=""/>
            <p:cNvSpPr/>
            <p:nvPr/>
          </p:nvSpPr>
          <p:spPr>
            <a:xfrm>
              <a:off x="6104160" y="4108320"/>
              <a:ext cx="1868040" cy="673920"/>
            </a:xfrm>
            <a:prstGeom prst="rightArrow">
              <a:avLst>
                <a:gd name="adj1" fmla="val 50000"/>
                <a:gd name="adj2" fmla="val 69298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CA,BCO,BD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6560" y="3733920"/>
              <a:ext cx="22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ga do Tráf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05960" y="5632560"/>
              <a:ext cx="1868040" cy="674280"/>
            </a:xfrm>
            <a:prstGeom prst="rightArrow">
              <a:avLst>
                <a:gd name="adj1" fmla="val 50000"/>
                <a:gd name="adj2" fmla="val 69261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DCL,BCO,F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0680" y="506412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oque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Fixa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mpréstimo canai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219320"/>
            <a:ext cx="3276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ple F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atic Borr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ple channel borr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ibryd channel borr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1219320"/>
            <a:ext cx="1600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x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-Baix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-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1219320"/>
            <a:ext cx="1600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x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1219320"/>
            <a:ext cx="2514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hibrido em alto 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F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FCA e Static Borrowing em tráfico moderado e l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que FCA em tráfico moderado e leve. Melhor que simple borrowing em alto 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inâm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í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5T15:46:24Z</dcterms:created>
  <dc:creator>alessandro</dc:creator>
  <dc:description/>
  <dc:language>en-US</dc:language>
  <cp:lastModifiedBy>alessandro</cp:lastModifiedBy>
  <cp:lastPrinted>2001-10-11T17:17:57Z</cp:lastPrinted>
  <dcterms:modified xsi:type="dcterms:W3CDTF">2001-10-11T17:23:40Z</dcterms:modified>
  <cp:revision>25</cp:revision>
  <dc:subject/>
  <dc:title>Políticas de Hand-off com Balanceamento de Carga para Computação Móvel</dc:title>
</cp:coreProperties>
</file>