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2E9-CA23-40A3-AA87-1C310D44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AA2-CF04-4D11-989C-62C2B90F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CDC-789D-4986-AE2B-5BA19DA9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140-5276-4574-A5FE-3ED8FD9A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874-E68C-4880-B9F8-6B9C9DE7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89E-C99E-4CF2-8D55-E8DE0BF7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6F6-06F2-433C-989C-E43CCF19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147-90E9-45A1-A5C5-78853826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5BA-A40F-4575-A76A-0154C0B7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5F6-562C-4F11-ADC0-473FC83B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35B-4E1B-49E7-9EBA-E3BD8D28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69D-32E8-41B6-89BF-3F296EA3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B9DC-6B36-4412-ADE2-1565519D4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9900"/>
                </a:solidFill>
                <a:latin typeface="Times New Roman"/>
              </a:rPr>
              <a:t>PSIT</a:t>
            </a:r>
            <a:br>
              <a:rPr sz="4400"/>
            </a:br>
            <a:br>
              <a:rPr sz="4400"/>
            </a:br>
            <a:r>
              <a:rPr b="1" lang="pt-BR" sz="2800" spc="-1" strike="noStrike">
                <a:solidFill>
                  <a:srgbClr val="009900"/>
                </a:solidFill>
                <a:latin typeface="Times New Roman"/>
              </a:rPr>
              <a:t>Protótipo de Serviço de Informação</a:t>
            </a:r>
            <a:br>
              <a:rPr sz="2800"/>
            </a:br>
            <a:r>
              <a:rPr b="1" lang="pt-BR" sz="2800" spc="-1" strike="noStrike">
                <a:solidFill>
                  <a:srgbClr val="009900"/>
                </a:solidFill>
                <a:latin typeface="Times New Roman"/>
              </a:rPr>
              <a:t>sobre o Trânsito</a:t>
            </a:r>
            <a:br>
              <a:rPr sz="2800"/>
            </a:br>
            <a:br>
              <a:rPr sz="2800"/>
            </a:br>
            <a:r>
              <a:rPr b="0" i="1" lang="pt-BR" sz="2400" spc="-1" strike="noStrike">
                <a:solidFill>
                  <a:srgbClr val="009900"/>
                </a:solidFill>
                <a:latin typeface="Times New Roman"/>
              </a:rPr>
              <a:t>http://www.ime.usp.br/~sidam/software/psit</a:t>
            </a:r>
            <a:br>
              <a:rPr sz="2400"/>
            </a:br>
            <a:endParaRPr b="0" lang="en-US" sz="2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724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icardo Koji Ushiza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ovembro/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iko@ime.usp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cc"/>
                </a:solidFill>
                <a:latin typeface="Times New Roman"/>
              </a:rPr>
              <a:t>InformationServer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Servidor de armazenamento de MD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o ser criado, envia sua lista de MDs para um 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LocatorServer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Utiliza um Banco de Dados simpl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Mantém objetos MDs na memóri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Utiliza cache de d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T - Ricardo Koji Ushizaki - riko@ime.usp.b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75E-3464-4959-81C0-D0E1CBEF23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erver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5943600" cy="4133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cc"/>
                </a:solidFill>
                <a:latin typeface="Times New Roman"/>
              </a:rPr>
              <a:t>InformationServer (</a:t>
            </a:r>
            <a:r>
              <a:rPr b="1" i="1" lang="pt-BR" sz="4400" spc="-1" strike="noStrike">
                <a:solidFill>
                  <a:srgbClr val="ccffcc"/>
                </a:solidFill>
                <a:latin typeface="Times New Roman"/>
              </a:rPr>
              <a:t>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828800"/>
            <a:ext cx="1981440" cy="33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Clientes executam Query / Update remotamente em algum 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Serv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T - Ricardo Koji Ushizaki - riko@ime.usp.b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6A6-3AF5-4D04-8D5C-517BE8B469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erver_init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086600" cy="648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T - Ricardo Koji Ushizaki - riko@ime.usp.b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BC0-0C60-4D69-965F-A7DC67F657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Times New Roman"/>
              </a:rPr>
              <a:t>Cliente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Realiza buscas/atualizações de informações dos MD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o ser criado, requisita ao 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SIDAM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 InformationServers 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disponívei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Escolhe-se um Information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pt-BR" sz="26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) para realizar a busca/atualização de um M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Se MD pertence ao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, este retorna o(s) MD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Senão, o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irá pedir ao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LocatorServer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 a localização do MD procurad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Então,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 consulta o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InformationServer dono da informação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, e o mesmo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repassa a resposta ao cli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T - Ricardo Koji Ushizaki - riko@ime.usp.b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5A0-4AEC-4CD3-AFA4-2E4C1DE13B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Times New Roman"/>
              </a:rPr>
              <a:t>Mais Características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Utiliza o 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Generic Graph Package for Java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Uso de cache de dados nas consulta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ação dinâmica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de objet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vidores conseguem detectar uma reconfiguração da malha (ex: falha de algum servidor), e proceder conforme cada c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T - Ricardo Koji Ushizaki - riko@ime.usp.b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F7D-48BB-4AAA-9573-F268CF4F58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ccffcc"/>
                </a:solidFill>
                <a:latin typeface="Times New Roman"/>
              </a:rPr>
              <a:t>Distributed Component Configurator</a:t>
            </a:r>
            <a:endParaRPr b="0" lang="en-US" sz="36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Profa. Dilma estendeu as idéias dos </a:t>
            </a:r>
            <a:r>
              <a:rPr b="1" i="1" lang="pt-BR" sz="2600" spc="-1" strike="noStrike">
                <a:solidFill>
                  <a:srgbClr val="000000"/>
                </a:solidFill>
                <a:latin typeface="Times New Roman"/>
              </a:rPr>
              <a:t>Component Configurator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desenvolvidos pelo prof. Fabio Ko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Representam as interdependências entre os servidore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Consegue-se gerenciar melhor essas dependências: falhas nos servidores são detectadas pelos outros elementos do sistem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Em particular, criam-se objetos 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Configurators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que tratam e tentam contornar essas falha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T - Ricardo Koji Ushizaki - riko@ime.usp.b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7B6-5AC5-4D82-803A-1180D460B4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Projeto SIDA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http://www.ime.usp.br/~sid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Generic Graph Package for Jav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http://www.cs.rpi.edu/projects/pb/jgb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Component Configurato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http://choices.cs.uiuc.edu/2k/ComponentConfigurator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Página do PSI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http://www.ime.usp.br/~sidam/software/ps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T - Ricardo Koji Ushizaki - riko@ime.usp.b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024-086A-41E0-B638-E63C567496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3047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Permite realizar buscas/atualizações de dados distribuído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Servidores trocam informações usando Java RM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Desenvolvido pela profa. Dilma M. da Silva e Marcelo Luís Vinagreiro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828800"/>
            <a:ext cx="624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tótipo inicial para 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DA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istemas de Informações Distribuídas para Agentes Móve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T - Ricardo Koji Ushizaki - riko@ime.usp.b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D60-718A-4DC6-A8D4-5427E79329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Times New Roman"/>
              </a:rPr>
              <a:t>Descrição Geral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37339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idade de armazenamento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icro-Domínio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(MD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ição qualquer do graf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esenta um agrupamento de vias pública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600200"/>
            <a:ext cx="8153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Modelo armazena informação de um grafo particionado em subgraf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Em particular, armazena informações do trânsito na cidade de São Paul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Grafo representa a topologia da cidade de São Paul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T - Ricardo Koji Ushizaki - riko@ime.usp.b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90D-5D2F-46B8-8490-6C3698F0BC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et_sao_paulo_MD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08660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T - Ricardo Koji Ushizaki - riko@ime.usp.b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D98-41BF-4155-B58D-6446EC8679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Times New Roman"/>
              </a:rPr>
              <a:t>Descrição Geral </a:t>
            </a:r>
            <a:r>
              <a:rPr b="1" i="1" lang="en-US" sz="4400" spc="-1" strike="noStrike">
                <a:solidFill>
                  <a:srgbClr val="ccffcc"/>
                </a:solidFill>
                <a:latin typeface="Times New Roman"/>
              </a:rPr>
              <a:t>(cont.)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Divido em 4 partes principa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Information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rmazena um conjunto disjunto de M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Locator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Localiza  o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InformationServer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 responsável por determinado M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erviço SID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Gerenciador do sis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Realiza buscas/atualizações de informações pertinentes a M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T - Ricardo Koji Ushizaki - riko@ime.usp.b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01E-7EBD-48E6-BBF9-186821591F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Times New Roman"/>
              </a:rPr>
              <a:t>Arquitetura do PSIT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pic>
        <p:nvPicPr>
          <p:cNvPr id="53" name="PSIT_Sidam_Servers_2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T - Ricardo Koji Ushizaki - riko@ime.usp.b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E62-9764-4F12-8AE9-BAF66120A2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Times New Roman"/>
              </a:rPr>
              <a:t>Elementos Principais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pic>
        <p:nvPicPr>
          <p:cNvPr id="55" name="psit_packages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096240" cy="464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T - Ricardo Koji Ushizaki - riko@ime.usp.b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CD7-E6C3-41BC-AA4A-BAE30BFB91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Times New Roman"/>
              </a:rPr>
              <a:t>Serviço SIDAM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Gerenciador do sistem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Mantém conhecimento dos servidores disponívei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Clientes conectam-se ao serviço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Sidam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 e obtém os nomes de todos os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InformationServer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 disponívei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dam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6400800" cy="29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T - Ricardo Koji Ushizaki - riko@ime.usp.b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F94-7D68-40A5-85E9-FC7A9EE545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cc"/>
                </a:solidFill>
                <a:latin typeface="Times New Roman"/>
              </a:rPr>
              <a:t>LocatorServer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Permite a localização dos objetos (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InformationServers) 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responsáveis por determinado MD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o ser criado, registra-se junto ao 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Serviço SIDAM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cator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5105520" cy="47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T - Ricardo Koji Ushizaki - riko@ime.usp.b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2D2-CC0B-49CB-BF0B-D747712494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01:33:43Z</dcterms:created>
  <dc:creator>ushizaki</dc:creator>
  <dc:description/>
  <dc:language>en-US</dc:language>
  <cp:lastModifiedBy>ushizaki</cp:lastModifiedBy>
  <dcterms:modified xsi:type="dcterms:W3CDTF">2001-11-28T03:35:15Z</dcterms:modified>
  <cp:revision>77</cp:revision>
  <dc:subject/>
  <dc:title>PSIT  Protótipo de Serviço de Informação sobre o Trânsito  http://www.ime.usp.br/~sidam/software/psit </dc:title>
</cp:coreProperties>
</file>