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72F8-3E14-43BF-897D-2F91958FC6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DC4-5DF6-45B7-AB59-3C56A288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83B-A833-4A06-BD31-68D4AAA4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0C4-3572-484E-81AF-89099A33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BB4-7D68-40EB-B1E1-BE2A2960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2C26-EEF8-45EB-B97B-5FEC3093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7677-5043-485C-88A4-82AA382F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8311-D646-426D-873E-664C119D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B017-92AE-4E44-86AC-FD5688F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3B3C-2274-4A2E-980C-E1D53150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1175-1CEA-4674-B3B4-2FE7BA70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500F-C1FC-4A30-95C1-B6F28362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33C-53F1-40D0-BCD5-123188AB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D2DD-42E0-4CA3-9F97-FE75A49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E836-3991-45A2-BF25-F0EF7AC4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CB21-AE1F-4188-B2EB-A490D07D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B7FA-D12B-41EE-8D4C-9322B273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4C85-D022-4828-B88A-002CCBCA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451-E299-4B19-99CF-FBE9780E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A82-DC5B-4B66-BAD1-6786B7D1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0DF-262A-4BC3-A8E7-D86315E3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C16-56B8-4853-B356-77D30AC6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F13-67ED-45FF-AB5A-26BFB2CE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F89-73B0-45EC-AA2A-65425BDF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926-B717-4440-BE08-4F1D371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00800"/>
            <a:ext cx="1346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20E-97E5-4EA6-984D-C30F8A21A06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00800"/>
            <a:ext cx="35402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00800"/>
            <a:ext cx="12510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A139-F159-433B-8B69-04E9AD7A02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A767-7BAA-4942-98BD-C281372E329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B323-7884-40D4-943E-D681158F53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81080" y="-152640"/>
            <a:ext cx="6858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quitetura de Software II –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quisitos Arquitet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96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ópicos Avançados 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gramação Orientada a Objet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MAC 413 / 571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f. Fabio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ME / US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2D22-7186-48A4-91C2-41A9E2FF75B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A85945-19F2-4B8F-8DAC-A9BDB2BA9FCE}" type="datetime1">
              <a:rPr lang="en-US"/>
              <a:t>07/30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c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ângelo Ianelli -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fase figur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marinha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3124080" cy="2217960"/>
          </a:xfrm>
          <a:prstGeom prst="rect">
            <a:avLst/>
          </a:prstGeom>
          <a:ln w="0">
            <a:noFill/>
          </a:ln>
        </p:spPr>
      </p:pic>
      <p:pic>
        <p:nvPicPr>
          <p:cNvPr id="273" name="barcos" descr=""/>
          <p:cNvPicPr/>
          <p:nvPr/>
        </p:nvPicPr>
        <p:blipFill>
          <a:blip r:embed="rId2"/>
          <a:stretch/>
        </p:blipFill>
        <p:spPr>
          <a:xfrm>
            <a:off x="5791320" y="3992400"/>
            <a:ext cx="3352680" cy="2865600"/>
          </a:xfrm>
          <a:prstGeom prst="rect">
            <a:avLst/>
          </a:prstGeom>
          <a:ln w="0">
            <a:noFill/>
          </a:ln>
        </p:spPr>
      </p:pic>
      <p:pic>
        <p:nvPicPr>
          <p:cNvPr id="274" name="katia" descr=""/>
          <p:cNvPicPr/>
          <p:nvPr/>
        </p:nvPicPr>
        <p:blipFill>
          <a:blip r:embed="rId3"/>
          <a:stretch/>
        </p:blipFill>
        <p:spPr>
          <a:xfrm>
            <a:off x="557280" y="2133720"/>
            <a:ext cx="365292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876920" y="2057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rinha 19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rcos 19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5273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tia 19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3F5-BB48-4C3F-A993-BFFD317C675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C2C08-D099-46A1-B0A7-48600C0C84D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cângelo Ianelli –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cesso de abst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arvores" descr=""/>
          <p:cNvPicPr/>
          <p:nvPr/>
        </p:nvPicPr>
        <p:blipFill>
          <a:blip r:embed="rId1"/>
          <a:stretch/>
        </p:blipFill>
        <p:spPr>
          <a:xfrm>
            <a:off x="1371600" y="1433520"/>
            <a:ext cx="4114800" cy="3003480"/>
          </a:xfrm>
          <a:prstGeom prst="rect">
            <a:avLst/>
          </a:prstGeom>
          <a:ln w="0">
            <a:noFill/>
          </a:ln>
        </p:spPr>
      </p:pic>
      <p:pic>
        <p:nvPicPr>
          <p:cNvPr id="280" name="natureza" descr=""/>
          <p:cNvPicPr/>
          <p:nvPr/>
        </p:nvPicPr>
        <p:blipFill>
          <a:blip r:embed="rId2"/>
          <a:stretch/>
        </p:blipFill>
        <p:spPr>
          <a:xfrm>
            <a:off x="5181480" y="3603600"/>
            <a:ext cx="3962520" cy="3254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581280" y="5504040"/>
            <a:ext cx="2210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tureza M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1981080"/>
            <a:ext cx="22096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Árv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44D-2065-4E68-84EC-E4548DA28E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39922-6809-467C-A4A5-156206575AB2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cângelo Ianelli –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bras abstra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ruptura" descr=""/>
          <p:cNvPicPr/>
          <p:nvPr/>
        </p:nvPicPr>
        <p:blipFill>
          <a:blip r:embed="rId1"/>
          <a:stretch/>
        </p:blipFill>
        <p:spPr>
          <a:xfrm>
            <a:off x="1876320" y="1600200"/>
            <a:ext cx="3076560" cy="4267080"/>
          </a:xfrm>
          <a:prstGeom prst="rect">
            <a:avLst/>
          </a:prstGeom>
          <a:ln w="0">
            <a:noFill/>
          </a:ln>
        </p:spPr>
      </p:pic>
      <p:pic>
        <p:nvPicPr>
          <p:cNvPr id="285" name="azul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3403800" cy="4267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28800" y="58514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uptura 19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5867280"/>
            <a:ext cx="33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uperposição de Retângulos 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D7D-C0A3-4F92-AF97-2A83D025353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E638D-364B-4908-8CD0-AE361FE3D99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bst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O bom projetista de software deve ser capaz 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fetuar abstrações mentais de elementos de um sistema complexo 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ncluir abstrações bem elaboradas como parte do projeto arquitetura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bstrações em SO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ocesso, memória virtual, RP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322-4F7F-4230-A0FC-D9811598F3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F56BE-0151-4F14-B3D0-8B88139CF31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mpartilhamento de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400" y="1904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r um lado queremos um sistema modulariza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m baixo acoplamento entre os módulos 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m módulos bem coeso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r outro lado, precisamos identificar quais recursos devem ser compartilhados entre os diversos módul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ompartilhamento efica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vita duplicaçõ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promove desacoplamen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B45-4B74-44C1-929A-FD1232AF53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6A2EF-CDBA-4333-BE8C-A6F754CB02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quisitos Não-Funcion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Também chamados 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tributos de qualida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requisitos não comportamenta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screve não 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o que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um sistema faz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as sim 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como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le faz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adrão IEEE 830-1993 lista 13 requisitos não-funcionais para documentos de especificação de requisitos de softwar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8A3-891C-48A0-9FD0-229D73D8E5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EE0D5-5857-4738-A285-F3F4866158D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quisitos Arquiteturai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Não-Funcion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68040" y="2286000"/>
            <a:ext cx="3922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Usabilida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cilidade de apren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cilidade de us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Manutenibilida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51360" y="2285640"/>
            <a:ext cx="3392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Desempenh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Portabilidad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Reusabilidad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Seguranç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A42-259D-4080-AF1F-6C3606130B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BACB4-C1B2-4075-ADD5-5C8AF057C71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lguns Critérios para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edição de Us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empo para realizar uma taref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ercentual de tarefa concluído / temp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axa de sucessos / falha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empo consumido com err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Número de comandos utilizad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Número de comandos disponíveis não utilizad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reqüência de uso da documentaçã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028-51B9-4A9A-B293-3CF6D0F8E3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5740C-37DE-4A8A-8257-934BEAEB92ED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anuteni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04760" y="20574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acilidade de reparo de err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acilidade d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volu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ltera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 manutenibilidade será boa se o sistema 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ormado por módulos desacoplados e coes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arquitetura provê flexibilida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39E-0B9A-48E3-8EB7-7FFA129893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192BE-AFDF-4352-A7D1-6D87FDB8148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nfi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isponibilidad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.ex. 99.999% do tempo ou das requisiçõ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axa de ocorrência de falh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lha = ocorrência de comportamento inesperado, p.ex., 2+2=5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Probabilidade de falha durante operaç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empo médio até ocorrência de falh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TTF é usado com discos, por exempl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FF1-5CF8-4301-A1BA-9B5872F212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006B6-B4C6-4F38-B6B4-A160F6EF3E71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quisitos Arquitet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Antes de projetar uma Arquitetura: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modelagem do problem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identificação dos requisito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funcionai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não-funcionai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4A3-D7EC-4DCC-B54F-0D3C82448D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DC1CB-E9D5-400F-8AAA-7CF35C5FC3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Confi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 Narrow"/>
              </a:rPr>
              <a:t>Mean Time Between Failu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TBF = MTTF + MTT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onde MTTR é o tempo para repar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isponibilidade = MTTF / (MTTF + MTTR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9CD-2890-4D3B-BD41-AACC9D5314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6753C-696C-4B7F-9901-1C09A2E4DBDE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Desempen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2209680"/>
            <a:ext cx="2743200" cy="83844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3581280"/>
            <a:ext cx="167652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3581280"/>
            <a:ext cx="190512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4952880"/>
            <a:ext cx="137160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t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952880"/>
            <a:ext cx="152424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4952880"/>
            <a:ext cx="152424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4952880"/>
            <a:ext cx="1600200" cy="6858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cundá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5600" y="3048120"/>
            <a:ext cx="1841400" cy="536400"/>
          </a:xfrm>
          <a:custGeom>
            <a:avLst/>
            <a:gdLst/>
            <a:ahLst/>
            <a:rect l="l" t="t" r="r" b="b"/>
            <a:pathLst>
              <a:path w="1160" h="338">
                <a:moveTo>
                  <a:pt x="1158" y="0"/>
                </a:moveTo>
                <a:lnTo>
                  <a:pt x="1160" y="196"/>
                </a:lnTo>
                <a:lnTo>
                  <a:pt x="0" y="196"/>
                </a:lnTo>
                <a:lnTo>
                  <a:pt x="0" y="3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3359160"/>
            <a:ext cx="1752480" cy="222120"/>
          </a:xfrm>
          <a:custGeom>
            <a:avLst/>
            <a:gdLst/>
            <a:ahLst/>
            <a:rect l="l" t="t" r="r" b="b"/>
            <a:pathLst>
              <a:path w="1104" h="140">
                <a:moveTo>
                  <a:pt x="1104" y="140"/>
                </a:moveTo>
                <a:lnTo>
                  <a:pt x="110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4267080"/>
            <a:ext cx="761760" cy="689040"/>
          </a:xfrm>
          <a:custGeom>
            <a:avLst/>
            <a:gdLst/>
            <a:ahLst/>
            <a:rect l="l" t="t" r="r" b="b"/>
            <a:pathLst>
              <a:path w="1160" h="338">
                <a:moveTo>
                  <a:pt x="1158" y="0"/>
                </a:moveTo>
                <a:lnTo>
                  <a:pt x="1160" y="196"/>
                </a:lnTo>
                <a:lnTo>
                  <a:pt x="0" y="196"/>
                </a:lnTo>
                <a:lnTo>
                  <a:pt x="0" y="3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4648320"/>
            <a:ext cx="1067040" cy="304560"/>
          </a:xfrm>
          <a:custGeom>
            <a:avLst/>
            <a:gdLst/>
            <a:ahLst/>
            <a:rect l="l" t="t" r="r" b="b"/>
            <a:pathLst>
              <a:path w="1104" h="140">
                <a:moveTo>
                  <a:pt x="1104" y="140"/>
                </a:moveTo>
                <a:lnTo>
                  <a:pt x="110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4267080"/>
            <a:ext cx="1066680" cy="685800"/>
          </a:xfrm>
          <a:custGeom>
            <a:avLst/>
            <a:gdLst/>
            <a:ahLst/>
            <a:rect l="l" t="t" r="r" b="b"/>
            <a:pathLst>
              <a:path w="1160" h="338">
                <a:moveTo>
                  <a:pt x="1158" y="0"/>
                </a:moveTo>
                <a:lnTo>
                  <a:pt x="1160" y="196"/>
                </a:lnTo>
                <a:lnTo>
                  <a:pt x="0" y="196"/>
                </a:lnTo>
                <a:lnTo>
                  <a:pt x="0" y="3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4648320"/>
            <a:ext cx="1066680" cy="304560"/>
          </a:xfrm>
          <a:custGeom>
            <a:avLst/>
            <a:gdLst/>
            <a:ahLst/>
            <a:rect l="l" t="t" r="r" b="b"/>
            <a:pathLst>
              <a:path w="1104" h="140">
                <a:moveTo>
                  <a:pt x="1104" y="140"/>
                </a:moveTo>
                <a:lnTo>
                  <a:pt x="110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E0F-C957-4BEE-8C1A-3317026AE37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8D670-7B8E-4752-A3D6-1A5E0879AF3F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ort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2362320"/>
            <a:ext cx="2209680" cy="76176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3733920"/>
            <a:ext cx="37339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face de Por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4724280"/>
            <a:ext cx="1905120" cy="76212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lataform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4724280"/>
            <a:ext cx="1676520" cy="76212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4724280"/>
            <a:ext cx="1676520" cy="76212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5049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00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BEC-1947-417C-9457-2BA68BE3A06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62B69-2B9A-4703-8EDE-F71C91732B6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usabil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Reuso d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plicação (p.ex. em diferentes plataforma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ubsistem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Módul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unçõ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B74-C099-4681-8931-6CD5E6E400C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948D2-BF0B-4DD9-8BE5-9E6ED0C97EC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eguranç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08240" y="213336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dentificação (de usuários e objeto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utentificaç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ontrole de Acess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Garantia de Integrida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Garantia de Disponibilida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uditoria de Seguranç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etecção de Comportamento Suspeit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3F6-C2FD-4B68-9915-251EA1BA3E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0A703-3D78-4D8A-91D5-90086D3899F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 Narrow"/>
              </a:rPr>
              <a:t>Arquitetura de Software – Desenvolvimento orientado para arquitetura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. Antonio Mendes. Editora Campus, 2002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8EC-E944-472F-A0AA-4D0D7EE98F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E2DC5-7A34-4D49-AF1C-432B499E5D0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dentificação de Requisito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rquitet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2057400"/>
            <a:ext cx="1828800" cy="1143000"/>
          </a:xfrm>
          <a:prstGeom prst="flowChartMultidocumen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ob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arquitet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exist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3809880"/>
            <a:ext cx="1371600" cy="990720"/>
          </a:xfrm>
          <a:prstGeom prst="foldedCorner">
            <a:avLst>
              <a:gd name="adj" fmla="val 37962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 domí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962520"/>
            <a:ext cx="1524240" cy="68580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dentif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s 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3962520"/>
            <a:ext cx="1523880" cy="685800"/>
          </a:xfrm>
          <a:prstGeom prst="flowChartProcess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nálise 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enários de 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5562720"/>
            <a:ext cx="190512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jeto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5334120"/>
            <a:ext cx="1828800" cy="914400"/>
          </a:xfrm>
          <a:prstGeom prst="wedgeEllipseCallout">
            <a:avLst>
              <a:gd name="adj1" fmla="val 37500"/>
              <a:gd name="adj2" fmla="val -121527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periência do arquit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4380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14800" y="4654440"/>
            <a:ext cx="1538280" cy="1289160"/>
          </a:xfrm>
          <a:custGeom>
            <a:avLst/>
            <a:gdLst/>
            <a:ahLst/>
            <a:rect l="l" t="t" r="r" b="b"/>
            <a:pathLst>
              <a:path w="969" h="812">
                <a:moveTo>
                  <a:pt x="969" y="812"/>
                </a:moveTo>
                <a:lnTo>
                  <a:pt x="0" y="80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08660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30481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FB4-5548-46F4-B641-68A2141B45C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0EFC6-FAEB-4ED0-9B15-69E90BF93C9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tributos de Proje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Norteiam o processo de desenvolvimento de softwa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Visam satisfazer os requisitos arquitetura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ão qualidades desejáveis em sistemas de softwar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eparação de Interes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bstraç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odularida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ompartilhamento de Recurs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3AA-1758-4E92-ADDF-0207478932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F34C7-4D99-43CA-8019-3F52266AD448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eparação de Inter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08240" y="2057040"/>
            <a:ext cx="64785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 Narrow"/>
              </a:rPr>
              <a:t>Separation of Concern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onsiste em separar/isolar os diferentes aspectos de um sistem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e todos os aspectos estão muito inter-relacionados, fica difícil tratar deles independentement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Exemplos de aspectos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egurança, confiabilidade, desempenho,.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D11-632E-4528-A160-DB48AAC94F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72C35-A943-452C-B92D-F5C83C636E0C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odular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istemas de grande porte precisam ser divididos em módulos; caso contrário, tornam-se intratávei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juda em duas situaçõ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ffcc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odemos lidar com os detalhes internos de cada módulo sem se preocupar com o mundo exterior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ffcc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quando lidamos com os inter-relacionamentos entre os vários módulos de um sistem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CDB-7CE0-4123-8DF1-9C419A9611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DB3CC-C48C-451A-A297-B55539AC5C8B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Modular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904760" y="2057040"/>
            <a:ext cx="69339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 modularidade tenta atingir três met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apacidade de decompor um sistema complexo ou de grande porte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apacidade de compor um sistema a partir de um conjunto de módulos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acilitar a compreensão de sistemas complex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8AF-ABD9-42D8-8B8E-E2E0C04C71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DCD88-92D8-4E06-8BD2-E50D18A41FE0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bst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Uma forma poderosa de se lidar com complexidad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bstração consiste em um processo no qual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dentificamos os aspectos essenciais de um fenômeno 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gnoramos os detalhes ou aspectos não relevant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Foi o caminho percorrido pela pintura ao longo dos séculos XIX e XX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886-A298-4729-A040-B734779FE9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B2439-4EFE-41F4-B2DB-0D037DF8CF99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tura figur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oussin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4064040" cy="2933640"/>
          </a:xfrm>
          <a:prstGeom prst="rect">
            <a:avLst/>
          </a:prstGeom>
          <a:ln w="0">
            <a:noFill/>
          </a:ln>
        </p:spPr>
      </p:pic>
      <p:pic>
        <p:nvPicPr>
          <p:cNvPr id="268" name="rembrandt-nightwatch" descr=""/>
          <p:cNvPicPr/>
          <p:nvPr/>
        </p:nvPicPr>
        <p:blipFill>
          <a:blip r:embed="rId2"/>
          <a:stretch/>
        </p:blipFill>
        <p:spPr>
          <a:xfrm>
            <a:off x="5486400" y="3402000"/>
            <a:ext cx="3657600" cy="3456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828800" y="44197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icolas Pouss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94-1665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'été ou Ruth et Boo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 1660-166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760840"/>
            <a:ext cx="281952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onda Noturna   Rem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6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C0F-5191-497A-97C0-481E16C2B8E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C434F-A702-47DD-B70D-BFC97C187A34}" type="datetime1">
              <a:rPr lang="en-US"/>
              <a:t>07/30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y Burton</cp:lastModifiedBy>
  <dcterms:modified xsi:type="dcterms:W3CDTF">2002-09-24T19:23:01Z</dcterms:modified>
  <cp:revision>13</cp:revision>
  <dc:subject/>
  <dc:title>Apresentação do PowerPoint</dc:title>
</cp:coreProperties>
</file>