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BC4A-F5A6-4317-A0B9-AC70FEC09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476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D3E5-DD3A-4858-A6A6-709547FA8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51D9-7DEB-48AD-AE40-A49CBFDF8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476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476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476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EDD3-B552-4190-A2D2-13EEC4835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87B-4450-45CB-9497-357F840F77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2C2-A7C7-475B-AF0D-B8CC0D62F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C8E-4B3F-4E59-B14B-1C47F750A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4A6-19E6-4F6A-A747-769AA1E2F1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52D-A6B8-4B4A-915B-E314FFB90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2E57-74A9-4784-BCB3-8007477D18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6E5-2B4A-4F80-82D0-60EA851F7D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F3D7-A54C-48E8-AC12-816B5BA95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EF0-8EAD-4CFD-B21A-979111A71B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6476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8A7-F40A-4701-AF24-62473D9BAF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6476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70B-6B56-44E7-AF8A-EA0E123725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9B3-FE28-4F22-9823-A64A4F96FC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6476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6476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6476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680-16C6-48A5-996F-51B8EBB59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42366-D3A5-46E4-B8B0-03F52A163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894D-1634-40DF-9A35-70FE9F2B4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37EA-5D90-43B9-8EF6-78D92E7D0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C7C0-51CF-40B1-B4A5-E8B51D3F0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33B8-23C9-45A9-BC8F-292031F92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476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4C50-EC77-45FF-A4A0-08723A004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476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A3E4-417E-40C9-A52D-72F9DC36E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46240"/>
            <a:ext cx="878508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9840"/>
            <a:ext cx="8915400" cy="1447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odrigo Mendes L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576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B485-301A-43FB-A722-DA4C2EC23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35200"/>
            <a:ext cx="9144000" cy="510516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3"/>
          </p:nvPr>
        </p:nvSpPr>
        <p:spPr>
          <a:xfrm>
            <a:off x="6553080" y="65768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9CF6-3FB4-4506-91EC-BECB692F56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REFATORAMENTO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MAC 413 - Tópicos de Programação Orientada a Objet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Rodrigo Mendes Le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BCC 99 - IME - US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2 de outubro de 200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307-7E20-4A8A-A471-F16875C48F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sum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você tem um grupo de parâmetros que naturalmente ficam juntos. Substitua-os por um objeto-parâme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refat4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53416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1549-A2F7-4A82-B7B7-B5807AF7DA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otivaçã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frequentemente um mesmo conjunto de parâmetros é utilizado por vários métodos. Substitua esses parâmetros por um objeto que carregue todos os seus dados (objeto-parâmet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Benefícios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dução do tamanho das listas de parâmetros dos mét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ódigo fica mais consistente (devido à criação de métodos de acesso aos dad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ortamento que manipula os dados pode ser movido para a nova 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2EFB-02D3-4102-832C-92EE23D73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ecân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e uma nova classe, imutável, para representar o grupo de parâmetros a ser substituí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Add Parameter (275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para a nova classe. P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m todas as chamadas de métodos que a us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cada parâmetro do grupo de parâmetros, remova-o. Modifique os chamadas e o corpo do método para usar o objeto-parâmetro para aquel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09AE-EF89-4EA1-88CD-3B6A7A907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ecânica (continuação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e e teste após remover cada parâme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pois de ter removido todos os parâmetros, procure comportamento que possa ser movido para o objeto-parâmetro, usand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Move Method (142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E43B-9A51-45F4-8469-4F95B253E5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uma conta bancária e entra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Entry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try(double value, Date chargeDat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value = 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chargeDate = chargeDa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ate getDate() { return _chargeDat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ate getValue() { return _valu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Date _chargeDat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double _val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8311-196A-467F-8AE3-0BB1E3AC6A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ora, a co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Accou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Vector _entries = new Vec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getFlowBetween(Date start, Date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_entries.element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try each = (Entry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each.getDate.equals(start) || each.getDate.equals(end) || (each.getDate().after(start) &amp;&amp; each.getDate().before(end)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Valu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575160" y="56386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Clien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double flow = anAccount.getFlowBetween(startDate, endDa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715000"/>
            <a:ext cx="51055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C8D4-3AD3-43E6-B131-41BBB070E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mos uma classe, imutável, para as duas dat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ateRang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ateRange(Date start, Date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start = star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end = en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ate getStart() { return _start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ate getEnd() { return _end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final Date _star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final Date _en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33A4-A107-467C-A9A1-418A6DDDC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dicionamos a nova classe na lista de parâ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Accou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getFlowBetween(Date start, Date end,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DateRange rang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_entries.element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try each = (Entry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each.getDate.equals(start) || each.getDate.equals(end) || (each.getDate().after(start) &amp;&amp; each.getDate().before(end)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Valu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575160" y="563868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Clien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double flow = anAccount.getFlowBetween(startDate, endDate,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null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715000"/>
            <a:ext cx="51055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1EE2-1EEC-43B9-AD7C-0497AD97C7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movemos o parâmetr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usamos o novo obje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Accou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getFlowBetween(Date end, DateRange rang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_entries.element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try each = (Entry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each.getDate.equals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range.getStart(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 || each.getDate.equals(end) || (each.getDate().after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range.getStart(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 &amp;&amp; each.getDate().before(end)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Valu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56386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Clien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double flow = anAccount.getFlowBetween(endDate,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new DateRange(startDate, null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715000"/>
            <a:ext cx="51055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8222-BB8C-4803-A115-C8B2D76C04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ora removemos o parâmetr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Accou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getFlowBetween(DateRange rang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_entries.element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try each = (Entry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each.getDate.equals(range.getStart()) || each.getDate.equals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range.GetEnd(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 || (each.getDate().after(range.getStart()) &amp;&amp; each.getDate().before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range.getEnd(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Valu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575160" y="5638680"/>
            <a:ext cx="44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Tahoma"/>
              </a:rPr>
              <a:t>Clien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double flow = anAccount.getFlowBetween(new DateRange(startDate,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endDat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715000"/>
            <a:ext cx="42670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38D4-4013-48B9-B323-EE8D8E3A1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Refatoramentos a serem abordados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Hide Delegate (15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Introduce Parameter Object (29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Extract Superclass (33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ahoma"/>
              </a:rPr>
              <a:t>Form Template Method (3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2574-06F7-475F-9D7E-E9B3B23A60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r fim, movemos comportamento par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DateRang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Accou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getFlowBetween(DateRange rang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uble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_entries.element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try each = (Entry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range.includes(each.getDate()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Valu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70C9-8B30-447A-AC99-635CF5836C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Introduce Parameter Object (29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DateRang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ateRange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boolean includes(Date ar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(arg.equals(_start) |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rg.equals(_end) |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arg.after(_start) &amp;&amp; arg.before(_end)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5A34-5469-44DA-B400-713BE0AF5A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sum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você tem duas classes com características similares. Crie uma superclasse e move as características comuns para ess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refat5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68680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D3F4-628D-4E39-8567-F31EE616BC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ivaçã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ódigo duplicado é um dos principais problemas em sistemas, pois dificulta modificações. Uma forma de duplicação é ter duas classes que fazem coisas similares (da mesma maneira ou não), pois possuem interface e comportamento semelhante. Elimine o código duplicado através de heranç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DBDE-B28C-40A1-AB08-586CA87985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ecân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e uma superclasse abstrata em branco; torne as classes originais subclasses dess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 por um, u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Field (32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Method (322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Constructor Body (325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para mover elementos comuns para 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e e teste após cada pas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amine os métodos restantes nas subclasses, e tente aplicar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xtract Method (11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eguid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Method (322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Form Template Method (345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B323-84A3-450C-92A6-369B224151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ecânica (continuação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ós mover os elementos em comum, cheque cada cliente das subclasses; se eles usam apenas a interface comum, mude o tipo requerido para 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0A15-0319-44D5-8D6A-77B239E84A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um empregado e um departam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Employee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Employee(String name, String id, int annualCost)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name =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id =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annualCost = annualCo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int getAnnualCost() { return _annualCost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getId() { return _id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getName() { return _nam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String _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int _annualCo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nvate String _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D2D4-C27E-4275-99F7-FC257576E7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ora o departam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epartment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String _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Vector _staff = new Vecto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Department(String name) { _name = nam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int getHeadCount() { return _staff.size()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Enumeration getStaff(){ return _staff.elements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void addStaff(Employee arg) {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staff.addElement(ar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getName() { return _nam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61CB-5C6A-4531-9FC0-FDA134306A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inda o departam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int getTotalAnnualCo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getStaff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mployee each = (Employee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AnnualCo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9299-AC2C-4B2F-960F-2389D42566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mos uma superclasse e estendemos as já exist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bstract class Party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Employee extends Party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epartment extends Party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licam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Field (32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Party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otected String _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Method (32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Part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getName() { return _nam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F0E6-29C5-4740-852D-7F9A9A8FFD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m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m cliente está chamando uma classe delegada de um objeto. Crie métodos no servidor para ocultar o deleg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refat1" descr=""/>
          <p:cNvPicPr/>
          <p:nvPr/>
        </p:nvPicPr>
        <p:blipFill>
          <a:blip r:embed="rId2"/>
          <a:stretch/>
        </p:blipFill>
        <p:spPr>
          <a:xfrm>
            <a:off x="609480" y="2971800"/>
            <a:ext cx="792504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68C4-0F06-47E0-875F-3E6CE69EAB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Constructor Body (325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Party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otected Party(String name) { _name = name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String _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Employee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Employee(String name, String id, int annualCost)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super(nam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id =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annualCost = annualCos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epart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Department(String name) {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super(name);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1DF9-E42C-4B35-8190-B3A394CE26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Rename Method (325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epartment extends Part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getAnnualCos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getStaff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mployee each = (Employee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AnnualCo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4448-6F5A-47A1-9B78-482FBBD033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Extract Superclass (336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claram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getAnnualCos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abstrato na superclas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bstract public int getAnnualCo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r fim, checamos os clientes das duas classes em busca de referências à interface com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epart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int getAnnualCos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e = getStaff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e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Party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each = (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Party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 e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.getAnnualCos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1CCE-8796-4BA2-9B39-DAC10667472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Resum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is métodos em subclasses executam passos similares na mesma ordem, mas mesmo assim os passos são diferentes. Coloque os passos em métodos com a mesma assinatura, de forma que os métodos originais tornem-se iguais. Então mande-os para 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530A-175B-430E-85E5-1B40CE0C54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refat6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05B09-8534-4E2E-A870-078E36C667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otivaçã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herança é uma ferramenta poderosa para eliminar comportamento duplicado. Quando dois métodos similares numa subclasse não são exatamente iguais, eliminamos a duplicação pegando a sequência de passos dos métodos, movendo-a para a superclasse e deixando polimorfismo assegurar que os passos diferentes executem código diferente. Esse tipo de método é chamad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emplate Method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[GoF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4A73-3CD4-4141-BCE7-C5F16D2910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ecân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componha os métodos de modo que todos os métodos extraídos sejam ou completamente idênticos ou completamente difer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Method (322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para mover os métodos idênticos n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os métodos diferentes u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Rename Method (273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e forma que as assinaturas de todos os métodos em cada passo sejam as mes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e e teste após cada mudança de assina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59EE-D15E-43FF-B365-9CDECCEF7CD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Mecânica (continuação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Method (322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um dos métodos originais. Defina os métodos diferentes como abstratos na superclas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ile e tes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mova os outros métodos, compile e teste após cada remo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8BBC-8637-4251-A71E-2DFDA3DC95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impressão de registros em ASCII e em HTM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cl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começa vaz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Statement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refat7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153200" cy="26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CC2A-E96E-4499-A420-EA0A990715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ext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“Rental Record for “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    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Name”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\t” + each.getMovie.getTitle() + “\t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Amount owed is ” + String.valueOf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Total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C5ED-CEF7-4786-B0D5-01AB019396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ivação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ma das chaves de POO é encapsulamento, pois facilita a implementação de mudanças. Se um cliente chama um método de um campo do servidor, o cliente precisa saber a respeito desse objeto delegado, diminuindo o encapsulamento. Elimine essa dependência criando um método que encapsule o objeto delegado no servid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refat2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861048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943C-56C3-402E-9B9E-50C173CEC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TML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“&lt;H1&gt;Rentals for &lt;EM&gt;“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    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Name” + “&lt;/EM&gt;&lt;/H1&gt;&lt;P&gt;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\t” + each.getMovie.getTitle() + “: 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&lt;BR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&lt;P&gt;You owe &lt;EM&gt;” + String.valueOf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TotalCharge()) + “&lt;/EM&gt;&lt;P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F2D7-3285-4411-A853-0C731EC394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m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xtract Method (11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o cabeçalh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headerString(aCustomer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\t” + each.getMovie.getTitle() + “\t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Amount owed is ” + String.valueOf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Total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8B2C7-2AFA-438D-8F26-692466AE20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TML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també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head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\t” + each.getMovie.getTitle() + “: 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&lt;BR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&lt;P&gt;You owe &lt;EM&gt;” + String.valueOf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TotalCharge()) + “&lt;/EM&gt;&lt;P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5C2F-3EDE-4196-8B53-5A6D45169BB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étod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eaderString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as duas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headerString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“Rental Record for “ + “aCustomer.getName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headerString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“&lt;H1&gt;Rentals for &lt;EM&gt;“ + “aCustomer.getName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“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&lt;/EM&gt;&lt;/H1&gt;&lt;P&gt;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DDE51-32D4-4F55-B71D-A1986C2857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m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xtract Method (11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o rodapé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head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\t” + each.getMovie.getTitle() + “\t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foot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F518-A122-452A-BBD5-E5EC662050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TML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també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head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“\t” + each.getMovie.getTitle() + “: 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&lt;BR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foot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326C-230F-4838-B84D-9A61C842B4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étod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footerString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as duas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footerString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“Amount owed is ” + String.valueOf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Total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footerString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“&lt;P&gt;You owe &lt;EM&gt;” + String.valueOf(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Customer.getTotalCharge()) + “&lt;/EM&gt;&lt;P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021A-A85F-4A80-8975-0B59587B5F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ora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xtract Method (110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o corpo do méto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head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eachRentalString(ea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foot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E2F7-7A3D-4E9D-9EB6-B9592522370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TML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també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head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</a:t>
            </a:r>
            <a:r>
              <a:rPr b="1" lang="pt-BR" sz="1800" spc="-1" strike="noStrike">
                <a:solidFill>
                  <a:srgbClr val="ff3300"/>
                </a:solidFill>
                <a:latin typeface="Courier New"/>
              </a:rPr>
              <a:t>eachRentalString(ea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foot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7EC4-8215-44F7-A362-5BC6491DD52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étod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eachRentalString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as duas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TextStatement extend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footerString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“\t” + each.getMovie.getTitle() + “\t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HTMLStatement extend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footerString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“\t” + each.getMovie.getTitle() + “: ” 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.valueOf(each.getCharge()) + “&lt;BR&gt;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A441-56B9-42B3-BA44-CC749DEFA9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cânic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ada método no objeto delegado, crie um método no servid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juste o cliente para chamar o servid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e teste após ajustar cada méto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nenhum cliente precisa acessar mais o objeto delegado, remova o método que acessa o delegado no servid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e tes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74E1-5FFE-402A-8F37-2D09037A1E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dois métod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ficaram iguais. Usam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ull Up Method (322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um deles, 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ext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String value(Customer aCustom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Enumeration rentals = aCustomer.getRental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ing result = head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rentals.hasMoreElements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ntal each = (Rental) rentals.nextEle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eachRentalString(ea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sult += footerString(aCusto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C1BC5-6A48-4741-AE58-41054BA1A2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claramos os três métodos auxiliares das subclasses como abstr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Statement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bstract String headerString(Customer aCostu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bstract String footerString(Customer aCostum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bstract String eachRentalString(Rental aRen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r fim, removem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Text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HTMLState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B0F2-0698-456F-93A4-031C43C8C84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Form Template Method (345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ado fi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refat8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771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450D-1F99-4645-A7A2-49BAFCEEB3F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Dúvidas?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Fonte: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Refactoring: Improving the Design of Existing Cod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- Martin Fowler, et al. - Addison-Wesl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-mail: leme@linux.ime.usp.b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37AB-D0B5-4EC0-9BB8-8E3E4B56228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começamos com uma pessoa e um departam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Perso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epartmento _departm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Department getDepartme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_departme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void setDepartment(Department ar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department = arg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5CE-E791-4DE4-86A9-02D0446285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ora a cl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Departa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class Departme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String _chargeCod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rivate Person _manage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Department(Person manag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_manager = manage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Person getManag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_manager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FA86-B8E0-4CF4-B725-3FAEE6A760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um cliente obter o gerente de uma pessoa, precisa do departamento primei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anager = john.getDepartment().getManag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so revela para o cliente a estrutura da cl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Departa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 Reduzimos esse acoplamento criando um método e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erso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public Person getManag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 _department.getManag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6422-58EE-451C-9A14-8366733B8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ff"/>
                </a:solidFill>
                <a:latin typeface="Tahoma"/>
              </a:rPr>
              <a:t>Hide Delegate (157)</a:t>
            </a:r>
            <a:endParaRPr b="1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gora mudamos todos os clientes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erso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para usar esse novo méto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manager = john.getManag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inalmente, removemos o métod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getDepartme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na class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erso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AC53-F7D1-4BA1-BC78-A9B1634C4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11:14Z</dcterms:created>
  <dc:creator>Rodrigo Mendes Leme</dc:creator>
  <dc:description/>
  <dc:language>en-US</dc:language>
  <cp:lastModifiedBy>Rodrigo Mendes Leme</cp:lastModifiedBy>
  <dcterms:modified xsi:type="dcterms:W3CDTF">2002-10-02T00:33:17Z</dcterms:modified>
  <cp:revision>362</cp:revision>
  <dc:subject/>
  <dc:title>Refatoramentos</dc:title>
</cp:coreProperties>
</file>