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C6C-2814-4A5F-A4D9-9A0E6A5C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35A-DE35-4BDD-A1F3-F4BD56A9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A7E-F080-4A8F-B6B0-5DD530C7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A3E-1F2E-4595-934B-94A96C6C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DF06-95E9-4054-BC50-B7EE155C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00FD-2E32-4ED4-8CEC-6FBCC462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7125-31C1-4411-A107-1857D02D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9726-32AF-4DBC-ACA0-F57FA80F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5F1B-9A99-4872-A1A4-EA005152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4511-FF11-4502-B2BD-602F60A1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A330-D3C4-4FAF-A149-864413B9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7FA-4B18-43EF-A41B-DA5D00E9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89A1-C661-4FD6-8078-0812AD3C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5C1E-5250-4418-A55E-F5A22629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1A47-25CB-4CD4-B256-4AA097EB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DC4D-3EC9-4446-A268-14BF4A0C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0041-E7AA-482C-AFBB-C717535B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A21-7552-438F-ADA6-4726869F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67E-9C7D-43AF-A7A7-8168B8F6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6AB-C81A-4D8E-A018-85AD6978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C9B-DD1B-4585-A435-96B7DE5F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987-61CF-4ED7-BB8E-2BE953A3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2EC-C977-4A00-A14B-1413E919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8F8-9850-4E41-8D11-3CEB0720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48EE-2ECE-4751-9549-4F2651E69AA6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1097-3CC7-4FED-A3C5-F4B9419D9A13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ece.uci.edu/~schmidt/" TargetMode="External"/><Relationship Id="rId2" Type="http://schemas.openxmlformats.org/officeDocument/2006/relationships/hyperlink" Target="mailto:Michael.Stal@mchp.siemens.de" TargetMode="External"/><Relationship Id="rId3" Type="http://schemas.openxmlformats.org/officeDocument/2006/relationships/hyperlink" Target="mailto:Michael.Stal@mchp.siemens.de" TargetMode="External"/><Relationship Id="rId4" Type="http://schemas.openxmlformats.org/officeDocument/2006/relationships/hyperlink" Target="mailto:Hans.Rohnert@mchp.siemens.de" TargetMode="External"/><Relationship Id="rId5" Type="http://schemas.openxmlformats.org/officeDocument/2006/relationships/hyperlink" Target="mailto:Hans.Rohnert@mchp.siemens.de" TargetMode="External"/><Relationship Id="rId6" Type="http://schemas.openxmlformats.org/officeDocument/2006/relationships/hyperlink" Target="mailto:Frank.Buschmann@mchp.siemens.de" TargetMode="External"/><Relationship Id="rId7" Type="http://schemas.openxmlformats.org/officeDocument/2006/relationships/hyperlink" Target="mailto:Frank.Buschmann@mchp.siemens.de" TargetMode="External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Reactor &amp; Proactor</a:t>
            </a:r>
            <a:br>
              <a:rPr sz="3600"/>
            </a:b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[POSA II]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"/>
              </a:rPr>
              <a:t>Flávio Régis de Arrud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"/>
              </a:rPr>
              <a:t>Leandro Farina dos Santo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Forças: (continuação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tegrar novos serviços com os existentes deve requerer mínimo esforç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ódigo da aplicação deve ser protegido da complexidade implícita em mecanismos multi-threading e de sincronizaçã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olu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guardar de forma síncrona pela chegada de eventos em uma ou mais fontes de event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tegrar os mecanismos que demultiplexam e disparam os eventos para serviços que sabem processá-l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sacoplar os mecanismos de demultiplexação e disparo do código específico da aplic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iagrama de clas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6553080" cy="42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articipa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Handles: São fornecidos pelo sistema operacional para identificar fontes de eventos tais como conexões de rede e arquivos aber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vent Handler especifica uma interface consistindo de um ou mais méto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articipantes: (continuação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ncrete Event Handler : especializa o Event Handler e implementa um serviço específico que a aplicação ofere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itiation Dispatcher(ou Reactor): define uma interface que permite aplicações registrarem ou removerem Event Handlers e seus respectivos handles. Usa seu demultiplexador síncrono de eventos para aguardar por ev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iagrama de even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920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Implement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multiplexação é possível em C/C++ usando bibliotecas nativas do S.O e em Java (1.4) via java.nio.channel.SelectableChann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eja exemplo de Implementação e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http://www.ime.usp.br/~regis/source.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anta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eparação de conceitos: Reactor desacopla o código da aplicação que trata os eventos do código que faz a demultiplexaçã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odularidade, reus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ortabilidade:Chamadas a funções do S.O ficam encapsuladas dentro do Synchronous Event Demultiplex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ntrole de concorrência de grão-lar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tende às requisições de forma ser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esvanta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plicabilidade restrita: Reactor pode ser implementado mais eficientemente se o S.O suporta Synchronous Event Demultiplex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ão pre-empitivo: problemas se um Concrete Event Handler realiza uma operação de I/O bloquea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aior dificuldade para depuração e teste: Inversão de controle faz com que durante a depuração o programador acabe entrando dentro do framewor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Usos conhec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Xt Toolk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RB Core componente tanto no ORBacus como no TAO Or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jeto Cocoon (Apach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jeto Spectr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istema eletrônico de imagens usa o padrão Reactor para construir um subsistema de transferência de I/O de alta velocidade em sistemas de imagens méd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oblema Comu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aximizar número de requisições atendid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tegrar novos serviços aos já existentes deve requerer o mínimo esforç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aplicação deve estar isolada da complexidade da programação multi-threa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Perguntas / Dúvidas?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Proactor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POSA II [215]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Introdu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Proactor se propõe a resolver a mesma espécie de problemas do reac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blemas com o React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ão é escalável para muitos usuários simultâne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ão é recomendado para requisições com operações assíncronas muito long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Generalização do Probl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plicações condicionadas a ev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perações assíncronas e concorr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lto desempenh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cabilid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ervidor W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ntrolador de I/O de um S.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ntexto (Servidor Web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ve processar muitos eventos simultâne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aximizar o fluxo de dados (evitar “overhead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vitar preocupação com concorrê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acilidade de manutenção e expans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olu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tru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déia por trás da solu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articipantes e suas Responsabilidad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nâm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municação e Fluxo de Da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xemplo Resolvi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mplement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Idéia da Solução</a:t>
            </a: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parar os mecanismos específicos da aplicações e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perações de longa duração (executadas assíncronamen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anipuladores de resultados (processam o resultado das operações e termin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visar os manipuladores quando as operações estiverem completas e prontas para pós-processa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s da Solu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0194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26920" y="6165360"/>
            <a:ext cx="76932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Fonte: Proactor Pattern - Chengyuan Pe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articipa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assa operações para o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Assinchronous Operation Process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Hand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ssociado a um recurso do sistema. Pode ser alvo de uma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Asynchrnous Operation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ou fonte de um evento de completud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Asynchronous Oper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efine e implementa uma operação de longa duração a ser executada assincronam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articipantes (continuação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Asynchronous Operation Process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xecuta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Asynchronous Operations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Gera o evento de completude da operação e o coloca na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Completion Event Que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Completion Event Que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rmazena os eventos de completude ainda não removidos pelo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Asynchronous Event Demultiplex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Asynchronous Event Demultiplex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spera e remove eventos de completude da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Completion Event Queu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e o retor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Reactor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POSA II [170]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articipantes (continuação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Proac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hama o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Asynchronous Event Demultiplex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Recebe o evento, e o envia a seu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Completion Handler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ssoci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Completion Hand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terface para processar resultados de operaçõ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Concrete Completion Handl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cessa o resultado da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Asynchronous Operation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de acordo com a aplica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ode começar novas </a:t>
            </a: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Asynchronous Oper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inâmica da Solu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6165360"/>
            <a:ext cx="76932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Fonte: Proactor – Douglas C. Schmidt - 07.03.2000 - proactor.doc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Resolvi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6165360"/>
            <a:ext cx="76932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Fonte: Proactor – Douglas C. Schmidt - 07.03.2000 - proactor.doc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Implement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paração entre o código da infra-estrutura e da aplicação (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Concrete Completion Handlers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uporte do S.O para operações assíncronas é importan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nova API do Java (java.nio) facilita bastas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anta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odularid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paração dos concei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ncapsulamento da concorrênc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paração de threads e concorrê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sempenh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implific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esvanta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plicação restri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plexidade de programação, depuração e tes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trole de escalonamento e cancelamento podem ser impossíve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Usos Conheci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pletion Ports on Windows 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perating System device driver interrupt-handling mechanis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hone call initiation via voice m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Jaws Framework (servidores web de alto desempenh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XEmacs (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</a:rPr>
              <a:t>planejado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Outros padrões relaciona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Reactor [POSA II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ctive Object [POSA II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bserver [GoF95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ublisher-Subscriber [POSA I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hain of Responsability [GoF95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Leader/Followers [POSA II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Half-Sync/Half-Async [POSA II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Reactor X Proactor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Quando usar cada u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eactor X Pro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Operações rápi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oucos usuários simultâne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mplementação menos complex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roac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Operações potencialmente long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Necessidade de escabilid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uitos usuários simultâne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obl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erviço de Lo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plicação baseada em event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iversos clientes podem utilizar o serviço simultaneam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Log pode ser direcionado para diferentes meios: (arquivos, impressoras, BD, etc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776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qui virá imag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19112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Maiores Informaçõ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Onde aprender mai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ais Informações</a:t>
            </a: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Pattern-Oriented Software Architecture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(POS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ouglas C. Schmid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Michael 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St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ans 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Rohne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Frank 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Buschmann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Perguntas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regis@ime.usp.b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farina@ime.usp.b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olução: Uma Thread por conexã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uncionamen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ada requisição é atendida por uma thread que executa a tarefa e devolve a resposta para o cl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olução: Uma Thread por conex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odem ser ineficientes e não escaláve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fícil de se programar, principalmente em C/C++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hreads não estão disponíveis em todos os sistemas operaciona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riação de Threads deve levar em conta o número de CPU’s ao invés do número de requisições concorr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O que há de errado com thread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280" y="5300640"/>
            <a:ext cx="7692840" cy="128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uito difícil para a maior parte us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esmo para especialistas, o desenvolvimento é difíci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3366"/>
                </a:solidFill>
                <a:latin typeface="Arial"/>
              </a:rPr>
              <a:t>Fonte: </a:t>
            </a: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Why Threads Are A Bad Idea – John Ousterhou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6640" y="2619360"/>
            <a:ext cx="7545240" cy="382680"/>
          </a:xfrm>
          <a:custGeom>
            <a:avLst/>
            <a:gdLst/>
            <a:ahLst/>
            <a:rect l="l" t="t" r="r" b="b"/>
            <a:pathLst>
              <a:path w="4753" h="241">
                <a:moveTo>
                  <a:pt x="0" y="0"/>
                </a:moveTo>
                <a:lnTo>
                  <a:pt x="419" y="0"/>
                </a:lnTo>
                <a:lnTo>
                  <a:pt x="559" y="48"/>
                </a:lnTo>
                <a:lnTo>
                  <a:pt x="4472" y="48"/>
                </a:lnTo>
                <a:lnTo>
                  <a:pt x="4472" y="0"/>
                </a:lnTo>
                <a:lnTo>
                  <a:pt x="4752" y="120"/>
                </a:lnTo>
                <a:lnTo>
                  <a:pt x="4472" y="240"/>
                </a:lnTo>
                <a:lnTo>
                  <a:pt x="4472" y="192"/>
                </a:lnTo>
                <a:lnTo>
                  <a:pt x="559" y="192"/>
                </a:lnTo>
                <a:lnTo>
                  <a:pt x="419" y="240"/>
                </a:lnTo>
                <a:lnTo>
                  <a:pt x="0" y="240"/>
                </a:lnTo>
                <a:lnTo>
                  <a:pt x="280" y="12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1fe"/>
              </a:gs>
              <a:gs pos="100000">
                <a:srgbClr val="7086b0"/>
              </a:gs>
            </a:gsLst>
            <a:lin ang="10800000"/>
          </a:gradFill>
          <a:ln cap="rnd"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3400" y="222264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asu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0360" y="2222640"/>
            <a:ext cx="115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Gur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2298600"/>
            <a:ext cx="287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odos program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3076560"/>
            <a:ext cx="381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rogramadores Visual Ba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345744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rogramadores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3838680"/>
            <a:ext cx="295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rogramadores C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46640" y="4448160"/>
            <a:ext cx="32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cccc"/>
                </a:solidFill>
                <a:latin typeface="Times New Roman"/>
              </a:rPr>
              <a:t>Programadores Threa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3920" y="3305160"/>
            <a:ext cx="16765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370160" y="3305160"/>
            <a:ext cx="16761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18320" y="368604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0560" y="3686040"/>
            <a:ext cx="7617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75520" y="4067280"/>
            <a:ext cx="3049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179680" y="4067280"/>
            <a:ext cx="3049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667280" y="4508640"/>
            <a:ext cx="685800" cy="0"/>
          </a:xfrm>
          <a:prstGeom prst="line">
            <a:avLst/>
          </a:prstGeom>
          <a:ln w="1260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olução: Padrão Re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ambém conhecido com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ispatcher ou Notifi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ntex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plicação orientada a eventos que processa as informações de forma síncrona e se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776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robl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plicações que devem atender muitas requisições simultaneamente, demultiplexando as requisições e disparando as mesmas para o serviço correspond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Forç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melhorar escalabilidade e diminuir latência a aplicação não deve bloquear, esperando o término de um evento e excluir outras fontes de even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maximizar desempenho deve-se evitar trocas de contexto, sincronização e movimento de dados entre CPUs deve ser evit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01:39:11Z</dcterms:created>
  <dc:creator>Luciano</dc:creator>
  <dc:description/>
  <dc:language>en-US</dc:language>
  <cp:lastModifiedBy>Lineus</cp:lastModifiedBy>
  <dcterms:modified xsi:type="dcterms:W3CDTF">2002-10-28T19:11:26Z</dcterms:modified>
  <cp:revision>86</cp:revision>
  <dc:subject/>
  <dc:title>Proact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