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7124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096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7800"/>
            <a:ext cx="777096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096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7124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512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071240"/>
            <a:ext cx="250200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7800"/>
            <a:ext cx="777096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7124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5120"/>
            <a:ext cx="379188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71240"/>
            <a:ext cx="7770960" cy="19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2560" cy="6399000"/>
                <a:chOff x="0" y="304920"/>
                <a:chExt cx="9142560" cy="63990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2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7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1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6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14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56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0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5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0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4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9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4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9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3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2720" cy="6856560"/>
                <a:chOff x="304920" y="0"/>
                <a:chExt cx="85327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7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1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6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1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6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5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0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5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4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9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4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8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37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8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3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81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3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7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89880" cy="150840"/>
            </a:xfrm>
            <a:prstGeom prst="roundRect">
              <a:avLst>
                <a:gd name="adj" fmla="val 104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2720" cy="2322360"/>
              <a:chOff x="414360" y="1415880"/>
              <a:chExt cx="1782720" cy="2322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4160"/>
                <a:ext cx="17827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7680" y="1418760"/>
                <a:ext cx="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2280" y="14158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37" h="537">
                    <a:moveTo>
                      <a:pt x="276" y="0"/>
                    </a:moveTo>
                    <a:lnTo>
                      <a:pt x="263" y="0"/>
                    </a:lnTo>
                    <a:lnTo>
                      <a:pt x="249" y="1"/>
                    </a:lnTo>
                    <a:lnTo>
                      <a:pt x="236" y="2"/>
                    </a:lnTo>
                    <a:lnTo>
                      <a:pt x="223" y="4"/>
                    </a:lnTo>
                    <a:lnTo>
                      <a:pt x="210" y="6"/>
                    </a:lnTo>
                    <a:lnTo>
                      <a:pt x="197" y="10"/>
                    </a:lnTo>
                    <a:lnTo>
                      <a:pt x="184" y="13"/>
                    </a:lnTo>
                    <a:lnTo>
                      <a:pt x="172" y="18"/>
                    </a:lnTo>
                    <a:lnTo>
                      <a:pt x="159" y="23"/>
                    </a:lnTo>
                    <a:lnTo>
                      <a:pt x="147" y="29"/>
                    </a:lnTo>
                    <a:lnTo>
                      <a:pt x="136" y="35"/>
                    </a:lnTo>
                    <a:lnTo>
                      <a:pt x="124" y="42"/>
                    </a:lnTo>
                    <a:lnTo>
                      <a:pt x="113" y="49"/>
                    </a:lnTo>
                    <a:lnTo>
                      <a:pt x="102" y="57"/>
                    </a:lnTo>
                    <a:lnTo>
                      <a:pt x="92" y="66"/>
                    </a:lnTo>
                    <a:lnTo>
                      <a:pt x="82" y="75"/>
                    </a:lnTo>
                    <a:lnTo>
                      <a:pt x="73" y="84"/>
                    </a:lnTo>
                    <a:lnTo>
                      <a:pt x="64" y="94"/>
                    </a:lnTo>
                    <a:lnTo>
                      <a:pt x="56" y="104"/>
                    </a:lnTo>
                    <a:lnTo>
                      <a:pt x="48" y="115"/>
                    </a:lnTo>
                    <a:lnTo>
                      <a:pt x="41" y="126"/>
                    </a:lnTo>
                    <a:lnTo>
                      <a:pt x="34" y="138"/>
                    </a:lnTo>
                    <a:lnTo>
                      <a:pt x="28" y="150"/>
                    </a:lnTo>
                    <a:lnTo>
                      <a:pt x="22" y="162"/>
                    </a:lnTo>
                    <a:lnTo>
                      <a:pt x="17" y="174"/>
                    </a:lnTo>
                    <a:lnTo>
                      <a:pt x="13" y="187"/>
                    </a:lnTo>
                    <a:lnTo>
                      <a:pt x="9" y="199"/>
                    </a:lnTo>
                    <a:lnTo>
                      <a:pt x="6" y="212"/>
                    </a:lnTo>
                    <a:lnTo>
                      <a:pt x="3" y="225"/>
                    </a:lnTo>
                    <a:lnTo>
                      <a:pt x="2" y="239"/>
                    </a:lnTo>
                    <a:lnTo>
                      <a:pt x="0" y="252"/>
                    </a:lnTo>
                    <a:lnTo>
                      <a:pt x="0" y="265"/>
                    </a:lnTo>
                    <a:lnTo>
                      <a:pt x="0" y="279"/>
                    </a:lnTo>
                    <a:lnTo>
                      <a:pt x="1" y="292"/>
                    </a:lnTo>
                    <a:lnTo>
                      <a:pt x="3" y="305"/>
                    </a:lnTo>
                    <a:lnTo>
                      <a:pt x="5" y="318"/>
                    </a:lnTo>
                    <a:lnTo>
                      <a:pt x="8" y="331"/>
                    </a:lnTo>
                    <a:lnTo>
                      <a:pt x="11" y="344"/>
                    </a:lnTo>
                    <a:lnTo>
                      <a:pt x="15" y="357"/>
                    </a:lnTo>
                    <a:lnTo>
                      <a:pt x="20" y="369"/>
                    </a:lnTo>
                    <a:lnTo>
                      <a:pt x="25" y="381"/>
                    </a:lnTo>
                    <a:lnTo>
                      <a:pt x="31" y="393"/>
                    </a:lnTo>
                    <a:lnTo>
                      <a:pt x="38" y="405"/>
                    </a:lnTo>
                    <a:lnTo>
                      <a:pt x="45" y="416"/>
                    </a:lnTo>
                    <a:lnTo>
                      <a:pt x="52" y="427"/>
                    </a:lnTo>
                    <a:lnTo>
                      <a:pt x="61" y="438"/>
                    </a:lnTo>
                    <a:lnTo>
                      <a:pt x="69" y="448"/>
                    </a:lnTo>
                    <a:lnTo>
                      <a:pt x="78" y="457"/>
                    </a:lnTo>
                    <a:lnTo>
                      <a:pt x="88" y="467"/>
                    </a:lnTo>
                    <a:lnTo>
                      <a:pt x="98" y="475"/>
                    </a:lnTo>
                    <a:lnTo>
                      <a:pt x="109" y="484"/>
                    </a:lnTo>
                    <a:lnTo>
                      <a:pt x="120" y="491"/>
                    </a:lnTo>
                    <a:lnTo>
                      <a:pt x="131" y="498"/>
                    </a:lnTo>
                    <a:lnTo>
                      <a:pt x="142" y="505"/>
                    </a:lnTo>
                    <a:lnTo>
                      <a:pt x="154" y="511"/>
                    </a:lnTo>
                    <a:lnTo>
                      <a:pt x="167" y="516"/>
                    </a:lnTo>
                    <a:lnTo>
                      <a:pt x="179" y="521"/>
                    </a:lnTo>
                    <a:lnTo>
                      <a:pt x="192" y="525"/>
                    </a:lnTo>
                    <a:lnTo>
                      <a:pt x="205" y="528"/>
                    </a:lnTo>
                    <a:lnTo>
                      <a:pt x="218" y="531"/>
                    </a:lnTo>
                    <a:lnTo>
                      <a:pt x="231" y="533"/>
                    </a:lnTo>
                    <a:lnTo>
                      <a:pt x="244" y="535"/>
                    </a:lnTo>
                    <a:lnTo>
                      <a:pt x="257" y="536"/>
                    </a:lnTo>
                    <a:lnTo>
                      <a:pt x="271" y="536"/>
                    </a:lnTo>
                    <a:lnTo>
                      <a:pt x="284" y="536"/>
                    </a:lnTo>
                    <a:lnTo>
                      <a:pt x="297" y="534"/>
                    </a:lnTo>
                    <a:lnTo>
                      <a:pt x="310" y="533"/>
                    </a:lnTo>
                    <a:lnTo>
                      <a:pt x="323" y="530"/>
                    </a:lnTo>
                    <a:lnTo>
                      <a:pt x="336" y="527"/>
                    </a:lnTo>
                    <a:lnTo>
                      <a:pt x="349" y="523"/>
                    </a:lnTo>
                    <a:lnTo>
                      <a:pt x="362" y="519"/>
                    </a:lnTo>
                    <a:lnTo>
                      <a:pt x="374" y="514"/>
                    </a:lnTo>
                    <a:lnTo>
                      <a:pt x="386" y="508"/>
                    </a:lnTo>
                    <a:lnTo>
                      <a:pt x="398" y="502"/>
                    </a:lnTo>
                    <a:lnTo>
                      <a:pt x="410" y="496"/>
                    </a:lnTo>
                    <a:lnTo>
                      <a:pt x="421" y="488"/>
                    </a:lnTo>
                    <a:lnTo>
                      <a:pt x="431" y="480"/>
                    </a:lnTo>
                    <a:lnTo>
                      <a:pt x="442" y="472"/>
                    </a:lnTo>
                    <a:lnTo>
                      <a:pt x="452" y="463"/>
                    </a:lnTo>
                    <a:lnTo>
                      <a:pt x="461" y="454"/>
                    </a:lnTo>
                    <a:lnTo>
                      <a:pt x="470" y="444"/>
                    </a:lnTo>
                    <a:lnTo>
                      <a:pt x="479" y="434"/>
                    </a:lnTo>
                    <a:lnTo>
                      <a:pt x="487" y="423"/>
                    </a:lnTo>
                    <a:lnTo>
                      <a:pt x="494" y="412"/>
                    </a:lnTo>
                    <a:lnTo>
                      <a:pt x="501" y="400"/>
                    </a:lnTo>
                    <a:lnTo>
                      <a:pt x="507" y="389"/>
                    </a:lnTo>
                    <a:lnTo>
                      <a:pt x="513" y="377"/>
                    </a:lnTo>
                    <a:lnTo>
                      <a:pt x="518" y="364"/>
                    </a:lnTo>
                    <a:lnTo>
                      <a:pt x="523" y="352"/>
                    </a:lnTo>
                    <a:lnTo>
                      <a:pt x="526" y="339"/>
                    </a:lnTo>
                    <a:lnTo>
                      <a:pt x="530" y="326"/>
                    </a:lnTo>
                    <a:lnTo>
                      <a:pt x="532" y="313"/>
                    </a:lnTo>
                    <a:lnTo>
                      <a:pt x="534" y="300"/>
                    </a:lnTo>
                    <a:lnTo>
                      <a:pt x="535" y="287"/>
                    </a:lnTo>
                    <a:lnTo>
                      <a:pt x="536" y="273"/>
                    </a:lnTo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369120"/>
            <a:ext cx="1903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3665-E52D-4CB1-9D35-F17E2A2407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096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0960" cy="41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51"/>
              </a:spcBef>
              <a:buClr>
                <a:srgbClr val="40458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StarBats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65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89880" cy="150840"/>
              </a:xfrm>
              <a:prstGeom prst="roundRect">
                <a:avLst>
                  <a:gd name="adj" fmla="val 1042"/>
                </a:avLst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2560" cy="6856560"/>
                <a:chOff x="0" y="0"/>
                <a:chExt cx="914256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8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7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2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74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1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6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14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6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0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58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0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4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898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44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3993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42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5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0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8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4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75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2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7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1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6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1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6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1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5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0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5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0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4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399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4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08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37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18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3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81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3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7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2440" cy="2849400"/>
              <a:chOff x="4680" y="887400"/>
              <a:chExt cx="665244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2800" y="887400"/>
                <a:ext cx="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2800"/>
                <a:ext cx="509616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8240"/>
                <a:ext cx="604836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673560" y="1365480"/>
                <a:ext cx="245520" cy="247320"/>
              </a:xfrm>
              <a:custGeom>
                <a:avLst/>
                <a:gdLst/>
                <a:ahLst/>
                <a:rect l="l" t="t" r="r" b="b"/>
                <a:pathLst>
                  <a:path w="689" h="693">
                    <a:moveTo>
                      <a:pt x="351" y="0"/>
                    </a:moveTo>
                    <a:lnTo>
                      <a:pt x="334" y="0"/>
                    </a:lnTo>
                    <a:lnTo>
                      <a:pt x="316" y="1"/>
                    </a:lnTo>
                    <a:lnTo>
                      <a:pt x="299" y="3"/>
                    </a:lnTo>
                    <a:lnTo>
                      <a:pt x="282" y="6"/>
                    </a:lnTo>
                    <a:lnTo>
                      <a:pt x="265" y="9"/>
                    </a:lnTo>
                    <a:lnTo>
                      <a:pt x="249" y="14"/>
                    </a:lnTo>
                    <a:lnTo>
                      <a:pt x="232" y="19"/>
                    </a:lnTo>
                    <a:lnTo>
                      <a:pt x="216" y="25"/>
                    </a:lnTo>
                    <a:lnTo>
                      <a:pt x="200" y="32"/>
                    </a:lnTo>
                    <a:lnTo>
                      <a:pt x="185" y="39"/>
                    </a:lnTo>
                    <a:lnTo>
                      <a:pt x="170" y="48"/>
                    </a:lnTo>
                    <a:lnTo>
                      <a:pt x="155" y="57"/>
                    </a:lnTo>
                    <a:lnTo>
                      <a:pt x="141" y="67"/>
                    </a:lnTo>
                    <a:lnTo>
                      <a:pt x="127" y="77"/>
                    </a:lnTo>
                    <a:lnTo>
                      <a:pt x="114" y="89"/>
                    </a:lnTo>
                    <a:lnTo>
                      <a:pt x="102" y="100"/>
                    </a:lnTo>
                    <a:lnTo>
                      <a:pt x="90" y="113"/>
                    </a:lnTo>
                    <a:lnTo>
                      <a:pt x="78" y="126"/>
                    </a:lnTo>
                    <a:lnTo>
                      <a:pt x="68" y="140"/>
                    </a:lnTo>
                    <a:lnTo>
                      <a:pt x="58" y="154"/>
                    </a:lnTo>
                    <a:lnTo>
                      <a:pt x="49" y="169"/>
                    </a:lnTo>
                    <a:lnTo>
                      <a:pt x="40" y="184"/>
                    </a:lnTo>
                    <a:lnTo>
                      <a:pt x="32" y="199"/>
                    </a:lnTo>
                    <a:lnTo>
                      <a:pt x="26" y="215"/>
                    </a:lnTo>
                    <a:lnTo>
                      <a:pt x="19" y="231"/>
                    </a:lnTo>
                    <a:lnTo>
                      <a:pt x="14" y="248"/>
                    </a:lnTo>
                    <a:lnTo>
                      <a:pt x="10" y="265"/>
                    </a:lnTo>
                    <a:lnTo>
                      <a:pt x="6" y="282"/>
                    </a:lnTo>
                    <a:lnTo>
                      <a:pt x="3" y="299"/>
                    </a:lnTo>
                    <a:lnTo>
                      <a:pt x="1" y="316"/>
                    </a:lnTo>
                    <a:lnTo>
                      <a:pt x="0" y="333"/>
                    </a:lnTo>
                    <a:lnTo>
                      <a:pt x="0" y="351"/>
                    </a:lnTo>
                    <a:lnTo>
                      <a:pt x="1" y="368"/>
                    </a:lnTo>
                    <a:lnTo>
                      <a:pt x="2" y="385"/>
                    </a:lnTo>
                    <a:lnTo>
                      <a:pt x="5" y="402"/>
                    </a:lnTo>
                    <a:lnTo>
                      <a:pt x="8" y="419"/>
                    </a:lnTo>
                    <a:lnTo>
                      <a:pt x="12" y="436"/>
                    </a:lnTo>
                    <a:lnTo>
                      <a:pt x="17" y="453"/>
                    </a:lnTo>
                    <a:lnTo>
                      <a:pt x="23" y="469"/>
                    </a:lnTo>
                    <a:lnTo>
                      <a:pt x="29" y="485"/>
                    </a:lnTo>
                    <a:lnTo>
                      <a:pt x="36" y="501"/>
                    </a:lnTo>
                    <a:lnTo>
                      <a:pt x="45" y="516"/>
                    </a:lnTo>
                    <a:lnTo>
                      <a:pt x="53" y="531"/>
                    </a:lnTo>
                    <a:lnTo>
                      <a:pt x="63" y="546"/>
                    </a:lnTo>
                    <a:lnTo>
                      <a:pt x="73" y="559"/>
                    </a:lnTo>
                    <a:lnTo>
                      <a:pt x="84" y="573"/>
                    </a:lnTo>
                    <a:lnTo>
                      <a:pt x="96" y="586"/>
                    </a:lnTo>
                    <a:lnTo>
                      <a:pt x="108" y="598"/>
                    </a:lnTo>
                    <a:lnTo>
                      <a:pt x="121" y="609"/>
                    </a:lnTo>
                    <a:lnTo>
                      <a:pt x="134" y="620"/>
                    </a:lnTo>
                    <a:lnTo>
                      <a:pt x="148" y="631"/>
                    </a:lnTo>
                    <a:lnTo>
                      <a:pt x="163" y="640"/>
                    </a:lnTo>
                    <a:lnTo>
                      <a:pt x="178" y="649"/>
                    </a:lnTo>
                    <a:lnTo>
                      <a:pt x="193" y="657"/>
                    </a:lnTo>
                    <a:lnTo>
                      <a:pt x="209" y="664"/>
                    </a:lnTo>
                    <a:lnTo>
                      <a:pt x="225" y="670"/>
                    </a:lnTo>
                    <a:lnTo>
                      <a:pt x="241" y="676"/>
                    </a:lnTo>
                    <a:lnTo>
                      <a:pt x="258" y="681"/>
                    </a:lnTo>
                    <a:lnTo>
                      <a:pt x="274" y="685"/>
                    </a:lnTo>
                    <a:lnTo>
                      <a:pt x="291" y="688"/>
                    </a:lnTo>
                    <a:lnTo>
                      <a:pt x="308" y="690"/>
                    </a:lnTo>
                    <a:lnTo>
                      <a:pt x="326" y="692"/>
                    </a:lnTo>
                    <a:lnTo>
                      <a:pt x="343" y="692"/>
                    </a:lnTo>
                    <a:lnTo>
                      <a:pt x="360" y="692"/>
                    </a:lnTo>
                    <a:lnTo>
                      <a:pt x="377" y="690"/>
                    </a:lnTo>
                    <a:lnTo>
                      <a:pt x="394" y="688"/>
                    </a:lnTo>
                    <a:lnTo>
                      <a:pt x="411" y="685"/>
                    </a:lnTo>
                    <a:lnTo>
                      <a:pt x="428" y="681"/>
                    </a:lnTo>
                    <a:lnTo>
                      <a:pt x="445" y="677"/>
                    </a:lnTo>
                    <a:lnTo>
                      <a:pt x="461" y="671"/>
                    </a:lnTo>
                    <a:lnTo>
                      <a:pt x="477" y="665"/>
                    </a:lnTo>
                    <a:lnTo>
                      <a:pt x="493" y="658"/>
                    </a:lnTo>
                    <a:lnTo>
                      <a:pt x="508" y="650"/>
                    </a:lnTo>
                    <a:lnTo>
                      <a:pt x="523" y="641"/>
                    </a:lnTo>
                    <a:lnTo>
                      <a:pt x="538" y="632"/>
                    </a:lnTo>
                    <a:lnTo>
                      <a:pt x="552" y="622"/>
                    </a:lnTo>
                    <a:lnTo>
                      <a:pt x="565" y="611"/>
                    </a:lnTo>
                    <a:lnTo>
                      <a:pt x="578" y="600"/>
                    </a:lnTo>
                    <a:lnTo>
                      <a:pt x="590" y="587"/>
                    </a:lnTo>
                    <a:lnTo>
                      <a:pt x="602" y="575"/>
                    </a:lnTo>
                    <a:lnTo>
                      <a:pt x="613" y="561"/>
                    </a:lnTo>
                    <a:lnTo>
                      <a:pt x="624" y="548"/>
                    </a:lnTo>
                    <a:lnTo>
                      <a:pt x="633" y="533"/>
                    </a:lnTo>
                    <a:lnTo>
                      <a:pt x="642" y="518"/>
                    </a:lnTo>
                    <a:lnTo>
                      <a:pt x="650" y="503"/>
                    </a:lnTo>
                    <a:lnTo>
                      <a:pt x="658" y="487"/>
                    </a:lnTo>
                    <a:lnTo>
                      <a:pt x="665" y="471"/>
                    </a:lnTo>
                    <a:lnTo>
                      <a:pt x="670" y="455"/>
                    </a:lnTo>
                    <a:lnTo>
                      <a:pt x="675" y="439"/>
                    </a:lnTo>
                    <a:lnTo>
                      <a:pt x="680" y="422"/>
                    </a:lnTo>
                    <a:lnTo>
                      <a:pt x="683" y="405"/>
                    </a:lnTo>
                    <a:lnTo>
                      <a:pt x="686" y="388"/>
                    </a:lnTo>
                    <a:lnTo>
                      <a:pt x="687" y="370"/>
                    </a:lnTo>
                    <a:lnTo>
                      <a:pt x="688" y="353"/>
                    </a:lnTo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2640"/>
                <a:ext cx="60436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08720" y="3098880"/>
                <a:ext cx="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720" y="5311080"/>
                <a:ext cx="245880" cy="247320"/>
              </a:xfrm>
              <a:custGeom>
                <a:avLst/>
                <a:gdLst/>
                <a:ahLst/>
                <a:rect l="l" t="t" r="r" b="b"/>
                <a:pathLst>
                  <a:path w="689" h="693">
                    <a:moveTo>
                      <a:pt x="0" y="353"/>
                    </a:moveTo>
                    <a:lnTo>
                      <a:pt x="1" y="370"/>
                    </a:lnTo>
                    <a:lnTo>
                      <a:pt x="2" y="388"/>
                    </a:lnTo>
                    <a:lnTo>
                      <a:pt x="5" y="405"/>
                    </a:lnTo>
                    <a:lnTo>
                      <a:pt x="8" y="422"/>
                    </a:lnTo>
                    <a:lnTo>
                      <a:pt x="13" y="439"/>
                    </a:lnTo>
                    <a:lnTo>
                      <a:pt x="18" y="455"/>
                    </a:lnTo>
                    <a:lnTo>
                      <a:pt x="23" y="471"/>
                    </a:lnTo>
                    <a:lnTo>
                      <a:pt x="30" y="487"/>
                    </a:lnTo>
                    <a:lnTo>
                      <a:pt x="38" y="503"/>
                    </a:lnTo>
                    <a:lnTo>
                      <a:pt x="46" y="518"/>
                    </a:lnTo>
                    <a:lnTo>
                      <a:pt x="55" y="533"/>
                    </a:lnTo>
                    <a:lnTo>
                      <a:pt x="64" y="548"/>
                    </a:lnTo>
                    <a:lnTo>
                      <a:pt x="75" y="561"/>
                    </a:lnTo>
                    <a:lnTo>
                      <a:pt x="86" y="575"/>
                    </a:lnTo>
                    <a:lnTo>
                      <a:pt x="98" y="587"/>
                    </a:lnTo>
                    <a:lnTo>
                      <a:pt x="110" y="600"/>
                    </a:lnTo>
                    <a:lnTo>
                      <a:pt x="123" y="611"/>
                    </a:lnTo>
                    <a:lnTo>
                      <a:pt x="136" y="622"/>
                    </a:lnTo>
                    <a:lnTo>
                      <a:pt x="150" y="632"/>
                    </a:lnTo>
                    <a:lnTo>
                      <a:pt x="165" y="641"/>
                    </a:lnTo>
                    <a:lnTo>
                      <a:pt x="180" y="650"/>
                    </a:lnTo>
                    <a:lnTo>
                      <a:pt x="195" y="658"/>
                    </a:lnTo>
                    <a:lnTo>
                      <a:pt x="211" y="665"/>
                    </a:lnTo>
                    <a:lnTo>
                      <a:pt x="227" y="671"/>
                    </a:lnTo>
                    <a:lnTo>
                      <a:pt x="243" y="677"/>
                    </a:lnTo>
                    <a:lnTo>
                      <a:pt x="260" y="681"/>
                    </a:lnTo>
                    <a:lnTo>
                      <a:pt x="277" y="685"/>
                    </a:lnTo>
                    <a:lnTo>
                      <a:pt x="294" y="688"/>
                    </a:lnTo>
                    <a:lnTo>
                      <a:pt x="311" y="690"/>
                    </a:lnTo>
                    <a:lnTo>
                      <a:pt x="328" y="692"/>
                    </a:lnTo>
                    <a:lnTo>
                      <a:pt x="345" y="692"/>
                    </a:lnTo>
                    <a:lnTo>
                      <a:pt x="362" y="692"/>
                    </a:lnTo>
                    <a:lnTo>
                      <a:pt x="380" y="690"/>
                    </a:lnTo>
                    <a:lnTo>
                      <a:pt x="397" y="688"/>
                    </a:lnTo>
                    <a:lnTo>
                      <a:pt x="414" y="685"/>
                    </a:lnTo>
                    <a:lnTo>
                      <a:pt x="430" y="681"/>
                    </a:lnTo>
                    <a:lnTo>
                      <a:pt x="447" y="676"/>
                    </a:lnTo>
                    <a:lnTo>
                      <a:pt x="463" y="670"/>
                    </a:lnTo>
                    <a:lnTo>
                      <a:pt x="479" y="664"/>
                    </a:lnTo>
                    <a:lnTo>
                      <a:pt x="495" y="657"/>
                    </a:lnTo>
                    <a:lnTo>
                      <a:pt x="510" y="649"/>
                    </a:lnTo>
                    <a:lnTo>
                      <a:pt x="525" y="640"/>
                    </a:lnTo>
                    <a:lnTo>
                      <a:pt x="540" y="631"/>
                    </a:lnTo>
                    <a:lnTo>
                      <a:pt x="554" y="620"/>
                    </a:lnTo>
                    <a:lnTo>
                      <a:pt x="567" y="609"/>
                    </a:lnTo>
                    <a:lnTo>
                      <a:pt x="580" y="598"/>
                    </a:lnTo>
                    <a:lnTo>
                      <a:pt x="592" y="586"/>
                    </a:lnTo>
                    <a:lnTo>
                      <a:pt x="604" y="573"/>
                    </a:lnTo>
                    <a:lnTo>
                      <a:pt x="615" y="559"/>
                    </a:lnTo>
                    <a:lnTo>
                      <a:pt x="625" y="546"/>
                    </a:lnTo>
                    <a:lnTo>
                      <a:pt x="635" y="531"/>
                    </a:lnTo>
                    <a:lnTo>
                      <a:pt x="643" y="516"/>
                    </a:lnTo>
                    <a:lnTo>
                      <a:pt x="652" y="501"/>
                    </a:lnTo>
                    <a:lnTo>
                      <a:pt x="659" y="485"/>
                    </a:lnTo>
                    <a:lnTo>
                      <a:pt x="665" y="469"/>
                    </a:lnTo>
                    <a:lnTo>
                      <a:pt x="671" y="453"/>
                    </a:lnTo>
                    <a:lnTo>
                      <a:pt x="676" y="436"/>
                    </a:lnTo>
                    <a:lnTo>
                      <a:pt x="680" y="419"/>
                    </a:lnTo>
                    <a:lnTo>
                      <a:pt x="683" y="402"/>
                    </a:lnTo>
                    <a:lnTo>
                      <a:pt x="686" y="385"/>
                    </a:lnTo>
                    <a:lnTo>
                      <a:pt x="687" y="368"/>
                    </a:lnTo>
                    <a:lnTo>
                      <a:pt x="688" y="351"/>
                    </a:lnTo>
                    <a:lnTo>
                      <a:pt x="688" y="333"/>
                    </a:lnTo>
                    <a:lnTo>
                      <a:pt x="687" y="316"/>
                    </a:lnTo>
                    <a:lnTo>
                      <a:pt x="685" y="299"/>
                    </a:lnTo>
                    <a:lnTo>
                      <a:pt x="682" y="282"/>
                    </a:lnTo>
                    <a:lnTo>
                      <a:pt x="678" y="265"/>
                    </a:lnTo>
                    <a:lnTo>
                      <a:pt x="674" y="248"/>
                    </a:lnTo>
                    <a:lnTo>
                      <a:pt x="669" y="231"/>
                    </a:lnTo>
                    <a:lnTo>
                      <a:pt x="662" y="215"/>
                    </a:lnTo>
                    <a:lnTo>
                      <a:pt x="656" y="199"/>
                    </a:lnTo>
                    <a:lnTo>
                      <a:pt x="648" y="184"/>
                    </a:lnTo>
                    <a:lnTo>
                      <a:pt x="639" y="169"/>
                    </a:lnTo>
                    <a:lnTo>
                      <a:pt x="630" y="154"/>
                    </a:lnTo>
                    <a:lnTo>
                      <a:pt x="620" y="140"/>
                    </a:lnTo>
                    <a:lnTo>
                      <a:pt x="610" y="126"/>
                    </a:lnTo>
                    <a:lnTo>
                      <a:pt x="598" y="113"/>
                    </a:lnTo>
                    <a:lnTo>
                      <a:pt x="586" y="100"/>
                    </a:lnTo>
                    <a:lnTo>
                      <a:pt x="574" y="89"/>
                    </a:lnTo>
                    <a:lnTo>
                      <a:pt x="561" y="77"/>
                    </a:lnTo>
                    <a:lnTo>
                      <a:pt x="547" y="67"/>
                    </a:lnTo>
                    <a:lnTo>
                      <a:pt x="533" y="57"/>
                    </a:lnTo>
                    <a:lnTo>
                      <a:pt x="518" y="48"/>
                    </a:lnTo>
                    <a:lnTo>
                      <a:pt x="503" y="39"/>
                    </a:lnTo>
                    <a:lnTo>
                      <a:pt x="488" y="32"/>
                    </a:lnTo>
                    <a:lnTo>
                      <a:pt x="472" y="25"/>
                    </a:lnTo>
                    <a:lnTo>
                      <a:pt x="456" y="19"/>
                    </a:lnTo>
                    <a:lnTo>
                      <a:pt x="439" y="14"/>
                    </a:lnTo>
                    <a:lnTo>
                      <a:pt x="423" y="9"/>
                    </a:lnTo>
                    <a:lnTo>
                      <a:pt x="406" y="6"/>
                    </a:lnTo>
                    <a:lnTo>
                      <a:pt x="389" y="3"/>
                    </a:lnTo>
                    <a:lnTo>
                      <a:pt x="372" y="1"/>
                    </a:lnTo>
                    <a:lnTo>
                      <a:pt x="354" y="0"/>
                    </a:lnTo>
                    <a:lnTo>
                      <a:pt x="337" y="0"/>
                    </a:lnTo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6369120"/>
            <a:ext cx="1903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973-06CE-48B1-BBE7-A4F4DC5288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jerry.cs.uiuc.edu/~plop/plop2002" TargetMode="External"/><Relationship Id="rId2" Type="http://schemas.openxmlformats.org/officeDocument/2006/relationships/hyperlink" Target="http://www.cse.buffalo.edu/~crahen/projects/polymorph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604520"/>
            <a:ext cx="77706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0413 - Tópicos de POO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ret Partner Pattern / Fac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4114800"/>
            <a:ext cx="639936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uno 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irton L. Bassi Fi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96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ner.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58960" y="1865160"/>
            <a:ext cx="708480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fndef INCLUDE_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define INCLUDE_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Part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artn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~Partn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void StartBusiness(float ventureCapit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float RaiseMoney(float amountNeed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loat m_fStartingCapit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artner* m_pR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endif //INCLUDE_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4160" y="21708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cretPartner.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209680"/>
            <a:ext cx="73134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fndef INCLUDE_SECRET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define INCLUDE_SECRET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nclude "Partn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SecretPartner: Public Part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riend class 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ecretPartn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~SecretPartn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void StartBusiness(float ventureCapit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float RaiseMoney(float amountRequested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9080" y="204840"/>
            <a:ext cx="777060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cretPartner.h (continuaçã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1828800"/>
            <a:ext cx="662796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ecretPartner(const SecretPartner&amp;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I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riend class Secret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loat m_fCashTo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loat m_fSwissAc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ner myIn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endif //INCLUDE_SECRETPARTNER_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06480" y="1542960"/>
            <a:ext cx="754236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nclude "Partn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nclude "SecretPartn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artner::Partn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_pRef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_fStartingCapit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oid Partner::StartBusiness(float ventureCap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_fStartingCapital = ventureCapit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_pRef = new Secret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_pRef-&gt;StartBusiness(ventureCapit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loat Partner::RaiseMoney(float amountNee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 return (m_pRef-&gt;RaiseMoney(amountNeeded)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artner::~Partner() { delete m_pRef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4160" y="599760"/>
            <a:ext cx="77706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ner.c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38160" y="22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cretPartner.c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33480" y="1579680"/>
            <a:ext cx="784692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#include "SecretPartner.h</a:t>
            </a:r>
            <a:r>
              <a:rPr b="1" lang="en-US" sz="1600" spc="-1" strike="noStrike">
                <a:solidFill>
                  <a:srgbClr val="40458c"/>
                </a:solidFill>
                <a:latin typeface="StarBats"/>
                <a:ea typeface="StarBat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ecretPartner::SecretPartner(): Partner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oid SecretPartner::StartBusiness(float cashToPart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  myInner.m_fCashToPartner = cashTo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yInner.m_fSwissAccount  = 100.0f*cashToPart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float SecretPartner::RaiseMoney(float amountReques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  float amountGiven = 0.00f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(amountRequested &lt;= myInner.m_fSwissAc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(myInner.m_fSwissAccount &gt;= 10000000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amountGiven = amountRequested * 0.9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myInner.m_fSwissAccount -= amountGiv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eturn (amountGive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ecretPartner::~SecretPartner()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1840" y="159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tra-indic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Secret Partner Pattern” não deve ser usado quando “friendship” não for necessária, nesses casos seria melhor usar os níveis de acesso “public”, “protected” e “private”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5480" y="196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drões Relacion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emelhanças com “Façade” pelo fato de os clientes interagirem somente com o Partn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4602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ambém apresenta características do “Adapter”, pois apesar de estar escondido, o “Secret Partener” é quem realmente faz o trabalh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1840" y="159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emplo de u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 classes de “streaming” de C++ tipicamente requerem o uso de “friendship” para implementar os vários operadores como &lt;&lt; e &gt;&gt;. Mesmo assim as classes que concedem a amizade podem querer manter alguns atributos ou comportamentos em segre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92320" y="1673280"/>
            <a:ext cx="456552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gunta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452240"/>
            <a:ext cx="777096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LoP 20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3352680"/>
            <a:ext cx="639936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6000" spc="-1" strike="noStrike">
                <a:solidFill>
                  <a:srgbClr val="40458c"/>
                </a:solidFill>
                <a:latin typeface="Tahoma"/>
              </a:rPr>
              <a:t>Fac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m padrão para interfaces dinâ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452240"/>
            <a:ext cx="777096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LoP 20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724280"/>
            <a:ext cx="639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Secret Partner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ic Cra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76920"/>
            <a:ext cx="639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ahen@cse.buffalo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ex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4660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de quer que seja desejável criar uma interface sensível a contexto, a fim de modificar ou controlar o comportamento aparente de um obje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2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dicionar segurança à uma aplicação, isto implica inserir código que promove checagens em tempo de execução, dando ou não acesso às operações, dependendo do status e do nível de seguranç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luções Problemáticas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0960" cy="23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riar subclas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63400" indent="-29880">
              <a:spcBef>
                <a:spcPts val="649"/>
              </a:spcBef>
              <a:buClr>
                <a:srgbClr val="00cc99"/>
              </a:buClr>
              <a:buSzPct val="60000"/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uim para projetos grand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63400" indent="-29880">
              <a:spcBef>
                <a:spcPts val="649"/>
              </a:spcBef>
              <a:buClr>
                <a:srgbClr val="00cc99"/>
              </a:buClr>
              <a:buSzPct val="60000"/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etição do mesmo códig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63400" indent="-29880">
              <a:spcBef>
                <a:spcPts val="649"/>
              </a:spcBef>
              <a:buClr>
                <a:srgbClr val="00cc99"/>
              </a:buClr>
              <a:buSzPct val="60000"/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ifícil de prestar manuten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3962520"/>
            <a:ext cx="7770960" cy="1751040"/>
            <a:chOff x="838080" y="3962520"/>
            <a:chExt cx="7770960" cy="1751040"/>
          </a:xfrm>
        </p:grpSpPr>
        <p:sp>
          <p:nvSpPr>
            <p:cNvPr id="255" name=""/>
            <p:cNvSpPr/>
            <p:nvPr/>
          </p:nvSpPr>
          <p:spPr>
            <a:xfrm>
              <a:off x="838080" y="3962520"/>
              <a:ext cx="777096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3962520"/>
              <a:ext cx="777096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0000"/>
                </a:lnSpc>
                <a:spcBef>
                  <a:spcPts val="751"/>
                </a:spcBef>
                <a:buSzPct val="107934"/>
                <a:buBlip>
                  <a:blip r:embed="rId2"/>
                </a:buBlip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3200" spc="-1" strike="noStrike">
                  <a:solidFill>
                    <a:srgbClr val="40458c"/>
                  </a:solidFill>
                  <a:latin typeface="Tahoma"/>
                </a:rPr>
                <a:t>Padrão Prox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63400" indent="-29880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800" spc="-1" strike="noStrike">
                  <a:solidFill>
                    <a:srgbClr val="40458c"/>
                  </a:solidFill>
                  <a:latin typeface="Tahoma"/>
                </a:rPr>
                <a:t>Porém, proxies são fixos, isto só trocaria o enfoque do proble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drão Deco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3172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orém, como saber quais métodos estarão disponíveis a cada mom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luções Problemáticas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l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752480"/>
            <a:ext cx="74660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ar um tipo especial de proxy chamado facet (face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faceta possui um sentinela (Sentry) que protege os objetos de operações indevidas, a proteção é baseada na consulta ao contexto a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nentes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534960" y="1600200"/>
            <a:ext cx="82407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Prox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 um conjunto de interfaces às qu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 cliente tem ace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640" y="3504960"/>
            <a:ext cx="84726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arge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to cujo acesso deve ser restringido con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 contexto vi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nentes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91480" y="1600200"/>
            <a:ext cx="753084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ontex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ma as decisões de acesso aos targets 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me da fac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560" y="3277080"/>
            <a:ext cx="78156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Sentry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tém um conjunto de mapeamentos 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 interfaces e os targ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8328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iagrama de Seqü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150920" y="1671480"/>
          <a:ext cx="6627960" cy="45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671480"/>
                    <a:ext cx="662796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e Fac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752480"/>
            <a:ext cx="7618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tected Sentry sentry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tected Facet(Sentry sentry) { this.sentry = sentry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abstract class Fac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static Facet create(Sentry a, Class[] interfaces)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ws FacetEx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static Class[] query(Facet f, Class[] interf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ws Facet 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static Facet narrow(Facet f, Class[] interf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ws Facet 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ecret Partner Patter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Secret Partner Pattern” modela a relação entre duas entidades: um “Partner” (parceiro) e um “Secret Partner” (parceiro secreto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4602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m parceiro secreto é assim chamado pois sua participação na parceria é mantida secreta do públic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ext.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50240" y="1672200"/>
            <a:ext cx="7867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ckage polymorph.facet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interface Context {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Object validateComponent(Class interfaceCla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ject delegate)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c boolean validateInterface(Class interface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rget e interfa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748800" y="1671480"/>
            <a:ext cx="8251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erface MutableAccou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oid credit(long amou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oid debit(long amou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erface ImmutableAccou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ng balan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ass Account implements MutableAccount, ImmuatbleAccou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oid credit(long amount) {   // ...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oid debit(long amount) {    // ...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ng balance() {    // ...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ríticas ao autor/padr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644480"/>
            <a:ext cx="7770960" cy="22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0840" indent="-33084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guns erros ortográf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0840" indent="-330840">
              <a:spcBef>
                <a:spcPts val="751"/>
              </a:spcBef>
              <a:buSzPct val="14602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oucas divisões no text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0840" indent="-330840">
              <a:spcBef>
                <a:spcPts val="751"/>
              </a:spcBef>
              <a:buSzPct val="14602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alta de clareza nas explica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0840" indent="-330840">
              <a:spcBef>
                <a:spcPts val="751"/>
              </a:spcBef>
              <a:buSzPct val="14602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alta de diagra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oP 200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jerry.cs.uiuc.edu/~plop/plop20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emplo comple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cse.buffalo.edu/~crahen/projects/polymorp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1909440"/>
            <a:ext cx="77706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Tahoma"/>
              </a:rPr>
              <a:t>Perguntas ?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ecret Partner Patter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7160" indent="-31716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relação entre o parceiro e o parceiro secreto deve ser bastante próxima, de modo que essas duas entidades possam se comunicar de maneira eficaz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7160" indent="-317160">
              <a:spcBef>
                <a:spcPts val="751"/>
              </a:spcBef>
              <a:buSzPct val="14602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pesar disso o parceiro secreto pode possuir informações que são realmente secretas, isto é, nem mesmo o parceiro tem conhecimen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sidere dois desenvolvedores de software, um júnior e um sênior, que participam de um mesmo proje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4602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relação entre eles pode, em alguns casos, apresentar as seguintes característic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emplo (continuaçã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49"/>
              </a:spcBef>
              <a:buSzPct val="14603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mente o desenvolvedor sênior interage com os clientes, participa de reuniões, etc. Desse modo o desenvolvedor júnior fica “protegido” do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SzPct val="14603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mo apenas o desenvolvedor sênior interage com o cliente, a comunicação entre os dois parceiros deve ser bastante e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Exemplo (continuaçã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inda assim o desenvolvedor júnior pode precisar manter algumas informações desconhecidas pelo sênior (como o seu salário, por exemplo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3184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096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51"/>
              </a:spcBef>
              <a:buSzPct val="1460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o podem duas entidades de “software” possuir um relacionamento bastante próximo e ainda assim permitir que uma delas mantenha informações desconhecidas pela out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355760" y="1844640"/>
          <a:ext cx="638640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844640"/>
                    <a:ext cx="638640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1:16:45Z</dcterms:created>
  <dc:creator>wwwwww</dc:creator>
  <dc:description/>
  <dc:language>en-US</dc:language>
  <cp:lastModifiedBy>dbassi</cp:lastModifiedBy>
  <cp:lastPrinted>2002-10-14T11:06:56Z</cp:lastPrinted>
  <dcterms:modified xsi:type="dcterms:W3CDTF">1999-12-22T23:58:00Z</dcterms:modified>
  <cp:revision>1</cp:revision>
  <dc:subject/>
  <dc:title>PLoP 2002</dc:title>
</cp:coreProperties>
</file>