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F3E-42CD-460F-B895-D6CEA0CD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762-C876-403C-A20A-45A7B238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720-B9FC-41A9-A631-5A54D97E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384-E300-49D3-9048-AF95FB45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192-AE09-41C8-95B3-5DDD6312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FA3-92A5-478C-9EBF-A35AE01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2A2-7DDB-4FFF-9E8A-C7615D67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7C9-1175-4B6C-98A4-63FA8A20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C14-5359-4453-8288-EB9A4C02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FDB-7D7C-45B1-84EC-91C1C96B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95F-8B0A-4366-8859-E1F05F4B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7DC-5796-4468-B89B-E784FDB5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8822-E691-4976-A96E-36614CB61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odelos Adaptativos de Objetos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Joseph W. Yode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Ralph Johns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3920" y="548640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iano Saturno Mun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F31-B689-46AE-959F-520FEB2937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Figura2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8915400" cy="241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F4E-D9A0-45C1-8192-ABF49B073D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to Tipo + Proprie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o Tipo é normalmente usado duas vezes: antes e depois do Proprie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o Tipo: Entidades x Tipos de Entidad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dade aplicado às Entidad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o Tipo nas Propriedades: Propriedades x Tipos de Proprie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Tipo de Entidade escolhe os Tipos de Propriedades para suas Ent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F3D-4307-4AF3-B01F-B041ED5BEB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Figura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30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24F-94C4-46B9-A36C-D44B8B149C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idade - Relacion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descrever os relacionam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priedades referent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tipos primitiv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ssociações de sentido ú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lacion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priedades referent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Ent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ssociações de sentido dup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separar atributos de relacionam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ar o padrão Propriedade duas vez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 duas subclasses de Proprie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ar o valor da propriedade para separar atributos de relaciona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D57-3679-4006-8433-82E4E47DEB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ratégia / Regra de Obje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representar regras de negó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regras ainda não podem ser tratadas com o exposto até ag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ão implementadas usando os padrões Estratégia e Regra de Ob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ratégia: objeto que representa um algorit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570-5CFF-4C4D-AEF7-1269184755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ratégia / Regra de Objeto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s Adaptativos de Objetos começam com estratégias si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ratégias são mapeadas para os Tipos de Entidades através de meta-d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ções descritivas interpretadas em tempo de execu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os Regra: Estratégias mais complexas para regras de negócio mais compl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7C8-D6B7-483A-A0A5-9CD4BB5B74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igura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327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29B-405F-4244-8E48-6F55D3945A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érpretes de Meta-d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-dados: Descrições das regras de negó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ão interpretados duas vez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iação dos obje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ção das regras em tempo de execu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 ser armazenados em bancos de dados ou arquivos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4BB-D72A-4BEE-854B-A87D8C3DB9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érpretes de Meta-dados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-dados têm de ser inicialmente interpretados para a construção da estrutura do Modelo Adaptativo de Ob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 ser usados os padrões Intérprete e Constru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ída a estrutura os Meta-dados são interpretados novamente: o comportamento do sistema é mon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62C-BBC6-43F0-9C83-D31737F94B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érpretes de Meta-dados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nguagens específic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omínios podem ser criadas se necess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stemas complexos requerem gramáticas, linguagens restritivas e intérpretes mais complex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gras gramaticais são difíceis de conceber, mas são bem aceitas pelo usuário final se forem intui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86E-689F-4FD1-BE18-93F5AA1617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construir sistemas que mudam suas regras de negócio freqüentemen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construir sistemas que podem ser alterados facilmen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construir sistemas que podem mudar suas funcionalidades em tempo de execução, sem a necessidade de recompilar código-fon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728-B0A0-4DF7-AB2A-72EEFFA4E4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mplo de M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abouço Produto Definido por Usuário (User-Defined Product Framework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nvolvido em Hartford, onde é usado para representar apólices de segu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 a especificação, representação e manipulação de objetos complexos com atributos que são funções de seus componen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e criar novos objetos de negócio a partir de componentes conhecidos e deixa o usuário definir novos tipos de componentes sem a necessidades de program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F54-2A3C-4D52-8978-D48DD29B60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mplo de MAO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rquitetura desse arcabouço é muito similar ao MAO descrito anterior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os objetos de negócio são criados instanciando ComponentTypes, os quais definem seus AttributesTypes permiti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padrão Estratégia foi aplicado em ComponentTypes e AttributeTypes para definir as regras a eles associ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710-42BE-421B-ABB7-4082990571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igura6" descr=""/>
          <p:cNvPicPr/>
          <p:nvPr/>
        </p:nvPicPr>
        <p:blipFill>
          <a:blip r:embed="rId1"/>
          <a:stretch/>
        </p:blipFill>
        <p:spPr>
          <a:xfrm>
            <a:off x="84240" y="1066680"/>
            <a:ext cx="8974080" cy="472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2A6-96AD-40ED-8957-13F2012FB9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ópicos de Implem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ando Modelos Persis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O representa meta-dados como objetos comu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m ser armazenados em bancos de dados através de regras conhecid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 possível usar XML para armazenas meta-d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e da forma de armazenamento o sistema deve ser capaz de interpretar os meta-dados e povoar um MAO corretam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padrões Construtor e Interprete podem ser usados nessa taref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8C7-6741-41E0-9C0F-47990F2BEE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igura5" descr=""/>
          <p:cNvPicPr/>
          <p:nvPr/>
        </p:nvPicPr>
        <p:blipFill>
          <a:blip r:embed="rId1"/>
          <a:stretch/>
        </p:blipFill>
        <p:spPr>
          <a:xfrm>
            <a:off x="412920" y="1028880"/>
            <a:ext cx="831672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464-F76F-4C62-9238-C262934CFB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ópicos de Implem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esentando o modelo ao usu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s gráficas são importantes no MA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figuração do sistema é feita pelo usuário final através de alguma interfa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strução de interfaces não se beneficia do reaproveitamento de código-fo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s gráficas tornam a apresentação / modificação do sistema mais amigá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4B3-A17A-441E-AD2A-09C9694148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ópicos de Implem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do o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azenar meta-dados num banco de dados não é tão simples quanto armazenar objetos comu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a solução é desenvolver ferramentas e editores para auxiliar os programado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abouço estilo caixa-pre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E84-4481-4112-AC5D-8EFE88B5CC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ópicos de Implem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órico de regras 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er uma trilha das mudanças nos valores, nas versões e nas regras ao longo do temp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interpretador deve ser mudado para sempre pegar o valor atual, a versão e as regras corr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F3E-D5C8-44E3-8016-599E69C1AA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qüências de M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tage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dade de efetuar mudanç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ários “programam sem programar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er um sistema num MAO reduz o número de classes e o tamanho do mesm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ácil de manter com conhecimento do MA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antage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forço na constru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r sistema para interpretar o model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 mais difícil de entend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ação de linguagens específicas à domín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ícil de manter sem conhecimento do MA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3E1-0963-4BD3-A33B-96DCF7DFE3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balhos relac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dores de código (Code Genera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ção Gerativa (Generative Programm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modelagem (Metamodel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4AF-2D62-4B96-B0F6-0EFD12A20E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ção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uiteturas reflexivas ou meta-arquite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ção a novos requisitos do sistema em tempo de execu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o de informações descri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s Adaptativos de Objetos (MA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Adaptativo de Objeto: classes, atributos, relacionamentos e comportamento como meta-d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 baseado em instâ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44C-B0E9-4AD2-86BE-63DD294A99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õ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O oferece uma alternativa à orientação a obj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usu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jetos orientad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obj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trelam entidades de negóci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lasses e deixam pouca flexibil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O não atrela e por isso é mais flexí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O é útil em sistemas que enfatizam flexibil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227-2BDA-41B3-838F-215B291080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Joseph W. Yoder, Ralph Johnson, The Adaptative Object-Model Architetural Style, WICSA3, 2002</a:t>
            </a:r>
            <a:r>
              <a:rPr b="0" lang="pt-BR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taData and Adaptive Object-Model P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ttp://www.adaptiveobjectmodel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5D5-E5B5-4139-95CB-3A7413A02A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quitetura M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ifere da arquitetura usual de orientação a obj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quitetura usual: classes representam entidades de negó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quitetura MAO: meta-dados representam entidades de negó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ta-dados são interpretados em tempo de execu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CCE-6A45-4BA6-9407-8F1266B451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quitetura MAO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abouço construído a partir de padrões men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Tipo (Type Objec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riedade (Propert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tégia (Strateg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a de Objeto (Object Ru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ção (Composi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érprete (Interpre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tor (Build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954-77BE-4850-82AE-27C453090D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to Ti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 orientados a objetos convencion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 = conjunto de class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a classe define a estrutura e comportamento do obje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a classe para cada tipo de obje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os objetos implicam em novas class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s com classes com número desconhecido de sub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9A2-8E2E-4234-937C-BCD81F8300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to Tipo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ndo o padrão Objeto Ti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subclasse é uma abstração de um elemento do domíni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s as subclasses tornam-se instânci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s classes criadas em tempo de execu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962-7146-4799-90BE-8BF33A9B83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igura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837-CA1C-4675-81C4-8528C06903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rie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 orientados a objetos convencion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butos implementados pelas variáveis de instâ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butos definidos em cada subclas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 variar atributos entre objetos de uma mesma clas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ndo o padrão Proprieda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e uma variável de instância que recebe uma coleção de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0F0-68A5-4C71-9390-F12D7A07C4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00:57:03Z</dcterms:created>
  <dc:creator>Adriano Saturno Muniz</dc:creator>
  <dc:description/>
  <dc:language>en-US</dc:language>
  <cp:lastModifiedBy>Inst.Matematica e Estatistica</cp:lastModifiedBy>
  <dcterms:modified xsi:type="dcterms:W3CDTF">2002-11-06T10:00:23Z</dcterms:modified>
  <cp:revision>63</cp:revision>
  <dc:subject/>
  <dc:title>Modelos Adaptativos de Objetos</dc:title>
</cp:coreProperties>
</file>