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51B8-D267-4041-B9AE-828088561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7933-2852-400A-AAAD-D44B31F45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3CB4-43EE-49B6-BA37-976C42521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D9B3-A2BA-478C-AB33-24A229843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6DBAD-BFF1-4BA9-B022-3B3F75BB2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2ABED-2B9A-431C-A2F2-550213FA7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7E596-96F6-49BD-94A7-774F956FC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280D6-37FD-42F9-8FFC-35F3A73E0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ECF68-5450-4F8F-A096-7A603594A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D02DA-D318-4965-B1E3-7928F29BF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EB7CC-547F-4B25-9F07-7CCFCB90C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FF13-4DB6-4359-BECF-23DC5DDAE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7F257-8E3A-4E0C-946B-BDCDD1050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DBDA6-C153-423B-9C64-80B917EDF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32240-05E5-475E-B9CE-ACB767821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1B3EE-EE11-49B7-9414-2D6039214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58172-3ABE-425C-B1F8-8911159BB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E61C-873A-4864-88C5-4621DB9C7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42A0-038C-4B1A-9B8F-D68A18265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EB32-9ACC-4F20-8ED1-2EA9CF55C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0404-0037-4218-81FF-52CDC4454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1ADA-7E28-4B91-A769-96026FD9D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B16C-E0DC-46CC-9109-21ECD692D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6D24-3C5B-4454-BAEF-D4A982631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C2CDC-6B04-44E3-BAB9-D761295E6928}" type="slidenum">
              <a:rPr b="0" lang="pt-B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4A94E-18A8-43F7-A902-15823F557671}" type="slidenum">
              <a:rPr b="0" lang="pt-BR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drões de Projet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rup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íra de Assis Ram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rcus Machado S. Moysé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63E5D-55CD-4C21-ACC6-C0B85BBB7B6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ngleton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çã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rantindo uma única instânc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iando subclasses da classe Singlet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mpo de execução – classe mã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mpo de ligação – classe(s) filha(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9462-D51B-4814-8F06-A85F379D475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drões Estrutura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mação de estruturas maio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is tipo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 Classe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eranç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ança múltipl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 Objeto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Composiçã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0DDB-DB6E-4CA4-9B41-5F8FD370D4C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drões Estruturais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rid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osi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rat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Faça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lyweigh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B5C4-7B8A-4382-83E1-356718A268F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d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nçã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acoplar abstração da implementaçã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tivaçã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ma abstração pode ter várias implementaçõ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emplo: Implementação de uma Janela para XWindow e para Presentation Manager (I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F638-B193-4CDC-AE1E-4CF54154E48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dge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ção 1: Heranç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228600" y="2728800"/>
            <a:ext cx="8701200" cy="3457800"/>
            <a:chOff x="228600" y="2728800"/>
            <a:chExt cx="8701200" cy="3457800"/>
          </a:xfrm>
        </p:grpSpPr>
        <p:sp>
          <p:nvSpPr>
            <p:cNvPr id="141" name=""/>
            <p:cNvSpPr/>
            <p:nvPr/>
          </p:nvSpPr>
          <p:spPr>
            <a:xfrm>
              <a:off x="1066680" y="2728800"/>
              <a:ext cx="106704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Windo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28600" y="3809880"/>
              <a:ext cx="114300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XWindo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828800" y="3795840"/>
              <a:ext cx="1295280" cy="36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PMWindo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14600" y="311004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38080" y="3457440"/>
              <a:ext cx="0" cy="35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452680" y="3448080"/>
              <a:ext cx="0" cy="35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629400" y="4724280"/>
              <a:ext cx="144792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conWindo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176960" y="5805360"/>
              <a:ext cx="175284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PMIconWindo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248440" y="5805360"/>
              <a:ext cx="160020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XIconWindo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114800" y="3657600"/>
              <a:ext cx="10666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Windo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276720" y="4738680"/>
              <a:ext cx="1143000" cy="366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XWindo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876920" y="4724280"/>
              <a:ext cx="1295280" cy="366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PMWindo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648320" y="40384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886200" y="4386240"/>
              <a:ext cx="0" cy="35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472000" y="4376880"/>
              <a:ext cx="0" cy="35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38880" y="4376880"/>
              <a:ext cx="0" cy="35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281720" y="51055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019920" y="5452920"/>
              <a:ext cx="0" cy="35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077320" y="5457960"/>
              <a:ext cx="0" cy="35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3276720" y="2818800"/>
              <a:ext cx="1600200" cy="685800"/>
            </a:xfrm>
            <a:custGeom>
              <a:avLst/>
              <a:gdLst>
                <a:gd name="textAreaLeft" fmla="*/ 683280 w 1600200"/>
                <a:gd name="textAreaRight" fmla="*/ 1398600 w 1600200"/>
                <a:gd name="textAreaTop" fmla="*/ 474480 h 685800"/>
                <a:gd name="textAreaBottom" fmla="*/ 59904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7679"/>
                  </a:moveTo>
                  <a:lnTo>
                    <a:pt x="14957" y="17679"/>
                  </a:lnTo>
                  <a:lnTo>
                    <a:pt x="14957" y="9225"/>
                  </a:lnTo>
                  <a:lnTo>
                    <a:pt x="12235" y="9225"/>
                  </a:lnTo>
                  <a:lnTo>
                    <a:pt x="16918" y="0"/>
                  </a:lnTo>
                  <a:lnTo>
                    <a:pt x="21600" y="9225"/>
                  </a:lnTo>
                  <a:lnTo>
                    <a:pt x="18878" y="9225"/>
                  </a:lnTo>
                  <a:lnTo>
                    <a:pt x="18878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6019920" y="5257800"/>
              <a:ext cx="2057400" cy="200160"/>
              <a:chOff x="6019920" y="5257800"/>
              <a:chExt cx="2057400" cy="200160"/>
            </a:xfrm>
          </p:grpSpPr>
          <p:sp>
            <p:nvSpPr>
              <p:cNvPr id="162" name=""/>
              <p:cNvSpPr/>
              <p:nvPr/>
            </p:nvSpPr>
            <p:spPr>
              <a:xfrm>
                <a:off x="7162920" y="5257800"/>
                <a:ext cx="228600" cy="1983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6019920" y="5457960"/>
                <a:ext cx="2057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7162920" y="5257800"/>
              <a:ext cx="228600" cy="1983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538520" y="4176720"/>
              <a:ext cx="228600" cy="1983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886200" y="4371840"/>
              <a:ext cx="3357720" cy="1800"/>
            </a:xfrm>
            <a:custGeom>
              <a:avLst/>
              <a:gdLst/>
              <a:ahLst/>
              <a:rect l="l" t="t" r="r" b="b"/>
              <a:pathLst>
                <a:path w="2115" h="1">
                  <a:moveTo>
                    <a:pt x="0" y="0"/>
                  </a:moveTo>
                  <a:lnTo>
                    <a:pt x="2115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490760" y="3247920"/>
              <a:ext cx="228600" cy="1987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38080" y="3443400"/>
              <a:ext cx="1619280" cy="1440"/>
            </a:xfrm>
            <a:custGeom>
              <a:avLst/>
              <a:gdLst/>
              <a:ahLst/>
              <a:rect l="l" t="t" r="r" b="b"/>
              <a:pathLst>
                <a:path w="1020" h="1">
                  <a:moveTo>
                    <a:pt x="0" y="0"/>
                  </a:moveTo>
                  <a:lnTo>
                    <a:pt x="102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F35F-A1B4-48EE-804D-AA1C92FA763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dge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 Problem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ir duas classes para cada tipo de janela; Inserir plataforma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ubclasse para cada tip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ódigo do cliente depende da platafor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2687-E252-4841-B49A-6EA8761B051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dge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ção 2: padrão 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731880" y="2666880"/>
            <a:ext cx="7573680" cy="3962520"/>
            <a:chOff x="731880" y="2666880"/>
            <a:chExt cx="7573680" cy="3962520"/>
          </a:xfrm>
        </p:grpSpPr>
        <p:sp>
          <p:nvSpPr>
            <p:cNvPr id="174" name=""/>
            <p:cNvSpPr/>
            <p:nvPr/>
          </p:nvSpPr>
          <p:spPr>
            <a:xfrm>
              <a:off x="838080" y="2700360"/>
              <a:ext cx="6858000" cy="1143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47760" y="4410000"/>
              <a:ext cx="228600" cy="1983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495440" y="4605480"/>
              <a:ext cx="1619280" cy="1440"/>
            </a:xfrm>
            <a:custGeom>
              <a:avLst/>
              <a:gdLst/>
              <a:ahLst/>
              <a:rect l="l" t="t" r="r" b="b"/>
              <a:pathLst>
                <a:path w="1020" h="1">
                  <a:moveTo>
                    <a:pt x="0" y="0"/>
                  </a:moveTo>
                  <a:lnTo>
                    <a:pt x="102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7" name=""/>
            <p:cNvGrpSpPr/>
            <p:nvPr/>
          </p:nvGrpSpPr>
          <p:grpSpPr>
            <a:xfrm>
              <a:off x="1515960" y="6053040"/>
              <a:ext cx="1150920" cy="533520"/>
              <a:chOff x="1515960" y="6053040"/>
              <a:chExt cx="1150920" cy="533520"/>
            </a:xfrm>
          </p:grpSpPr>
          <p:sp>
            <p:nvSpPr>
              <p:cNvPr id="178" name=""/>
              <p:cNvSpPr/>
              <p:nvPr/>
            </p:nvSpPr>
            <p:spPr>
              <a:xfrm flipV="1">
                <a:off x="1523880" y="6053040"/>
                <a:ext cx="1143000" cy="533520"/>
              </a:xfrm>
              <a:prstGeom prst="foldedCorner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1515960" y="6053040"/>
                <a:ext cx="10922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DrawRect(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DrawText(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1744560" y="2852640"/>
              <a:ext cx="1150560" cy="838080"/>
              <a:chOff x="1744560" y="2852640"/>
              <a:chExt cx="1150560" cy="838080"/>
            </a:xfrm>
          </p:grpSpPr>
          <p:sp>
            <p:nvSpPr>
              <p:cNvPr id="181" name=""/>
              <p:cNvSpPr/>
              <p:nvPr/>
            </p:nvSpPr>
            <p:spPr>
              <a:xfrm>
                <a:off x="1752480" y="2852640"/>
                <a:ext cx="1142640" cy="838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759680" y="2852640"/>
                <a:ext cx="900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ahoma"/>
                  </a:rPr>
                  <a:t>Window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744560" y="3157200"/>
                <a:ext cx="10922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DrawText(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DrawRect(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1752480" y="3143160"/>
                <a:ext cx="1142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5998680" y="2852640"/>
              <a:ext cx="1409040" cy="838080"/>
              <a:chOff x="5998680" y="2852640"/>
              <a:chExt cx="1409040" cy="838080"/>
            </a:xfrm>
          </p:grpSpPr>
          <p:sp>
            <p:nvSpPr>
              <p:cNvPr id="186" name=""/>
              <p:cNvSpPr/>
              <p:nvPr/>
            </p:nvSpPr>
            <p:spPr>
              <a:xfrm>
                <a:off x="6014880" y="2852640"/>
                <a:ext cx="1371600" cy="838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6026040" y="2852640"/>
                <a:ext cx="1258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ahoma"/>
                  </a:rPr>
                  <a:t>WindowImp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5998680" y="3143160"/>
                <a:ext cx="14090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DevDrawText(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DevDrawLine(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6014880" y="3143160"/>
                <a:ext cx="1371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731880" y="4986360"/>
              <a:ext cx="1453680" cy="611640"/>
              <a:chOff x="731880" y="4986360"/>
              <a:chExt cx="1453680" cy="611640"/>
            </a:xfrm>
          </p:grpSpPr>
          <p:sp>
            <p:nvSpPr>
              <p:cNvPr id="191" name=""/>
              <p:cNvSpPr/>
              <p:nvPr/>
            </p:nvSpPr>
            <p:spPr>
              <a:xfrm>
                <a:off x="762120" y="4986360"/>
                <a:ext cx="1423440" cy="609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776160" y="4986360"/>
                <a:ext cx="12888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ahoma"/>
                  </a:rPr>
                  <a:t>IconWindow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731880" y="5290920"/>
                <a:ext cx="1311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DrawBorder(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762120" y="5290920"/>
                <a:ext cx="1423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5" name=""/>
            <p:cNvGrpSpPr/>
            <p:nvPr/>
          </p:nvGrpSpPr>
          <p:grpSpPr>
            <a:xfrm>
              <a:off x="2351880" y="4986360"/>
              <a:ext cx="1791000" cy="611640"/>
              <a:chOff x="2351880" y="4986360"/>
              <a:chExt cx="1791000" cy="611640"/>
            </a:xfrm>
          </p:grpSpPr>
          <p:sp>
            <p:nvSpPr>
              <p:cNvPr id="196" name=""/>
              <p:cNvSpPr/>
              <p:nvPr/>
            </p:nvSpPr>
            <p:spPr>
              <a:xfrm>
                <a:off x="2384280" y="4986360"/>
                <a:ext cx="1752840" cy="609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2389320" y="4986360"/>
                <a:ext cx="1753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ahoma"/>
                  </a:rPr>
                  <a:t>TransientWindow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2351880" y="5290920"/>
                <a:ext cx="1501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DrawCloseBox(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2384280" y="5290920"/>
                <a:ext cx="1752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0" name=""/>
            <p:cNvGrpSpPr/>
            <p:nvPr/>
          </p:nvGrpSpPr>
          <p:grpSpPr>
            <a:xfrm>
              <a:off x="6799680" y="4986360"/>
              <a:ext cx="1505880" cy="838080"/>
              <a:chOff x="6799680" y="4986360"/>
              <a:chExt cx="1505880" cy="838080"/>
            </a:xfrm>
          </p:grpSpPr>
          <p:sp>
            <p:nvSpPr>
              <p:cNvPr id="201" name=""/>
              <p:cNvSpPr/>
              <p:nvPr/>
            </p:nvSpPr>
            <p:spPr>
              <a:xfrm>
                <a:off x="6816600" y="4986360"/>
                <a:ext cx="1488960" cy="838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829200" y="4986360"/>
                <a:ext cx="1377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ahoma"/>
                  </a:rPr>
                  <a:t>XWindowImp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6799680" y="5276880"/>
                <a:ext cx="14090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DevDrawText(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DevDrawLine(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6816600" y="5276880"/>
                <a:ext cx="1488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5" name=""/>
            <p:cNvGrpSpPr/>
            <p:nvPr/>
          </p:nvGrpSpPr>
          <p:grpSpPr>
            <a:xfrm>
              <a:off x="4826520" y="4986360"/>
              <a:ext cx="1563840" cy="838080"/>
              <a:chOff x="4826520" y="4986360"/>
              <a:chExt cx="1563840" cy="838080"/>
            </a:xfrm>
          </p:grpSpPr>
          <p:sp>
            <p:nvSpPr>
              <p:cNvPr id="206" name=""/>
              <p:cNvSpPr/>
              <p:nvPr/>
            </p:nvSpPr>
            <p:spPr>
              <a:xfrm>
                <a:off x="4843440" y="4986360"/>
                <a:ext cx="1488240" cy="838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4853160" y="4986360"/>
                <a:ext cx="1537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ahoma"/>
                  </a:rPr>
                  <a:t>PMWindowImp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4826520" y="5276880"/>
                <a:ext cx="14090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DevDrawText(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DevDrawLine(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4843440" y="5276880"/>
                <a:ext cx="1488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0" name=""/>
            <p:cNvGrpSpPr/>
            <p:nvPr/>
          </p:nvGrpSpPr>
          <p:grpSpPr>
            <a:xfrm>
              <a:off x="3421080" y="6072120"/>
              <a:ext cx="1150920" cy="380880"/>
              <a:chOff x="3421080" y="6072120"/>
              <a:chExt cx="1150920" cy="380880"/>
            </a:xfrm>
          </p:grpSpPr>
          <p:sp>
            <p:nvSpPr>
              <p:cNvPr id="211" name=""/>
              <p:cNvSpPr/>
              <p:nvPr/>
            </p:nvSpPr>
            <p:spPr>
              <a:xfrm flipV="1">
                <a:off x="3429000" y="6072120"/>
                <a:ext cx="1143000" cy="380880"/>
              </a:xfrm>
              <a:prstGeom prst="foldedCorner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3421080" y="6119640"/>
                <a:ext cx="109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DrawRect(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3" name=""/>
            <p:cNvGrpSpPr/>
            <p:nvPr/>
          </p:nvGrpSpPr>
          <p:grpSpPr>
            <a:xfrm>
              <a:off x="5167440" y="6248520"/>
              <a:ext cx="1233000" cy="380880"/>
              <a:chOff x="5167440" y="6248520"/>
              <a:chExt cx="1233000" cy="380880"/>
            </a:xfrm>
          </p:grpSpPr>
          <p:sp>
            <p:nvSpPr>
              <p:cNvPr id="214" name=""/>
              <p:cNvSpPr/>
              <p:nvPr/>
            </p:nvSpPr>
            <p:spPr>
              <a:xfrm flipV="1">
                <a:off x="5181480" y="6248520"/>
                <a:ext cx="1218960" cy="380880"/>
              </a:xfrm>
              <a:prstGeom prst="foldedCorner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167440" y="6296040"/>
                <a:ext cx="1185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DrawLine(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6" name=""/>
            <p:cNvGrpSpPr/>
            <p:nvPr/>
          </p:nvGrpSpPr>
          <p:grpSpPr>
            <a:xfrm>
              <a:off x="6531120" y="6248520"/>
              <a:ext cx="1335960" cy="380880"/>
              <a:chOff x="6531120" y="6248520"/>
              <a:chExt cx="1335960" cy="380880"/>
            </a:xfrm>
          </p:grpSpPr>
          <p:sp>
            <p:nvSpPr>
              <p:cNvPr id="217" name=""/>
              <p:cNvSpPr/>
              <p:nvPr/>
            </p:nvSpPr>
            <p:spPr>
              <a:xfrm flipV="1">
                <a:off x="6553080" y="6248520"/>
                <a:ext cx="1295280" cy="380880"/>
              </a:xfrm>
              <a:prstGeom prst="foldedCorner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6531120" y="6296040"/>
                <a:ext cx="13359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DrawString(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9" name=""/>
            <p:cNvGrpSpPr/>
            <p:nvPr/>
          </p:nvGrpSpPr>
          <p:grpSpPr>
            <a:xfrm>
              <a:off x="3403080" y="3919320"/>
              <a:ext cx="1930680" cy="914040"/>
              <a:chOff x="3403080" y="3919320"/>
              <a:chExt cx="1930680" cy="914040"/>
            </a:xfrm>
          </p:grpSpPr>
          <p:sp>
            <p:nvSpPr>
              <p:cNvPr id="220" name=""/>
              <p:cNvSpPr/>
              <p:nvPr/>
            </p:nvSpPr>
            <p:spPr>
              <a:xfrm flipV="1">
                <a:off x="3429000" y="3918960"/>
                <a:ext cx="1904760" cy="914040"/>
              </a:xfrm>
              <a:prstGeom prst="foldedCorner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3403080" y="3933000"/>
                <a:ext cx="1858680" cy="88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imp </a:t>
                </a:r>
                <a:r>
                  <a:rPr b="0" lang="en-US" sz="1300" spc="-1" strike="noStrike">
                    <a:solidFill>
                      <a:srgbClr val="000000"/>
                    </a:solidFill>
                    <a:latin typeface="Wingdings"/>
                    <a:ea typeface="Wingdings"/>
                  </a:rPr>
                  <a:t></a:t>
                </a: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 DevDrawLine()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imp </a:t>
                </a:r>
                <a:r>
                  <a:rPr b="0" lang="en-US" sz="1300" spc="-1" strike="noStrike">
                    <a:solidFill>
                      <a:srgbClr val="000000"/>
                    </a:solidFill>
                    <a:latin typeface="Wingdings"/>
                    <a:ea typeface="Wingdings"/>
                  </a:rPr>
                  <a:t></a:t>
                </a: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 DevDrawLine()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imp </a:t>
                </a:r>
                <a:r>
                  <a:rPr b="0" lang="en-US" sz="1300" spc="-1" strike="noStrike">
                    <a:solidFill>
                      <a:srgbClr val="000000"/>
                    </a:solidFill>
                    <a:latin typeface="Wingdings"/>
                    <a:ea typeface="Wingdings"/>
                  </a:rPr>
                  <a:t></a:t>
                </a: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 DevDrawLine()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imp </a:t>
                </a:r>
                <a:r>
                  <a:rPr b="0" lang="en-US" sz="1300" spc="-1" strike="noStrike">
                    <a:solidFill>
                      <a:srgbClr val="000000"/>
                    </a:solidFill>
                    <a:latin typeface="Wingdings"/>
                    <a:ea typeface="Wingdings"/>
                  </a:rPr>
                  <a:t></a:t>
                </a: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 DevDrawLine()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2" name=""/>
            <p:cNvSpPr/>
            <p:nvPr/>
          </p:nvSpPr>
          <p:spPr>
            <a:xfrm>
              <a:off x="1500120" y="460548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105000" y="460548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257560" y="3686040"/>
              <a:ext cx="1440" cy="723960"/>
            </a:xfrm>
            <a:custGeom>
              <a:avLst/>
              <a:gdLst/>
              <a:ahLst/>
              <a:rect l="l" t="t" r="r" b="b"/>
              <a:pathLst>
                <a:path w="1" h="456">
                  <a:moveTo>
                    <a:pt x="0" y="456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462720" y="4419720"/>
              <a:ext cx="228600" cy="1983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810400" y="4614840"/>
              <a:ext cx="1619280" cy="1800"/>
            </a:xfrm>
            <a:custGeom>
              <a:avLst/>
              <a:gdLst/>
              <a:ahLst/>
              <a:rect l="l" t="t" r="r" b="b"/>
              <a:pathLst>
                <a:path w="1020" h="1">
                  <a:moveTo>
                    <a:pt x="0" y="0"/>
                  </a:moveTo>
                  <a:lnTo>
                    <a:pt x="102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800680" y="461484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419960" y="461484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572160" y="3695760"/>
              <a:ext cx="1800" cy="723960"/>
            </a:xfrm>
            <a:custGeom>
              <a:avLst/>
              <a:gdLst/>
              <a:ahLst/>
              <a:rect l="l" t="t" r="r" b="b"/>
              <a:pathLst>
                <a:path w="1" h="456">
                  <a:moveTo>
                    <a:pt x="0" y="456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771640" y="3490920"/>
              <a:ext cx="7632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172200" y="5367240"/>
              <a:ext cx="7632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057400" y="5410080"/>
              <a:ext cx="7632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090880" y="551988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005360" y="5410080"/>
              <a:ext cx="7596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038480" y="551988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167520" y="5595840"/>
              <a:ext cx="7596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200640" y="570564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262560" y="539604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629400" y="539604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805120" y="359568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819520" y="419112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914560" y="2928960"/>
              <a:ext cx="209520" cy="152280"/>
            </a:xfrm>
            <a:prstGeom prst="diamond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110040" y="3005280"/>
              <a:ext cx="2895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124080" y="2743200"/>
              <a:ext cx="502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m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825840" y="2666880"/>
              <a:ext cx="72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b2b2b2"/>
                  </a:solidFill>
                  <a:latin typeface="Tahoma"/>
                </a:rPr>
                <a:t>bridg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1074-FCC0-45C5-9196-3BDB0D6AD14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dge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licabilida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itar vínculo abstração / implementaçã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ções e implementações extensíveis por subcl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danças na implementação de uma abstração não devem ter impacto sobre clien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D3F5-1FE2-4670-B58B-AC4E4BC8F72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dge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5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trutur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457200" y="2895480"/>
            <a:ext cx="8534160" cy="3429000"/>
            <a:chOff x="457200" y="2895480"/>
            <a:chExt cx="8534160" cy="3429000"/>
          </a:xfrm>
        </p:grpSpPr>
        <p:sp>
          <p:nvSpPr>
            <p:cNvPr id="251" name=""/>
            <p:cNvSpPr/>
            <p:nvPr/>
          </p:nvSpPr>
          <p:spPr>
            <a:xfrm>
              <a:off x="2147760" y="5067360"/>
              <a:ext cx="228600" cy="1983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600200" y="3510000"/>
              <a:ext cx="128592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95880" y="3510000"/>
              <a:ext cx="1223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Abstrac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605240" y="3914640"/>
              <a:ext cx="1137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peration(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600200" y="3800520"/>
              <a:ext cx="1285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014880" y="3510000"/>
              <a:ext cx="137160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014520" y="3510000"/>
              <a:ext cx="136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Implemento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980320" y="391464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perationImp(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014880" y="3800520"/>
              <a:ext cx="137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0" name=""/>
            <p:cNvGrpSpPr/>
            <p:nvPr/>
          </p:nvGrpSpPr>
          <p:grpSpPr>
            <a:xfrm>
              <a:off x="4057920" y="5638680"/>
              <a:ext cx="2414160" cy="685800"/>
              <a:chOff x="4057920" y="5638680"/>
              <a:chExt cx="2414160" cy="685800"/>
            </a:xfrm>
          </p:grpSpPr>
          <p:sp>
            <p:nvSpPr>
              <p:cNvPr id="261" name=""/>
              <p:cNvSpPr/>
              <p:nvPr/>
            </p:nvSpPr>
            <p:spPr>
              <a:xfrm>
                <a:off x="4092480" y="5638680"/>
                <a:ext cx="2379600" cy="685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4092120" y="5638680"/>
                <a:ext cx="22899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ahoma"/>
                  </a:rPr>
                  <a:t>ConcreteImplementor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057920" y="5958000"/>
                <a:ext cx="1474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OperationImp(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092480" y="5929200"/>
                <a:ext cx="2379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5" name=""/>
            <p:cNvSpPr/>
            <p:nvPr/>
          </p:nvSpPr>
          <p:spPr>
            <a:xfrm flipV="1">
              <a:off x="3371760" y="4461840"/>
              <a:ext cx="1981440" cy="42372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351240" y="4511520"/>
              <a:ext cx="19224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imp </a:t>
              </a:r>
              <a:r>
                <a:rPr b="0" lang="en-US" sz="13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 OperationImp(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262240" y="527688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257560" y="4343400"/>
              <a:ext cx="1440" cy="723960"/>
            </a:xfrm>
            <a:custGeom>
              <a:avLst/>
              <a:gdLst/>
              <a:ahLst/>
              <a:rect l="l" t="t" r="r" b="b"/>
              <a:pathLst>
                <a:path w="1" h="456">
                  <a:moveTo>
                    <a:pt x="0" y="456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462720" y="5062680"/>
              <a:ext cx="228600" cy="1983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810400" y="5257800"/>
              <a:ext cx="1619280" cy="1440"/>
            </a:xfrm>
            <a:custGeom>
              <a:avLst/>
              <a:gdLst/>
              <a:ahLst/>
              <a:rect l="l" t="t" r="r" b="b"/>
              <a:pathLst>
                <a:path w="1020" h="1">
                  <a:moveTo>
                    <a:pt x="0" y="0"/>
                  </a:moveTo>
                  <a:lnTo>
                    <a:pt x="102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800680" y="5257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419960" y="5257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572160" y="4338720"/>
              <a:ext cx="1800" cy="723960"/>
            </a:xfrm>
            <a:custGeom>
              <a:avLst/>
              <a:gdLst/>
              <a:ahLst/>
              <a:rect l="l" t="t" r="r" b="b"/>
              <a:pathLst>
                <a:path w="1" h="456">
                  <a:moveTo>
                    <a:pt x="0" y="456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14760" y="4033800"/>
              <a:ext cx="7596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747880" y="413856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762280" y="473400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914560" y="3586320"/>
              <a:ext cx="209520" cy="152280"/>
            </a:xfrm>
            <a:prstGeom prst="diamond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110040" y="3662280"/>
              <a:ext cx="2895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124080" y="3400560"/>
              <a:ext cx="502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m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309680" y="5648400"/>
              <a:ext cx="19051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RefinedAbstrac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1" name=""/>
            <p:cNvGrpSpPr/>
            <p:nvPr/>
          </p:nvGrpSpPr>
          <p:grpSpPr>
            <a:xfrm>
              <a:off x="6577200" y="5638680"/>
              <a:ext cx="2414160" cy="685800"/>
              <a:chOff x="6577200" y="5638680"/>
              <a:chExt cx="2414160" cy="685800"/>
            </a:xfrm>
          </p:grpSpPr>
          <p:sp>
            <p:nvSpPr>
              <p:cNvPr id="282" name=""/>
              <p:cNvSpPr/>
              <p:nvPr/>
            </p:nvSpPr>
            <p:spPr>
              <a:xfrm>
                <a:off x="6611760" y="5638680"/>
                <a:ext cx="2379600" cy="685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612120" y="5638680"/>
                <a:ext cx="228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ahoma"/>
                  </a:rPr>
                  <a:t>ConcreteImplementorB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6577200" y="5958000"/>
                <a:ext cx="1474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OperationImp(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6611760" y="5929200"/>
                <a:ext cx="2379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6" name=""/>
            <p:cNvSpPr/>
            <p:nvPr/>
          </p:nvSpPr>
          <p:spPr>
            <a:xfrm>
              <a:off x="457200" y="2895480"/>
              <a:ext cx="8380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b2b2b2"/>
                  </a:solidFill>
                  <a:latin typeface="Tahoma"/>
                </a:rPr>
                <a:t>Cli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914400" y="3200400"/>
              <a:ext cx="0" cy="45720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914400" y="3657600"/>
              <a:ext cx="685800" cy="0"/>
            </a:xfrm>
            <a:prstGeom prst="line">
              <a:avLst/>
            </a:prstGeom>
            <a:ln w="936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6BBC-C29B-46F3-B7A1-0E2906BF931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dge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eqüênci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acopla a interface da implementaçã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bilidade melhora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cultação de detalhes de implementação dos clien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çã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á somente um Implement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iar o objeto Implementator corre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6998-6959-4C88-AB96-6911AEB8903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Tahoma"/>
              </a:rPr>
              <a:t>Padrões de Projet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visão por finalida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rões de Criaçã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rões Estrutura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rões Comportamenta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F1B7-173A-4B4F-A98A-6AC9AE20596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ça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nçã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unificada para um subsiste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rna o subsistema mais fácil de us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tivaçã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ruturar em subsistemas p/ reduzir complexid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ar comunicação e dependênc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347D-B7AB-4811-9656-E705F8BB9C8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çade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lvl="1" marL="594360" indent="-2286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única e simplificada p/ recurs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114480" y="3033720"/>
            <a:ext cx="8915400" cy="3195720"/>
            <a:chOff x="114480" y="3033720"/>
            <a:chExt cx="8915400" cy="3195720"/>
          </a:xfrm>
        </p:grpSpPr>
        <p:sp>
          <p:nvSpPr>
            <p:cNvPr id="296" name=""/>
            <p:cNvSpPr/>
            <p:nvPr/>
          </p:nvSpPr>
          <p:spPr>
            <a:xfrm>
              <a:off x="114480" y="3033720"/>
              <a:ext cx="8915400" cy="3195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7" name=""/>
            <p:cNvGrpSpPr/>
            <p:nvPr/>
          </p:nvGrpSpPr>
          <p:grpSpPr>
            <a:xfrm>
              <a:off x="5605560" y="3352680"/>
              <a:ext cx="3276360" cy="2430360"/>
              <a:chOff x="5605560" y="3352680"/>
              <a:chExt cx="3276360" cy="2430360"/>
            </a:xfrm>
          </p:grpSpPr>
          <p:sp>
            <p:nvSpPr>
              <p:cNvPr id="298" name=""/>
              <p:cNvSpPr/>
              <p:nvPr/>
            </p:nvSpPr>
            <p:spPr>
              <a:xfrm>
                <a:off x="5605560" y="4276440"/>
                <a:ext cx="3276360" cy="15066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986440" y="3352680"/>
                <a:ext cx="655560" cy="326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7899480" y="5259240"/>
                <a:ext cx="654120" cy="326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8029440" y="4406760"/>
                <a:ext cx="655920" cy="326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6981840" y="4668480"/>
                <a:ext cx="655560" cy="328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261120" y="5192280"/>
                <a:ext cx="655560" cy="328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5802120" y="4538520"/>
                <a:ext cx="655920" cy="326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967520" y="3352680"/>
                <a:ext cx="655920" cy="326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991200" y="3352680"/>
                <a:ext cx="654120" cy="326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129360" y="4865400"/>
                <a:ext cx="458640" cy="326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6129360" y="4865400"/>
                <a:ext cx="1770120" cy="588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flipV="1">
                <a:off x="6916680" y="4733280"/>
                <a:ext cx="1374840" cy="655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7637400" y="4800240"/>
                <a:ext cx="588960" cy="45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6900840" y="4143240"/>
                <a:ext cx="83808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ahoma"/>
                  </a:rPr>
                  <a:t>Façad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6367320" y="3686040"/>
                <a:ext cx="91440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7281720" y="368604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>
                <a:off x="7281720" y="3686040"/>
                <a:ext cx="99072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281720" y="444780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flipH="1">
                <a:off x="6138360" y="4371840"/>
                <a:ext cx="76212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738920" y="4371840"/>
                <a:ext cx="30492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8" name=""/>
            <p:cNvGrpSpPr/>
            <p:nvPr/>
          </p:nvGrpSpPr>
          <p:grpSpPr>
            <a:xfrm>
              <a:off x="228600" y="3352680"/>
              <a:ext cx="3276720" cy="2478240"/>
              <a:chOff x="228600" y="3352680"/>
              <a:chExt cx="3276720" cy="2478240"/>
            </a:xfrm>
          </p:grpSpPr>
          <p:sp>
            <p:nvSpPr>
              <p:cNvPr id="319" name=""/>
              <p:cNvSpPr/>
              <p:nvPr/>
            </p:nvSpPr>
            <p:spPr>
              <a:xfrm>
                <a:off x="228600" y="4324320"/>
                <a:ext cx="3276720" cy="15066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16040" y="3352680"/>
                <a:ext cx="655560" cy="326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2522520" y="5306760"/>
                <a:ext cx="654120" cy="327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2652840" y="4454280"/>
                <a:ext cx="655560" cy="327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604880" y="4716360"/>
                <a:ext cx="655560" cy="328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884160" y="5240160"/>
                <a:ext cx="655560" cy="328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425520" y="4586040"/>
                <a:ext cx="655560" cy="327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2617920" y="3352680"/>
                <a:ext cx="655560" cy="326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1676520" y="3352680"/>
                <a:ext cx="653760" cy="326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52400" y="4913280"/>
                <a:ext cx="459000" cy="326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752400" y="4913280"/>
                <a:ext cx="1770120" cy="588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flipV="1">
                <a:off x="1539720" y="4781160"/>
                <a:ext cx="1374840" cy="655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2260440" y="4848120"/>
                <a:ext cx="588960" cy="45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flipH="1">
                <a:off x="762120" y="3686040"/>
                <a:ext cx="30456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066680" y="3686040"/>
                <a:ext cx="1905120" cy="76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flipH="1">
                <a:off x="1904760" y="3671640"/>
                <a:ext cx="75960" cy="1067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flipH="1">
                <a:off x="762120" y="3686040"/>
                <a:ext cx="121896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2971800" y="3686040"/>
                <a:ext cx="0" cy="76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flipH="1">
                <a:off x="762120" y="3686040"/>
                <a:ext cx="220968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8" name=""/>
            <p:cNvSpPr/>
            <p:nvPr/>
          </p:nvSpPr>
          <p:spPr>
            <a:xfrm>
              <a:off x="3665520" y="3352680"/>
              <a:ext cx="193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lasses client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807360" y="4952880"/>
              <a:ext cx="1486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lasses d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sistem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114800" y="4191120"/>
              <a:ext cx="914400" cy="455400"/>
            </a:xfrm>
            <a:prstGeom prst="rightArrow">
              <a:avLst>
                <a:gd name="adj1" fmla="val 50000"/>
                <a:gd name="adj2" fmla="val 50198"/>
              </a:avLst>
            </a:prstGeom>
            <a:solidFill>
              <a:srgbClr val="b2b2b2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FCCD-4CFB-43F7-8081-4A8589801CB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çade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licabilida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necer interface simples para subsistema complex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acopla subsistema dos cliente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ndependência e portabilidade dos subsistem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oduzir camadas nos subsistem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A67A-FFFD-44C4-8947-B516EE4CFA0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çade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trutur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762120" y="2895480"/>
            <a:ext cx="7696080" cy="3200400"/>
            <a:chOff x="762120" y="2895480"/>
            <a:chExt cx="7696080" cy="3200400"/>
          </a:xfrm>
        </p:grpSpPr>
        <p:sp>
          <p:nvSpPr>
            <p:cNvPr id="346" name=""/>
            <p:cNvSpPr/>
            <p:nvPr/>
          </p:nvSpPr>
          <p:spPr>
            <a:xfrm>
              <a:off x="762120" y="3124080"/>
              <a:ext cx="7696080" cy="2971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809880" y="2895480"/>
              <a:ext cx="1219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Façad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019920" y="4219200"/>
              <a:ext cx="121896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781680" y="5410080"/>
              <a:ext cx="1219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257800" y="5410080"/>
              <a:ext cx="1219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200400" y="4876560"/>
              <a:ext cx="1219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895480" y="4038480"/>
              <a:ext cx="1219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324080" y="5214600"/>
              <a:ext cx="121896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295280" y="4114440"/>
              <a:ext cx="121932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800360" y="4795560"/>
              <a:ext cx="228600" cy="1983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510240" y="4982760"/>
              <a:ext cx="228600" cy="1987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1919160" y="44956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924200" y="49957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867280" y="5181480"/>
              <a:ext cx="1524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867280" y="51814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377120" y="51861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 flipV="1">
              <a:off x="6629400" y="460044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514600" y="42670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671920" y="4267080"/>
              <a:ext cx="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666880" y="502884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3733920" y="3276360"/>
              <a:ext cx="38088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 flipH="1">
              <a:off x="4114440" y="3276360"/>
              <a:ext cx="30492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676760" y="3276360"/>
              <a:ext cx="0" cy="21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 flipH="1">
              <a:off x="2542680" y="5410080"/>
              <a:ext cx="213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876920" y="3276360"/>
              <a:ext cx="685800" cy="21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95960" y="3095280"/>
              <a:ext cx="2035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b2b2b2"/>
                  </a:solidFill>
                  <a:latin typeface="Tahoma"/>
                </a:rPr>
                <a:t>classes do subsistem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ECF2-622D-4C11-A722-0DBA5029109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çade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eqüênci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z nº de objetos com os quais o cliente lida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iminui área de superfíci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move acoplamento fraco entre subsistemas e clien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ão impede a utilização direta das classes do subsiste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3B04-F6B7-4966-B5D0-03C77745689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çã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ção acoplamento cliente-subsiste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çade: classe abstr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es de subsistemas: públicas ou privada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istemas encapsulam cla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pública: classes que podem ser acessadas diretamen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çade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26A6-EBE9-41D5-A8F7-497CA15AF28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drões Comportamenta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ocupação: algoritmos e atribuição de responsabilidade entre objet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creve padrões de comunicação entre objetos ou cla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D765-C6EA-4C72-B146-EF1DE6EF865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drões Comportamentais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in of Respo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er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men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late  Metho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si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1D8B-21D2-4943-B986-F642441DDBA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t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nçã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e objeto alterar seu comportamento quando estado interno mu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tivaçã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emplo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 TCP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ários estados: Established, Listening e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rtamento de acordo com estad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8C4A-9693-4F80-BEB6-24E18485717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te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5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emplo (cont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734400" y="2881440"/>
            <a:ext cx="7949160" cy="3528720"/>
            <a:chOff x="734400" y="2881440"/>
            <a:chExt cx="7949160" cy="3528720"/>
          </a:xfrm>
        </p:grpSpPr>
        <p:sp>
          <p:nvSpPr>
            <p:cNvPr id="386" name=""/>
            <p:cNvSpPr/>
            <p:nvPr/>
          </p:nvSpPr>
          <p:spPr>
            <a:xfrm>
              <a:off x="762120" y="2971800"/>
              <a:ext cx="1608120" cy="1071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69320" y="2986200"/>
              <a:ext cx="1524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TCPConnec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734400" y="3319560"/>
              <a:ext cx="14061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pen(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(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cknowledge(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762120" y="3305160"/>
              <a:ext cx="16081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99000" y="2971800"/>
              <a:ext cx="1371600" cy="1071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500440" y="2995560"/>
              <a:ext cx="976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TCPSta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500800" y="3305160"/>
              <a:ext cx="137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 flipV="1">
              <a:off x="2755800" y="4085640"/>
              <a:ext cx="1435320" cy="42372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764440" y="4164120"/>
              <a:ext cx="13356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state </a:t>
              </a:r>
              <a:r>
                <a:rPr b="0" lang="en-US" sz="13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 Open(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946840" y="4757760"/>
              <a:ext cx="228600" cy="1983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246560" y="4952880"/>
              <a:ext cx="3611520" cy="5040"/>
            </a:xfrm>
            <a:custGeom>
              <a:avLst/>
              <a:gdLst/>
              <a:ahLst/>
              <a:rect l="l" t="t" r="r" b="b"/>
              <a:pathLst>
                <a:path w="2275" h="3">
                  <a:moveTo>
                    <a:pt x="0" y="0"/>
                  </a:moveTo>
                  <a:lnTo>
                    <a:pt x="2275" y="3"/>
                  </a:ln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238640" y="49528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067440" y="49528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056280" y="4033800"/>
              <a:ext cx="1800" cy="723960"/>
            </a:xfrm>
            <a:custGeom>
              <a:avLst/>
              <a:gdLst/>
              <a:ahLst/>
              <a:rect l="l" t="t" r="r" b="b"/>
              <a:pathLst>
                <a:path w="1" h="456">
                  <a:moveTo>
                    <a:pt x="0" y="456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209680" y="3429000"/>
              <a:ext cx="7632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895480" y="347184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305080" y="347652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398680" y="3067200"/>
              <a:ext cx="209520" cy="152280"/>
            </a:xfrm>
            <a:prstGeom prst="diamond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593800" y="3143160"/>
              <a:ext cx="2895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609280" y="2881440"/>
              <a:ext cx="59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ta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487480" y="3319560"/>
              <a:ext cx="14061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pen(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(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cknowledge(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7" name=""/>
            <p:cNvGrpSpPr/>
            <p:nvPr/>
          </p:nvGrpSpPr>
          <p:grpSpPr>
            <a:xfrm>
              <a:off x="3472920" y="5329080"/>
              <a:ext cx="1553040" cy="1081080"/>
              <a:chOff x="3472920" y="5329080"/>
              <a:chExt cx="1553040" cy="1081080"/>
            </a:xfrm>
          </p:grpSpPr>
          <p:sp>
            <p:nvSpPr>
              <p:cNvPr id="408" name=""/>
              <p:cNvSpPr/>
              <p:nvPr/>
            </p:nvSpPr>
            <p:spPr>
              <a:xfrm>
                <a:off x="3484800" y="5329080"/>
                <a:ext cx="1539720" cy="1071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3484800" y="5352840"/>
                <a:ext cx="1531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ahoma"/>
                  </a:rPr>
                  <a:t>TCPEstablished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3486240" y="5662440"/>
                <a:ext cx="15397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3472920" y="5676840"/>
                <a:ext cx="140616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Open(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Close(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Acknowledge(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2" name=""/>
            <p:cNvGrpSpPr/>
            <p:nvPr/>
          </p:nvGrpSpPr>
          <p:grpSpPr>
            <a:xfrm>
              <a:off x="5301720" y="5329080"/>
              <a:ext cx="1553040" cy="1080720"/>
              <a:chOff x="5301720" y="5329080"/>
              <a:chExt cx="1553040" cy="1080720"/>
            </a:xfrm>
          </p:grpSpPr>
          <p:sp>
            <p:nvSpPr>
              <p:cNvPr id="413" name=""/>
              <p:cNvSpPr/>
              <p:nvPr/>
            </p:nvSpPr>
            <p:spPr>
              <a:xfrm>
                <a:off x="5313600" y="5329080"/>
                <a:ext cx="1539720" cy="1071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5310000" y="5352840"/>
                <a:ext cx="105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ahoma"/>
                  </a:rPr>
                  <a:t>TCPListe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5315040" y="5662440"/>
                <a:ext cx="15397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5301720" y="5676480"/>
                <a:ext cx="140616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Open(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Close(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Acknowledge(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7130520" y="5329080"/>
              <a:ext cx="1553040" cy="1081080"/>
              <a:chOff x="7130520" y="5329080"/>
              <a:chExt cx="1553040" cy="1081080"/>
            </a:xfrm>
          </p:grpSpPr>
          <p:sp>
            <p:nvSpPr>
              <p:cNvPr id="418" name=""/>
              <p:cNvSpPr/>
              <p:nvPr/>
            </p:nvSpPr>
            <p:spPr>
              <a:xfrm>
                <a:off x="7142400" y="5329080"/>
                <a:ext cx="1539720" cy="1071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143120" y="5352840"/>
                <a:ext cx="1095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ahoma"/>
                  </a:rPr>
                  <a:t>TCPClosed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7143840" y="5662440"/>
                <a:ext cx="15397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7130520" y="5676840"/>
                <a:ext cx="140616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Open(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Close(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Acknowledge(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2" name=""/>
            <p:cNvSpPr/>
            <p:nvPr/>
          </p:nvSpPr>
          <p:spPr>
            <a:xfrm>
              <a:off x="7848720" y="49528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C999-EFA0-482D-A4C6-E7F0CDBCC1D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drões de Criaçã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straem o processo de instanciaçã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stemas + dependentes de composiçã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tos fundamenta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ição para obter funcionalidades complex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iação de objetos: instanciar várias cl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EC34-02E5-47DD-8A46-158A4C4B7DB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te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licabilida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rtamento de um objeto depende de seu esta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itar comandos condicionais gran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9BFE-0B8F-4EE6-9147-23D4009241C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te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trutur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1531080" y="2881440"/>
            <a:ext cx="6622200" cy="2766960"/>
            <a:chOff x="1531080" y="2881440"/>
            <a:chExt cx="6622200" cy="2766960"/>
          </a:xfrm>
        </p:grpSpPr>
        <p:sp>
          <p:nvSpPr>
            <p:cNvPr id="428" name=""/>
            <p:cNvSpPr/>
            <p:nvPr/>
          </p:nvSpPr>
          <p:spPr>
            <a:xfrm>
              <a:off x="5875200" y="2971800"/>
              <a:ext cx="9781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868360" y="2995560"/>
              <a:ext cx="64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ta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877000" y="3305160"/>
              <a:ext cx="9777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1" name=""/>
            <p:cNvGrpSpPr/>
            <p:nvPr/>
          </p:nvGrpSpPr>
          <p:grpSpPr>
            <a:xfrm>
              <a:off x="1531080" y="2881440"/>
              <a:ext cx="4334760" cy="1671120"/>
              <a:chOff x="1531080" y="2881440"/>
              <a:chExt cx="4334760" cy="1671120"/>
            </a:xfrm>
          </p:grpSpPr>
          <p:sp>
            <p:nvSpPr>
              <p:cNvPr id="432" name=""/>
              <p:cNvSpPr/>
              <p:nvPr/>
            </p:nvSpPr>
            <p:spPr>
              <a:xfrm>
                <a:off x="1538280" y="2971800"/>
                <a:ext cx="1219320" cy="685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1540440" y="2986200"/>
                <a:ext cx="886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ahoma"/>
                  </a:rPr>
                  <a:t>Con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1531080" y="3333600"/>
                <a:ext cx="968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Request(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538280" y="3305160"/>
                <a:ext cx="12193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 flipV="1">
                <a:off x="1862280" y="4128480"/>
                <a:ext cx="1434960" cy="423720"/>
              </a:xfrm>
              <a:prstGeom prst="foldedCorner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1832040" y="4205160"/>
                <a:ext cx="146520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state </a:t>
                </a:r>
                <a:r>
                  <a:rPr b="0" lang="en-US" sz="1300" spc="-1" strike="noStrike">
                    <a:solidFill>
                      <a:srgbClr val="000000"/>
                    </a:solidFill>
                    <a:latin typeface="Wingdings"/>
                    <a:ea typeface="Wingdings"/>
                  </a:rPr>
                  <a:t></a:t>
                </a: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 Handle()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2529000" y="3429000"/>
                <a:ext cx="75960" cy="763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2571840" y="351936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2774880" y="3067200"/>
                <a:ext cx="209520" cy="152280"/>
              </a:xfrm>
              <a:prstGeom prst="diamond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2970000" y="3143160"/>
                <a:ext cx="2895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985480" y="2881440"/>
                <a:ext cx="59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stat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3" name=""/>
            <p:cNvSpPr/>
            <p:nvPr/>
          </p:nvSpPr>
          <p:spPr>
            <a:xfrm>
              <a:off x="5881320" y="3333600"/>
              <a:ext cx="886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Handle(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4" name=""/>
            <p:cNvGrpSpPr/>
            <p:nvPr/>
          </p:nvGrpSpPr>
          <p:grpSpPr>
            <a:xfrm>
              <a:off x="3810600" y="3657600"/>
              <a:ext cx="4342680" cy="1990800"/>
              <a:chOff x="3810600" y="3657600"/>
              <a:chExt cx="4342680" cy="1990800"/>
            </a:xfrm>
          </p:grpSpPr>
          <p:sp>
            <p:nvSpPr>
              <p:cNvPr id="445" name=""/>
              <p:cNvSpPr/>
              <p:nvPr/>
            </p:nvSpPr>
            <p:spPr>
              <a:xfrm>
                <a:off x="6280200" y="4381560"/>
                <a:ext cx="228600" cy="1983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4579920" y="4576680"/>
                <a:ext cx="2954520" cy="5040"/>
              </a:xfrm>
              <a:custGeom>
                <a:avLst/>
                <a:gdLst/>
                <a:ahLst/>
                <a:rect l="l" t="t" r="r" b="b"/>
                <a:pathLst>
                  <a:path w="1861" h="3">
                    <a:moveTo>
                      <a:pt x="0" y="0"/>
                    </a:moveTo>
                    <a:lnTo>
                      <a:pt x="1861" y="3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4572000" y="4576680"/>
                <a:ext cx="0" cy="38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6400800" y="4576680"/>
                <a:ext cx="0" cy="38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6389640" y="3657600"/>
                <a:ext cx="1800" cy="723960"/>
              </a:xfrm>
              <a:custGeom>
                <a:avLst/>
                <a:gdLst/>
                <a:ahLst/>
                <a:rect l="l" t="t" r="r" b="b"/>
                <a:pathLst>
                  <a:path w="1" h="456">
                    <a:moveTo>
                      <a:pt x="0" y="456"/>
                    </a:move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7543800" y="4576680"/>
                <a:ext cx="609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51" name=""/>
              <p:cNvGrpSpPr/>
              <p:nvPr/>
            </p:nvGrpSpPr>
            <p:grpSpPr>
              <a:xfrm>
                <a:off x="3810600" y="4952880"/>
                <a:ext cx="1572120" cy="690840"/>
                <a:chOff x="3810600" y="4952880"/>
                <a:chExt cx="1572120" cy="690840"/>
              </a:xfrm>
            </p:grpSpPr>
            <p:sp>
              <p:nvSpPr>
                <p:cNvPr id="452" name=""/>
                <p:cNvSpPr/>
                <p:nvPr/>
              </p:nvSpPr>
              <p:spPr>
                <a:xfrm>
                  <a:off x="3817800" y="4952880"/>
                  <a:ext cx="1540080" cy="6908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3810600" y="4977000"/>
                  <a:ext cx="1572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ConcreteStateA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3819600" y="5286240"/>
                  <a:ext cx="1539720" cy="1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3823920" y="5315040"/>
                  <a:ext cx="8863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Handle()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6" name=""/>
              <p:cNvGrpSpPr/>
              <p:nvPr/>
            </p:nvGrpSpPr>
            <p:grpSpPr>
              <a:xfrm>
                <a:off x="5673960" y="4957920"/>
                <a:ext cx="1569240" cy="690480"/>
                <a:chOff x="5673960" y="4957920"/>
                <a:chExt cx="1569240" cy="690480"/>
              </a:xfrm>
            </p:grpSpPr>
            <p:sp>
              <p:nvSpPr>
                <p:cNvPr id="457" name=""/>
                <p:cNvSpPr/>
                <p:nvPr/>
              </p:nvSpPr>
              <p:spPr>
                <a:xfrm>
                  <a:off x="5679720" y="4957920"/>
                  <a:ext cx="1539720" cy="6904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5673960" y="4981680"/>
                  <a:ext cx="15692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ConcreteStateB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5681520" y="5290920"/>
                  <a:ext cx="1539360" cy="1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5685840" y="5319720"/>
                  <a:ext cx="8863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Handle()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7587-15C6-42DF-9DBE-B228C7D4D39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te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eqüênci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na comportamento específico de estados / particiona comportamento para estados diferen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rna explícita transições de esta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805F-1782-4DC5-9708-DF07FBDFBC8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te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çã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m define transições de estado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iando e destruindo objetos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iar quando necessário, destruir quando inúti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iar antecipadamente, nunca destru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rança dinâmic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DB2F-FB25-417D-9A0C-33760729BBD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ibliografi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Patt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mma, Eri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lm, Ric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hnson, Ral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lissides, Joh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AB1B-8B74-4A46-B31C-2071C862FEEC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drões de Criação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lexibilidade na criação (o que, quem, como, quand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 classes concret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culta como são criadas e instanciad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tos “produtos” configuráveis estaticamente ou dinamicamen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5B32-4CFA-4EC7-8D07-C6ECE4425A7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drões de Criação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stract Factory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uilder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actory Method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toty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inglet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1604-73B4-44B9-893C-57805A7CF9E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nglet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nçã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ma única instânc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nto global de aces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tivaçã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: sistema de arquivos, gerenciador de janelas, tabela de salários (ajust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ável global? Não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abilidade da clas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D229-D668-4769-8FBD-3437976C40D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ngleton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licabilida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Única instância de uma classe c/ acesso em ponto bem conheci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Única instância extensível através de subcl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CD9D-0084-431F-BC85-CE8F0291C9C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ngleton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2017800"/>
            <a:ext cx="7696080" cy="14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rutur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1664280" y="3048120"/>
            <a:ext cx="6580800" cy="2209680"/>
            <a:chOff x="1664280" y="3048120"/>
            <a:chExt cx="6580800" cy="2209680"/>
          </a:xfrm>
        </p:grpSpPr>
        <p:sp>
          <p:nvSpPr>
            <p:cNvPr id="116" name=""/>
            <p:cNvSpPr/>
            <p:nvPr/>
          </p:nvSpPr>
          <p:spPr>
            <a:xfrm>
              <a:off x="5383080" y="3614760"/>
              <a:ext cx="2454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41320" y="3048120"/>
              <a:ext cx="2362320" cy="220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743480" y="3048120"/>
              <a:ext cx="1270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inglet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669320" y="3505320"/>
              <a:ext cx="24285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tatic Instance(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ingletonOperation(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etSingletonData(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664280" y="4572000"/>
              <a:ext cx="2486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tatic uniqueInstan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ingletonDa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741320" y="3429000"/>
              <a:ext cx="23623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752480" y="4495680"/>
              <a:ext cx="2362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570120" y="3686040"/>
              <a:ext cx="7632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675240" y="3733920"/>
              <a:ext cx="20574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" name=""/>
            <p:cNvGrpSpPr/>
            <p:nvPr/>
          </p:nvGrpSpPr>
          <p:grpSpPr>
            <a:xfrm>
              <a:off x="5645880" y="3505320"/>
              <a:ext cx="2599200" cy="457200"/>
              <a:chOff x="5645880" y="3505320"/>
              <a:chExt cx="2599200" cy="457200"/>
            </a:xfrm>
          </p:grpSpPr>
          <p:sp>
            <p:nvSpPr>
              <p:cNvPr id="126" name=""/>
              <p:cNvSpPr/>
              <p:nvPr/>
            </p:nvSpPr>
            <p:spPr>
              <a:xfrm flipV="1">
                <a:off x="5737320" y="3505320"/>
                <a:ext cx="2361960" cy="457200"/>
              </a:xfrm>
              <a:prstGeom prst="foldedCorner">
                <a:avLst>
                  <a:gd name="adj" fmla="val 14842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5645880" y="3534120"/>
                <a:ext cx="2599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return uniqueInstanc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3C5D-DFB3-43FE-A206-51E81FA764C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ngleton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eqüência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esso controlado à instância únic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aço de nomes reduzid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inamento de operações e da representaçã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e número variável de instânci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s flexível que operações de clas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0698-4E8B-4424-AA80-926F4204DC7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5T00:33:03Z</dcterms:created>
  <dc:creator>Marcus</dc:creator>
  <dc:description/>
  <dc:language>en-US</dc:language>
  <cp:lastModifiedBy>Marcus</cp:lastModifiedBy>
  <dcterms:modified xsi:type="dcterms:W3CDTF">2002-09-16T11:03:19Z</dcterms:modified>
  <cp:revision>32</cp:revision>
  <dc:subject/>
  <dc:title>Padrões de Projeto</dc:title>
</cp:coreProperties>
</file>