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4571-B79F-442B-9619-481A4804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exposição permite que serviços possam acessar e controlar certos aspectos do comportamento do arcabouç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implementação do padrão Broker, desenvolvido por MiddleSoft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 Gerenciamento de conexões e protocolos de transporte são os serviços de comunicação bás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senvolvedores terão de se preocupar com aspectos não inerentes à logica da apl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guns serviços podem precisar interagir intimamente com os ORB´s, como serviços de seguranç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0AE-318C-41F3-BFBF-433C883E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CBA-E56C-4EC0-887C-0CC72A3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926-83FD-43C2-B43F-6EFA2BC9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9AC-937B-4880-A059-24FB9F9B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7B8-A0B2-44EA-A429-A6E97179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8AF-6467-42C5-AD13-DFAACE00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D1A-B994-48A5-8964-0B702D25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521-0026-4464-BA70-81BF5F41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10E-8B2B-4B9C-A48C-18805C75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B1A-5EA7-4573-95ED-D0366760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A7D-86B6-48F1-A35C-DA97C7F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773-AC91-4AC6-9F50-6BC084F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28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57D7-7126-4FA3-B1DC-4EFB49CBBA08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2362320"/>
          </a:xfrm>
          <a:prstGeom prst="rect">
            <a:avLst/>
          </a:prstGeom>
          <a:gradFill rotWithShape="0">
            <a:gsLst>
              <a:gs pos="0">
                <a:srgbClr val="8282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720880"/>
            <a:ext cx="7854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Bookman Old Style"/>
              </a:rPr>
              <a:t>MAC-5715 – Tópicos de P.O.O.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Bookman Old Style"/>
              </a:rPr>
              <a:t>POSA II – </a:t>
            </a:r>
            <a:r>
              <a:rPr b="1" i="1" lang="pt-BR" sz="4000" spc="-1" strike="noStrike">
                <a:solidFill>
                  <a:srgbClr val="000000"/>
                </a:solidFill>
                <a:latin typeface="Bookman Old Style"/>
              </a:rPr>
              <a:t>Interceptor</a:t>
            </a:r>
            <a:r>
              <a:rPr b="1" lang="pt-BR" sz="4000" spc="-1" strike="noStrike">
                <a:solidFill>
                  <a:srgbClr val="000000"/>
                </a:solidFill>
                <a:latin typeface="Bookman Old Style"/>
              </a:rPr>
              <a:t> e </a:t>
            </a:r>
            <a:r>
              <a:rPr b="1" i="1" lang="pt-BR" sz="4000" spc="-1" strike="noStrike">
                <a:solidFill>
                  <a:srgbClr val="000000"/>
                </a:solidFill>
                <a:latin typeface="Bookman Old Style"/>
              </a:rPr>
              <a:t>Leader/Followers</a:t>
            </a:r>
            <a:br>
              <a:rPr sz="4000"/>
            </a:br>
            <a:br>
              <a:rPr sz="4000"/>
            </a:br>
            <a:r>
              <a:rPr b="1" lang="pt-BR" sz="3600" spc="-1" strike="noStrike">
                <a:solidFill>
                  <a:srgbClr val="000000"/>
                </a:solidFill>
                <a:latin typeface="Bookman Old Style"/>
              </a:rPr>
              <a:t>Germano Capistrano Bez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61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Bookman Old Style"/>
              </a:rPr>
              <a:t>Setembro de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Contexto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 – Desenvolvimento de arcabouços que podem ser estendidos de forma transpa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Arcabouços não podem antecipar todos os serviços que precisam ofere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Alguns arcabouços podem ser difíceis de se est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ara não prejudicar reutilização, a tarefa de extensão não pode ficar a cargo das aplic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Con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6C4-BFE1-4F04-83AB-317F3074BC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Requisitos gerais para um arcabou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Deve permitir a integração de serviços adicionais sem necessitar de alterações em sua estrutura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A integração de serviços específicos a determinadas aplicações não deve afetar os componentes ex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Aplicações podem precisar monitorar e controlar o comportamento de um arcabou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Probl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CDA-6665-41A2-B22C-83E3E04E48B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Registro de serviços através de interfaces pré-defini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Exposição da implementação do arcabou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Interface define um interceptador para um conjunto de eventos – aplicações especificam interceptadores concr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Despachante definido para cada Intercep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Objetos de Contexto permitem introspec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Sol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7C2-3AA3-4D3C-A40E-CD86889A7E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55640" y="1484280"/>
            <a:ext cx="7777080" cy="4537080"/>
            <a:chOff x="755640" y="1484280"/>
            <a:chExt cx="7777080" cy="4537080"/>
          </a:xfrm>
        </p:grpSpPr>
        <p:sp>
          <p:nvSpPr>
            <p:cNvPr id="75" name=""/>
            <p:cNvSpPr/>
            <p:nvPr/>
          </p:nvSpPr>
          <p:spPr>
            <a:xfrm>
              <a:off x="755640" y="1484280"/>
              <a:ext cx="7632720" cy="453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64000" y="148428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640" y="234936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640" y="1484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las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6560" y="194472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oncrete Frame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71640" y="2852640"/>
              <a:ext cx="4176720" cy="25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Define os serviços de aplic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egra os despachantes que permitem a interceptação de ev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Delega eventos aos despachantes associ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55640" y="234936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Responsabil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4000" y="1484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olaborad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80000" y="213336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Dispat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3EA-64D3-458A-92BF-A125EF12525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755640" y="1482840"/>
            <a:ext cx="7632720" cy="4537080"/>
            <a:chOff x="755640" y="1482840"/>
            <a:chExt cx="7632720" cy="4537080"/>
          </a:xfrm>
        </p:grpSpPr>
        <p:sp>
          <p:nvSpPr>
            <p:cNvPr id="86" name=""/>
            <p:cNvSpPr/>
            <p:nvPr/>
          </p:nvSpPr>
          <p:spPr>
            <a:xfrm>
              <a:off x="755640" y="1482840"/>
              <a:ext cx="7632720" cy="453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64000" y="148284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5640" y="234792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5640" y="148284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las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47640" y="194328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ntercep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1640" y="2851200"/>
              <a:ext cx="41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Define uma interface para a integração de novos serviç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640" y="234792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Responsabil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64000" y="1482840"/>
              <a:ext cx="295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olaborad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8CB-6C33-44C2-A8BE-919B2B7075A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55640" y="1482840"/>
            <a:ext cx="7704000" cy="4538520"/>
            <a:chOff x="755640" y="1482840"/>
            <a:chExt cx="7704000" cy="4538520"/>
          </a:xfrm>
        </p:grpSpPr>
        <p:sp>
          <p:nvSpPr>
            <p:cNvPr id="96" name=""/>
            <p:cNvSpPr/>
            <p:nvPr/>
          </p:nvSpPr>
          <p:spPr>
            <a:xfrm>
              <a:off x="755640" y="1482840"/>
              <a:ext cx="7632720" cy="453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64000" y="148428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5640" y="234936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5640" y="1484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las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46200" y="1944720"/>
              <a:ext cx="38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oncrete Intercep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71640" y="2852640"/>
              <a:ext cx="41767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mplementa um serviço específ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Utiliza os objetos de contexto para controlar o 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Courier New"/>
                </a:rPr>
                <a:t>Concrete Frame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5640" y="2349360"/>
              <a:ext cx="40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Responsabil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64000" y="148428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olaborad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0000" y="2133720"/>
              <a:ext cx="27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ontext Ob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4E8-8618-4246-9D8E-63F1FEE1152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55640" y="1482840"/>
            <a:ext cx="7704000" cy="4537080"/>
            <a:chOff x="755640" y="1482840"/>
            <a:chExt cx="7704000" cy="4537080"/>
          </a:xfrm>
        </p:grpSpPr>
        <p:sp>
          <p:nvSpPr>
            <p:cNvPr id="107" name=""/>
            <p:cNvSpPr/>
            <p:nvPr/>
          </p:nvSpPr>
          <p:spPr>
            <a:xfrm>
              <a:off x="755640" y="1482840"/>
              <a:ext cx="7632720" cy="453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64000" y="148284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5640" y="234792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5640" y="148284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las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7640" y="19432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Dispat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71640" y="2851200"/>
              <a:ext cx="417672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Possibilita que aplicações registrem e removam instâncias de </a:t>
              </a:r>
              <a:r>
                <a:rPr b="1" i="1" lang="pt-BR" sz="2000" spc="-1" strike="noStrike">
                  <a:solidFill>
                    <a:srgbClr val="000000"/>
                  </a:solidFill>
                  <a:latin typeface="Courier New"/>
                </a:rPr>
                <a:t>Concrete Intercep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Despacha chamadas aos interceptadores quando ocorrem ev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" y="2347920"/>
              <a:ext cx="45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Responsabil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64000" y="148284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olaborad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80000" y="2131920"/>
              <a:ext cx="27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ntercep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871-DFC6-4642-A5C9-9E5A7F9F160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755640" y="1482840"/>
            <a:ext cx="7704000" cy="4578840"/>
            <a:chOff x="755640" y="1482840"/>
            <a:chExt cx="7704000" cy="4578840"/>
          </a:xfrm>
        </p:grpSpPr>
        <p:sp>
          <p:nvSpPr>
            <p:cNvPr id="118" name=""/>
            <p:cNvSpPr/>
            <p:nvPr/>
          </p:nvSpPr>
          <p:spPr>
            <a:xfrm>
              <a:off x="755640" y="1482840"/>
              <a:ext cx="7632720" cy="453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64000" y="148284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640" y="234792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5640" y="148284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las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280" y="1943280"/>
              <a:ext cx="27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ontext Ob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71640" y="2851200"/>
              <a:ext cx="4176720" cy="32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Possibilita que serviços obtenham informações sobre o 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Courier New"/>
                </a:rPr>
                <a:t>Concrete Frame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Possibilita que serviços controlem certos comportamentos do 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Courier New"/>
                </a:rPr>
                <a:t>Concrete Frame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640" y="234792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Responsabil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4000" y="148284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olaborad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0000" y="2131920"/>
              <a:ext cx="27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oncrete Frame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7D8-8066-45CF-8552-7793BB8AB57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55640" y="1482840"/>
            <a:ext cx="7704000" cy="4537080"/>
            <a:chOff x="755640" y="1482840"/>
            <a:chExt cx="7704000" cy="4537080"/>
          </a:xfrm>
        </p:grpSpPr>
        <p:sp>
          <p:nvSpPr>
            <p:cNvPr id="129" name=""/>
            <p:cNvSpPr/>
            <p:nvPr/>
          </p:nvSpPr>
          <p:spPr>
            <a:xfrm>
              <a:off x="755640" y="1482840"/>
              <a:ext cx="7632720" cy="453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64000" y="148284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5640" y="234792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148284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las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7640" y="194328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71640" y="2851200"/>
              <a:ext cx="41767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Executa sobre o 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Courier New"/>
                </a:rPr>
                <a:t>Concrete Frame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mplementa instâncias de 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Courier New"/>
                </a:rPr>
                <a:t>Concrete Interceptor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e os registra com despach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5640" y="2347920"/>
              <a:ext cx="42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Responsabil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4000" y="148284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olaborad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0000" y="2131920"/>
              <a:ext cx="273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Dispat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oncrete Intercep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3F9-E618-48CA-8026-37CC37FF7F3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752480" y="903240"/>
          <a:ext cx="539604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903240"/>
                    <a:ext cx="539604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363-7A59-4DD3-AF05-DE3779920B4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30477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Motivação do POS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Organização do POS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Padrão “Intercep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Padrão “Leader/Follow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Comentários Fi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5AC-C793-4C2A-90DC-D098BE7C53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09480" y="1320840"/>
          <a:ext cx="807732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20840"/>
                    <a:ext cx="807732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Dinâm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3FA-4F7F-4EFC-B588-3183C372177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Modelar o comportamento interno do arcabouç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Identificar e modelar os pontos de intercep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Especificar os objetos de con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Especificar os intercep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Especificar os despach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Implementar os mecanismos de </a:t>
            </a:r>
            <a:r>
              <a:rPr b="0" i="1" lang="pt-BR" sz="2800" spc="-1" strike="noStrike">
                <a:solidFill>
                  <a:srgbClr val="000000"/>
                </a:solidFill>
                <a:latin typeface="Bookman Old Style"/>
              </a:rPr>
              <a:t>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Implementar os interceptadores concr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Implem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E95-2C85-4D47-B2E2-0C64734B2D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Interceptor 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utilizado por servidores de aplicações distribuídas para interceptar operações rem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71600" y="3141720"/>
          <a:ext cx="5943600" cy="26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141720"/>
                    <a:ext cx="5943600" cy="26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Vari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475-537D-49A5-8443-FCDDB33CAE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Servidores de Aplicação baseados em 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EJB, CCM de CORBA e COM+ da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Algumas implementações de 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TAO e Orb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ORB reflexivo dynamic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Usa interceptadores para monitoramento e segu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76320"/>
            <a:ext cx="8686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- Usos Conhec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55D-B3B7-4F5B-A24D-C5FAA98AA1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Benefí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Mecanismos de extensão e flex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Separação de tare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rovê suporte para monitoramento e controle de arcabou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Simetria de ca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Reuti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Conseqü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448-0B03-4562-9A3E-439D186244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Malefíci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Complexidade de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Interceptadores fal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Uso potencial de processamento em casc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Conseqü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32F-ED7E-4A2D-A617-067F7B7DBA7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G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Chain-of-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Ob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POS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ipes and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ublisher - Subscr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POS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Re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- Ver també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CA3-E3DF-433B-9684-DF452C384D4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O padrão arquitetural </a:t>
            </a:r>
            <a:r>
              <a:rPr b="1" i="1" lang="pt-BR" sz="2800" spc="-1" strike="noStrike">
                <a:solidFill>
                  <a:srgbClr val="000000"/>
                </a:solidFill>
                <a:latin typeface="Bookman Old Style"/>
              </a:rPr>
              <a:t>Leader / Followers </a:t>
            </a: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provê um modelo de concorrência com  múltiplos fluxos de execução (</a:t>
            </a:r>
            <a:r>
              <a:rPr b="1" i="1" lang="pt-BR" sz="2800" spc="-1" strike="noStrike">
                <a:solidFill>
                  <a:srgbClr val="000000"/>
                </a:solidFill>
                <a:latin typeface="Bookman Old Style"/>
              </a:rPr>
              <a:t>threads</a:t>
            </a: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) compartilhando um conjunto de fontes de eventos, visando detectar, desmembrar, despachar e processar as requisições de serviço que ocorrem nessas fontes de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2A9-EA4A-40FA-8D37-83FED988A12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istema de processamento de transações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on-line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(OL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71640" y="2743200"/>
          <a:ext cx="741672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43200"/>
                    <a:ext cx="74167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418-419A-4872-A8FE-1605027C445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OLTP poderia ser implement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Baseado num modelo de processamento de eventos com um único fluxo de execução (</a:t>
            </a:r>
            <a:r>
              <a:rPr b="0" i="1" lang="pt-BR" sz="2800" spc="-1" strike="noStrike">
                <a:solidFill>
                  <a:srgbClr val="000000"/>
                </a:solidFill>
                <a:latin typeface="Bookman Old Style"/>
              </a:rPr>
              <a:t>single-threaded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Usando um modelo de concorrência, com múltiplos fluxos de execução, que processa as requisições simultane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3A8-1365-41EC-B1F3-2E4D97CF67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Apresentar a estrutura básica do livro POSA II e discutir padrões em particular: Interceptor e Leader/Fol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76320" y="76320"/>
            <a:ext cx="30477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966-A371-43C2-B5CD-3D5053D76F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man Old Style"/>
              </a:rPr>
              <a:t>Aplicações dirigidas a eventos onde múltiplas requisições de serviços enviadas para um conjunto de fontes de eventos precisam ser processadas eficientemente por múltiplos fluxos de execução que compartilham essas fo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Con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478-6284-4D2B-850B-895503E1260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Processamento de múltiplos fluxos de execução – 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técnica comum, mas difícil de ser implementada em alta perf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Conside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Demultiplexação eficiente de fluxos e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Minimização de sobrecarga relacionada à concor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revenção de condições de cor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Probl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EB3-A7B0-42B9-AF4B-C0BE3B426B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Projetar um mecanismo de fluxos de execução coordenados para detectar, demultiplexar, despachar e processar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Um fluxo é o líder e aguarda um evento nas fontes de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Quando detecta evento, promove novo líder e faz 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Vários fluxos de execução podem ser processados enquanto líder aguarda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Solu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962-9DE8-451B-8B24-5464200A3A3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55640" y="1484280"/>
            <a:ext cx="7632720" cy="45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1484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34936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484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6560" y="19447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Handle e Handl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2852640"/>
            <a:ext cx="417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Handle identifica um fonte de eventos no sistema oper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Handle pode enfileirar ev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Handle Set é uma coleção de objetos Han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2349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Respons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1484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Colabor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559-10D7-4227-A0C0-7BB785A171E2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755640" y="1484280"/>
            <a:ext cx="7777080" cy="4537080"/>
            <a:chOff x="755640" y="1484280"/>
            <a:chExt cx="7777080" cy="4537080"/>
          </a:xfrm>
        </p:grpSpPr>
        <p:sp>
          <p:nvSpPr>
            <p:cNvPr id="183" name=""/>
            <p:cNvSpPr/>
            <p:nvPr/>
          </p:nvSpPr>
          <p:spPr>
            <a:xfrm>
              <a:off x="755640" y="1484280"/>
              <a:ext cx="7632720" cy="453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64000" y="148428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5640" y="234936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5640" y="1484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las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47640" y="19447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Event Handl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71640" y="2852640"/>
              <a:ext cx="417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Define uma interface para processamento de eventos que ocorram em um objeto Hand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640" y="234936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Responsabil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64000" y="1484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olaborad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80000" y="213336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Hand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D12-73FA-4322-9E22-C0AD7E25D87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755640" y="1484280"/>
            <a:ext cx="7777080" cy="4537080"/>
            <a:chOff x="755640" y="1484280"/>
            <a:chExt cx="7777080" cy="4537080"/>
          </a:xfrm>
        </p:grpSpPr>
        <p:sp>
          <p:nvSpPr>
            <p:cNvPr id="194" name=""/>
            <p:cNvSpPr/>
            <p:nvPr/>
          </p:nvSpPr>
          <p:spPr>
            <a:xfrm>
              <a:off x="755640" y="1484280"/>
              <a:ext cx="7632720" cy="453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4000" y="148428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40" y="234936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5640" y="1484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las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2680" y="1976400"/>
              <a:ext cx="37011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Courier New"/>
                </a:rPr>
                <a:t>Concrete Event Handl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71640" y="2852640"/>
              <a:ext cx="4176720" cy="31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Define um serviço de aplic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Processa eventos recebidos em um objeto Handle de maneira específica à aplic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É executado em um fluxo de execução em processa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640" y="234936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Responsabil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64000" y="1484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olaborad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80000" y="213336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Hand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4E5-DF45-4B34-BDC4-9AACED70A492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755640" y="1484280"/>
            <a:ext cx="7777080" cy="4578840"/>
            <a:chOff x="755640" y="1484280"/>
            <a:chExt cx="7777080" cy="4578840"/>
          </a:xfrm>
        </p:grpSpPr>
        <p:sp>
          <p:nvSpPr>
            <p:cNvPr id="205" name=""/>
            <p:cNvSpPr/>
            <p:nvPr/>
          </p:nvSpPr>
          <p:spPr>
            <a:xfrm>
              <a:off x="755640" y="1484280"/>
              <a:ext cx="7632720" cy="453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4000" y="148428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5640" y="2349360"/>
              <a:ext cx="46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640" y="1484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las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47640" y="194472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Thread P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71640" y="2852640"/>
              <a:ext cx="4176720" cy="32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ontém os fluxos de execução que podem assumir os papéis: de líder, de processamento e de seguid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ontém um sincronizad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5640" y="234936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Responsabil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4000" y="1484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Courier New"/>
                </a:rPr>
                <a:t>Colaborado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80000" y="2133360"/>
              <a:ext cx="2737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Handle S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Hand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Event Handl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B72-97FA-4B75-BF94-5B031E8A8C6F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255680" y="1201680"/>
          <a:ext cx="6632640" cy="44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201680"/>
                    <a:ext cx="66326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Estru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989-4065-40DF-9EB2-3E70DF960DB4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man Old Style"/>
              </a:rPr>
              <a:t>Fluxo líder aguarda e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man Old Style"/>
              </a:rPr>
              <a:t>Promoção do fluxo segu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man Old Style"/>
              </a:rPr>
              <a:t>Antigo líder faz, concorrentemente, demultiplexação e despacho do evento receb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Bookman Old Style"/>
              </a:rPr>
              <a:t>Acabado o processamento o fluxo de execução volta ao </a:t>
            </a:r>
            <a:r>
              <a:rPr b="0" i="1" lang="pt-BR" sz="3200" spc="-1" strike="noStrike">
                <a:solidFill>
                  <a:srgbClr val="000000"/>
                </a:solidFill>
                <a:latin typeface="Bookman Old Style"/>
              </a:rPr>
              <a:t>pool</a:t>
            </a:r>
            <a:r>
              <a:rPr b="0" lang="pt-BR" sz="3200" spc="-1" strike="noStrike">
                <a:solidFill>
                  <a:srgbClr val="000000"/>
                </a:solidFill>
                <a:latin typeface="Bookman Old Style"/>
              </a:rPr>
              <a:t> de flux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Dinâm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F59-F8E4-4AC1-AF10-AA9AAE80EE5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84360" y="2349360"/>
          <a:ext cx="7745400" cy="28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774540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Dinâm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B11-1800-409E-A02E-68FBFDBD980A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POSA I – 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adrões de us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POSA II – 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adrões com foco específico em concorrência e aplicações em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Padrões apresentam forte sinergia – 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Representam a base para uma linguagem de padrões para software concorrente e em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Desafio de ambientes distribuídos e com concor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Motivação para o POS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037-C47E-43AF-8BE3-DD214ACE02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Escolher os mecanismos para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Handle</a:t>
            </a:r>
            <a:r>
              <a:rPr b="0" i="1" lang="pt-BR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e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Handle Set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Implementar um protocolo para ativar e desativar objetos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Handle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 em um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Handl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Implementar o </a:t>
            </a:r>
            <a:r>
              <a:rPr b="0" i="1" lang="pt-BR" sz="2800" spc="-1" strike="noStrike">
                <a:solidFill>
                  <a:srgbClr val="000000"/>
                </a:solidFill>
                <a:latin typeface="Bookman Old Style"/>
              </a:rPr>
              <a:t>pool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 de fluxos de 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Implementar o protocolo de promoção dos segui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Implementar o tratamento de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320" y="115920"/>
            <a:ext cx="73753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Implem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4FF-1FF5-4316-9749-4874769136C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Bound Handle/Thread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Há associação entre os fluxos e os objetos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11280" y="2924280"/>
          <a:ext cx="770400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24280"/>
                    <a:ext cx="770400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Vari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71C-8461-4FF6-AF4A-5A79862CA6D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Arcabouço ACE Thread Pool Re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ORB´s de 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Chorus COOL ORB e T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Servidores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J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Pontos de Ta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274680"/>
            <a:ext cx="8610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Usos Conhec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EDC-15B8-4D05-BBC9-ECFE62D5A83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Benefícios</a:t>
            </a:r>
            <a:r>
              <a:rPr b="0" lang="pt-BR" sz="32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Melhorias de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rogramação simplificada de modelos de concor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Malefí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Complexidade de implementação das variações mais avanç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erda de flex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Gargalos de E/S na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320" y="130320"/>
            <a:ext cx="81676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Conseqü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1F9-5ABB-426A-9EB2-E741C34BD80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ookman Old Style"/>
              </a:rPr>
              <a:t>POS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Re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ro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Half-Sync/Half-Asy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Activ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76320"/>
            <a:ext cx="90676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Leader / Followers – Ver també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379-2EC1-4653-B4E5-CA1DB4AEBDC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Necessidade de se estabelecer padrões no domínio de aplicações em ambientes distribuídos e com concorr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Interceptor – extensão de arcabou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Leader/Followers – gerenciamento de um conjunto de fluxos de execução compartilhando fontes de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76320"/>
            <a:ext cx="86104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Comentários Fi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56B-DE76-4797-82C3-5A66B3D25B7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Há quatro tipos de padr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Configuração e acesso a serviços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– para o desenvolvimento de API´s para estabelecer acesso e configuração d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Gerenciamento de Eventos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– para controlar a captura, demultiplexação, disparo e processamento de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Sincronização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– possibilitar que aplicações absorvam os benefícios da 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Concorrência</a:t>
            </a:r>
            <a:r>
              <a:rPr b="0" lang="pt-BR" sz="2400" spc="-1" strike="noStrike">
                <a:solidFill>
                  <a:srgbClr val="000000"/>
                </a:solidFill>
                <a:latin typeface="Bookman Old Style"/>
              </a:rPr>
              <a:t> – políticas e mecanismos para possibilitar que vários processos ou fluxos de execução ocorram de forma simultâ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Organização do POS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0DA-DDC4-41F4-BC70-ED66098A01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Bookman Old Style"/>
              </a:rPr>
              <a:t>Formato dos padrões é baseado no estabelecido para o primeiro vol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Estr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inâ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Imple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Exemplo Resolv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Vari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Usos Conhe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Conseqü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Ver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Organização do POS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B5C-E8F7-4168-ABF8-6B0B75627D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O padrão arquitetural </a:t>
            </a:r>
            <a:r>
              <a:rPr b="1" i="1" lang="pt-BR" sz="2800" spc="-1" strike="noStrike">
                <a:solidFill>
                  <a:srgbClr val="000000"/>
                </a:solidFill>
                <a:latin typeface="Bookman Old Style"/>
              </a:rPr>
              <a:t>Interceptor</a:t>
            </a: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 possibilita que serviços sejam adicionados de forma transparente a um arcabouço e disparados automaticamente quando certos eventos ocor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DAE-C9A6-4D32-8B79-47E91A9437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MiddleORB – </a:t>
            </a: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rovê serviços de comunicação que simplificam o desenvolvimento de aplicações distribuí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Além dos serviços de comunicação, pode-se necessitar de serviço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Trans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Segu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Balanceamento de 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Tolerância a fa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Audi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7F0-6682-41D5-B829-88FD110C75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Bookman Old Style"/>
              </a:rPr>
              <a:t>MiddleORB precisa possibilitar a integração desses serviços estend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oderia integrar o maior número possível de serviços  na configuração padrão, mas nem todos os serviços podem ser antecip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</a:rPr>
              <a:t>Poderia deixar ser o mais simples e conciso possível. Os novos serviços devem ser adicionados diretamente no código do cliente e do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76320"/>
            <a:ext cx="71625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Bookman Old Style"/>
              </a:rPr>
              <a:t>Interceptor – Ex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drões do POSA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D40-D2F4-415A-AEEB-DD3A2B2D4E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7:51:25Z</dcterms:created>
  <dc:creator>GD</dc:creator>
  <dc:description/>
  <dc:language>en-US</dc:language>
  <cp:lastModifiedBy>GD</cp:lastModifiedBy>
  <dcterms:modified xsi:type="dcterms:W3CDTF">2002-09-11T02:47:18Z</dcterms:modified>
  <cp:revision>55</cp:revision>
  <dc:subject/>
  <dc:title>MAC-5715 – Tópicos </dc:title>
</cp:coreProperties>
</file>