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740-46C0-457C-ADE8-9872615D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617-584F-4FDA-8380-25B25483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863-8AF1-4B9D-9AB6-CDB75895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A27-1BBA-4101-9ECD-2BB60057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85AB-0DC3-4C35-8890-0CE17645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FB54-2ECF-4B5D-8A8E-5E500C97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391C-EC8B-4467-94AF-D27411E1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40A4-3F8F-43BD-A39E-72835456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BC03-A7B8-4CF0-B292-70EF53A4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AA72-42BD-4C96-B496-5395E9DB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D081-362F-40CF-902C-F49F1D56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B80-126B-4680-AB84-22A30800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2952-A741-4DB5-8AEF-4D4173F9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6F7F-3B4A-4A75-9B03-601D5D8E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79CC-F6A7-4DE2-89DB-8382F065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657B-51CA-4892-B89E-7BEEE418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D18E-8407-4B0F-A220-F10449B6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D02-49C7-4C93-8BE2-54E2E36E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800-D1FC-4934-9492-689F5077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401-38C8-430A-8C00-4D1B91A9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13D0-B9B7-4E93-AE2B-FFD608A1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0F6-76C1-451E-B666-BF030763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B132-6F21-47A4-9A13-5B7A5603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799-0A01-4297-9867-45439F3F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594324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BC316EEB-EF0C-447A-B280-1049CF1036DD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14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5943240"/>
            <a:ext cx="2895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594324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E814-276B-4307-9694-D0494DC3B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019560"/>
            <a:ext cx="1905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1CD288E7-2887-4FBD-9882-B9F323B11420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14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560"/>
            <a:ext cx="1905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9E32-1B71-4D99-AEE1-4D02EC97C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argonavis.com.br/" TargetMode="External"/><Relationship Id="rId2" Type="http://schemas.openxmlformats.org/officeDocument/2006/relationships/hyperlink" Target="http://grenoble.ime.usp.br/~gold/temp/xp/" TargetMode="External"/><Relationship Id="rId3" Type="http://schemas.openxmlformats.org/officeDocument/2006/relationships/hyperlink" Target="http://grenoble.ime.usp.br/~gold/temp/xp/" TargetMode="External"/><Relationship Id="rId4" Type="http://schemas.openxmlformats.org/officeDocument/2006/relationships/hyperlink" Target="http://grenoble.ime.usp.br/~gold/temp/xp/" TargetMode="External"/><Relationship Id="rId5" Type="http://schemas.openxmlformats.org/officeDocument/2006/relationships/hyperlink" Target="http://grenoble.ime.usp.br/~gold/temp/xp/" TargetMode="External"/><Relationship Id="rId6" Type="http://schemas.openxmlformats.org/officeDocument/2006/relationships/hyperlink" Target="http://grenoble.ime.usp.br/~gold/temp/xp/" TargetMode="External"/><Relationship Id="rId7" Type="http://schemas.openxmlformats.org/officeDocument/2006/relationships/hyperlink" Target="http://grenoble.ime.usp.br/~gold/temp/xp/" TargetMode="External"/><Relationship Id="rId8" Type="http://schemas.openxmlformats.org/officeDocument/2006/relationships/hyperlink" Target="http://grenoble.ime.usp.br/~gold/temp/xp/" TargetMode="External"/><Relationship Id="rId9" Type="http://schemas.openxmlformats.org/officeDocument/2006/relationships/hyperlink" Target="http://grenoble.ime.usp.br/~gold/temp/xp/" TargetMode="External"/><Relationship Id="rId10" Type="http://schemas.openxmlformats.org/officeDocument/2006/relationships/hyperlink" Target="http://grenoble.ime.usp.br/~gold/temp/xp/" TargetMode="External"/><Relationship Id="rId11" Type="http://schemas.openxmlformats.org/officeDocument/2006/relationships/hyperlink" Target="http://grenoble.ime.usp.br/~gold/temp/xp/" TargetMode="External"/><Relationship Id="rId12" Type="http://schemas.openxmlformats.org/officeDocument/2006/relationships/hyperlink" Target="http://grenoble.ime.usp.br/~gold/temp/xp/" TargetMode="External"/><Relationship Id="rId13" Type="http://schemas.openxmlformats.org/officeDocument/2006/relationships/hyperlink" Target="http://grenoble.ime.usp.br/~gold/temp/xp/" TargetMode="External"/><Relationship Id="rId1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12952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Ferramentas para Testes Automatizados em Java e C++ 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37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Fabiana Piesigil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Baseado na apresentaçã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pt-BR" sz="2600" spc="-1" strike="noStrike">
                <a:solidFill>
                  <a:srgbClr val="ffffff"/>
                </a:solidFill>
                <a:latin typeface="Times New Roman"/>
              </a:rPr>
              <a:t>Qualidade e Produtividade em Projetos Java”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Times New Roman"/>
              </a:rPr>
              <a:t>de Helder da Roch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Times New Roman"/>
              </a:rPr>
              <a:t>no Brasil@JavaOne 200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D9CF-A286-4835-80AF-B0320EBCBC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38880" y="4800600"/>
            <a:ext cx="1600200" cy="20574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Times New Roman"/>
              </a:rPr>
              <a:t>JUnit: </a:t>
            </a: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Como funcion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O TestRunner recebe uma subclasse de junit.framework.TestCa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Usa reflection para descobrir seus método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Para cada método testXXX(), executa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1. o método setUp(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2. o próprio método testXXX(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3. o método tearDown(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O test case é instanciado para executar um método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testXXX() de cada vez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As alterações que ele fizer ao estado do objeto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não afetarão os demais test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Método pode </a:t>
            </a:r>
            <a:r>
              <a:rPr b="0" i="1" lang="pt-BR" sz="2200" spc="-1" strike="noStrike">
                <a:solidFill>
                  <a:srgbClr val="ffffff"/>
                </a:solidFill>
                <a:latin typeface="Humanist521BT-BoldItalic"/>
              </a:rPr>
              <a:t>termina</a:t>
            </a:r>
            <a:r>
              <a:rPr b="0" i="1" lang="pt-BR" sz="2200" spc="-1" strike="noStrike">
                <a:solidFill>
                  <a:srgbClr val="ffffff"/>
                </a:solidFill>
                <a:latin typeface="Humanist521BT-Italic"/>
              </a:rPr>
              <a:t>r</a:t>
            </a: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, </a:t>
            </a:r>
            <a:r>
              <a:rPr b="0" i="1" lang="pt-BR" sz="2200" spc="-1" strike="noStrike">
                <a:solidFill>
                  <a:srgbClr val="ffffff"/>
                </a:solidFill>
                <a:latin typeface="Humanist521BT-BoldItalic"/>
              </a:rPr>
              <a:t>falhar </a:t>
            </a: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ou provocar </a:t>
            </a:r>
            <a:r>
              <a:rPr b="0" i="1" lang="pt-BR" sz="2200" spc="-1" strike="noStrike">
                <a:solidFill>
                  <a:srgbClr val="ffffff"/>
                </a:solidFill>
                <a:latin typeface="Humanist521BT-BoldItalic"/>
              </a:rPr>
              <a:t>exceçã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2590920"/>
            <a:ext cx="13716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30481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54100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3962520"/>
            <a:ext cx="45720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4267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2666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Test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91520" y="4952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MyTestC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1240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etUp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tearDow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5421240"/>
            <a:ext cx="13716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Humanist521BT-BoldItalic"/>
              </a:rPr>
              <a:t>setU</a:t>
            </a:r>
            <a:r>
              <a:rPr b="0" i="1" lang="pt-BR" sz="1600" spc="-1" strike="noStrike">
                <a:solidFill>
                  <a:srgbClr val="ffffff"/>
                </a:solidFill>
                <a:latin typeface="Humanist521BT-Italic"/>
              </a:rPr>
              <a:t>p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BoldItalic"/>
              </a:rPr>
              <a:t>testXX</a:t>
            </a: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X(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BoldItalic"/>
              </a:rPr>
              <a:t>testYYY(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Humanist521BT-BoldItalic"/>
              </a:rPr>
              <a:t>tearDow</a:t>
            </a:r>
            <a:r>
              <a:rPr b="0" i="1" lang="pt-BR" sz="1600" spc="-1" strike="noStrike">
                <a:solidFill>
                  <a:srgbClr val="ffffff"/>
                </a:solidFill>
                <a:latin typeface="Humanist521BT-Italic"/>
              </a:rPr>
              <a:t>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D76-4D16-4B73-AAB5-2A4AE5F054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JUnit: Exempl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package junitdemo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import java. io.*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public class TextUtils 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public static String removeWhiteSpaces( String text)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throws IOException 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StringReader reader = new StringReader( text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StringBuffer buffer = new StringBuffer( text. length()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int c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while( (c = reader. read()) != -1) 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if (c == ' '|| c == '\ n'|| c == '\ r'|| c == '\ f'|| c == '\ t') 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 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/* não faz nada *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}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else 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buffer. append(( char) c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return buffer.toString(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103-AF89-449D-A341-32BCA41458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JUnit: Exemplo </a:t>
            </a:r>
            <a:br>
              <a:rPr sz="4400"/>
            </a:br>
            <a:r>
              <a:rPr b="0" i="1" lang="pt-BR" sz="3500" spc="-1" strike="noStrike">
                <a:solidFill>
                  <a:srgbClr val="cbcbcb"/>
                </a:solidFill>
                <a:latin typeface="Humanist521BT-Italic"/>
              </a:rPr>
              <a:t>Um test case para a classe</a:t>
            </a:r>
            <a:endParaRPr b="0" lang="en-US" sz="35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package junitdemo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import junit. framework.*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import java. io. IOException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public class TextUtilsTest extends TestCase {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public TextUtilsTest( String name) {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super( name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public void testRemoveWhiteSpaces()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  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throws IOException {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String testString = "one, ( two | three+) , "+"((( four+ |\ t five)?\ n \n, six?"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String expectedString = "one,( two| three+)"+",((( four+| five)?, six?"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String results = TextUtils. removeWhiteSpaces( testString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assertEquals( expectedString, results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90B8-041E-4DE3-BFDA-AA4554F5B3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Times New Roman"/>
              </a:rPr>
              <a:t>Portando o test case para o CppUni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#include “TestUtils.h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#include &lt;cppunit/TestCase.h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#include &lt;cppunit/TestAssert.h&gt;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using namespace st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using namespace cppDemo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class 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TextUtilsTest: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 public CppUnit::TestCase {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public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TextUtilsTest ( std::string name ) : CppUnit::TestCase( name ) {}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void 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testRemoveWhiteSpaces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() {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s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tring testString ("one, ( two | three+), ((( four+ |\ t five)?\ n \n, six? "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  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string expectedString ("one,( two| three+),((( four+| five)?, six? "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  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string results = TextUtils.removeWhiteSpaces( testString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  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CPPUNIT_ASSERT_EQUAL (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expectedString, results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);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} 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pt-BR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pt-BR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71E-8704-4645-A3A6-88086B0A9F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fail: Teste situações de falh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É tão importante testar o cenário de falha do seu codigo quanto o sucess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Método fail() provoca uma falh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Use para verificar se exceções ocorrem quando se espera que elas ocorra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Exempl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public void testEntityNotFoundException() {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resetEntityTable(); // não há entidades para resolver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try {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// A chamada do método a seguir deve provocar uma exceção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ParameterEntityTag tag = parser.resolveEntity(" bogus"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fail(" Deveria ter causado EntityNotFoundException!"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}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catch (EntityNotFoundException e) {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// sucesso: a exceção ocorreu conforme esperad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CourierNewPS-BoldMT"/>
              </a:rPr>
              <a:t>Falhas são testadas no CppUnit com a macro CPPUNIT_FAIL (mensagem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C03-5ED3-4133-B817-331EBC5BAF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JUnit: Fixtu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58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Humanist521BT-Italic"/>
              </a:rPr>
              <a:t>São os dados reutilizados por vários test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Humanist521BT-Italic"/>
              </a:rPr>
              <a:t>Inicializados no setUp() e destruídos no tearDown() (se necessário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public class AttributeEnumerationTest extends TestCase 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String testString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String[] testArray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AttributeEnumeration testEnum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public void setUp() 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testString = "( alpha| beta| gamma)"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testArray = new String[]{" alpha", "beta", "gamma"}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testEnum = new AttributeEnumeration( testArray)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public void testGetNames() 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assertEquals( testEnum. getNames(), testArray)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public void testToString() 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assertEquals( testEnum. toString(), testString)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}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(..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Humanist521BT-Italic"/>
              </a:rPr>
              <a:t>Extensão </a:t>
            </a:r>
            <a:r>
              <a:rPr b="0" i="1" lang="pt-BR" sz="1400" spc="-1" strike="noStrike">
                <a:solidFill>
                  <a:srgbClr val="ffffff"/>
                </a:solidFill>
                <a:latin typeface="Humanist521BT-BoldItalic"/>
              </a:rPr>
              <a:t>JXUnit </a:t>
            </a:r>
            <a:r>
              <a:rPr b="1" i="1" lang="pt-BR" sz="1400" spc="-1" strike="noStrike">
                <a:solidFill>
                  <a:srgbClr val="ffffff"/>
                </a:solidFill>
                <a:latin typeface="Humanist521BT-Italic"/>
              </a:rPr>
              <a:t>(jxunit.sourceforge.net) permite manter dados de teste em arquivo XML (*. jxu) separado do código =&gt; Mais flexibilidade. Permite escrever testes mais rigorosos, com muitos dado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A5A-A6F6-4A47-A303-72D8D7BDC1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Times New Roman"/>
              </a:rPr>
              <a:t>CppUnit: Fixtu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Unicode MS"/>
              </a:rPr>
              <a:t>Para usar </a:t>
            </a:r>
            <a:r>
              <a:rPr b="1" i="1" lang="pt-BR" sz="2000" spc="-1" strike="noStrike" u="sng">
                <a:solidFill>
                  <a:srgbClr val="ffffff"/>
                </a:solidFill>
                <a:uFillTx/>
                <a:latin typeface="Arial Unicode MS"/>
              </a:rPr>
              <a:t>fixtures</a:t>
            </a:r>
            <a:r>
              <a:rPr b="1" i="1" lang="pt-BR" sz="2000" spc="-1" strike="noStrike">
                <a:solidFill>
                  <a:srgbClr val="ffffff"/>
                </a:solidFill>
                <a:latin typeface="Arial Unicode MS"/>
              </a:rPr>
              <a:t>, sua classe precisa herdar não de TestCase, mas de TestFix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Unicode MS"/>
              </a:rPr>
              <a:t>Os métodos setUp e tearDown funcionam da mesma maneira, mas devem ser </a:t>
            </a:r>
            <a:r>
              <a:rPr b="1" i="1" lang="pt-BR" sz="2000" spc="-1" strike="noStrike" u="sng">
                <a:solidFill>
                  <a:srgbClr val="ffffff"/>
                </a:solidFill>
                <a:uFillTx/>
                <a:latin typeface="Arial Unicode MS"/>
              </a:rPr>
              <a:t>protec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Unicode MS"/>
              </a:rPr>
              <a:t>Exemplo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class </a:t>
            </a:r>
            <a:r>
              <a:rPr b="0" i="1" lang="pt-BR" sz="2000" spc="-1" strike="noStrike">
                <a:solidFill>
                  <a:srgbClr val="ffffff"/>
                </a:solidFill>
                <a:latin typeface="CourierNewPS-BoldMT"/>
              </a:rPr>
              <a:t>TextUtilsTest :</a:t>
            </a: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 public CppUnit:: TestFixture {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(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protected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void setUp() { ...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void tearDown() { ... }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 Unicode MS"/>
              </a:rPr>
              <a:t>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9ED-1C7D-4D1D-8BFC-8D5C11CCBE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JUnit: A Classe TestSuit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Permite executar uma coleção de testes: Método addTest(Test) adiciona um teste na lis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Padrão de codificação (usando reflection):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retornar um TestSuite em cada test-c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public static Test suite()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return new TestSuite( SuaClasseTest.class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criar uma classe AllTests que combina as suites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CourierNewPS-BoldMT"/>
              </a:rPr>
              <a:t>public class AllTests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public static Test suite() {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TestSuite testSuite = new TestSuite(" Roda tudo"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testSuite.addTest( pacote.AllTests.suite()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testSuite.addTest( MinhaClasseTest.suite()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testSuite.addTest( SuaClasseTest.suite()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 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return testSuite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10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Humanist521BT-Italic"/>
              </a:rPr>
              <a:t>}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Humanist521BT-Italic"/>
              </a:rPr>
              <a:t>}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6DF-544C-4F3F-A19F-A8FB0948E4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Times New Roman"/>
              </a:rPr>
              <a:t>CppUnit: TestSuit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 Unicode MS"/>
              </a:rPr>
              <a:t>Para criar uma suite com 2 ou mais test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CppUnit::TestSuite suit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suite.addTest( new CppUnit::TestCaller&lt;NomeDaSuaClasseDeTeste&gt;( 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“oNomeDoSeuTeste",  &amp;SuaClasseDeTeste::seuMetodoDeTeste)); suite.addTest ( OutraClasseDeTeste::suite() )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 Unicode MS"/>
              </a:rPr>
              <a:t>O método suite, como no JUnit, também precisa ser público, estático mas deve retornar </a:t>
            </a:r>
            <a:r>
              <a:rPr b="1" i="1" lang="pt-BR" sz="1800" spc="-1" strike="noStrike" u="sng">
                <a:solidFill>
                  <a:srgbClr val="ffffff"/>
                </a:solidFill>
                <a:uFillTx/>
                <a:latin typeface="Arial Unicode MS"/>
              </a:rPr>
              <a:t>um ponteiro</a:t>
            </a:r>
            <a:r>
              <a:rPr b="1" i="1" lang="pt-BR" sz="1800" spc="-1" strike="noStrike">
                <a:solidFill>
                  <a:srgbClr val="ffffff"/>
                </a:solidFill>
                <a:latin typeface="Arial Unicode MS"/>
              </a:rPr>
              <a:t> para um objeto que implementa a interface </a:t>
            </a:r>
            <a:r>
              <a:rPr b="1" i="1" lang="pt-BR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est</a:t>
            </a:r>
            <a:r>
              <a:rPr b="1" i="1" lang="pt-BR" sz="1800" spc="-1" strike="noStrike">
                <a:solidFill>
                  <a:srgbClr val="ffffff"/>
                </a:solidFill>
                <a:latin typeface="Arial Unicode MS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public: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static CppUnit::Test *suite() {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CppUnit::TestSuite *suiteOfTests = new 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CppUnit::TestSuite("NomeDoSeuTeste" )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suiteOfTests-&gt;addTest</a:t>
            </a:r>
            <a:r>
              <a:rPr b="0" i="1" lang="pt-BR" sz="1800" spc="-1" strike="noStrike">
                <a:solidFill>
                  <a:srgbClr val="4444ee"/>
                </a:solidFill>
                <a:latin typeface="Arial Unicode MS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(...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return suiteOfTest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}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D78-03E5-450D-8BE3-CA974162B1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JUnit: como execut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427720" y="2263680"/>
          <a:ext cx="292104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7720" y="2263680"/>
                    <a:ext cx="292104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85800" y="1951200"/>
            <a:ext cx="84582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Humanist521BT-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Humanist521BT-Italic"/>
              </a:rPr>
              <a:t>Use a interface de tex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Humanist521BT-Italic"/>
              </a:rPr>
              <a:t>java -cp junit.jar junit.textui.TestRun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Humanist521BT-Italic"/>
              </a:rPr>
              <a:t> </a:t>
            </a:r>
            <a:r>
              <a:rPr b="0" i="1" lang="pt-BR" sz="1800" spc="-1" strike="noStrike">
                <a:solidFill>
                  <a:srgbClr val="ffffff"/>
                </a:solidFill>
                <a:latin typeface="Humanist521BT-Italic"/>
              </a:rPr>
              <a:t>junitdemo.TextUtils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Humanist521BT-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Humanist521BT-Italic"/>
              </a:rPr>
              <a:t>Ou use a interface gráf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Humanist521BT-Italic"/>
              </a:rPr>
              <a:t>java -cp junit.jar junit.swingui.TestRunn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Humanist521BT-Italic"/>
              </a:rPr>
              <a:t>junitdemo.TextUtils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Humanist521BT-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Humanist521BT-Italic"/>
              </a:rPr>
              <a:t>Use Ant &lt;juni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Humanist521BT-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Humanist521BT-Italic"/>
              </a:rPr>
              <a:t>Ou forneça um main(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NewPS-BoldMT"/>
              </a:rPr>
              <a:t>public static void main (String[] args)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CourierNewPS-BoldMT"/>
              </a:rPr>
              <a:t>TestSuite suite = new TestSuite(TextUtilsTest.clas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CourierNewPS-BoldMT"/>
              </a:rPr>
              <a:t>junit.textui.TestRunner.run( sui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5FE-3456-4855-9F60-2616FBA7FC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bcbcb"/>
                </a:solidFill>
                <a:latin typeface="Humanist521BT-Italic"/>
              </a:rPr>
              <a:t>Para que testar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Qualidade: Código testado é mais confiá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Como saber se o recurso funciona sem testar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Coragem para mudar: De que adianta a OO isolar a interface da implementação se o programador tem medo de mudar a implementaçã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Como saber se ainda funciona após refatoramento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Saber quando o projeto está pronto. Testes são requisitos “executáveis”. Escreva-os antes. Quando todos rodarem 100%, o projeto está concluído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087-FEED-4FC9-933F-2CF95E0872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Times New Roman"/>
              </a:rPr>
              <a:t>CppUnit: como execut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 Unicode MS"/>
              </a:rPr>
              <a:t>Usando a versão text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#include &lt;cppunit/ui/text/TestRunner.h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#include "SeuTeste.h"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int main( int argc, char **argv) {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CppUnit::TextUi::TestRunner runner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runner.addTest( ExampleTestCase::suite() )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runner.addTest( ComplexNumberTest::suite() )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runner.run()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return 0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 Unicode MS"/>
              </a:rPr>
              <a:t>}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 Unicode MS"/>
              </a:rPr>
              <a:t>Também há duas versões gráficas: MFC e QT. Consulte a documentação para mais informaçõ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745-0138-48D0-AD16-7F96C3782C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Afirmações do J2SDK 1.4 (assertions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São expressões booleanas que o programador define para afirmar uma condição que ele acredita ser verda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Nova palavra-chave: 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asser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Exemplo: 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assert i == 2 : "Erro: i != 2";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Afirmações são usadas para validar código (ter a certeza que um vetor tem determinado tamanho, ter a certeza que o programa não passou por determinado lugar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Devem ser usadas durante o desenvolvimento e desligadas na produção (afetam a performance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Não devem ser usadas como parte da lógica do códig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Provocam um AssertionError quando falha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Afirmações são um recurso novo do J2SDK1.4.0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É preciso compilar usando a opção -source 1.4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&gt; javac -source 1.4 Classe.java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Para executar, é preciso habilitar afirmações (enable assertions)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&gt; java -ea Clas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6E7-FE18-4F11-89B3-2721FA8063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JUnit vs. afirmaçõ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Afirmações do J2SDK 1.4 são usadas dentro do códig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Podem incluir testes dentro da lógica procedural de um program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if (i% 3 == 0) 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doThis(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}  else if (i% 3 == 1) 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doThat(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} else 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assert i% 3 == 2 : "Erro interno!"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O AssertionError provocado pode ser encapsulado pelas exceções do JUni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Afirmações do JUnit são usadas em classe separada (TestCas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Não têm acesso ao interior dos métodos (verificam se a interface dos métodos funciona como esperado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Afirmações do J2SDK1.4 e JUnit são complementa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JUnit testa a interface dos método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assert testa trechos de lógica dentro dos método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A89-95E9-4759-8956-5654BA159E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Limitações do JUni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Humanist521BT-Italic"/>
              </a:rPr>
              <a:t>Acesso aos dados de métodos sob tes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Métodos privados e variáveis locais não podem ser testadas com JUn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Dados devem ser pelo menos package-private (friendl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Humanist521BT-Italic"/>
              </a:rPr>
              <a:t>Soluções com refatoramen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Isolar em métodos privados apenas código inquebrá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Transformar métodos privados em package-priv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Font typeface="Humanist521BT-Ital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Desvantagem: quebra ou redução do encapsulamen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Font typeface="Humanist521BT-Ital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Classes de teste devem estar no mesmo pacote que as classes testadas para ter acess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Humanist521BT-Italic"/>
              </a:rPr>
              <a:t>Solução usando extensão do JUn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umanist521BT-Bold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Humanist521BT-BoldItalic"/>
              </a:rPr>
              <a:t>JUnit</a:t>
            </a:r>
            <a:r>
              <a:rPr b="0" i="1" lang="pt-BR" sz="1800" spc="-1" strike="noStrike">
                <a:solidFill>
                  <a:srgbClr val="ffffff"/>
                </a:solidFill>
                <a:latin typeface="Humanist521BT-Italic"/>
              </a:rPr>
              <a:t>X</a:t>
            </a: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: usa reflection para ter acesso a dados privad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http://www.extreme-java.de/junitx/index.ht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C2F-E18E-46F8-8459-95608DB8BC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Times New Roman"/>
              </a:rPr>
              <a:t>JUnitPerf: </a:t>
            </a:r>
            <a:br>
              <a:rPr sz="4400"/>
            </a:b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Testes de Performan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Coleção de decorators para medir performance 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escalabilidade em testes JUnit existentes </a:t>
            </a: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(http://www.clarkware.com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Timed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Executa um teste e mede o tempo transcorrid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Define um tempo máximo para a execução. O teste falha se a execução durar mais que o tempo estabelecid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Load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Executa um teste com um número simulado de iterações e usuários concorren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Utiliza timers para distribuir as cargas usando distribuições aleatórias ou intervalos de tempo pré-determinad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Combinado com TimerTest para medir tempo com carg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Threaded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Executa o teste em um thread separad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3DB-CDA7-49A5-B867-7FFBB893A4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JUnitPerf: </a:t>
            </a:r>
            <a:br>
              <a:rPr sz="4400"/>
            </a:b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Testes de Performan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import com.clarkware.junitperf.*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import junit. framework.*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public class ExampleLoadTest extends TestCase {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public ExampleLoadTest( String name) {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super( name)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}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public static Test suite() {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Timer timer = new ConstantTimer( 1000); 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int users = 10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int iters = 10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long maxElapsedTime = 20000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Test test = new ExampleTestCase("testOneSecondResp")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Test loadTest = new LoadTest( test, users, iters, timer)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Test timedTest = new TimedTest( loadTest, maxElapsedTime)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TestSuite suite = new TestSuite()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suite. addTest( timedTest)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return suite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}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public static void main( String args[]) {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junit. textui. TestRunner. run(ExampleLoadTest.suite())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029200" y="2209680"/>
          <a:ext cx="3657600" cy="14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209680"/>
                    <a:ext cx="365760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A2C-B967-4129-A458-F75E6207E7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JMeter: </a:t>
            </a:r>
            <a:br>
              <a:rPr sz="4400"/>
            </a:b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Testes de Stres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Uma ótima ferramenta open-source para testar 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limites de uma aplicaçã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Simula carga pesada em servidor, rede ou obje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Testa performance sob diferentes tipos de carga em aplicações Web, servidores de FTP, objetos Java, bancos de dados, servlets, scripts em Perl, sistemas de arquivos, e outras aplicações (Java ou nã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Gera gráficos com resultados par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anál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JMeter pode ser usado par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simular carga que cause falh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em testes decorados com JUnitPer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http://jakarta.apache.org/jmet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715000" y="4114800"/>
          <a:ext cx="3124080" cy="24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114800"/>
                    <a:ext cx="312408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FE9-8F2D-403B-9E91-44EB9AAEC0D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bcbcb"/>
                </a:solidFill>
                <a:latin typeface="Humanist521BT-Italic"/>
              </a:rPr>
              <a:t>Dependência de código-font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Problema: Como testar componente que depende do código de outros componentes?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Classe-alvo não oferece o que testar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Se houver tinta e se houver papel método 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void imprime( )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deve funciona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Como saber se há ou não tinta e papel?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public void testImprime( ) {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Impressora imp = new Impressora(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imp.imprime( ); // void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assert???(???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971800"/>
            <a:ext cx="190512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505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2971800"/>
            <a:ext cx="190512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257800" y="2895120"/>
            <a:ext cx="114300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3505320"/>
            <a:ext cx="1219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2362320"/>
            <a:ext cx="1904760" cy="990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3429000"/>
            <a:ext cx="190476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3886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emTinta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971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ress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9400" y="23623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nde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34290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tuc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3352680"/>
            <a:ext cx="1905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352680"/>
            <a:ext cx="1905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2743200"/>
            <a:ext cx="19047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3809880"/>
            <a:ext cx="19047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35053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estImprim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35053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rim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emPapel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2971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mpressora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55A-9F57-4C6F-AAA8-63A67F2482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Stubs: objetos "impostores"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É possível remover dependências de código-fonte refatorando o código para usar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Agora B pode ser substituída por um stu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BStub está sob controle total de ATest (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Em alguns casos, ATest pode implementar InterB (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2895480"/>
          <a:ext cx="54244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895480"/>
                    <a:ext cx="54244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523880" y="5105520"/>
          <a:ext cx="5424480" cy="12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5105520"/>
                    <a:ext cx="542448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3B9-90BB-4831-96FD-E396E2339A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Dependência: </a:t>
            </a:r>
            <a:br>
              <a:rPr sz="4400"/>
            </a:b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solução usando stub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4572000"/>
            <a:ext cx="79581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Humanist521BT-Italic"/>
              </a:rPr>
              <a:t>Quando usar stub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Dependência ainda não está pron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Dependências têm estado mutante, imprevisível ou estão indisponíveis durante o desenvolvimen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Humanist521BT-Ital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BDs, servidores de aplicação, servidores Web, hard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676520" y="2057400"/>
          <a:ext cx="61243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61243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C83-334B-40B7-8E0C-1BE203AB07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Italic"/>
              </a:rPr>
              <a:t>Todos sabem: devem ser escritos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Italic"/>
              </a:rPr>
              <a:t>Poucos o fazem, e por quê não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Italic"/>
              </a:rPr>
              <a:t>Estou com muita press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Italic"/>
              </a:rPr>
              <a:t>Mas isto cria um círculo vicios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Italic"/>
              </a:rPr>
              <a:t>Como quebrar este ciclo: criando um ambiente simples de testes. Depois de fazer os primeiros testes, o hábito vem para fica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Problema com testes </a:t>
            </a:r>
            <a:br>
              <a:rPr sz="4400"/>
            </a:b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(e a solução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9240" y="4952880"/>
            <a:ext cx="1474560" cy="398880"/>
          </a:xfrm>
          <a:prstGeom prst="rect">
            <a:avLst/>
          </a:prstGeom>
          <a:noFill/>
          <a:ln w="93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nos tes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5105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360" y="3733920"/>
            <a:ext cx="2328120" cy="703800"/>
          </a:xfrm>
          <a:prstGeom prst="rect">
            <a:avLst/>
          </a:prstGeom>
          <a:noFill/>
          <a:ln w="93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nos produtiv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nos estabi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638680" y="4038120"/>
            <a:ext cx="5335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32080" y="4952880"/>
            <a:ext cx="1489680" cy="398880"/>
          </a:xfrm>
          <a:prstGeom prst="rect">
            <a:avLst/>
          </a:prstGeom>
          <a:noFill/>
          <a:ln w="93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s press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819520" y="4114800"/>
            <a:ext cx="457200" cy="76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577-E9E6-4984-95B8-45AC9ADA9B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bcbcb"/>
                </a:solidFill>
                <a:latin typeface="Humanist521BT-Italic"/>
              </a:rPr>
              <a:t>Dependências de servido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Usar </a:t>
            </a:r>
            <a:r>
              <a:rPr b="0" i="1" lang="pt-BR" sz="2400" spc="-1" strike="noStrike">
                <a:solidFill>
                  <a:srgbClr val="ffffff"/>
                </a:solidFill>
                <a:latin typeface="Humanist521BT-BoldItalic"/>
              </a:rPr>
              <a:t>stubs </a:t>
            </a: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para simular serviç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É preciso implementar classes que devolvam as respostas esperadas para diversas situaçõ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Complexidade pode não compensar investir no desenvolvimen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Use soluções open-source prontas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Font typeface="Humanist521BT-BoldItal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Humanist521BT-BoldItalic"/>
              </a:rPr>
              <a:t>DBUni</a:t>
            </a:r>
            <a:r>
              <a:rPr b="0" i="1" lang="pt-BR" sz="1800" spc="-1" strike="noStrike">
                <a:solidFill>
                  <a:srgbClr val="ffffff"/>
                </a:solidFill>
                <a:latin typeface="Humanist521BT-Italic"/>
              </a:rPr>
              <a:t>t</a:t>
            </a: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: extensão do JUnit para testar aplicações JDB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http://dbunit.sourceforge.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Font typeface="Humanist521BT-BoldItal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Humanist521BT-BoldItalic"/>
              </a:rPr>
              <a:t>JUnitE</a:t>
            </a:r>
            <a:r>
              <a:rPr b="0" i="1" lang="pt-BR" sz="1800" spc="-1" strike="noStrike">
                <a:solidFill>
                  <a:srgbClr val="ffffff"/>
                </a:solidFill>
                <a:latin typeface="Humanist521BT-Italic"/>
              </a:rPr>
              <a:t>E</a:t>
            </a: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: extensão do JUnit para testar aplicações J2EE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http://junitee.sourceforge.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Usar </a:t>
            </a:r>
            <a:r>
              <a:rPr b="0" i="1" lang="pt-BR" sz="2400" spc="-1" strike="noStrike">
                <a:solidFill>
                  <a:srgbClr val="ffffff"/>
                </a:solidFill>
                <a:latin typeface="Humanist521BT-BoldItalic"/>
              </a:rPr>
              <a:t>proxies </a:t>
            </a: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para serviços rea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Testa a integração real do componente com seu ambien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Solução open-sour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Font typeface="Humanist521BT-BoldItal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Humanist521BT-BoldItalic"/>
              </a:rPr>
              <a:t>Cactu</a:t>
            </a:r>
            <a:r>
              <a:rPr b="0" i="1" lang="pt-BR" sz="1800" spc="-1" strike="noStrike">
                <a:solidFill>
                  <a:srgbClr val="ffffff"/>
                </a:solidFill>
                <a:latin typeface="Humanist521BT-Italic"/>
              </a:rPr>
              <a:t>s</a:t>
            </a: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: testa integração da aplicação com servlet contain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8A1-C103-4D7B-BB04-B4B7AA263E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Cactus: </a:t>
            </a:r>
            <a:br>
              <a:rPr sz="4400"/>
            </a:b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Testes de aplicações J2E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81280" y="2209320"/>
            <a:ext cx="55627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Cactus é um framework open-source do projeto Jakarta para testar aplicações que utilizam componentes J2E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Componentes Web (Camada de Contro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Camada EJB (Model) e cliente (View): indiretamen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2362320"/>
          <a:ext cx="291780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291780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62120" y="4343400"/>
            <a:ext cx="8153280" cy="19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Humanist521BT-Italic"/>
              </a:rPr>
              <a:t>Cactus estende o JU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Italic"/>
              </a:rPr>
              <a:t>Execução dos testes é realizada de forma idên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Italic"/>
              </a:rPr>
              <a:t>TestCases são construídos herdando de uma 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subclasse</a:t>
            </a:r>
            <a:r>
              <a:rPr b="0" i="1" lang="pt-BR" sz="2000" spc="-1" strike="noStrike">
                <a:solidFill>
                  <a:srgbClr val="ffffff"/>
                </a:solidFill>
                <a:latin typeface="Humanist521BT-Italic"/>
              </a:rPr>
              <a:t> de junit.framework.TestCase (Exemplo: </a:t>
            </a:r>
            <a:r>
              <a:rPr b="0" i="1" lang="pt-BR" sz="2000" spc="-1" strike="noStrike">
                <a:solidFill>
                  <a:srgbClr val="ffffff"/>
                </a:solidFill>
                <a:latin typeface="CourierNewPS-BoldMT"/>
              </a:rPr>
              <a:t>ServletTestCa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B45E-AA7C-4D05-8E77-4E2A975627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Cactus: </a:t>
            </a:r>
            <a:br>
              <a:rPr sz="4400"/>
            </a:b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Testes de aplicações J2E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9581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Cactus testa a integração dos componentes Web com seus contain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Usa o próprio container como servidor e JUnit como clien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Humanist521BT-Ital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Uma cópia  do Test Case é instanciada pelo contai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Humanist521BT-Ital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Outra cópia é instanciada pelo JUni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Humanist521BT-Italic"/>
              </a:rPr>
              <a:t>Comunicação é intermediada por um proxy (ServletRedirector, JSPRedirector ou FilterRedirecto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Humanist521BT-Ital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JUnit envia requisições via HTTP para prox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Humanist521BT-Ital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Proxy devolve resultado via HTTP e JUnit os mostr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334120"/>
            <a:ext cx="1447920" cy="609480"/>
          </a:xfrm>
          <a:prstGeom prst="flowChartAlternateProcess">
            <a:avLst/>
          </a:prstGeom>
          <a:solidFill>
            <a:srgbClr val="f0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62320" y="563868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5410080"/>
            <a:ext cx="1447560" cy="609840"/>
          </a:xfrm>
          <a:prstGeom prst="flowChartAlternateProcess">
            <a:avLst/>
          </a:prstGeom>
          <a:solidFill>
            <a:srgbClr val="4f005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563868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5334120"/>
            <a:ext cx="1447560" cy="685800"/>
          </a:xfrm>
          <a:prstGeom prst="flowChartAlternateProcess">
            <a:avLst/>
          </a:prstGeom>
          <a:solidFill>
            <a:srgbClr val="80b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5410080"/>
            <a:ext cx="1447920" cy="609840"/>
          </a:xfrm>
          <a:prstGeom prst="flowChartAlternateProcess">
            <a:avLst/>
          </a:prstGeom>
          <a:solidFill>
            <a:srgbClr val="f0b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286000" y="57913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343400" y="57913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324480" y="5638680"/>
            <a:ext cx="10670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53341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sse de  Te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080" y="5410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asses do</a:t>
            </a: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rvi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49568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i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0120" y="4495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4800600"/>
            <a:ext cx="6172200" cy="167652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4800600"/>
            <a:ext cx="1676520" cy="167652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52578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sse de Te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5029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(1) beginXXX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5257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5257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5029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(4) setUp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5334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(5) testXXX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60958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(6) tearDown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5867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6019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(9) endXXX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5867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A3A6-F456-4560-8353-653E5B6C89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Testes de interface em servidores Web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Testar o funcionamento da aplicação do ponto de vista do usuár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Verificar se uma página HTML ou XML contém determinado texto ou determinado element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Verificar se resposta está de acordo com dados passados na requisição: testes funcionais do tipo "caixa- preta"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Soluções (extensões do JUnit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Humanist521BT-Bold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ffff"/>
                </a:solidFill>
                <a:latin typeface="Humanist521BT-BoldItalic"/>
              </a:rPr>
              <a:t>HttpUnit </a:t>
            </a: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e </a:t>
            </a:r>
            <a:r>
              <a:rPr b="0" i="1" lang="pt-BR" sz="2200" spc="-1" strike="noStrike">
                <a:solidFill>
                  <a:srgbClr val="ffffff"/>
                </a:solidFill>
                <a:latin typeface="Humanist521BT-BoldItalic"/>
              </a:rPr>
              <a:t>ServletUni</a:t>
            </a: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t: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Humanist521BT-Ital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permitem testar dados de árvore DOM HTML gerad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Humanist521BT-Bold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ffff"/>
                </a:solidFill>
                <a:latin typeface="Humanist521BT-BoldItalic"/>
              </a:rPr>
              <a:t>JXWeb </a:t>
            </a: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(combinação do JXUnit com HttpUnit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Humanist521BT-Ital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permite especificar os dados de teste em arquivos XM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Humanist521BT-Ital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arquivos de teste Java são gerados a partir do XM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Bold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BoldItalic"/>
              </a:rPr>
              <a:t>XMLUnit: 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extensão simples para testar árvores XM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http://(httpunit| jxunit| xmlunit).sourceforge.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B9F-A1ED-40A0-8371-89BE3655B7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bcbcb"/>
                </a:solidFill>
                <a:latin typeface="Humanist521BT-Italic"/>
              </a:rPr>
              <a:t>Concluin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Principais ferramentas comerciais incluem o JUnit: Together, Control Center, Forte, Websphere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Testes proporciona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Planejamen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Refinamento do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Ritmo saudá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Design si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Lançamentos pequen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Vale a pena investir tempo para desenvolver e aperfeiçoar a prática constante de escrever testes automatizad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mais produtividade, maior integração de equip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produtos de melhor qualidade, com prazo previsí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menos stress, mais organizaçã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9DA-BD4D-4E6C-A66B-5E5B32901F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Saiba ma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Bold"/>
              </a:rPr>
              <a:t>[1] Slides de Helder da Rocha: </a:t>
            </a:r>
            <a:r>
              <a:rPr b="0" i="1" lang="pt-BR" sz="2000" spc="-1" strike="noStrike">
                <a:solidFill>
                  <a:srgbClr val="ffffff"/>
                </a:solidFill>
                <a:latin typeface="Humanist521BT-BoldItalic"/>
              </a:rPr>
              <a:t>Implementando eXtreme Programming em Java </a:t>
            </a:r>
            <a:r>
              <a:rPr b="0" i="1" lang="pt-BR" sz="2000" spc="-1" strike="noStrike">
                <a:solidFill>
                  <a:srgbClr val="ffffff"/>
                </a:solidFill>
                <a:latin typeface="Humanist521BT-Bold"/>
              </a:rPr>
              <a:t>(</a:t>
            </a:r>
            <a:r>
              <a:rPr b="0" lang="pt-BR" sz="2000" spc="-1" strike="noStrike" u="sng">
                <a:solidFill>
                  <a:srgbClr val="ff3300"/>
                </a:solidFill>
                <a:uFillTx/>
                <a:latin typeface="Humanist521BT-Bold"/>
                <a:hlinkClick r:id="rId1"/>
              </a:rPr>
              <a:t>http://www.argonavis.com.br</a:t>
            </a:r>
            <a:r>
              <a:rPr b="0" i="1" lang="pt-BR" sz="2000" spc="-1" strike="noStrike">
                <a:solidFill>
                  <a:srgbClr val="ffffff"/>
                </a:solidFill>
                <a:latin typeface="Humanist521BT-Bold"/>
              </a:rPr>
              <a:t>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Bold"/>
              </a:rPr>
              <a:t>[2] Slides do Professor Alfredo Goldman (</a:t>
            </a:r>
            <a:r>
              <a:rPr b="0" lang="pt-BR" sz="2000" spc="-1" strike="noStrike" u="sng">
                <a:solidFill>
                  <a:srgbClr val="ff3300"/>
                </a:solidFill>
                <a:uFillTx/>
                <a:latin typeface="Humanist521BT-Bold"/>
                <a:hlinkClick r:id="rId2"/>
              </a:rPr>
              <a:t>http</a:t>
            </a:r>
            <a:r>
              <a:rPr b="0" lang="pt-BR" sz="2000" spc="-1" strike="noStrike" u="sng">
                <a:solidFill>
                  <a:srgbClr val="ff3300"/>
                </a:solidFill>
                <a:uFillTx/>
                <a:latin typeface="Humanist521BT-Bold"/>
                <a:hlinkClick r:id="rId3"/>
              </a:rPr>
              <a:t>://</a:t>
            </a:r>
            <a:r>
              <a:rPr b="0" lang="pt-BR" sz="2000" spc="-1" strike="noStrike" u="sng">
                <a:solidFill>
                  <a:srgbClr val="ff3300"/>
                </a:solidFill>
                <a:uFillTx/>
                <a:latin typeface="Humanist521BT-Bold"/>
                <a:hlinkClick r:id="rId4"/>
              </a:rPr>
              <a:t>grenoble</a:t>
            </a:r>
            <a:r>
              <a:rPr b="0" lang="pt-BR" sz="2000" spc="-1" strike="noStrike" u="sng">
                <a:solidFill>
                  <a:srgbClr val="ff3300"/>
                </a:solidFill>
                <a:uFillTx/>
                <a:latin typeface="Humanist521BT-Bold"/>
                <a:hlinkClick r:id="rId5"/>
              </a:rPr>
              <a:t>.ime.usp.</a:t>
            </a:r>
            <a:r>
              <a:rPr b="0" lang="pt-BR" sz="2000" spc="-1" strike="noStrike" u="sng">
                <a:solidFill>
                  <a:srgbClr val="ff3300"/>
                </a:solidFill>
                <a:uFillTx/>
                <a:latin typeface="Humanist521BT-Bold"/>
                <a:hlinkClick r:id="rId6"/>
              </a:rPr>
              <a:t>br</a:t>
            </a:r>
            <a:r>
              <a:rPr b="0" lang="pt-BR" sz="2000" spc="-1" strike="noStrike" u="sng">
                <a:solidFill>
                  <a:srgbClr val="ff3300"/>
                </a:solidFill>
                <a:uFillTx/>
                <a:latin typeface="Humanist521BT-Bold"/>
                <a:hlinkClick r:id="rId7"/>
              </a:rPr>
              <a:t>/~</a:t>
            </a:r>
            <a:r>
              <a:rPr b="0" lang="pt-BR" sz="2000" spc="-1" strike="noStrike" u="sng">
                <a:solidFill>
                  <a:srgbClr val="ff3300"/>
                </a:solidFill>
                <a:uFillTx/>
                <a:latin typeface="Humanist521BT-Bold"/>
                <a:hlinkClick r:id="rId8"/>
              </a:rPr>
              <a:t>gold</a:t>
            </a:r>
            <a:r>
              <a:rPr b="0" lang="pt-BR" sz="2000" spc="-1" strike="noStrike" u="sng">
                <a:solidFill>
                  <a:srgbClr val="ff3300"/>
                </a:solidFill>
                <a:uFillTx/>
                <a:latin typeface="Humanist521BT-Bold"/>
                <a:hlinkClick r:id="rId9"/>
              </a:rPr>
              <a:t>/</a:t>
            </a:r>
            <a:r>
              <a:rPr b="0" lang="pt-BR" sz="2000" spc="-1" strike="noStrike" u="sng">
                <a:solidFill>
                  <a:srgbClr val="ff3300"/>
                </a:solidFill>
                <a:uFillTx/>
                <a:latin typeface="Humanist521BT-Bold"/>
                <a:hlinkClick r:id="rId10"/>
              </a:rPr>
              <a:t>temp</a:t>
            </a:r>
            <a:r>
              <a:rPr b="0" lang="pt-BR" sz="2000" spc="-1" strike="noStrike" u="sng">
                <a:solidFill>
                  <a:srgbClr val="ff3300"/>
                </a:solidFill>
                <a:uFillTx/>
                <a:latin typeface="Humanist521BT-Bold"/>
                <a:hlinkClick r:id="rId11"/>
              </a:rPr>
              <a:t>/</a:t>
            </a:r>
            <a:r>
              <a:rPr b="0" lang="pt-BR" sz="2000" spc="-1" strike="noStrike" u="sng">
                <a:solidFill>
                  <a:srgbClr val="ff3300"/>
                </a:solidFill>
                <a:uFillTx/>
                <a:latin typeface="Humanist521BT-Bold"/>
                <a:hlinkClick r:id="rId12"/>
              </a:rPr>
              <a:t>xp</a:t>
            </a:r>
            <a:r>
              <a:rPr b="0" lang="pt-BR" sz="2000" spc="-1" strike="noStrike" u="sng">
                <a:solidFill>
                  <a:srgbClr val="ff3300"/>
                </a:solidFill>
                <a:uFillTx/>
                <a:latin typeface="Humanist521BT-Bold"/>
                <a:hlinkClick r:id="rId13"/>
              </a:rPr>
              <a:t>/</a:t>
            </a:r>
            <a:r>
              <a:rPr b="0" i="1" lang="pt-BR" sz="2000" spc="-1" strike="noStrike">
                <a:solidFill>
                  <a:srgbClr val="ffffff"/>
                </a:solidFill>
                <a:latin typeface="Humanist521BT-Bold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Bold"/>
              </a:rPr>
              <a:t>[3] 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Richard Hightower e Nicholas Lesiecki. Java Tools for eXtreme Programming. Wiley, 2002. </a:t>
            </a:r>
            <a:r>
              <a:rPr b="1" i="1" lang="pt-BR" sz="2000" spc="-1" strike="noStrike">
                <a:solidFill>
                  <a:srgbClr val="ff7c80"/>
                </a:solidFill>
                <a:latin typeface="Humanist521BT-Italic"/>
              </a:rPr>
              <a:t>Explora as ferramentas Ant, JUnit, Cactus, JUnitPerf, JMeter e HttpUnit usando estudo de caso com processo X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Bold"/>
              </a:rPr>
              <a:t>[4] 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Jeffries, Anderson, Hendrickson. eXtreme Programming Installed, Addison-Wesley, 2001. </a:t>
            </a:r>
            <a:r>
              <a:rPr b="1" i="1" lang="pt-BR" sz="2000" spc="-1" strike="noStrike">
                <a:solidFill>
                  <a:srgbClr val="ff7c80"/>
                </a:solidFill>
                <a:latin typeface="Humanist521BT-Italic"/>
              </a:rPr>
              <a:t>Contém exemplos de estratégias para testes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Bold"/>
              </a:rPr>
              <a:t>[5] 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Apache Cactus User's Manual. </a:t>
            </a:r>
            <a:r>
              <a:rPr b="1" i="1" lang="pt-BR" sz="2000" spc="-1" strike="noStrike">
                <a:solidFill>
                  <a:srgbClr val="ff7c80"/>
                </a:solidFill>
                <a:latin typeface="Humanist521BT-Italic"/>
              </a:rPr>
              <a:t>Contém tutorial para instalação passo-a-passo 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Bold"/>
              </a:rPr>
              <a:t>[6] 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Kent Beck, Erich Gamma. JUnit Test Infected: programmers love writing tests. (JUnit docs). </a:t>
            </a:r>
            <a:r>
              <a:rPr b="1" i="1" lang="pt-BR" sz="2000" spc="-1" strike="noStrike">
                <a:solidFill>
                  <a:srgbClr val="ff7c80"/>
                </a:solidFill>
                <a:latin typeface="Humanist521BT-Italic"/>
              </a:rPr>
              <a:t>Aprenda a usar JUnit em uma hor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Bold"/>
              </a:rPr>
              <a:t>[7] 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Andy Schneider. JUnit Best Practices. JavaWorld, Dec. 2000. </a:t>
            </a:r>
            <a:r>
              <a:rPr b="1" i="1" lang="pt-BR" sz="2000" spc="-1" strike="noStrike">
                <a:solidFill>
                  <a:srgbClr val="ff7c80"/>
                </a:solidFill>
                <a:latin typeface="Humanist521BT-Italic"/>
              </a:rPr>
              <a:t>O que não fazer para construir bons tes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1D0-0EB6-4413-ADA0-09A67D0D55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Saiba ma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Bold"/>
              </a:rPr>
              <a:t>[8] 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Robert Koss, Testing Things that are Hard to Test. Object Mentor, 2002 http://www.objectmentor.com/resources/articles/TestingThingsThatAreHa~9740.ppt. </a:t>
            </a:r>
            <a:r>
              <a:rPr b="1" i="1" lang="pt-BR" sz="2000" spc="-1" strike="noStrike">
                <a:solidFill>
                  <a:srgbClr val="ff7c80"/>
                </a:solidFill>
                <a:latin typeface="Humanist521BT-Italic"/>
              </a:rPr>
              <a:t>Mostra estratégias para testar GUIs e código com dependências usando stub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Bold"/>
              </a:rPr>
              <a:t>[9] 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Mackinnon, Freeman, Craig. Endo- testing with Mock Obj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http://mockobjectssourceforge.net/misc/mockobjects. pdf. </a:t>
            </a:r>
            <a:r>
              <a:rPr b="1" i="1" lang="pt-BR" sz="2000" spc="-1" strike="noStrike">
                <a:solidFill>
                  <a:srgbClr val="ff7c80"/>
                </a:solidFill>
                <a:latin typeface="Humanist521BT-Italic"/>
              </a:rPr>
              <a:t>O autor apresenta técnicas para testes usando uma variação da técnica de stubs chamada de "mock objects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Bold"/>
              </a:rPr>
              <a:t>[10] 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William Wake. Test/ Code Cycle in XP. Part 1: Model, Part II: GUI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http://users.vnet.net/wwake/xp/xp0001/. </a:t>
            </a:r>
            <a:r>
              <a:rPr b="1" i="1" lang="pt-BR" sz="2000" spc="-1" strike="noStrike">
                <a:solidFill>
                  <a:srgbClr val="ff7c80"/>
                </a:solidFill>
                <a:latin typeface="Humanist521BT-Italic"/>
              </a:rPr>
              <a:t>Ótimo tutorial em duas partes sobre a metodologia "test-first" mostrando estratégias para testar GUIs na segunda par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Humanist521BT-Bold"/>
              </a:rPr>
              <a:t>[11] 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Steve Freeman, Developing JDBC Applications Test First. 2001. </a:t>
            </a:r>
            <a:r>
              <a:rPr b="1" i="1" lang="pt-BR" sz="2000" spc="-1" strike="noStrike">
                <a:solidFill>
                  <a:srgbClr val="ff7c80"/>
                </a:solidFill>
                <a:latin typeface="Humanist521BT-Italic"/>
              </a:rPr>
              <a:t>Tutorial sobre metodolodia test- first com mock objects para JDB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7D9-825E-432D-BC1B-A0EE36043D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Saiba ma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Humanist521BT-Bold"/>
              </a:rPr>
              <a:t>[12] </a:t>
            </a: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Martin Fowler. Refactoring: improving the design of existing code. Addison-Wesley, 2000. </a:t>
            </a:r>
            <a:r>
              <a:rPr b="1" i="1" lang="pt-BR" sz="2400" spc="-1" strike="noStrike">
                <a:solidFill>
                  <a:srgbClr val="ff7c80"/>
                </a:solidFill>
                <a:latin typeface="Humanist521BT-Italic"/>
              </a:rPr>
              <a:t>Cap 4 (building tests) é um tutorial usando JUn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Humanist521BT-Bold"/>
              </a:rPr>
              <a:t>[13] </a:t>
            </a: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Apache JMeter User's Manual. </a:t>
            </a:r>
            <a:r>
              <a:rPr b="1" i="1" lang="pt-BR" sz="2400" spc="-1" strike="noStrike">
                <a:solidFill>
                  <a:srgbClr val="ff7c80"/>
                </a:solidFill>
                <a:latin typeface="Humanist521BT-Italic"/>
              </a:rPr>
              <a:t>Fonte dos exempl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Humanist521BT-Bold"/>
              </a:rPr>
              <a:t>[14] </a:t>
            </a: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Mike Clark, JUnitPerf Docs. </a:t>
            </a:r>
            <a:r>
              <a:rPr b="1" i="1" lang="pt-BR" sz="2400" spc="-1" strike="noStrike">
                <a:solidFill>
                  <a:srgbClr val="ff7c80"/>
                </a:solidFill>
                <a:latin typeface="Humanist521BT-Italic"/>
              </a:rPr>
              <a:t>Fonte dos exempl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Humanist521BT-Bold"/>
              </a:rPr>
              <a:t>[15] </a:t>
            </a:r>
            <a:r>
              <a:rPr b="1" i="1" lang="pt-BR" sz="2400" spc="-1" strike="noStrike">
                <a:solidFill>
                  <a:srgbClr val="ffffff"/>
                </a:solidFill>
                <a:latin typeface="Humanist521BT-Bold"/>
              </a:rPr>
              <a:t>CppUnit Cookbook (http://sourceforge.net/projects/cppuni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D27-3B42-44D1-B457-BAED70BC71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bcbcb"/>
                </a:solidFill>
                <a:latin typeface="Humanist521BT-Italic"/>
              </a:rPr>
              <a:t>O que são ferramentas para testes automáticos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Humanist521BT-Italic"/>
              </a:rPr>
              <a:t>São programas que avaliam se outro programa funciona como esperado e retornam resposta do tipo "sim" ou "não“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Humanist521BT-Italic"/>
              </a:rPr>
              <a:t>Ex: um main() que cria um objeto de uma classe testada, chama seus métodos e avalia os resultad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Humanist521BT-Italic"/>
              </a:rPr>
              <a:t>Validam os requisitos de um siste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BCA-976E-42B5-A6E9-F553C1100D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JUnit: O que é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Humanist521BT-Italic"/>
              </a:rPr>
              <a:t>JUnit é um “framework” que facilita o desenvolvimento e execução de testes de unidade em código Ja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Uma API para construir os tes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Humanist521BT-Ital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Classes Test, TestCase, TestSuite, etc. oferecem a infraestrutura necessária para criar os tes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Humanist521BT-Ital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Métodos assertTrue( ), assertEquals( ), fail( ), etc. são usados para testar os resultado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Aplicações para executar testes (os TestRunner</a:t>
            </a: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s</a:t>
            </a: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Humanist521BT-Ital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Rodam testes individuais e suites (conjuntos de testes). Versões texto, Swing e AW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7CB-A8D2-40A0-9FF6-BE647B61BE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JUnit: Para que serv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“</a:t>
            </a: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Padrão” para testes de unidade em Jav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Desenvolvido por Kent Beck (o guru do XP) e Erich Gamma (do GoF "Design Patterns"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Facilita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A criação e execução automática de tes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A apresentação dos resultad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JUnit pode verificar se cada método de uma classe funciona da forma esperad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Permite agrupar e rodar vários testes ao mesmo temp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umanist521BT-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Na falha, mostra a causa em cada tes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ff"/>
                </a:solidFill>
                <a:latin typeface="Humanist521BT-Italic"/>
              </a:rPr>
              <a:t>Serve de base para extensõ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604-2DA9-49AB-89AD-F5F81063BF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CppUni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Humanist521BT-Italic"/>
              </a:rPr>
              <a:t>CppUnit é a versão para  C++ do JUnit (mas não é idêntic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Humanist521BT-Italic"/>
              </a:rPr>
              <a:t>http://cppunit.sourceforge.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Humanist521BT-Italic"/>
              </a:rPr>
              <a:t>A saída dos testes pode ser em XML ou em formato de texto para testes automáticos, e com interface visual para testes supervisionad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B40-FF65-478C-845C-9B780FC0DD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Times New Roman"/>
              </a:rPr>
              <a:t>JUnit: </a:t>
            </a: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Como us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Crie uma classe que estenda junit.framework.TestC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2000" spc="-1" strike="noStrike">
                <a:solidFill>
                  <a:srgbClr val="ffffff"/>
                </a:solidFill>
                <a:latin typeface="CourierNewPS-BoldMT"/>
              </a:rPr>
              <a:t>class SuaClasseTest extends junit.framework.TestCase {...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Para cada método xxx( args) a ser testado defina 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método public void testXxx() na classe de tes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SuaClass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20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2000" spc="-1" strike="noStrike">
                <a:solidFill>
                  <a:srgbClr val="ffffff"/>
                </a:solidFill>
                <a:latin typeface="CourierNewPS-BoldMT"/>
              </a:rPr>
              <a:t>public boolean equals( Object o) { ...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SuaClasseTes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20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2000" spc="-1" strike="noStrike">
                <a:solidFill>
                  <a:srgbClr val="ffffff"/>
                </a:solidFill>
                <a:latin typeface="CourierNewPS-BoldMT"/>
              </a:rPr>
              <a:t>public void testEquals() {...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Sobrescreva o método setUp(), se necessário inicialização comum a todos os método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Humanist521BT-Italic"/>
              </a:rPr>
              <a:t>Sobrescreva o método tearDown(), se necessário para liberar recursos como streams, apagar arquivo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C04-50AF-4873-ABBE-53D7A31A82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bcbcb"/>
                </a:solidFill>
                <a:latin typeface="Humanist521BT-Italic"/>
              </a:rPr>
              <a:t>JUnit: Como us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Use testXxx() para testar seu método xxx()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Utilize os métodos de TestC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assertEquals(objetoEsperado, objetoRecebido),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assertTrue(valorBooleano)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assertNotNull(objeto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assertSame(objetoUm, objetoDois)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	</a:t>
            </a: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fail (), .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Humanist521BT-Italic"/>
              </a:rPr>
              <a:t>Exemplo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public class CoisaTest extends TestCase {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// construtor padrão omitido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private Coisa coisa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public void setUp() {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coisa = new Coisa(" Bit");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public void testToString() {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assertEquals("&lt; coisa&gt; Bit&lt;/ coisa&gt;", coisa.toString());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	</a:t>
            </a:r>
            <a:r>
              <a:rPr b="0" i="1" lang="pt-BR" sz="1500" spc="-1" strike="noStrike">
                <a:solidFill>
                  <a:srgbClr val="ffffff"/>
                </a:solidFill>
                <a:latin typeface="CourierNewPS-BoldMT"/>
              </a:rPr>
              <a:t>}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13A-3DDC-4E85-9774-51DAF6249A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4T19:34:53Z</dcterms:created>
  <dc:creator>FABI</dc:creator>
  <dc:description/>
  <dc:language>en-US</dc:language>
  <cp:lastModifiedBy>FABI</cp:lastModifiedBy>
  <dcterms:modified xsi:type="dcterms:W3CDTF">2002-10-28T08:24:07Z</dcterms:modified>
  <cp:revision>162</cp:revision>
  <dc:subject/>
  <dc:title>Automação de Testes de Unidade em Java e C++ </dc:title>
</cp:coreProperties>
</file>