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ad00"/>
                </a:solidFill>
                <a:latin typeface="Arial Narrow"/>
              </a:rPr>
              <a:t>Click to move the slide</a:t>
            </a: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0B1D-E103-4B89-9543-BEF031F50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objetivo desse seminário é apresentar AspectJ: uma ferramenta que possibilita o desenvolvimento de aplicações com base num novo paradigma de programação conhecido como Programação Orientada a Aspec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Aspecto é a unidade básica de encapsulamento na P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es três ingredientes são essenciais em qualquer sistema POA, todos eles possuem esses ingredien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cilidade de desenvolv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ódigo-fonte menos entrelaç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ódigo-fonte mais compac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ódigo-fonte mais na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cilidade de manuten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is fácil para ent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is fácil para depur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is fácil para modifi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cilidade de reutil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ierarquia de asp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iblioteca de asp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pectos “plug and pla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ethods and Constructor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ll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thod or constructor call join points when the signature matches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ecution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thod or constructor execution join points when the signature matches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itialization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ject initialization join point when the first constructor called in the type matches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xception Handler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andler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ception handler execution join points when try handlers for the throwable typ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are executed. The exception object can be accessed with an args pointcu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t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eld reference join points when the field matches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t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Field assignment join points when the field matches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new value can be accessed with an args pointcu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atic Initializer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ticinitialization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tic initializer execution join points for the types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is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when the currently executing object is an instance of a type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arget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Join points when the target object is an instance of a type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rgs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...)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when the argument objects are instances of the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exical Extent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ithin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when the code executing is defined in the types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ithincode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when the code executing is defined in the method or constructor wit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ntrol Flow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flow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in the control flow of the join points specified by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flowbelow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in the control flow below the join points specified by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ndition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BooleanExpress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whe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BooleanExpress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evaluates to tru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mbina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that are not picked out by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amp;&amp;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that are picked out by both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||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that are picked out by eithe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in points that are picked out by the parenthesized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anto mais genérico o designador, maior a quantidade de pontos que ele será capaz de represent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* – representa uma seqüência de zero ou mais caracteres, pode ser usado tanto em tipos quanto em nome de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 – representa uma lista qualquer de argumentos, de número e tipo vari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w – indica que a chamada é de método constr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ntes de falar propriamente de AspectJ, entretanto, precisamos deixar claro porque precisamos dessa nova ferramenta. Assim, vamos apresentar sucintamente a principal limitação de POO, que motivou o surgimento do paradigma de Programação Orientada a Aspectos, a causa dessa limitação e como o novo paradigma proposto resolve esse problema. Em seguida, apresentamos os principais conceitos e recursos da linguagem AspectJ e mostramos como eles podem ser aplicados no desenvolvimento de software. Particularmente, apresentaremos três aplicações simples: rastreamento, sincronização e otimiz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e pointcut representa o conjunto de todos os joinpoints de métodos públicos, de qualquer tipo, cujo nome inicia-se com a palavra set, contendo qualquer lista de arg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te que os pointcuts são definidos de uma forma completamente declarativa, como predicados em Prol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is(m) instancia o parâmetro m (mover) ao objeto que faz a cham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get(s) instancia o parâmetro s (shape) ao objeto que recebe a cham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efore –código é executado imediatamente antes de atingir o joint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fter – código é executado imediatamente depois de atingir o joint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round –  código é executado no lugar do jointpoint, podendo ou não passar o controle a 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fter returning”  permite acessar o valor devolvido pel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fter throwing” só executa quando ocorre uma exceção; nesse caso, o objeto que representa a exceção fica acessí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designador obtém a informação, de acordo com o seu tipo. Essa informação é passada ao pointcut que, por sua vez, a repassa ao advice que a utiliza em seu códi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gt;ajc Hello.java Greetings.java -pre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 variável, visível apenas dentro do corpo de um advice, é instanciada a um objeto que encapsula o contexto do joinpont corr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ifiers Type TypePattern.Id(Formals) { Body }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s a method on the type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ifiers Type TypePattern.Id(Formal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s an abstract method on the type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ifiers 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new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Formals) { Body }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s a a constructor on the type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ifiers Type TypePattern.Id [ = Expression ]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s a field on the type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 decla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 parents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tend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s that the type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tend the types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 parents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mplemen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s that the type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mplement the types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 warning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s that if any of the join point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sibly exis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, the compiler should emit a warning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 error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s that if any of the join point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sibly exis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, the compiler should emit an error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 soft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es that any exception of a type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ypePatt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gets thrown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join point picked out by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ll be wrapp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.aspectj.lang.SoftExceptio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É possível criar uma hierarquia de aspectos; assim como temos hierarquias de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e é um poderoso recurso porque a otimização pode ser ligada, desligada ou mesmo substituída por outra forma de otimização, tudo isso sem obscurecer a intenção ou o propósito do algoritmo orig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quando uma nova tecnologia surge, as pessoas tendem a acreditar que ela será capaz de resolver todos os problemas. Com POO não foi diferente. Um programador OO iniciante  acha que pode resolver todos os problemas apenas com herança e polimorfismo. Entretanto, uma vez que seus conhecimentos sobre OO se aprofundam, algumas necessidades começam a surgir... E novas alternativas devem ser explora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çamos notando que vários tipos de requisitos resistem à decomposição tradicional da POO. Cada decomposição funciona bem para alguns requisitos, mas deixa outros completamente espalhados pela hierarquia de clas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á muitos outros requisitos transversais e eles podem ser classificados de várias formas. Alguns ocorrem apenas durante a fase de desenvolvimento e teste da aplicação (e.g. depuração); outros são infraestruturais por natureza (e.g. persistência, concorrência e sincronização) e outros, ainda, são funcionais (e.g. regras e restrições do negóc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qui podemos ver porque o encapsulamento oferecido pela POO ainda não é o suficiente. A interface para a classe Tracing é bem definida, mas o rastreamento será consistente somente se o programador fizer as chamadas corretas dos métodos entry() e exit(), em cada método a ser rastreado. O rastreamento continua sendo um requisito transversal, apesar do encapsulamento obtido com o uso de uma clas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dundância – muitos fragmentos de código iguais (ou semelhantes) ocorrem em diversos pontos do código-fo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raca coesão – métodos contêm instruções que não estão diretamente relacionadas às funcionalidades que eles implement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te acoplamento – os métodos de classes primárias precisam conhecer métodos das classes que implementam requisitos transvers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ficuldade de compreensão, manutenção e reutilização – como a implementação do requisito transversal depende do código espalhado pela aplicação, sua compreensão, manutenção e reutilização fica prejudic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odularização de requisitos transversais pode ser obtida introduzindo-se uma terceira dimensão. Dessa forma, requisitos transversais, que aparecem espalhados no plano dos objetos, podem ser movidos para um único ponto no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0FB7-D6D6-4CF8-AD55-846DEF460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71629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655880"/>
            <a:ext cx="71629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9438-74ED-451D-8890-748D30700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65588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1800" y="465588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BE68-CBC5-4C64-90D2-75CD14254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2960" y="358092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5040" y="358092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65588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2960" y="465588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5040" y="465588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5AF0-178C-4783-BFA3-412211A8A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35809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65588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35809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D383-7612-4869-B8E6-EDCD87D05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1800" y="465588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655880"/>
            <a:ext cx="71629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71629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655880"/>
            <a:ext cx="71629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65588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1800" y="465588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92960" y="358092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5040" y="358092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65588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92960" y="465588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5040" y="4655880"/>
            <a:ext cx="230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8B86-CFB3-4004-A94C-2F995DD37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C472-6955-46A5-BD07-0C1B198E0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AEE9-74AE-455E-BCEF-7745EF570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E107-0C7B-487B-927E-529A1BBF4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65588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70BC-D77F-4D25-A0F0-DD5948990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1800" y="465588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9222-F859-4D87-ABE0-CB27BE280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1800" y="3580920"/>
            <a:ext cx="3495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655880"/>
            <a:ext cx="71629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AF39-2CC2-4469-9901-9CE8D9254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1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lebul1a" descr=""/>
          <p:cNvPicPr/>
          <p:nvPr/>
        </p:nvPicPr>
        <p:blipFill>
          <a:blip r:embed="rId2"/>
          <a:stretch/>
        </p:blipFill>
        <p:spPr>
          <a:xfrm>
            <a:off x="380880" y="45576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28520" indent="-205560">
              <a:lnSpc>
                <a:spcPct val="140000"/>
              </a:lnSpc>
              <a:spcBef>
                <a:spcPts val="799"/>
              </a:spcBef>
              <a:buClr>
                <a:srgbClr val="d6ad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40000" indent="-2055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51480" indent="-2055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51480" indent="-2055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51480" indent="-20556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223560" y="6324120"/>
            <a:ext cx="6019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vembro/2002                                                                          Silvio do Lago Pere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644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7EF0-B562-48F7-A72B-AFCA30CD079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ad00"/>
                </a:solidFill>
                <a:latin typeface="Arial Narrow"/>
              </a:rPr>
              <a:t>Click to edit the title text format</a:t>
            </a: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  <p:pic>
        <p:nvPicPr>
          <p:cNvPr id="43" name="blebul1a" descr=""/>
          <p:cNvPicPr/>
          <p:nvPr/>
        </p:nvPicPr>
        <p:blipFill>
          <a:blip r:embed="rId2"/>
          <a:stretch/>
        </p:blipFill>
        <p:spPr>
          <a:xfrm>
            <a:off x="324000" y="3067200"/>
            <a:ext cx="572760" cy="49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219480"/>
            <a:ext cx="7848720" cy="228600"/>
          </a:xfrm>
          <a:prstGeom prst="rect">
            <a:avLst/>
          </a:prstGeom>
          <a:gradFill rotWithShape="0">
            <a:gsLst>
              <a:gs pos="0">
                <a:srgbClr val="685e34"/>
              </a:gs>
              <a:gs pos="50000">
                <a:srgbClr val="ffe781"/>
              </a:gs>
              <a:gs pos="100000">
                <a:srgbClr val="685e3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-ime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126972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140000"/>
              </a:lnSpc>
              <a:spcBef>
                <a:spcPts val="601"/>
              </a:spcBef>
              <a:buClr>
                <a:srgbClr val="d6ad00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ba9700"/>
                </a:solidFill>
                <a:latin typeface="Arial Narrow"/>
              </a:rPr>
              <a:t>AspectJ</a:t>
            </a:r>
            <a:endParaRPr b="1" lang="en-US" sz="8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5809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4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 Narrow"/>
              </a:rPr>
              <a:t>Silvio do Lago Pereira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Doutorando em Ciência da Computaçã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lago@ime.usp.b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Princípios básicos da POA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 separação de requisitos transversais é um princípio que deve guiar todas as etapas numa metodologia de desenvolvimento de softwar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 modularização de requisitos transversais        deve ser feita através de uma nova unidade de encapsulamento, denominada </a:t>
            </a: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specto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34C7-7C1D-4089-A517-0D9BFE7F98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Ingredientes essenciais na POA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6400" y="1294920"/>
            <a:ext cx="8343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Classes</a:t>
            </a:r>
            <a:r>
              <a:rPr b="0" lang="pt-BR" sz="3000" spc="-1" strike="noStrike">
                <a:solidFill>
                  <a:srgbClr val="000000"/>
                </a:solidFill>
                <a:latin typeface="Arial Narrow"/>
              </a:rPr>
              <a:t>: encapsulam requisitos funcionais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Aspectos</a:t>
            </a:r>
            <a:r>
              <a:rPr b="0" lang="pt-BR" sz="3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 Narrow"/>
              </a:rPr>
              <a:t>encapsulam requisitos transversais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Weaver</a:t>
            </a:r>
            <a:r>
              <a:rPr b="0" lang="pt-BR" sz="3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 Narrow"/>
              </a:rPr>
              <a:t>entrelaça classes e aspectos num programa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80880" y="3048120"/>
            <a:ext cx="8382240" cy="3124080"/>
            <a:chOff x="380880" y="3048120"/>
            <a:chExt cx="8382240" cy="3124080"/>
          </a:xfrm>
        </p:grpSpPr>
        <p:sp>
          <p:nvSpPr>
            <p:cNvPr id="324" name=""/>
            <p:cNvSpPr/>
            <p:nvPr/>
          </p:nvSpPr>
          <p:spPr>
            <a:xfrm>
              <a:off x="380880" y="3048120"/>
              <a:ext cx="8382240" cy="3124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ba97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52480" y="4944960"/>
              <a:ext cx="1905120" cy="779400"/>
              <a:chOff x="1752480" y="4944960"/>
              <a:chExt cx="1905120" cy="779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52480" y="4944960"/>
                <a:ext cx="1600200" cy="519840"/>
              </a:xfrm>
              <a:prstGeom prst="rect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04760" y="5074920"/>
                <a:ext cx="1600200" cy="519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57400" y="5204880"/>
                <a:ext cx="1600200" cy="519480"/>
              </a:xfrm>
              <a:prstGeom prst="rect">
                <a:avLst/>
              </a:prstGeom>
              <a:solidFill>
                <a:srgbClr val="ff99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aspect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752480" y="3505320"/>
              <a:ext cx="1904760" cy="779400"/>
              <a:chOff x="1752480" y="3505320"/>
              <a:chExt cx="1904760" cy="779400"/>
            </a:xfrm>
          </p:grpSpPr>
          <p:sp>
            <p:nvSpPr>
              <p:cNvPr id="330" name=""/>
              <p:cNvSpPr/>
              <p:nvPr/>
            </p:nvSpPr>
            <p:spPr>
              <a:xfrm>
                <a:off x="1752480" y="3505320"/>
                <a:ext cx="1600200" cy="519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4760" y="3635280"/>
                <a:ext cx="1600200" cy="51948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57040" y="3765240"/>
                <a:ext cx="1600200" cy="519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class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15000" y="4513320"/>
              <a:ext cx="609480" cy="457200"/>
            </a:xfrm>
            <a:prstGeom prst="rightArrow">
              <a:avLst>
                <a:gd name="adj1" fmla="val 47500"/>
                <a:gd name="adj2" fmla="val 29852"/>
              </a:avLst>
            </a:prstGeom>
            <a:solidFill>
              <a:srgbClr val="ffff99"/>
            </a:solidFill>
            <a:ln w="9360">
              <a:solidFill>
                <a:srgbClr val="ba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6477120" y="3675240"/>
              <a:ext cx="1218960" cy="2013840"/>
              <a:chOff x="6477120" y="3675240"/>
              <a:chExt cx="1218960" cy="20138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477120" y="4064760"/>
                <a:ext cx="1218960" cy="1624320"/>
                <a:chOff x="6477120" y="4064760"/>
                <a:chExt cx="1218960" cy="162432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477120" y="4064760"/>
                  <a:ext cx="1218960" cy="1622160"/>
                  <a:chOff x="6477120" y="4064760"/>
                  <a:chExt cx="1218960" cy="16221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477120" y="4129560"/>
                    <a:ext cx="1218960" cy="6480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477120" y="4584600"/>
                    <a:ext cx="1218960" cy="129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477120" y="4324680"/>
                    <a:ext cx="1218960" cy="64800"/>
                  </a:xfrm>
                  <a:prstGeom prst="rect">
                    <a:avLst/>
                  </a:prstGeom>
                  <a:solidFill>
                    <a:srgbClr val="ff99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477120" y="4194720"/>
                    <a:ext cx="1218960" cy="12960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477120" y="4064760"/>
                    <a:ext cx="1218960" cy="64800"/>
                  </a:xfrm>
                  <a:prstGeom prst="rect">
                    <a:avLst/>
                  </a:prstGeom>
                  <a:solidFill>
                    <a:srgbClr val="333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477120" y="4389480"/>
                    <a:ext cx="1218960" cy="1296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477120" y="4519440"/>
                    <a:ext cx="1218960" cy="64800"/>
                  </a:xfrm>
                  <a:prstGeom prst="rect">
                    <a:avLst/>
                  </a:prstGeom>
                  <a:solidFill>
                    <a:srgbClr val="333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V="1">
                    <a:off x="6477120" y="4714200"/>
                    <a:ext cx="1218960" cy="63360"/>
                  </a:xfrm>
                  <a:prstGeom prst="rect">
                    <a:avLst/>
                  </a:prstGeom>
                  <a:solidFill>
                    <a:srgbClr val="a50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477120" y="4780440"/>
                    <a:ext cx="1218960" cy="633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77120" y="4650840"/>
                    <a:ext cx="1218960" cy="63360"/>
                  </a:xfrm>
                  <a:prstGeom prst="rect">
                    <a:avLst/>
                  </a:prstGeom>
                  <a:solidFill>
                    <a:srgbClr val="333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477120" y="4843440"/>
                    <a:ext cx="1218960" cy="6372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477120" y="4909320"/>
                    <a:ext cx="1218960" cy="63360"/>
                  </a:xfrm>
                  <a:prstGeom prst="rect">
                    <a:avLst/>
                  </a:prstGeom>
                  <a:solidFill>
                    <a:srgbClr val="333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6477120" y="4974120"/>
                    <a:ext cx="1218960" cy="712800"/>
                    <a:chOff x="6477120" y="4974120"/>
                    <a:chExt cx="1218960" cy="71280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V="1">
                      <a:off x="6477120" y="5623560"/>
                      <a:ext cx="1218960" cy="6336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560" bIns="1656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V="1">
                      <a:off x="6477120" y="4974120"/>
                      <a:ext cx="1218960" cy="63360"/>
                    </a:xfrm>
                    <a:prstGeom prst="rect">
                      <a:avLst/>
                    </a:prstGeom>
                    <a:solidFill>
                      <a:srgbClr val="ff998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560" bIns="1656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6477120" y="5038560"/>
                      <a:ext cx="1218960" cy="584640"/>
                      <a:chOff x="6477120" y="5038560"/>
                      <a:chExt cx="1218960" cy="584640"/>
                    </a:xfrm>
                  </p:grpSpPr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6477120" y="5428800"/>
                        <a:ext cx="1218960" cy="48600"/>
                      </a:xfrm>
                      <a:prstGeom prst="rect">
                        <a:avLst/>
                      </a:prstGeom>
                      <a:solidFill>
                        <a:srgbClr val="a5002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6477120" y="5038560"/>
                        <a:ext cx="1218960" cy="9720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6477120" y="5282640"/>
                        <a:ext cx="1218960" cy="48600"/>
                      </a:xfrm>
                      <a:prstGeom prst="rect">
                        <a:avLst/>
                      </a:prstGeom>
                      <a:solidFill>
                        <a:srgbClr val="ff998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6477120" y="5330880"/>
                        <a:ext cx="1218960" cy="97200"/>
                      </a:xfrm>
                      <a:prstGeom prst="rect">
                        <a:avLst/>
                      </a:pr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6477120" y="5477400"/>
                        <a:ext cx="1218960" cy="145800"/>
                      </a:xfrm>
                      <a:prstGeom prst="rect">
                        <a:avLst/>
                      </a:prstGeom>
                      <a:solidFill>
                        <a:srgbClr val="3333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6477120" y="5184720"/>
                        <a:ext cx="1218960" cy="97200"/>
                      </a:xfrm>
                      <a:prstGeom prst="rect">
                        <a:avLst/>
                      </a:pr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6477120" y="5136480"/>
                        <a:ext cx="1218960" cy="48600"/>
                      </a:xfrm>
                      <a:prstGeom prst="rect">
                        <a:avLst/>
                      </a:prstGeom>
                      <a:solidFill>
                        <a:srgbClr val="3333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60" name=""/>
                <p:cNvSpPr/>
                <p:nvPr/>
              </p:nvSpPr>
              <p:spPr>
                <a:xfrm>
                  <a:off x="6477120" y="4064760"/>
                  <a:ext cx="1218960" cy="1624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6477120" y="3675240"/>
                <a:ext cx="1218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progra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114800" y="4361040"/>
              <a:ext cx="14479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wea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9880" y="5199120"/>
              <a:ext cx="762120" cy="533520"/>
            </a:xfrm>
            <a:custGeom>
              <a:avLst/>
              <a:gdLst>
                <a:gd name="textAreaLeft" fmla="*/ 254160 w 762120"/>
                <a:gd name="textAreaRight" fmla="*/ 612360 w 762120"/>
                <a:gd name="textAreaTop" fmla="*/ 282960 h 533520"/>
                <a:gd name="textAreaBottom" fmla="*/ 4287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700"/>
                  </a:moveTo>
                  <a:lnTo>
                    <a:pt x="11450" y="15700"/>
                  </a:lnTo>
                  <a:lnTo>
                    <a:pt x="11450" y="7200"/>
                  </a:lnTo>
                  <a:lnTo>
                    <a:pt x="7200" y="7200"/>
                  </a:lnTo>
                  <a:lnTo>
                    <a:pt x="14400" y="0"/>
                  </a:lnTo>
                  <a:lnTo>
                    <a:pt x="21600" y="7200"/>
                  </a:lnTo>
                  <a:lnTo>
                    <a:pt x="17350" y="7200"/>
                  </a:lnTo>
                  <a:lnTo>
                    <a:pt x="173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ba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809880" y="3751200"/>
              <a:ext cx="762120" cy="533520"/>
            </a:xfrm>
            <a:custGeom>
              <a:avLst/>
              <a:gdLst>
                <a:gd name="textAreaLeft" fmla="*/ 254160 w 762120"/>
                <a:gd name="textAreaRight" fmla="*/ 612360 w 762120"/>
                <a:gd name="textAreaTop" fmla="*/ 283320 h 533520"/>
                <a:gd name="textAreaBottom" fmla="*/ 4291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700"/>
                  </a:moveTo>
                  <a:lnTo>
                    <a:pt x="11450" y="15700"/>
                  </a:lnTo>
                  <a:lnTo>
                    <a:pt x="11450" y="7200"/>
                  </a:lnTo>
                  <a:lnTo>
                    <a:pt x="7200" y="7200"/>
                  </a:lnTo>
                  <a:lnTo>
                    <a:pt x="14400" y="0"/>
                  </a:lnTo>
                  <a:lnTo>
                    <a:pt x="21600" y="7200"/>
                  </a:lnTo>
                  <a:lnTo>
                    <a:pt x="17350" y="7200"/>
                  </a:lnTo>
                  <a:lnTo>
                    <a:pt x="173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ba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1AA5-85C7-4E44-AC68-1CC05472ED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Benefício esperado da POA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Boa modularidade, mesmo quando temos requisitos transversai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cilidade de desenvolvime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cilidade de manuten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cilidade de reutiliza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0BF0-28C9-4299-A89E-5DF0FD81A7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d6ad00"/>
                </a:solidFill>
                <a:latin typeface="Arial Narrow"/>
              </a:rPr>
              <a:t>AspectJ</a:t>
            </a:r>
            <a:endParaRPr b="1" lang="en-US" sz="4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O que é AspectJ 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spectos versus clas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Joinpoints e pointc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dvices e Introduc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usabilida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O que é AspectJ ?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É uma extensão de Java, orientada a aspect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É um weaver que implementa POA em Jav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É um preprocessado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ácil de aprender e utiliza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isponível gratuitament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7BA3-3241-44B8-9226-3710021E21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Aspectos versus classe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spectos são similares a clas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têm um tipo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dem ser estendidos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dem ser abstratos ou concretos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dem conter campos, métodos e tipos como membr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9594-AB9E-4FF7-95A6-EB687988F8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Aspectos versus classe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43080" y="1294920"/>
            <a:ext cx="8496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spectos são diferentes de clas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não têm construtor, nem destrutor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não podem ser criados com o operador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dem conter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pointcuts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advices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como membros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dem acessar membros de outros tip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13C8-E859-4305-BD9A-6592BA4469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Joinpoin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43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ão pontos na execução de um programa, onde aspectos podem interceptar classes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819520"/>
            <a:ext cx="8153280" cy="2514600"/>
          </a:xfrm>
          <a:prstGeom prst="rect">
            <a:avLst/>
          </a:prstGeom>
          <a:solidFill>
            <a:srgbClr val="ccecff"/>
          </a:solidFill>
          <a:ln w="28440">
            <a:solidFill>
              <a:srgbClr val="66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91960" y="4299120"/>
            <a:ext cx="1087560" cy="23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642560" y="4425840"/>
            <a:ext cx="1086120" cy="2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482360" y="4578480"/>
            <a:ext cx="1087560" cy="23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889440" y="2963880"/>
            <a:ext cx="2325600" cy="20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54640" y="2963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7880" y="3076560"/>
            <a:ext cx="2173320" cy="15318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73440" y="2981160"/>
            <a:ext cx="2263680" cy="162720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ff66ff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014000" y="3486240"/>
            <a:ext cx="1104840" cy="418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3300"/>
                </a:solidFill>
                <a:latin typeface="Arial Narrow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32280" y="4502160"/>
            <a:ext cx="1746000" cy="16200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rot="5677800">
            <a:off x="4959360" y="4532760"/>
            <a:ext cx="85680" cy="239760"/>
          </a:xfrm>
          <a:prstGeom prst="ellipse">
            <a:avLst/>
          </a:prstGeom>
          <a:solidFill>
            <a:srgbClr val="fb3535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658160" y="4184640"/>
            <a:ext cx="1282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execu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de mé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498760" y="3225600"/>
            <a:ext cx="399960" cy="18252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rot="1783200">
            <a:off x="2977920" y="3030120"/>
            <a:ext cx="96840" cy="213840"/>
          </a:xfrm>
          <a:prstGeom prst="ellipse">
            <a:avLst/>
          </a:prstGeom>
          <a:solidFill>
            <a:srgbClr val="fb3535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176480" y="3178080"/>
            <a:ext cx="1279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hamada  de mé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rot="5677800">
            <a:off x="5460840" y="3673800"/>
            <a:ext cx="77760" cy="236160"/>
          </a:xfrm>
          <a:prstGeom prst="ellipse">
            <a:avLst/>
          </a:prstGeom>
          <a:solidFill>
            <a:srgbClr val="fb3535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05520" y="3825360"/>
            <a:ext cx="357120" cy="74628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181480" y="3897360"/>
            <a:ext cx="362160" cy="75096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77040" y="375300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57840" y="385596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628680" y="3048120"/>
            <a:ext cx="1616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acess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a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73600" y="3538440"/>
            <a:ext cx="858960" cy="223920"/>
          </a:xfrm>
          <a:prstGeom prst="line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142960" y="3321000"/>
            <a:ext cx="796680" cy="80676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3300"/>
                </a:solidFill>
                <a:latin typeface="Arial Narrow"/>
              </a:rPr>
              <a:t>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E616-F11B-4817-A5B3-6B9450ED7C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Joinpoin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44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Joinpoints são identificados por designador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ignatur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ignatur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itialization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ignatur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andler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TypePatter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ignatur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ignatur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TypePatter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arget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TypePatter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gs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TypePattern, ...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ithin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TypePatter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flow(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PointCu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4AA3-29A9-4185-8F2F-0353588E6A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Joinpoin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esignadores podem ser genérico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all(* set*(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all(public Person.*(..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all(void foo(..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all(* *(..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all(*.new(int, int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C6F8-11DB-40AE-8B66-21518A4863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Sumári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gramação Orientada a Objetos (POO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gramação Orientada a Aspectos (POA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spectJ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B9CD-DDA7-4CD9-B51B-50463E233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Pointcu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edicados que definem conjuntos de joinpoints.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2590920"/>
            <a:ext cx="7848360" cy="94716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pointcut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traced(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cal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public * set*(..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44A2-9962-4FB5-8C72-6C9E4642F7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Pointcu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ointcuts podem ser definidos como expressões booleanas, empregando-se !, &amp;&amp; e ||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2763720"/>
            <a:ext cx="7772400" cy="222696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pointcut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move():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cal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Point.setX(..)) ||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cal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Point.setY(..)) ||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cal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Line.setP1(..)) ||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cal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Line.setP2(..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700D-6FB7-475B-925E-6BC29B5109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42720" y="1295280"/>
            <a:ext cx="834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ointcuts também podem ter argument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Pointcu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762120" y="2590920"/>
            <a:ext cx="7848360" cy="265356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pointcut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move(Object m, Shape s):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this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m) &amp;&amp;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target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s) &amp;&amp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(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cal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Point.setX(..)) ||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cal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Point.setY(..)) ||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cal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Line.setP1(..)) ||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800" spc="-1" strike="noStrike">
                <a:solidFill>
                  <a:srgbClr val="fb3535"/>
                </a:solidFill>
                <a:latin typeface="Courier New"/>
              </a:rPr>
              <a:t>cal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Line.setP2(..)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68A6-C9AA-41FF-AFC6-DB0223F5F7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ão trechos de código associados a pointcuts, que injetam um novo comportamento em todos os joinpoints representados pelo pointcu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ipo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rou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Advice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581280" y="3276720"/>
            <a:ext cx="4953240" cy="2743200"/>
            <a:chOff x="3581280" y="3276720"/>
            <a:chExt cx="4953240" cy="2743200"/>
          </a:xfrm>
        </p:grpSpPr>
        <p:sp>
          <p:nvSpPr>
            <p:cNvPr id="416" name=""/>
            <p:cNvSpPr/>
            <p:nvPr/>
          </p:nvSpPr>
          <p:spPr>
            <a:xfrm>
              <a:off x="3581280" y="3276720"/>
              <a:ext cx="4953240" cy="27432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169040" y="5146560"/>
              <a:ext cx="852480" cy="20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051680" y="5261040"/>
              <a:ext cx="851040" cy="20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926400" y="5396040"/>
              <a:ext cx="852480" cy="20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476400" y="3948120"/>
              <a:ext cx="1825560" cy="187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67360" y="4159080"/>
              <a:ext cx="120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cham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71960" y="4495680"/>
              <a:ext cx="2038320" cy="990720"/>
            </a:xfrm>
            <a:custGeom>
              <a:avLst/>
              <a:gdLst/>
              <a:ahLst/>
              <a:rect l="l" t="t" r="r" b="b"/>
              <a:pathLst>
                <a:path w="1284" h="624">
                  <a:moveTo>
                    <a:pt x="0" y="0"/>
                  </a:moveTo>
                  <a:lnTo>
                    <a:pt x="408" y="408"/>
                  </a:lnTo>
                  <a:lnTo>
                    <a:pt x="696" y="612"/>
                  </a:lnTo>
                  <a:lnTo>
                    <a:pt x="972" y="624"/>
                  </a:lnTo>
                  <a:lnTo>
                    <a:pt x="1284" y="48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4120" y="3772080"/>
              <a:ext cx="1828800" cy="1390320"/>
            </a:xfrm>
            <a:custGeom>
              <a:avLst/>
              <a:gdLst/>
              <a:ahLst/>
              <a:rect l="l" t="t" r="r" b="b"/>
              <a:pathLst>
                <a:path w="1152" h="876">
                  <a:moveTo>
                    <a:pt x="0" y="156"/>
                  </a:moveTo>
                  <a:lnTo>
                    <a:pt x="252" y="24"/>
                  </a:lnTo>
                  <a:lnTo>
                    <a:pt x="564" y="0"/>
                  </a:lnTo>
                  <a:lnTo>
                    <a:pt x="720" y="84"/>
                  </a:lnTo>
                  <a:lnTo>
                    <a:pt x="912" y="372"/>
                  </a:lnTo>
                  <a:cubicBezTo>
                    <a:pt x="984" y="504"/>
                    <a:pt x="1102" y="771"/>
                    <a:pt x="1152" y="876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77120" y="3948120"/>
              <a:ext cx="1806480" cy="52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cham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9040" y="4952880"/>
              <a:ext cx="91224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f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d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22200" y="3581280"/>
              <a:ext cx="91224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d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3289-3A1E-4B31-81B5-E72B4DEF59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Advice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Formas básic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efore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: pointcut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fter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: pointcut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fter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returning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[formal]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: pointcut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fter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throwing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[formal]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: pointcut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around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ara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[throws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ypelis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] : pointcut(param) {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4B1D-8328-4ABD-86A0-797E1AF8CA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57200" y="1752480"/>
            <a:ext cx="6324480" cy="376740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intcut get(int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s(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&amp;&amp; call(*get*(..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fore(int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: get(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286000" y="2286000"/>
            <a:ext cx="1371600" cy="287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2286000"/>
            <a:ext cx="1703520" cy="1523880"/>
          </a:xfrm>
          <a:custGeom>
            <a:avLst/>
            <a:gdLst/>
            <a:ahLst/>
            <a:rect l="l" t="t" r="r" b="b"/>
            <a:pathLst>
              <a:path w="1073" h="960">
                <a:moveTo>
                  <a:pt x="0" y="0"/>
                </a:moveTo>
                <a:lnTo>
                  <a:pt x="1073" y="164"/>
                </a:lnTo>
                <a:lnTo>
                  <a:pt x="672" y="960"/>
                </a:lnTo>
              </a:path>
            </a:pathLst>
          </a:custGeom>
          <a:noFill/>
          <a:ln cap="rnd" w="38160">
            <a:solidFill>
              <a:srgbClr val="cc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71800" y="3429000"/>
            <a:ext cx="2048040" cy="336600"/>
          </a:xfrm>
          <a:custGeom>
            <a:avLst/>
            <a:gdLst/>
            <a:ahLst/>
            <a:rect l="l" t="t" r="r" b="b"/>
            <a:pathLst>
              <a:path w="1290" h="212">
                <a:moveTo>
                  <a:pt x="1290" y="212"/>
                </a:moveTo>
                <a:lnTo>
                  <a:pt x="680" y="0"/>
                </a:lnTo>
                <a:lnTo>
                  <a:pt x="0" y="21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4114800"/>
            <a:ext cx="2227320" cy="326880"/>
          </a:xfrm>
          <a:custGeom>
            <a:avLst/>
            <a:gdLst/>
            <a:ahLst/>
            <a:rect l="l" t="t" r="r" b="b"/>
            <a:pathLst>
              <a:path w="1403" h="206">
                <a:moveTo>
                  <a:pt x="0" y="0"/>
                </a:moveTo>
                <a:lnTo>
                  <a:pt x="443" y="161"/>
                </a:lnTo>
                <a:lnTo>
                  <a:pt x="895" y="93"/>
                </a:lnTo>
                <a:lnTo>
                  <a:pt x="1403" y="206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Fluxo de informaçã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"/>
          <p:cNvSpPr/>
          <p:nvPr/>
        </p:nvSpPr>
        <p:spPr>
          <a:xfrm>
            <a:off x="7467480" y="1752480"/>
            <a:ext cx="1143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design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67480" y="2895480"/>
            <a:ext cx="1143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5105520"/>
            <a:ext cx="1143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cód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42400" y="2286000"/>
            <a:ext cx="0" cy="6094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42400" y="3429000"/>
            <a:ext cx="0" cy="6094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42400" y="4495680"/>
            <a:ext cx="0" cy="60984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2EE9-8D1A-42D9-A3FB-1D1B6F8AF3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Exemplo: Hello world!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"/>
          <p:cNvSpPr/>
          <p:nvPr/>
        </p:nvSpPr>
        <p:spPr>
          <a:xfrm>
            <a:off x="478080" y="1676520"/>
            <a:ext cx="6733800" cy="161856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Courier New"/>
              </a:rPr>
              <a:t>public class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Hell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3333ff"/>
                </a:solidFill>
                <a:latin typeface="Courier New"/>
              </a:rPr>
              <a:t>public static void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main(String args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3680" y="3886200"/>
            <a:ext cx="8070840" cy="161856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Courier New"/>
              </a:rPr>
              <a:t>public 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aspect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Greeting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pointcut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pc() : 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call(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* *main(..)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before()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: pc() { System.out.println("Hi."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after()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: pc() { System.out.println("Bye..."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8033-4268-496C-9B86-7359F79602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Exemplo: Hello world!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473040" y="1425600"/>
            <a:ext cx="5667120" cy="254412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&gt;ajc Hello.java Greetings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&gt;java 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Hello wor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By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C7E8-EB48-4148-8FC8-AF78139D15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Exemplo: Hello world!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1392120"/>
            <a:ext cx="8153280" cy="438192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/*   Generated by AspectJ version 1.0.6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Greetings.aspectInstance.before0$ajc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Hello.main$ajcPostCall(arg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Greetings.aspectInstance.after0$ajc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Hello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public static void main$ajcPostCall(String[] args)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0F3E-BAE5-4784-86CD-2F25A464B9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Exemplo: Hello world!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1271520"/>
            <a:ext cx="8153280" cy="496404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/*   Generated by AspectJ version 1.0.6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class Greeting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public final void before0$ajc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System.out.println("Hi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}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public final void after0$ajc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System.out.println("Bye..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ff3300"/>
                </a:solidFill>
                <a:latin typeface="Courier New"/>
              </a:rPr>
              <a:t>}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Greetings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static Greetings aspectInstanc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static Greetings aspectOf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return Greetings.aspectInstanc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static boolean hasAspect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return Greetings.aspectInstance !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tatic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Greetings.aspectInstance = new Greeting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D0D1-649A-46C7-A4CB-47B2EEF9C6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d6ad00"/>
                </a:solidFill>
                <a:latin typeface="Arial Narrow"/>
              </a:rPr>
              <a:t>Programação Orientada a Objetos</a:t>
            </a:r>
            <a:endParaRPr b="1" lang="en-US" sz="4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Limitações da PO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quisitos transversa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astreamento usando PO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oblemas com essa abordag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causa dos problemas da PO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Reflexão: </a:t>
            </a:r>
            <a:r>
              <a:rPr b="1" lang="pt-BR" sz="4000" spc="-1" strike="noStrike">
                <a:solidFill>
                  <a:srgbClr val="000000"/>
                </a:solidFill>
                <a:latin typeface="Courier New"/>
              </a:rPr>
              <a:t>thisJoinPoin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É uma variável especial predefinid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É similar à variável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em Jav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isponibiliza várias informações a respeito do joinpoint que disparou o advic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emplo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JoinPoint.toString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JoinPoint.getArgs(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81EE-507D-4E10-BAF4-63B101E89A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2720" y="1295280"/>
            <a:ext cx="8343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Um forma de introduzir novos membros a classes e interfaces já existent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2590920"/>
            <a:ext cx="7848360" cy="265356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 Foo.bar(int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int Foo.coun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lare parents: Mammal extends Ani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lare parents: MyThread implements MyThreadInterfa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3E17-8807-42BC-B432-91534EEF6A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Reusabilidad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1558800"/>
            <a:ext cx="8229600" cy="366228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abstract aspect Trac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rotected abstract pointcut trace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// advice cod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aspect MyTracing extends Trac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// just define which calls to t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pointcut trace(): call(* set*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17CE-3095-47A0-871F-E993622893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d6ad00"/>
                </a:solidFill>
                <a:latin typeface="Arial Narrow"/>
              </a:rPr>
              <a:t>Exemplos</a:t>
            </a:r>
            <a:endParaRPr b="1" lang="en-US" sz="4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astreamen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incroniza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Otimiza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Rastreament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"/>
          <p:cNvSpPr/>
          <p:nvPr/>
        </p:nvSpPr>
        <p:spPr>
          <a:xfrm>
            <a:off x="423720" y="1312920"/>
            <a:ext cx="7038720" cy="264420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c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ced() 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* Person.*(..)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fore()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traced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ry: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JoinPo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fter()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traced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: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JoinPo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52680" y="4191120"/>
            <a:ext cx="5181840" cy="195840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s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private 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ame =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Name(String nam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name = 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319B-E8B5-4D1D-9252-E354792D9E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Sincronizaçã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1600200"/>
            <a:ext cx="8229600" cy="330552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urier New"/>
              </a:rPr>
              <a:t>aspect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ynchroniza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vate Semaphore s = new Semapho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Courier New"/>
              </a:rPr>
              <a:t>pointcu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dateSem(): </a:t>
            </a:r>
            <a:r>
              <a:rPr b="1" lang="ru-RU" sz="2000" spc="-1" strike="noStrike">
                <a:solidFill>
                  <a:srgbClr val="ff3300"/>
                </a:solidFill>
                <a:latin typeface="Courier New"/>
              </a:rPr>
              <a:t>call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t*(..)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Courier New"/>
              </a:rPr>
              <a:t>before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()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dateSem() { P(s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Courier New"/>
              </a:rPr>
              <a:t>after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</a:rPr>
              <a:t>()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u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dateSem() { V(s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40B6-CFD6-4CDE-B185-B2B7F22F8C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Otimizaçã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1371600"/>
            <a:ext cx="8229600" cy="503244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public 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bonacc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public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n &lt; 2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n + "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(n + ",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b(n-1) + fib(n-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 = fib(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"Fib(10) = " + 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8CFC-971C-45E2-B1A7-058CC9A06F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Otimizaçã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1371600"/>
            <a:ext cx="8229600" cy="4780440"/>
          </a:xfrm>
          <a:prstGeom prst="rect">
            <a:avLst/>
          </a:prstGeom>
          <a:solidFill>
            <a:srgbClr val="dbfdde"/>
          </a:solidFill>
          <a:ln w="381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moization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HashTable cache = new HashTab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bs(int n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int Fibonacci.fib(int)) &amp;&amp; args(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/ calculate only if not already in cach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rou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fibs(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 result = (Integer)cache.get(new Integer(n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result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 = proceed(n);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/ not found, calcula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che.put(new Integer(n), new Integer(f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return result.intValue();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/ found, don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05E2-90EB-433C-ABD0-27C515C5A7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Referência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42720" y="137124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Kendall, E. A. 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Aspect-Oriented Programming in AspectJ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, 2001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Kiczales, G. et all. 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Aspect-Oriented Programming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Kiczales, G. et all. 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An Overview of AspectJ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Voelter, M. 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Aspect-Oriented Programming in Java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, 200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The AspectJ Programming Guide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, Xerox Corporation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6EDF-7CFA-4130-95E7-8B2CEFCA75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d6ad00"/>
                </a:solidFill>
                <a:latin typeface="Arial Narrow"/>
              </a:rPr>
              <a:t>Fim</a:t>
            </a:r>
            <a:endParaRPr b="1" lang="en-US" sz="6000" spc="-1" strike="noStrike">
              <a:solidFill>
                <a:srgbClr val="d6ad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Limitações da PO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OO  é o paradigma de programação da atualidad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ngenharia de Softw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etodologias e ferrament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OO tem algumas limitaçõ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quisitos transversais (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cross-cutting concerns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a97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ncapsulamento de requisitos transversa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7CE0-5901-4DD1-970D-34DB2DB962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Exemplos de requisitos transversai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eguranç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ersistênci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uditoria e depuraç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ratamento de exceçõ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otimização de desempenh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oncorrência  e sincronizaç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regras e restrições do negóci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181480" y="1295280"/>
            <a:ext cx="3429000" cy="2371680"/>
            <a:chOff x="5181480" y="1295280"/>
            <a:chExt cx="3429000" cy="2371680"/>
          </a:xfrm>
        </p:grpSpPr>
        <p:sp>
          <p:nvSpPr>
            <p:cNvPr id="101" name=""/>
            <p:cNvSpPr/>
            <p:nvPr/>
          </p:nvSpPr>
          <p:spPr>
            <a:xfrm>
              <a:off x="5181480" y="1295280"/>
              <a:ext cx="3429000" cy="2371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930360" y="2199960"/>
              <a:ext cx="1563120" cy="807120"/>
            </a:xfrm>
            <a:prstGeom prst="line">
              <a:avLst/>
            </a:prstGeom>
            <a:ln w="12708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955920" y="2314080"/>
              <a:ext cx="1563120" cy="807120"/>
            </a:xfrm>
            <a:prstGeom prst="line">
              <a:avLst/>
            </a:prstGeom>
            <a:ln w="127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905160" y="2111040"/>
              <a:ext cx="1563120" cy="80712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949440" y="1983960"/>
              <a:ext cx="1563120" cy="807120"/>
            </a:xfrm>
            <a:prstGeom prst="line">
              <a:avLst/>
            </a:prstGeom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951240" y="1788840"/>
              <a:ext cx="1563120" cy="807120"/>
            </a:xfrm>
            <a:prstGeom prst="line">
              <a:avLst/>
            </a:prstGeom>
            <a:ln w="127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949440" y="1873080"/>
              <a:ext cx="1563120" cy="807120"/>
            </a:xfrm>
            <a:prstGeom prst="line">
              <a:avLst/>
            </a:prstGeom>
            <a:ln w="12708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75160" y="2860560"/>
              <a:ext cx="1393920" cy="0"/>
            </a:xfrm>
            <a:prstGeom prst="line">
              <a:avLst/>
            </a:prstGeom>
            <a:ln w="444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29520" y="2362320"/>
              <a:ext cx="1100160" cy="838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1320" y="2743200"/>
              <a:ext cx="8082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2920" y="2781360"/>
              <a:ext cx="513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PO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58200" y="1676520"/>
              <a:ext cx="127080" cy="83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E972-DBD1-4FD0-9B72-A820797810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Rastreamento usando PO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3086280" y="1147680"/>
            <a:ext cx="5486400" cy="2425320"/>
          </a:xfrm>
          <a:prstGeom prst="rect">
            <a:avLst/>
          </a:prstGeom>
          <a:solidFill>
            <a:srgbClr val="dbfdde"/>
          </a:solidFill>
          <a:ln w="381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c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public 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ntry(String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ry: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public 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it(String s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: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809880"/>
            <a:ext cx="5562720" cy="2616120"/>
          </a:xfrm>
          <a:prstGeom prst="rect">
            <a:avLst/>
          </a:prstGeom>
          <a:solidFill>
            <a:srgbClr val="dbfdde"/>
          </a:solidFill>
          <a:ln w="381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s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private 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ame =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Name(String nam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Tracing.entry(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setName(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+name+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name = 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Tracing.exit(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setName()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1447920"/>
            <a:ext cx="2362320" cy="1771200"/>
            <a:chOff x="457200" y="1447920"/>
            <a:chExt cx="2362320" cy="1771200"/>
          </a:xfrm>
        </p:grpSpPr>
        <p:sp>
          <p:nvSpPr>
            <p:cNvPr id="117" name=""/>
            <p:cNvSpPr/>
            <p:nvPr/>
          </p:nvSpPr>
          <p:spPr>
            <a:xfrm>
              <a:off x="1441440" y="2826720"/>
              <a:ext cx="402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107720" y="1654560"/>
              <a:ext cx="74628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360" y="1914120"/>
              <a:ext cx="325800" cy="37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3360" y="20073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2612880"/>
              <a:ext cx="326160" cy="3736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270648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09160" y="2612880"/>
              <a:ext cx="324720" cy="3736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9160" y="2706480"/>
              <a:ext cx="3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4680" y="2380320"/>
              <a:ext cx="81000" cy="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9560" y="2472120"/>
              <a:ext cx="0" cy="1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271520" y="2472120"/>
              <a:ext cx="0" cy="1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945720" y="2286360"/>
              <a:ext cx="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560" y="2472480"/>
              <a:ext cx="65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64160" y="1914120"/>
              <a:ext cx="81000" cy="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678680" y="2005920"/>
              <a:ext cx="0" cy="1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331000" y="2005920"/>
              <a:ext cx="0" cy="1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004840" y="1820160"/>
              <a:ext cx="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78680" y="2006280"/>
              <a:ext cx="65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42480" y="1447920"/>
              <a:ext cx="326160" cy="37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42480" y="1541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75640" y="2146320"/>
              <a:ext cx="326160" cy="3740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5640" y="223992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9960" y="2613960"/>
              <a:ext cx="81360" cy="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004840" y="2706120"/>
              <a:ext cx="0" cy="1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657160" y="2706120"/>
              <a:ext cx="0" cy="1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331000" y="2520000"/>
              <a:ext cx="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04840" y="2706480"/>
              <a:ext cx="6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68640" y="2146320"/>
              <a:ext cx="324720" cy="3740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8640" y="2239920"/>
              <a:ext cx="3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42480" y="2846520"/>
              <a:ext cx="326160" cy="37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42480" y="294012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93360" y="2846520"/>
              <a:ext cx="326160" cy="372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93360" y="294012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318360" y="4267080"/>
            <a:ext cx="2292120" cy="1752480"/>
            <a:chOff x="6318360" y="4267080"/>
            <a:chExt cx="2292120" cy="1752480"/>
          </a:xfrm>
        </p:grpSpPr>
        <p:grpSp>
          <p:nvGrpSpPr>
            <p:cNvPr id="151" name=""/>
            <p:cNvGrpSpPr/>
            <p:nvPr/>
          </p:nvGrpSpPr>
          <p:grpSpPr>
            <a:xfrm>
              <a:off x="6318360" y="4267080"/>
              <a:ext cx="2292120" cy="1752480"/>
              <a:chOff x="6318360" y="4267080"/>
              <a:chExt cx="2292120" cy="1752480"/>
            </a:xfrm>
          </p:grpSpPr>
          <p:sp>
            <p:nvSpPr>
              <p:cNvPr id="152" name=""/>
              <p:cNvSpPr/>
              <p:nvPr/>
            </p:nvSpPr>
            <p:spPr>
              <a:xfrm>
                <a:off x="7273440" y="5631480"/>
                <a:ext cx="390240" cy="24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6949800" y="4471560"/>
                <a:ext cx="724320" cy="46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34800" y="4728240"/>
                <a:ext cx="316080" cy="368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4800" y="4820760"/>
                <a:ext cx="31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18360" y="5419800"/>
                <a:ext cx="316440" cy="3697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318360" y="5512320"/>
                <a:ext cx="3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950880" y="5419800"/>
                <a:ext cx="315000" cy="3697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50880" y="5512320"/>
                <a:ext cx="3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52520" y="5189400"/>
                <a:ext cx="78480" cy="91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6475680" y="5280480"/>
                <a:ext cx="0" cy="13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108560" y="5280480"/>
                <a:ext cx="0" cy="13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792120" y="509688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75680" y="5280840"/>
                <a:ext cx="63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780680" y="4728240"/>
                <a:ext cx="78480" cy="91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503840" y="48196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8136360" y="481968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819920" y="463572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03840" y="4819680"/>
                <a:ext cx="63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62240" y="4267080"/>
                <a:ext cx="316440" cy="368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62240" y="4359240"/>
                <a:ext cx="3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06560" y="4958280"/>
                <a:ext cx="316440" cy="3700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06560" y="5050800"/>
                <a:ext cx="3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96760" y="5420880"/>
                <a:ext cx="78840" cy="91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819920" y="5511960"/>
                <a:ext cx="0" cy="13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8452800" y="5511960"/>
                <a:ext cx="0" cy="13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136360" y="532836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19920" y="5512320"/>
                <a:ext cx="6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78680" y="4958280"/>
                <a:ext cx="315000" cy="3700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78680" y="5050800"/>
                <a:ext cx="3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662240" y="5650920"/>
                <a:ext cx="316440" cy="368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62240" y="5743440"/>
                <a:ext cx="3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294040" y="5650920"/>
                <a:ext cx="316440" cy="368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94040" y="5743440"/>
                <a:ext cx="3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381360" y="5562360"/>
              <a:ext cx="118800" cy="121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99240" y="4849920"/>
              <a:ext cx="118800" cy="121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16760" y="5562360"/>
              <a:ext cx="118800" cy="121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34280" y="5109120"/>
              <a:ext cx="118800" cy="121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33400" y="5109120"/>
              <a:ext cx="118800" cy="121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15520" y="4461120"/>
              <a:ext cx="118800" cy="121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15520" y="5821560"/>
              <a:ext cx="118800" cy="121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50920" y="5821560"/>
              <a:ext cx="118800" cy="121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81F4-4ADD-4ED2-90D2-7CDEFFE4FB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Problemas com essa abordagem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343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Redundânci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raca coes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orte acoplament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ificuldade de compreens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ificuldade de manutenç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ba97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ificuldade de reutilizaç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5880" y="1447920"/>
            <a:ext cx="2520720" cy="1904400"/>
            <a:chOff x="6095880" y="1447920"/>
            <a:chExt cx="2520720" cy="1904400"/>
          </a:xfrm>
        </p:grpSpPr>
        <p:grpSp>
          <p:nvGrpSpPr>
            <p:cNvPr id="196" name=""/>
            <p:cNvGrpSpPr/>
            <p:nvPr/>
          </p:nvGrpSpPr>
          <p:grpSpPr>
            <a:xfrm>
              <a:off x="6095880" y="1447920"/>
              <a:ext cx="2520720" cy="1904400"/>
              <a:chOff x="6095880" y="1447920"/>
              <a:chExt cx="2520720" cy="1904400"/>
            </a:xfrm>
          </p:grpSpPr>
          <p:sp>
            <p:nvSpPr>
              <p:cNvPr id="197" name=""/>
              <p:cNvSpPr/>
              <p:nvPr/>
            </p:nvSpPr>
            <p:spPr>
              <a:xfrm>
                <a:off x="7146360" y="2930400"/>
                <a:ext cx="429120" cy="2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789960" y="1670040"/>
                <a:ext cx="79668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43640" y="1949040"/>
                <a:ext cx="347760" cy="4006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43640" y="2049480"/>
                <a:ext cx="34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095880" y="2700360"/>
                <a:ext cx="347760" cy="4017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95880" y="2800800"/>
                <a:ext cx="34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91400" y="2700360"/>
                <a:ext cx="346320" cy="4017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91400" y="2800800"/>
                <a:ext cx="34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73600" y="2450160"/>
                <a:ext cx="86400" cy="9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269040" y="2549160"/>
                <a:ext cx="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964920" y="2549160"/>
                <a:ext cx="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617160" y="2349360"/>
                <a:ext cx="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69040" y="2549520"/>
                <a:ext cx="69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04360" y="1949040"/>
                <a:ext cx="86400" cy="9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399440" y="2048400"/>
                <a:ext cx="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8095320" y="2048400"/>
                <a:ext cx="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747560" y="1848240"/>
                <a:ext cx="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99440" y="2048400"/>
                <a:ext cx="69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74040" y="1447920"/>
                <a:ext cx="347760" cy="4006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74040" y="1548360"/>
                <a:ext cx="34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82720" y="2198880"/>
                <a:ext cx="347760" cy="4021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82720" y="2299680"/>
                <a:ext cx="34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52120" y="2701800"/>
                <a:ext cx="86760" cy="99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747560" y="2800440"/>
                <a:ext cx="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8443440" y="2800440"/>
                <a:ext cx="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8095320" y="2600640"/>
                <a:ext cx="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47560" y="2800800"/>
                <a:ext cx="6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922160" y="2198880"/>
                <a:ext cx="346320" cy="4021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922160" y="2299680"/>
                <a:ext cx="34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74040" y="2951640"/>
                <a:ext cx="347760" cy="4006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74040" y="3052440"/>
                <a:ext cx="34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68840" y="2951640"/>
                <a:ext cx="347760" cy="4006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268840" y="3052440"/>
                <a:ext cx="34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165360" y="2855520"/>
              <a:ext cx="13104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14920" y="2081160"/>
              <a:ext cx="13104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64120" y="2855520"/>
              <a:ext cx="13104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13320" y="2363040"/>
              <a:ext cx="13104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82280" y="2363040"/>
              <a:ext cx="13104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32720" y="1658880"/>
              <a:ext cx="13104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32720" y="3137040"/>
              <a:ext cx="13104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31480" y="3137040"/>
              <a:ext cx="13104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EF5E-CC1D-4159-A076-61FE4D8B8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19000" y="455760"/>
            <a:ext cx="7847280" cy="573120"/>
          </a:xfrm>
          <a:prstGeom prst="rect">
            <a:avLst/>
          </a:prstGeom>
          <a:gradFill rotWithShape="0">
            <a:gsLst>
              <a:gs pos="0">
                <a:srgbClr val="b1a059"/>
              </a:gs>
              <a:gs pos="50000">
                <a:srgbClr val="ffe781"/>
              </a:gs>
              <a:gs pos="100000">
                <a:srgbClr val="b1a059"/>
              </a:gs>
            </a:gsLst>
            <a:lin ang="5400000"/>
          </a:gradFill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A causa dos problemas da PO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800600" y="1726200"/>
            <a:ext cx="3657600" cy="891000"/>
          </a:xfrm>
          <a:prstGeom prst="wedgeRoundRectCallout">
            <a:avLst>
              <a:gd name="adj1" fmla="val 58805"/>
              <a:gd name="adj2" fmla="val 43777"/>
              <a:gd name="adj3" fmla="val 16667"/>
            </a:avLst>
          </a:prstGeom>
          <a:solidFill>
            <a:srgbClr val="fafeda"/>
          </a:solidFill>
          <a:ln w="19080">
            <a:solidFill>
              <a:srgbClr val="ba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a5600"/>
                </a:solidFill>
                <a:latin typeface="Arial Narrow"/>
              </a:rPr>
              <a:t>A decomposição primária na POO é feita no pl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429840" y="2081160"/>
            <a:ext cx="3927600" cy="3191040"/>
          </a:xfrm>
          <a:prstGeom prst="cube">
            <a:avLst>
              <a:gd name="adj" fmla="val 3475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06400" y="2189160"/>
            <a:ext cx="2386080" cy="1835280"/>
            <a:chOff x="1706400" y="2189160"/>
            <a:chExt cx="2386080" cy="1835280"/>
          </a:xfrm>
        </p:grpSpPr>
        <p:sp>
          <p:nvSpPr>
            <p:cNvPr id="242" name=""/>
            <p:cNvSpPr/>
            <p:nvPr/>
          </p:nvSpPr>
          <p:spPr>
            <a:xfrm>
              <a:off x="2700000" y="3618000"/>
              <a:ext cx="406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63040" y="2403360"/>
              <a:ext cx="75420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35080" y="2671920"/>
              <a:ext cx="330120" cy="385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35080" y="276876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3395520"/>
              <a:ext cx="328680" cy="387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06400" y="349236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5200" y="3395520"/>
              <a:ext cx="328680" cy="387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5200" y="349236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58920" y="3156120"/>
              <a:ext cx="82440" cy="9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869840" y="32508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528640" y="32508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199960" y="305748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69840" y="3251160"/>
              <a:ext cx="65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8840" y="2671920"/>
              <a:ext cx="82440" cy="9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939760" y="27669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598560" y="27669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269880" y="2574720"/>
              <a:ext cx="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39760" y="2766960"/>
              <a:ext cx="65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05000" y="2189160"/>
              <a:ext cx="330120" cy="385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05000" y="2286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34920" y="2913120"/>
              <a:ext cx="330480" cy="387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34920" y="300996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57520" y="3397320"/>
              <a:ext cx="82440" cy="9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269880" y="34923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928680" y="34923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598560" y="3300120"/>
              <a:ext cx="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69880" y="3492360"/>
              <a:ext cx="65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5120" y="2913120"/>
              <a:ext cx="328680" cy="387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35120" y="300996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05000" y="3638520"/>
              <a:ext cx="330120" cy="385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5000" y="373536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63800" y="3638520"/>
              <a:ext cx="328680" cy="385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63800" y="373536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73000" y="3544920"/>
              <a:ext cx="1238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03120" y="2798640"/>
              <a:ext cx="123840" cy="128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33240" y="3544920"/>
              <a:ext cx="1238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63720" y="307008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92360" y="3070080"/>
              <a:ext cx="1238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60440" y="2392200"/>
              <a:ext cx="1238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60440" y="3816360"/>
              <a:ext cx="1238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22480" y="3816360"/>
              <a:ext cx="1238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67840" y="1917720"/>
            <a:ext cx="4367520" cy="3529080"/>
            <a:chOff x="267840" y="1917720"/>
            <a:chExt cx="4367520" cy="3529080"/>
          </a:xfrm>
        </p:grpSpPr>
        <p:sp>
          <p:nvSpPr>
            <p:cNvPr id="284" name=""/>
            <p:cNvSpPr/>
            <p:nvPr/>
          </p:nvSpPr>
          <p:spPr>
            <a:xfrm>
              <a:off x="1371240" y="4038480"/>
              <a:ext cx="2971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23880" y="2133720"/>
              <a:ext cx="75960" cy="22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6840" y="4038480"/>
              <a:ext cx="121932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67840" y="4145040"/>
              <a:ext cx="1314360" cy="1301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71400" y="1917720"/>
              <a:ext cx="0" cy="2238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71400" y="4156200"/>
              <a:ext cx="3063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H="1">
            <a:off x="4571280" y="2900160"/>
            <a:ext cx="4343400" cy="1286280"/>
          </a:xfrm>
          <a:prstGeom prst="wedgeRoundRectCallout">
            <a:avLst>
              <a:gd name="adj1" fmla="val 59421"/>
              <a:gd name="adj2" fmla="val 20421"/>
              <a:gd name="adj3" fmla="val 16667"/>
            </a:avLst>
          </a:prstGeom>
          <a:solidFill>
            <a:srgbClr val="fafeda"/>
          </a:solidFill>
          <a:ln w="19080">
            <a:solidFill>
              <a:srgbClr val="ba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a5600"/>
                </a:solidFill>
                <a:latin typeface="Arial Narrow"/>
              </a:rPr>
              <a:t>O requisito transversal fica espalhado  pelas classes porque é tratado na dimensão erra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765440" y="3568680"/>
            <a:ext cx="368280" cy="1003320"/>
            <a:chOff x="1765440" y="3568680"/>
            <a:chExt cx="368280" cy="1003320"/>
          </a:xfrm>
        </p:grpSpPr>
        <p:sp>
          <p:nvSpPr>
            <p:cNvPr id="292" name=""/>
            <p:cNvSpPr/>
            <p:nvPr/>
          </p:nvSpPr>
          <p:spPr>
            <a:xfrm>
              <a:off x="1765440" y="3568680"/>
              <a:ext cx="146160" cy="14616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66960" y="3632040"/>
              <a:ext cx="266760" cy="939960"/>
            </a:xfrm>
            <a:prstGeom prst="line">
              <a:avLst/>
            </a:prstGeom>
            <a:ln w="19080">
              <a:solidFill>
                <a:srgbClr val="fb3535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114640" y="2819520"/>
            <a:ext cx="171360" cy="1752480"/>
            <a:chOff x="2114640" y="2819520"/>
            <a:chExt cx="171360" cy="1752480"/>
          </a:xfrm>
        </p:grpSpPr>
        <p:sp>
          <p:nvSpPr>
            <p:cNvPr id="295" name=""/>
            <p:cNvSpPr/>
            <p:nvPr/>
          </p:nvSpPr>
          <p:spPr>
            <a:xfrm>
              <a:off x="2114640" y="2819520"/>
              <a:ext cx="146160" cy="14580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10040" y="2895480"/>
              <a:ext cx="75960" cy="1676520"/>
            </a:xfrm>
            <a:prstGeom prst="line">
              <a:avLst/>
            </a:prstGeom>
            <a:ln w="19080">
              <a:solidFill>
                <a:srgbClr val="fb3535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438280" y="3556080"/>
            <a:ext cx="145800" cy="1015920"/>
            <a:chOff x="2438280" y="3556080"/>
            <a:chExt cx="145800" cy="1015920"/>
          </a:xfrm>
        </p:grpSpPr>
        <p:sp>
          <p:nvSpPr>
            <p:cNvPr id="298" name=""/>
            <p:cNvSpPr/>
            <p:nvPr/>
          </p:nvSpPr>
          <p:spPr>
            <a:xfrm>
              <a:off x="2438280" y="3556080"/>
              <a:ext cx="145800" cy="14580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89040" y="3643200"/>
              <a:ext cx="25200" cy="928800"/>
            </a:xfrm>
            <a:prstGeom prst="line">
              <a:avLst/>
            </a:prstGeom>
            <a:ln w="19080">
              <a:solidFill>
                <a:srgbClr val="fb3535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666520" y="3086280"/>
            <a:ext cx="273240" cy="1485720"/>
            <a:chOff x="2666520" y="3086280"/>
            <a:chExt cx="273240" cy="1485720"/>
          </a:xfrm>
        </p:grpSpPr>
        <p:sp>
          <p:nvSpPr>
            <p:cNvPr id="301" name=""/>
            <p:cNvSpPr/>
            <p:nvPr/>
          </p:nvSpPr>
          <p:spPr>
            <a:xfrm>
              <a:off x="2793600" y="3086280"/>
              <a:ext cx="146160" cy="14580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666520" y="3124080"/>
              <a:ext cx="228600" cy="1447920"/>
            </a:xfrm>
            <a:prstGeom prst="line">
              <a:avLst/>
            </a:prstGeom>
            <a:ln w="19080">
              <a:solidFill>
                <a:srgbClr val="fb3535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819520" y="2374920"/>
            <a:ext cx="501480" cy="2197080"/>
            <a:chOff x="2819520" y="2374920"/>
            <a:chExt cx="501480" cy="2197080"/>
          </a:xfrm>
        </p:grpSpPr>
        <p:sp>
          <p:nvSpPr>
            <p:cNvPr id="304" name=""/>
            <p:cNvSpPr/>
            <p:nvPr/>
          </p:nvSpPr>
          <p:spPr>
            <a:xfrm>
              <a:off x="3175200" y="2374920"/>
              <a:ext cx="145800" cy="14616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19520" y="2438280"/>
              <a:ext cx="419040" cy="2133720"/>
            </a:xfrm>
            <a:prstGeom prst="line">
              <a:avLst/>
            </a:prstGeom>
            <a:ln w="19080">
              <a:solidFill>
                <a:srgbClr val="fb3535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971800" y="3809880"/>
            <a:ext cx="349200" cy="762120"/>
            <a:chOff x="2971800" y="3809880"/>
            <a:chExt cx="349200" cy="762120"/>
          </a:xfrm>
        </p:grpSpPr>
        <p:sp>
          <p:nvSpPr>
            <p:cNvPr id="307" name=""/>
            <p:cNvSpPr/>
            <p:nvPr/>
          </p:nvSpPr>
          <p:spPr>
            <a:xfrm>
              <a:off x="3175200" y="3809880"/>
              <a:ext cx="145800" cy="14616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71800" y="3886200"/>
              <a:ext cx="190800" cy="685800"/>
            </a:xfrm>
            <a:prstGeom prst="line">
              <a:avLst/>
            </a:prstGeom>
            <a:ln w="19080">
              <a:solidFill>
                <a:srgbClr val="fb3535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200040" y="3073320"/>
            <a:ext cx="438480" cy="1498680"/>
            <a:chOff x="3200040" y="3073320"/>
            <a:chExt cx="438480" cy="1498680"/>
          </a:xfrm>
        </p:grpSpPr>
        <p:sp>
          <p:nvSpPr>
            <p:cNvPr id="310" name=""/>
            <p:cNvSpPr/>
            <p:nvPr/>
          </p:nvSpPr>
          <p:spPr>
            <a:xfrm>
              <a:off x="3492720" y="3073320"/>
              <a:ext cx="145800" cy="14616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200040" y="3124080"/>
              <a:ext cx="343080" cy="1447920"/>
            </a:xfrm>
            <a:prstGeom prst="line">
              <a:avLst/>
            </a:prstGeom>
            <a:ln w="19080">
              <a:solidFill>
                <a:srgbClr val="fb3535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352320" y="3809880"/>
            <a:ext cx="628920" cy="762120"/>
            <a:chOff x="3352320" y="3809880"/>
            <a:chExt cx="628920" cy="762120"/>
          </a:xfrm>
        </p:grpSpPr>
        <p:sp>
          <p:nvSpPr>
            <p:cNvPr id="313" name=""/>
            <p:cNvSpPr/>
            <p:nvPr/>
          </p:nvSpPr>
          <p:spPr>
            <a:xfrm>
              <a:off x="3835080" y="3809880"/>
              <a:ext cx="146160" cy="14616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352320" y="3886200"/>
              <a:ext cx="571320" cy="685800"/>
            </a:xfrm>
            <a:prstGeom prst="line">
              <a:avLst/>
            </a:prstGeom>
            <a:ln w="19080">
              <a:solidFill>
                <a:srgbClr val="fb3535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600200" y="4572000"/>
            <a:ext cx="1905120" cy="457200"/>
          </a:xfrm>
          <a:prstGeom prst="parallelogram">
            <a:avLst>
              <a:gd name="adj" fmla="val 77049"/>
            </a:avLst>
          </a:prstGeom>
          <a:solidFill>
            <a:srgbClr val="ff3300"/>
          </a:solidFill>
          <a:ln w="9360">
            <a:solidFill>
              <a:srgbClr val="ba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038480" y="4881960"/>
            <a:ext cx="4724640" cy="891000"/>
          </a:xfrm>
          <a:prstGeom prst="wedgeRoundRectCallout">
            <a:avLst>
              <a:gd name="adj1" fmla="val 64611"/>
              <a:gd name="adj2" fmla="val -53351"/>
              <a:gd name="adj3" fmla="val 16667"/>
            </a:avLst>
          </a:prstGeom>
          <a:solidFill>
            <a:srgbClr val="fafeda"/>
          </a:solidFill>
          <a:ln w="19080">
            <a:solidFill>
              <a:srgbClr val="ba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a5600"/>
                </a:solidFill>
                <a:latin typeface="Arial Narrow"/>
              </a:rPr>
              <a:t>O requisito transversal é ortogonal à decomposição primár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BEB9-7D73-4EBF-B716-04BAA1B3DD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118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d6ad00"/>
                </a:solidFill>
                <a:latin typeface="Arial Narrow"/>
              </a:rPr>
              <a:t>Programação Orientada a Aspectos</a:t>
            </a:r>
            <a:endParaRPr b="1" lang="en-US" sz="4000" spc="-1" strike="noStrike">
              <a:solidFill>
                <a:srgbClr val="d6ad00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incípios básicos da PO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ngredientes essenciais da PO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Benefício esperado da PO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7:52:28Z</dcterms:created>
  <dc:creator>PD</dc:creator>
  <dc:description/>
  <dc:language>en-US</dc:language>
  <cp:lastModifiedBy>Lago &amp; Buzo</cp:lastModifiedBy>
  <dcterms:modified xsi:type="dcterms:W3CDTF">2002-11-05T19:02:57Z</dcterms:modified>
  <cp:revision>48</cp:revision>
  <dc:subject/>
  <dc:title>Slide sem título </dc:title>
</cp:coreProperties>
</file>