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46888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0"/>
            <a:ext cx="68472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ftr" idx="8"/>
          </p:nvPr>
        </p:nvSpPr>
        <p:spPr>
          <a:xfrm>
            <a:off x="-36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 type="sldNum" idx="9"/>
          </p:nvPr>
        </p:nvSpPr>
        <p:spPr>
          <a:xfrm>
            <a:off x="388584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8868A-129B-4F41-BE72-B9549249EA7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lique para adicionar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D4FB-BFCD-49BC-8738-737E154CF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6619-B6B5-4A93-9723-CB4C66C7E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B23D-1ACB-4DC2-AAEE-73ED0A3B4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3988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5894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22082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3988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5894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5297-C0F4-454C-8A4C-C25933263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5BFDE-6F52-44BA-96D7-37712310C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880E8-0E12-4388-9F11-B957AF641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860E6-9486-47FF-8C8E-8984212D5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C73BC-429A-45A2-BCC9-719BE9D89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8C95A-5877-431C-BEA9-C378FD2E5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1599840" y="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2492C-9BFD-42E3-9B4A-D71C30474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E4AE1-7444-4B05-B879-1CC4BFE94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0AA3-EAC7-4DCD-BCCB-708EB6B91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B6C2E-7C77-498F-BF1F-2D1F37DC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9CD7D-04FE-4D1E-8451-8CF49444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E1D57-AF6C-464E-A7B7-85CF99D35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EB3DA-69C5-40DC-9318-69AFB33C1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3988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5894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22082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43988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5894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47A7E-62E7-4DDD-8D9E-0EB10DAC1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E091-2A65-44A1-B671-AD0B4E25C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8391-B3B4-44FD-B7A3-C49533F14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83B2-B56C-4734-99C6-5A27EF017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599840" y="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2D72-B9AE-459B-97CE-0F84D6F49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4FA4-3C99-4761-BBC3-7536FB651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C21F-3F4D-4CA5-827D-2EAA9C1C7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A4BE-C2E9-45B3-864A-6439BE923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320" y="228600"/>
            <a:ext cx="2133360" cy="6662880"/>
            <a:chOff x="76320" y="228600"/>
            <a:chExt cx="2133360" cy="6662880"/>
          </a:xfrm>
        </p:grpSpPr>
        <p:sp>
          <p:nvSpPr>
            <p:cNvPr id="5" name="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52" name="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" name="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6320" y="380880"/>
              <a:ext cx="380880" cy="6499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23880" y="304920"/>
              <a:ext cx="381240" cy="658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PlaceHolder 3"/>
          <p:cNvSpPr>
            <a:spLocks noGrp="1"/>
          </p:cNvSpPr>
          <p:nvPr>
            <p:ph type="dt" idx="1"/>
          </p:nvPr>
        </p:nvSpPr>
        <p:spPr>
          <a:xfrm>
            <a:off x="2558880" y="6477120"/>
            <a:ext cx="1346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2428C-F89C-4BEE-8DB2-5884698E5C19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2"/>
          </p:nvPr>
        </p:nvSpPr>
        <p:spPr>
          <a:xfrm>
            <a:off x="3984480" y="6400800"/>
            <a:ext cx="354024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3"/>
          </p:nvPr>
        </p:nvSpPr>
        <p:spPr>
          <a:xfrm>
            <a:off x="7571880" y="6400800"/>
            <a:ext cx="125100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FD71A-C521-432A-86C6-CF9834E1E4F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76320" y="228600"/>
            <a:ext cx="2133360" cy="6651720"/>
            <a:chOff x="76320" y="228600"/>
            <a:chExt cx="2133360" cy="6651720"/>
          </a:xfrm>
        </p:grpSpPr>
        <p:sp>
          <p:nvSpPr>
            <p:cNvPr id="119" name="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166" name="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6320" y="380880"/>
              <a:ext cx="380880" cy="648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23880" y="304920"/>
              <a:ext cx="381240" cy="657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-360"/>
            <a:ext cx="6858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4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4A783-C0FD-4CF2-9976-23398AC83C09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ftr" idx="5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sldNum" idx="6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0FF24-01E9-45BD-82EC-AF4113F0B0D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ffcc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 Narrow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81080" y="-152640"/>
            <a:ext cx="6858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Arquitetura de Software III – </a:t>
            </a: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Análise Arquitetural / AD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2562120" y="2286000"/>
            <a:ext cx="589608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Tópicos Avançados d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Programação Orientada a Objeto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MAC 413 / 5715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Prof. Fabio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IME / USP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7F0A2-358C-4A59-876C-62F486A07B95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BD317733-8948-4420-ADAF-F8DA261173F1}" type="datetime1">
              <a:rPr lang="en-US"/>
              <a:t>07/31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rquiteturas de Domínio Específico</a:t>
            </a:r>
            <a:br>
              <a:rPr sz="3200"/>
            </a:b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Arquitetura de Referênc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904760" y="2285640"/>
            <a:ext cx="701028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Descreve todos os sistemas em um domínio. Inclui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Estilo arquitetural (ou combinação deles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Componentes e conectores típico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Interface com outros domínio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(se é necessário usar serviços de outros domínios)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Exemplo: </a:t>
            </a:r>
            <a:r>
              <a:rPr b="0" i="1" lang="pt-BR" sz="3200" spc="-1" strike="noStrike">
                <a:solidFill>
                  <a:srgbClr val="000000"/>
                </a:solidFill>
                <a:latin typeface="Arial Narrow"/>
              </a:rPr>
              <a:t>Common ORB Arquitectur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65F3-E168-40DA-BD27-197863124B3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A2FAF3-D1E9-4017-A04F-3A42A7A2428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rquiteturas de Domínio Específico</a:t>
            </a:r>
            <a:br>
              <a:rPr sz="3200"/>
            </a:b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Exempl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70102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Arquiteturas em Sistemas de Informação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objetivo: armazenamento, recuperação e processamento de dados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casos típicos: sistemas bancários, sistemas de compra/venda, sistemas de bibliotecas, etc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Tipos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arquitetura monolítica (ex. agenda no Palm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arquitetura cliente/servidor de 2 camada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arquitetura cliente/servidor de múltiplas camada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pode ser baseado na Web ou não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772B-6214-4B4C-BAFE-604404F8C41A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68A947-5672-4728-8B50-6730098B481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rquiteturas de Domínio Específico</a:t>
            </a:r>
            <a:br>
              <a:rPr sz="3200"/>
            </a:b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Exempl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828800" y="198108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Arquiteturas em Sistemas de Tempo Rea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 Narrow"/>
              </a:rPr>
              <a:t>relógio de tempo real, escalonador de tempo real, controle de tarefas periódicas e não periódica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 Narrow"/>
              </a:rPr>
              <a:t>processamento de interrupções em tempo real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 Narrow"/>
              </a:rPr>
              <a:t>gerenciador de recursos específico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Arquiteturas em Sistemas Inteligentes Adaptativo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 Narrow"/>
              </a:rPr>
              <a:t>Percepção concorrente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 Narrow"/>
              </a:rPr>
              <a:t>Sensibilidade a prioridade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 Narrow"/>
              </a:rPr>
              <a:t>Sensibilidade a condições limites de tempo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 Narrow"/>
              </a:rPr>
              <a:t>Controle geral do comportamento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 Narrow"/>
              </a:rPr>
              <a:t>Raciocínio (regras, rede neural, etc.)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 Narrow"/>
              </a:rPr>
              <a:t>Ação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39CD-84F1-402A-BF02-CAE70701393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C2F414-8370-4819-A01F-DDA7BF7A5DA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523520" y="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Times New Roman"/>
              </a:rPr>
              <a:t>Linguagens de Descrição de Arquiteturas</a:t>
            </a:r>
            <a:br>
              <a:rPr sz="3200"/>
            </a:b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Arquitecture Description Languages ou ADLs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70866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Module Interconnection Languages (MIL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proposto em 1975 por DeRemer e Kron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trabalhava com o código-fonte de módulos, compilando a aplicação com a arquitetura descrita através de MIL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o compilador fazia verificação de tipos entre os módulos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exigia que o código-fonte estivesse disponível e que todos os módulos estivessem na mesma linguagem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gerava uma aplicação centralizada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F490-D021-4917-B6CE-73B49652BC9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053CAA-A542-4BCE-B9CC-17A2E42E4E4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23520" y="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Times New Roman"/>
              </a:rPr>
              <a:t>Linguagens de Descrição de Arquiteturas</a:t>
            </a:r>
            <a:br>
              <a:rPr sz="3200"/>
            </a:b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Arquitecture Description Languages ou ADLs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70866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Configuration Languag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Kramer &amp; Magee, Imperial College, Inglaterra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pais das ADLs e da configuração dinâmica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Conic 89, Rex 92, Darwin 94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Uma especificação Darwin lista todos os componentes que fazer parte de uma aplicação distribuída e define as ligações entre elas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O sistema carrega dinamicamente todas as componentes em diferentes máquinas e estabelece as conexões (Regis ou CORBA)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8BE7-23C7-4658-ABD6-93A2FE86736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2AD717-E890-47C2-B5FA-F5E1193A64D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23520" y="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Times New Roman"/>
              </a:rPr>
              <a:t>Linguagens de Descrição de Arquiteturas</a:t>
            </a:r>
            <a:br>
              <a:rPr sz="3200"/>
            </a:b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Arquitecture Description Languages ou ADLs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70866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ADLs (finalmente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UniCon (Shaw 95-96) introduziu o conceito de </a:t>
            </a:r>
            <a:r>
              <a:rPr b="0" i="1" lang="pt-BR" sz="2800" spc="-1" strike="noStrike">
                <a:solidFill>
                  <a:srgbClr val="000000"/>
                </a:solidFill>
                <a:latin typeface="Arial Narrow"/>
              </a:rPr>
              <a:t>Conectores Arquiteturais</a:t>
            </a: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Assim, uma definição UniCon é composta de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descrição das componentes (interfaces utilizadas e exportadas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descrição dos conectores (pipes, E/S por arquivos e chamadas a funções locais ou remotas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script de configuração da aplicação [distribuída]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ADLs podem ser usadas não só para instanciar aplicações mas também para verificar matematicamente a consistência e propriedades de aplicações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7EA5-5D63-4D64-B015-09B538FA235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ACC5E9-98DE-4EF3-A025-186264DA861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Bibliograf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905120" y="228564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Sobre Análise Arquitetural e Arquiteturas de Domínios Específicos vej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 Narrow"/>
              </a:rPr>
              <a:t>Arquitetura de Software – Desenvolvimento orientado para arquitetura</a:t>
            </a: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. Antonio Mendes. Editora Campus, 2002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Sobre Linguagens de Descrição de Arquiteturas vej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http://choices.cs.uiuc.edu/f-kon/thesis/node15.html#SECTION001553000000000000000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72D9-9091-47A0-83D9-D8398E54E70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4A4BD9-47F5-42BC-9C57-CE89DB2AAB5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Análise Arquitetur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05120" y="228564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Às vezes recebemos uma arquitetura pronta e precisamos avaliá-la/analisa-la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Podemos utilizar a nossa experiência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Ou podemos utilizar um processo mais formal. Exemplos propostos por Kazman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SAAM (</a:t>
            </a:r>
            <a:r>
              <a:rPr b="0" i="1" lang="pt-BR" sz="2800" spc="-1" strike="noStrike">
                <a:solidFill>
                  <a:srgbClr val="000000"/>
                </a:solidFill>
                <a:latin typeface="Arial Narrow"/>
              </a:rPr>
              <a:t>Software Architecture Analysis Method</a:t>
            </a: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ATAM (</a:t>
            </a:r>
            <a:r>
              <a:rPr b="0" i="1" lang="pt-BR" sz="2800" spc="-1" strike="noStrike">
                <a:solidFill>
                  <a:srgbClr val="000000"/>
                </a:solidFill>
                <a:latin typeface="Arial Narrow"/>
              </a:rPr>
              <a:t>Architecture Tradeoff Analysis Method</a:t>
            </a: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EDEE-2C19-42E6-BB2A-24C2977DF60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840C59-69E1-4FF9-8648-4775534A735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SAAM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– Kazman 1994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Software Architecture Analysis Method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71629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Método em 5 fases para análise de arquiteturas para sistemas de médio porte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97240" indent="-59724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Desenvolvimento de cenário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97240" indent="-59724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Descrição da(s) arquitetura(s) candidata(s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970560" indent="-52272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componentes ativos (transformam dados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970560" indent="-52272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componentes passivos (armazenam dados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970560" indent="-52272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conexões de control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970560" indent="-52272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conexões de dado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597240" indent="-59724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Avaliação de cada cenário em cada arq.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970560" indent="-52272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suporte direto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970560" indent="-52272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suporte indireto (exige mudanças na arq.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970560" indent="-52272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não oferece suport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C2AC-FD5C-4042-81D7-C95C117AE69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A222FF-7EEF-4D4B-ACCC-8C6FE51A2D2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SAAM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Software Architecture Analysis Method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7162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Arial Narrow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Determinação da interação entre cenário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mudanças arquiteturais exigidas por um cenário afetam outros cenário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permite avaliar o quão desacoplado e coeso são as componentes do sistema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Arial Narrow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Avaliação global das arquitetura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monta-se tabela onde as linhas são os cenários e as colunas são as arquiteturas candidata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em cada entrada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+ indica que tudo bem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- indica que a arq. exige mudanças p/ atender ao cenário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07B1-B82F-4DE2-BF11-B7B953C18EA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1D42B9-09B1-432C-A44E-E5182FF95B6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ATAM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Kazman 1999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Architecture Tradeoff Analysis Method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781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Um processo mais sofisticado a ser utilizado por uma empresa ou instituição para decidir qual arquitetura adotar para um sistema de médio ou grande porte. Normalmente dura 3 dias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1a Etapa – Apresentação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1. apresentação do método ATAM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2. apresentação das metas da empresa/inst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3. apresentação da arquitetura básica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concentrando-se em como as metas da empresa são atendidas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4B92-B331-41A8-AEDB-FBD2E910EAC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4474D2-C5FF-45F6-ACD1-C0DAEB0A9C8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ATAM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Kazman 1999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Architecture Tradeoff Analysis Method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781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2a Etapa – Investigação e Anális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4. identificação de alternativas arquiteturais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5. identificação dos requisitos não-funcionais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6. análise das alternativas arquiteturai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em relação aos requisitos não-funcionais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3a Etapa – Test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7. análise, discussão e determinação de prioridade de cenários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8. análise das alternativas arquiteturais em relação aos cenários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também análise dos risco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7BDE-A131-40FF-9A59-43DE900DEC1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651E3F-A520-40B9-B3F2-5D3DB81A010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ATAM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Kazman 1999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Architecture Tradeoff Analysis Method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781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4a Etapa – Relato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9. Apresentação dos resultado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relatório contendo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cenários de uso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avaliação de alternativas arquiteturai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risco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força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plano de ação e estratégias a serem adotadas pela instituição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C2EA-7B79-474B-9437-6410791C6E3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1D0532-AB53-4CEA-A6CC-C477F850062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Exemplos de aplicação do SAA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904760" y="1980720"/>
            <a:ext cx="6933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Exemplos no livro do Antonio Mendes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Capítulo 8: Avaliação Arquitetural de um Sistema de Informaçõ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WWW ou Harves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Capítulo 9: Avaliação Arquitetural de um Sistema de Telecomunicaçõ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central telefônica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BA3A-F550-4CC4-B806-E7395ACC593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9BFA96-E9E4-4A51-AA48-5E087F7BCD1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Arquiteturas de Domínio Específic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781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Ao contrário de arquiteturas genéricas, arquiteturas de domínio específico podem ser mais especializadas e, portanto, mais eficientes para casos específicos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Segundo [Taylor 95], uma DSSA contém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um modelo do domínio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requisitos de referência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uma arquitetura de referência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a infra-estrutura ou ambiente de suport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um processo de desenvolvimento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83AA-A847-45FB-BA7C-64856831328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6B955C-32D6-453D-B98F-76B3AE9D54D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ary Burton</cp:lastModifiedBy>
  <dcterms:modified xsi:type="dcterms:W3CDTF">2002-09-24T21:13:58Z</dcterms:modified>
  <cp:revision>29</cp:revision>
  <dc:subject/>
  <dc:title>Apresentação do PowerPoint</dc:title>
</cp:coreProperties>
</file>