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EC1-843C-49F2-8001-953398EB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85F-87D8-425C-B061-91C03E13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48F-D106-430A-B536-16BA87DC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FA8-54E0-4FBA-967C-823CA391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C5C-D1BB-4AED-B73D-AE342112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98E-88F9-43BA-A955-378C9370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ECC7-4423-4884-8B2B-DCCA20D9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5CEF-D5D1-4C4D-805D-062516C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2E49-64EA-4738-909D-5A0DEBD8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B569-DF1F-418E-A48F-5997EC38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7CEA-BF47-492C-A198-7DC7AC0A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1F8-379D-4AC6-A2E3-6BF857F5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61B9-075E-4295-B157-27156B39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ED42-CEED-4519-BE3D-5F2B1AA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53E3-0EEB-4E5E-B3BD-80B82A88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6F17-C70E-46DE-BE35-78E72047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6584-E3CD-4DD2-AA5D-325226B0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0C8-20AF-4F94-ACA4-BF9DF8B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461-7EB9-442C-AD34-771A4182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186-CD4C-4877-92E2-1CCC4A1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EC5-9ACF-48E4-8EBC-93C249F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635-52F1-4BD4-87AD-12D9274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362-9F3E-4FAA-860F-59113BF9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123-479F-4420-A2B4-947DC98B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1/08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Laboratório de Programação eXtr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27DD-FD9B-42C7-93BC-34CF3ED30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943600" y="4419720"/>
            <a:ext cx="2057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B57-080A-44F2-85EE-8C11D5C37D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testing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54080" y="3048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Alfredo Goldman         Prof. Dr. Fabio K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Lab. 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de pré e pós condi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 possí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existe uma única resposta ce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-174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única resposta claramente errada é ignorar o erro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3240" indent="-174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USS Yorkt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711720" y="274320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mudar 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 &lt;= 0 ? 0.0 : sum / 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so de premiss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C e C++ use &lt;assert.h&gt;, jdk 1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 (n&gt;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a condição for violad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ion failed: n&gt;0, file avgtest.c, line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juda a identificar “culpados” pelos er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defensiv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tar situações que não “podem” acontec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55160" y="4406760"/>
            <a:ext cx="895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nota &lt; 0 || nota &gt; 10) // não pode aconte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ra = ‘?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lse if (nota &gt;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ra = ‘A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ls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tilizar códigos de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ecar os códigos de erro de funções e métod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ocê sabia que o scanf retorna o número de parâmetros lidos, ou EOF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pre verificar se ocorreram erros ao abrir, ler, escrever e principalmente fechar arqu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Java sempre tratar as possíveis exceç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80160" y="2057400"/>
            <a:ext cx="402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fatorial( 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fac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hile (n--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ac *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a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1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increment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nte a construção do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ós testar dois pacotes independentemente teste se eles funcionam ju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primeiro partes si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nha certeza que partes básicas funcionam antes de prossegu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simples encontram erros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 as funções/métodos individua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teste de função que faz a busca binária em inte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2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heça as saídas espe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heça a resposta cer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programas mais complexos valide a saída com exemplos conhe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adores - arquivos de tes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uméricos - exemplos conhecidos, característic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áficos - exemplos, não confie apenas nos seus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lh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3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que as propriedades invari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rogramas mantém propriedades da ent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lin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amanho da ent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reqüência de caracte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: a qualquer instante o número de elementos em uma estrutura de dados deve ser igual ao número de inserções menos o número de remoçõ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Sistemáticos (4/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are implementações independ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resultados devem ser os mes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 forem diferentes pelo menos uma das implementações está incorr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bertura do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comando do programa deve ser executado por algum te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ist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rofiler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que indicam a cobertura de tes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man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dioso, não confiá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vem ser facilmente executá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junte em u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todos os tes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ar </a:t>
            </a:r>
            <a:r>
              <a:rPr b="0" lang="pt-BR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epura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mplifica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urar - o que se faz quando se sabe que o programa não funcion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 - tentativas sistemáticas de encontrar erros em programa que você “acha” que está funciona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podem mostrar a presença de erros, não a sua ausência (Dijkstra)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e regressão automá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arar a nova versão com a ant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ificar se os erros da versão antiga foram corrig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ificar que novos erros não foram cri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vem rodar de maneira silenci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tudo estiver 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516600" y="18702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de scri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40" y="2630520"/>
            <a:ext cx="822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 i in Ka_data.*    # laço sobre os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old_ka $i &gt; out1    # versao an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ew_ka $i &gt; out2    # nova vers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!cmp -s out1 out2# com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cho $i: Erro     # imprime mens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utomaçã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e testes autocont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que contém suas próprias entradas e respectivas saídas esper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gramas tipo awk podem aju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e fazer quando um erro é encontra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 não foi encontrado por um te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aça um teste que o provo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rcabouç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vezes para se testar um componente isoladamente é necessários criar um ambiente com características de onde este componente será execu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testar funções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em*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o C (com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ems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rcabouç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memset: set the first n bytes of s to the byte c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*memset(void *s, int c, size_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_t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 = (char *) 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[i]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memset(s0 + offset, c, 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memset2(s1 + offset, c, 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compare s0 e s1 byte a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15880" y="59086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testar funções do math.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estres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839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r com grandes quantidades de d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ados automatic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s comu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verflow nos buffers de entrada, vetores e cont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: ataques de seguranç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get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 C - não limita o tamanho da ent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canf(``%s’’, str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também não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rro conhecido por “buffer overflow error” NYT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estres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743400" y="187020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s de erros que podem ser encontr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0240" y="2666880"/>
            <a:ext cx="60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 = (char *) malloc (x * y *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4680" y="4384800"/>
            <a:ext cx="83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versão entre tipos difer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ia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versão de double de 64 bits em int de 16 bits =&gt; 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cas para fazer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eque os limites dos vet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so a linguagem não faça isto por voc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ça com que o tamanho dos vetores seja pequeno; ao invés de criar testes muito gran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ça funções de hashing const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e versões de malloc que ocasionalmente fal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ligue todos os testes antes de lançar a versã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cas para fazer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icialize os vetores e variáveis com um valor não nu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0xDEADBEEF pode ser facilmente encontr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ntinue a implementação de novas características se já foram encontrados er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em várias máquinas, compiladores e 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ipos de tes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white bo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feitos por quem conhece (escreveu) 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lack bo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sem conhecer 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uári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ntram novos erros pois usam o programa de formas que não foram prev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Teste enquanto você escreve códig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possível escreva os testes antes mesmo de escrever 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a das técnicas de 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antes for encontrado o erro melhor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de Software Orientado a Obje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em geral (não apenas a la XP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ferenças em relação a teste de software tradicional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mos não conhecer a implementação de objetos que o nosso código us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odularização e o encapsulamento ajudam a organização d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ipos de testes em software O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clas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interaç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regress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o sistema e sub-sist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á conforme aos requisito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e acei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so usar a componente X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impla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bordagem de McGregor/Syk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este cedo. Teste com freqüência. Teste o necessári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 iterativ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alise um pou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jete um pou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a um pouco de códig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 o que pu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Análise de Riscos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 de Riscos ajuda a planejar quais testes devem ser feit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risco - ameaça ao sucesso de um proje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do gerenciamento do proje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não ajudam mu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do negóci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da funciona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técnic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stes unitários, das classes, componente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Análise de Riscos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8475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boa especificação de um projeto deve incluir uma análise dos risco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a análise pode levar ao plano e processo de tes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Dimensões do Processo de Testes 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cria os test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desenvolvedores? uma equipe especializada em testes? ambo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is partes são testa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as? Nenhuma? Ou só as de alto risc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testes serão realizado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pre? Rotineiramente? No final do projet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Dimensões do Processo de Testes 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será feito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seado no que o software faz ou em como o software faz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testadores conhecem a implementação ou só a interfac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de testes é o adequado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Papéis no Processo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dor de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dor da Integraçã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a as interações entre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objet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dor do siste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hece o domínio e é capaz de verificar a aplicação como um to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nto de vista do usuário do sistem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rente do Processo de Tes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ordena e escalona os testes e as pesso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Planejamento de Testes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esquecido ou não é considerado pelos gerentes de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ividades de planejamen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alonamento das Atividades de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imativas de custo, tempo e pessoal necessário para realizar os tes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quipamento necess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Planejamento de Testes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ividades de planejamen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finição do Nível de cobertura: quanto maior, mais código será exigid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eizer: 2% a 80% do tamanho da aplicaçã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ricas para avaliar eficácia de um conjunto de tes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bertura do cód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bertura das pós-condi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bertura dos elementos do mod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écnicas bás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o código em seus limi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 de pré e pós condiçõ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o de premissas (assert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e defensivament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os códigos de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as Classes (unidade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maneira é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eer-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ar é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automatizados são melh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fíceis de constru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automatizados devem cobr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casos norma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maior número possível de casos limítrof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as Intera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bjetos podem interagir de 4 formas diferent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objeto é passado como parâmetro para outro objeto numa chamada de méto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objeto devolve uma referência para outro objeto numa chamada de méto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método cria uma instância de outro obje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método usa uma instância global de outra classe (normalmente evitad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sos: Teste das interações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amadas de méto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 abordage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defens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receptor verifica os parâme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or contr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mensagem é verificada antes do en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sos: Teste das interações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bclasses/superclas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e o diagrama de classes para identificar quais testes de regressão devem ser realizados quando uma classe é alterada ou uma nova classe é criad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e os testes escritos para a superclasse mas agora usando a nova subclas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testar classes abstratas, somos obrigados a criar classes concretas só para testá-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Lembre-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r que não escrever teste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ou com pre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maior a press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nos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menos tes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nos produtividade e menor est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ogo, a pressão aumenta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0320" y="2209680"/>
            <a:ext cx="8363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 único conceito mais importante de testes 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4400" spc="-1" strike="noStrike">
                <a:solidFill>
                  <a:srgbClr val="000000"/>
                </a:solidFill>
                <a:latin typeface="Times New Roman"/>
              </a:rPr>
              <a:t>DO 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seado 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o e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he Practice of Programming: Kernighan &amp; P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 Practical Guide to Testing Object-Oriented Softwa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John McGregor &amp; David Sy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testing.com/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o código em seus limi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cada pequeno trecho de código (um laço, ou if por exemplo) verifique o seu bom funcionament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te ume entrada vazia, um único item, um vetor cheio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1128600" y="209700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s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=0; s[i] = getchar() != ‘\n’ &amp;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 &lt; MAX - 1; i++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[--i]=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8320" y="4842000"/>
            <a:ext cx="7729560" cy="1610280"/>
            <a:chOff x="1048320" y="4842000"/>
            <a:chExt cx="7729560" cy="1610280"/>
          </a:xfrm>
        </p:grpSpPr>
        <p:sp>
          <p:nvSpPr>
            <p:cNvPr id="99" name=""/>
            <p:cNvSpPr/>
            <p:nvPr/>
          </p:nvSpPr>
          <p:spPr>
            <a:xfrm>
              <a:off x="1048320" y="4842000"/>
              <a:ext cx="25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rimeiro erro fáci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81960" y="5261040"/>
              <a:ext cx="749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// o = tem precedência menor do que o !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for(i=0; (s[i] = getchar()) != ‘\n’ &amp;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i &lt; MAX - 1; i++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128600" y="1752480"/>
            <a:ext cx="658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s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=0; i &lt; MAX - 1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(s[i] = getchar()) == ‘\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[i]=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2000" y="4724280"/>
            <a:ext cx="683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ha vazia ok;  1 caractere ok; 2 caracteres 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X caractere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se o primeiro caractere já é o de fim de arquiv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2320" y="1752480"/>
            <a:ext cx="877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s[MAX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=0; i &lt; MAX - 1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s[i] = getchar()) == ‘\n’ || s[i]==E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brea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[i]=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0560" y="4724280"/>
            <a:ext cx="74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o que se deve fazer se a string s fica cheia antes do ‘\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ende, estes caracteres são necessários, ou nã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 de pré e pós condi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car certas propriedades antes e depois de trecho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3295800"/>
            <a:ext cx="566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 avg(double a[], 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 sum = 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i = 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um += a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sum /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7:45:22Z</dcterms:created>
  <dc:creator>compaq</dc:creator>
  <dc:description/>
  <dc:language>en-US</dc:language>
  <cp:lastModifiedBy>John Lennon</cp:lastModifiedBy>
  <dcterms:modified xsi:type="dcterms:W3CDTF">1970-01-05T00:17:20Z</dcterms:modified>
  <cp:revision>45</cp:revision>
  <dc:subject/>
  <dc:title>Testes</dc:title>
</cp:coreProperties>
</file>