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950-7A9C-4D80-B155-FD34FABA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BBB-8453-4C42-B1A0-B5E35760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DBF-83CD-4AA1-BAF0-177A8E21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7DB-781B-425E-8837-9F733D59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59CE-CDF9-4D46-8CBE-0F3F7E70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117F-A2AB-4EAE-8293-1CEE7918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69CB-A1B9-4F48-83AE-374748E0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9478-EB5A-41EF-8110-FB30473A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E71C-C03C-4062-8DB2-CA2906DF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2B2B-7426-44D7-8658-734B41DB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958D-B3C1-47CB-8741-DBBA72E6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930-1B4E-45F4-AFF1-9A07DD82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74E2-2A47-4061-9F2A-C92BEBF4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DF34-49E2-42DA-9680-761258B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0189-ED64-4187-B925-5138FE8E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2284-40EB-455A-8C57-9D15DDC8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9EE5-5A49-4CA6-A41E-F1DDF6A2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CB2-F101-4341-B00B-E2B03F02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B24-18CF-4484-A9E6-5D825820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637-0F19-4764-AA0A-4AD7E3BB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3D5-4E24-47C8-ADEE-B6CEB898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BFA-DEE0-45C0-8440-08773F92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D07-2FF7-4296-9063-5689C77A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AD6-D688-41E4-BF91-B8556A8F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11/08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Laboratório de Programação eXtr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0B05-C9FC-4BFE-B1F8-B4D92473B3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943600" y="4419720"/>
            <a:ext cx="2057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DFA4-6E90-409E-98AB-8703959B4B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testing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54080" y="3048120"/>
            <a:ext cx="8991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Dr. Alfredo Goldman         Prof. Dr. Fabio K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Lab. 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 de pré e pós condi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lução possí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09160" indent="-209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existe uma única resposta cer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-174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única resposta claramente errada é ignorar o erro 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-174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 USS Yorktow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711720" y="2743200"/>
            <a:ext cx="58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mudar 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 &lt;= 0 ? 0.0 : sum / 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so de premiss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C e C++ use &lt;assert.h&gt;, jdk 1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 (n&gt;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 a condição for violad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ion failed: n&gt;0, file avgtest.c, line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juda a identificar “culpados” pelos er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defensiva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tar situações que não “podem” acontec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55160" y="4406760"/>
            <a:ext cx="895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nota &lt; 0 || nota &gt; 10) // não pode aconte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letra = ‘?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else if (nota &gt;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letra = ‘A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els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tilizar códigos de er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hecar os códigos de erro de funções e métod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ocê sabia que o scanf retorna o número de parâmetros lidos, ou EOF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mpre verificar se ocorreram erros ao abrir, ler, escrever e principalmente fechar arquiv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Java sempre tratar as possíveis exceçõ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380160" y="2057400"/>
            <a:ext cx="402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fatorial( int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fac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while (n--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ac *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fa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sistemáticos (1/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incremental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urante a construção do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pós testar dois pacotes independentemente teste se eles funcionam ju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primeiro partes si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nha certeza que partes básicas funcionam antes de prossegu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simples encontram erros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 as funções/métodos individual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 teste de função que faz a busca binária em intei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Sistemáticos (2/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heça as saídas esper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heça a resposta cer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programas mais complexos valide a saída com exemplos conhec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iladores - arquivos de tes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uméricos - exemplos conhecidos, característica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ráficos - exemplos, não confie apenas nos seus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lh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Sistemáticos (3/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ifique as propriedades invaria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ns programas mantém propriedades da ent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linh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amanho da entr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reqüência de caracte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: a qualquer instante o número de elementos em uma estrutura de dados deve ser igual ao número de inserções menos o número de remoçõ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Sistemáticos (4/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pare implementações independ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resultados devem ser os mesm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 forem diferentes pelo menos uma das implementações está incorr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bertura dos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comando do programa deve ser executado por algum tes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iste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rofiler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que indicam a cobertura de tes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utomaçã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manu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dioso, não confiá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automat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vem ser facilmente executáv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junte em u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todos os tes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ar </a:t>
            </a:r>
            <a:r>
              <a:rPr b="0" lang="pt-BR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Depura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mplifica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purar - o que se faz quando se sabe que o programa não funcion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 - tentativas sistemáticas de encontrar erros em programa que você “acha” que está funcionan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podem mostrar a presença de erros, não a sua ausência (Dijkstra)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utomaçã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de regressão automát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arar a nova versão com a ant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ificar se os erros da versão antiga foram corrig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ificar que novos erros não foram cri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vem rodar de maneira silenci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 tudo estiver 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utomaçã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516600" y="187020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 de scri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840" y="2630520"/>
            <a:ext cx="822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 i in Ka_data.*    # laço sobre os 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old_ka $i &gt; out1    # versao an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ew_ka $i &gt; out2    # nova vers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!cmp -s out1 out2# com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echo $i: Erro     # imprime mens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utomaçã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ie testes autocont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stes que contém suas próprias entradas e respectivas saídas esper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gramas tipo awk podem aju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e fazer quando um erro é encontra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 não foi encontrado por um te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aça um teste que o provo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rcabouç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vezes para se testar um componente isoladamente é necessários criar um ambiente com características de onde este componente será execut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 testar funções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mem*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o C (com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mems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rcabouç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 memset: set the first n bytes of s to the byte c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*memset(void *s, int c, size_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ize_t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har *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 = (char *) 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[i]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memset(s0 + offset, c, 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memset2(s1 + offset, c, 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compare s0 e s1 byte a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15880" y="590868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o testar funções do math.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e estres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839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ar com grandes quantidades de d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erados automatica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rros comu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verflow nos buffers de entrada, vetores e cont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: ataques de seguranç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get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o C - não limita o tamanho da entr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canf(``%s’’, str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também não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rro conhecido por “buffer overflow error” NYT9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e estres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743400" y="187020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s de erros que podem ser encontr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0240" y="2666880"/>
            <a:ext cx="60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 = (char *) malloc (x * y *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4680" y="4384800"/>
            <a:ext cx="83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versão entre tipos difer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ia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versão de double de 64 bits em int de 16 bits =&gt; 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icas para fazer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heque os limites dos vet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so a linguagem não faça isto por voc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ça com que o tamanho dos vetores seja pequeno; ao invés de criar testes muito gran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ça funções de hashing consta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ie versões de malloc que ocasionalmente falh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sligue todos os testes antes de lançar a versã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icas para fazer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icialize os vetores e variáveis com um valor não nu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 0xDEADBEEF pode ser facilmente encontr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continue a implementação de novas características se já foram encontrados er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em várias máquinas, compiladores e 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ipos de tes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white box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feitos por quem conhece (escreveu) 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lack box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sem conhecer 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uário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contram novos erros pois usam o programa de formas que não foram previ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Teste enquanto você escreve códig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possível escreva os testes antes mesmo de escrever o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a das técnicas de X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to antes for encontrado o erro melhor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 de Software Orientado a Obje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em geral (não apenas a la XP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ferenças em relação a teste de software tradicional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mos não conhecer a implementação de objetos que o nosso código us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modularização e o encapsulamento ajudam a organização dos tes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ipos de testes em software O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clas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interaçõ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regress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do sistema e sub-sist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á conforme aos requisito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de acei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sso usar a componente X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impla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bordagem de McGregor/Syk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em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Teste cedo. Teste com freqüência. Teste o necessári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esso iterativ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nalise um pouc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jete um pouc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eva um pouco de códig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 o que pu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Análise de Riscos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nálise de Riscos ajuda a planejar quais testes devem ser feit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risco - ameaça ao sucesso de um proje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iscos do gerenciamento do proje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stes não ajudam mu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iscos do negóci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stes da funcional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iscos técnic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stes unitários, das classes, componentes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Análise de Riscos 2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84752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boa especificação de um projeto deve incluir uma análise dos risco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a análise pode levar ao plano e processo de tes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Dimensões do Processo de Testes 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m cria os teste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desenvolvedores? uma equipe especializada em testes? ambo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is partes são testa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das? Nenhuma? Ou só as de alto risco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s testes serão realizado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pre? Rotineiramente? No final do projeto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Dimensões do Processo de Testes  2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o será feito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seado no que o software faz ou em como o software faz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testadores conhecem a implementação ou só a interface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to de testes é o adequado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Papéis no Process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ador de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ador da Integraçã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a as interações entr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objet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ador do siste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hece o domínio e é capaz de verificar a aplicação como um to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nto de vista do usuário do sistem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erente do Processo de Tes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ordena e escalona os testes e as pesso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Planejamento de Testes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itas vezes é esquecido ou não é considerado pelos gerentes de proje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ividades de planejament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alonamento das Atividades de 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imativas de custo, tempo e pessoal necessário para realizar os tes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quipamento necess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Planejamento de Testes 2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ividades de planejament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finição do Nível de cobertura: quanto maior, mais código será exigid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eizer: 2% a 80% do tamanho da aplicaçã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ricas para avaliar eficácia de um conjunto de tes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bertura do códi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bertura das pós-condi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bertura dos elementos do mod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écnicas bás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o código em seus limit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de pré e pós condiçõ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o de premissas (assert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grame defensivament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os códigos de e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as Classes (unidade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maneira é 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eer-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rrar é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automatizados são melh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ifíceis de constru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automatizados devem cobr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ns casos norma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maior número possível de casos limítrof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as Intera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bjetos podem interagir de 4 formas diferent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objeto é passado como parâmetro para outro objeto numa chamada de méto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objeto devolve uma referência para outro objeto numa chamada de méto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método cria uma instância de outro obje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método usa uma instância global de outra classe (normalmente evitado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asos: Teste das interações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hamadas de métod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2 abordage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defens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receptor verifica os parâmet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or contr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mensagem é verificada antes do env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asos: Teste das interações 2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ubclasses/superclas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e o diagrama de classes para identificar quais testes de regressão devem ser realizados quando uma classe é alterada ou uma nova classe é criad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e os testes escritos para a superclasse mas agora usando a nova subclas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testar classes abstratas, somos obrigados a criar classes concretas só para testá-l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Lembre-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r que não escrever teste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ou com pre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to maior a press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nos 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 menos tes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nos produtividade e menor esta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ogo, a pressão aumenta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10320" y="2209680"/>
            <a:ext cx="83631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O único conceito mais importante de testes 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DO 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aseado 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eado em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he Practice of Programming: Kernighan &amp; P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A Practical Guide to Testing Object-Oriented Softwar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 John McGregor &amp; David Sy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www.testing.com/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 o código em seus limi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a cada pequeno trecho de código (um laço, ou if por exemplo) verifique o seu bom funcionament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nte ume entrada vazia, um único item, um vetor cheio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1128600" y="2097000"/>
            <a:ext cx="67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 s[MA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(i=0; s[i] = getchar() != ‘\n’ &amp;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 &lt; MAX - 1; i++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[--i]=‘\0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48320" y="4842000"/>
            <a:ext cx="7729560" cy="1610280"/>
            <a:chOff x="1048320" y="4842000"/>
            <a:chExt cx="7729560" cy="1610280"/>
          </a:xfrm>
        </p:grpSpPr>
        <p:sp>
          <p:nvSpPr>
            <p:cNvPr id="99" name=""/>
            <p:cNvSpPr/>
            <p:nvPr/>
          </p:nvSpPr>
          <p:spPr>
            <a:xfrm>
              <a:off x="1048320" y="4842000"/>
              <a:ext cx="25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Primeiro erro fáci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81960" y="5261040"/>
              <a:ext cx="7495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// o = tem precedência menor do que o !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for(i=0; (s[i] = getchar()) != ‘\n’ &amp;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i &lt; MAX - 1; i++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128600" y="1752480"/>
            <a:ext cx="658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 s[MA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(i=0; i &lt; MAX - 1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(s[i] = getchar()) == ‘\n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break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[i]=‘\0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2000" y="4724280"/>
            <a:ext cx="683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nha vazia ok;  1 caractere ok; 2 caracteres o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X caracteres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se o primeiro caractere já é o de fim de arquiv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82320" y="1752480"/>
            <a:ext cx="877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 s[MA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(i=0; i &lt; MAX - 1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s[i] = getchar()) == ‘\n’ || s[i]==E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break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[i]=‘\0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0560" y="4724280"/>
            <a:ext cx="74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s o que se deve fazer se a string s fica cheia antes do ‘\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pende, estes caracteres são necessários, ou nã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 de pré e pós condi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ificar certas propriedades antes e depois de trechos de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3295800"/>
            <a:ext cx="566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ouble avg(double a[], int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(i = 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um += a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sum /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7:45:22Z</dcterms:created>
  <dc:creator>compaq</dc:creator>
  <dc:description/>
  <dc:language>en-US</dc:language>
  <cp:lastModifiedBy>John Lennon</cp:lastModifiedBy>
  <dcterms:modified xsi:type="dcterms:W3CDTF">1970-01-05T00:17:20Z</dcterms:modified>
  <cp:revision>45</cp:revision>
  <dc:subject/>
  <dc:title>Testes</dc:title>
</cp:coreProperties>
</file>