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407-8698-4AAD-B9DF-82DB4CE7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F54-CE8E-47B4-A236-AC9C145A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DC8-EF94-4886-806E-F432BF0A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915-E7B5-422E-9E79-615B6949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8B9B-A8D5-4D87-B273-C84A042D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237C-286D-44C6-A7E0-6E30029D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B41B-9EF3-446E-98C0-7A998090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A4B3-E049-46D4-8655-23739665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B04D-92E5-4885-8749-AD92D13B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8D3B-3451-4C63-85F3-D1B3FE3F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4212-FBC0-44A6-8408-EC2EC681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6E4-99F9-4C2A-9749-3A347C49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8778-86BA-48C7-A220-BC03D1C7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05C7-F923-4CF8-86B3-B9A94962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0614-1A28-4E78-B13F-55B58AAB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FE4D-04BF-4317-A5E3-00E884DB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2F57-B582-40A4-BF14-8AB23A01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B07-D9A5-49F5-8BD4-1ABD1BCB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85F-13FF-44A0-AF26-53709154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E65-8BB0-433C-8232-A1EB3DDD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AAD-F177-44F1-BA69-00A9A4BB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BF2-E1ED-4A5F-B6E9-82CE2E26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2F8-1846-44E0-8C7F-CC36AE62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5FF-C847-4837-893B-4E352079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03/04/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VI Semana da Comput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1D2C-4613-49EC-85E5-F826C6D429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4A46-860D-421C-887A-9285868EBC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../../junit/junit3.7/javadoc/index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junit/junit3.7/javadoc/junit/framework/TestCase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 de desenvolvimento com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54080" y="3048120"/>
            <a:ext cx="8991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Dr. Alfredo Gold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3 de Abril d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VI Semana da Compu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JUnit  e premissa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emissas são usadas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dentro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s testes JUnit ficam em classes separ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tem acesso a partes encapsul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Unit testa a partir da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emissas podem verificar lógica inter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e desempenh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JUnitPer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s para medir desempenho e escala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Timed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ede, e limita o tempo do te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Load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ecução concorrente, configuração por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Thread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ecuta o teste como uma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thread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epar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e Str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JMeter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- testa nos lim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 car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a diferentes tipos BDs, páginas WEB, objetos 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era gráf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de ser usado em conjunto com 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JUnitPer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e página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ar do ponto de vista do usuá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través de pági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funcio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tensões do Ju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HttpUni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Servlet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JXweb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(especifica os testes em X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XML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dos são projetos sourcefo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JUnit na prática: O progra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sistema para representar diversas moeda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a começar: algo simp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6520" y="609480"/>
            <a:ext cx="877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lass Mone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vate int fAmou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vate String fCurr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Money(int amount, String currency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Amount = amou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Currency = curr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nt amoun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fAmou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String currency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fCurr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7600" y="774720"/>
            <a:ext cx="76788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somar dois “Moneys” da mesma moeda (currenc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Money add(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(amount()+m.amount(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urrency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estão de hábi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de a little, test a little, code a little, test a little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á temos um objeto, vamos testá-lo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JUnit os testes devem ser subclasses de Test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3720" y="730080"/>
            <a:ext cx="902016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ublic class MoneyTest extends TestCa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//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oney m12CHF= new Money(12, "CHF");         //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oney m14CHF= new Money(14, "CHF");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oney expected= new Money(26, "CH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oney result= m12CHF.add(m14CHF);           //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ssert.</a:t>
            </a:r>
            <a:r>
              <a:rPr b="0" lang="pt-BR" sz="20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assertTru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expected.equals(result)); //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O testSimpleAdd() consiste e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ódigo para criar os objet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ódigo para usar os objet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ódigo para verificar os resul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alta fazer a sobrecarga de eq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0560" y="1447920"/>
            <a:ext cx="8958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testEquals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m12CHF= new Money(12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m14CHF= new Money(14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.assertTrue(!m12CHF.equals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.assertEquals(m12CHF, m12CH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.assertEquals(m12CH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ew Money(12, "CHF")); //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.assertTrue(!m12CHF.equals(m14CHF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lembrete: o equals do object volta true se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objetos comparados são o me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8440" y="34596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s antes um teste para o eq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blema com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odos sabem: devem ser escrit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ucos o fazem, e por quê não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ou com muita pre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, isto cria um círculo vicio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130760" y="4842000"/>
            <a:ext cx="173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nos 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73240" y="4384800"/>
            <a:ext cx="275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nos produ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nos es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1904760" y="533376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55360" y="6019920"/>
            <a:ext cx="1750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s pr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419720" y="5257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82440" y="838080"/>
            <a:ext cx="93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 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boolean equals(Object anObjec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anObject instanceof Money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aMoney = (Money) anObje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aMoney.currency().equals(currency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&amp;&amp; amount() == aMoney.amou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faltou sobrecarregar o método hashCod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84600" y="838080"/>
            <a:ext cx="83037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s, já apesar dos testes serem pequenos já há código duplica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class MoneyTest extends TestCa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vate Money f12CH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vate Money f14CHF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otected void 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setUp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12CHF= new Money(12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14CHF= new Money(14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82080" y="838080"/>
            <a:ext cx="8776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 os testes podem ser rescri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testEquals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!f12CHF.equals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Equals(f12CHF, f12CH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Equals(f12CHF, new Money(12, "CHF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!f12CHF.equals(f14CHF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testSimpleAdd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expected= new Money(26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result= f12CHF.add(f14CH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expected.equals(resul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óximos pass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finir como rodar um teste individua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finir como rodar uma seqüência de tes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2160" y="838080"/>
            <a:ext cx="822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forma estática, com classe 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estCase test= new MoneyTest("simple add"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run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estSimpleAd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800" y="4356000"/>
            <a:ext cx="85932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forma dinâmica, usa reflex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estCase test= new MoneyTest("testSimpleAd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ode-se automatizar tes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ando uma seqüência de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82440" y="3279600"/>
            <a:ext cx="93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static Test suite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estSuite suite= new TestSui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uite.addTest(new MoneyTest("testEquals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uite.addTest(new MoneyTest("testSimpleAdd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sui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ode-se automatizar tes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u apen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7960" y="2895480"/>
            <a:ext cx="713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static Test suite() {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TestSuite(MoneyTest.class)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0760" y="560376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, um pouco de JUnit na pr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tinuando o proje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284760" y="144792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ve-se poder guardar diversos tipos de mo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80" y="1981080"/>
            <a:ext cx="8044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lass MoneyBa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vate Vector fMoneis= new Vect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Bag(Money m1, Money m2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ppendMoney(m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ppendMoney(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Bag(Money bag[]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 (int i= 0; i &lt; bag.length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ppendMoney(bag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5160" y="1219320"/>
            <a:ext cx="731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otected void setUp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12CHF= new Money(12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14CHF= new Money(14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7USD=  new Money( 7, "US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21USD= new Money(21, "US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MB1= new MoneyBag(f12CHF, f7US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MB2= new MoneyBag(f14CHF, f21US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3080" y="117360"/>
            <a:ext cx="70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os testes deve se criar também objetos do novo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6240" y="1219320"/>
            <a:ext cx="6215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testBagEquals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!fMB1.equals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Equals(fMB1, fMB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!fMB1.equals(f12CHF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!f12CHF.equals(fMB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!fMB1.equals(fMB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1280" y="117360"/>
            <a:ext cx="79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vem se criar novos testes, mas os testes antigos continuam l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0400" y="461340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devem continuar funcionan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o quebrar este cic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ando um ambiente simples de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pois de fazer os primeiros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hábito vem para f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amos mostrar como seria um desenvolvimento ideal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través do JUnit.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, antes uma visão ger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4440" y="1219320"/>
            <a:ext cx="804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Money add(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m.currency().equals(currency(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(amount(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.amount(), currency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Bag(this, 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ops MoneyBag != Money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7760" y="11736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 podemos melhorar o método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7520" y="419112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 existem duas representações de dinheir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5480" y="4924440"/>
            <a:ext cx="859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erface IMone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abstract IMoney add(IMoney aMone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34520" y="11736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s, ainda não temos testes para tipos mis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320" y="914400"/>
            <a:ext cx="87760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testMixedSimpleAdd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[12 CHF] + [7 USD] == {[12 CHF][7 USD]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bag[]= { f12CHF, f7USD }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Bag expected= new MoneyBag(bag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Equals(expected, f12CHF.add(f7USD)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outros testes seguem o mesmo padrã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BagSimpleAdd - soma MoneyBag com Mon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SimpleBagAdd - soma Money com MoneyB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BagBagAdd - soma dois MoneyBa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37040" y="11736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s testes estão disponíve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00" y="1339920"/>
            <a:ext cx="8562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ublic static Test suit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estSuite suite= new TestSuit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MoneyEquals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BagEquals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SimpleAdd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MixedSimpleAdd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BagSimpleAdd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SimpleBagAdd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BagBagAdd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4040" y="537516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 sim vamos implementá-l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3560" y="228600"/>
            <a:ext cx="80445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lass Money implements IMone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(I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m.addMoney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lass MoneyBag implements IMone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MoneyBag.add(I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m.addMoneyBag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Money addMoney(Money aMone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Money addMoneyBag(MoneyBag aMoneyBa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75480" y="609480"/>
            <a:ext cx="8410320" cy="46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 Mone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Money(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m.currency().equals(currency(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(amount()+m.amount(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urrency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Bag(this, 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MoneyBag(MoneyBag 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s.addMoney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76560" y="609480"/>
            <a:ext cx="731304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 MoneyBa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Money(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Bag(m, 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MoneyBag(MoneyBag 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Bag(s, 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9640" y="5299200"/>
            <a:ext cx="84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rge um problema.... E se retira-se 12CHF de um MoneyBag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2CHF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6520" y="609480"/>
            <a:ext cx="877608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imeiro o tes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testSimplify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{[12 CHF][7 USD]} + [-12 CHF] == [7 US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expected= new Money(7, "US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Equals(expec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MS1.add(new Money(-12, "CHF"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6880" y="609480"/>
            <a:ext cx="859320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pois o cód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Money(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(new MoneyBag(m, this)).simplif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MoneyBag(MoneyBag 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(new MoneyBag(s, this)).simplif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vate IMoney simplify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fMonies.size() =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(IMoney)fMonies.firstEleme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th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senvolvimento com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vem ser escritos assim que possíve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vem ser adaptados segundo as mudança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ixe os testes antigos rodand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surgem novas idéias (simplify), crie testes, veja se funcionam, e se necessário altere o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JUnit - como funciona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rcabouço Java para testes de un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I para construir 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lasses básicas: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est, TestCase, TestSuite,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sam-se métodos tipo premis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ssertTrue(), assertEquals, fail(),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I para a execução de testes (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TestRunner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odo tex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odo gráf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Junit - origens e u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ado por K. Beck e E. Gam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ão para testes em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rmite a execução automática de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 os testes de forma silencio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irigido a testes de un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-se agrupar diversos 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 de u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ão use o méto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estXxx()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ara testar o méto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xxx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tilize os métodos da classe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est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ssertEquals( objeto1, objeto2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ssertTrue( varBool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ssertNotNull( objeto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fail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JUnit na prát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1) 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estRunner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recebe uma subclasse de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estCas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2) Descobre seus métodos (reflexão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3) Para cada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estXxx();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cria nova instâ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arante independência 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setUp(); testXxx(); tearDown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4) Possibilida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érmino OK, falha, ou exce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riando uma seqüência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asse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estSu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ddTes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adiciona um teste a li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ontra os testes em uma classe (reflexã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ew TestSuite( ClasseDeTestes.clas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-se juntar tu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estSuite ts = new TestSuite(“tudo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s.addTest( pacote.Teste1.test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s.addTest( ClasseDeTestes.suite(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emissas em Java (JDK 1.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va palavra chave: ass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ssert (n &gt; 0) : “n não é positivo”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dem ser desligadas facil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vocam um AssertionError quando falh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a usá-l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javac -source 1.4 Classe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java -ea Clas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20:26:44Z</dcterms:created>
  <dc:creator>compaq</dc:creator>
  <dc:description/>
  <dc:language>en-US</dc:language>
  <cp:lastModifiedBy>compaq</cp:lastModifiedBy>
  <dcterms:modified xsi:type="dcterms:W3CDTF">2003-04-04T16:38:47Z</dcterms:modified>
  <cp:revision>24</cp:revision>
  <dc:subject/>
  <dc:title>Exemplo de testes</dc:title>
</cp:coreProperties>
</file>