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AE8-A9C5-45BB-8FC5-E6DFB436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335-9B65-4E4C-9EA8-36234EDC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AB2-BAA5-4586-B5D8-B163F42B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8407-F8C7-40DF-9FE3-117FEE3C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5109-3D6A-4657-BF2E-1F2C8D2E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2091-B9FB-4E69-9C01-2E4A6AFB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140D-7F0D-48DD-A52B-DE17CBEE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3C00-075E-4AB9-8DFB-DA8EF79C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ED73-3D2C-4608-84DF-067FB0A0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75F5-BBBA-4983-AE16-8FC2EAB1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9FD6-699A-4AF6-94CD-6A656C4E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92C-20C5-4C90-89FD-37F45CDC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25D1-0E3A-45EF-947B-34B53E6F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5500-5E26-4627-97E7-6418814F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EF09-BE7A-4306-92E2-F799A4BB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608A-469E-4684-BB7C-808E5938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F555-F9DC-4E47-BD0A-38480E4B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F421-08C9-4EE3-800C-3D71FFCC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80DC-1AEE-435D-BD4B-DAC949E1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E332-3D72-411A-B342-1063D521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25BE-E5F0-4492-BB97-16E2EA33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358-E554-495D-87C6-80BB85B4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B95-7E1D-4E2B-8431-A007009E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8BF-E3C0-4A7C-8D8E-FC79B556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03/04/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VI Semana da Comput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44D1-0B72-474E-9BB5-24C3ADB28F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3677-A66F-4990-AB8A-0CF1F43F36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../../junit/junit3.7/javadoc/index.html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../junit/junit3.7/javadoc/junit/framework/TestCase.html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 de desenvolvimento com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1920" y="28954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54080" y="3048120"/>
            <a:ext cx="8991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Prof. Dr. Alfredo Gold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Departamento de Ciência da Compu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IME / U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3 de Abril d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VI Semana da Compu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JUnit  e premissa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emissas são usadas 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dentro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do cód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s testes JUnit ficam em classes separa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tem acesso a partes encapsul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JUnit testa a partir da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emissas podem verificar lógica inter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 de desempenh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88568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JUnitPer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étodos para medir desempenho e escala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Timed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ede, e limita o tempo do tes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Load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ecução concorrente, configuração por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ti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Thread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ecuta o teste como uma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thread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separ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 de Str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JMeter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- testa nos limi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 car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a diferentes tipos BDs, páginas WEB, objetos Ja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era gráf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ode ser usado em conjunto com 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JUnitPer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 de página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ar do ponto de vista do usuá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través de pági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 funcion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tensões do Ju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HttpUni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Servlet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JXweb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(especifica os testes em XM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XML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odos são projetos sourcefo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JUnit na prática: O progra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sistema para representar diversas moeda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a começar: algo simp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6520" y="609480"/>
            <a:ext cx="877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lass Mone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ivate int fAmou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ivate String fCurrenc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Money(int amount, String currency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Amount = amou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Currency = currenc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int amoun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fAmou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String currency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fCurrenc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7600" y="774720"/>
            <a:ext cx="767880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a somar dois “Moneys” da mesma moeda (currenc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Money add(Money m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new Money(amount()+m.amount(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urrency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estão de hábi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de a little, test a little, code a little, test a little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Já temos um objeto, vamos testá-lo 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 JUnit os testes devem ser subclasses de TestC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3720" y="730080"/>
            <a:ext cx="902016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ublic class MoneyTest extends TestCa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//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ublic void testSimpleAdd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Money m12CHF= new Money(12, "CHF");         //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Money m14CHF= new Money(14, "CHF");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Money expected= new Money(26, "CH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Money result= m12CHF.add(m14CHF);           //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ssert.</a:t>
            </a:r>
            <a:r>
              <a:rPr b="0" lang="pt-BR" sz="20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assertTru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expected.equals(result)); //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O testSimpleAdd() consiste e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ódigo para criar os objet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ódigo para usar os objet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ódigo para verificar os resul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Falta fazer a sobrecarga de eq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0560" y="1447920"/>
            <a:ext cx="8958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void testEquals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ney m12CHF= new Money(12, "CH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ney m14CHF= new Money(14, "CH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.assertTrue(!m12CHF.equals(null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.assertEquals(m12CHF, m12CH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.assertEquals(m12CH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new Money(12, "CHF")); //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.assertTrue(!m12CHF.equals(m14CHF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 lembrete: o equals do object volta true se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 objetos comparados são o me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8440" y="345960"/>
            <a:ext cx="42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s antes um teste para o eq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blema com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odos sabem: devem ser escrito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oucos o fazem, e por quê não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ou com muita pres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, isto cria um círculo vicio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130760" y="4842000"/>
            <a:ext cx="1733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nos te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5105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73240" y="4384800"/>
            <a:ext cx="275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nos produti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nos est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1904760" y="533376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55360" y="6019920"/>
            <a:ext cx="1750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s pre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419720" y="5257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82440" y="838080"/>
            <a:ext cx="93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gora s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boolean equals(Object anObject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(anObject instanceof Money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ney aMoney = (Money) anObjec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aMoney.currency().equals(currency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&amp;&amp; amount() == aMoney.amou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 faltou sobrecarregar o método hashCod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84600" y="838080"/>
            <a:ext cx="83037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s, já apesar dos testes serem pequenos já há código duplicad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class MoneyTest extends TestCa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ivate Money f12CH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ivate Money f14CHF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otected void </a:t>
            </a:r>
            <a:r>
              <a:rPr b="0" lang="pt-BR" sz="2400" spc="-1" strike="noStrike" u="sng">
                <a:solidFill>
                  <a:srgbClr val="996633"/>
                </a:solidFill>
                <a:uFillTx/>
                <a:latin typeface="Courier New"/>
                <a:hlinkClick r:id="rId1"/>
              </a:rPr>
              <a:t>setUp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12CHF= new Money(12, "CH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14CHF= new Money(14, "CH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-82080" y="838080"/>
            <a:ext cx="8776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gora os testes podem ser rescrito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void testEquals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(!f12CHF.equals(null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Equals(f12CHF, f12CH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Equals(f12CHF, new Money(12, "CHF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(!f12CHF.equals(f14CHF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void testSimpleAdd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ney expected= new Money(26, "CH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ney result= f12CHF.add(f14CH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(expected.equals(resul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óximos pass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finir como rodar um teste individual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finir como rodar uma seqüência de tes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2160" y="838080"/>
            <a:ext cx="822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 forma estática, com classe i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estCase test= new MoneyTest("simple add"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void run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estSimpleAd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1800" y="4356000"/>
            <a:ext cx="85932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 forma dinâmica, usa reflex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estCase test= new MoneyTest("testSimpleAdd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ode-se automatizar teste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riando uma seqüência de 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-82440" y="3279600"/>
            <a:ext cx="93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static Test suite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estSuite suite= new TestSuit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uite.addTest(new MoneyTest("testEquals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uite.addTest(new MoneyTest("testSimpleAdd"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sui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ode-se automatizar teste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u apen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17960" y="2895480"/>
            <a:ext cx="713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static Test suite() {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new TestSuite(MoneyTest.class);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0760" y="5603760"/>
            <a:ext cx="47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gora, um pouco de JUnit na pr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tinuando o proje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284760" y="144792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ve-se poder guardar diversos tipos de mo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280" y="1981080"/>
            <a:ext cx="8044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lass MoneyBag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ivate Vector fMoneis= new Vecto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neyBag(Money m1, Money m2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ppendMoney(m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ppendMoney(m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neyBag(Money bag[]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or (int i= 0; i &lt; bag.length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ppendMoney(bag[i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5160" y="1219320"/>
            <a:ext cx="731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otected void setUp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12CHF= new Money(12, "CH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14CHF= new Money(14, "CH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7USD=  new Money( 7, "USD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21USD= new Money(21, "USD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MB1= new MoneyBag(f12CHF, f7US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MB2= new MoneyBag(f14CHF, f21US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3080" y="117360"/>
            <a:ext cx="70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a os testes deve se criar também objetos do novo 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6240" y="1219320"/>
            <a:ext cx="6215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void testBagEquals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(!fMB1.equals(null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Equals(fMB1, fMB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(!fMB1.equals(f12CHF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(!f12CHF.equals(fMB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(!fMB1.equals(fMB2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1280" y="117360"/>
            <a:ext cx="79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vem se criar novos testes, mas os testes antigos continuam l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0400" y="4613400"/>
            <a:ext cx="43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devem continuar funcionand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mo quebrar este cicl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riando um ambiente simples de 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pois de fazer os primeiros 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hábito vem para fic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amos mostrar como seria um desenvolvimento ideal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través do JUnit..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, antes uma visão ger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04440" y="1219320"/>
            <a:ext cx="8044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Money add(Money m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(m.currency().equals(currency()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new Money(amount(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.amount(), currency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new MoneyBag(this, 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 ops MoneyBag != Money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7760" y="117360"/>
            <a:ext cx="50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gora podemos melhorar o método 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7520" y="4191120"/>
            <a:ext cx="61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gora existem duas representações de dinheir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5480" y="4924440"/>
            <a:ext cx="859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erface IMone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abstract IMoney add(IMoney aMone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34520" y="117360"/>
            <a:ext cx="59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s, ainda não temos testes para tipos mis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320" y="914400"/>
            <a:ext cx="87760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void testMixedSimpleAdd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 [12 CHF] + [7 USD] == {[12 CHF][7 USD]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ney bag[]= { f12CHF, f7USD }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neyBag expected= new MoneyBag(bag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Equals(expected, f12CHF.add(f7USD)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outros testes seguem o mesmo padrã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stBagSimpleAdd - soma MoneyBag com Mon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stSimpleBagAdd - soma Money com MoneyB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stBagBagAdd - soma dois MoneyBa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37040" y="11736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is testes estão disponíve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00" y="1339920"/>
            <a:ext cx="8562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ublic static Test suite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TestSuite suite= new TestSuit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uite.addTest(new MoneyTest("testMoneyEquals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uite.addTest(new MoneyTest("testBagEquals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uite.addTest(new MoneyTest("testSimpleAdd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uite.addTest(new MoneyTest("testMixedSimpleAdd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uite.addTest(new MoneyTest("testBagSimpleAdd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uite.addTest(new MoneyTest("testSimpleBagAdd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uite.addTest(new MoneyTest("testBagBagAdd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return sui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4040" y="5375160"/>
            <a:ext cx="45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gora sim vamos implementá-l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3560" y="228600"/>
            <a:ext cx="80445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lass Money implements IMone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IMoney add(IMoney m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m.addMoney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lass MoneyBag implements IMone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IMoney MoneyBag.add(IMoney m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m.addMoneyBag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Money addMoney(Money aMone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Money addMoneyBag(MoneyBag aMoneyBa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75480" y="609480"/>
            <a:ext cx="8410320" cy="46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 Mone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IMoney addMoney(Money m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(m.currency().equals(currency(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new Money(amount()+m.amount(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urrency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new MoneyBag(this, 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IMoney addMoneyBag(MoneyBag 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s.addMoney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76560" y="609480"/>
            <a:ext cx="731304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 MoneyBa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IMoney addMoney(Money m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new MoneyBag(m, 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IMoney addMoneyBag(MoneyBag 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new MoneyBag(s, 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9640" y="5299200"/>
            <a:ext cx="84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urge um problema.... E se retira-se 12CHF de um MoneyBag 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2CHF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6520" y="609480"/>
            <a:ext cx="8776080" cy="3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imeiro o test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void testSimplify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 {[12 CHF][7 USD]} + [-12 CHF] == [7 US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oney expected= new Money(7, "USD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sertEquals(expect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MS1.add(new Money(-12, "CHF"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6880" y="609480"/>
            <a:ext cx="859320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pois o códi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IMoney addMoney(Money m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(new MoneyBag(m, this)).simplif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IMoney addMoneyBag(MoneyBag 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(new MoneyBag(s, this)).simplif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ivate IMoney simplify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(fMonies.size() ==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(IMoney)fMonies.firstEleme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th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esenvolvimento com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vem ser escritos assim que possível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vem ser adaptados segundo as mudança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ixe os testes antigos rodando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surgem novas idéias (simplify), crie testes, veja se funcionam, e se necessário altere o códi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JUnit - como funciona 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rcabouço Java para testes de un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I para construir te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lasses básicas: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est, TestCase, TestSuite,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sam-se métodos tipo premiss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ssertTrue(), assertEquals, fail(),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I para a execução de testes (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TestRunner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odo tex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odo gráf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Junit - origens e us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riado por K. Beck e E. Gam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drão para testes em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rmite a execução automática de 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ta os testes de forma silencio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irigido a testes de un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éto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de-se agrupar diversos te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 de us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drão use o método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testXxx()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para testar o método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xxx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tilize os métodos da classe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TestC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assertEquals( objeto1, objeto2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assertTrue( varBool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assertNotNull( objeto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fail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JUnit na prát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88568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1) O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TestRunner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recebe uma subclasse de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TestCas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2) Descobre seus métodos (reflexão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3) Para cada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testXxx();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cria nova instâ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arante independência 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ta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setUp(); testXxx(); tearDown(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4) Possibilida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érmino OK, falha, ou exce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riando uma seqüência de 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lasse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TestSu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étodo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addTes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adiciona um teste a lis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contra os testes em uma classe (reflexã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new TestSuite( ClasseDeTestes.clas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de-se juntar tu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estSuite ts = new TestSuite(“tudo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s.addTest( pacote.Teste1.testeX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s.addTest( ClasseDeTestes.suite()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emissas em Java (JDK 1.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88568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va palavra chave: ass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assert (n &gt; 0) : “n não é positivo”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odem ser desligadas facil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vocam um AssertionError quando falh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a usá-l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javac -source 1.4 Classe.jav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java -ea Clas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20:26:44Z</dcterms:created>
  <dc:creator>compaq</dc:creator>
  <dc:description/>
  <dc:language>en-US</dc:language>
  <cp:lastModifiedBy>compaq</cp:lastModifiedBy>
  <dcterms:modified xsi:type="dcterms:W3CDTF">2003-04-04T16:38:47Z</dcterms:modified>
  <cp:revision>24</cp:revision>
  <dc:subject/>
  <dc:title>Exemplo de testes</dc:title>
</cp:coreProperties>
</file>