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D8C-1222-42BF-9933-0FDDA6E3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320-8B00-4FDF-9BEE-A25AC5C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AA2-1663-4383-967C-4B027833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64C-8EB9-4F59-A81E-BEBB9737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913-DBB0-447F-8425-91291DF7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6DEE-4717-4B94-A718-BE290D0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1C2-1A13-4DA8-B642-A87490E8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CBAD-94FA-4F1A-B628-EDDA9306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9754-D248-47F0-A0FE-8F5BBEF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6CC9-8223-4E00-BC83-D5C84D9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679-762A-436E-B5D9-0F46E77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BD8-7308-4DD9-BCA6-63ECCD1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3B2F-F8D4-4092-AF9F-7C701A8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50C3-E0F2-4E54-AAAF-0E349F0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5E51-2776-4C03-A497-436CFA0F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AA1-85F8-4FB2-9B29-63ECCB81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F757-0E6B-4051-B0EC-1A8B2382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5C6-FE12-4DC5-8DC2-8C9485A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97A-E71D-460C-A89F-0387F752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CA9-B1C2-4D7C-85D2-89C285A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AC5-9B53-4F64-BC3C-034973B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46B-B171-42DC-A77F-13CF878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316-0BE7-4E34-979D-ED56175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705-8D90-46F8-A9F8-7A2197B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02/04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VI Semana da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7C7-330D-4941-8BE8-1D1B63F9DE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B4B-093B-452A-B45D-10A32B7CA3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ti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2 de Abril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VI Semana da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76000" y="1946160"/>
            <a:ext cx="8547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theElementIndex = 0; theElementIndex &lt; numberOfEl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heElement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ementArray[theElementIndex] = theElement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" y="3824280"/>
            <a:ext cx="38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 = 0; i &lt; nelem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emen[i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 (consistênci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oisas correlatas use nomes 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stram a sua relaçã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idenciam suas diferenç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(nom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284400" y="1868400"/>
            <a:ext cx="749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UserQueu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noOfItemsInQ, frontOfTheQue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Capac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noOfUsersInQueue() {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alavra queue aparec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, queue 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em u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.queueCapacity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rreção (nom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1868400"/>
            <a:ext cx="603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UserQueu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nitems, front,capac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nOfItems() {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que leva a comand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.capacity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 = queue.nOfItem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 de fun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verbos para nomear fun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ow = date.getTim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perguntas booleanas a pergunta deve ser cl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checkoctal(c)) 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isoctal(c))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ja preci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88600" y="18702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nome fornece informações ao le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octal(c) ((c) &gt;=‘0’ &amp;&amp; (c) &lt;=‘8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4440" y="3962520"/>
            <a:ext cx="80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o  invé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octal(c) ((c) &gt;=‘0’ &amp;&amp; (c) &lt;=‘7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ja preciso (outro exemplo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89320" y="2517840"/>
            <a:ext cx="73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boolean inTable( Object 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j = this.getIndex(ob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getIndex volta o índice onde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está, ou o tamanho da tab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j == nTab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591120" y="2519280"/>
            <a:ext cx="53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e o seguinte trecho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R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FAL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(ch = getchar()) == E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ot_eof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pressões e coman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código cla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espaç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66720" y="32400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n++;n&lt;100;field[n++]=‘\0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*i = ‘\0’; return (‘\n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0800" y="4892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n++; n&lt;100; n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ield[n]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*i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‘\n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e expressões fác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ca: Escreva-as como você as fal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71760" y="3289320"/>
            <a:ext cx="81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!(block_id &lt; actblks) || (block_id &gt;= unblock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7600" y="4861080"/>
            <a:ext cx="79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(block_id &gt;= actblks) || (block_id &lt; unblock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75360" y="2254320"/>
            <a:ext cx="60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ães latem, gatos tem estilo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harles Bukowi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e paren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faz mal a ningu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2680" y="3289320"/>
            <a:ext cx="85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ap_year = y % 4 == 0 &amp;&amp; y % 100 != 0 || y % 400 =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360" y="4403880"/>
            <a:ext cx="88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ap_year = (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Quebre expressões complica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 também devem ser capazes de ler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2680" y="328932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 += (*xp=(2*k &lt; (n-m) ? C[k+1] : d[k--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720" y="4403880"/>
            <a:ext cx="277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2*k &lt; n-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p = c[k+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p = d[k--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 += *x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Tente ser clar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 escrever código conciso escreva código legível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2680" y="3289320"/>
            <a:ext cx="52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(!LC&amp;&amp;!RC)?0:(!LC?RC:L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4403880"/>
            <a:ext cx="368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LC == 0 &amp;&amp; RC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LC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R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L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Cuidado com efeitos colatera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es como o ++ podem ser armadilh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2680" y="31240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str[i++] = ‘ 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000" y="44038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ray[i++]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7560" y="3124080"/>
            <a:ext cx="24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‘ ‘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‘ 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000" y="524196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canf(``%d %d’’, &amp;yr, &amp;profit[yr]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lhore os seguintes trech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382680" y="213372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!(c ==‘y’ || c == ‘Y’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2680" y="33368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ngth = (length &lt; BUFSIZE) ? lenght : BUF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680" y="417528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lag = flag ? 0 :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2680" y="5318280"/>
            <a:ext cx="795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quais são as saídas possíveis do seguinte prin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``%d %d\n’’, n++, n++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sistência e Idio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uma endentação consistente e um único estilo de {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a linguagem norm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s ifs e elses da seguinte mane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747720" y="3809880"/>
            <a:ext cx="3381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condition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conditio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conditio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ault-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747720" y="1793880"/>
            <a:ext cx="475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creva os seguintes tr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istty(stdin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istty(stdout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istty(stderr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560" y="4238640"/>
            <a:ext cx="46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 (k = 0; k++ &lt; 5; x += 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canf(``%lf’’, &amp;d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muito usadas por programadores mais anti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oferecem nenhum ganho espe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m ser evit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12640" y="1868400"/>
            <a:ext cx="80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upper(c) ((c) &gt;=`A’ &amp;&amp; (c) &lt;=`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o que acontece n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isupper(c = getchar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8480" y="402588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mas pode ser resolvido de forma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(c = getchar() != EOF &amp;&amp; isupper(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1917720"/>
            <a:ext cx="901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\\ podem piorar o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define ROUND_TO_INT(x) ((int) ((x) + (((x)&gt;0)?0.5:-0.5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\\ o que acontece na cha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ize = ROUND_TO_INT( sqrt(dx*dx + dy*dy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560" y="4299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A falta de parenteses pode provocar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square(x)  (x)*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a seguinte expressão dá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 = 1.0 / square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70200" y="1523880"/>
            <a:ext cx="927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bserva-se que os melhores escritores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vezes desrespeitam as regras da retórica. M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quando o fazem os leitores geralmente encont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na sentença um mérito compensador, maior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que o custo da violaç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 não ser que você tenha certeza de estar faz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mesmo, o melhor é seguir as regra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Strunk&amp;White - Elementos de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úmeros mág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ê nome aos números má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quer número (fora 0 e 1) deve ter um n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a número como const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use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 enum (em C), const (em C++) e static final (em 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constantes caracteres, não núme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e a linguagem calcular o tamanho de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514800" y="1870200"/>
            <a:ext cx="530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melhorar as seguintes 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FT2METER    0.30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ETER2FT    3.280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I2FT       528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I2KM       1.6093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SQMI2SQKM   2.589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entár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mente o óbv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e funções e variáveis glob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mente código ruim, rescreva-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ntradiga o códig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rifique, não confu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ilo deve se tornar um háb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sto se torna automático com o t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 naturalmente o código melhora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mesmo sob press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rian W. Kernighan e Rob Pi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The Practice of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dison-Wesley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ítulo 1: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91840" y="18702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agmento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2679840"/>
            <a:ext cx="841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(country == SING) || (country == BRNI)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country == POL) || (country == ITALY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* If the country is Singapore, Brunei or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then the current time is the answ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rather than the off hook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Reset answer time and set day of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680" y="529920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bem escrito e fun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080" y="60199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pode ser melhorado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programas é mais do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ntaxe cor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rar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ficiê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s são lidos também por pessoa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programa bem escrito pode ser entendido e modificado mais faci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bem =&gt; código corr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nso comum (confie na experiê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ódigo claro e si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ógica di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ressões fác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com sign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u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ções não us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738320" y="3048120"/>
            <a:ext cx="45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ormato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entários b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3000" y="5715000"/>
            <a:ext cx="1295280" cy="457200"/>
            <a:chOff x="1143000" y="5715000"/>
            <a:chExt cx="1295280" cy="457200"/>
          </a:xfrm>
        </p:grpSpPr>
        <p:sp>
          <p:nvSpPr>
            <p:cNvPr id="100" name=""/>
            <p:cNvSpPr/>
            <p:nvPr/>
          </p:nvSpPr>
          <p:spPr>
            <a:xfrm flipV="1">
              <a:off x="1143000" y="571500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571500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6248520"/>
            <a:ext cx="1295280" cy="457200"/>
            <a:chOff x="2209680" y="6248520"/>
            <a:chExt cx="1295280" cy="457200"/>
          </a:xfrm>
        </p:grpSpPr>
        <p:sp>
          <p:nvSpPr>
            <p:cNvPr id="103" name=""/>
            <p:cNvSpPr/>
            <p:nvPr/>
          </p:nvSpPr>
          <p:spPr>
            <a:xfrm flipV="1">
              <a:off x="2209680" y="624852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9680" y="624852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88000" y="19447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ONE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EN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WENTY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8360" y="2362320"/>
            <a:ext cx="5118480" cy="3051720"/>
            <a:chOff x="378360" y="2362320"/>
            <a:chExt cx="5118480" cy="3051720"/>
          </a:xfrm>
        </p:grpSpPr>
        <p:grpSp>
          <p:nvGrpSpPr>
            <p:cNvPr id="108" name=""/>
            <p:cNvGrpSpPr/>
            <p:nvPr/>
          </p:nvGrpSpPr>
          <p:grpSpPr>
            <a:xfrm>
              <a:off x="1143000" y="2362320"/>
              <a:ext cx="1295280" cy="457200"/>
              <a:chOff x="1143000" y="2362320"/>
              <a:chExt cx="1295280" cy="4572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1143000" y="2362320"/>
                <a:ext cx="1295280" cy="457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3000" y="2362320"/>
                <a:ext cx="1295280" cy="457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78360" y="4222800"/>
              <a:ext cx="511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INPUT_MODE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INPUT_BUFSIZE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OUTPUT_BUFSIZE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de variável/ atributo/ ob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de função/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 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orm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c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moriz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nunci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globais/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longos e descritivos (lembrar signific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npending = 0; //tamanho atual da fila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cur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 pode ser sufi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points está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umberOfPoints é grande dem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4:19:53Z</dcterms:created>
  <dc:creator>compaq</dc:creator>
  <dc:description/>
  <dc:language>en-US</dc:language>
  <cp:lastModifiedBy>compaq</cp:lastModifiedBy>
  <dcterms:modified xsi:type="dcterms:W3CDTF">2003-04-02T12:00:53Z</dcterms:modified>
  <cp:revision>22</cp:revision>
  <dc:subject/>
  <dc:title>Estilo </dc:title>
</cp:coreProperties>
</file>