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BEF-4F0A-44E0-A6EE-BF8501BA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5D1-0841-4BCD-B420-CBAB1C91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24E-9A09-4855-A491-A2BA2336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123-C494-44CE-AD27-036F0911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6BAD-64DE-463D-BBB2-8F90F2E7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395-CD51-4560-884E-E19811D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C4F0-6495-42A8-9C0E-4AF3377F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75B-4781-4223-957C-7E6DE9E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BB39-C553-4849-9EEA-52C9F758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04D-AE28-4B18-B18B-87400C4E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4A57-B273-46D3-A6B9-69AA0CD9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5FA-B18D-4FA7-ACB8-3D14D146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A2D9-BE1A-4F59-AEBF-3E78F53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132-16EC-4B40-93FB-66973090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6EB8-41E0-4B99-AC86-77E8D089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83A6-82A8-4091-9900-46F8F5C1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4221-E374-474B-82EA-B0DC6870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40F-D5C6-471F-BFCE-06699F9B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DBA-81C8-4EEB-9AC1-9CD7271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073-CE43-4C79-BCF5-69A5683D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A16-E973-46C0-8A78-6727892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B8B-34DE-4583-A239-EA2FFC5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269-7C04-49F9-B9BF-389A67B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220-70A5-4EB9-8DD2-5D8595D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02/04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VI Semana da Compu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3D1-B79D-4567-B340-C4B2A53763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A78-F185-414A-A947-410B537A99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sti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3048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Alfredo Gold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2 de Abril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VI Semana da 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576000" y="1946160"/>
            <a:ext cx="8547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theElementIndex = 0; theElementIndex &lt; numberOfEl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heElementIndex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ementArray[theElementIndex] = theElement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" y="3824280"/>
            <a:ext cx="388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 = 0; i &lt; nelem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emen[i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 (consistênci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a coisas correlatas use nomes 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stram a sua relaçã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idenciam suas diferenç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 (nome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284400" y="1868400"/>
            <a:ext cx="749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UserQueu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noOfItemsInQ, frontOfTheQue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eueCapac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nt noOfUsersInQueue() {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palavra queue aparec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, queue 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 em u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eue.queueCapacity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rreção (nome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1868400"/>
            <a:ext cx="603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lass UserQueu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nitems, front,capac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int nOfItems() { 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que leva a comand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eue.capacity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 = queue.nOfItem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 de fun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verbos para nomear fun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ow = date.getTim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perguntas booleanas a pergunta deve ser cla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checkoctal(c)) 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isoctal(c))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ja preci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88600" y="18702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nome fornece informações ao le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isoctal(c) ((c) &gt;=‘0’ &amp;&amp; (c) &lt;=‘8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4440" y="3962520"/>
            <a:ext cx="80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o  invé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isoctal(c) ((c) &gt;=‘0’ &amp;&amp; (c) &lt;=‘7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Seja preciso (outro exemplo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589320" y="2517840"/>
            <a:ext cx="73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ublic boolean inTable( Object 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j = this.getIndex(ob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getIndex volta o índice onde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// está, ou o tamanho da tab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(j == nTab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rcíc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591120" y="2519280"/>
            <a:ext cx="53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e o seguinte trecho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TRU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FAL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((ch = getchar()) == E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ot_eof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pressões e coman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a código cla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espaç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66720" y="324000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n++;n&lt;100;field[n++]=‘\0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*i = ‘\0’; return (‘\n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0800" y="4892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(n++; n&lt;100; n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ield[n] = 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*i = ‘\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 ‘\n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se expressões fáce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ca: Escreva-as como você as fal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71760" y="3289320"/>
            <a:ext cx="81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!(block_id &lt; actblks) || (block_id &gt;= unblock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7600" y="4861080"/>
            <a:ext cx="795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(block_id &gt;= actblks) || (block_id &lt; unblock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75360" y="2254320"/>
            <a:ext cx="60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ães latem, gatos tem estilo..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Charles Bukowi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se parente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faz mal a ningué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2680" y="3289320"/>
            <a:ext cx="85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ap_year = y % 4 == 0 &amp;&amp; y % 100 != 0 || y % 400 =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6360" y="4403880"/>
            <a:ext cx="88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ap_year = ((y%4 == 0) &amp;&amp; (y%100 != 0)) || (y%400 ==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Quebre expressões complicad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 também devem ser capazes de ler o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2680" y="3289320"/>
            <a:ext cx="68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 += (*xp=(2*k &lt; (n-m) ? C[k+1] : d[k--]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720" y="4403880"/>
            <a:ext cx="277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2*k &lt; n-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p = c[k+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p = d[k--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x += *x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Tente ser clar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o invés de escrever código conciso escreva código legível 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2680" y="3289320"/>
            <a:ext cx="52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(!LC&amp;&amp;!RC)?0:(!LC?RC:L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4403880"/>
            <a:ext cx="368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LC == 0 &amp;&amp; RC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LC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R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ild = L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Cuidado com efeitos colatera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es como o ++ podem ser armadilh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2680" y="31240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r[i++] = str[i++] = ‘ 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9000" y="44038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ray[i++] 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7560" y="3124080"/>
            <a:ext cx="24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r[i++] = ‘ ‘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r[i++] = ‘ 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9000" y="5241960"/>
            <a:ext cx="56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canf(``%d %d’’, &amp;yr, &amp;profit[yr]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Melhore os seguintes trech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382680" y="213372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!(c ==‘y’ || c == ‘Y’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2680" y="333684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ngth = (length &lt; BUFSIZE) ? lenght : BUF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2680" y="417528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lag = flag ? 0 :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2680" y="5318280"/>
            <a:ext cx="795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 quais são as saídas possíveis do seguinte prin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n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``%d %d\n’’, n++, n++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sistência e Idio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uma endentação consistente e um único estilo de {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a linguagem normal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os ifs e elses da seguinte manei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747720" y="3809880"/>
            <a:ext cx="3381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condition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atemen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condition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atemen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conditio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atemen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ault-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747720" y="1793880"/>
            <a:ext cx="4752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creva os seguintes tr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istty(stdin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istty(stdout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if (istty(stderr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lse retur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560" y="4238640"/>
            <a:ext cx="46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r (k = 0; k++ &lt; 5; x += 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canf(``%lf’’, &amp;d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c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ão muito usadas por programadores mais antig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oferecem nenhum ganho espe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vem ser evit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 com mac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12640" y="1868400"/>
            <a:ext cx="80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isupper(c) ((c) &gt;=`A’ &amp;&amp; (c) &lt;=`Z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o que acontece n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 (isupper(c = getchar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8480" y="402588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mas pode ser resolvido de forma si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 ((c = getchar() != EOF &amp;&amp; isupper(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blemas com macr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1917720"/>
            <a:ext cx="901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\\ podem piorar o desempe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define ROUND_TO_INT(x) ((int) ((x) + (((x)&gt;0)?0.5:-0.5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\\ o que acontece na cha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ize = ROUND_TO_INT( sqrt(dx*dx + dy*dy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560" y="4299120"/>
            <a:ext cx="822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A falta de parenteses pode provocar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square(x)  (x)*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\\ a seguinte expressão dá 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 = 1.0 / square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70200" y="1523880"/>
            <a:ext cx="927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bserva-se que os melhores escritores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vezes desrespeitam as regras da retórica. Ma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quando o fazem os leitores geralmente encont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na sentença um mérito compensador, maior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que o custo da violaçã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 não ser que você tenha certeza de estar faz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o mesmo, o melhor é seguir as regra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Strunk&amp;White - Elementos de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úmeros mág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ê nome aos números mág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quer número (fora 0 e 1) deve ter um n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a número como const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use mac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e enum (em C), const (em C++) e static final (em 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e constantes caracteres, não núme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e a linguagem calcular o tamanho de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514800" y="1870200"/>
            <a:ext cx="530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melhorar as seguintes 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FT2METER    0.30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METER2FT    3.280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MI2FT       528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MI2KM       1.6093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SQMI2SQKM   2.5899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entár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mente o óbv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e funções e variáveis glob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mente código ruim, rescreva-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contradiga o códig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larifique, não confu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ilo deve se tornar um háb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sto se torna automático com o t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 naturalmente o código melhora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mesmo sob pressã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rian W. Kernighan e Rob Pi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The Practice of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dison-Wesley, 199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pítulo 1: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bser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91840" y="187020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ragmento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2679840"/>
            <a:ext cx="841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 ((country == SING) || (country == BRNI) 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country == POL) || (country == ITALY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* If the country is Singapore, Brunei or Po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 then the current time is the answ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 rather than the off hook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 Reset answer time and set day of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2680" y="529920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bem escrito e funci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080" y="601992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s pode ser melhorado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programas é mais do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ntaxe cor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rar er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ficiê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s são lidos também por pessoa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programa bem escrito pode ser entendido e modificado mais facil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bem =&gt; código corr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incíp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nso comum (confie na experiê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ódigo claro e si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ógica dir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pressões fác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s com sign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i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u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ções não usu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738320" y="3048120"/>
            <a:ext cx="452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ormato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entários b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3000" y="5715000"/>
            <a:ext cx="1295280" cy="457200"/>
            <a:chOff x="1143000" y="5715000"/>
            <a:chExt cx="1295280" cy="457200"/>
          </a:xfrm>
        </p:grpSpPr>
        <p:sp>
          <p:nvSpPr>
            <p:cNvPr id="100" name=""/>
            <p:cNvSpPr/>
            <p:nvPr/>
          </p:nvSpPr>
          <p:spPr>
            <a:xfrm flipV="1">
              <a:off x="1143000" y="571500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571500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6248520"/>
            <a:ext cx="1295280" cy="457200"/>
            <a:chOff x="2209680" y="6248520"/>
            <a:chExt cx="1295280" cy="457200"/>
          </a:xfrm>
        </p:grpSpPr>
        <p:sp>
          <p:nvSpPr>
            <p:cNvPr id="103" name=""/>
            <p:cNvSpPr/>
            <p:nvPr/>
          </p:nvSpPr>
          <p:spPr>
            <a:xfrm flipV="1">
              <a:off x="2209680" y="624852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09680" y="6248520"/>
              <a:ext cx="129528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exemp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88000" y="19447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ONE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TEN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#define TWENTY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8360" y="2362320"/>
            <a:ext cx="5118480" cy="3051720"/>
            <a:chOff x="378360" y="2362320"/>
            <a:chExt cx="5118480" cy="3051720"/>
          </a:xfrm>
        </p:grpSpPr>
        <p:grpSp>
          <p:nvGrpSpPr>
            <p:cNvPr id="108" name=""/>
            <p:cNvGrpSpPr/>
            <p:nvPr/>
          </p:nvGrpSpPr>
          <p:grpSpPr>
            <a:xfrm>
              <a:off x="1143000" y="2362320"/>
              <a:ext cx="1295280" cy="457200"/>
              <a:chOff x="1143000" y="2362320"/>
              <a:chExt cx="1295280" cy="4572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1143000" y="2362320"/>
                <a:ext cx="1295280" cy="457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3000" y="2362320"/>
                <a:ext cx="1295280" cy="457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78360" y="4222800"/>
              <a:ext cx="511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#define INPUT_MODE   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#define INPUT_BUFSIZE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#define OUTPUT_BUFSIZE 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de variável/ atributo/ ob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de função/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ve 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orm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c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morizá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nunciá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No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riáveis globais/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s longos e descritivos (lembrar signific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npending = 0; //tamanho atual da fila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riáveis lo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mes cur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 pode ser sufic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points está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umberOfPoints é grande dem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4:19:53Z</dcterms:created>
  <dc:creator>compaq</dc:creator>
  <dc:description/>
  <dc:language>en-US</dc:language>
  <cp:lastModifiedBy>compaq</cp:lastModifiedBy>
  <dcterms:modified xsi:type="dcterms:W3CDTF">2003-04-02T12:00:53Z</dcterms:modified>
  <cp:revision>22</cp:revision>
  <dc:subject/>
  <dc:title>Estilo </dc:title>
</cp:coreProperties>
</file>