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5098-3AB3-4036-AC92-2F2F90AEB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82DE-1C87-4E67-82D5-EE7FC2ABF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F95E-49AC-4E53-A993-EBDAB53BC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BDFF-C29F-4E5B-ACE7-655735A2A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F622-79D4-4DA6-95F3-41F40AAA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964D5-CAF9-4DDE-84DC-AD0A6C15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CA3AA-4E52-429E-98DA-4B041760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1523B-DDE2-40F6-A5F9-A582C311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52693-B15A-424B-8C6F-281412D2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1418F-4A05-489F-B961-6DDDCC60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9D0EF-656D-4B74-B383-39BBE9A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8088-D9CA-404E-88E1-C8EB6B15E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D446E-0B38-46A9-BA97-B5EEAC13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2A978-0049-4766-964B-AAE2F66B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FAB17-979D-4CDC-8CB4-49C37126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07C58-0972-44EB-94F4-430921CC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A97E8-0E23-4084-94F1-3E53D361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E6CA-A396-4F11-9C66-E3C93EA96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58FD-AC25-4554-B3A3-D298FDBE9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DA98-E3BF-499B-A02F-1F1BFCDBD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AD0C-1841-4531-B585-305CB46F0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C227-BAF2-4945-A16E-CFD799035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9942-BB41-4426-BCB2-6690D4F64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1924-83EF-435F-9390-4704888C8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4DB1-D2F4-4D11-B67A-0BBEFA6929DC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ner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763120" cy="7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5656-DFE4-4449-ADEE-853305DEF66A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 Black"/>
              </a:rPr>
              <a:t>Depuração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Alfredo Goldm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8FDBD-D547-4037-BBF7-B9DB37D766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Fazer Entã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preciso estar ciente das características perigosas das linguagens com as quais se está lid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crever bom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crever bons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Usar boas ferramentas de depu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F5D4-CC97-4DA4-B03C-1D33BB9668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mais da metade do tempo gasto no desenvolvimento de software é gasto com depura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mos que tentar diminuir isso. Com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crever bom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crever bons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Usar boas ferramentas/metodologias de depu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9873-E591-4130-B926-22DEBDB33DF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cução passo a pas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ep in, step through, run till retu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reakpoint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(linha, função, condiçã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ressão de valores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companhamento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qüência de chamada de funções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tack trac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tep 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(em algumas linguagens e ambientes)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D5BD-A82C-481F-8F98-371A6FE51F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uradores são uma ferramenta extremamente útil mas às vezes não são a melhor alternati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mas linguagens e ambientes não 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m variar muito de um ambiente p/ out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programas às vezes não se dão bem com depuradores (SOs, sistemas distribuídos, multi-threaded, sistemas de tempo rea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lução: uso criterioso 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17D7-1BF4-4537-B7A0-AEBDDBEA13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puradores podem ser muito complicados para iniciantes. Um uso criterioso 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pode ser mais fá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3526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vocês não são mais iniciante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Qual o depurador disponíve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Use-o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952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3E26-0646-414E-B450-135F4C4447A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Há Dica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fácei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lha de Segmentaçã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egmentation faul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é o melhor caso possível para um err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sta executar no depurador e olhar o estado da pilha e das variáveis no momento do er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então: arquivo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gdb exec_file 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1C6C-3A6B-4161-80F9-649E9AFA9B8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Há Dica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fácei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programa fez algo que não devia ou imprimiu algo absur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 para pensar o que pode ter ocorr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lhe para a saída do programa: comece do lugar onde a coisa inesperada aconteceu e volte, passo a passo, examinando cada mensagem e tente descobrir onde o erro se origino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 para pensar... pense em marcha ré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4966-47CD-4B7F-A255-287DD8AC04A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cure por Padrões Familiares de Er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comum com inician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canf (“%d”, n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267080"/>
            <a:ext cx="81788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o invé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canf (“%d”, &amp;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D194-BA9C-482D-9699-AB17B5EBB44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cure por Padrões Familiares de Er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int n = 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double d = P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printf(“%d\n%f\n”, d, n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191120"/>
            <a:ext cx="8178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10743403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268750984758470984758475098456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065987465974569374569365456937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93874569387456746592.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17CE-9C72-4B1E-8776-135AA7A3A0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cure por Padrões Familiares de Er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o de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ao invés de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%lf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ara ler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dou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quecer de inicializar variáveis loca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rmalmente o resultado é um número muito gran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embre de usar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gcc -Wall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quecer de inicializar memória alocada com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malloc(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alor será lixo també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4E05-7644-4A13-B043-685DE999970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 Black"/>
              </a:rPr>
              <a:t>Baseado em: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MAC211 - Laboratório de Program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Fabio K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31 de maio de 200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29035-F071-47B0-9ED4-75A94B72BB9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amine a Mudança Mais Recente n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l foi a última mudanç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você roda os testes a cada mudança e um teste falha, o que provocou o teste foi a última mudanç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stá no código no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o código novo expôs 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e outro lu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você não roda testes a cada mudança, veja se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aparece nas versões anteriores do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DD8C-3E43-45B0-84D0-4592C140F56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Gerenciadores de Vers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CS: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xcelente ferramenta para gerenciamento de versões de arqu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unciona bem com código, artigos, documentação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 ser usado por um usuário sozinho ou por um grupo de usuários compartilhando os mesmos arqu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VS: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 ainda mais sofisticada para ambientes distribuídos e para software com muitos diretó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1DDF-C4C7-45AA-BC4B-D0F65108139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ão Faça o Mesmo Erro Duas (ou Três) Vez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você corrige um erro, pergunte a si mesmo se você pode ter feito o mesmo erro em algum outro lug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caso afirmativo, vá lá e corrija, não deixe para mais tar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e aprender com os seus erros de modo a não repetí-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EFC0-B046-408B-A680-84400ACCA0E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ão Faça o Mesmo Erro Duas (ou Três) Vez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or (i = 1; i &lt; argc; i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f (argv[i][0] != ‘-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reak; // options fin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witch (argv[i][1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ase ‘o’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outname = argv[i];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ase ‘f’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om = atoi (argv[i]);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ase ‘t’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o = atoi (argv[i]);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876920" y="3885840"/>
            <a:ext cx="129528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334120" y="4038480"/>
            <a:ext cx="1143000" cy="144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57800" y="4114440"/>
            <a:ext cx="182880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&amp;argv[i]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23A8-D6A4-447A-9FFD-7B6291561F5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e Agora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ão Mais Tar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um erro aparece pela primeira vez, tente achá-lo imediata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ignore um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crash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agora pois ele pode ser muito mais desastroso mais tar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s Pathfinder, julho de 199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butava” todo dia no meio do trabalh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105520"/>
            <a:ext cx="817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puraram, acharam o erro e se lembraram que tinham ignorado esse mesmo erro antes e se esquecido d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B315-C56E-4336-B93F-1953F11F12B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nha Calma Antes de Começar a Mexer n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comum de programadores inexperien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acham um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começam a mudar o programa aleatoriamente esperando que uma das mudanças vá corrigir o defe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faça is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 para pen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ude a saída defeitu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ude o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CC30-24CA-4135-9E92-4197642EA15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curando o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ire fundo (bom para dar uma “ressetada” no cérebro :-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lhe o código um pouco ma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lhe a saída um pouco ma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rima o pedaço chave do código que pode ser o culp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imprima a listagem intei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é mau para o meio-amb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i ajudar pois vai estar obsoleta lo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D654-E03B-4A36-AE4F-023AB58E155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e Ainda Não Achou o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á tomar um suco de gravio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lte e experimente mais um pou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inda não funciono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vavelmente o que você está vendo não é o que está escrito mas o que você teve a intenção de escre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1378-3702-4B39-A59B-73A97A5F318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e Ainda Não Funciono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ame um amigo para ajuda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1. Explique o seu código para 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 ser um amigo virtual :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isso já é sufic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. (mas se 1. não foi suficiente) peça prá ele te ajudar na depur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se sempre funcio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92EC-9904-442C-9F57-FFC9648D6C2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de um detectado imediatamente pelo outr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eva a uma grande economia de tem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40D8-432F-49EB-B69D-59399A45B3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Termo 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1892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á existia antes da computa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imeir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computacional era um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mesm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pre existiu e sempre existirá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mos que aprender como lidar com eles e minimizá-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jkst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ão são “bugs” são “erros de programação”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2AE3-C468-4126-A598-D088E76543F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hack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 Videogame Orientado a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7273-99F8-48D3-AED2-CB21D44F6EA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Não Há Dica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ifícei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tenho a menor idéia do que está acontecendo!!!!!! Socorro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Às vezes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faz o programa não funcionar mas não deixa nenhum indício do que pode estar acontece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se desesper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BB48-AE45-4237-85EF-5D8A090BC9B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orne o Err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produtív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pior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aquele que só aparece de vez em qu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ça com que o erro apareça sempre que você qui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ua uma entrada de dados e uma lista de argumentos que leve ao er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você não consegue repetir o erro quando você quer, pense no porquê dis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4565-B571-478E-9EA4-E4FB8A2FB2D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ornando o Erro Reprodutív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programa tem opções de imprimir mensagens de depuração, habilite todas estas opçõ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programa usa números aleatórios com semente saída do relógio, desabilite isso e fixe a semente numa semente que gere o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uma boa prática oferecer sempre a opção do usuário entrar com a se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77D5-70D6-4A9D-95DE-237312944F2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visão e Conquis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4582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úlio Cé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ltando à depu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á para dividir a entrada em pedaços menores e encontrar um pedaço bem pequeno que gere o erro? (faça busca biná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á para jogar fora partes do seu programa e ainda observar o mesmo er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menor for o programa e os dados de entrada, mais fácil será achar o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9EA8-B664-4015-A9F1-AF0A2512EB3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umerologia e Tar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alguns casos, estatísticas ou padrões numéricos sobre o erro podem ajudar a localizá-l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s de digitação em um texto do Rob Pi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estavam no arquivo original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ut&amp;past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cobriu que ocorriam a cada 1023 ch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ou por 1023 no código, buscou por 1024 no códi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7844-232E-479C-B752-6730E766A47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loque Mensagens de Depuração n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define DEBUG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ifdef DEBU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define printDebug(msg) fprintf (stderr, “%s\n”, ms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el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define printDebug(ms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main (int argc, char **arg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Debug (“Chamando init()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it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Debug (“Voltei do init()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14ED-30A6-4FCE-85F0-075443AABF4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screva Código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“Auto-Depurante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check (char *ms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f (v1 &gt; v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 (“%s: v1=%d v2=%d\n”, msg, v1, v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flush (stdout); // Não se esqueça disso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bort ();        // Terminação anorm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 (“antes do suspeito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* código suspeito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 (“depois do suspeito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51AC-07F4-4F07-9773-855750CF042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ódigo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“Auto-Depurante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ois de achar o erro, não apague as chamadas a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check()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coloque-as entre coment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s chamadas não fazem com que o programa fique lento, deixe-as lá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D412-64CA-4DA6-85B3-764B70BF204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screva um Arquivo de Lo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dá pau no programa, o log é a “prova do crime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ê uma olhada rápida no final do log e vá sub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impri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ferramentas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grep, diff, ema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uidado com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ffer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etbuf (fp, NUL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é default em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tderr, cerr, System.er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B4A8-1150-4C8C-942C-96CCEF9A256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atores que Levam a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de Program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tores Human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experiência, falta de concentração, cansaço, erros normais (errar é human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tores Tecnológic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inguagem de programaçã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errament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lexidade e tamanho do software desenvolv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7CBD-C908-4169-AAB2-0DAACD8E736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senhe Gráf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a saída é muito extensa, é difícil processá-la a não ser grafica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: projetos com grandes quantidades de d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gnuplot (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, talvez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xw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0E6D-B696-4848-BB72-6EA166E4013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aça Bom Uso das Facilidades do Amb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s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grep, diff, emacs, gnuplot, shell scripts, RCS, gcc -Wall, lint, strings,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a programinhas tes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main (voi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ee (NUL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F7D0-A4C5-4CE5-80AB-80B598A5310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ntenha um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“Diário de Bordo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 caça a um erro está sendo muito demorada, vá anotando todas as possibilidades que você está tent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localizar o erro, se for o caso, anote a solução caso precise dela novamente n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975B-82BF-4001-9BE4-75F0C92578A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Fazer em Último Caso?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 se tudo isso falh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alvez seja a hora de usar um bom depurador (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ddd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e acompanhar toda a execução do programa passo a pas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seu modelo mental de como o programa funciona pode ser diferente da realida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B2C9-388E-4870-9203-48BA04E9880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ganos Comu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if (x &amp; 1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unc(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loat x = 3/2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hile ((c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getchar()) != EO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if (c = ‘\n’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3BCF-1B44-4FAB-BDD7-44B5A41C37C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ganos Comu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[i++] = 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memset (p, n, 0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o invés 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memset (p, 0, n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E735-DFB6-426D-B6A5-EC169F6B753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ganos Comu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hile(scanf(“%s %d”, nome, &amp;valor) != EO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 = novoItem (nome, valo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ista1 = adicionaComeco (lista1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ista2 = adicionaFim (lista2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r (p = lista1; p != NULL; p = p-&gt;proxim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“%s %d\n”, p-&gt;nome, p-&gt;valo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ED65-1CED-438D-931C-491ABD7B2E4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ulpando Out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loque a culpa 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il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ibliote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operacio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ír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elizmente, a culpa é provavelmente su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não ser em alguns casos raros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B751-82CC-48DB-A760-5902395C611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em Bibliote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* header file &lt;ctype.h&gt;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#define isdigit (c) ((c) &gt;= ‘0’ &amp;&amp; (c) &lt;= ‘9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que acontece quando faço o segui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hile (isdigit (c = getchar(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02BC-E227-4D06-9B58-08F4F56D6C1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no Hard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do ponto-flutuante do Pentium em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do VIC-20 em 1982. Raiz de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utador multiprocessad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às vezes 1/2 = 0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às vezes 1/2 = 0.74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imativa da temperatura do computador de acordo com o número de bits errados nas contas com ponto-flutu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E438-41D4-45A2-91D3-4D31A353531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écnicas para Garantir a Integridade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vas formais da corretude de progra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agem cuidadosa do probl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álise dos requisi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cação formal do que um programa fa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is isso não muda como os programas são fei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ó funcionam para programas pequenos :-(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6007-C071-4A2F-8187-3DCB8DB58B1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Não-Reprodutív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ão os mais difíce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fato de ser não-reprodutível já é uma informação impor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seu programa está utilizando informações diferentes cada vez que é execu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que se todas as variáveis estão sendo inicializa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DC72-C0BE-4A69-8306-2FB165780C8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Não-Reprodutív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erro desaparece quando você roda o depurador, pode ser problema de alocação de memór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r posições de um vetor além do tamanho aloc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ição de memória que é liberada mais do que uma ve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u uso de apontadores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(próximo slid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E5AA-169E-4CED-B296-75ED8745D12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 com Apont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*msg (int n, char *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buf[256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printf (buf, “error %d: %s\n”, n, 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turn bu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r (p = lista; p != NULL; p = p-&gt;proxim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ee (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1D4B-746E-47F3-932A-AD0426C0E527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erramentas de Monitoramento de Memó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urif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ounds Checker (para Window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ipos de Verificaç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azamentos de memória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emory leak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iolação de limites de vetores e matriz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o de posição não aloc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o de posição não inicializ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ree sem malloc, malloc sem free, duplo free, free em quem não foi aloc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EEA8-8E55-4F2A-BBB0-BCEB9599258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em Código Escrito por Out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muito comum termos que depurar código dos ou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mesmas técnicas de depuração se aplic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emos que nos familiarizar um pouco com o código antes de começarm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ode o programa com o depurador passo a pas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C0D7-09DB-40C2-B21C-F17E6FC3FEF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Submetendo Relatórios de Erro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 Report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1892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nha certeza de que o erro é realmente um erro (não passe ridículo!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nha certeza de que o erro é novo (você tem a versão mais recente do programa?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a um relatório sucinto mas contendo todas as informações releva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iga: “rodei o programa mas não funcionou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EF0B-4D5A-44C1-8459-9A2DD59A9BC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Bom Relatório de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são do Programa e linha de com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stema Operacional e vers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ilador e vers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são das bibliotecas (se relevant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pequena entrada que gera o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descrição do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possível, a linha de código err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possível, a corre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5C10-E252-498A-A531-E079C7FC5B6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Bom Relatório de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for o caso, um programinha que evidencia o er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* Teste para o erro do isdigit ()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main (vo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hile (isdigit (c = getchar ()) || c != E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 (“%c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%echo 1234567890 | teste_do_isdi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246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185D-F177-43CA-A91E-785D5FE3375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sumi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um erro é avistado, pense bem em quais dicas o erro está lhe d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ele pode ter aconteci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le é parecido com algo que você já vi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cabou de mexer em alguma coi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á algo de especial na entrada que causou o err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poucos testes e alguns poucos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print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odem ser sufici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0A82-A717-4F59-9012-5BBB563FC8B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sumi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não há dicas, o melhor é pensar muito cuidadosamente sobre o que pode estar acontece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aí, tente sistematicamente, localizar o problema eliminando pedaços da entrada e do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plique o código para mais algué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o depurador para ver a pilh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cute o programa passo a pas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A3FE-83D5-4E98-A578-810FF2E0AF9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Sempre Vão Existi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ce que não há como fugir disso (pelo menos com a tecnologia das próximas década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luç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para descobrir os er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epuraç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para localizar e eliminar os er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2D44-5D4B-4460-83AB-78562627963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sumi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todas as ferramentas que estão a sua disposi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heça-se a si mesmo. Quais os tipos de erros que você costuma faz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encontrar um erro, lembre de eliminar possíveis erros parecidos em outras partes do seu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nte evitar que o erro se repita n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0147-7F83-4F3B-915D-851537B7660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ral da Histó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uração pode ser divertido desde que feita de forma sistemática e organiz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preciso praticar para obter experiê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o melhor a se fazer é escrever bom código po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le tem menos erros 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erros são mais fáceis de ach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511F-900B-4F6A-A02E-92700CE398B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ral da histó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colher de prevenção é melhor do que um copo de cu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E058-0C1A-452B-9948-798AA4F03D3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rian W. Kernighan e Rob Pi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The Practice of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ddison-Wesley, 19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pítulo 5: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ebugg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BBD0-DE4B-4E96-BCE8-4DFF4C217BFE}" type="slidenum">
              <a:t>63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ficul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urar programas é difícil e exige muito t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sso objetivo deve ser evitar ter que depurar mui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fazer iss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ndo código de boa qual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udando (e aplicando) técnicas que evitem er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8A2F-FFF2-49A3-B2D9-6ECD6255A4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o Evitar Er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om desenh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esig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om estil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imitar informações globais (e.g. variáveis globai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s cuidadosamente planeja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imitar as interações entre os módulos apenas às interf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s automáticas de verifica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2456-C00D-441E-B53B-260B6D3726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Influência das Linguagens de Program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inguagem de Montag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IC,   MS-Visual Basic   (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goto,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rgh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cação de índices em vetores, ponteiros, coleta de lixo automática, verificação de tipos (forte, fra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60C5-2B07-4C29-AFC0-00D03378F4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compaq</cp:lastModifiedBy>
  <cp:lastPrinted>1999-06-03T16:24:05Z</cp:lastPrinted>
  <dcterms:modified xsi:type="dcterms:W3CDTF">2003-02-22T22:32:35Z</dcterms:modified>
  <cp:revision>334</cp:revision>
  <dc:subject/>
  <dc:title>No Slide Title</dc:title>
</cp:coreProperties>
</file>