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9C2D-ED5F-4379-965B-945DE1E3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CC46-4FDD-4E42-9201-AAA6AC496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5738-EC6A-4687-8C56-283B5330E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CA63-8864-44A0-BE29-1CBA4169D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B6CC7-FA60-4DDC-ACAF-CC447F5E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B683C-6C13-41F3-BA6F-9CC66DA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FF50E-AC17-449A-9C44-FC02AAF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B9549-A18D-4FD0-A69D-1A75594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EB1E1-6788-4E93-BA50-BB9BD2F6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4C5DF-2A11-4B4A-AB31-EB1805FA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3B25B-A2E9-4B21-8ED3-C1CA328A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7661-A377-4ADB-9620-8FB3E174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9B23-17E8-49BE-93EE-1B86AD3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D04A1-1912-4531-953E-6D970FFC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437F-7B2C-4C51-AE85-A68B8FA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20036-2695-40B0-B723-FB16090E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65322-297F-4938-81DA-84E9ED4B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9EC6-723C-4522-91BE-45E3E5833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42E7-2544-4692-B87E-C03EB5647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1FB9-98E2-4581-AE95-42411AF5B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2019-A450-4745-B01F-D5DFF115F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932B-A1A8-4D7F-9416-F713B9CC2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2A82-C311-427C-BC46-65E14BAB3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E39B-ABDD-41BB-9666-EAA092708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8C4-AAF0-4DC6-BF96-00AE72820E12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7CC-F49C-4D54-8121-74B224692C19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 Black"/>
              </a:rPr>
              <a:t>Depuração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693A4-DB80-4B02-A149-18105AC2DC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Fazer Entã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preciso estar ciente das características perigosas das linguagens com as quais se está lid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m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n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Usar boas ferramentas de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9FA8-2375-4E4A-98FC-5020B67EFD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mais da metade do tempo gasto no desenvolvimento de software é gasto com depur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mos que tentar diminuir isso. Com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m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crever bons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Usar boas ferramentas/metodologias de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83B4-2C00-4099-A9E1-2D7DDBF3A3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cução passo a pa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ep in, step through, run till retu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reakpoint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(linha, função, condiçã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ressão de valores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companhamento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qüência de chamada de funções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tack trac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tep 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(em algumas linguagens e ambientes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2DF7-2B7E-405E-BEFC-29BCEA19C1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dores são uma ferramenta extremamente útil mas às vezes não são a melhor alterna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mas linguagens e ambientes não 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m variar muito de um ambiente p/ ou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rogramas às vezes não se dão bem com depuradores (SOs, sistemas distribuídos, multi-threaded, sistemas de tempo re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: uso criterioso 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07CA-BE97-4987-8CD6-D401ED680E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5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dores podem ser muito complicados para iniciantes. Um uso criterioso d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ode ser mais fá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3526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vocês não são mais iniciant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Qual o depurador disponív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Use-o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952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E8DE-CB66-4067-B0D0-F86AAA3AF6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fá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lha de Segmentaçã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mentation faul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é o melhor caso possível para um err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ta executar no depurador e olhar o estado da pilha e das variáveis no momento d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então: arquivo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gdb exec_file 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1504-25A7-4696-8425-18D4C23F16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fá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grama fez algo que não devia ou imprimiu algo absur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 o que pode ter ocorr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para a saída do programa: comece do lugar onde a coisa inesperada aconteceu e volte, passo a passo, examinando cada mensagem e tente descobrir onde o erro se origino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... pense em marcha ré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219B-830C-4898-8D52-03F7747B9C5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comum com inicia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canf (“%d”, n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267080"/>
            <a:ext cx="81788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canf (“%d”, &amp;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5AAD-2F00-43A6-8B7D-7795CD9717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ouble d = P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printf(“%d\n%f\n”, d, n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191120"/>
            <a:ext cx="8178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10743403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268750984758470984758475098456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065987465974569374569365456937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93874569387456746592.0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81DAE-574E-41C9-8A44-F1CAD784E7F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e por Padrões Familiares de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o invés de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%lf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ler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ou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quecer de inicializar variáveis loca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rmalmente o resultado é um número muito gran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embre de usar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gcc -Wall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quecer de inicializar memória alocada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alloc(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alor será lixo també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86F0-87B6-4BC5-B50A-084825C434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 Black"/>
              </a:rPr>
              <a:t>Baseado em: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AC211 - Laboratório de Program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Fabio K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31 de maio de 200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E081-9F4E-42B5-817B-58F39C92149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amine a Mudança Mais Recente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l foi a última mudanç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roda os testes a cada mudança e um teste falha, o que provocou o teste foi a última mudanç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stá no código no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o código novo expôs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e outro lu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não roda testes a cada mudança, veja se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parece nas versões anteriores d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6946-5451-4F58-8382-51EE5E51E3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erenciadores de Vers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CS: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xcelente ferramenta para gerenciamento de versões de arqu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unciona bem com código, artigos, documentaçã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usado por um usuário sozinho ou por um grupo de usuários compartilhando os mesmos arqui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VS: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 ainda mais sofisticada para ambientes distribuídos e para software com muitos diretó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1AA2-4D0A-4288-A91C-52B8218BA9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Faça o Mesmo Erro Duas (ou Três) Ve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você corrige um erro, pergunte a si mesmo se você pode ter feito o mesmo erro em algum outro lug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caso afirmativo, vá lá e corrija, não deixe para mais tar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e aprender com os seus erros de modo a não repetí-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D0A7-43E1-4B58-9FC6-FAA01A36A06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Faça o Mesmo Erro Duas (ou Três) Vez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r (i = 1; i &lt; argc; i++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argv[i][0] != ‘-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reak; // options fi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witch (argv[i][1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o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name = argv[i]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f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om = atoi (argv[i])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t’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to = atoi (argv[i]); break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876920" y="3885840"/>
            <a:ext cx="129528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334120" y="4038480"/>
            <a:ext cx="114300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57800" y="4114440"/>
            <a:ext cx="182880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amp;argv[i]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DFA6-8E2A-4087-B56A-AE69D23E6F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pure Agor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ão Mais Tar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um erro aparece pela primeira vez, tente achá-lo imediat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gnore um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rash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gora pois ele pode ser muito mais desastroso mais tar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rs Pathfinder, julho de 199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butava” todo dia no meio do trabalh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105520"/>
            <a:ext cx="817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uraram, acharam o erro e se lembraram que tinham ignorado esse mesmo erro antes e se esquecido d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687D-BCB5-4394-AD0C-57C76F4425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nha Calma Antes de Começar a Mexer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comum de programadores inexperient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acham u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começam a mudar o programa aleatoriamente esperando que uma das mudanças vá corrigir o defe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faça i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 para pen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e a saída defeitu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ude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ABD9-D443-4E81-8EBE-0E0932124A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curando o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ire fundo (bom para dar uma “ressetada” no cérebro :-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o código um pouco m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lhe a saída um pouco ma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rima o pedaço chave do código que pode ser o culp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mprima a listagem inte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mau para o meio-amb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i ajudar pois vai estar obsoleta lo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900C-9254-46DE-BF01-41DFA144B6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 Ainda Não Achou o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á tomar um suco de gravio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lte e experimente mais um pou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inda não funciono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vavelmente o que você está vendo não é o que está escrito mas o que você teve a intenção de escr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2DCD-1CBD-49F6-A81A-67972AFC9C5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 Ainda Não Funciono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hame um amigo para ajud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. Explique o seu código para 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um amigo virtual :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isso já é sufic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. (mas se 1. não foi suficiente) peça prá ele te ajudar na depur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se sempre funci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A6E6-29F3-444A-8A5B-B94F7A4B3C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e um detectado imediatamente pelo outr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eva a uma grande economia de t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96F2-EAF3-4896-8078-10E4AEB208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Termo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1892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á existia antes da comput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meir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computacional era um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mesm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pre existiu e sempre existir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mos que aprender como lidar com eles e minimizá-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jkst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ão são “bugs” são “erros de programação”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5954-5122-44B5-BB33-5A75459E98F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hack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.: Videogame Orientado a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29C8-62D1-414F-98CD-FFECA1BC00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Não Há D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ifícei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tenho a menor idéia do que está acontecendo!!!!!! Socorro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Às vezes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faz o programa não funcionar mas não deixa nenhum indício do que pode estar acontec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se desespere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BB3D-0CEA-434B-96CD-C35BE0AF596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orne o Err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produtív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ior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aquele que só aparece de vez em qu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ça com que o erro apareça sempre que você qui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a uma entrada de dados e uma lista de argumentos que leve a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você não consegue repetir o erro quando você quer, pense no porquê di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0263-CABD-4B6F-8A42-E2B113F7A0E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ornando o Erro Reprodutív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programa tem opções de imprimir mensagens de depuração, habilite todas estas opçõ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programa usa números aleatórios com semente saída do relógio, desabilite isso e fixe a semente numa semente que gere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uma boa prática oferecer sempre a opção do usuário entrar com a se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D07D-0BDD-4227-A145-7147A4D4248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visão e Conquis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úlio Cé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ltando à depu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á para dividir a entrada em pedaços menores e encontrar um pedaço bem pequeno que gere o erro? (faça busca biná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á para jogar fora partes do seu programa e ainda observar o mesmo er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enor for o programa e os dados de entrada, mais fácil será achar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5E4C-53E3-4544-9E71-01FCB8F5280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umerologia e Taro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alguns casos, estatísticas ou padrões numéricos sobre o erro podem ajudar a localizá-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s de digitação em um texto do Rob Pi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estavam no arquivo original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ut&amp;pas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obriu que ocorriam a cada 1023 ch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ou por 1023 no código, buscou por 1024 no códi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3B55-D37A-481F-964A-471BDD71A6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loque Mensagens de Depuração n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DEBUG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printDebug(msg) fprintf (stderr, “%s\n”, 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el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define printDebug(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 (int argc, char **arg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Debug (“Chamando init(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it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Debug (“Voltei do init()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DF56-317C-4163-8A66-724B7B2CDF5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reva Códig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Auto-Depurante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check (char *ms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v1 &gt; v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 (“%s: v1=%d v2=%d\n”, msg, v1, v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flush (stdout); // Não se esqueça disso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bort ();        // Terminação an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 (“antes do suspeito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* código suspeito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eck (“depois do suspeito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30AC-39DF-45B4-A056-496C6436F7E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ódig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Auto-Depurante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ois de achar o erro, não apague as chamadas a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check()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, coloque-as entre coment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s chamadas não fazem com que o programa fique lento, deixe-as lá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6310-D866-4928-822A-4839BE037AD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reva um Arquivo de L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dá pau no programa, o log é a “prova do crime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ê uma olhada rápida no final do log e vá sub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impri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ferramentas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rep, diff, ema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uidado com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uffer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etbuf (fp, NU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é default em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tderr, cerr, System.er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1354-2942-46C7-A7FF-AEDDBDC1722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atores que Levam 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de Program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Human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experiência, falta de concentração, cansaço, erros normais (errar é human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Tecnológic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inguagem de programaçã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 e tamanho do software desenvolv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0C30-81DA-4C5A-A9FE-7520E2F0FC5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enhe Gráf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a saída é muito extensa, é difícil processá-la a não ser grafic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 projetos com grandes quantidades de d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nuplot (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, talvez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xw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F8F6-242D-47A2-AE82-D604C9C1716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aça Bom Uso das Facilidades do Amb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rep, diff, emacs, gnuplot, shell scripts, RCS, gcc -Wall, lint, strings,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programinhas tes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main (vo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ree (NU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936C-C550-4669-BBEA-CDA3E7A3F85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ntenha um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“Diário de Bordo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 caça a um erro está sendo muito demorada, vá anotando todas as possibilidades que você está tent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localizar o erro, se for o caso, anote a solução caso precise dela novamente n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DA2A-FEAB-43D6-BEAE-62492A881F3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Fazer em Último Caso??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 se tudo isso falh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alvez seja a hora de usar um bom depurador (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ddd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e acompanhar toda a execução do programa passo a pa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eu modelo mental de como o programa funciona pode ser diferente da realid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79AF-D9B7-40EB-AD35-A2C4075E0D0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f (x &amp; 1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unc(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loat x = 3/2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hile ((c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getchar()) != EO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f (c = ‘\n’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D2E8-E26C-4370-A77B-E45E49FB8A0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[i++] = 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emset (p, n, 0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memset (p, 0, n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8101-F09F-4A91-8012-84BAAC385A0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ganos Comu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(scanf(“%s %d”, nome, &amp;valor) != EO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novoItem (nome, valo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ista1 = adicionaComeco (lista1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ista2 = adicionaFim (lista2, 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(p = lista1; p != NULL; p = p-&gt;proxim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“%s %d\n”, p-&gt;nome, p-&gt;valo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07BD-88F1-4AD6-8696-B64726195AB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ulpando Out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loque a culpa 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il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ibliote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opera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í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elizmente, a culpa é provavelmente su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não ser em alguns casos raros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1457-8F2F-46E0-AB75-6A3096D9F76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em Bibliote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* header file &lt;ctype.h&gt; *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#define isdigit (c) ((c) &gt;= ‘0’ &amp;&amp; (c) &lt;= ‘9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que acontece quando faço o segui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 (isdigit (c = getchar(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43FC-D060-4A24-8F5A-C51FDF40B7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o Hard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o ponto-flutuante do Pentium em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rro do VIC-20 em 1982. Raiz de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utador multiprocessad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às vezes 1/2 = 0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às vezes 1/2 = 0.74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imativa da temperatura do computador de acordo com o número de bits errados nas contas com ponto-flutu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0FF9-3D40-4C0F-BF33-A9867FE323B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écnicas para Garantir a Integridade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vas formais da corretude de progra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agem cuidadosa do probl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 dos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ção formal do que um programa f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is isso não muda como os programas são fe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ó funcionam para programas pequenos :-(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7BA4-1739-43BD-A9EE-F93105BFA1F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ão-Reprodutív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os mais difíce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fato de ser não-reprodutível já é uma informação impor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eu programa está utilizando informações diferentes cada vez que é execu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que se todas as variáveis estão sendo inicializ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199A-73E1-4678-93ED-10BA98D66BB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Não-Reprodutív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erro desaparece quando você roda o depurador, pode ser problema de alocação de memó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r posições de um vetor além do tamanho alo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sição de memória que é liberada mais do que uma ve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u uso de apontadores 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(próximo slid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7699F-142E-4E31-8FF7-C348385358B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Apontado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*msg (int n, char *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buf[256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printf (buf, “error %d: %s\n”, n, 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urn bu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(p = lista; p != NULL; p = p-&gt;proxim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 (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3CB2-0525-456D-9F8B-4EC0D37D64D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erramentas de Monitoramento de Mem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urif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unds Checker (para Window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ipos de Verifica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azamentos de memória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emory leak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iolação de limites de vetores e matriz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o de posição não aloc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o de posição não inicializ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ree sem malloc, malloc sem free, duplo free, free em quem não foi alo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6266-D212-4633-8757-93C56DA52D2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em Código Escrito por Out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uito comum termos que depurar código dos ou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mesmas técnicas de depuração se aplic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emos que nos familiarizar um pouco com o código antes de começarm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de o programa com o depurador passo a pa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52ED-7E4E-453F-8862-3482C3ECAC0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Submetendo Relatórios de Erro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ug Report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1892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ha certeza de que o erro é realmente um erro (não passe ridículo!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ha certeza de que o erro é novo (você tem a versão mais recente do programa?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um relatório sucinto mas contendo todas as informações releva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iga: “rodei o programa mas não funcionou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5224-B727-4B05-B3CE-A9B559B3925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Bom Relatório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são do Programa e linha de com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istema Operacional e vers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dor e vers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são das bibliotecas (se relevant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pequena entrada que gera 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descrição do e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, a linha de código err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possível, a corre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BFC4-88A3-4E92-B199-3B56875D8C8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Bom Relatório de Er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for o caso, um programinha que evidencia o er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* Teste para o erro do isdigit () *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 (vo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(isdigit (c = getchar ()) || c != E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 (“%c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%echo 1234567890 | teste_do_isdi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246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DEE3-EE51-4818-BAC4-1D545E96E8A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um erro é avistado, pense bem em quais dicas o erro está lhe d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ele pode ter aconteci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le é parecido com algo que você já viu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cabou de mexer em alguma coi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á algo de especial na entrada que causou o err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poucos testes e alguns poucos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print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m ser sufici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368B-4925-418A-A18E-F9178ED019C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não há dicas, o melhor é pensar muito cuidadosamente sobre o que pode estar acontece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í, tente sistematicamente, localizar o problema eliminando pedaços da entrada e do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plique o código para mais algué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 depurador para ver a pilh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cute o programa passo a pa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5BA3-0D2C-4EF5-9FD0-28553EB7D6C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rros Sempre Vão Existi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ece que não há como fugir disso (pelo menos com a tecnologia das próximas décad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luç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descobrir os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pura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para localizar e eliminar os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E9CA-25C3-4836-9867-015FEC7AC06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min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todas as ferramentas que estão a sua disposi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ça-se a si mesmo. Quais os tipos de erros que você costuma faz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encontrar um erro, lembre de eliminar possíveis erros parecidos em outras partes do seu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nte evitar que o erro se repita n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190C-CA2B-4663-AAE8-28498BFD64D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ral da Hist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ção pode ser divertido desde que feita de forma sistemática e organiz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preciso praticar para obter experiê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o melhor a se fazer é escrever bom código po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e tem menos erros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erros são mais fáceis de ach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AC13-2BC0-4C86-9602-3F21ECBACF1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ral da histór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colher de prevenção é melhor do que um copo de cu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CADA-BF7F-4B3A-B5D3-46380ACE7AA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rian W. Kernighan e Rob Pi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The Practice of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dison-Wesley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ítulo 5: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bugg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402C-8947-4B77-BBF9-1E5DBA9E64D8}" type="slidenum">
              <a:t>63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ificul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purar programas é difícil e exige muito t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sso objetivo deve ser evitar ter que depurar mui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fazer iss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ndo código de boa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udando (e aplicando) técnicas que evitem er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2F05-1EBA-492D-A9CC-46E637FAE6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Evitar Er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m desenh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om esti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mitar informações globais (e.g. variáveis globa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 cuidadosamente planeja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mitar as interações entre os módulos apenas às interfa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 automáticas de verificaçã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A0D1-1DDB-4BE2-A745-70389E5D35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Influência das Linguagens de Program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nguagem de Montag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IC,   MS-Visual Basic   (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oto,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gh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erificação de índices em vetores, ponteiros, coleta de lixo automática, verificação de tipos (forte, fra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AFCA-F212-491D-9C19-E871E80268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compaq</cp:lastModifiedBy>
  <cp:lastPrinted>1999-06-03T16:24:05Z</cp:lastPrinted>
  <dcterms:modified xsi:type="dcterms:W3CDTF">2003-02-22T22:32:35Z</dcterms:modified>
  <cp:revision>334</cp:revision>
  <dc:subject/>
  <dc:title>No Slide Title</dc:title>
</cp:coreProperties>
</file>