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1EB-C720-4AC6-9DE3-A0B1BE1B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F8A-5B5D-4923-B335-1D5FCA3B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465-B128-451C-8313-20F7B721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EA4-1E5C-4AF3-8E0B-D6E6E3E4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9C0-B758-4BAE-9265-9C123CD7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39E-2047-43B9-AA03-0540D3A6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3DB-0B93-433D-8318-475DEF9F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110-D284-4865-8A66-AE1D0521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C22-F7C4-4B46-850F-E9E08EA8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CC3-AC3B-46C1-96AF-EB0E1891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7AC-AF74-42D9-9AFA-740F1D99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B520-BE87-4F30-9CAA-CC08F5A0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24FD-A3B5-4AEF-80CE-9E086CC43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dding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fredo Gol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aseado no padrão da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omeMethod(longExpression1, longExpression2, longExpression3,           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longExpression4, longExpression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3120" y="30481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ar = someMethod1(longExpression1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omeMethod2(longExpression2,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       longExpression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3120" y="44197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ongName1 = longName2 * (longName3 + longName4 -  longName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+ 4 *longName6;                         // mel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3120" y="548640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ongName1 = longName2 * (longName3 + longNam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-longName5) + 4 *longName6; // p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indentação tra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omeMethod(int anArg, Object anotherArg, String yetAnotherArg,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Object andStillAnothe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Indentação com 8 espaços em certos ca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vate static synchronized horkingLongMethodName(int anAr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Object anotherArg, String yetAnotherArg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Object andStillAnothe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indentação tra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(condition1 &amp;&amp; condition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|| (condition3 &amp;&amp; condition4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||!(condition5 &amp;&amp; condition6)) { //BAD WRAPS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oSomethingAboutIt();            //difícil de ach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indentação propo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(condition1 &amp;&amp; condition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|| (condition3 &amp;&amp; condition4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||!(condition5 &amp;&amp; condition6)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oSomethingAboutIt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9600" y="1371600"/>
            <a:ext cx="73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use geralmente a regra de indentar com 8 espa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176480"/>
            <a:ext cx="673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//Ou e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f ((condition1 &amp;&amp; condition2) || (condition3 &amp;&amp; condition4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||!(condition5 &amp;&amp; condition6)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SomethingAboutIt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// expressões terná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lpha = (aLongBooleanExpression) ? beta : gam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lpha = (aLongBooleanExpression) ? be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: gam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lpha = (aLongBooleanExpressi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? be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: gamm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entários linhas ger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is tipos de comentários (da implementação e da documentação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inguagens modernas tem formas específ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se-a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adicione comentários redund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excesso de comentários reflete código mal escr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nse em rescrever o trech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entá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6560" y="1413000"/>
            <a:ext cx="793944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iciar sempre o bloco comentário com uma linha em bran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Here is a block comm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entários de uma única linha devem ser precedidos por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nha em bran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condica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 Comentário da condição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entá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8080" y="838080"/>
            <a:ext cx="7038720" cy="57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entários muito curtos podem estar na mesma lin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 existem vários os mesmo devem estar alinh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a==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turn TRUE;       /* um caso especial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turn isPrime(a); /* funciona para a ímpa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entários com // também podem ser us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foo&gt;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comentário de lin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turn false; // comentário de fim de lin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if (outracond==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   return true;  // trecho de codigo comen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entários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(em java usar javado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5920" y="838080"/>
            <a:ext cx="799884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lass description goes here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@version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1.82 18 Mar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@author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Firstname Last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ublic class Blah extends Some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/* A class implementation comment can go here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*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lassVar1 documentation comment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ublic static int classVar1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lassVar2 documentation comment that happens to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more than one line 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vate static Object classVar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entários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(em java usar javadoc)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47720" y="911160"/>
            <a:ext cx="71758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*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instanceVar1 documentation comment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ublic Object instanceVar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*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instanceVar2 documentation comment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otected int instanceVar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*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instanceVar3 documentation comment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vate Object[] instanceVar3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...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structor Blah documentation comment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ublic Blah(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// ...implementation goes here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entários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(em java usar javadoc)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911160"/>
            <a:ext cx="8077320" cy="51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...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method doSomething documentation comment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ublic void doSomething(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// ...implementation goes here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...method doSomethingElse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documentation comment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@param someParam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ublic void doSomethingElse(Object someParam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// ...implementation goes here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em escreveu não deve ser o único a poder ler o cód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inda mais em um sistema 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gras simples (muito simples) ajud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gumas são bem óbvi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riar um padrão (consensual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m parte independente da lingu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lar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ntas por linh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 preferência um por linha (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help comment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level;  // nivel de ruí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size;   // tamanho do bura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é melho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level, 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unca deve se declarar dois tipos na mesma lin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elemento, vetor[];  // errad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-se alinhar declar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evel;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// indentation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ize;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// size of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urrentEntry;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// currently selected table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lar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icial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icialize sempre as variáveis na hora da declaraç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ceção: variáveis que dependem de algum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lar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ocal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mpre no início de bloc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s podem ser declaradas no início do mét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040" y="2514600"/>
            <a:ext cx="7587360" cy="32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myMethod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int1 = 0;         // beginning of method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conditio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int2 = 0;     // beginning of "if"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o for é um caso espe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 (int i=0; i&lt; max; i++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9960" y="5400720"/>
            <a:ext cx="8237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ão use o mesmo nome de variável em blocos in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larações (classes e interfac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dê espaço entre antes do “)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“{” deve ficar no final da linh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“}” deve estar alinhado com o comand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étodos devem estar separados por uma linha em branc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andos vazios podem ser dados por {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larações (classes e interfac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19600" y="2430360"/>
            <a:ext cx="4158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lass Sample extends 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ivar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ivar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ample(int i, int j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var1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var2 =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emptyMethod() {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26800" y="15652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an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locar um comando por linh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m um bloco indentar sempr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locar { no final da linha onde começa o bloco e } alinhado com o início desta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e {} mesmo quando os blocos tiverem apenas um com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s (i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2680" y="1943280"/>
            <a:ext cx="2512440" cy="35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els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18520" y="2133720"/>
            <a:ext cx="347256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els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s (fo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280" y="1943280"/>
            <a:ext cx="578160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211560"/>
            <a:ext cx="57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1480" y="4038480"/>
            <a:ext cx="5781600" cy="25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ao invé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init1, init2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up1, up2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tate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fa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i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(init2; condition; up1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tate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u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s (while, do whi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280" y="1943280"/>
            <a:ext cx="578160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)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532320"/>
            <a:ext cx="57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)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480" y="4576680"/>
            <a:ext cx="578160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)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s (switc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280" y="1447920"/>
            <a:ext cx="7940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witch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ase AB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 se não houver break, coloque comentário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ase DE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ase XYZ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efaul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reak; // é redundante mas pode evitar erros fut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ais raz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80% do tempo de desenvolvimento é para manutenç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se nenhum software é mantido apenas pelo primeiro desenvolvedo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venções de código melhoram a legibilidade do códig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 o código fonte é fornecido com o sistema, ele deve estar bem apresen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paços em Bran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e linhas em branco para a separação 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uas p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parar seções do mesmo arquiv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tre definições de classes e inter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p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tre méto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ntro de um método entre as variáveis e o 1º coman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tes de comentários (de bloco, ou linh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tre as seções lógicas de um mét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paços em bran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ntre keywords e parêntes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hile (true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assim fica fácil visualizar métodos (sem espaç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ós vírgulas em listas de argument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ntes e depois de operadores bin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+= c +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= (a + b) / (c * 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hile (d++ = s++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n++;              // mas não para operadores uná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Size("size is " + foo + "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paços em bran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ntre os comandos de um fo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 (expr1; expr2; expr3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ós operações de 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myMethod((byte) aNum, (Object)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myMethod((int) (cp+5), ((int) (i + 3)) + 1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omencl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-se usar domínio + subdiretóri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asses e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a letra de cada palavra maiúscul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ét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erbos, com 1ª letra minúscula e letras de cada palavra maiúscul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riá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ª letra minúscula, pequenos, se temp. ok i, j,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t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udo maiúsculo separado por “_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icas de program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vite usar um objeto para acessar algo est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lassMethod();          //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class.classMethod();   //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nObject.classMethod(); //evi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2040" y="3335400"/>
            <a:ext cx="63986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ribuições: uma em cada lin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x = y = 0; // evi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y = 0;     //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 = (a = b + c) + r; //evi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 = b + c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 = a + r;           //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icas de program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e parênt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a == b &amp;&amp; c == d)     //evi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(a == b) &amp;&amp; (c == d)) //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640" y="3335400"/>
            <a:ext cx="81036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e operadores ternários (em certas situaçõ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con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turn (cond ? X : y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54864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loque o comentário XXX se há algo com problema e FIXME onde existem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icas de Program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aça o projeto primeiro em OO, depois implemente-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 você tem métodos com mais de 80 linhas, provavelmente o código não está bem organizad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 seus arquivos tem mais de 500 linhas veja o item anterio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use variáveis glob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adronizar o cabeçal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1840" y="2324160"/>
            <a:ext cx="772452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Nome do Arquivo: Teste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Descrição: Este é um arquivo que serve para testa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           classe Cliente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Projeto: PDAs de vend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Autor: Eu, tu e 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icas ger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mpre terminar o arquivo com uma linha em branc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tes de colocar um comentário para alguém no código, envie-lhe um e-ma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mpre faça uma mensagem de “us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mpre termine os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#endif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com um comentário correspondente ao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#if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loque  /* */ entre o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#includ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o nome do arquivo (visual C++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fina constantes com um prefixo ligado ao proje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x: IT_MAX_CLIE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teja headers de inclusões múltipl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unca faça o cast de um ponteiro para um inteiro (use lon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mpre que usar arquivos, verifique se não ocorreram erros de abertura, escrita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aso partic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is padrões de código seriam úteis no seu caso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programas atuais respeitam estes padrõ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a prática, verificar que respeitar os padrões não é tão difíc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orém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a qu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codding standard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funcionem todos os desenvolvedores devem estar de acordo com a convenção, TO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umo 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(baseado no padrão da su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me dos arquiv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rutura dos arquiv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dentaç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entári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claraçõ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and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paços em branc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venção para nom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áticas (simples e saudáveis) de program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ome dos Arqu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esmo que a linguagem não exija, use sufixos cla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. .java, .c, .cpp, .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makefile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com nomes padr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: Folhamake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mpre tenha no diretório um READ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e arquivo deve conter um resumo do conteúdo do dire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trutura dos Arqu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rquivos contém seções que devem ser separadas por linhas em branco e por  comentários antes de cada seç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ve se evitar arquivos com mais de 2000 linh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lasses/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eçam com um comentário do tipo /**...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comando class, ou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entários sobre a implementação /*...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riáveis estáticas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em ordem de aces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riáveis da classe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public, protected, friendly,privat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tru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étodos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agrupados por funcionalidade e não por escop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dentação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(é bem importan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e apenas espaços (tabs = 4 espaç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vite linhas com mais de 80 carac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gras para quebra de linh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ebra após vírgul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ebra antes de operad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ebra no maior nível possíve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inhar a quebra com o começo da expressão do mesmo níve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 ficar feio, indentar com 8 espaç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2:09:41Z</dcterms:created>
  <dc:creator>compaq</dc:creator>
  <dc:description/>
  <dc:language>en-US</dc:language>
  <cp:lastModifiedBy>compaq</cp:lastModifiedBy>
  <dcterms:modified xsi:type="dcterms:W3CDTF">2003-02-26T18:17:13Z</dcterms:modified>
  <cp:revision>31</cp:revision>
  <dc:subject/>
  <dc:title>Codding standards</dc:title>
</cp:coreProperties>
</file>