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40EE-2060-4977-A9EE-06AAE3FD1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605D-2892-4CB6-91F9-26B7B0124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392B-77F9-4406-B2CD-1667D6125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6BD9-6873-4A3D-99D5-FA58B446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82F6-5BC4-4469-AEAA-EC0A44C4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5EC8-D8D1-4DEC-BD7D-48B88AF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4AC05-D39F-4C0B-B89D-204BE0C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7B7A-5BE2-4127-B7E2-E3571C28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9ECE-A943-44CE-8880-6EE066D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6F44-451A-4750-9369-212014D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62F5B-B7DD-4AD2-B1FF-2B07059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EA83-4FE7-4D1C-9D85-B02A344C4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E850C-4191-4BC3-9812-6C642CB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54C60-D1BC-4193-91C2-F15A0D5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52FB2-0B5B-4528-83BE-4936201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722CC-8E6F-43A9-82B1-782607B0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882F7-F5E9-4C74-8DF5-7F8D8EA5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C5CC-6F21-4195-B027-2A34BD44C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CDF5-B882-457A-B51A-A3F50026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5349-4A42-4771-8D3E-D224BD649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CE64-7F2D-45B3-97F2-9C876BEF1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3093-63A6-4C93-8F7F-39DF7832F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51A9-04E9-4910-919A-1FD2D219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6622-2249-4817-8593-3B07811AD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CF4B-5811-4BEB-9ADC-860371E89BB7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 /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30/6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-small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853452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19520" y="6229080"/>
            <a:ext cx="35049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  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740-AB0D-440A-A30D-E5897831D41F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istair.cockburn.us/crysta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todologias de Desenvolvimento de Software Orientado a Obje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Fabio K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10/8/200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1143-0183-41F1-ABBD-E611579EEA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447480"/>
            <a:ext cx="876312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família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rystal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 Méto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a por Alistair Cockb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alistair.cockburn.us/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ditor da séri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Agile Software Developme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a Addison-Wesl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490760" cy="187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34320" y="4267080"/>
            <a:ext cx="146988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86200" y="4343400"/>
            <a:ext cx="14716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CB11-CADA-4815-B533-E5CFC93986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610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eff Sutthe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jeffsutherlan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en Schwa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controlchao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OPSLA 96, PLoP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pi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envolvimento Iterativo e Incremental em empresas  (DuPont, Honda, etc) nos anos 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5D0D-8400-4F87-AFDD-2A431C8C62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F3CA-169C-41F3-835E-0566192FDB8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5517-46C6-4192-8677-1E94723AE2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D599-D553-4995-8CD3-E4F1DD4CDF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6357-1E0A-4264-B20D-57A1AAFE58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623520" y="326052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F194-6935-4675-A6D2-F604A4F780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623520" y="326196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312F-C422-4D3E-877D-5D2119AB05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6062-4AED-41ED-AE13-2BCAD63E7D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4840" y="380520"/>
            <a:ext cx="84405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B673-35BF-494F-A483-CE6983A1ED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vos ventos no mundo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cieda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sistemas/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 complexo, sistemas distribuídos, heterogên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isitos mutante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(todo ano, todo mês, todo dia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nfelizment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ente suficiente para desenvolver tanto software com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5722-5824-4CC4-B731-5702E65AB3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01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C360-7235-4C45-A903-74AB1BB75C7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925C-B770-4B51-BD70-4A61F6F1AF8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A932-4EDF-45AE-8FC8-60EA84AD0C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4840" y="380880"/>
            <a:ext cx="84405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CF2D-6A71-486E-BB04-873B8060961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6807-582C-43CD-9FCE-7003B91CCFE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EC39-52B0-4C85-A04E-27A5C9CFF4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 “cartão de história” contendo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42EF-0B72-48E8-86A3-65F5FFDD35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C250-0298-4900-A9A1-D3FD907F02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39EE-7611-45F0-B2D8-42DFEF3320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A52B-F2D4-4B32-9421-45F4150CFA8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144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todologias de desenvolv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põem que é possível prever o fut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uca interação com 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Ênfase em burocracias (documentos, formulários, processos, controles rígido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valiação do progresso baseado na evolução da burocracia e n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lta de 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973C-D12A-4D47-8A61-334A3946DB5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6FC2-0F57-4DD6-928A-49AC3D92531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4627-A0AF-447D-BEE9-25E731802CF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DDCD-5E8A-4A47-B11F-0DBB3560F57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AB66-8357-47BF-A60C-9BFF66B6EEC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33CE-6690-4CEC-84B1-B1653022DE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4B2D-4FA8-48BB-A613-17283191728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5D40-A6A7-4A5C-9505-8E8028D9CFD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8301-DFB7-4822-BF92-02BCC63162D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E586-7E4C-4788-A32C-C79138889D2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1C66-EA36-42B6-8272-0FFB8E67A6A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447480"/>
            <a:ext cx="876312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resolver esse impass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Tecn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ões de Projeto (reutilização de idéi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onentes (reutilização de cód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 (aumenta a abstr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Metod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Ágeis   (o foco nesta discipli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ras...  (abordadas, p.ex., na disciplina 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C730-3F2A-4E6D-B0D2-1FDD4561505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3C57-582E-49A1-BE9A-DE3552CDDB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5222-C566-44D5-856E-905F55C47BB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0BED-C117-40E9-95FF-D616CF9683E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563A-DDBE-4DD8-8977-23170C8DD5B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D524-544D-408A-9407-B91C60C56E5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 Comuns do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oca o f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entrega freqüente de sub-versões do software [funcionando] para 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s seres humanos que desenvolvem o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tira o foco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os rígidos e burocrat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ções e contratos detalh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 que são usadas pelos seres hu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585C-CE81-43A1-9056-EA46DAA1C2D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as próximas aula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fatoraçã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lanejamento ág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FB14-E7AE-48BB-8A16-31A21EA1DC5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agilealliance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ime.usp.br/~kon/MAC57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AC9C-DD18-41E5-ACDE-0194CFBD667E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todologias de Desenvolvimento de Software O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dicionai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unidade de Engenharia d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EEE/ACM IC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.ex. Carnegie-Mellon S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UP, CMM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g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unidade de PO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CM OOPS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.ex. Johnson @ Illinois, Beck, Cockburn, Jeffries, Cunningham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XP, Crystal, Scrum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8117-69C0-4898-A8E8-0BEE76A0EC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étodos Ágeis de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Desenvolvimento de Softw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imento iniciado por programadores experientes e consultores em desenvolviment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stionam e se opõe a uma série de mitos/práticas adotadas em abordagens tradicionais de Engenharia de Software e Gerência de Pro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ifesto Ági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sinado por 17 desenvolvedores em Utah em fevereiro/20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37E3-B02E-4BCB-9EC8-3AD559114D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anifesto do </a:t>
            </a:r>
            <a:br>
              <a:rPr sz="4000"/>
            </a:br>
            <a:r>
              <a:rPr b="0" i="1" lang="pt-BR" sz="3400" spc="-1" strike="noStrike">
                <a:solidFill>
                  <a:srgbClr val="000000"/>
                </a:solidFill>
                <a:latin typeface="Arial Black"/>
              </a:rPr>
              <a:t>Desenvolvimento Ágil de Softwar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Indivíduos e interaçõ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são mais importantes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rocessos e ferram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Software funcionando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ocumentação completa e detalhad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Colaboração com o client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negociação de contra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daptação a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uir o plano inicia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C8C0-AE12-43DF-BD8D-1C2DBF73A9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jetivo: satisfazer o cliente entregando, rapidamente e com freqüência, sistemas com algum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egar versões funcionais em prazos cur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r preparado para requisitos mu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l de negócios e desenvolvedores j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oca de informações através de conversas dire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F60F-E36C-4908-B975-69D31E3281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esta disciplina ver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eXtrema (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utros métodos ágeis interessa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ystal (uma família de métod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daptive Softwar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ature Drive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B259-11C3-4B68-B055-4FB5B93A9D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John Lennon</cp:lastModifiedBy>
  <cp:lastPrinted>2003-08-01T19:01:22Z</cp:lastPrinted>
  <dcterms:modified xsi:type="dcterms:W3CDTF">2004-08-03T18:50:11Z</dcterms:modified>
  <cp:revision>349</cp:revision>
  <dc:subject/>
  <dc:title>No Slide Title</dc:title>
</cp:coreProperties>
</file>