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A612-0E70-49EF-ADE0-253E3E43F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7409-089B-47C8-91E2-AEA3853C7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CC4F-AA69-441F-80D8-A6CF70CFD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5C84-121F-4678-8DD8-71F6800FF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56D40-6F69-4D26-9E9E-1EF4DF3E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BFCE2-34DE-4B61-BEE0-4F382500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42F0-ED32-4C41-B67E-18151FD2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FB81C-7C8A-45B9-AF3C-7DE24A64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64CB9-0357-4D12-93C0-F88C74A7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3808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3506B-4CA1-43FB-B5C3-F3DAEF0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D3662-C50F-4C28-9C9C-3BEC21C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6732-95E9-44BA-8877-AC8C5E7DF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80B51-1084-44F4-87B9-9E61D8E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41A83-B28C-4903-82E6-1E6F6D06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E007D-2029-447E-A646-721A9EDE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EAE1E-CD95-46AA-986B-5C4A9E54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7DEAE-AFF4-4FCB-A73F-D8F5D944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7D84-B707-4DC4-921F-D059F91A6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AAA8-EE81-4FF4-B650-4183F49B4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A037-FA67-4F90-9E75-8F86769FC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3808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95EF-33D3-41FF-9B58-E97711B13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0C11-684E-4FF1-B644-4E0A06DA7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F7E0-2BDF-432B-95BB-3619DC43E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0D02-DFEA-48EF-84BA-863865607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3D5A-C835-4686-90B3-18938D5D3CB3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 /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30/6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ner-small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8534520" cy="533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819520" y="6229080"/>
            <a:ext cx="35049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  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235E-0FD2-41A9-ADE7-5B5DADCE9093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istair.cockburn.us/crystal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Metodologias de Desenvolvimento de Software Orientado a Obje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Fabio K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10/8/2004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B0EF6-A363-4145-97E5-C7FD5A088F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447480"/>
            <a:ext cx="876312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família 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rystal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e Méto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48376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da por Alistair Cockb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alistair.cockburn.us/crys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ditor da séri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Agile Software Developmen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a Addison-Wesl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1490760" cy="187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934320" y="4267080"/>
            <a:ext cx="146988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886200" y="4343400"/>
            <a:ext cx="147168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5276-3CEF-4D82-BFDA-C60EE1AFA5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610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eff Sutther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jeffsutherlan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Ken Schwa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www.controlchao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er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OPSLA 96, PLoP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spi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envolvimento Iterativo e Incremental em empresas  (DuPont, Honda, etc) nos anos 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4C5C-7F45-4861-9236-FD3708E9AE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000"/>
            </a:b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 de desenvolvimento de software aperfeiçoada nos últimos 5 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nhou notoriedade a partir da OOPSLA’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principal: Kent B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70A9-7FDC-431D-B3B4-8DD831A9264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Reações a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odeiam, outros am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gosta de programar am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a o bom programador livre para fazer o que ele faria se não houvesse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ça o [mau] programador a se comportar de uma forma similar ao bom programa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4057-7D91-4A4A-9A1B-8934DDED05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Tradicional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0. Levantamento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. Análise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. Desenho da Arquite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. 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.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5. Produção / Manu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8496-CC1D-4E42-AF9A-18B18692F3E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Básicas do Modelo Tradicio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a análise de requisitos profunda e detalhada antes de projetar a arquitetura do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 estudo minucioso e elaborar uma descrição detalhada da arquitetura antes de começar a implementá-l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testar o sistema completamente antes de mandar a versão final para o clien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06C3-055D-4302-A2CC-241BF73628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está por trás deste mode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-2728800" y="-915120"/>
            <a:ext cx="101962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1" y="0"/>
                </a:moveTo>
                <a:arcTo wR="10800" hR="10800" stAng="-5424988" swAng="5424988"/>
                <a:lnTo>
                  <a:pt x="10800" y="10800"/>
                </a:lnTo>
                <a:close/>
              </a:path>
              <a:path fill="none" w="21600" h="21600">
                <a:moveTo>
                  <a:pt x="10721" y="0"/>
                </a:moveTo>
                <a:arcTo wR="10800" hR="10800" stAng="-5424988" swAng="54249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-623520" y="326052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78560" y="525780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isitos       desenho                  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40360" y="5562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        implementação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61D2-3BB7-47C6-B060-B37C56E76DA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a realidade hoje em dia fosse outr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623520" y="326196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86000" y="4267080"/>
            <a:ext cx="10667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E001-3F4D-423A-A1E0-29B5A8BBE79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ssa fosse a realidad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titude dos desenvolvedores de software seria completamente difer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maríamos as grandes decisões o mais tarde possí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ríamos agora somente o que precisa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go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implementaríamos flexibilidade desnecessária (não anteciparíamos necessidad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240D-CDEF-4EA8-8746-2876F209841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4840" y="380520"/>
            <a:ext cx="84405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essa é a nova realidade !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pelo menos em muitos cas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rientação a Obje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facilita e cria oportunidades para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écnicas de Refatoraçã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nos dão segurança quando fazemos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ática / cultura de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aprendemos técnicas e adquirimos experiência em lidar com código mu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97DC-4D2D-4764-872F-2E94D80C3C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vos ventos no mundo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cieda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ande quantidade de sistemas/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 complexo, sistemas distribuídos, heterogêne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quisitos mutante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(todo ano, todo mês, todo dia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infelizment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há gente suficiente para desenvolver tanto software com qual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7DAB-723D-4EB6-8394-9DDE07D5CD6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01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Quem se Destina X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de 2 a 10 program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s de 1 a 36 meses (calendá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1000 a 250 000 linha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pé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 (foco central)(sem hierarqu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einador” ou “Técnico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ac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dor” 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rack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C790-526F-4875-BD41-97B6C7C5D04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u Não Me Encaixo Nesses Cas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inda pode aprender muito sobre desenvolvimento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rá elementos para repensar as suas prá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início se diz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você é 100% eXtremo ou não é eXtremo. Não dá prá ser 80% X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P is like teenage s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oje não é mais necessariamente ass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5A99-825C-4E9B-ACDA-35DFD7CEA25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1AA4-B27A-4D1E-AF72-E58B32E7A9C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4840" y="380880"/>
            <a:ext cx="84405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incípios Básicos de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o melhor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incre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regue a bandeira das mudanças /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lorize o med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Embrace chang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a qualidade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6A69-4F22-4040-A69D-7AF22146BC4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4 Variáve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Escopo (foco principal de X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B5F7-7698-461B-97A5-21F712B76E5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Projeto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Explo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ção: 2 a 6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 quando a primeira versão do software é enviada a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s escrevem “historias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ory card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interagem com clientes e discutem tecnolog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só discutem,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perimenta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iferentes tecnologias e arquiteturas para 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mento: 1 a 2 d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EF8E-925C-4987-9CAC-4537BA852C6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64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a história d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a um par liv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 computador para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ciona um “cartão de história” contendo uma tarefa claramente relacionada a uma característic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desejada pel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54F8-9B89-476F-987F-80A2FDC3387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modificações recentes n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história do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esig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9A04-214A-4B53-9381-75DDDA78515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os constantes no desenvolv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testes anti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oportunidades para simpl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ifica desenho e implementação incrementalmente baseado na funcionalidade exigida no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 nov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todos os testes não rodam a 100%, o trabalho não está termi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 novo código ao repositó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C6E0-36AA-4F8E-997C-090E4F0840A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damento mais importante de X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o que dá segurança e coragem a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un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programadores para testar cada elemento do sistema (e.g., cada método em cada cas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funcional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Functional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clientes para testar a funcionalidade d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E7D7-18F9-413A-9402-2741A72F94F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1444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metodologias de desenvolvi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upõem que é possível prever o futu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uca interação com 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Ênfase em burocracias (documentos, formulários, processos, controles rígidos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valiação do progresso baseado na evolução da burocracia e n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ande quantidade de er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lta de 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3FE7-96EE-45F0-9D04-63853786E13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unidades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m que estar sempre funcionando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ão executados várias vezes por d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dos à noite automa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ão crescendo de 0%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chegam a 100% acabou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EBB9-A42F-470D-BB84-415FB7444C8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ões de estilo adotados pelo grupo intei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mais claro possí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 não se baseia em documentações detalhadas e extensas (perde-se sincron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sempre que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padroniz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ção Pareada ajuda mui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00EF-87CF-4EE9-99B8-309C0785787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rro de um detectado imediatamente pelo outro (grande economia de temp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gambiarra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.: Sistema Multimídia Orientado a Obj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536E-65D0-44B4-B7BA-F55CFABC0C3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riedade Cole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tradicional: só autor de uma função pode modificá-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: o código pertence a to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lguém identifica uma oportunidade para simplificar, consertar ou melhorar código escrito por outra pessoa, que o faç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rode os test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AF82-5828-40FB-A7FF-E5DFF6DB401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atoração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(Refactoring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[pequena] modificação no sistema que não altera o seu comportamento fu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que melhora alguma qualidade não-func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r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F35E-7C63-42D4-8863-78E88618BBB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s de Refato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 do nome de variáv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nas interfaces dos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quenas mudanças arquitetu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apsular código repetido em um novo mét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neralização de mét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aizQuadrada(float x)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raiz(float x, int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F331-5DCC-4349-8625-3E768DBBE5E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onsável por escrever “história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um programador ou é representado por um programador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a no mesmo espaço físico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s versões são enviadas para produção todo mês (ou toda seman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liente é ess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quisitos mudam (e isso não é mau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AFD7-3E43-4EBD-83D6-684D6CFA272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oach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trein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o mais experiente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ntifica quem é bom no 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bra a todos as regras do jogo (X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entualmente faz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esenha arquitetura, apenas chama a atenção para oportunidades de melho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u papel diminui à medida em que o time fica mais mad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66B2-30D3-4980-8E3B-4A1A413672C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Tracker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Acompanh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“consciência”  do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leta estatísticas sobre o andamento do projeto. Alguns ex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úmero de histórias definidas e implement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úmero de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unit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úmero de testes funcionais definidos e funciona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úmero de classes, métodos, linhas de códi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ntém histórico do progres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z estimativas para o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1B21-1316-4C95-8C6B-94011B223BD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não aceita as regras do j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quer uma especificação detalhada do sistema antes de começ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programadores não estão dispostos a seguir (todas) as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(quase) todos os programadores do time são medíoc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A5A2-6C1A-4436-AE68-9B0BEDC7888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447480"/>
            <a:ext cx="876312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o resolver esse impass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hores Tecnolo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ões de Projeto (reutilização de idéi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onentes (reutilização de cód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ddleware (aumenta a abstraç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hores Metodolo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Ágeis   (o foco nesta discipli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tras...  (abordadas, p.ex., na disciplina 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0A36-509B-46D8-9616-7E897BFAC1B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upos grandes (&gt;10 programador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 não é possíve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 demora 6h para compi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demoram 12h  para rod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igência de certificação que demora me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o custo de mudanças é essencialmente expon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não é possível realizar testes (muito rar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C66E-35B1-484F-9A13-AED7BCD5D3F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encendo os Me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de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 em frente sem saber tudo sobre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r em outras pesso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a arquitetura de um sistema em funciona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085D-61E3-4DE7-B242-9EBA4B12E98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0E8D-EA15-4B84-AE3A-5A1B44B9D41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áticas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práticas foram refatorad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veja www.extremeprogramming.org/rules.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a idéia é exatamente a m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práticas interes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erte XP quando a metodologia quebr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a as pesso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 Proxy (by Kla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A8EB7-2275-42D2-A801-E0192A8567D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 não é para todo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odo mundo pode aprender com 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6BB6-AFA6-46B9-8487-13CC0970625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racterísticas Comuns dos 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loca o fo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 entrega freqüente de sub-versões do software [funcionando] para 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s seres humanos que desenvolvem o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tira o foco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cessos rígidos e burocrat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ocumentações e contratos detalh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rramentas que são usadas pelos seres hum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0776-0D12-44CD-92F4-F2CC5A559D1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as próximas aula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fatoraçã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lanejamento ág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á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9947C-301E-425B-8734-46B8FD4F037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514080"/>
            <a:ext cx="87631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iores 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for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5320" y="1885680"/>
            <a:ext cx="848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agilealliance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ime.usp.br/~kon/MAC571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ime.usp.br/~x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xispe.com.br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extremeprogramming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F7D5-BDB4-4202-9B7D-63FC9EF96131}" type="slidenum">
              <a:t>47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Metodologias de Desenvolvimento de Software O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adicionai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unidade de Engenharia d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EEE/ACM IC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.ex. Carnegie-Mellon S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UP, CMM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g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unidade de PO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CM OOPS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.ex. Johnson @ Illinois, Beck, Cockburn, Jeffries, Cunningham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XP, Crystal, Scrum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EB73-3CFC-43E8-9011-05EB17D7FA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Métodos Ágeis de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Desenvolvimento de Softwa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imento iniciado por programadores experientes e consultores em desenvolvimento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stionam e se opõe a uma série de mitos/práticas adotadas em abordagens tradicionais de Engenharia de Software e Gerência de Proj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nifesto Ági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sinado por 17 desenvolvedores em Utah em fevereiro/200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F08F-4B4F-4AC5-9C67-37FA7A72CA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Manifesto do </a:t>
            </a:r>
            <a:br>
              <a:rPr sz="4000"/>
            </a:br>
            <a:r>
              <a:rPr b="0" i="1" lang="pt-BR" sz="3400" spc="-1" strike="noStrike">
                <a:solidFill>
                  <a:srgbClr val="000000"/>
                </a:solidFill>
                <a:latin typeface="Arial Black"/>
              </a:rPr>
              <a:t>Desenvolvimento Ágil de Softwar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Indivíduos e interaçõ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são mais importantes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rocessos e ferram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Software funcionando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ocumentação completa e detalhada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Colaboração com o client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negociação de contra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daptação a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eguir o plano inicial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3EDE-38A6-4E40-95D8-A6A1AF92AF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 do Manifesto Ág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bjetivo: satisfazer o cliente entregando, rapidamente e com freqüência, sistemas com algum va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regar versões funcionais em prazos cur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ar preparado para requisitos mut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ssoal de negócios e desenvolvedores ju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oca de informações através de conversas diret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329CE-55AD-43CD-9A61-A20CCB8831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ipais 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esta disciplina vere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eXtrema (X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utros métodos ágeis interessa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ystal (uma família de métod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c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daptive Softwar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ature Drive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9360B-5033-4C96-A723-632C70DE051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John Lennon</cp:lastModifiedBy>
  <cp:lastPrinted>2003-08-01T19:01:22Z</cp:lastPrinted>
  <dcterms:modified xsi:type="dcterms:W3CDTF">2004-08-03T18:50:11Z</dcterms:modified>
  <cp:revision>349</cp:revision>
  <dc:subject/>
  <dc:title>No Slide Title</dc:title>
</cp:coreProperties>
</file>