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C5BE-6CCB-416C-B52B-A67D37663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DD6A-6A17-442A-9351-53E26D254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EAD9-458F-4C56-80FF-C6B2E1473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8855-78E9-4A1E-8250-FBCF41C66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46C76-F727-4ABF-980F-6C608F9A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AF503-1D46-4A88-81E1-02F80249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862A6-2ECF-4C42-B701-A17C392B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54479-DE4B-433B-A74D-17BFE239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D1EE1-6772-46C5-A5F8-0A7CB3A7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3FB78-BEF2-40BF-AEB9-35FBBEDF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BB91F-7485-4C12-A220-70914C84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DBFC-42FE-4815-A57F-EF9D35AF0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28CD9-D9CE-4AB4-8C12-242AC206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8F9AB-AF67-462C-8D4F-BA72A404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3528E-A56A-4203-AF66-275AF587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78F65-4A9E-45E6-927F-BB8ED700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3D89D-25ED-4705-A221-ABEC2DAF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B506-B975-4568-8D02-529378894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806E0-4632-413F-A395-D9655B4C3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44D3-FB52-4140-BF81-E5A539C97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4D68-1192-4EEC-91D1-F9B4F3286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A01C8-DC9D-43FC-9276-872872D9F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47F4B-DE8F-46D9-9173-79C7C0FA7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1217-CBFF-4860-B89A-D09C397E9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by Fabio Kon &amp; Alfredo Gold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8660-515F-45CA-A6BA-B12D8AD0B726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 / 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Outubro d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anner-small" descr=""/>
          <p:cNvPicPr/>
          <p:nvPr/>
        </p:nvPicPr>
        <p:blipFill>
          <a:blip r:embed="rId3"/>
          <a:stretch/>
        </p:blipFill>
        <p:spPr>
          <a:xfrm>
            <a:off x="152280" y="1219320"/>
            <a:ext cx="853452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819520" y="6229080"/>
            <a:ext cx="35049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by Fabio Kon &amp; Alfredo Gold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29C5-2E89-4090-B843-A869A1D3A439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anner" descr=""/>
          <p:cNvPicPr/>
          <p:nvPr/>
        </p:nvPicPr>
        <p:blipFill>
          <a:blip r:embed="rId3"/>
          <a:stretch/>
        </p:blipFill>
        <p:spPr>
          <a:xfrm>
            <a:off x="228600" y="1974960"/>
            <a:ext cx="8753400" cy="1073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istair.cockburn.us/crystal" TargetMode="External"/><Relationship Id="rId3" Type="http://schemas.openxmlformats.org/officeDocument/2006/relationships/hyperlink" Target="http://alistair.cockburn.us/crystal" TargetMode="External"/><Relationship Id="rId4" Type="http://schemas.openxmlformats.org/officeDocument/2006/relationships/hyperlink" Target="http://alistair.cockburn.us/crystal" TargetMode="External"/><Relationship Id="rId5" Type="http://schemas.openxmlformats.org/officeDocument/2006/relationships/hyperlink" Target="http://alistair.cockburn.us/crystal" TargetMode="External"/><Relationship Id="rId6" Type="http://schemas.openxmlformats.org/officeDocument/2006/relationships/hyperlink" Target="http://alistair.cockburn.us/crystal" TargetMode="External"/><Relationship Id="rId7" Type="http://schemas.openxmlformats.org/officeDocument/2006/relationships/hyperlink" Target="http://alistair.cockburn.us/crystal" TargetMode="External"/><Relationship Id="rId8" Type="http://schemas.openxmlformats.org/officeDocument/2006/relationships/hyperlink" Target="http://alistair.cockburn.us/crystal" TargetMode="External"/><Relationship Id="rId9" Type="http://schemas.openxmlformats.org/officeDocument/2006/relationships/hyperlink" Target="http://alistair.cockburn.us/crystal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étodos Ágeis e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esenvolvendo Software com Qualidade e Agilidad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Dr. Fabio Kon         Prof. Dr. Alfredo Goldm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Simpósio Brasileiro de Engenharia de Softwa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Manaus -  outubro 2003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B03C7-8F5E-4461-987C-A91B071B3EB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ípios do Manifesto Ág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ior prioridade: satisfazer o cliente entregando, antes e sempre sistemas com va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ar preparado para requisitos mutantes. O quê fornece uma vantagem competiti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tregar versões funcionais em prazos cur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ssoal de negócios e desenvolvedores ju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truir projetos com indivíduos motivados, dando um ambiente de trabalho e confiando n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oca de informações através de conversas diret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C9C7-FAD2-49AF-A822-A2245E68F3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ípios do Manifesto Ág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dir progresso através de software funcionan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nvolvimento sustentá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uidados com o nível técnico e bom desenh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 é ess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s melhores arquiteturas, requisitos e desenho aparecem de equipes que se auto organiza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 tempos em tempos, o time pensa em como se tornar mais efetivo, e ajusta o seu comportamento de acor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63FD-E1DB-4F62-8980-79D89201B30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a Boa Metáfora para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jogo Cooperativo de Invenção e Comunicação”. Alistair Cockbur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o um grupo de pessoas escalando uma montanha em conjunt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Jogo cooperativo, finito, onde se busca alcançar um objeti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0CE9-A006-41F8-9C71-E0FD44F2687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ois Objetivos Principais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483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tregar software que funcione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eparar o terreno para o próximo proje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2B9C-99A5-41E1-8BDF-101DA378668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pifania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gerente de projeto concorda em prosseguir sem que todos os requisitos estejam bem defini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desenvolvedores concordam em prosseguir sem ter todos os requisitos document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gerente de projeto vê uma novas funcionalidades a cada nova versão, e percebe que o sua participação foi importante com resultados visíveis. Também percebe que o projeto terá sucesso e será út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F3EE-8B0A-43B1-8CDA-C301C219CE7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is Epifania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membros da equipe sabem que alguém vai ajudar quando ocorrerem proble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gerente de TI sente o trabalho de equipe nas áreas de trabalh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gerentes percebem que não precisam dizer a equipe o que fazer, ou garantir o que vai ser fe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equipe percebe que ninguém vai dizer o quê fazer, isto faz parte do trabalho da equi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existem mais a impressão de divisão (testers and programmers), todos são desenvolv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6E29-A3FE-49BC-9872-F5B6C0B858B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ipais Método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aremos uma visão g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ystal (uma família de métod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c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bordaremos mais detalhada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eXtrema (X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abordar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Adaptive Softwar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eature Driven Development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0187-771A-4587-916E-221AD20EE1D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família 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Crystal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de Méto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848376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ada por Alistair Cockb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istair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.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cockburn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.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us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/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9"/>
              </a:rPr>
              <a:t>crys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ditor da séri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Agile Software Development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a Addison-Wesle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685800" y="4343400"/>
            <a:ext cx="1490760" cy="1876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6934320" y="4267080"/>
            <a:ext cx="1469880" cy="1847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886200" y="4343400"/>
            <a:ext cx="147168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673C-6021-46DC-8ABA-1555524B3AB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equeno histór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i contratado em 1990 pela IB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ocumentar a metodologia de desenvolvi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ptou por entrevistar as diversas equi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ulta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didos de desculpa por não utilizar ferram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 entregar software funciona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plicações sobre como metodologias foram seguidas a ris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 o projeto falh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483B-F2F7-4F08-8FCB-FBCCC1FDDBB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ões (resumo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de-se trocar documentação escrita por conversas face a 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to mais se entrega software funcionando e testado, menos depende-se da documentação escrita (promissóri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C29A-D6E1-453B-A923-082EC466606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ovos ventos no mundo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cieda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ande quantidade de sistemas/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ftware complexo, sistemas distribuídos, heterogêne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quisitos mutantes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(todo ano, todo mês, todo dia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, infelizment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há gente suficiente para desenvolver tanto software com qualida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E979-8619-443A-8667-EBD2FFB34A4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lassificação de Projetos de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2683800" y="6172200"/>
            <a:ext cx="417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úmero de pessoas envolv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-1135080" y="3529080"/>
            <a:ext cx="333036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i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tos causam perdas 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0120" y="5079960"/>
            <a:ext cx="10994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2760" y="3146400"/>
            <a:ext cx="11527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s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59720" y="2362320"/>
            <a:ext cx="659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23000" y="6248520"/>
            <a:ext cx="84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685960" y="1419120"/>
            <a:ext cx="5835240" cy="3933720"/>
            <a:chOff x="2685960" y="1419120"/>
            <a:chExt cx="5835240" cy="3933720"/>
          </a:xfrm>
        </p:grpSpPr>
        <p:grpSp>
          <p:nvGrpSpPr>
            <p:cNvPr id="133" name=""/>
            <p:cNvGrpSpPr/>
            <p:nvPr/>
          </p:nvGrpSpPr>
          <p:grpSpPr>
            <a:xfrm>
              <a:off x="2685960" y="1419120"/>
              <a:ext cx="5835240" cy="3933720"/>
              <a:chOff x="2685960" y="1419120"/>
              <a:chExt cx="5835240" cy="39337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2702160" y="1487880"/>
                <a:ext cx="5819040" cy="3864960"/>
                <a:chOff x="2702160" y="1487880"/>
                <a:chExt cx="5819040" cy="38649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702160" y="1487880"/>
                  <a:ext cx="5819040" cy="3864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492360" y="1487880"/>
                  <a:ext cx="0" cy="38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282560" y="1487880"/>
                  <a:ext cx="0" cy="38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144760" y="1487880"/>
                  <a:ext cx="0" cy="38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34960" y="1487880"/>
                  <a:ext cx="0" cy="38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725160" y="1487880"/>
                  <a:ext cx="0" cy="38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515360" y="1487880"/>
                  <a:ext cx="0" cy="38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2685960" y="141912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 . .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702160" y="3389760"/>
              <a:ext cx="58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2160" y="2469240"/>
              <a:ext cx="58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2160" y="4371480"/>
              <a:ext cx="58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558880" y="1673280"/>
            <a:ext cx="5820120" cy="3863880"/>
            <a:chOff x="2558880" y="1673280"/>
            <a:chExt cx="5820120" cy="3863880"/>
          </a:xfrm>
        </p:grpSpPr>
        <p:sp>
          <p:nvSpPr>
            <p:cNvPr id="147" name=""/>
            <p:cNvSpPr/>
            <p:nvPr/>
          </p:nvSpPr>
          <p:spPr>
            <a:xfrm>
              <a:off x="2558880" y="1673280"/>
              <a:ext cx="5820120" cy="386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9440" y="1673280"/>
              <a:ext cx="0" cy="38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39640" y="1673280"/>
              <a:ext cx="0" cy="38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1840" y="1673280"/>
              <a:ext cx="0" cy="38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2040" y="1673280"/>
              <a:ext cx="0" cy="38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2600" y="1673280"/>
              <a:ext cx="0" cy="38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73160" y="1673280"/>
              <a:ext cx="0" cy="38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117240" y="1533600"/>
            <a:ext cx="3976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ori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ade para responsabilidade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58880" y="3575160"/>
            <a:ext cx="58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58880" y="2654280"/>
            <a:ext cx="58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58880" y="4556160"/>
            <a:ext cx="58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16320" y="1876320"/>
            <a:ext cx="5819760" cy="3843360"/>
            <a:chOff x="2416320" y="1876320"/>
            <a:chExt cx="5819760" cy="3843360"/>
          </a:xfrm>
        </p:grpSpPr>
        <p:sp>
          <p:nvSpPr>
            <p:cNvPr id="159" name=""/>
            <p:cNvSpPr/>
            <p:nvPr/>
          </p:nvSpPr>
          <p:spPr>
            <a:xfrm>
              <a:off x="2416320" y="1876320"/>
              <a:ext cx="5819760" cy="384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06880" y="2059200"/>
              <a:ext cx="0" cy="36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97080" y="2059200"/>
              <a:ext cx="0" cy="36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59280" y="2059200"/>
              <a:ext cx="0" cy="36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9480" y="1876320"/>
              <a:ext cx="0" cy="384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40040" y="1876320"/>
              <a:ext cx="0" cy="384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30240" y="1876320"/>
              <a:ext cx="0" cy="384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6320" y="3767040"/>
              <a:ext cx="581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16320" y="2851920"/>
              <a:ext cx="581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16320" y="4743360"/>
              <a:ext cx="581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198520" y="1793880"/>
            <a:ext cx="6640560" cy="4084560"/>
            <a:chOff x="2198520" y="1793880"/>
            <a:chExt cx="6640560" cy="4084560"/>
          </a:xfrm>
        </p:grpSpPr>
        <p:sp>
          <p:nvSpPr>
            <p:cNvPr id="170" name=""/>
            <p:cNvSpPr/>
            <p:nvPr/>
          </p:nvSpPr>
          <p:spPr>
            <a:xfrm>
              <a:off x="2199960" y="1793880"/>
              <a:ext cx="0" cy="408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198520" y="5878440"/>
              <a:ext cx="664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218680" y="5925960"/>
            <a:ext cx="70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-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11120" y="5925960"/>
            <a:ext cx="64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2720" y="5925960"/>
            <a:ext cx="64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05920" y="5925960"/>
            <a:ext cx="768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37880" y="5925960"/>
            <a:ext cx="768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68040" y="5925960"/>
            <a:ext cx="768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83440" y="5925960"/>
            <a:ext cx="960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205720" y="2257560"/>
            <a:ext cx="5799960" cy="3616200"/>
            <a:chOff x="2205720" y="2257560"/>
            <a:chExt cx="5799960" cy="3616200"/>
          </a:xfrm>
        </p:grpSpPr>
        <p:sp>
          <p:nvSpPr>
            <p:cNvPr id="180" name=""/>
            <p:cNvSpPr/>
            <p:nvPr/>
          </p:nvSpPr>
          <p:spPr>
            <a:xfrm>
              <a:off x="2206800" y="2257560"/>
              <a:ext cx="5798880" cy="36162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06800" y="2257560"/>
              <a:ext cx="81864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6800" y="3164040"/>
              <a:ext cx="81864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6800" y="4070520"/>
              <a:ext cx="81864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06800" y="4976640"/>
              <a:ext cx="81864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37320" y="2257560"/>
              <a:ext cx="81756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37320" y="3164040"/>
              <a:ext cx="81756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37320" y="4070520"/>
              <a:ext cx="81756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37320" y="4976640"/>
              <a:ext cx="81756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67120" y="2257560"/>
              <a:ext cx="81864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67120" y="3164040"/>
              <a:ext cx="81864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67120" y="4070520"/>
              <a:ext cx="81864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67120" y="4976640"/>
              <a:ext cx="81864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98000" y="2257560"/>
              <a:ext cx="81720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98000" y="3164040"/>
              <a:ext cx="81720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98000" y="4070520"/>
              <a:ext cx="81720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8000" y="4976640"/>
              <a:ext cx="81720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27440" y="2257560"/>
              <a:ext cx="81720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27440" y="3164040"/>
              <a:ext cx="81720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27440" y="4070520"/>
              <a:ext cx="81720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27440" y="4976640"/>
              <a:ext cx="81720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57240" y="2257560"/>
              <a:ext cx="81864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57240" y="3164040"/>
              <a:ext cx="81864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57240" y="4070520"/>
              <a:ext cx="81864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57240" y="4976640"/>
              <a:ext cx="81864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7760" y="2257560"/>
              <a:ext cx="81756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87760" y="3164040"/>
              <a:ext cx="81756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87760" y="4070520"/>
              <a:ext cx="81756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7760" y="4976640"/>
              <a:ext cx="81756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15440" y="5504400"/>
              <a:ext cx="4885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90160" y="5504400"/>
              <a:ext cx="5965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23560" y="5504400"/>
              <a:ext cx="5965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96120" y="5504400"/>
              <a:ext cx="7048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96840" y="5504400"/>
              <a:ext cx="7048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29520" y="5504400"/>
              <a:ext cx="7048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5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58600" y="5504400"/>
              <a:ext cx="8128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1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05720" y="4592880"/>
              <a:ext cx="5007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84040" y="4592880"/>
              <a:ext cx="6087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12040" y="4592880"/>
              <a:ext cx="6087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89280" y="4592880"/>
              <a:ext cx="717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91440" y="4592880"/>
              <a:ext cx="717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22680" y="4592880"/>
              <a:ext cx="717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5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53560" y="4592880"/>
              <a:ext cx="825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1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22280" y="3686760"/>
              <a:ext cx="476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96280" y="3686760"/>
              <a:ext cx="58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25000" y="3686760"/>
              <a:ext cx="58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96480" y="3686760"/>
              <a:ext cx="692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6920" y="3686760"/>
              <a:ext cx="692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36360" y="3686760"/>
              <a:ext cx="692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5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62560" y="3686760"/>
              <a:ext cx="801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1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22280" y="2843640"/>
              <a:ext cx="476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96280" y="2843640"/>
              <a:ext cx="58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22840" y="2843640"/>
              <a:ext cx="58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54800" y="2843640"/>
              <a:ext cx="692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6920" y="2843640"/>
              <a:ext cx="692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36360" y="2843640"/>
              <a:ext cx="692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5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62560" y="2843640"/>
              <a:ext cx="801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1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633400" y="1920960"/>
            <a:ext cx="456984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ori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ade para Produtividade &amp; Tolerâ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0040" y="4113360"/>
            <a:ext cx="16221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31FF-0C9B-4300-99E5-09ADA5E001F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scopo da Família Cryst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1843200" y="2664000"/>
            <a:ext cx="5062320" cy="3149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8240" y="2573280"/>
            <a:ext cx="1239840" cy="3556080"/>
          </a:xfrm>
          <a:custGeom>
            <a:avLst/>
            <a:gdLst>
              <a:gd name="textAreaLeft" fmla="*/ 60480 w 1239840"/>
              <a:gd name="textAreaRight" fmla="*/ 1179360 w 1239840"/>
              <a:gd name="textAreaTop" fmla="*/ 60480 h 3556080"/>
              <a:gd name="textAreaBottom" fmla="*/ 3495600 h 3556080"/>
            </a:gdLst>
            <a:ahLst/>
            <a:rect l="textAreaLeft" t="textAreaTop" r="textAreaRight" b="textAreaBottom"/>
            <a:pathLst>
              <a:path w="21600" h="61941">
                <a:moveTo>
                  <a:pt x="3600" y="0"/>
                </a:moveTo>
                <a:arcTo wR="3600" hR="3600" stAng="16200000" swAng="-5400000"/>
                <a:lnTo>
                  <a:pt x="0" y="58341"/>
                </a:lnTo>
                <a:arcTo wR="3600" hR="3600" stAng="10800000" swAng="-5400000"/>
                <a:lnTo>
                  <a:pt x="18000" y="619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39440" y="5808600"/>
            <a:ext cx="508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97400" y="2573280"/>
            <a:ext cx="1281240" cy="3643200"/>
          </a:xfrm>
          <a:custGeom>
            <a:avLst/>
            <a:gdLst>
              <a:gd name="textAreaLeft" fmla="*/ 62280 w 1281240"/>
              <a:gd name="textAreaRight" fmla="*/ 1218960 w 1281240"/>
              <a:gd name="textAreaTop" fmla="*/ 62280 h 3643200"/>
              <a:gd name="textAreaBottom" fmla="*/ 3580920 h 3643200"/>
            </a:gdLst>
            <a:ahLst/>
            <a:rect l="textAreaLeft" t="textAreaTop" r="textAreaRight" b="textAreaBottom"/>
            <a:pathLst>
              <a:path w="21600" h="61408">
                <a:moveTo>
                  <a:pt x="3600" y="0"/>
                </a:moveTo>
                <a:arcTo wR="3600" hR="3600" stAng="16200000" swAng="-5400000"/>
                <a:lnTo>
                  <a:pt x="0" y="57808"/>
                </a:lnTo>
                <a:arcTo wR="3600" hR="3600" stAng="10800000" swAng="-5400000"/>
                <a:lnTo>
                  <a:pt x="18000" y="614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2592360"/>
            <a:ext cx="1284480" cy="37321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3732120"/>
              <a:gd name="textAreaBottom" fmla="*/ 3669480 h 3732120"/>
            </a:gdLst>
            <a:ahLst/>
            <a:rect l="textAreaLeft" t="textAreaTop" r="textAreaRight" b="textAreaBottom"/>
            <a:pathLst>
              <a:path w="21600" h="62748">
                <a:moveTo>
                  <a:pt x="3600" y="0"/>
                </a:moveTo>
                <a:arcTo wR="3600" hR="3600" stAng="16200000" swAng="-5400000"/>
                <a:lnTo>
                  <a:pt x="0" y="59148"/>
                </a:lnTo>
                <a:arcTo wR="3600" hR="3600" stAng="10800000" swAng="-5400000"/>
                <a:lnTo>
                  <a:pt x="18000" y="627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32040" y="3639960"/>
            <a:ext cx="1280880" cy="2756160"/>
          </a:xfrm>
          <a:custGeom>
            <a:avLst/>
            <a:gdLst>
              <a:gd name="textAreaLeft" fmla="*/ 62280 w 1280880"/>
              <a:gd name="textAreaRight" fmla="*/ 1218600 w 1280880"/>
              <a:gd name="textAreaTop" fmla="*/ 62280 h 2756160"/>
              <a:gd name="textAreaBottom" fmla="*/ 2693880 h 2756160"/>
            </a:gdLst>
            <a:ahLst/>
            <a:rect l="textAreaLeft" t="textAreaTop" r="textAreaRight" b="textAreaBottom"/>
            <a:pathLst>
              <a:path w="21600" h="46471">
                <a:moveTo>
                  <a:pt x="3600" y="0"/>
                </a:moveTo>
                <a:arcTo wR="3600" hR="3600" stAng="16200000" swAng="-5400000"/>
                <a:lnTo>
                  <a:pt x="0" y="42871"/>
                </a:lnTo>
                <a:arcTo wR="3600" hR="3600" stAng="10800000" swAng="-5400000"/>
                <a:lnTo>
                  <a:pt x="18000" y="46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831680" y="1752480"/>
            <a:ext cx="5483160" cy="4065840"/>
            <a:chOff x="1831680" y="1752480"/>
            <a:chExt cx="5483160" cy="4065840"/>
          </a:xfrm>
        </p:grpSpPr>
        <p:sp>
          <p:nvSpPr>
            <p:cNvPr id="247" name=""/>
            <p:cNvSpPr/>
            <p:nvPr/>
          </p:nvSpPr>
          <p:spPr>
            <a:xfrm>
              <a:off x="1833120" y="1752480"/>
              <a:ext cx="0" cy="406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831680" y="5818320"/>
              <a:ext cx="548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843200" y="2654280"/>
            <a:ext cx="125388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43200" y="3710160"/>
            <a:ext cx="125388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43200" y="4767120"/>
            <a:ext cx="125388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14720" y="2654280"/>
            <a:ext cx="125244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14720" y="3710160"/>
            <a:ext cx="125244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14720" y="4767120"/>
            <a:ext cx="125244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86240" y="2654280"/>
            <a:ext cx="125568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86240" y="3710160"/>
            <a:ext cx="125568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86240" y="4767120"/>
            <a:ext cx="125568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56320" y="2654280"/>
            <a:ext cx="125424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56320" y="3710160"/>
            <a:ext cx="125424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6320" y="4767120"/>
            <a:ext cx="125424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0" y="5381640"/>
            <a:ext cx="4885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89320" y="5381640"/>
            <a:ext cx="5965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84600" y="5334120"/>
            <a:ext cx="5965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48560" y="5381640"/>
            <a:ext cx="706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8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39680" y="4267080"/>
            <a:ext cx="5007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8520" y="4267080"/>
            <a:ext cx="6087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4160" y="4267080"/>
            <a:ext cx="6087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37400" y="4267080"/>
            <a:ext cx="7185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8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63080" y="3200400"/>
            <a:ext cx="476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01920" y="3200400"/>
            <a:ext cx="584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98280" y="3200400"/>
            <a:ext cx="584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84840" y="3200400"/>
            <a:ext cx="694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8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9880" y="59022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03360" y="579132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10800" y="57736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830240" y="1973160"/>
            <a:ext cx="5103720" cy="662040"/>
            <a:chOff x="1830240" y="1973160"/>
            <a:chExt cx="5103720" cy="662040"/>
          </a:xfrm>
        </p:grpSpPr>
        <p:sp>
          <p:nvSpPr>
            <p:cNvPr id="277" name=""/>
            <p:cNvSpPr/>
            <p:nvPr/>
          </p:nvSpPr>
          <p:spPr>
            <a:xfrm>
              <a:off x="1830240" y="1973160"/>
              <a:ext cx="1253880" cy="66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13280" y="1973160"/>
              <a:ext cx="1254240" cy="66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97040" y="1973160"/>
              <a:ext cx="1253880" cy="66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0080" y="1973160"/>
              <a:ext cx="1253880" cy="66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19880" y="2198160"/>
              <a:ext cx="476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04280" y="2198160"/>
              <a:ext cx="58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74000" y="2198160"/>
              <a:ext cx="58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53720" y="2198160"/>
              <a:ext cx="6940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6886-3B21-4E4E-B111-C600A2DB07A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ipais Característica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da Família Cryst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ilosofia bás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ênfase em comun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eve nos produtos gerados (evitar “peso morto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ncíp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ecisamos de menos produtos intermediários se possuím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anais de comunicação informal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ricos e rápi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entrega freqüente de código funcionan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uso dos pontos fortes das pessoa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(conversas, olhar a sua volta, interagir com outr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estar ciente dos pontos fracos das pessoa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(baixa disciplina, falta de cuidad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B423-4622-46D2-B7D3-E8915857F9B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olíticas Clear e Or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nvolvimento incremen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 freqüência reg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mpanhamento com mar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ício, revisão 1, revisão 2, teste, entre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volvimento direto do usu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de regressão de funcionalidades automá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as/três visões de usuários por ver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Workshops para ajustes no produto e na metodologia no início e meio de cada incre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71A4-ECE4-4937-A904-B7768024BF5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daptação da Metodolog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m cada caso, escolha a metodologia mais leve possível que pode fazer o que você preci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to maior o projeto (número de pessoas), maior burocracia será necessária e pior será a produtivida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Reflection Workshop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ao final de cada f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A933-2CFE-43D9-A6AB-FD81087634A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ficinas de Reflex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Reflection Workshop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848376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rgunt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e aprendemos na última fase (p.ex. mês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e podemos fazer de uma forma melh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ulta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ôs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3505320"/>
            <a:ext cx="327636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Ten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testes automat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multas para interrup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escrita pareada de te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3505320"/>
            <a:ext cx="2743200" cy="1676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Ma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reuniões com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programação pare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5181480"/>
            <a:ext cx="2743200" cy="1676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muitas interrup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erros no código entre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6B92-EC94-4569-A0B6-F991C0B7233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is perguntas na reflexão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ê fizemos de bom e de ruim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is são as nossas prioridad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ê mantivemos de mais importan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ê podemos mudar para a próxima vez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ê podemos adicionar/tira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ós 2 ou 3 versões incrementais, a metodologia deve começar a convergir para uma metodologia tolerável para o proje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1BE3-16DF-46D0-87C7-77B06239CBE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cr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1720800" y="4113360"/>
            <a:ext cx="719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finição inform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ratégi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m um jogo de rugby onde jogadores colocam uma bola quase perdida novamente em jogo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travé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e trabalho em  equi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CCD9-7A56-43B3-80F1-7640B4C2C48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rigens de Scr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695600"/>
            <a:ext cx="8610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eff Sutther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ttp://jeffsutherlan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Ken Schwa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ttp://www.controlchao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erê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OPSLA 96, PLoP 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spi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envolvimento Iterativo e Incremental em empresas  (DuPont, Honda, etc) nos anos 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698BD-52B4-4B02-AFB7-E3E64723622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undamentos de Scrum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senvolvimento de software a partir de padrões de projeto (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design patterns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s, o que é isto ?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CD337-EC44-4124-B075-8ABFBC28E33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ble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 metodologias de desenvolvi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upõem que é possível prever o futu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uca interação com os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Ênfase em burocracias (documentos, formulários, processos, controles rígidos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valiação do progresso baseado na evolução da burocracia e n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ande quantidade de er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lta de flexi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824A-16A4-467F-A0C4-DA75A65F14E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ê são padrões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40744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final dos anos 70, o arquiteto Christopher Alexander escreveu dois livros com a idé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da padrão descreve um problema recorrente no nosso ambiente e, em seguida, o princípio de sua soluçã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solução pode ser aplicada diversas vezes, nunca da mesma manei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exemplo: escritório com jane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568E-C074-4884-8C38-C6018425664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undamentos de Scr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senvolvimento de software depende muito de criatividade e de trabal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ogo, não é um bom candidato a processos pré-definid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delo de controle de processo empír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desenvolvimento nem sempre será repetitivo e bem defini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existem padrões que podem ser us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DA47-494A-4CE7-91A7-C1B57B3F5B6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Ênfa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unic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balho em equ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lexib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necer Software funcionand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cremental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8F3C2-6E9C-4141-AB5A-138DBF0532D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ipais Padrões em Scr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ack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qui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pr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contros Scru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visões Scrum/D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5819-0E83-4266-94E1-A1761D80368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Backlo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ista de todas as funcionalidades desej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gerada incremental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eça pelo básico, o extra aparece com o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de co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arefas diretas, casos de uso e histórias (a la X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lista é priorizada pelo Dono do proj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, depto de marketing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855A-F131-4833-89ED-972BFC0EDB4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Backlog in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ve conter características que agreguem algum valor de negócio ao produ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vos requisitos aparecem quando o cliente vê o produ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arquitetura do sistema surge enquanto o projeto surge e é refator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EAF8-6C3B-45EF-B035-BD76EFA0BCC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quip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m nível hierárquico nem papé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com várias especiali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ão todos no mesmo bar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ralmente equipes pequenas (até 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istem casos com equipes maiores (800 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a-se também Scrum hierárqu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unicação é essen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ontro Scrum di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207A-3856-4BFF-91F5-0D937C9D86F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Spri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nidades básicas de tempo (até 30 di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ça com um encontr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pr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arefas d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acklo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são prioriz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equipe seleciona tarefas que podem ser completadas durante o próxim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s mesmas podem ser quebradas para 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acklo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tarefa recebe um responsável na equi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há mudança nas tarefas durante 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prin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5505-1116-48A7-88F3-B6E94BAA78D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ncontro Scrum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quenos encontros diários da equ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ralmente pela manh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alinhas e porcos (só os porcos fal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dos os porcos devem particip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stões que aparecem devem ser resolvidas durante o dia e não na reuni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s encontros iniciais são geralmente mais long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67F9-F69A-4B01-A756-1C48488A482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ncontro Scrum 2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stões que devem ser respondida por cada porc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1) O quê você fez onte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2) O quê você vai fazer hoj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3) Quais os problemas encontrado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juda a manter as promes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ita: Como um projeto atrasa um an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dia por vez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lquer deslize pode ser corrigido de imedi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CE1FF-3632-4A6F-A182-2CEE4A2F722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o resolver esse impass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lhores Tecnolog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onentes (melhoram a reutilizaçã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iddleware (aumenta a abstraçã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lhores Metodolog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s Ágeis   (foco deste mini-cur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tras...  (não abordadas aqu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722D-D576-4F4E-96EC-858E6E94296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Local do encont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pre o mesmo local e 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 ser o local de desenvolvi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ssoas sentadas ao redor de uma m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sala já deve estar arrumada 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unições (atrasos/fal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dos devem particip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alinhas ficam na perif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 ser em p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ala bem equipada, quadro branco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2418-7F95-4ACE-9A93-C790FD21F55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visão do Spri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final de cada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print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feita uma reunião com todos os interess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ral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a forma de demonstr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ormal (preparação rápida, sem projetor,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ve ser o resultado natural de um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projeto é comparado com os objetivos iniciais d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pr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E49C-19B5-47FB-BB55-76B4F52187E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crum Master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z com que a equipe viva os valores e práticas de Sc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tege a equipe 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iscos  e interferências exter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cesso de otimis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olve os problemas que aparece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ogís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 conhecimento/ha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5F88-4F11-4D42-B938-62AC5E9C02C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crum Master 2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ntém 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acklo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pr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arefas complet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dentifica eventuais proble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ntém um gráfico de “quanto falt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981080" y="3959280"/>
          <a:ext cx="4191120" cy="279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3959280"/>
                    <a:ext cx="419112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414B-4959-4A08-8D30-742317384F9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crum (de forma gráfic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066680" y="1736640"/>
            <a:ext cx="7010640" cy="481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979E-1A85-4B66-BF62-5FD5CB6C0E8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crum fin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últim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print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ara “fechar” o produ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objetivo é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eparar a versão de produ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foco é a eliminação de er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faz parte do Scrum padr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é bem usado na prá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DCD5F-083A-4BF6-B203-2A4C60AE66F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4000"/>
            </a:b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todologia de desenvolvimento de software aperfeiçoada nos últimos 5 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anhou notoriedade a partir da OOPSLA’200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me principal: Kent B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6E3E-FE76-4B72-A9A7-FB5C8469952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Reações a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guns odeiam, outros am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m gosta de programar am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ixa o bom programador livre para fazer o que ele faria se não houvesse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ça o [mau] programador a se comportar de uma forma similar ao bom programad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4DE2-EB67-49DF-85D9-85C694C515D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delo Tradicional de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0. Levantamento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1. Análise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2. Desenho da Arquite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3. 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4.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5. Produção / Manuten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2022-1C30-471F-A8BC-C49850357D8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emissas Básicas do Modelo Tradicion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a análise de requisitos profunda e detalhada antes de projetar a arquitetura do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 estudo minucioso e elaborar uma descrição detalhada da arquitetura antes de começar a implementá-l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testar o sistema completamente antes de mandar a versão final para o client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6E256-C09D-4882-8450-9ACF41665F0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é desenvolvimento de software  (A. Cookburn)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cockburn" descr=""/>
          <p:cNvPicPr/>
          <p:nvPr/>
        </p:nvPicPr>
        <p:blipFill>
          <a:blip r:embed="rId2"/>
          <a:stretch/>
        </p:blipFill>
        <p:spPr>
          <a:xfrm>
            <a:off x="1447920" y="1719360"/>
            <a:ext cx="6476760" cy="48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2E8E-FDCA-43CF-9BE9-7D57EF9929A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está por trás deste model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-2728800" y="-915120"/>
            <a:ext cx="101962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1" y="0"/>
                </a:moveTo>
                <a:arcTo wR="10800" hR="10800" stAng="-5424988" swAng="5424988"/>
                <a:lnTo>
                  <a:pt x="10800" y="10800"/>
                </a:lnTo>
                <a:close/>
              </a:path>
              <a:path fill="none" w="21600" h="21600">
                <a:moveTo>
                  <a:pt x="10721" y="0"/>
                </a:moveTo>
                <a:arcTo wR="10800" hR="10800" stAng="-5424988" swAng="542498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-623520" y="328284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78560" y="5257800"/>
            <a:ext cx="50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quisitos       desenho                   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40360" y="55627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        implementação  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309C-B3E5-435C-90FD-715329EA866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a realidade hoje em dia fosse outr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-623520" y="328284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5257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286000" y="4267080"/>
            <a:ext cx="10667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54D3-DDB2-4AF2-B687-AECD2032991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ssa fosse a realidad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atitude dos desenvolvedores de software seria completamente difer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maríamos as grandes decisões o mais tarde possí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ríamos agora somente o que precisamos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ago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implementaríamos flexibilidade desnecessária (não anteciparíamos necessidad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4D06-E1A1-4403-9184-8C1FD2168032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74840" y="75960"/>
            <a:ext cx="8440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essa é a nova realidade !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pelo menos em muitos caso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rientação a Objet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facilita e cria oportunidades para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écnicas de Refatoração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estes automatizad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nos dão segurança quando fazemos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rática / cultura de mudança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aprendemos técnicas e adquirimos experiência em lidar com código mut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B44D-61E1-4742-AB64-3DC53ECB592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3880" y="76320"/>
            <a:ext cx="820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Quem se Destina XP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3311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de 2 a 10 programa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jetos de 1 a 36 meses (calendári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 1000 a 250 000 linhas de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pé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 (foco central)(sem hierarqu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einador” ou “Técnico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oac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mpanhador” 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rack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B488-78EF-4406-BEFD-5A9BE7800FA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u Não Me Encaixo Nesses Caso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cê ainda pode aprender muito sobre desenvolvimento de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rá elementos para repensar as suas prát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início se diz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você é 100% eXtremo ou não é eXtremo. Não dá prá ser 80% XP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P is now like teenage s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oje não é mais necessariamente assi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4966C-C4B2-44A7-BE0B-A1FBB4F7623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A942-E8EA-414F-8AB4-B7E776ED13C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74840" y="75960"/>
            <a:ext cx="8440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Princípios Básicos de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áp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 é o melhor negó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danças incremen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rregue a bandeira das mudanças /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valorize o med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Embrace chang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a qua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D9EB-D065-4B35-9345-B4B8DE09446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4 Variáveis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Temp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Cus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Qualida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Escopo (foco principal de XP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59F6-C005-402F-8E17-503C2DB3E75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Projeto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Explo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ração: até 20% do tempo tot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rmina quando a primeira versão do software é enviada ao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s escrevem “historias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tory card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interagem com clientes e discutem tecnolog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só discutem,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perimentam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iferentes tecnologias e arquiteturas para 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lanejamento: 1 a 2 d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0BA8-868E-4527-A68F-D1569557596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Processo Reprodutível ??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de existir um processo pré-defini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pensam que além de possível isto é necessário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bordagem C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5 níveis (inicial, sistematizado, definido,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rencial e otimiza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processos-chave são definidos em segu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E408-6378-4E6D-BE51-8144DE2A132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Histórias X casos de u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so de uso: Autenticação caixa automá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tor: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crição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pós inserir o cartão o sistema solicita a senha. O sistema verifica se o cartão é válido e se a senha confere. Se não o usuário tem mais três chance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árias historinh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 sistema mostra telas de boas vi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 sistema verifica se o cartão é vál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mplementar sistema de leitura de sen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erificação de sen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leitura de senha se a mesma não conf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4FFC-9DB3-43CA-AF7A-50DA5AB585A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3164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a história d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ura um par liv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 computador para programação paread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air programm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ciona uma tarefa claramente relacionada a uma característic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atur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desejada pel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A479-4185-45EC-A491-0CB85E34577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8390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modificações recentes n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história do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sen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g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AF60-E01C-446B-A6B2-2BD51E197FC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os constantes no desenvolvimen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 testes antig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oportunidades para simplific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difica desenho e implementação incrementalmente baseado na funcionalidade exigida no mo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eve novos tes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todos os testes não rodam a 100%, o trabalho não está termin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 novo código ao repositó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7459-88BE-438B-A870-243D5F6427C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damento mais importante de X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o que dá segurança e coragem a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un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Unit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programadores para testar cada elemento do sistema (e.g., cada método em cada cas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funcional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Functional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clientes para testar a funcionalidade d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4B45-6340-4C3F-9993-CA1D52DEC29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unidades d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m que estar sempre funcionando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ão executados várias vezes por d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dos à noite automatic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ão crescendo de 0%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chegam a 100% acabou o proje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353B-5A75-450A-81A0-08EAD49DA17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ões de estilo adotados pelo grupo intei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mais claro possí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P não se baseia em documentações detalhadas e extensas (perde-se sincron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sempre que necessá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padroniz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ação Pareada ajuda muit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0C93-C7A2-46CA-9FBF-46B1D73D33D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Pare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144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rro de um detectado imediatamente pelo outro (grande economia de temp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ior diversidade de idéias, técnicas, algoritm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um escreve, o outro pensa em contra-exemplos, problemas de eficiência, etc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gonha de escrever código fei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gambiarra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 na frente do seu p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eamento de acordo com especial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Sistema Multimídia Orientado a Obje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0CC2-3B6C-47A7-8871-37DCDA3E5FD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priedade Coletiv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o tradicional: só autor de uma função pode modificá-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: o código pertence a to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lguém identifica uma oportunidade para simplificar, consertar ou melhorar código escrito por outra pessoa, que o faç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rode os test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A2EC-99BF-4B38-A51B-DE28147626D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fatoração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(Refactoring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[pequena] modificação no sistema que não altera o seu comportamento fu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que melhora alguma qualidade não-funcion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lexi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ar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6A52-8989-4512-8831-F125D525495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Processo Reprodutível ???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(extraído de artigo da PLoP’98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uposições para “sistematizado/definido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ahoma"/>
              </a:rPr>
              <a:t>Problema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fase para definição de requisi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dem não ser bem definidos, ou mu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ahoma"/>
              </a:rPr>
              <a:t>Soluçã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 Especificação completa da arquite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lém do problema acima, envolve processo cri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ahoma"/>
              </a:rPr>
              <a:t>Desenvolvedor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ão humanos (logo, diferen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ahoma"/>
              </a:rPr>
              <a:t>Ambient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essão de cronograma, prioridades e clientes mud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32D6-BDE3-4932-AD0F-5F76EE48ECF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s de Refato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nça do nome de variá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nças nas interfaces dos obje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quenas mudanças arquitetur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capsular código repetido em um novo méto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neralização de méto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aizQuadrada(float x)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raiz(float x, int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EC6B2-3EC6-4DE0-A992-734C2ED9D9E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obre Refato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tálogo de Refatorações de Martin Fow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Refactoring: Improvng the Design of Existing Cod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 Addison-Wesley, 200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erramentas para refatoração automatizada embutidas no Eclipse, Smalltalk Browser, Emacs, etc.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ww.refactoring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D175-F9FD-4FCB-9478-0D1CC992EAF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lien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ponsável por escrever “história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itas vezes é um programador ou é representado por um programador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balha no mesmo espaço físico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vas versões são enviadas para produção todo mês (ou toda seman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 cliente é ess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quisitos mudam (e isso não é mau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3AE5-8653-4556-9F70-162EF2D1839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Coach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trein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geral, o mais experiente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dentifica quem é bom no 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embra a todos as regras do jogo (XP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entualmente faz programação par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desenha arquitetura, apenas chama a atenção para oportunidades de melho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u papel diminui à medida em que o time fica mais mad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B41E-830F-40C4-BCC7-E52A2249E59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Tracker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Acompanh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“consciência”  do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leta estatísticas sobre o andamento do projeto. Alguns ex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histórias definidas e implementa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unit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testes funcionais definidos e funcionan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classes, métodos, linhas de cód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ntém histórico do progres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z estimativas para o futu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71F4-052B-4DBD-8E4A-D08096FC422F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1920" y="1885680"/>
            <a:ext cx="89917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não aceita as regras do jo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quer uma especificação detalhada do sistema antes de começ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s programadores não estão dispostos a seguir (todas) as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(quase) todos os programadores do time são medíoc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7046-BBB7-448C-8E14-4827AE5E28CE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grandes (&gt;10 programador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rápido não é possív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 demora 6h para compi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demoram 12h  para rod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igência de certificação que demora m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usto de mudanças é essencialmente expon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não é possível realizar testes (muito rar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4AA2-AF31-4A09-AD55-33F0D8AC2FA6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Vencendo os Me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de idé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r em frente sem saber tudo sobre 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iar em outras pesso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a arquitetura de um sistema em funcionam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tes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34B17-CC0D-4F64-86C9-76CE90B4F0F9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D7B5-306F-4FA1-ADEB-D9B2DC02CDD8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áticas de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práticas foram refatoradas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veja www.extremeprogramming.org/rules.ht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a idéia é exatamente a mes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vas práticas interess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erte XP quando a metodologia quebr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va as pesso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 Proxy (by Kla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íbero (by Kla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EC87-F5DC-4B32-9D48-191924D68AF0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étodo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vimento iniciado por programadores experientes e consultores em desenvolvimento de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estionam e se opõe a uma série de mitos/práticas adotadas em abordagens tradicionais de Engenharia de Software e Gerência de Proje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nifesto Ági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sinado por 17 desenvolvedores em Utah em fevereiro/200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05C5-F8A7-45FD-A3FF-2287E011FE3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 de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 não é para todo mu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todo mundo pode aprender com e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77A5-0370-45CF-B768-8D6344D66586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XP@Scrum</a:t>
            </a:r>
            <a:r>
              <a:rPr b="0" lang="pt-BR" sz="4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plicando XP com Sc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crum: método de gerenci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P: conjunto de prá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antag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ivos por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prin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e não por histó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ala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ácil implement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4833-58BD-49B5-99A9-80ACBA45148B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aracterísticas Comuns dos Método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loca o fo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a entrega freqüente de sub-versões do software funcionando para o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s seres humanos que desenvolvem o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tira o foco 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cessos rígidos e burocrati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ocumentações e contratos detalh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erramentas que são usadas pelos seres human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2A04-05A5-4149-8664-D3403F3C4B2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iores 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forma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5320" y="1885680"/>
            <a:ext cx="8483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f. Dr. Fabio Kon           kon@ime.usp.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f. Dr. Alfredo Goldman  gold@ime.usp.b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kon/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g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x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xispe.com.br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extremeprogramming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B67B-3C8B-4172-8A2E-423582BEADA6}" type="slidenum">
              <a:t>83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Manifesto do </a:t>
            </a:r>
            <a:br>
              <a:rPr sz="4000"/>
            </a:br>
            <a:r>
              <a:rPr b="0" i="1" lang="pt-BR" sz="3400" spc="-1" strike="noStrike">
                <a:solidFill>
                  <a:srgbClr val="000000"/>
                </a:solidFill>
                <a:latin typeface="Arial Black"/>
              </a:rPr>
              <a:t>Desenvolvimento Ágil de Software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Indivíduos e interaçõ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são mais importantes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rocessos e ferram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Software funcionando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mais importante do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documentação completa e detalhada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Colaboração com o client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mais importante do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negociação de contrat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daptação a mudança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mais importante do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eguir o plano inicial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BD8C-47F6-479D-8B09-5A9ED59ACF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21:07:07Z</dcterms:created>
  <dc:creator>srg user</dc:creator>
  <dc:description/>
  <dc:language>en-US</dc:language>
  <cp:lastModifiedBy>compaq</cp:lastModifiedBy>
  <cp:lastPrinted>2003-08-01T19:01:22Z</cp:lastPrinted>
  <dcterms:modified xsi:type="dcterms:W3CDTF">2003-10-08T14:04:44Z</dcterms:modified>
  <cp:revision>327</cp:revision>
  <dc:subject/>
  <dc:title>No Slide Title</dc:title>
</cp:coreProperties>
</file>