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9195-2F5A-4E97-B631-348D3901E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AC8F-979D-4493-8EE4-4D48F00D4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B507-F3DB-4948-AC4F-A9822969B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0D2D-9955-4761-9D7B-378C9C90B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42A33-C929-435E-9027-4B4FA289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14A77-9426-491D-ACC2-54D04BFA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95CC0-D318-4CBA-9AF3-97B499DE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69559-4284-428A-9356-AB337CFA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16BFF-6497-45AC-A4FF-3E90CB3B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2E0C0-ED27-4304-ADC9-BAA7E5CD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4CFAC-5534-4D8E-82DB-AD852CAD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56BD-4E7F-4A7A-A871-AE8468196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CB68B-DC98-410D-BB84-30187BFC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05E1D-4CD9-46AB-AAF7-8F079278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05B94-E228-4726-9921-0AC4442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B0D51-ADF0-4FC1-BA17-BFC313A9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91175-4664-4A93-B487-FC1C06F4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9CBA-F3DC-47DD-8861-87BFC1769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CE89-1995-45A9-8051-8D9FE8D7D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DB0E-40B3-4259-9616-9CA64781E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D91D-0718-43C7-83A4-FF7DAFA1C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0282-ED69-434F-A3ED-935EDEBC4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D5BB8-2CBD-49A1-945A-03D91BAAE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1793-5031-4AA9-B50B-029DDD3A4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 &amp; Alfredo Gold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BD1F-CC97-4C03-BC22-0A29DC400E81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 / 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Outubro d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anner-small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853452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819520" y="6229080"/>
            <a:ext cx="35049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 &amp; Alfredo Gold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9C74-BE64-456B-9446-58F3E8DF4DC1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istair.cockburn.us/crystal" TargetMode="External"/><Relationship Id="rId3" Type="http://schemas.openxmlformats.org/officeDocument/2006/relationships/hyperlink" Target="http://alistair.cockburn.us/crystal" TargetMode="External"/><Relationship Id="rId4" Type="http://schemas.openxmlformats.org/officeDocument/2006/relationships/hyperlink" Target="http://alistair.cockburn.us/crystal" TargetMode="External"/><Relationship Id="rId5" Type="http://schemas.openxmlformats.org/officeDocument/2006/relationships/hyperlink" Target="http://alistair.cockburn.us/crystal" TargetMode="External"/><Relationship Id="rId6" Type="http://schemas.openxmlformats.org/officeDocument/2006/relationships/hyperlink" Target="http://alistair.cockburn.us/crystal" TargetMode="External"/><Relationship Id="rId7" Type="http://schemas.openxmlformats.org/officeDocument/2006/relationships/hyperlink" Target="http://alistair.cockburn.us/crystal" TargetMode="External"/><Relationship Id="rId8" Type="http://schemas.openxmlformats.org/officeDocument/2006/relationships/hyperlink" Target="http://alistair.cockburn.us/crystal" TargetMode="External"/><Relationship Id="rId9" Type="http://schemas.openxmlformats.org/officeDocument/2006/relationships/hyperlink" Target="http://alistair.cockburn.us/crystal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étodos Ágeis e 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Desenvolvendo Software com Qualidade e Agilida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Fabio Kon         Prof. Dr. Alfredo Goldm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Simpósio Brasileiro de Engenharia de Softw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Manaus -  outubro 200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ED192-B1C9-4BA8-A4DC-5419567CA7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 do Manifesto Ág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ior prioridade: satisfazer o cliente entregando, antes e sempre sistemas com v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ar preparado para requisitos mutantes. O quê fornece uma vantagem competit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tregar versões funcionais em prazos cur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ssoal de negócios e desenvolvedores ju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uir projetos com indivíduos motivados, dando um ambiente de trabalho e confiando n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oca de informações através de conversas diret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0128-79C1-4A0D-81F3-A293BA7E35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 do Manifesto Ág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dir progresso através de software funcionan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nvolvimento sustentá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uidados com o nível técnico e bom desenh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ess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 melhores arquiteturas, requisitos e desenho aparecem de equipes que se auto organiza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 tempos em tempos, o time pensa em como se tornar mais efetivo, e ajusta o seu comportamento de acor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8E37-84DD-4D66-8221-A211C6D427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a Boa Metáfora para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jogo Cooperativo de Invenção e Comunicação”. Alistair Cockbu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um grupo de pessoas escalando uma montanha em conjunt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Jogo cooperativo, finito, onde se busca alcançar um obje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9004-CA32-4C1A-AAAE-3CE53FB30C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is Objetivos Principa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483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tregar software que funcione.</a:t>
            </a:r>
            <a:br>
              <a:rPr sz="3200"/>
            </a:b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eparar o terreno para o próximo proje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CD5B-A8C3-4CD1-862A-08DEC6DA468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pifania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gerente de projeto concorda em prosseguir sem que todos os requisitos estejam bem defini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desenvolvedores concordam em prosseguir sem ter todos os requisitos documen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gerente de projeto vê uma novas funcionalidades a cada nova versão, e percebe que o sua participação foi importante com resultados visíveis. Também percebe que o projeto terá sucesso e será út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C9B0-43D2-404B-8472-8ED28C436C7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is Epifania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membros da equipe sabem que alguém vai ajudar quando ocorrerem proble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gerente de TI sente o trabalho de equipe nas áreas de trabalh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gerentes percebem que não precisam dizer a equipe o que fazer, ou garantir o que vai ser fe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equipe percebe que ninguém vai dizer o quê fazer, isto faz parte do trabalho da equi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existem mais a impressão de divisão (testers and programmers), todos são desenvolv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54F6-6550-4351-8BCB-670879956E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ipais 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aremos uma visão g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ystal (uma família de métod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c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bordaremos mais detalhad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eXtrema (X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abordar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daptive Softwar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ature Driven Development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8E26-B008-4C70-8743-6AD6083D545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família 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rystal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e Méto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48376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iada por Alistair Cockb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istair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.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cockburn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.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us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/</a:t>
            </a:r>
            <a:r>
              <a:rPr b="0" lang="pt-BR" sz="3200" spc="-1" strike="noStrike" u="sng">
                <a:solidFill>
                  <a:srgbClr val="996633"/>
                </a:solidFill>
                <a:uFillTx/>
                <a:latin typeface="Tahoma"/>
                <a:hlinkClick r:id="rId9"/>
              </a:rPr>
              <a:t>crys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ditor da séri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Agile Software Developmen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a Addison-Wesl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685800" y="4343400"/>
            <a:ext cx="1490760" cy="1876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6934320" y="4267080"/>
            <a:ext cx="1469880" cy="1847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886200" y="4343400"/>
            <a:ext cx="147168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4771-FAF0-4413-9E99-939E045AE73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equeno históri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i contratado em 1990 pela IB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ocumentar a metodologia de desenvolv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ptou por entrevistar as diversas equ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ulta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didos de desculpa por não utilizar ferram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 entregar software funcion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plicações sobre como metodologias foram seguidas a ris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 o projeto falh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90F7-0748-4091-BFEE-689388379C0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ões (resumo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de-se trocar documentação escrita por conversas face a 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to mais se entrega software funcionando e testado, menos depende-se da documentação escrita (promissóri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0D46-D0C3-4765-AA6C-8C526A1D494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vos ventos no mundo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cieda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ande quantidade de sistemas/aplic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ftware complexo, sistemas distribuídos, heterogêne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quisitos mutante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(todo ano, todo mês, todo dia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, infelizment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há gente suficiente para desenvolver tanto software com qual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4F52-2815-43B0-9916-4931CEFD461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assificação de Projetos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2683800" y="6172200"/>
            <a:ext cx="417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úmero de pessoas envolv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1135080" y="3529080"/>
            <a:ext cx="33303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i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tos causam perdas 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0120" y="5079960"/>
            <a:ext cx="10994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2760" y="3146400"/>
            <a:ext cx="11527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59720" y="2362320"/>
            <a:ext cx="659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3000" y="6248520"/>
            <a:ext cx="84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685960" y="1419120"/>
            <a:ext cx="5835240" cy="3933720"/>
            <a:chOff x="2685960" y="1419120"/>
            <a:chExt cx="5835240" cy="3933720"/>
          </a:xfrm>
        </p:grpSpPr>
        <p:grpSp>
          <p:nvGrpSpPr>
            <p:cNvPr id="133" name=""/>
            <p:cNvGrpSpPr/>
            <p:nvPr/>
          </p:nvGrpSpPr>
          <p:grpSpPr>
            <a:xfrm>
              <a:off x="2685960" y="1419120"/>
              <a:ext cx="5835240" cy="3933720"/>
              <a:chOff x="2685960" y="1419120"/>
              <a:chExt cx="5835240" cy="39337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2702160" y="1487880"/>
                <a:ext cx="5819040" cy="3864960"/>
                <a:chOff x="2702160" y="1487880"/>
                <a:chExt cx="5819040" cy="3864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702160" y="1487880"/>
                  <a:ext cx="5819040" cy="3864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4923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2825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447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349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7251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15360" y="1487880"/>
                  <a:ext cx="0" cy="38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2685960" y="1419120"/>
                <a:ext cx="62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 . .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702160" y="3389760"/>
              <a:ext cx="58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2160" y="2469240"/>
              <a:ext cx="58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2160" y="4371480"/>
              <a:ext cx="58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558880" y="1673280"/>
            <a:ext cx="5820120" cy="3863880"/>
            <a:chOff x="2558880" y="1673280"/>
            <a:chExt cx="5820120" cy="3863880"/>
          </a:xfrm>
        </p:grpSpPr>
        <p:sp>
          <p:nvSpPr>
            <p:cNvPr id="147" name=""/>
            <p:cNvSpPr/>
            <p:nvPr/>
          </p:nvSpPr>
          <p:spPr>
            <a:xfrm>
              <a:off x="2558880" y="1673280"/>
              <a:ext cx="5820120" cy="386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944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3964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184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204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260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73160" y="1673280"/>
              <a:ext cx="0" cy="38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117240" y="1533600"/>
            <a:ext cx="3976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ori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de para responsabilidade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58880" y="3575160"/>
            <a:ext cx="58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58880" y="2654280"/>
            <a:ext cx="58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58880" y="4556160"/>
            <a:ext cx="58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16320" y="1876320"/>
            <a:ext cx="5819760" cy="3843360"/>
            <a:chOff x="2416320" y="1876320"/>
            <a:chExt cx="5819760" cy="3843360"/>
          </a:xfrm>
        </p:grpSpPr>
        <p:sp>
          <p:nvSpPr>
            <p:cNvPr id="159" name=""/>
            <p:cNvSpPr/>
            <p:nvPr/>
          </p:nvSpPr>
          <p:spPr>
            <a:xfrm>
              <a:off x="2416320" y="1876320"/>
              <a:ext cx="5819760" cy="384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6880" y="2059200"/>
              <a:ext cx="0" cy="36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97080" y="2059200"/>
              <a:ext cx="0" cy="36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59280" y="2059200"/>
              <a:ext cx="0" cy="36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9480" y="1876320"/>
              <a:ext cx="0" cy="384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40040" y="1876320"/>
              <a:ext cx="0" cy="384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0240" y="1876320"/>
              <a:ext cx="0" cy="384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6320" y="3767040"/>
              <a:ext cx="58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6320" y="2851920"/>
              <a:ext cx="58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16320" y="4743360"/>
              <a:ext cx="581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98520" y="1793880"/>
            <a:ext cx="6640560" cy="4084560"/>
            <a:chOff x="2198520" y="1793880"/>
            <a:chExt cx="6640560" cy="4084560"/>
          </a:xfrm>
        </p:grpSpPr>
        <p:sp>
          <p:nvSpPr>
            <p:cNvPr id="170" name=""/>
            <p:cNvSpPr/>
            <p:nvPr/>
          </p:nvSpPr>
          <p:spPr>
            <a:xfrm>
              <a:off x="2199960" y="1793880"/>
              <a:ext cx="0" cy="408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198520" y="5878440"/>
              <a:ext cx="664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218680" y="5925960"/>
            <a:ext cx="704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-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11120" y="5925960"/>
            <a:ext cx="64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2720" y="5925960"/>
            <a:ext cx="640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05920" y="5925960"/>
            <a:ext cx="7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37880" y="5925960"/>
            <a:ext cx="7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68040" y="5925960"/>
            <a:ext cx="768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83440" y="5925960"/>
            <a:ext cx="960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205720" y="2257560"/>
            <a:ext cx="5799960" cy="3616200"/>
            <a:chOff x="2205720" y="2257560"/>
            <a:chExt cx="5799960" cy="3616200"/>
          </a:xfrm>
        </p:grpSpPr>
        <p:sp>
          <p:nvSpPr>
            <p:cNvPr id="180" name=""/>
            <p:cNvSpPr/>
            <p:nvPr/>
          </p:nvSpPr>
          <p:spPr>
            <a:xfrm>
              <a:off x="2206800" y="2257560"/>
              <a:ext cx="5798880" cy="36162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6800" y="225756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6800" y="316404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6800" y="407052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6800" y="497664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7320" y="2257560"/>
              <a:ext cx="81756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37320" y="3164040"/>
              <a:ext cx="81756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37320" y="4070520"/>
              <a:ext cx="81756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37320" y="4976640"/>
              <a:ext cx="81756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67120" y="225756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67120" y="316404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67120" y="407052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67120" y="497664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98000" y="2257560"/>
              <a:ext cx="81720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98000" y="3164040"/>
              <a:ext cx="81720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98000" y="4070520"/>
              <a:ext cx="81720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8000" y="4976640"/>
              <a:ext cx="81720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27440" y="2257560"/>
              <a:ext cx="81720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27440" y="3164040"/>
              <a:ext cx="81720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27440" y="4070520"/>
              <a:ext cx="81720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27440" y="4976640"/>
              <a:ext cx="81720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57240" y="225756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57240" y="316404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57240" y="4070520"/>
              <a:ext cx="81864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57240" y="4976640"/>
              <a:ext cx="81864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7760" y="2257560"/>
              <a:ext cx="81756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87760" y="3164040"/>
              <a:ext cx="81756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87760" y="4070520"/>
              <a:ext cx="817560" cy="89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7760" y="4976640"/>
              <a:ext cx="817560" cy="89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15440" y="5504400"/>
              <a:ext cx="4885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90160" y="5504400"/>
              <a:ext cx="5965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23560" y="5504400"/>
              <a:ext cx="5965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96120" y="5504400"/>
              <a:ext cx="704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96840" y="5504400"/>
              <a:ext cx="704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29520" y="5504400"/>
              <a:ext cx="704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58600" y="5504400"/>
              <a:ext cx="812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1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05720" y="4592880"/>
              <a:ext cx="5007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84040" y="4592880"/>
              <a:ext cx="6087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12040" y="4592880"/>
              <a:ext cx="6087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9280" y="4592880"/>
              <a:ext cx="717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91440" y="4592880"/>
              <a:ext cx="717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2680" y="4592880"/>
              <a:ext cx="717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53560" y="4592880"/>
              <a:ext cx="825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1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22280" y="3686760"/>
              <a:ext cx="476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96280" y="368676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25000" y="368676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96480" y="368676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6920" y="368676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36360" y="368676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62560" y="3686760"/>
              <a:ext cx="801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1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22280" y="2843640"/>
              <a:ext cx="476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96280" y="284364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22840" y="284364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54800" y="284364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6920" y="284364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36360" y="2843640"/>
              <a:ext cx="692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2560" y="2843640"/>
              <a:ext cx="8010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1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633400" y="1920960"/>
            <a:ext cx="456984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ori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de para Produtividade &amp; Tolerâ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0040" y="4113360"/>
            <a:ext cx="16221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05A49-6019-43ED-B4E4-4E8FE85797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scopo da Família Cryst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1843200" y="2664000"/>
            <a:ext cx="5062320" cy="3149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8240" y="2573280"/>
            <a:ext cx="1239840" cy="3556080"/>
          </a:xfrm>
          <a:custGeom>
            <a:avLst/>
            <a:gdLst>
              <a:gd name="textAreaLeft" fmla="*/ 60480 w 1239840"/>
              <a:gd name="textAreaRight" fmla="*/ 1179360 w 1239840"/>
              <a:gd name="textAreaTop" fmla="*/ 60480 h 3556080"/>
              <a:gd name="textAreaBottom" fmla="*/ 3495600 h 3556080"/>
            </a:gdLst>
            <a:ahLst/>
            <a:rect l="textAreaLeft" t="textAreaTop" r="textAreaRight" b="textAreaBottom"/>
            <a:pathLst>
              <a:path w="21600" h="61941">
                <a:moveTo>
                  <a:pt x="3600" y="0"/>
                </a:moveTo>
                <a:arcTo wR="3600" hR="3600" stAng="16200000" swAng="-5400000"/>
                <a:lnTo>
                  <a:pt x="0" y="58341"/>
                </a:lnTo>
                <a:arcTo wR="3600" hR="3600" stAng="10800000" swAng="-5400000"/>
                <a:lnTo>
                  <a:pt x="18000" y="619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39440" y="5808600"/>
            <a:ext cx="508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97400" y="2573280"/>
            <a:ext cx="1281240" cy="3643200"/>
          </a:xfrm>
          <a:custGeom>
            <a:avLst/>
            <a:gdLst>
              <a:gd name="textAreaLeft" fmla="*/ 62280 w 1281240"/>
              <a:gd name="textAreaRight" fmla="*/ 1218960 w 1281240"/>
              <a:gd name="textAreaTop" fmla="*/ 62280 h 3643200"/>
              <a:gd name="textAreaBottom" fmla="*/ 3580920 h 3643200"/>
            </a:gdLst>
            <a:ahLst/>
            <a:rect l="textAreaLeft" t="textAreaTop" r="textAreaRight" b="textAreaBottom"/>
            <a:pathLst>
              <a:path w="21600" h="61408">
                <a:moveTo>
                  <a:pt x="3600" y="0"/>
                </a:moveTo>
                <a:arcTo wR="3600" hR="3600" stAng="16200000" swAng="-5400000"/>
                <a:lnTo>
                  <a:pt x="0" y="57808"/>
                </a:lnTo>
                <a:arcTo wR="3600" hR="3600" stAng="10800000" swAng="-5400000"/>
                <a:lnTo>
                  <a:pt x="18000" y="61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2360"/>
            <a:ext cx="1284480" cy="3732120"/>
          </a:xfrm>
          <a:custGeom>
            <a:avLst/>
            <a:gdLst>
              <a:gd name="textAreaLeft" fmla="*/ 62640 w 1284480"/>
              <a:gd name="textAreaRight" fmla="*/ 1221840 w 1284480"/>
              <a:gd name="textAreaTop" fmla="*/ 62640 h 3732120"/>
              <a:gd name="textAreaBottom" fmla="*/ 3669480 h 3732120"/>
            </a:gdLst>
            <a:ahLst/>
            <a:rect l="textAreaLeft" t="textAreaTop" r="textAreaRight" b="textAreaBottom"/>
            <a:pathLst>
              <a:path w="21600" h="62748">
                <a:moveTo>
                  <a:pt x="3600" y="0"/>
                </a:moveTo>
                <a:arcTo wR="3600" hR="3600" stAng="16200000" swAng="-5400000"/>
                <a:lnTo>
                  <a:pt x="0" y="59148"/>
                </a:lnTo>
                <a:arcTo wR="3600" hR="3600" stAng="10800000" swAng="-5400000"/>
                <a:lnTo>
                  <a:pt x="18000" y="627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2040" y="3639960"/>
            <a:ext cx="1280880" cy="2756160"/>
          </a:xfrm>
          <a:custGeom>
            <a:avLst/>
            <a:gdLst>
              <a:gd name="textAreaLeft" fmla="*/ 62280 w 1280880"/>
              <a:gd name="textAreaRight" fmla="*/ 1218600 w 1280880"/>
              <a:gd name="textAreaTop" fmla="*/ 62280 h 2756160"/>
              <a:gd name="textAreaBottom" fmla="*/ 2693880 h 2756160"/>
            </a:gdLst>
            <a:ahLst/>
            <a:rect l="textAreaLeft" t="textAreaTop" r="textAreaRight" b="textAreaBottom"/>
            <a:pathLst>
              <a:path w="21600" h="46471">
                <a:moveTo>
                  <a:pt x="3600" y="0"/>
                </a:moveTo>
                <a:arcTo wR="3600" hR="3600" stAng="16200000" swAng="-5400000"/>
                <a:lnTo>
                  <a:pt x="0" y="42871"/>
                </a:lnTo>
                <a:arcTo wR="3600" hR="3600" stAng="10800000" swAng="-5400000"/>
                <a:lnTo>
                  <a:pt x="18000" y="46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831680" y="1752480"/>
            <a:ext cx="5483160" cy="4065840"/>
            <a:chOff x="1831680" y="1752480"/>
            <a:chExt cx="5483160" cy="4065840"/>
          </a:xfrm>
        </p:grpSpPr>
        <p:sp>
          <p:nvSpPr>
            <p:cNvPr id="247" name=""/>
            <p:cNvSpPr/>
            <p:nvPr/>
          </p:nvSpPr>
          <p:spPr>
            <a:xfrm>
              <a:off x="1833120" y="175248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831680" y="5818320"/>
              <a:ext cx="548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843200" y="2654280"/>
            <a:ext cx="12538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43200" y="3710160"/>
            <a:ext cx="12538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43200" y="4767120"/>
            <a:ext cx="12538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14720" y="2654280"/>
            <a:ext cx="12524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14720" y="3710160"/>
            <a:ext cx="12524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4720" y="4767120"/>
            <a:ext cx="12524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86240" y="2654280"/>
            <a:ext cx="12556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86240" y="3710160"/>
            <a:ext cx="12556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86240" y="4767120"/>
            <a:ext cx="125568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56320" y="2654280"/>
            <a:ext cx="12542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56320" y="3710160"/>
            <a:ext cx="12542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6320" y="4767120"/>
            <a:ext cx="1254240" cy="104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0" y="5381640"/>
            <a:ext cx="4885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89320" y="5381640"/>
            <a:ext cx="5965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84600" y="5334120"/>
            <a:ext cx="5965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48560" y="5381640"/>
            <a:ext cx="706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39680" y="4267080"/>
            <a:ext cx="5007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8520" y="4267080"/>
            <a:ext cx="6087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4160" y="4267080"/>
            <a:ext cx="6087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37400" y="4267080"/>
            <a:ext cx="7185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63080" y="3200400"/>
            <a:ext cx="476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01920" y="3200400"/>
            <a:ext cx="584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98280" y="3200400"/>
            <a:ext cx="584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84840" y="3200400"/>
            <a:ext cx="694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60480" bIns="604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450800"/>
                <a:tab algn="l" pos="2901960"/>
                <a:tab algn="l" pos="4352760"/>
                <a:tab algn="l" pos="5803920"/>
                <a:tab algn="l" pos="7254720"/>
                <a:tab algn="l" pos="8705880"/>
                <a:tab algn="l" pos="10156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9880" y="59022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03360" y="579132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10800" y="57736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830240" y="1973160"/>
            <a:ext cx="5103720" cy="662040"/>
            <a:chOff x="1830240" y="1973160"/>
            <a:chExt cx="5103720" cy="662040"/>
          </a:xfrm>
        </p:grpSpPr>
        <p:sp>
          <p:nvSpPr>
            <p:cNvPr id="277" name=""/>
            <p:cNvSpPr/>
            <p:nvPr/>
          </p:nvSpPr>
          <p:spPr>
            <a:xfrm>
              <a:off x="1830240" y="1973160"/>
              <a:ext cx="1253880" cy="6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13280" y="1973160"/>
              <a:ext cx="1254240" cy="6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97040" y="1973160"/>
              <a:ext cx="1253880" cy="6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0080" y="1973160"/>
              <a:ext cx="1253880" cy="6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19880" y="2198160"/>
              <a:ext cx="476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04280" y="219816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74000" y="2198160"/>
              <a:ext cx="584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53720" y="2198160"/>
              <a:ext cx="6940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360" rIns="117360" tIns="60480" bIns="604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1450800"/>
                  <a:tab algn="l" pos="2901960"/>
                  <a:tab algn="l" pos="4352760"/>
                  <a:tab algn="l" pos="5803920"/>
                  <a:tab algn="l" pos="7254720"/>
                  <a:tab algn="l" pos="8705880"/>
                  <a:tab algn="l" pos="101566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4827-44A3-4327-93FC-FC63C77974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ipais Característica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 da Família Cryst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ilosofia bás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ênfase em comunic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eve nos produtos gerados (evitar “peso morto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ncíp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ecisamos de menos produtos intermediários se possuím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canais de comunicação informal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ricos e rápi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entrega freqüente de código funcionan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uso dos pontos fortes das pesso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(conversas, olhar a sua volta, interagir com outr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estar ciente dos pontos fracos das pesso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(baixa disciplina, falta de cuidad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5BEB-D4D9-4624-82DE-CDB8B559272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olíticas Clear e 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nvolvimento incremen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 freqüência reg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mento com mar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ício, revisão 1, revisão 2, teste, entre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volvimento direto do usu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de regressão de funcionalidades automá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as/três visões de usuários por ver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Workshops para ajustes no produto e na metodologia no início e meio de cada incre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F4A6-0A64-4F94-8AC1-DC51089A98D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daptação da Metodolog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m cada caso, escolha a metodologia mais leve possível que pode fazer o que você preci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to maior o projeto (número de pessoas), maior burocracia será necessária e pior será a produtiv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Reflection Workshop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ao final de cada f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EB23-A5D8-4120-8DF9-B128D9C2EB7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ficinas de Reflex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Reflection Workshops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48376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rgunt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e aprendemos na última fase (p.ex. mês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e podemos fazer de uma forma melh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ulta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ôs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3505320"/>
            <a:ext cx="3276360" cy="3352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Ten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testes automat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multas para interrup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scrita pareada de te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3505320"/>
            <a:ext cx="2743200" cy="1676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Ma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reuniões com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programação par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5181480"/>
            <a:ext cx="2743200" cy="1676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muitas interrup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erros no código entr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0DDC-6216-41DC-9787-D0629B00736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is perguntas na reflexão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ê fizemos de bom e de ruim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is são as nossas prioridad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ê mantivemos de mais importa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ê podemos mudar para a próxima vez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quê podemos adicionar/tira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ós 2 ou 3 versões incrementais, a metodologia deve começar a convergir para uma metodologia tolerável para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5E0B-2CED-4100-8AE8-B1691E109F1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1720800" y="4113360"/>
            <a:ext cx="719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finição inform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ratégi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m um jogo de rugby onde jogadores colocam uma bola quase perdida novamente em jogo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ravé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trabalho em  equi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CDFD-0A33-4EF7-A728-AEBB533ED8B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rigens de 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695600"/>
            <a:ext cx="8610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Jeff Sutther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jeffsutherlan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Ken Schwa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ttp://www.controlchao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erê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OPSLA 96, PLoP 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spi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envolvimento Iterativo e Incremental em empresas  (DuPont, Honda, etc) nos anos 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DB91-F4EB-43C5-AAED-5B4DC6673DB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undamentos de Scrum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senvolvimento de software a partir de padrões de projeto (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design pattern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s, o que é isto ?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C30A-D46E-4904-BDA4-F9C5A139487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metodologias de desenvolvi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upõem que é possível prever o futu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uca interação com 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Ênfase em burocracias (documentos, formulários, processos, controles rígidos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valiação do progresso baseado na evolução da burocracia e n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rande quantidade de er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lta de 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E11B-E2E1-4689-A6B4-55D56F30B10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ê são padrões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40744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final dos anos 70, o arquiteto Christopher Alexander escreveu dois livros com a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da padrão descreve um problema recorrente no nosso ambiente e, em seguida, o princípio de sua soluçã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solução pode ser aplicada diversas vezes, nunca da mesma manei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exemplo: escritório com jan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F9155-9227-400C-B5FC-0DBDE3B1A4C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Fundamentos de 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envolvimento de software depende muito de criatividade e de trabal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ogo, não é um bom candidato a processos pré-defini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elo de controle de processo empír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desenvolvimento nem sempre será repetitivo e bem defini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existem padrões que podem ser us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EECD-02A4-4DA1-A03D-93328DCD7C5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Ênfa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unic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o em equ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necer Software funcionand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cremental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024A-56E5-4EF6-816A-268CB9DA8AA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ipais Padrões em Scr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ack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qui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ontros Scru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visões Scrum/D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105D-6F6C-4005-9BA0-B23D8D373FA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Backlo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ista de todas as funcionalidades desej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gerada incrementa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eça pelo básico, o extra aparece com o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de co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arefas diretas, casos de uso e histórias (a la X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lista é priorizada pelo Dono do pro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, depto de marketing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F73D-2A25-4E5B-9F22-F7DFD7A9A90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Backlog in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ve conter características que agreguem algum valor de negócio ao produ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os requisitos aparecem quando o cliente vê o produ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rquitetura do sistema surge enquanto o projeto surge e é refator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DDB7-D26A-40DA-9BC5-9347128A2FC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quip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 nível hierárquico nem papé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com várias especial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ão todos no mesmo bar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ralmente equipes pequenas (até 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istem casos com equipes maiores (800 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-se também Scrum hierárqu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unicação é essen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ontro Scrum di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E425-F7FA-4A41-9951-E401ACA6564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Spri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nidades básicas de tempo (até 30 di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ça com um encontr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arefas d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acklo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são prior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equipe seleciona tarefas que podem ser completadas durante o próxim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 mesmas podem ser quebradas para 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acklo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tarefa recebe um responsável na equi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há mudança nas tarefas durante 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AB17-20FB-48DD-984D-C5737D797E8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contro Scrum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quenos encontros diários da equ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ralmente pela manh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alinhas e porcos (só os porcos fal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os os porcos devem particip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stões que aparecem devem ser resolvidas durante o dia e não na reuni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s encontros iniciais são geralmente mais long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9132-9029-4C66-88E4-D8C39FFBD57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ncontro Scrum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stões que devem ser respondida por cada porc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1) O quê você fez ont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2) O quê você vai fazer hoj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3) Quais os problemas encontrado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juda a manter as promes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ita: Como um projeto atrasa um an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dia por vez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lquer deslize pode ser corrigido de imedi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293B-7C37-4657-B990-DBB32C67E8C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o resolver esse impass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lhores Tecnolog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onentes (melhoram a reutilizaç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iddleware (aumenta a abstraç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lhores Metodolog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Ágeis   (foco deste mini-cur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tras...  (não abordadas aqu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7621-2F4D-43EF-9A3D-65600690621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Local do encontr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pre o mesmo local e 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 ser o local de desenvolvi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ssoas sentadas ao redor de uma m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sala já deve estar arrumada 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unições (atrasos/fal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dos devem particip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alinhas ficam na perif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ode ser em p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ala bem equipada, quadro branco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4AF2-D742-448D-9C6C-7E38B22D77A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visão do Spri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final de cada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feita uma reunião com todos os interess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ra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a forma de demonstr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ormal (preparação rápida, sem projetor,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ve ser o resultado natural de um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projeto é comparado com os objetivos iniciais 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C4DB-89E4-4115-ABA9-BEE821D4056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 Master 1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z com que a equipe viva os valores e práticas de Sc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tege a equipe 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iscos  e interferências exter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cesso de otimis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olve os problemas que aparece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ogís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 conhecimento/h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8E10-1D09-49BB-B77D-B6F4B72FC01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 Master 2/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ntém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acklo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arefas complet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dentifica eventuais probl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ntém um gráfico de “quanto falt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981080" y="3959280"/>
          <a:ext cx="4191120" cy="279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3959280"/>
                    <a:ext cx="419112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D76A-047E-4D55-B1B2-679CEAF0E9D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 (de forma gráfic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066680" y="1736640"/>
            <a:ext cx="7010640" cy="48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E6A7-6EC1-48FE-B74B-4BD04AE0CE9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crum fi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últim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print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ara “fechar” o prod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objetivo é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eparar a versão de produ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foco é a eliminação de er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faz parte do Scrum padr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é bem usado na prá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E9CD-CF7F-490D-A186-E9F4189A7E6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000"/>
            </a:b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odologia de desenvolvimento de software aperfeiçoada nos últimos 5 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nhou notoriedade a partir da OOPSLA’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principal: Kent B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FE73-B47D-4006-BD00-76D6CC82849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Reações a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odeiam, outros am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gosta de programar am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a o bom programador livre para fazer o que ele faria se não houvesse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ça o [mau] programador a se comportar de uma forma similar ao bom programa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0802-DA60-48EF-995D-94BEC27D516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Tradicional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0. Levantamento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. Análise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. Desenho da Arquite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. 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.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5. Produção / Manu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4E1D-5D0B-409C-A419-62FDDE7346F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Básicas do Modelo Tradicio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a análise de requisitos profunda e detalhada antes de projetar a arquitetura do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 estudo minucioso e elaborar uma descrição detalhada da arquitetura antes de começar a implementá-l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testar o sistema completamente antes de mandar a versão final para o clien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A01F-BE48-4F03-B589-15C6C7A77DF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é desenvolvimento de software  (A. Cookburn)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cockburn" descr=""/>
          <p:cNvPicPr/>
          <p:nvPr/>
        </p:nvPicPr>
        <p:blipFill>
          <a:blip r:embed="rId2"/>
          <a:stretch/>
        </p:blipFill>
        <p:spPr>
          <a:xfrm>
            <a:off x="1447920" y="1719360"/>
            <a:ext cx="6476760" cy="48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3610-BAA0-4234-B8D7-EB880184987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está por trás deste mode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-2728800" y="-915120"/>
            <a:ext cx="101962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1" y="0"/>
                </a:moveTo>
                <a:arcTo wR="10800" hR="10800" stAng="-5424988" swAng="5424988"/>
                <a:lnTo>
                  <a:pt x="10800" y="10800"/>
                </a:lnTo>
                <a:close/>
              </a:path>
              <a:path fill="none" w="21600" h="21600">
                <a:moveTo>
                  <a:pt x="10721" y="0"/>
                </a:moveTo>
                <a:arcTo wR="10800" hR="10800" stAng="-5424988" swAng="542498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78560" y="525780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quisitos       desenho                  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40360" y="5562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        implementação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B524-FE43-47B4-95B9-A36B0391ED2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a realidade hoje em dia fosse outr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286000" y="4267080"/>
            <a:ext cx="10667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4712-6883-4E20-ACD0-F19D39A098A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ssa fosse a realidad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titude dos desenvolvedores de software seria completamente difer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maríamos as grandes decisões o mais tarde possí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ríamos agora somente o que precisa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go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implementaríamos flexibilidade desnecessária (não anteciparíamos necessidad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7694-783B-41FA-BE84-900976451457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4840" y="75960"/>
            <a:ext cx="8440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essa é a nova realidade !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pelo menos em muitos caso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rientação a Obje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facilita e cria oportunidades para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écnicas de Refatoraçã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nos dão segurança quando fazemos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rática / cultura de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aprendemos técnicas e adquirimos experiência em lidar com código mu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9DF4-D2E5-4AD0-ADC9-B74296D8CD1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3880" y="76320"/>
            <a:ext cx="820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Quem se Destina XP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de 2 a 10 program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s de 1 a 36 meses (calendár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1000 a 250 000 linha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pé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 (foco central)(sem hierarqu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einador” ou “Técnico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oac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dor” 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rack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B211-3823-413D-97B5-F91B2AAE0E0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u Não Me Encaixo Nesses Cas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inda pode aprender muito sobre desenvolvimento d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rá elementos para repensar as suas prá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início se diz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você é 100% eXtremo ou não é eXtremo. Não dá prá ser 80% X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P is now like teenage s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oje não é mais necessariamente assi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5305-0DC6-477E-8937-3544DE9CF27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FEBB-0E6D-4CA1-8AB7-FD2CDC4D468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74840" y="75960"/>
            <a:ext cx="844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incípios Básicos de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o melhor negó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incre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regue a bandeira das mudanças /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lorize o med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Embrace chang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a qu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5F82-CCAD-4D08-ACC3-4B048609F4D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4 Variáve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Escopo (foco principal de X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EA5F-4CF4-4A89-99A9-544CD5B4648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Projeto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Explo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ção: até 20% do tempo tot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 quando a primeira versão do software é enviada a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s escrevem “historias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ory card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interagem com clientes e discutem tecnolog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só discutem,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perimenta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iferentes tecnologias e arquiteturas para 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lanejamento: 1 a 2 d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79F7-B99F-4723-A594-9A095720B88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Processo Reprodutível ??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de existir um processo pré-defini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pensam que além de possível isto é necessário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bordagem C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5 níveis (inicial, sistematizado, definido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gerencial e otimiz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processos-chave são definidos em segu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F217-FB7E-4BFA-813C-A67D63E58E2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Histórias X casos de u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so de uso: Autenticação caixa automá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tor: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crição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pós inserir o cartão o sistema solicita a senha. O sistema verifica se o cartão é válido e se a senha confere. Se não o usuário tem mais três chance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árias historinh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sistema mostra telas de boas vi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sistema verifica se o cartão é vál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mplementar sistema de leitura de sen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erificação de sen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leitura de senha se a mesma não conf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7743-96FA-44AD-9BDE-1916B3536F5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3164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a história d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a um par liv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 computador para programação paread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air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ciona uma tarefa claramente relacionada a uma característic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atu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desejada pel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5F4A-F00C-4CBC-88D0-1868652DBA9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8390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modificações recentes n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história do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en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D489-A00A-4C63-B673-5078CBC1F6D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os constantes no desenvolv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testes antig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oportunidades para simplific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ifica desenho e implementação incrementalmente baseado na funcionalidade exigida no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 nov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todos os testes não rodam a 100%, o trabalho não está termi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 novo código ao repositó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6798-7D3A-4A55-9E57-97BD9DF14A8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damento mais importante de X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o que dá segurança e coragem a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un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programadores para testar cada elemento do sistema (e.g., cada método em cada cas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funcional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Functional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clientes para testar a funcionalidade d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2D5C-B019-4494-9D31-A07CDA798D5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unidades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m que estar sempre funcionando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ão executados várias vezes por d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dos à noite automa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ão crescendo de 0%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chegam a 100% acabou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2416-2BB8-44B1-B2E7-D433D9B6D16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ões de estilo adotados pelo grupo intei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mais claro possí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 não se baseia em documentações detalhadas e extensas (perde-se sincron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sempre que necess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padroniz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ção Pareada ajuda mui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4B3F-3049-42B0-B3B1-13120C18879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 de um detectado imediatamente pelo outro (grande economia de temp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gambiarra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Sistema Multimídia Orientado a Ob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FF2F-E7EE-4CA0-A950-5A609B9E485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riedade Cole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tradicional: só autor de uma função pode modificá-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: o código pertence a to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lguém identifica uma oportunidade para simplificar, consertar ou melhorar código escrito por outra pessoa, que o faç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rode os test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8086-6DF8-4134-956D-B85CA6DE18D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atoração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(Refactoring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[pequena] modificação no sistema que não altera o seu comportamento fu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que melhora alguma qualidade não-func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r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1E47-8722-461C-B514-7C9065502F0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Processo Reprodutível ???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(extraído de artigo da PLoP’98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uposições para “sistematizado/definido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Problema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fase para definição de requisi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dem não ser bem definidos, ou mu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Soluç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Especificação completa da arquite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lém do problema acima, envolve processo cri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Desenvolvedor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ão humanos (logo, diferen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Ambient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essão de cronograma, prioridades e clientes mud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9932-E01E-48B0-AF47-DB4902A5279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s de Refato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 do nome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s nas interfaces dos obje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quenas mudanças arquitetu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apsular código repetido em um novo méto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neralização de méto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aizQuadrada(float x)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raiz(float x, 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D261-322F-437E-B582-8A584E1B857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obre Refato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tálogo de Refatorações de Martin Fowl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Refactoring: Improvng the Design of Existing Cod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Addison-Wesley, 200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rramentas para refatoração automatizada embutidas no Eclipse, Smalltalk Browser, Emacs, etc.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www.refactoring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231E-5DC6-48D1-9DDE-4729EEAC0DE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onsável por escrever “história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um programador ou é representado por um programador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a no mesmo espaço físico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s versões são enviadas para produção todo mês (ou toda seman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liente é ess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quisitos mudam (e isso não é mau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F498-B6FA-47CE-B6C6-F4710628B74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oach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trein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o mais experiente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entifica quem é bom no 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bra a todos as regras do jogo (X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entualmente faz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esenha arquitetura, apenas chama a atenção para oportunidades de melho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u papel diminui à medida em que o time fica mais mad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E787-BC34-44A0-A2A6-9878E645521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Tracker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Acompanh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“consciência”  do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eta estatísticas sobre o andamento do projeto. Alguns ex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histórias definidas e implement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unit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testes funcionais definidos e funcionan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classes, métodos, linhas de cód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ntém histórico do progres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z estimativas para o futu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9A1B-AA10-400F-9794-07DB63F75F5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não aceita as regras do jo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quer uma especificação detalhada do sistema antes de começ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programadores não estão dispostos a seguir (todas) as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(quase) todos os programadores do time são medíoc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DB51-4309-44A5-A842-0659BCC66B8D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grandes (&gt;10 programador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rápido não é possív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mora 6h para comp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demoram 12h  para rod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igência de certificação que demora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usto de mudanças é essencialmente expon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não é possível realizar testes (muito rar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786E-8236-42E7-BAE3-74221CE30977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encendo os Me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de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 em frente sem saber tudo sobre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r em outras pesso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a arquitetura de um sistema em funciona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30A3-7D03-42F8-A588-431606B0CBDE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A98E-7EF8-41A7-91F6-05959ADA8932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áticas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práticas foram refatorad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veja www.extremeprogramming.org/rules.ht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a idéia é exatamente a m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práticas interes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erte XP quando a metodologia quebr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a as pesso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 Proxy (by Kla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íbero (by Kla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57A6-4365-42DA-B33E-A1CA2BE6266F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imento iniciado por programadores experientes e consultores em desenvolvimento de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stionam e se opõe a uma série de mitos/práticas adotadas em abordagens tradicionais de Engenharia de Software e Gerência de Proje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nifesto Ági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sinado por 17 desenvolvedores em Utah em fevereiro/200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E988-B4E0-4119-8573-0553A889B25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 não é para todo mu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odo mundo pode aprender com 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8BBF-B5FE-411B-9224-686FC07E085F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XP@Scrum</a:t>
            </a:r>
            <a:r>
              <a:rPr b="0" lang="pt-BR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licando XP com Sc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crum: método de gerenci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: conjunto de prá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ivos por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prin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e não por histó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al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ácil implemen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0F48-DE42-4325-9CD6-D40C4A5B17C6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aracterísticas Comuns dos Métodos Ág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loca o fo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a entrega freqüente de sub-versões do software funcionando para 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s seres humanos que desenvolvem o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tira o foco 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cessos rígidos e burocrat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ocumentações e contratos detalh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erramentas que são usadas pelos seres hum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79F8-9850-48E1-A6A8-B947B967EBA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iores 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form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5320" y="1885680"/>
            <a:ext cx="8483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Fabio Kon           kon@ime.usp.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Alfredo Goldman  gold@ime.usp.b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kon/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g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xispe.com.br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extremeprogramming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E772-558B-4F5B-954F-4C4124CD6D37}" type="slidenum">
              <a:t>83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Manifesto do </a:t>
            </a:r>
            <a:br>
              <a:rPr sz="4000"/>
            </a:br>
            <a:r>
              <a:rPr b="0" i="1" lang="pt-BR" sz="3400" spc="-1" strike="noStrike">
                <a:solidFill>
                  <a:srgbClr val="000000"/>
                </a:solidFill>
                <a:latin typeface="Arial Black"/>
              </a:rPr>
              <a:t>Desenvolvimento Ágil de Software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Indivíduos e interaçõ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são mais importantes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rocessos e ferram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Software funcionando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documentação completa e detalhada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Colaboração com o client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negociação de contra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daptação a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é mais importante do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eguir o plano inicial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0D2A-8090-4E6C-8F0C-8B3AF8A17B9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compaq</cp:lastModifiedBy>
  <cp:lastPrinted>2003-08-01T19:01:22Z</cp:lastPrinted>
  <dcterms:modified xsi:type="dcterms:W3CDTF">2003-10-08T14:04:44Z</dcterms:modified>
  <cp:revision>327</cp:revision>
  <dc:subject/>
  <dc:title>No Slide Title</dc:title>
</cp:coreProperties>
</file>