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6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2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BA4AC-B065-40B3-B94D-C3B1A32DA1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7CCAB-5BCE-408E-A2BA-99E1A10C30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1EFE2-4E9B-4679-9EAC-BC4DF07FF3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B45-F404-4C14-9E22-2552585A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D9F-7CCD-4F92-9F1A-947C74F8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421-F465-4F1F-A055-BA3F021A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0E2-CC92-4DBF-B924-DFF68609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8F98-FD2C-4B32-A2A5-D41C20B3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9C0E-39D6-4754-B0C1-2FBF461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54C-2FE5-4247-B6FD-F29FF90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5A8-787A-46F2-9475-19F4EFE4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3B84-ACC8-494D-825C-CC4C588B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2EA-B4BC-4950-9063-D5AD9886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B4E4-DA07-48AC-980A-BF126BF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295-65E4-4708-A8AD-B661877C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2383-F953-405D-85B6-BA8513E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6E3C-474D-41E9-8FBF-F98D3D89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E93-86F2-49C3-AD57-52264A7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F9BF-FDBA-47B6-9DF5-6B178E1D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3667-27FE-4EB4-97B0-C92F4151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448F-19BE-4333-B5F4-4F98CF49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C638-17A9-4269-9B34-5AF4FC42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F944-899D-4E83-BB64-EEA4CFB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AEAE-6057-4A68-9A27-61EAE311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1272-F157-4D55-BB08-908717E6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C4C-09FC-4BCE-96AD-76CB1DA2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4F43-F917-4614-B998-5D9DE7D9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CCF1-853C-4085-944E-4D6B9D6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32A1-AF37-446E-ABB6-B1D610E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8C01-E7BF-480D-934D-4C474118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76AB-93E7-4151-8667-FE74489D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011B-9447-4342-87C8-685E0763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C003-92BA-442D-8903-4171B57A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F29E-91E2-496C-AF64-A0DC4F3D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6CB6-20EE-4662-B4DF-B22FF5E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2EF6-E769-4196-A0C7-B5709989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B98-AD11-41DD-99CF-44E144AB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8A8B-955E-4740-AB63-21B94AB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7A88-E567-4A6D-A855-A3F83BFD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C3F8-9780-4B58-9774-05F109EA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69CE-3D29-4A96-B7B5-DE9C137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940E-E2CF-48FF-95C6-2FD4C89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095B-6892-4D1A-AD7B-C6A31FB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2A079-6239-4D6A-B150-86DC4A1C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E802-B72D-4D5E-AA92-36D5DBD4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3EF7-8198-4470-88A4-89010F98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7EDE-A13D-4245-803D-2D7E0673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7A8-7125-4AF9-9C24-625F5C32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A981-EC95-47A4-B9B6-59AEEE81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9DFD9-0FBD-4941-AD85-0D2FB50F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4FCD-D417-4B7F-A545-E62DF69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1280-33F1-4310-8364-4270ECC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AD7C6-5684-4438-9F45-EA328F5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45E5-30A9-4745-866B-92D0C31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D3353-B7E8-478B-AAF5-C214967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02FC-DB9A-436B-AAB8-E4895A2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722A-666A-457C-AB4B-6A61478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099B6-6F5B-430B-AC0D-8BC67E94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2A6-F9B3-4895-9A4E-59DFDDC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50F3-4595-424A-964A-B4021CAA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354F3-5AFC-4033-ACE0-AB6BF033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D4F1A-9372-4D68-A437-CA2E9C9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5524C-5DA2-4198-81E2-C9BA7BE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76D51-62D9-4A8A-AFD0-EF25C29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48D5-9786-4BEE-B813-3CB597F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94C0E-D8D5-4D9B-BAB6-25C8AFF4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7368-64F6-44CC-9236-FFDD19E2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53B79-0417-4AF1-B8ED-6BA0922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6DF4E-7A75-4B44-BF45-A151689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D13-3F92-4259-965E-D86AA28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8DC4-8E5F-4BFE-8768-19E8ACF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25C8-D96F-4CC4-A7EA-326F6EE3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BE78-1476-4836-9B76-53FBEA72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8807F-940E-4D68-AE50-3CB360D4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C02EB-EBAB-4B9E-BDA8-7768038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6F52-F291-4016-8BC2-2B24DF7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4100-E2EA-4D59-9FE4-D00B85A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68D2-3DE1-4440-A18A-C109980A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19DD-9E36-4AF5-B517-C30F387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1CE5-61E2-41F2-9375-29ECE0F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9C6-25A6-408E-9336-E796215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5247D-C05E-4B17-8596-923394A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C931-B8A6-46DD-835F-0D4C809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CE9B6-CE6E-45E7-A164-C4ED605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AC4CA-4C8E-4E2F-96AE-FDA9051D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C66BA-76C7-41B0-ADB0-0954680F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20802-B795-4D89-974E-CEAD1E62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2AB7-248B-44EB-9593-6927D67C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78FD-1F71-4560-B933-C3D2C78A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7EFD7-8F90-4698-80AB-EE083E0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DAAF3-3B44-458E-AD49-5075C3F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894-DE23-4111-8B6D-35D7EF4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E3915-287C-4FDD-A930-DAC3EF43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EC88B-4E25-469E-86F8-8886A3B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9C01-643B-40F6-97B9-90FAC6BC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DA12-C193-4565-9B8B-DFE2C69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4DB8-6397-4735-A758-22AF4D9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16993-892D-4AA1-A659-448A51E5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E17F-864E-4F0E-AD51-9DDBD7F3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B54759-4BA0-4137-BB24-1037ED199170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tângu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tângulo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CC64AA-6CD2-4991-B4DC-891775ED672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6C4789-70CA-4A3F-B827-64A2CBD693C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riângulo isósceles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D07FED-2A97-4228-8DFC-6BB1489441DC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D20C76-F913-4060-B327-DF2A625218C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onector reto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riângulo isósceles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8AFF67-C126-4FF9-9BB0-DD1A3331A74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tângulo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8A6071-3AF8-479D-8F14-2949E8EA5BA3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Conector reto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5097AA-0CB6-4FE7-9994-0F5BAFDF0734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64292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0a22e"/>
                </a:solidFill>
                <a:latin typeface="Trebuchet MS"/>
              </a:rPr>
              <a:t>Um Estudo </a:t>
            </a:r>
            <a:br>
              <a:rPr sz="4600"/>
            </a:br>
            <a:r>
              <a:rPr b="1" lang="pt-BR" sz="4600" spc="-1" strike="noStrike">
                <a:solidFill>
                  <a:srgbClr val="f0a22e"/>
                </a:solidFill>
                <a:latin typeface="Trebuchet MS"/>
              </a:rPr>
              <a:t>abrangente sobre </a:t>
            </a:r>
            <a:r>
              <a:rPr b="1" lang="pt-BR" sz="4600" spc="-1" strike="noStrike">
                <a:solidFill>
                  <a:srgbClr val="85540a"/>
                </a:solidFill>
                <a:latin typeface="Trebuchet MS"/>
              </a:rPr>
              <a:t>Metaheurística, </a:t>
            </a:r>
            <a:r>
              <a:rPr b="1" lang="pt-BR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4600" spc="-1" strike="noStrike">
                <a:solidFill>
                  <a:srgbClr val="f0a22e"/>
                </a:solidFill>
                <a:latin typeface="Trebuchet MS"/>
              </a:rPr>
              <a:t>incluindo um Histórico</a:t>
            </a:r>
            <a:endParaRPr b="0" lang="en-US" sz="4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763640" y="3141720"/>
            <a:ext cx="65232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Trebuchet MS"/>
              </a:rPr>
              <a:t>Seminário - MAC 575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5540a"/>
                </a:solidFill>
                <a:latin typeface="Trebuchet MS"/>
              </a:rPr>
              <a:t>Prof.: Dr. Alfredo Goldm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5540a"/>
                </a:solidFill>
                <a:latin typeface="Trebuchet MS"/>
              </a:rPr>
              <a:t>Me. Christiane Zim Zapeli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Imagem 5" descr="logoIME+Texto.png"/>
          <p:cNvPicPr/>
          <p:nvPr/>
        </p:nvPicPr>
        <p:blipFill>
          <a:blip r:embed="rId1"/>
          <a:stretch/>
        </p:blipFill>
        <p:spPr>
          <a:xfrm>
            <a:off x="857160" y="571680"/>
            <a:ext cx="92880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13840" y="1213920"/>
            <a:ext cx="8929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Me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de busca por entorn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chamamos dessa forma para qualquer método que percorra espaços de busca –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compostos por soluções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– levando em conta fundamentalmente, em cada passo,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a vizinhança da solução obtida na iteração anteri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para métodos evolutiv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enfocam os métodos baseados em conjuntos de soluções que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evoluem sobre o espaço de soluçõ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híbrida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são metaheurísticas intermediárias em relação aos quatro tipos anterio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9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639822-F9DA-45A1-8EF0-2AF71FFBE33D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Sucupi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etaheurísticas de Busca por Entorn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etaheurísticas Populaciona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0A6961-0B4D-4507-B296-1CD25EB640B7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Manuel Lagu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Três critérios básic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Uso de memória adaptativa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Tipo de exploração de vizinhança utilizada, e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Número de soluções correntes utilizadas na próxima iteração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C6CB42-26D6-4275-875A-E0BFE81BA90A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Relaxação::Exempl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Relaxação Lagrangeana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: remove algumas restrições de um problema de programação linear, atribui um </a:t>
            </a:r>
            <a:r>
              <a:rPr b="0" lang="pt-BR" sz="2800" spc="-1" strike="noStrike">
                <a:solidFill>
                  <a:srgbClr val="c17529"/>
                </a:solidFill>
                <a:latin typeface="Trebuchet MS"/>
              </a:rPr>
              <a:t>peso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pt-BR" sz="2800" spc="-1" strike="noStrike">
                <a:solidFill>
                  <a:srgbClr val="c17529"/>
                </a:solidFill>
                <a:latin typeface="Trebuchet MS"/>
              </a:rPr>
              <a:t>multiplicador de Lagrange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) a cada uma delas e altera a função objetivo para penalizar as soluções que seriam inviáveis no problema origin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662D5E-C656-429D-B309-7E452E24867A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Construtiva::Exempl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GRASP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Trebuchet MS"/>
              </a:rPr>
              <a:t>Greedy Randomized Adaptive Search Procedure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): cada iteração é composta por uma fase construtiva e uma fase de busca por entorn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9B645C-5E2F-47C2-9F7F-009912C254EE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Busca por Entorno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GLS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Trebuchet MS"/>
              </a:rPr>
              <a:t>Guided Local Search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Recozimento Simulado </a:t>
            </a:r>
            <a:r>
              <a:rPr b="0" i="1" lang="pt-BR" sz="2800" spc="-1" strike="noStrike">
                <a:solidFill>
                  <a:srgbClr val="000000"/>
                </a:solidFill>
                <a:latin typeface="Trebuchet MS"/>
              </a:rPr>
              <a:t>(Simulated Anneal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Busca Tab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Busca Reativa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: Busca Tabu com detecção de cicl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198997-5E00-4C90-8A74-0043839A6EDE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Evolutiva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lgoritmos genétic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lgoritmos meméticos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(genéticos com otimização loca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stimação de distribui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dispersa e </a:t>
            </a: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Path relinki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0B6CF0-1E9C-422F-95A7-6E993B7E196D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Outros/Híbrida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eta-heurísticas de decomposi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Ant colony optim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Otimização extre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Particle swarm optim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Iterated local sear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190E50-4BBC-42A4-A8B5-21C3B1886C6E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Sucupi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Busca por Entorno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Hill-Climb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por Entornos Variáveis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Variable Neighbourhood Search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usca Gulosa por Entornos Variáveis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Variable Neighbourhood Descent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EV Reduzida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Reduced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 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VNS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EV Básica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asic VNS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 e a 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EV Geral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General VNS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Local Guiada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Guided Local Search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C49B3D-2012-4B81-BB1E-6A1372AEF293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Sucupi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Busca por Entorno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Recozimento Simulado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Simulated Annealing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Tab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Reativa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GRASP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Greedy Randomized Adaptive Search Procedures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Local Iterada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Iterated Local Search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33DB74-F527-4EC9-AE82-5425387FDB50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Agenda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Concei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Visão ger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Propriedades desejáv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Classificaçõ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Levantamen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Históri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5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0A6001-1139-4A46-BCA7-F9A0F4C3CB74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760" y="1214280"/>
            <a:ext cx="85010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Lagu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X/Y/Z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X: A (usa memória adaptativa) e M ("sem memória"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Y: N (usa pesquisa sistemática de vizinhança/selecionar próximo movimento/melhorar uma determinada solução) e S (usa amostragem aleatóri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Z: 1(se o método move de uma solução atual para a abordagem seguinte, após cada iteração) ou P (para uma base populacional, com uma população de tamanho P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2B6DF5-AE5E-403F-84AA-ECD0308086A7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28400" y="1214280"/>
            <a:ext cx="82580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Lagu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0161A7-73C5-4DD0-B3CB-636070D5310B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71680" y="2000160"/>
          <a:ext cx="8072280" cy="3544920"/>
        </p:xfrm>
        <a:graphic>
          <a:graphicData uri="http://schemas.openxmlformats.org/drawingml/2006/table">
            <a:tbl>
              <a:tblPr/>
              <a:tblGrid>
                <a:gridCol w="2690640"/>
                <a:gridCol w="2690640"/>
                <a:gridCol w="2691000"/>
              </a:tblGrid>
              <a:tr h="80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aheuríst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ificação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ificação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mos genétic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S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 disper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zimento simu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S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N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 tabu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/N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Bibliografia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25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3B211C-197A-40A7-9BC0-1AD01117D7C7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85480" y="121392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BALIEIRO, Inocêncio Fernandes, Tese de Doutorado: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Arquimedes, Pappus, Descartes e Polya - Quatro Episódios na História da Heurística.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io Claro: IGCE . Cp. de Rio Claro-UNESP, 2004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UCUPIRA, Igor Ribeiro, Dissertação de Mestrado: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Um Estudo Empírico de Hiper-Heurísticas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E/USP, 2007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. MELIÁN, J. PÉREZ, e J. VEGA.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taheuristics: A Global View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rebuchet MS"/>
              </a:rPr>
              <a:t>Revista Iberoamericana de Inteligencia Artificial (Asociación Española de Inteligencia Artificial)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, 2(19), 2003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NETO, Dimitrius Fraga, Monografia de Conclusão de Curso: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Algoritmos de Estimação de Distribuição Aplicados ao Problema do Roteamento de Veículos.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alvador: UFBA, 2008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LAGUNA, Manuel.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Global Optimization and Meta-heuristics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, College of Business, University of Colorado at Boulder, US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Objetiv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rebuchet MS"/>
              </a:rPr>
              <a:t>Apresentar um estudo sobre metaheurísticas em um contexto mais amplo, não focando somente em métodos ou tipos específicos, mas sim em uma visão mais abrangente sobre o assunto, na área de Ciência da Comput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rebuchet MS"/>
              </a:rPr>
              <a:t>E como decorrência disso, mostrar o levantamento histórico, uma linha de tempo desde seu surgimento até os dias atuais (etapa final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4AB67E-4C91-4633-965C-D404CC5650E2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oncei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Eureka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– Arquime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eurístico: encontrar, descobrir, invent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 nome combina o prefixo grego "meta" ("mais além", aqui no sentido de "alto nível"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1581f"/>
                </a:solidFill>
                <a:latin typeface="Trebuchet MS"/>
              </a:rPr>
              <a:t>São estratégias inteligentes para projetar ou melhorar procedimentos heurísticos mais gerais com alto rendimento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Mélia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4BEF48-FF47-4B05-86E3-F061D9DC97C9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Visão Geral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 termo metaheurística apareceu pela primeira vez em um artigo sobre </a:t>
            </a:r>
            <a:r>
              <a:rPr b="0" lang="pt-BR" sz="2600" spc="-1" strike="noStrike">
                <a:solidFill>
                  <a:srgbClr val="91581f"/>
                </a:solidFill>
                <a:latin typeface="Trebuchet MS"/>
              </a:rPr>
              <a:t>Busca Tabu de Fred Glover em 198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 partir de então tem surgido múltiplas propostas para projetar bons procedimentos para resolver certos problemas que ampliam seu campo de aplicação, daí a denominação de </a:t>
            </a:r>
            <a:r>
              <a:rPr b="1" lang="pt-BR" sz="2600" spc="-1" strike="noStrike">
                <a:solidFill>
                  <a:srgbClr val="91581f"/>
                </a:solidFill>
                <a:latin typeface="Trebuchet MS"/>
              </a:rPr>
              <a:t>meta</a:t>
            </a:r>
            <a:r>
              <a:rPr b="0" lang="pt-BR" sz="2600" spc="-1" strike="noStrike">
                <a:solidFill>
                  <a:srgbClr val="c17529"/>
                </a:solidFill>
                <a:latin typeface="Trebuchet MS"/>
              </a:rPr>
              <a:t>heuríst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Por Sucupira três características as diferem uma das outr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As soluções inviáveis, a função objetivo e o critério de parada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4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A30428-7A4C-49AB-B35A-78F215C6936C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Visão Geral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4200" y="1213920"/>
            <a:ext cx="8686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 critério para lidar com a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rebuchet MS"/>
              </a:rPr>
              <a:t>soluções inviáveis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ificilmente é estipulado pelas metaheurístic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A prática mais comum é a </a:t>
            </a:r>
            <a:r>
              <a:rPr b="0" i="1" lang="pt-BR" sz="1700" spc="-1" strike="noStrike">
                <a:solidFill>
                  <a:srgbClr val="4e3b30"/>
                </a:solidFill>
                <a:latin typeface="Trebuchet MS"/>
              </a:rPr>
              <a:t>relaxação </a:t>
            </a: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do problema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Ou impedir a manipulação de soluções inviáveis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rebuchet MS"/>
              </a:rPr>
              <a:t>função objetivo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é um problema relevante apenas nos casos em que avaliar uma solução é uma tarefa computacionalmente custos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Aproximação simplificada da função objetivo 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Ou estratégia para avaliar cada nova solução a partir, se for o caso, de uma ou mais soluções que tenham dado origem a ela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rebuchet MS"/>
              </a:rPr>
              <a:t>critério de parada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 é a estratégia que define o momento em que o algoritmo está concluíd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Fatores: tempo consumido, o número de iterações realizadas, o número de iterações subseqüentes que não geraram uma solução superior à melhor solução já produzida, etc.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9F869-583F-47DA-B4B1-A1689D8F92C2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Propriedades desejávei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egundo Méli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avorecem o interesse prático e teórico das metaheurístic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Indicam as direções para onde os esforços devem ser seguidos para contribuir no desenvolvimento e construção de uma metaheuríst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Simp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Preci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Coer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fetiv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5D50C6-9B18-43D1-9B7B-4E0C2D523F65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Propriedades desejávei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ficaz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fici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Ger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daptá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Robus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Interativ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últipl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(diferentes soluçõe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utônom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(livre parâmetros ou estabelecer automaticament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FAD904-9FAA-4AE6-AD5A-88BD69A0D1A0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3840" y="1213920"/>
            <a:ext cx="8929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Me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de métodos de relaxação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são procedimentos de resolução de problemas que utilizam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flexibilizações do modelo original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(ou seja, modelo com  modificações que tornam o problema mais fácil de resolver), cuja solução fornece a solução para o problema origi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para processos construtiv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baseia-se em procedimentos que tratam da obtenção de uma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solução a partir da análise e seleção paulatina dos componentes que a form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6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EDBFFF-84FD-4EE0-9036-295EA8F3C504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22:16:20Z</dcterms:created>
  <dc:creator>Office 2003 PRO</dc:creator>
  <dc:description/>
  <dc:language>en-US</dc:language>
  <cp:lastModifiedBy>XP</cp:lastModifiedBy>
  <dcterms:modified xsi:type="dcterms:W3CDTF">2009-11-30T17:47:33Z</dcterms:modified>
  <cp:revision>185</cp:revision>
  <dc:subject/>
  <dc:title>Desempenho e Segurança em Sistemas de Informação</dc:title>
</cp:coreProperties>
</file>