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dt" idx="25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rebuchet MS"/>
              </a:rPr>
              <a:t>Click to move the slide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ftr" idx="26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 type="sldNum" idx="27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1610E-99D1-47FB-B935-41F8160FDA9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B952A-6017-4950-8FB6-9F20166649F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C8885-3E14-4C7C-ADD9-B259A3C893A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432A-6C2B-4F03-97FC-6BF42628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BAE6-FD81-42C6-B28A-EF06E73C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341B-8D4A-4324-85D2-0C775625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DD0B-3142-4035-ABE2-6CEF7DF2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3B7E-4A0A-4304-BDCB-831CF412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5BB5-03AC-43CA-A47A-4A632EAF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9B0A-55DB-45DF-8C0F-68BFD055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454C-2225-4B9D-A208-56035E4C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465E-EAA9-42A6-9A37-390F2025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213B-D00B-41E6-A6D0-22756A5D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EFB5-5536-4752-A552-0EF6CE4F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2B32-11FE-4802-BA68-71FA9514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BB97-839B-442B-8E1B-E1EB475D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F3EC-A84F-4EA2-85B2-D1A0CCFB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1CF6-2839-463A-BDE9-08ECBECE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FD3D-472C-48D4-9E96-B196EAE4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4252-841D-4BD2-A0BD-8E25FE9F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6FB43-AFFE-424F-B2F0-668DBD76C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C3D91-42C8-4D74-8CAB-05E4996C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35222-D07D-4F2B-BB51-4C8C241C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DFEF9-8157-447A-8E2B-8BD0EFEC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2BE9C-742E-4400-8693-BC892BF7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65D1-EBC1-4B09-8584-9FD9AC48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EBEF2-EB0B-4B93-A047-855B9D0F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F8233-4AAB-4F6E-A8A4-07A2D11C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71220-5602-4BE1-A4F5-5CA92DE0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71614-8CA4-4505-9197-36D0E9B8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B4E5C-0BF6-4E2A-8D89-FCCFB63E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9DD73-3D74-416E-9CD5-F1AA8543E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068E7-BC84-4395-819E-50DF9813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03ACC-5AFA-4EA3-A9CE-8F06ADB2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3A54D-32BC-4E54-B3DE-4DB5A69C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E96DE-C26D-423E-86FD-B46F230D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0B3A-AC9F-4186-B982-1BA810F6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8D7FC-45BA-42D8-93A5-344361E8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06A2F-6B8C-4731-928E-4AF79FD0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679D2-E134-46FD-B959-3D383F37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A74A7-C401-4C3C-A5DE-2876125B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496B7-889D-4BA4-8D1B-C5DEFBAF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8498D-D413-4C33-AD42-A523373C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AA24E-62CE-4B30-B2CE-EDA01243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7672E-12F8-4C62-9295-78CFFAFC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5212C-4EFB-41A3-8C2F-753DE7B8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ECA47-693E-438E-B90D-33913DB5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A3E6-01BE-40F4-92BF-5D24F3D6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EB30E-2322-4973-9C5A-9F749831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4F610-BDDE-4752-9B5D-9146596B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B904B-6759-4C46-9802-1B9C3E40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E6F22-406E-4701-B283-B3E6FFC1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DFF29-6844-415C-96DB-A470C822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8AC4A-2FF7-4BEE-BABA-BCB4C153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7DCC3-9E4C-4155-B03C-885600DC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7E13A-DF2C-43ED-B617-54A74573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64036-DDA4-428D-8840-B379B4B8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06432-FAB4-48B5-A058-058DD64E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FFC5-E463-4057-B2CF-334149B3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014A0-DD3B-4A46-97DF-72DC34DF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F8CD3-7C32-45E7-B785-788E1099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EE28E-D83E-4965-B728-4C7A3D42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05009-4148-448C-A3B8-9ACA658D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A512F-4811-410A-AB01-71738577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04276-811E-438A-B25B-AE598F42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1371D-5949-47ED-A7BE-0A25A7AB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468A0-6668-4AD3-A0FF-BDC5C87A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F6222-355B-4289-872A-6923F560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3CA6F-9E3F-4892-97E2-B669E67D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2428-16BE-4527-AAD9-68496D40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2507F-D0DC-4DFB-A3F0-5E318CB4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91809-D780-4854-89DB-34D5C7C3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E38A8-506C-4795-8F26-D5BDFDE4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93EC3-B537-4202-B26C-C9F28BDC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7C059-4AE0-400A-AC35-0642E3E9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61369-8D5C-4F97-8500-E3C1235E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E1FBC-A554-4AFC-8F1E-2F359C6A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F0281-E61F-474D-8EB5-53F587E9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47FB4-FEAE-4D5D-BC05-AC0BDE61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B8506-3596-4A61-A71C-0C75AE0A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ED07-53EF-4DBE-8A98-5D9FBB3D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A18CC-7CB9-4453-871F-C0CC82D2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47555-E0D8-4353-896D-579CE5F0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12536-9ABC-401C-9E82-BA91CFBC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296C8-BA97-4F0B-997C-375B84BC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13761-4AF8-4FEA-AE98-1663EF39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A57A3-1DB2-462B-962C-370EC177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B1ABB-9E1F-4C37-9B08-D7B78AA5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80661-4BF4-4509-A62E-C248D13E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2E6E0-1A65-4115-BA10-1120D695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EFCCB-B899-418C-99D2-3CEB1F66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61C2-C628-403D-B5C6-BD63846F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E201A-0A71-410E-A78F-42A283B5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6C541-F8E5-4579-A77B-C4DF80CF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2EA57-A34D-4DD2-84BE-0E9FB3ED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3B2DD-8869-4E4A-858D-712D96CA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1708E-891E-49FB-A21E-AC1AA6D1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072EF-502C-43D6-BC43-B7A63AF7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1F2D2-C6B6-4E46-BA03-6FE9157F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Aft>
                <a:spcPts val="300"/>
              </a:spcAft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spcAft>
                <a:spcPts val="300"/>
              </a:spcAft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822240" indent="-228600">
              <a:spcAft>
                <a:spcPts val="300"/>
              </a:spcAft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96920" indent="-228600">
              <a:spcAft>
                <a:spcPts val="300"/>
              </a:spcAft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371600" indent="-228600">
              <a:spcAft>
                <a:spcPts val="300"/>
              </a:spcAft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371600" indent="-228600"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371600" indent="-228600"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4e3b30"/>
                </a:solidFill>
                <a:latin typeface="Trebuchet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4e3b30"/>
                </a:solidFill>
                <a:latin typeface="Trebuchet MS"/>
              </a:rPr>
              <a:t>MAC58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4e3b30"/>
                </a:solidFill>
                <a:latin typeface="Trebuchet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BDE5FD-7A6F-42CD-BB69-5C6D44D3F708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Conector reto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Conector reto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riângulo isósceles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tângulo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tângulo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tângulo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Aft>
                <a:spcPts val="300"/>
              </a:spcAft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spcAft>
                <a:spcPts val="300"/>
              </a:spcAft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822240" indent="-228600">
              <a:spcAft>
                <a:spcPts val="300"/>
              </a:spcAft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96920" indent="-228600">
              <a:spcAft>
                <a:spcPts val="300"/>
              </a:spcAft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371600" indent="-228600">
              <a:spcAft>
                <a:spcPts val="300"/>
              </a:spcAft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371600" indent="-228600"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371600" indent="-228600"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4e3b30"/>
                </a:solidFill>
                <a:latin typeface="Trebuchet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4e3b30"/>
                </a:solidFill>
                <a:latin typeface="Trebuchet MS"/>
              </a:rPr>
              <a:t>MAC58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4e3b30"/>
                </a:solidFill>
                <a:latin typeface="Trebuchet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A5535AC-BCE8-4765-81D4-BF3BC044FA41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tângulo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tângulo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Aft>
                <a:spcPts val="300"/>
              </a:spcAft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spcAft>
                <a:spcPts val="300"/>
              </a:spcAft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822240" indent="-228600">
              <a:spcAft>
                <a:spcPts val="300"/>
              </a:spcAft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96920" indent="-228600">
              <a:spcAft>
                <a:spcPts val="300"/>
              </a:spcAft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371600" indent="-228600">
              <a:spcAft>
                <a:spcPts val="300"/>
              </a:spcAft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371600" indent="-228600"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371600" indent="-228600"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4e3b30"/>
                </a:solidFill>
                <a:latin typeface="Trebuchet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4e3b30"/>
                </a:solidFill>
                <a:latin typeface="Trebuchet MS"/>
              </a:rPr>
              <a:t>MAC58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4e3b30"/>
                </a:solidFill>
                <a:latin typeface="Trebuchet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F6C404F-A568-4C2B-B80E-7FEB81438431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onector reto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Conector reto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riângulo isósceles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riângulo isósceles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Aft>
                <a:spcPts val="300"/>
              </a:spcAft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spcAft>
                <a:spcPts val="300"/>
              </a:spcAft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822240" indent="-228600">
              <a:spcAft>
                <a:spcPts val="300"/>
              </a:spcAft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96920" indent="-228600">
              <a:spcAft>
                <a:spcPts val="300"/>
              </a:spcAft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371600" indent="-228600">
              <a:spcAft>
                <a:spcPts val="300"/>
              </a:spcAft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371600" indent="-228600"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371600" indent="-228600"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4e3b30"/>
                </a:solidFill>
                <a:latin typeface="Trebuchet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4e3b30"/>
                </a:solidFill>
                <a:latin typeface="Trebuchet MS"/>
              </a:rPr>
              <a:t>MAC58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4e3b30"/>
                </a:solidFill>
                <a:latin typeface="Trebuchet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137F50-409E-4A3B-8C1D-24A2737E7889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Conector reto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riângulo isósceles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Aft>
                <a:spcPts val="300"/>
              </a:spcAft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spcAft>
                <a:spcPts val="300"/>
              </a:spcAft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822240" indent="-228600">
              <a:spcAft>
                <a:spcPts val="300"/>
              </a:spcAft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96920" indent="-228600">
              <a:spcAft>
                <a:spcPts val="300"/>
              </a:spcAft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371600" indent="-228600">
              <a:spcAft>
                <a:spcPts val="300"/>
              </a:spcAft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371600" indent="-228600"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371600" indent="-228600"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4e3b30"/>
                </a:solidFill>
                <a:latin typeface="Trebuchet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4e3b30"/>
                </a:solidFill>
                <a:latin typeface="Trebuchet MS"/>
              </a:rPr>
              <a:t>MAC58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4e3b30"/>
                </a:solidFill>
                <a:latin typeface="Trebuchet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2B4778-97CB-4BFE-90AD-8535352B515D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Conector reto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Conector reto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riângulo isósceles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Aft>
                <a:spcPts val="300"/>
              </a:spcAft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spcAft>
                <a:spcPts val="300"/>
              </a:spcAft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822240" indent="-228600">
              <a:spcAft>
                <a:spcPts val="300"/>
              </a:spcAft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96920" indent="-228600">
              <a:spcAft>
                <a:spcPts val="300"/>
              </a:spcAft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371600" indent="-228600">
              <a:spcAft>
                <a:spcPts val="300"/>
              </a:spcAft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371600" indent="-228600"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371600" indent="-228600"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4e3b30"/>
                </a:solidFill>
                <a:latin typeface="Trebuchet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4e3b30"/>
                </a:solidFill>
                <a:latin typeface="Trebuchet MS"/>
              </a:rPr>
              <a:t>MAC58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4e3b30"/>
                </a:solidFill>
                <a:latin typeface="Trebuchet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174E6E-5F72-452E-ADC4-C53047582B81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Conector reto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riângulo isósceles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tângulo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Aft>
                <a:spcPts val="300"/>
              </a:spcAft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spcAft>
                <a:spcPts val="300"/>
              </a:spcAft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822240" indent="-228600">
              <a:spcAft>
                <a:spcPts val="300"/>
              </a:spcAft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96920" indent="-228600">
              <a:spcAft>
                <a:spcPts val="300"/>
              </a:spcAft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371600" indent="-228600">
              <a:spcAft>
                <a:spcPts val="300"/>
              </a:spcAft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371600" indent="-228600"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371600" indent="-228600"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4e3b30"/>
                </a:solidFill>
                <a:latin typeface="Trebuchet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4e3b30"/>
                </a:solidFill>
                <a:latin typeface="Trebuchet MS"/>
              </a:rPr>
              <a:t>MAC58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4e3b30"/>
                </a:solidFill>
                <a:latin typeface="Trebuchet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E8D27E3-8AA0-480B-9E20-E169ABE72695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Conector reto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riângulo isósceles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Conector reto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Aft>
                <a:spcPts val="300"/>
              </a:spcAft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spcAft>
                <a:spcPts val="300"/>
              </a:spcAft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822240" indent="-228600">
              <a:spcAft>
                <a:spcPts val="300"/>
              </a:spcAft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96920" indent="-228600">
              <a:spcAft>
                <a:spcPts val="300"/>
              </a:spcAft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371600" indent="-228600">
              <a:spcAft>
                <a:spcPts val="300"/>
              </a:spcAft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371600" indent="-228600"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371600" indent="-228600">
              <a:spcAft>
                <a:spcPts val="300"/>
              </a:spcAft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4e3b30"/>
                </a:solidFill>
                <a:latin typeface="Trebuchet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4e3b30"/>
                </a:solidFill>
                <a:latin typeface="Trebuchet MS"/>
              </a:rPr>
              <a:t>MAC58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4e3b30"/>
                </a:solidFill>
                <a:latin typeface="Trebuchet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50D84B-F092-4106-82CE-9009070D04C8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85600" y="285840"/>
            <a:ext cx="64292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f0a22e"/>
                </a:solidFill>
                <a:latin typeface="Trebuchet MS"/>
              </a:rPr>
              <a:t>Um Estudo </a:t>
            </a:r>
            <a:br>
              <a:rPr sz="4600"/>
            </a:br>
            <a:r>
              <a:rPr b="1" lang="pt-BR" sz="4600" spc="-1" strike="noStrike">
                <a:solidFill>
                  <a:srgbClr val="f0a22e"/>
                </a:solidFill>
                <a:latin typeface="Trebuchet MS"/>
              </a:rPr>
              <a:t>abrangente sobre </a:t>
            </a:r>
            <a:r>
              <a:rPr b="1" lang="pt-BR" sz="4600" spc="-1" strike="noStrike">
                <a:solidFill>
                  <a:srgbClr val="85540a"/>
                </a:solidFill>
                <a:latin typeface="Trebuchet MS"/>
              </a:rPr>
              <a:t>Metaheurística, </a:t>
            </a:r>
            <a:r>
              <a:rPr b="1" lang="pt-BR" sz="4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pt-BR" sz="4600" spc="-1" strike="noStrike">
                <a:solidFill>
                  <a:srgbClr val="f0a22e"/>
                </a:solidFill>
                <a:latin typeface="Trebuchet MS"/>
              </a:rPr>
              <a:t>incluindo um Histórico</a:t>
            </a:r>
            <a:endParaRPr b="0" lang="en-US" sz="4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763640" y="3141720"/>
            <a:ext cx="652320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00"/>
                </a:solidFill>
                <a:latin typeface="Trebuchet MS"/>
              </a:rPr>
              <a:t>Seminário - MAC 575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5540a"/>
                </a:solidFill>
                <a:latin typeface="Trebuchet MS"/>
              </a:rPr>
              <a:t>Prof.: Dr. Alfredo Goldma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5540a"/>
                </a:solidFill>
                <a:latin typeface="Trebuchet MS"/>
              </a:rPr>
              <a:t>Me. Christiane Zim Zapelin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2" name="Imagem 5" descr="logoIME+Texto.png"/>
          <p:cNvPicPr/>
          <p:nvPr/>
        </p:nvPicPr>
        <p:blipFill>
          <a:blip r:embed="rId1"/>
          <a:stretch/>
        </p:blipFill>
        <p:spPr>
          <a:xfrm>
            <a:off x="857160" y="571680"/>
            <a:ext cx="928800" cy="12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Classificações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213840" y="1213920"/>
            <a:ext cx="89298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Classificação Melian et 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rebuchet MS"/>
              </a:rPr>
              <a:t>Metaheurística de busca por entornos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: chamamos dessa forma para qualquer método que percorra espaços de busca – </a:t>
            </a:r>
            <a:r>
              <a:rPr b="0" lang="pt-BR" sz="2400" spc="-1" strike="noStrike">
                <a:solidFill>
                  <a:srgbClr val="c17529"/>
                </a:solidFill>
                <a:latin typeface="Trebuchet MS"/>
              </a:rPr>
              <a:t>compostos por soluções 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– levando em conta fundamentalmente, em cada passo, </a:t>
            </a:r>
            <a:r>
              <a:rPr b="0" lang="pt-BR" sz="2400" spc="-1" strike="noStrike">
                <a:solidFill>
                  <a:srgbClr val="c17529"/>
                </a:solidFill>
                <a:latin typeface="Trebuchet MS"/>
              </a:rPr>
              <a:t>a vizinhança da solução obtida na iteração anterio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rebuchet MS"/>
              </a:rPr>
              <a:t>Metaheurística para métodos evolutivos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: enfocam os métodos baseados em conjuntos de soluções que </a:t>
            </a:r>
            <a:r>
              <a:rPr b="0" lang="pt-BR" sz="2400" spc="-1" strike="noStrike">
                <a:solidFill>
                  <a:srgbClr val="c17529"/>
                </a:solidFill>
                <a:latin typeface="Trebuchet MS"/>
              </a:rPr>
              <a:t>evoluem sobre o espaço de soluçõ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rebuchet MS"/>
              </a:rPr>
              <a:t>Metaheurística híbrida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: são metaheurísticas intermediárias em relação aos quatro tipos anterior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a5644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89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97A0A1-C1A3-4AAD-B612-8819CA2D78B3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Classificações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348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Classificação Sucupir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Metaheurísticas de Busca por Entorn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Metaheurísticas Populaciona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6F8117-13D9-4F81-8711-ED6112696A95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Classificações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348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Classificação Manuel Lagu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Três critérios básico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spcBef>
                <a:spcPts val="601"/>
              </a:spcBef>
              <a:spcAft>
                <a:spcPts val="601"/>
              </a:spcAft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4e3b30"/>
                </a:solidFill>
                <a:latin typeface="Trebuchet MS"/>
              </a:rPr>
              <a:t>Uso de memória adaptativa</a:t>
            </a:r>
            <a:endParaRPr b="0" lang="en-US" sz="2300" spc="-1" strike="noStrike">
              <a:solidFill>
                <a:srgbClr val="4e3b30"/>
              </a:solidFill>
              <a:latin typeface="Trebuchet MS"/>
            </a:endParaRPr>
          </a:p>
          <a:p>
            <a:pPr lvl="1" marL="547560" indent="-272880">
              <a:spcBef>
                <a:spcPts val="601"/>
              </a:spcBef>
              <a:spcAft>
                <a:spcPts val="601"/>
              </a:spcAft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4e3b30"/>
                </a:solidFill>
                <a:latin typeface="Trebuchet MS"/>
              </a:rPr>
              <a:t>Tipo de exploração de vizinhança utilizada, e</a:t>
            </a:r>
            <a:endParaRPr b="0" lang="en-US" sz="2300" spc="-1" strike="noStrike">
              <a:solidFill>
                <a:srgbClr val="4e3b30"/>
              </a:solidFill>
              <a:latin typeface="Trebuchet MS"/>
            </a:endParaRPr>
          </a:p>
          <a:p>
            <a:pPr lvl="1" marL="547560" indent="-272880">
              <a:spcBef>
                <a:spcPts val="601"/>
              </a:spcBef>
              <a:spcAft>
                <a:spcPts val="601"/>
              </a:spcAft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4e3b30"/>
                </a:solidFill>
                <a:latin typeface="Trebuchet MS"/>
              </a:rPr>
              <a:t>Número de soluções correntes utilizadas na próxima iteração</a:t>
            </a:r>
            <a:endParaRPr b="0" lang="en-US" sz="2300" spc="-1" strike="noStrike">
              <a:solidFill>
                <a:srgbClr val="4e3b3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F525B7-5E2A-49DE-A2FF-F17B9AF026C1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Levantamento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348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Levantamento por Classificação:: Mélian et 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0a22e"/>
                </a:solidFill>
                <a:latin typeface="Trebuchet MS"/>
              </a:rPr>
              <a:t>Relaxação::Exempl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rebuchet MS"/>
              </a:rPr>
              <a:t>Relaxação Lagrangeana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: remove algumas restrições de um problema de programação linear, atribui um </a:t>
            </a:r>
            <a:r>
              <a:rPr b="0" lang="pt-BR" sz="2800" spc="-1" strike="noStrike">
                <a:solidFill>
                  <a:srgbClr val="c17529"/>
                </a:solidFill>
                <a:latin typeface="Trebuchet MS"/>
              </a:rPr>
              <a:t>peso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lang="pt-BR" sz="2800" spc="-1" strike="noStrike">
                <a:solidFill>
                  <a:srgbClr val="c17529"/>
                </a:solidFill>
                <a:latin typeface="Trebuchet MS"/>
              </a:rPr>
              <a:t>multiplicador de Lagrange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) a cada uma delas e altera a função objetivo para penalizar as soluções que seriam inviáveis no problema origina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D15C75-CE2C-4DD7-B1BA-917610548E0B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Levantamento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348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Levantamento por Classificação:: Mélian et 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0a22e"/>
                </a:solidFill>
                <a:latin typeface="Trebuchet MS"/>
              </a:rPr>
              <a:t>Construtiva::Exempl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rebuchet MS"/>
              </a:rPr>
              <a:t>GRASP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i="1" lang="pt-BR" sz="2800" spc="-1" strike="noStrike">
                <a:solidFill>
                  <a:srgbClr val="000000"/>
                </a:solidFill>
                <a:latin typeface="Trebuchet MS"/>
              </a:rPr>
              <a:t>Greedy Randomized Adaptive Search Procedure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): cada iteração é composta por uma fase construtiva e uma fase de busca por entorno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C6F7C00-A700-4F04-AF16-F8685685F6CA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Levantamento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348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Levantamento por Classificação:: Mélian et 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0a22e"/>
                </a:solidFill>
                <a:latin typeface="Trebuchet MS"/>
              </a:rPr>
              <a:t>Busca por Entornos::Exempl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rebuchet MS"/>
              </a:rPr>
              <a:t>GLS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i="1" lang="pt-BR" sz="2800" spc="-1" strike="noStrike">
                <a:solidFill>
                  <a:srgbClr val="000000"/>
                </a:solidFill>
                <a:latin typeface="Trebuchet MS"/>
              </a:rPr>
              <a:t>Guided Local Search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rebuchet MS"/>
              </a:rPr>
              <a:t>Recozimento Simulado </a:t>
            </a:r>
            <a:r>
              <a:rPr b="0" i="1" lang="pt-BR" sz="2800" spc="-1" strike="noStrike">
                <a:solidFill>
                  <a:srgbClr val="000000"/>
                </a:solidFill>
                <a:latin typeface="Trebuchet MS"/>
              </a:rPr>
              <a:t>(Simulated Annealing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rebuchet MS"/>
              </a:rPr>
              <a:t>Busca Tabu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rebuchet MS"/>
              </a:rPr>
              <a:t>Busca Reativa</a:t>
            </a:r>
            <a:r>
              <a:rPr b="0" lang="pt-BR" sz="2800" spc="-1" strike="noStrike">
                <a:solidFill>
                  <a:srgbClr val="000000"/>
                </a:solidFill>
                <a:latin typeface="Trebuchet MS"/>
              </a:rPr>
              <a:t>: Busca Tabu com detecção de ciclo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4449A8-D0CA-4D8F-9F79-C785235AFDEF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Levantamento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348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Levantamento por Classificação:: Mélian et 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0a22e"/>
                </a:solidFill>
                <a:latin typeface="Trebuchet MS"/>
              </a:rPr>
              <a:t>Evolutiva::Exempl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Algoritmos genétic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Algoritmos meméticos 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(genéticos com otimização local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Estimação de distribuiçã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Busca dispersa e </a:t>
            </a:r>
            <a:r>
              <a:rPr b="1" i="1" lang="pt-BR" sz="2600" spc="-1" strike="noStrike">
                <a:solidFill>
                  <a:srgbClr val="000000"/>
                </a:solidFill>
                <a:latin typeface="Trebuchet MS"/>
              </a:rPr>
              <a:t>Path relinki</a:t>
            </a:r>
            <a:r>
              <a:rPr b="0" i="1" lang="pt-BR" sz="2600" spc="-1" strike="noStrike">
                <a:solidFill>
                  <a:srgbClr val="000000"/>
                </a:solidFill>
                <a:latin typeface="Trebuchet MS"/>
              </a:rPr>
              <a:t>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F9109C-4284-4842-AEBB-11B640958142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Levantamento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348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Levantamento por Classificação:: Mélian et 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0a22e"/>
                </a:solidFill>
                <a:latin typeface="Trebuchet MS"/>
              </a:rPr>
              <a:t>Outros/Híbridas::Exempl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Meta-heurísticas de decomposiçã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Trebuchet MS"/>
              </a:rPr>
              <a:t>Ant colony optimiz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Otimização extrem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Trebuchet MS"/>
              </a:rPr>
              <a:t>Particle swarm optimiz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Trebuchet MS"/>
              </a:rPr>
              <a:t>Iterated local searc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14EA154-6017-463E-A0D7-D9C41A930980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Levantamento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348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Levantamento por Classificação :: Sucupir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0a22e"/>
                </a:solidFill>
                <a:latin typeface="Trebuchet MS"/>
              </a:rPr>
              <a:t>Busca por Entornos::Exempl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Trebuchet MS"/>
              </a:rPr>
              <a:t>Hill-Climb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Busca por Entornos Variáveis 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i="1" lang="pt-BR" sz="2600" spc="-1" strike="noStrike">
                <a:solidFill>
                  <a:srgbClr val="000000"/>
                </a:solidFill>
                <a:latin typeface="Trebuchet MS"/>
              </a:rPr>
              <a:t>Variable Neighbourhood Search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spcBef>
                <a:spcPts val="601"/>
              </a:spcBef>
              <a:spcAft>
                <a:spcPts val="601"/>
              </a:spcAft>
              <a:buClr>
                <a:srgbClr val="a564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4e3b30"/>
                </a:solidFill>
                <a:latin typeface="Trebuchet MS"/>
              </a:rPr>
              <a:t>Busca Gulosa por Entornos Variáveis </a:t>
            </a:r>
            <a:r>
              <a:rPr b="0" lang="pt-BR" sz="2300" spc="-1" strike="noStrike">
                <a:solidFill>
                  <a:srgbClr val="4e3b30"/>
                </a:solidFill>
                <a:latin typeface="Trebuchet MS"/>
              </a:rPr>
              <a:t>(</a:t>
            </a:r>
            <a:r>
              <a:rPr b="0" i="1" lang="pt-BR" sz="2300" spc="-1" strike="noStrike">
                <a:solidFill>
                  <a:srgbClr val="4e3b30"/>
                </a:solidFill>
                <a:latin typeface="Trebuchet MS"/>
              </a:rPr>
              <a:t>Variable Neighbourhood Descent</a:t>
            </a:r>
            <a:r>
              <a:rPr b="0" lang="pt-BR" sz="2300" spc="-1" strike="noStrike">
                <a:solidFill>
                  <a:srgbClr val="4e3b30"/>
                </a:solidFill>
                <a:latin typeface="Trebuchet MS"/>
              </a:rPr>
              <a:t>)</a:t>
            </a:r>
            <a:endParaRPr b="0" lang="en-US" sz="2300" spc="-1" strike="noStrike">
              <a:solidFill>
                <a:srgbClr val="4e3b30"/>
              </a:solidFill>
              <a:latin typeface="Trebuchet MS"/>
            </a:endParaRPr>
          </a:p>
          <a:p>
            <a:pPr lvl="1" marL="547560" indent="-272880">
              <a:spcBef>
                <a:spcPts val="601"/>
              </a:spcBef>
              <a:spcAft>
                <a:spcPts val="601"/>
              </a:spcAft>
              <a:buClr>
                <a:srgbClr val="a564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4e3b30"/>
                </a:solidFill>
                <a:latin typeface="Trebuchet MS"/>
              </a:rPr>
              <a:t>BEV Reduzida </a:t>
            </a:r>
            <a:r>
              <a:rPr b="0" lang="pt-BR" sz="2300" spc="-1" strike="noStrike">
                <a:solidFill>
                  <a:srgbClr val="4e3b30"/>
                </a:solidFill>
                <a:latin typeface="Trebuchet MS"/>
              </a:rPr>
              <a:t>(</a:t>
            </a:r>
            <a:r>
              <a:rPr b="0" i="1" lang="pt-BR" sz="2300" spc="-1" strike="noStrike">
                <a:solidFill>
                  <a:srgbClr val="4e3b30"/>
                </a:solidFill>
                <a:latin typeface="Trebuchet MS"/>
              </a:rPr>
              <a:t>Reduced</a:t>
            </a:r>
            <a:r>
              <a:rPr b="0" lang="pt-BR" sz="2300" spc="-1" strike="noStrike">
                <a:solidFill>
                  <a:srgbClr val="4e3b30"/>
                </a:solidFill>
                <a:latin typeface="Trebuchet MS"/>
              </a:rPr>
              <a:t> </a:t>
            </a:r>
            <a:r>
              <a:rPr b="0" i="1" lang="pt-BR" sz="2300" spc="-1" strike="noStrike">
                <a:solidFill>
                  <a:srgbClr val="4e3b30"/>
                </a:solidFill>
                <a:latin typeface="Trebuchet MS"/>
              </a:rPr>
              <a:t>VNS</a:t>
            </a:r>
            <a:r>
              <a:rPr b="0" lang="pt-BR" sz="2300" spc="-1" strike="noStrike">
                <a:solidFill>
                  <a:srgbClr val="4e3b30"/>
                </a:solidFill>
                <a:latin typeface="Trebuchet MS"/>
              </a:rPr>
              <a:t>)</a:t>
            </a:r>
            <a:endParaRPr b="0" lang="en-US" sz="2300" spc="-1" strike="noStrike">
              <a:solidFill>
                <a:srgbClr val="4e3b30"/>
              </a:solidFill>
              <a:latin typeface="Trebuchet MS"/>
            </a:endParaRPr>
          </a:p>
          <a:p>
            <a:pPr lvl="1" marL="547560" indent="-272880">
              <a:spcBef>
                <a:spcPts val="601"/>
              </a:spcBef>
              <a:spcAft>
                <a:spcPts val="601"/>
              </a:spcAft>
              <a:buClr>
                <a:srgbClr val="a564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4e3b30"/>
                </a:solidFill>
                <a:latin typeface="Trebuchet MS"/>
              </a:rPr>
              <a:t>BEV Básica </a:t>
            </a:r>
            <a:r>
              <a:rPr b="0" lang="pt-BR" sz="2300" spc="-1" strike="noStrike">
                <a:solidFill>
                  <a:srgbClr val="4e3b30"/>
                </a:solidFill>
                <a:latin typeface="Trebuchet MS"/>
              </a:rPr>
              <a:t>(</a:t>
            </a:r>
            <a:r>
              <a:rPr b="0" i="1" lang="pt-BR" sz="2300" spc="-1" strike="noStrike">
                <a:solidFill>
                  <a:srgbClr val="4e3b30"/>
                </a:solidFill>
                <a:latin typeface="Trebuchet MS"/>
              </a:rPr>
              <a:t>Basic VNS</a:t>
            </a:r>
            <a:r>
              <a:rPr b="0" lang="pt-BR" sz="2300" spc="-1" strike="noStrike">
                <a:solidFill>
                  <a:srgbClr val="4e3b30"/>
                </a:solidFill>
                <a:latin typeface="Trebuchet MS"/>
              </a:rPr>
              <a:t>) e a </a:t>
            </a:r>
            <a:r>
              <a:rPr b="0" i="1" lang="pt-BR" sz="2300" spc="-1" strike="noStrike">
                <a:solidFill>
                  <a:srgbClr val="4e3b30"/>
                </a:solidFill>
                <a:latin typeface="Trebuchet MS"/>
              </a:rPr>
              <a:t>BEV Geral </a:t>
            </a:r>
            <a:r>
              <a:rPr b="0" lang="pt-BR" sz="2300" spc="-1" strike="noStrike">
                <a:solidFill>
                  <a:srgbClr val="4e3b30"/>
                </a:solidFill>
                <a:latin typeface="Trebuchet MS"/>
              </a:rPr>
              <a:t>(</a:t>
            </a:r>
            <a:r>
              <a:rPr b="0" i="1" lang="pt-BR" sz="2300" spc="-1" strike="noStrike">
                <a:solidFill>
                  <a:srgbClr val="4e3b30"/>
                </a:solidFill>
                <a:latin typeface="Trebuchet MS"/>
              </a:rPr>
              <a:t>General VNS</a:t>
            </a:r>
            <a:r>
              <a:rPr b="0" lang="pt-BR" sz="2300" spc="-1" strike="noStrike">
                <a:solidFill>
                  <a:srgbClr val="4e3b30"/>
                </a:solidFill>
                <a:latin typeface="Trebuchet MS"/>
              </a:rPr>
              <a:t>)</a:t>
            </a:r>
            <a:endParaRPr b="0" lang="en-US" sz="2300" spc="-1" strike="noStrike">
              <a:solidFill>
                <a:srgbClr val="4e3b3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Busca Local Guiada 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i="1" lang="pt-BR" sz="2600" spc="-1" strike="noStrike">
                <a:solidFill>
                  <a:srgbClr val="000000"/>
                </a:solidFill>
                <a:latin typeface="Trebuchet MS"/>
              </a:rPr>
              <a:t>Guided Local Search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3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FE9A46-670A-48D5-BDBA-F8C7A274C2B3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Levantamento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348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Levantamento por Classificação :: Sucupir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0a22e"/>
                </a:solidFill>
                <a:latin typeface="Trebuchet MS"/>
              </a:rPr>
              <a:t>Busca por Entornos::Exempl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Recozimento Simulado 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i="1" lang="pt-BR" sz="2600" spc="-1" strike="noStrike">
                <a:solidFill>
                  <a:srgbClr val="000000"/>
                </a:solidFill>
                <a:latin typeface="Trebuchet MS"/>
              </a:rPr>
              <a:t>Simulated Annealing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Busca Tab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Busca Reativa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GRASP 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i="1" lang="pt-BR" sz="2600" spc="-1" strike="noStrike">
                <a:solidFill>
                  <a:srgbClr val="000000"/>
                </a:solidFill>
                <a:latin typeface="Trebuchet MS"/>
              </a:rPr>
              <a:t>Greedy Randomized Adaptive Search Procedures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Busca Local Iterada 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i="1" lang="pt-BR" sz="2600" spc="-1" strike="noStrike">
                <a:solidFill>
                  <a:srgbClr val="000000"/>
                </a:solidFill>
                <a:latin typeface="Trebuchet MS"/>
              </a:rPr>
              <a:t>Iterated Local Search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70427C-6210-492D-B455-DF7C31060080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Agenda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348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Objetiv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Conceit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Visão ger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Propriedades desejáve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Classificaçõ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Levantament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Históric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65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3910DB-59D2-43B7-A8E3-52FFB23476E8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Levantamento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28760" y="1214280"/>
            <a:ext cx="850104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Levantamento por Classificação :: Lagu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0a22e"/>
                </a:solidFill>
                <a:latin typeface="Trebuchet MS"/>
              </a:rPr>
              <a:t>X/Y/Z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X: A (usa memória adaptativa) e M ("sem memória"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Y: N (usa pesquisa sistemática de vizinhança/selecionar próximo movimento/melhorar uma determinada solução) e S (usa amostragem aleatória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Z: 1(se o método move de uma solução atual para a abordagem seguinte, após cada iteração) ou P (para uma base populacional, com uma população de tamanho P)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1DAAD7-CC36-4E16-A210-65097CC296BE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Levantamento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28400" y="1214280"/>
            <a:ext cx="825804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Levantamento por Classificação :: Lagu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FF3F2F-6607-44CA-89F4-E1C23400BE66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571680" y="2000160"/>
          <a:ext cx="8072280" cy="3544920"/>
        </p:xfrm>
        <a:graphic>
          <a:graphicData uri="http://schemas.openxmlformats.org/drawingml/2006/table">
            <a:tbl>
              <a:tblPr/>
              <a:tblGrid>
                <a:gridCol w="2690640"/>
                <a:gridCol w="2690640"/>
                <a:gridCol w="2691000"/>
              </a:tblGrid>
              <a:tr h="806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taheurísti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assificação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assificação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goritmos genétic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/S/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/N/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37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ca disper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/N/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/N/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zimento simula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/S/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/N/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37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ca tabu 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/N/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/N/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Bibliografia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425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F12C66E-C7FB-4D92-9460-11D3C5A72877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85480" y="1213920"/>
            <a:ext cx="8715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BALIEIRO, Inocêncio Fernandes, Tese de Doutorado: </a:t>
            </a:r>
            <a:r>
              <a:rPr b="1" lang="pt-BR" sz="2000" spc="-1" strike="noStrike">
                <a:solidFill>
                  <a:srgbClr val="000000"/>
                </a:solidFill>
                <a:latin typeface="Trebuchet MS"/>
              </a:rPr>
              <a:t>Arquimedes, Pappus, Descartes e Polya - Quatro Episódios na História da Heurística. 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Rio Claro: IGCE . Cp. de Rio Claro-UNESP, 2004.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SUCUPIRA, Igor Ribeiro, Dissertação de Mestrado: </a:t>
            </a:r>
            <a:r>
              <a:rPr b="1" lang="pt-BR" sz="2000" spc="-1" strike="noStrike">
                <a:solidFill>
                  <a:srgbClr val="000000"/>
                </a:solidFill>
                <a:latin typeface="Trebuchet MS"/>
              </a:rPr>
              <a:t>Um Estudo Empírico de Hiper-Heurísticas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ME/USP, 2007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. MELIÁN, J. PÉREZ, e J. VEGA.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etaheuristics: A Global View.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Trebuchet MS"/>
              </a:rPr>
              <a:t>Revista Iberoamericana de Inteligencia Artificial (Asociación Española de Inteligencia Artificial)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, 2(19), 2003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NETO, Dimitrius Fraga, Monografia de Conclusão de Curso: </a:t>
            </a:r>
            <a:r>
              <a:rPr b="1" lang="pt-BR" sz="2000" spc="-1" strike="noStrike">
                <a:solidFill>
                  <a:srgbClr val="000000"/>
                </a:solidFill>
                <a:latin typeface="Trebuchet MS"/>
              </a:rPr>
              <a:t>Algoritmos de Estimação de Distribuição Aplicados ao Problema do Roteamento de Veículos. 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Salvador: UFBA, 2008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LAGUNA, Manuel. </a:t>
            </a:r>
            <a:r>
              <a:rPr b="1" lang="pt-BR" sz="2000" spc="-1" strike="noStrike">
                <a:solidFill>
                  <a:srgbClr val="000000"/>
                </a:solidFill>
                <a:latin typeface="Trebuchet MS"/>
              </a:rPr>
              <a:t>Global Optimization and Meta-heuristics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, College of Business, University of Colorado at Boulder, USA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Objetivo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348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rebuchet MS"/>
              </a:rPr>
              <a:t>Apresentar um estudo sobre metaheurísticas em um contexto mais amplo, não focando somente em métodos ou tipos específicos, mas sim em uma visão mais abrangente sobre o assunto, na área de Ciência da Computaçã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rebuchet MS"/>
              </a:rPr>
              <a:t>E como decorrência disso, mostrar o levantamento histórico, uma linha de tempo desde seu surgimento até os dias atuais (etapa final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25643C-A2C6-491A-8F79-6422F6CF90A2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Conceito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348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rebuchet MS"/>
              </a:rPr>
              <a:t>Eureka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 – Arquimed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Heurístico: encontrar, descobrir, inventa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O nome combina o prefixo grego "meta" ("mais além", aqui no sentido de "alto nível"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91581f"/>
                </a:solidFill>
                <a:latin typeface="Trebuchet MS"/>
              </a:rPr>
              <a:t>São estratégias inteligentes para projetar ou melhorar procedimentos heurísticos mais gerais com alto rendimento </a:t>
            </a: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(Mélian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17BACF-4C07-4A35-BD8F-D807CA72FBBB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Visão Geral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348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O termo metaheurística apareceu pela primeira vez em um artigo sobre </a:t>
            </a:r>
            <a:r>
              <a:rPr b="0" lang="pt-BR" sz="2600" spc="-1" strike="noStrike">
                <a:solidFill>
                  <a:srgbClr val="91581f"/>
                </a:solidFill>
                <a:latin typeface="Trebuchet MS"/>
              </a:rPr>
              <a:t>Busca Tabu de Fred Glover em 1986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A partir de então tem surgido múltiplas propostas para projetar bons procedimentos para resolver certos problemas que ampliam seu campo de aplicação, daí a denominação de </a:t>
            </a:r>
            <a:r>
              <a:rPr b="1" lang="pt-BR" sz="2600" spc="-1" strike="noStrike">
                <a:solidFill>
                  <a:srgbClr val="91581f"/>
                </a:solidFill>
                <a:latin typeface="Trebuchet MS"/>
              </a:rPr>
              <a:t>meta</a:t>
            </a:r>
            <a:r>
              <a:rPr b="0" lang="pt-BR" sz="2600" spc="-1" strike="noStrike">
                <a:solidFill>
                  <a:srgbClr val="c17529"/>
                </a:solidFill>
                <a:latin typeface="Trebuchet MS"/>
              </a:rPr>
              <a:t>heurístic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Por Sucupira três características as diferem uma das outra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a5644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4e3b30"/>
                </a:solidFill>
                <a:latin typeface="Trebuchet MS"/>
              </a:rPr>
              <a:t>As soluções inviáveis, a função objetivo e o critério de parada</a:t>
            </a:r>
            <a:endParaRPr b="0" lang="en-US" sz="23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74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3E50F5-3462-47A6-8186-61A856F3C83F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Visão Geral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14200" y="1213920"/>
            <a:ext cx="86868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O critério para lidar com as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Trebuchet MS"/>
              </a:rPr>
              <a:t>soluções inviáveis</a:t>
            </a:r>
            <a:r>
              <a:rPr b="1" lang="pt-BR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dificilmente é estipulado pelas metaheurística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31000" indent="-264600">
              <a:spcBef>
                <a:spcPts val="601"/>
              </a:spcBef>
              <a:spcAft>
                <a:spcPts val="601"/>
              </a:spcAft>
              <a:buClr>
                <a:srgbClr val="a564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4e3b30"/>
                </a:solidFill>
                <a:latin typeface="Trebuchet MS"/>
              </a:rPr>
              <a:t>A prática mais comum é a </a:t>
            </a:r>
            <a:r>
              <a:rPr b="0" i="1" lang="pt-BR" sz="1700" spc="-1" strike="noStrike">
                <a:solidFill>
                  <a:srgbClr val="4e3b30"/>
                </a:solidFill>
                <a:latin typeface="Trebuchet MS"/>
              </a:rPr>
              <a:t>relaxação </a:t>
            </a:r>
            <a:r>
              <a:rPr b="0" lang="pt-BR" sz="1700" spc="-1" strike="noStrike">
                <a:solidFill>
                  <a:srgbClr val="4e3b30"/>
                </a:solidFill>
                <a:latin typeface="Trebuchet MS"/>
              </a:rPr>
              <a:t>do problema</a:t>
            </a:r>
            <a:endParaRPr b="0" lang="en-US" sz="1700" spc="-1" strike="noStrike">
              <a:solidFill>
                <a:srgbClr val="4e3b30"/>
              </a:solidFill>
              <a:latin typeface="Trebuchet MS"/>
            </a:endParaRPr>
          </a:p>
          <a:p>
            <a:pPr lvl="1" marL="531000" indent="-264600">
              <a:spcBef>
                <a:spcPts val="601"/>
              </a:spcBef>
              <a:spcAft>
                <a:spcPts val="601"/>
              </a:spcAft>
              <a:buClr>
                <a:srgbClr val="a564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4e3b30"/>
                </a:solidFill>
                <a:latin typeface="Trebuchet MS"/>
              </a:rPr>
              <a:t>Ou impedir a manipulação de soluções inviáveis</a:t>
            </a:r>
            <a:endParaRPr b="0" lang="en-US" sz="1700" spc="-1" strike="noStrike">
              <a:solidFill>
                <a:srgbClr val="4e3b3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Trebuchet MS"/>
              </a:rPr>
              <a:t>função objetivo</a:t>
            </a:r>
            <a:r>
              <a:rPr b="1" lang="pt-BR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é um problema relevante apenas nos casos em que avaliar uma solução é uma tarefa computacionalmente custos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31000" indent="-264600">
              <a:spcBef>
                <a:spcPts val="601"/>
              </a:spcBef>
              <a:spcAft>
                <a:spcPts val="601"/>
              </a:spcAft>
              <a:buClr>
                <a:srgbClr val="a564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4e3b30"/>
                </a:solidFill>
                <a:latin typeface="Trebuchet MS"/>
              </a:rPr>
              <a:t>Aproximação simplificada da função objetivo </a:t>
            </a:r>
            <a:endParaRPr b="0" lang="en-US" sz="1700" spc="-1" strike="noStrike">
              <a:solidFill>
                <a:srgbClr val="4e3b30"/>
              </a:solidFill>
              <a:latin typeface="Trebuchet MS"/>
            </a:endParaRPr>
          </a:p>
          <a:p>
            <a:pPr lvl="1" marL="531000" indent="-264600">
              <a:spcBef>
                <a:spcPts val="601"/>
              </a:spcBef>
              <a:spcAft>
                <a:spcPts val="601"/>
              </a:spcAft>
              <a:buClr>
                <a:srgbClr val="a564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4e3b30"/>
                </a:solidFill>
                <a:latin typeface="Trebuchet MS"/>
              </a:rPr>
              <a:t>Ou estratégia para avaliar cada nova solução a partir, se for o caso, de uma ou mais soluções que tenham dado origem a ela</a:t>
            </a:r>
            <a:endParaRPr b="0" lang="en-US" sz="1700" spc="-1" strike="noStrike">
              <a:solidFill>
                <a:srgbClr val="4e3b3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O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Trebuchet MS"/>
              </a:rPr>
              <a:t>critério de parada</a:t>
            </a:r>
            <a:r>
              <a:rPr b="0" lang="pt-BR" sz="2000" spc="-1" strike="noStrike">
                <a:solidFill>
                  <a:srgbClr val="000000"/>
                </a:solidFill>
                <a:latin typeface="Trebuchet MS"/>
              </a:rPr>
              <a:t> é a estratégia que define o momento em que o algoritmo está concluído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31000" indent="-264600">
              <a:spcBef>
                <a:spcPts val="601"/>
              </a:spcBef>
              <a:spcAft>
                <a:spcPts val="601"/>
              </a:spcAft>
              <a:buClr>
                <a:srgbClr val="a564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4e3b30"/>
                </a:solidFill>
                <a:latin typeface="Trebuchet MS"/>
              </a:rPr>
              <a:t>Fatores: tempo consumido, o número de iterações realizadas, o número de iterações subseqüentes que não geraram uma solução superior à melhor solução já produzida, etc.</a:t>
            </a:r>
            <a:endParaRPr b="0" lang="en-US" sz="1700" spc="-1" strike="noStrike">
              <a:solidFill>
                <a:srgbClr val="4e3b3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5D9D03-15E1-4A0E-8FA8-01E4C4A00628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Propriedades desejáveis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348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Segundo Mélia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Favorecem o interesse prático e teórico das metaheurística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Indicam as direções para onde os esforços devem ser seguidos para contribuir no desenvolvimento e construção de uma metaheurístic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Simpl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Precis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Coeren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Efetiv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1A3760-6AB1-4515-A981-2E891F1BB5EF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Propriedades desejáveis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34892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Eficaz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Eficien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Ger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Adaptá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Robust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Interativ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Múltipla </a:t>
            </a: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(diferentes soluções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rebuchet MS"/>
              </a:rPr>
              <a:t>Autônoma </a:t>
            </a:r>
            <a:r>
              <a:rPr b="1" lang="pt-BR" sz="1800" spc="-1" strike="noStrike">
                <a:solidFill>
                  <a:srgbClr val="000000"/>
                </a:solidFill>
                <a:latin typeface="Trebuchet MS"/>
              </a:rPr>
              <a:t>(livre parâmetros ou estabelecer automaticamente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B5F27C-190A-45A1-95BE-094BE44AC938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e3b30"/>
                </a:solidFill>
                <a:latin typeface="Trebuchet MS"/>
              </a:rPr>
              <a:t>Metaheurística::Classificações</a:t>
            </a:r>
            <a:endParaRPr b="0" lang="en-US" sz="32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13840" y="1213920"/>
            <a:ext cx="89298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rebuchet MS"/>
              </a:rPr>
              <a:t>Classificação Melian et 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rebuchet MS"/>
              </a:rPr>
              <a:t>Metaheurística de métodos de relaxação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: são procedimentos de resolução de problemas que utilizam </a:t>
            </a:r>
            <a:r>
              <a:rPr b="0" lang="pt-BR" sz="2400" spc="-1" strike="noStrike">
                <a:solidFill>
                  <a:srgbClr val="c17529"/>
                </a:solidFill>
                <a:latin typeface="Trebuchet MS"/>
              </a:rPr>
              <a:t>flexibilizações do modelo original 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(ou seja, modelo com  modificações que tornam o problema mais fácil de resolver), cuja solução fornece a solução para o problema origin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rebuchet MS"/>
              </a:rPr>
              <a:t>Metaheurística para processos construtivos</a:t>
            </a:r>
            <a:r>
              <a:rPr b="0" lang="pt-BR" sz="2400" spc="-1" strike="noStrike">
                <a:solidFill>
                  <a:srgbClr val="000000"/>
                </a:solidFill>
                <a:latin typeface="Trebuchet MS"/>
              </a:rPr>
              <a:t>: baseia-se em procedimentos que tratam da obtenção de uma </a:t>
            </a:r>
            <a:r>
              <a:rPr b="0" lang="pt-BR" sz="2400" spc="-1" strike="noStrike">
                <a:solidFill>
                  <a:srgbClr val="c17529"/>
                </a:solidFill>
                <a:latin typeface="Trebuchet MS"/>
              </a:rPr>
              <a:t>solução a partir da análise e seleção paulatina dos componentes que a forma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rebuchet MS"/>
            </a:endParaRPr>
          </a:p>
        </p:txBody>
      </p:sp>
      <p:sp>
        <p:nvSpPr>
          <p:cNvPr id="386" name="Espaço Reservado para Número de Slide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4E0DC4-F742-4E04-AB51-4365271332B7}" type="slidenum">
              <a:rPr b="0" lang="pt-BR" sz="1400" spc="-1" strike="noStrike">
                <a:solidFill>
                  <a:srgbClr val="4e3b3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22:16:20Z</dcterms:created>
  <dc:creator>Office 2003 PRO</dc:creator>
  <dc:description/>
  <dc:language>en-US</dc:language>
  <cp:lastModifiedBy>XP</cp:lastModifiedBy>
  <dcterms:modified xsi:type="dcterms:W3CDTF">2009-11-30T17:47:33Z</dcterms:modified>
  <cp:revision>185</cp:revision>
  <dc:subject/>
  <dc:title>Desempenho e Segurança em Sistemas de Informação</dc:title>
</cp:coreProperties>
</file>