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B767-3C10-4BA6-BF5A-1C431143802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02E9-72BF-4F94-A912-0B59FD5641A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spaço Reservado para Rodapé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7FF2-DC30-443D-8810-8862EE17853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spaço Reservado para Rodapé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C15D-9FC3-4A84-8FDB-A342FE69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B869-F656-407A-9CF3-F3A10B7A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C8F-1E26-42AB-9617-D3543296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B71-EAC4-4810-8E7D-72B28B79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B988-9BEB-4B6C-A8B1-0238728C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87F8-FCB9-412D-A802-1B18325E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F75A-F80A-4FBE-87F5-E759F34E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54ED-1ADF-4898-857B-D62E3608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20CA-351A-4CD4-AE2C-548D5DA0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F0AA-F783-4A84-B13E-4F4B7165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6D18-A432-47BF-9838-A0E3C8EE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0184-D49B-4916-B148-204DF84B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8AEA-617E-4340-B416-0B433103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BE44-3FBB-43DE-B30C-62D9DFD7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77F6-33C3-4C90-9180-9A7905EA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FDBE-0340-4F75-9589-C3324A3A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0178-4D58-4DB7-952E-607DA065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5FA75-312D-4FAD-90A2-BFE3AAB9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8823F-E694-4025-971F-81D59060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4F109-E79A-4779-B2FC-6B556558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87B61-8A91-41FE-ABCF-41E39348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40146-4172-47C0-8DA0-C96FC7E8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181-CC12-418A-A8D8-8E089BA2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3121E-6B03-4F13-8409-03E343C2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53E7F-6BAE-40F9-ADDA-530981C6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5B225-E202-421A-974D-678E30E3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DA69E-5FBE-41FF-93FB-A70C09B7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1B563-4938-470D-9D55-7C91334F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5994F-A0B8-4F8C-9BA0-ED3B1E76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71550-3E63-4EC2-90E0-9BC14DCF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90497-B1B5-42B0-80D6-3CADEFFF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33F01-3754-4D29-B8A8-D41E4C2F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C493D-B544-45D2-9289-DFC8E75B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9E5-C9DE-457B-BD8C-688B3814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6E1CE-1E95-4EA3-BC30-5E8AEA5B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DFC3A-EA61-4F07-9BF1-691B6EC8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4809B-B9B3-4FD4-8ED2-BEC0B86B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291E7-17EF-48CE-815D-D77287CD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C075D-BEFC-420B-A84C-F56B06B9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FB9F7-CCBD-42AC-8782-4EF532CD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3BE44-7B07-4080-8C50-B9532583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04A1F-10A0-49FB-9DC3-E4655AFD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3F1D6-4C36-416A-B0D7-AC3D7961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AA5D49-E521-4055-ADC3-ED261923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A855-0A50-483C-B522-6159CBDA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EDA6C-F121-47B5-93B8-56D1780F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19352-D312-4956-9195-0D745453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862D7-87B3-4337-B753-A037FBAB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44CB98-400D-43C7-A2E6-A0753ADE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02584C-716D-4133-8E4B-7117DEA0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198A95-5D00-4614-8247-F800A707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12590C-B7B2-45D3-823D-91AF2D49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4111A3-1E3C-471F-879B-C59F93EC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6C2A84-F9E1-479F-B258-77669A64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40042-F8D2-470D-B3C9-6AA2600E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C9B-7EF1-41B0-8CE5-17B247D5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5550B-E708-4BCA-80E3-D7C98DA9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AF4C14-BE36-46A6-A22D-B9926431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98944-B607-4ADB-9EC9-42794E4D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8FB555-D8BF-4693-A406-301E96E2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B1F0B3-0855-4090-AD0A-26DBCDAD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E89828-2E58-4B59-BB54-F7DE5280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2D313A-FC37-457A-B44D-66525CBC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1C0274-1A53-4FCC-A71C-1C6DD1E2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D3A56B-3C60-417A-AC23-3A7302B5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BEBAD1-7854-4D37-902F-D68B7258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3FC7-ADAF-4760-84FE-A473FA40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2C381E-E26A-46BF-AB76-18C0A83F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BB2704-D6FA-4856-BEE6-F6A675A8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B221C5-BD7C-4CA3-88BD-CFF4EF0D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7F8F10-D630-447A-A4E1-41C5B342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541C5A-0E97-4CEF-87BB-1BFBB39F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491997-CB82-412F-8697-40B79C73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EC30F3-6C9B-44EB-A10C-228226D8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41AABA-96FB-40ED-B7BB-552CE783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E8E8C-F132-4542-8A7D-DA74CC4A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FF476-9184-4E28-8743-D02440F0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CDCC-043F-46C4-8A49-A3C281D7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146094-2F4B-4A7B-99A0-911D5862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5DDF56-ABDD-44C5-BD5B-0E9EE4E5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A98B2F-8549-4CE1-B59B-3096B2A4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40CAE4-DCB2-4C0B-894D-7C3C87DA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B0F8F-2120-457A-88F2-9C81955F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95A8-BE0A-4823-981F-56AC0C40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c5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67b1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c5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F661-E4B5-4011-870B-168606FD8659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18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c5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18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426B-595B-4F75-9FD7-3CF40F12C00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3c5a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b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b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e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3c5a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e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3c5a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3c5a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67b1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c5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07A8-E71C-48E0-B420-44C22F712A2B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A24F-A110-4FFF-A021-CD22A3F1CA2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c5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18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c5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18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67b1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c5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8E9A-925A-422B-9D32-35E9235C3550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4C2F-07C6-43DD-B28C-26DCEBD87A3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3c5a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b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b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e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3c5a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e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3c5a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3c5a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67b1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c5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6C32-D93C-486E-9E40-3BF918C9B43C}" type="datetime">
              <a:rPr b="0" lang="en-US" sz="1200" spc="-1" strike="noStrike">
                <a:solidFill>
                  <a:srgbClr val="d6ecff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6ecf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78BC-47C2-4DD5-AA59-98A2EC5A2AC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c5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18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c5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18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67b1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c5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C45D-AD46-4456-9F07-717771B79D36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DEDC-4642-4936-9EE8-02400DCF1DA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c5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ector reto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518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18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c5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18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67b1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c5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A6BB-B6F6-4BE1-B233-4DBE5FED941F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2BF1-AABC-4C26-9D7C-46FD65F5EBA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ector reto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c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ector reto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18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reto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518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67b1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c5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66C3-AE2E-4F5E-9F67-A1BEBC9339D4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491F-A956-439A-9A97-0D3CB3651F2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87640" y="2857680"/>
            <a:ext cx="547056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5b6f"/>
                </a:solidFill>
                <a:latin typeface="Century Schoolbook"/>
              </a:rPr>
              <a:t>FLUXO DE DADOS EM WORKFLOWS CIENTÍFICOS:</a:t>
            </a:r>
            <a:br>
              <a:rPr sz="2400"/>
            </a:br>
            <a:r>
              <a:rPr b="1" lang="en-US" sz="2400" spc="-1" strike="noStrike">
                <a:solidFill>
                  <a:srgbClr val="4e5b6f"/>
                </a:solidFill>
                <a:latin typeface="Century Schoolbook"/>
              </a:rPr>
              <a:t>O SISTEMA KEPLER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071600" y="507204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e5b6f"/>
                </a:solidFill>
                <a:latin typeface="Century Schoolbook"/>
              </a:rPr>
              <a:t>Aluno: William Tankiti Yamamoto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e5b6f"/>
                </a:solidFill>
                <a:latin typeface="Century Schoolbook"/>
              </a:rPr>
              <a:t>Orientador: João Eduardo Ferreir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Subtítulo 2"/>
          <p:cNvSpPr/>
          <p:nvPr/>
        </p:nvSpPr>
        <p:spPr>
          <a:xfrm>
            <a:off x="4929120" y="5929200"/>
            <a:ext cx="35719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e5b6f"/>
                </a:solidFill>
                <a:latin typeface="Century Schoolbook"/>
              </a:rPr>
              <a:t>Departamento de Ciência da Compu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e5b6f"/>
                </a:solidFill>
                <a:latin typeface="Century Schoolbook"/>
              </a:rPr>
              <a:t>Instituto de Matemática e Estat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e5b6f"/>
                </a:solidFill>
                <a:latin typeface="Century Schoolbook"/>
              </a:rPr>
              <a:t>Universidade de São Pau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ço Reservado para Número de Slide 7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AC23-F74C-4F15-B8FE-0773AD37AAA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ço Reservado para Rodapé 8"/>
          <p:cNvSpPr/>
          <p:nvPr/>
        </p:nvSpPr>
        <p:spPr>
          <a:xfrm rot="5400000">
            <a:off x="6804360" y="3909240"/>
            <a:ext cx="4202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Imagem 4" descr="kepler-logo2.png"/>
          <p:cNvPicPr/>
          <p:nvPr/>
        </p:nvPicPr>
        <p:blipFill>
          <a:blip r:embed="rId1"/>
          <a:stretch/>
        </p:blipFill>
        <p:spPr>
          <a:xfrm>
            <a:off x="1979640" y="3643200"/>
            <a:ext cx="957240" cy="6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Schoolbook"/>
              </a:rPr>
              <a:t>FLUXO DE DADOS NO KEPLER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Comunicação entre os ator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Transporte de “mensagens” por meio de </a:t>
            </a:r>
            <a:r>
              <a:rPr b="0" i="1" lang="pt-BR" sz="2000" spc="-1" strike="noStrike">
                <a:solidFill>
                  <a:srgbClr val="000000"/>
                </a:solidFill>
                <a:latin typeface="Century Schoolbook"/>
              </a:rPr>
              <a:t>portas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 (single/multi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Tipos de dados polimórficos (números, strings, arrays..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Comportamentos polimórficos (process network, time-triggered, synchronous dataflow..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Receptor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Contêineres que armazenam os dad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entury Schoolbook"/>
              </a:rPr>
              <a:t>Portas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 contêm </a:t>
            </a:r>
            <a:r>
              <a:rPr b="0" i="1" lang="pt-BR" sz="2000" spc="-1" strike="noStrike">
                <a:solidFill>
                  <a:srgbClr val="000000"/>
                </a:solidFill>
                <a:latin typeface="Century Schoolbook"/>
              </a:rPr>
              <a:t>receptor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Criados pelo </a:t>
            </a:r>
            <a:r>
              <a:rPr b="0" i="1" lang="pt-BR" sz="2000" spc="-1" strike="noStrike">
                <a:solidFill>
                  <a:srgbClr val="000000"/>
                </a:solidFill>
                <a:latin typeface="Century Schoolbook"/>
              </a:rPr>
              <a:t>direto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Implementam a comunicaçã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Espaço Reservado para Número de Slide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BCBE-16F2-4401-80FC-0957ED52289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ço Reservado para Rodapé 3"/>
          <p:cNvSpPr/>
          <p:nvPr/>
        </p:nvSpPr>
        <p:spPr>
          <a:xfrm rot="5400000">
            <a:off x="6687360" y="3434760"/>
            <a:ext cx="380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Schoolbook"/>
              </a:rPr>
              <a:t>REFERÊNCIAS BIBLIOGRÁFICAS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ward A. Lee and Stephen Neuendorffer, "Concurrent Models of Computation for Embedded Software“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echnical Memorandum UCB/ERL M04/2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University of California, Berkeley, CA 94720, July 22, 200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Grace A. P. Borges, “Controle de dados em Processos de Negócio e Workflows Científicos”, 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Exame de Qualificação de Mestrado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, 2007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. Bowers and B. Ludaescher. Actor-oriented design of scientific workflows. In 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International Conference on Conceptual Modeling (ER´2005)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Workflow Management Coalition, 199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5051-E91F-4169-83D6-EEE1846DCE0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Espaço Reservado para Rodapé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Schoolbook"/>
              </a:rPr>
              <a:t>CONTEÚDO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efinição de Workflow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 que é Workflow Científico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orkflow Científico vs. Workflow de Negóci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tivaçã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obre o Kepl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luxo de Dados no KEPL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8AAB-61B7-4DDE-AA26-E8B0DB1F47F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ço Reservado para Rodapé 4"/>
          <p:cNvSpPr/>
          <p:nvPr/>
        </p:nvSpPr>
        <p:spPr>
          <a:xfrm rot="5400000">
            <a:off x="6687360" y="3434760"/>
            <a:ext cx="380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Schoolbook"/>
              </a:rPr>
              <a:t>DEFINIÇÃO DE WORKFLOW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É a automação do processo de negócio onde documentos, informações ou tarefas são passadas de um participante para o outro de acordo com um conjunto de regras de procedimentos para se atingir um objetivo de negócio </a:t>
            </a:r>
            <a:r>
              <a:rPr b="0" i="1" lang="pt-BR" sz="2000" spc="-1" strike="noStrike">
                <a:solidFill>
                  <a:srgbClr val="000000"/>
                </a:solidFill>
                <a:latin typeface="Century Schoolbook"/>
              </a:rPr>
              <a:t>[Workflow Management Coalition, 1995]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7261-9B0B-434A-AE0A-63286D587E8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ço Reservado para Rodapé 4"/>
          <p:cNvSpPr/>
          <p:nvPr/>
        </p:nvSpPr>
        <p:spPr>
          <a:xfrm rot="5400000">
            <a:off x="6687360" y="3434760"/>
            <a:ext cx="380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Schoolbook"/>
              </a:rPr>
              <a:t>O QUE É WORKFLOW CIENTÍFICO?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plicação do conceito de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workflow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m ambientes científicos. Diferentemente dos ambientes de negócio, os ambientes científicos visam a análise e a manipulação de grande volume de </a:t>
            </a: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dados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D06A-2E11-4CFD-8DA5-917BD00A088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ço Reservado para Rodapé 4"/>
          <p:cNvSpPr/>
          <p:nvPr/>
        </p:nvSpPr>
        <p:spPr>
          <a:xfrm rot="5400000">
            <a:off x="6687360" y="3434760"/>
            <a:ext cx="380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Schoolbook"/>
              </a:rPr>
              <a:t>DIFERENÇAS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77" name="Espaço Reservado para Conteúdo 12" descr=""/>
          <p:cNvPicPr/>
          <p:nvPr/>
        </p:nvPicPr>
        <p:blipFill>
          <a:blip r:embed="rId1"/>
          <a:stretch/>
        </p:blipFill>
        <p:spPr>
          <a:xfrm>
            <a:off x="133200" y="3754440"/>
            <a:ext cx="3670560" cy="2365200"/>
          </a:xfrm>
          <a:prstGeom prst="rect">
            <a:avLst/>
          </a:prstGeom>
          <a:ln w="0">
            <a:noFill/>
          </a:ln>
        </p:spPr>
      </p:pic>
      <p:pic>
        <p:nvPicPr>
          <p:cNvPr id="378" name="Espaço Reservado para Conteúdo 13" descr=""/>
          <p:cNvPicPr/>
          <p:nvPr/>
        </p:nvPicPr>
        <p:blipFill>
          <a:blip r:embed="rId2"/>
          <a:stretch/>
        </p:blipFill>
        <p:spPr>
          <a:xfrm>
            <a:off x="4054320" y="3754440"/>
            <a:ext cx="3668760" cy="2365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518c20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Workflow Científic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518c20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Workflow de Negóci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Espaço Reservado para Número de Slide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1814-B85C-4824-80C6-C70B76D8DC5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Espaço Reservado para Rodapé 9"/>
          <p:cNvSpPr/>
          <p:nvPr/>
        </p:nvSpPr>
        <p:spPr>
          <a:xfrm rot="5400000">
            <a:off x="6687360" y="3434760"/>
            <a:ext cx="380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Seta para baixo 10"/>
          <p:cNvGrpSpPr/>
          <p:nvPr/>
        </p:nvGrpSpPr>
        <p:grpSpPr>
          <a:xfrm>
            <a:off x="1920960" y="2670120"/>
            <a:ext cx="871560" cy="633600"/>
            <a:chOff x="1920960" y="2670120"/>
            <a:chExt cx="871560" cy="633600"/>
          </a:xfrm>
        </p:grpSpPr>
        <p:pic>
          <p:nvPicPr>
            <p:cNvPr id="384" name="Seta para baixo 10" descr=""/>
            <p:cNvPicPr/>
            <p:nvPr/>
          </p:nvPicPr>
          <p:blipFill>
            <a:blip r:embed="rId3"/>
            <a:stretch/>
          </p:blipFill>
          <p:spPr>
            <a:xfrm>
              <a:off x="1920960" y="2670120"/>
              <a:ext cx="8715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178000" y="2714760"/>
              <a:ext cx="3571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Seta para baixo 11"/>
          <p:cNvGrpSpPr/>
          <p:nvPr/>
        </p:nvGrpSpPr>
        <p:grpSpPr>
          <a:xfrm>
            <a:off x="5705640" y="2670120"/>
            <a:ext cx="871200" cy="633600"/>
            <a:chOff x="5705640" y="2670120"/>
            <a:chExt cx="871200" cy="633600"/>
          </a:xfrm>
        </p:grpSpPr>
        <p:pic>
          <p:nvPicPr>
            <p:cNvPr id="387" name="Seta para baixo 11" descr=""/>
            <p:cNvPicPr/>
            <p:nvPr/>
          </p:nvPicPr>
          <p:blipFill>
            <a:blip r:embed="rId4"/>
            <a:stretch/>
          </p:blipFill>
          <p:spPr>
            <a:xfrm>
              <a:off x="5705640" y="2670120"/>
              <a:ext cx="8712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965920" y="2714760"/>
              <a:ext cx="3571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Schoolbook"/>
              </a:rPr>
              <a:t>MOTIVAÇÃO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Combinar o controle de fluxo de dados com o fluxo de atividad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entury Schoolbook"/>
              </a:rPr>
              <a:t>Controle de fluxo de atividades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 em Workflows de Negócios bastante difundido, utilizado e estudad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Funcionamento do </a:t>
            </a:r>
            <a:r>
              <a:rPr b="0" i="1" lang="pt-BR" sz="2000" spc="-1" strike="noStrike">
                <a:solidFill>
                  <a:srgbClr val="000000"/>
                </a:solidFill>
                <a:latin typeface="Century Schoolbook"/>
              </a:rPr>
              <a:t>fluxo de dados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 em Workflows Científicos ainda precisa ser explorad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Entender o </a:t>
            </a:r>
            <a:r>
              <a:rPr b="1" i="1" lang="pt-BR" sz="2000" spc="-1" strike="noStrike">
                <a:solidFill>
                  <a:srgbClr val="000000"/>
                </a:solidFill>
                <a:latin typeface="Century Schoolbook"/>
              </a:rPr>
              <a:t>dataflow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 é fundamental para integraçã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8B66-7457-433D-9B9E-F0CDA894A21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ço Reservado para Rodapé 2"/>
          <p:cNvSpPr/>
          <p:nvPr/>
        </p:nvSpPr>
        <p:spPr>
          <a:xfrm rot="5400000">
            <a:off x="6687360" y="3434760"/>
            <a:ext cx="380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Schoolbook"/>
              </a:rPr>
              <a:t>SOBRE O KEPLER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Ambiente para </a:t>
            </a:r>
            <a:r>
              <a:rPr b="0" i="1" lang="pt-BR" sz="2000" spc="-1" strike="noStrike">
                <a:solidFill>
                  <a:srgbClr val="000000"/>
                </a:solidFill>
                <a:latin typeface="Century Schoolbook"/>
              </a:rPr>
              <a:t>workflows científic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Utilizado em áreas como a bioinformática, ecoinformática e geoinformátic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Modelo orientado a ator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Espaço Reservado para Número de Slide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A099-A9D3-4170-9951-0FAFE39206C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Espaço Reservado para Rodapé 9"/>
          <p:cNvSpPr/>
          <p:nvPr/>
        </p:nvSpPr>
        <p:spPr>
          <a:xfrm rot="5400000">
            <a:off x="6687360" y="3434760"/>
            <a:ext cx="380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Schoolbook"/>
              </a:rPr>
              <a:t>COMPONENTES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8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EED6-B38F-4D71-B0F0-3712DA59E1E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ço Reservado para Rodapé 4"/>
          <p:cNvSpPr/>
          <p:nvPr/>
        </p:nvSpPr>
        <p:spPr>
          <a:xfrm rot="5400000">
            <a:off x="6687360" y="3434760"/>
            <a:ext cx="380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2000160" y="1857240"/>
            <a:ext cx="4786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Schoolbook"/>
              </a:rPr>
              <a:t>FLUXO DE DADOS NO KEPLER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2" name="Espaço Reservado para Número de Slide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F4D8-90F6-458D-9684-12DBF97EEE2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ço Reservado para Rodapé 1"/>
          <p:cNvSpPr/>
          <p:nvPr/>
        </p:nvSpPr>
        <p:spPr>
          <a:xfrm rot="5400000">
            <a:off x="6687360" y="3434760"/>
            <a:ext cx="380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Imagem 6" descr="Dataflow.PNG"/>
          <p:cNvPicPr/>
          <p:nvPr/>
        </p:nvPicPr>
        <p:blipFill>
          <a:blip r:embed="rId1"/>
          <a:stretch/>
        </p:blipFill>
        <p:spPr>
          <a:xfrm>
            <a:off x="1770120" y="2000160"/>
            <a:ext cx="5302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7:34:01Z</dcterms:created>
  <dc:creator>WTY</dc:creator>
  <dc:description/>
  <dc:language>en-US</dc:language>
  <cp:lastModifiedBy>adm</cp:lastModifiedBy>
  <dcterms:modified xsi:type="dcterms:W3CDTF">2007-11-14T13:48:31Z</dcterms:modified>
  <cp:revision>88</cp:revision>
  <dc:subject/>
  <dc:title>Slide 1</dc:title>
</cp:coreProperties>
</file>