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C39EF-5A0E-47CC-BB49-E4A401FC2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0F16-FE76-482D-B0A2-F32EBA065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23F3-01E6-4941-9E3F-28D18B9AAE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315E-3888-4C0B-95C5-6C7F2E777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59F80-A553-4481-9E6C-AE7C5CD0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0AB7A-8CB9-488D-8616-DB6D811D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FEF2A-D7BF-497A-BB12-53E890C6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FCE1A-06B8-4BAB-B14D-FB0B1CB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DB1D2-BC33-4447-A3E0-04E5BD17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A929A-C3B4-4E42-AC31-7D3EFF99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6A292-3D2E-4B4E-9E93-AEEEB36B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15A9-3416-4908-BEC2-A9E55CC93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BAB64-C0AD-4610-BF95-0DAF1124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E7FBA-7C86-408B-A5D1-2A40DAC6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47BA1-E07E-4B8D-B3F8-E18E6B0A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BF7EA-0ABE-4320-A9C7-46BFF990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71833-90E1-4218-ADF2-69645DCF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578A-A2B1-4CF0-B397-F92AE3E16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130B9-69D0-4732-9864-AF1D9F4FF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F88D-4A6D-4968-A888-A86E4242E0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F9EE-41F2-421A-9385-5A57C3BAA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5F5CD-477B-4511-A4EB-4E15EE5AC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87B8-1A12-4E20-90F5-B537D97E5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8E1EA-FB0B-44C6-9331-1F129B0C8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A678-5F96-4552-8718-DA287C7AC2A5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ner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763120" cy="741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19 / março /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39B6-8CDE-4836-9753-A8222EB5756D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esenvolvendo Software com Qualidade e Agilida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Fabio Kon         Prof. Dr. Alfredo Goldm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19 de março de 2003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LARC – POLI/USP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908A3-20F1-4263-9338-A0A5B530D3A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Quem se Destina XP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de 2 a 10 program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s de 1 a 36 meses (calendár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1000 a 250 000 linha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pé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 (foco central)(sem hierarqu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einador” ou “Técnico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oac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dor” 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rack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66AD-865F-4C35-BF63-EE79B478BFF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u Não Me Encaixo Nesses Cas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inda pode aprender muito sobre desenvolvimento d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rá elementos para repensar as suas prá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início se diz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você é 100% eXtremo ou não é eXtremo. Não dá prá ser 80% X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P is now like teenage s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oje não é mais necessariamente assi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6E11-6AA6-45FE-97D3-4CD15AE691B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4D6D-3DE4-4028-B9D2-6C5CD65520A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incípios Básicos de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o melhor negó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incre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regue a bandeira das mudanças /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lorize o med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Embrace chang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a qu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B126-AEE9-43D1-9EB0-B96F2F81F3B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4 Variáve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Escopo (foco principal de X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07941-E438-427B-8802-F148C2861A5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Projeto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Explo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ção: 2 a 6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 quando a primeira versão do software é enviada a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s escrevem “historias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ory card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interagem com clientes e discutem tecnolog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só discutem,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perimenta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iferentes tecnologias e arquiteturas para 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lanejamento: 1 a 2 d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B47E-184D-44C0-9B28-8EA820F1752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3164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a história d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a um par liv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 computador para programação paread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air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ciona uma tarefa claramente relacionada a uma característic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atu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desejada pel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0D60-11D0-4CDC-9A1A-0294B292ED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8390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modificações recentes n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história do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en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46A7-D6E7-4A24-BF32-8E65CFF2C7C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os constantes no desenvolv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testes antig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oportunidades para simplific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ifica desenho e implementação incrementalmente baseado na funcionalidade exigida no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 nov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todos os testes não rodam a 100%, o trabalho não está termi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 novo código ao repositó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4579D-AC91-4781-B94A-2F8DD867FE7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damento mais importante de X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o que dá segurança e coragem a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un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programadores para testar cada elemento do sistema (e.g., cada método em cada cas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funcional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Functional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clientes para testar a funcionalidade d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1AA97-4CB5-4072-A21A-98AE4DBCD79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000"/>
            </a:br>
            <a:r>
              <a:rPr b="0" i="1" lang="pt-BR" sz="4400" spc="-1" strike="noStrike">
                <a:solidFill>
                  <a:srgbClr val="000000"/>
                </a:solidFill>
                <a:latin typeface="Arial Black"/>
              </a:rPr>
              <a:t>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odologia de desenvolvimento de software aperfeiçoada nos últimos 5 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nhou notoriedade a partir da OOPSLA’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principal: Kent B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1D9F-7E3A-455D-95DE-F76C96E2F58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unidades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m que estar sempre funcionando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ão executados várias vezes por d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dos à noite automa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ão crescendo de 0%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chegam a 100% acabou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9523-7291-43A6-8FF9-22B67CBF554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ões de estilo adotados pelo grupo intei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mais claro possí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 não se baseia em documentações detalhadas e extensas (perde-se sincron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sempre que necess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padroniz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ção Pareada ajuda mui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CD61-CDC4-4DFF-92D7-F1600E17AF7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 de um detectado imediatamente pelo outro (grande economia de temp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gambiarra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Sistema Multimídia Orientado a Ob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AEEF7-1F0F-4CBE-B1AA-D019DBC330D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riedade Cole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tradicional: só autor de uma função pode modificá-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: o código pertence a to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lguém identifica uma oportunidade para simplificar, consertar ou melhorar código escrito por outra pessoa, que o faç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rode os test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C414-427A-4434-B656-04C16D1D9D3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atoração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(Refactoring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[pequena] modificação no sistema que não altera o seu comportamento fu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que melhora alguma qualidade não-func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r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DF76-6D69-4A9A-A7A4-698E77168F3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s de Refatoraç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 do nome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s nas interfaces dos obje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quenas mudanças arquitetu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apsular código repetido em um novo méto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neralização de méto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aizQuadrada(float x)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raiz(float x, 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E537-628B-43C5-A691-259007A56B9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onsável por escrever “história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um programador ou é representado por um programador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a no mesmo espaço físico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s versões são enviadas para produção todo mês (ou toda seman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liente é ess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quisitos mudam (e isso não é mau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374D-47EF-4AB0-8B95-10100F94A89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oach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trein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o mais experiente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entifica quem é bom no 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bra a todos as regras do jogo (X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entualmente faz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esenha arquitetura, apenas chama a atenção para oportunidades de melho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u papel diminui à medida em que o time fica mais mad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FC02-6E90-443F-B4D1-339E618C579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Tracker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Acompanh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“consciência”  do ti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eta estatísticas sobre o andamento do projeto. Alguns ex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histórias definidas e implement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unit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testes funcionais definidos e funcionan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úmero de classes, métodos, linhas de códi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ntém histórico do progres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az estimativas para o futu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1D33B-D97A-4722-B5B5-C661B00BD26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não aceita as regras do jo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quer uma especificação detalhada do sistema antes de começ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programadores não estão dispostos a seguir (todas) as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(quase) todos os programadores do time são medíoc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E378-A88F-4CDA-848D-0390BC7FE6F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Reações a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odeiam, outros am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gosta de programar am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a o bom programador livre para fazer o que ele faria se não houvesse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ça o [mau] programador a se comportar de uma forma similar ao bom programa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34C6-6C78-4A72-9D82-28C0549CC93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grandes (&gt;10 programador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rápido não é possív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mora 6h para comp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demoram 12h  para rod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igência de certificação que demora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usto de mudanças é essencialmente expon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não é possível realizar testes (muito rar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1336-75B5-4713-A7FB-F65418F66A5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encendo os Me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de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 em frente sem saber tudo sobre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r em outras pesso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a arquitetura de um sistema em funciona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5F36F-FBF3-471C-B93B-D73F63BA854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D770-A33D-4D3D-9800-6570B9675D31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áticas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práticas foram refatorad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veja www.extremeprogramming.org/rules.ht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a idéia é exatamente a m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práticas interes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erte XP quando a metodologia quebr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va as pesso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 Proxy (by Klau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184D-FC7E-4F29-AE43-E187F689145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 não é para todo mu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odo mundo pode aprender com 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24FE-9528-4F1C-9FF9-3A5B371B3FD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iores 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form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5320" y="1885680"/>
            <a:ext cx="8483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Fabio Kon           kon@ime.usp.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Alfredo Goldman  gold@ime.usp.b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kon/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xispe.com.br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extremeprogramming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0B4C9-0151-46E1-AB8B-2568B8E604E2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Tradicional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0. Levantamento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. Análise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. Desenho da Arquite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. 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.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5. Produção / Manu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12AE-FA72-4CD2-84F7-607E614644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Básicas do Modelo Tradicio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a análise de requisitos profunda e detalhada antes de projetar a arquitetura do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 estudo minucioso e elaborar uma descrição detalhada da arquitetura antes de começar a implementá-l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testar o sistema completamente antes de mandar a versão final para o clien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C59F-EC4A-4833-B117-43D88E64BF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está por trás deste mode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2728800" y="-915120"/>
            <a:ext cx="101962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1" y="0"/>
                </a:moveTo>
                <a:arcTo wR="10800" hR="10800" stAng="-5424988" swAng="5424988"/>
                <a:lnTo>
                  <a:pt x="10800" y="10800"/>
                </a:lnTo>
                <a:close/>
              </a:path>
              <a:path fill="none" w="21600" h="21600">
                <a:moveTo>
                  <a:pt x="10721" y="0"/>
                </a:moveTo>
                <a:arcTo wR="10800" hR="10800" stAng="-5424988" swAng="542498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8560" y="525780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quisitos       desenho                  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360" y="5562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        implementação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DB6B3-82BA-437A-94D9-882658A249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a realidade hoje em dia fosse outr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86000" y="4267080"/>
            <a:ext cx="10667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8E8E-6288-4D76-A2A3-9086E232FA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ssa fosse a realidad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titude dos desenvolvedores de software seria completamente difer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maríamos as grandes decisões o mais tarde possí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ríamos agora somente o que precisa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go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implementaríamos flexibilidade desnecessária (não anteciparíamos necessidad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E7A74-BE01-48A4-A9B5-F149E87D461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essa é a nova realidade !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pelo menos em muitos caso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rientação a Obje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facilita e cria oportunidades para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écnicas de Refatoraçã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nos dão segurança quando fazemos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rática / cultura de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aprendemos técnicas e adquirimos experiência em lidar com código mu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798D-7A2F-4FFE-A67B-E69301F4DC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Gary Burton</cp:lastModifiedBy>
  <cp:lastPrinted>1999-06-03T16:24:05Z</cp:lastPrinted>
  <dcterms:modified xsi:type="dcterms:W3CDTF">2003-03-19T13:14:58Z</dcterms:modified>
  <cp:revision>275</cp:revision>
  <dc:subject/>
  <dc:title>No Slide Title</dc:title>
</cp:coreProperties>
</file>