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A125-85F2-4BFB-AEF8-241A6D463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75AD-DE6E-459E-9361-762884171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B44F-7A31-482A-AF7F-D2EE012D2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94A0-08F9-4B93-ABA9-CED3916FF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0C310-DC27-45F5-A571-122562E1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56A62-7FF8-4CFA-A0B5-C3F46890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DE909-360A-4685-B5D9-19D025E4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9771A-5053-4119-B010-74E70673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8F133-0BC6-4F86-A190-2E656B20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BA687-01DA-4FAC-AB78-66A68403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C5587-575C-49D3-AC89-FCB03CF8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F4D3-E341-4387-93CD-14448B78E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0BDC9-5C6F-47CB-96F0-F5D5E012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847C9-3C1F-4212-8CE2-32B25607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401E2-3510-451F-91B2-50D5C195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B2339-4C24-43AB-BD00-A34257F2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FC1E8-B73C-4FAF-8FD9-99DE0061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480B7-C45F-489C-AD2A-C4B373C32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709B3-0086-412C-AFA0-FBB65F9A8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4497-311F-4127-AF83-4B5DEFF31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37916-897B-49FF-BABF-19878C89F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4968-A864-45E9-A18E-4EC9D6E69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D27A-8F52-4F40-BDC4-FFC0448FB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0939-B1A3-44FD-A8B2-5FEAFC502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by Fabio K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E843-334A-4100-B5AF-E3E1B6A15833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ner" descr=""/>
          <p:cNvPicPr/>
          <p:nvPr/>
        </p:nvPicPr>
        <p:blipFill>
          <a:blip r:embed="rId3"/>
          <a:stretch/>
        </p:blipFill>
        <p:spPr>
          <a:xfrm>
            <a:off x="152280" y="1066680"/>
            <a:ext cx="8763120" cy="7416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6400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5 / dezembro /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03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574e"/>
                </a:solidFill>
                <a:latin typeface="Arial"/>
              </a:rPr>
              <a:t>Copyleft by Fabio K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4923-8FAC-446B-8BA2-23305383475D}" type="slidenum">
              <a:rPr b="0" lang="pt-B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anner" descr=""/>
          <p:cNvPicPr/>
          <p:nvPr/>
        </p:nvPicPr>
        <p:blipFill>
          <a:blip r:embed="rId3"/>
          <a:stretch/>
        </p:blipFill>
        <p:spPr>
          <a:xfrm>
            <a:off x="228600" y="1974960"/>
            <a:ext cx="8753400" cy="1073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Desenvolvendo Software com Qualidade e Agilida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1920" y="2895480"/>
            <a:ext cx="899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Prof. Dr. Fabio Kon         Prof. Dr. Alfredo Goldm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Departamento de Ciência da Computação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IME / US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Black"/>
              </a:rPr>
              <a:t>5 de dezembro de 2002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Black"/>
              </a:rPr>
              <a:t>EXTREME PROGRAMMING BRASI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DF5A43-5395-4EB4-ACCE-92C907EE4FB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 Quem se Destina XP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885680"/>
            <a:ext cx="83311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de 2 a 10 programado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jetos de 1 a 36 meses (calendári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 1000 a 250 000 linhas de códi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pé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 (foco central)(sem hierarqui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reinador” ou “Técnico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oach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ompanhador” 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track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D0C6-827F-4E80-8A1A-7D7A961654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u Não Me Encaixo Nesses Caso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ocê ainda pode aprender muito sobre desenvolvimento de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rá elementos para repensar as suas prátic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início se diz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u você é 100% eXtremo ou não é eXtremo. Não dá prá ser 80% XP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XP is now like teenage se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je não é mais necessariamente assi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67EB-5B8E-4FCA-B7DF-F33F791203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Princípios Básicos de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áp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 é o melhor negó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udanças increment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arregue a bandeira das mudanças /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valorize o med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Embrace chang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ta qua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C59D-1A30-4CD3-AFA8-8617A38E4EC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4 Variáveis do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Temp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Cus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Qualida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Escopo (foco principal de XP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C833-AE38-431C-BF4D-7DAA7CA3A94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Projeto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Explo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ração: 2 a 6 m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rmina quando a primeira versão do software é enviada ao cl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s escrevem “historias”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tory card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dores interagem com clientes e discutem tecnolog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só discutem,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experimentam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iferentes tecnologias e arquiteturas para 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lanejamento: 1 a 2 di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4344-976C-463C-BA1B-068D6D23844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1640" y="1885680"/>
            <a:ext cx="84074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a história d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ura um par liv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olhe um computador para programação paread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pair programming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ciona uma tarefa claramente relacionada a uma característica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ature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 desejada pelo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7AD9-A166-4C1E-83CF-3971B3B1F51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885680"/>
            <a:ext cx="883908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modificações recentes n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scute história do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sen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tegr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C823-97E7-4DC6-AE09-46D575F5B98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Um Dia na Vida de um Programador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tos constantes no desenvolvimen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 testes antig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oportunidades para simplificaçã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odifica desenho e implementação incrementalmente baseado na funcionalidade exigida no momen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eve novos tes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todos os testes não rodam a 100%, o trabalho não está termin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 novo código ao repositó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A6BC-6FD7-4256-972D-D0004904A95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damento mais importante de X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o que dá segurança e coragem a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un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Unit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programadores para testar cada elemento do sistema (e.g., cada método em cada cas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e funcionalidade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(Functional tes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critos pelos clientes para testar a funcionalidade do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9FB5-A97B-4C8D-9572-13BCA2B9725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Tes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unidades do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m que estar sempre funcionando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ão executados várias vezes por d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cutados à noite automatica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stes das funcio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ão crescendo de 0% a 100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Quando chegam a 100% acabou o proje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29CD-B41A-4FC9-8E43-E7EFC77525E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eXtrema</a:t>
            </a:r>
            <a:br>
              <a:rPr sz="4000"/>
            </a:br>
            <a:r>
              <a:rPr b="0" i="1" lang="pt-BR" sz="4400" spc="-1" strike="noStrike">
                <a:solidFill>
                  <a:srgbClr val="000000"/>
                </a:solidFill>
                <a:latin typeface="Arial Black"/>
              </a:rPr>
              <a:t>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todologia de desenvolvimento de software aperfeiçoada nos últimos 5 an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anhou notoriedade a partir da OOPSLA’200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me principal: Kent Be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A8512-C848-4261-A69B-2111C0F6705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drões de estilo adotados pelo grupo intei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mais claro possív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P não se baseia em documentações detalhadas e extensas (perde-se sincroni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sempre que necessá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entários padroniz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gramação Pareada ajuda muit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90E7-14E2-4BD3-89AA-EAFCD3D003A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gramação Paread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657080"/>
            <a:ext cx="91440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rro de um detectado imediatamente pelo outro (grande economia de tempo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ior diversidade de idéias, técnicas, algoritm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quanto um escreve, o outro pensa em contra-exemplos, problemas de eficiência, etc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ergonha de escrever código feio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gambiarra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 na frente do seu p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eamento de acordo com especial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x.: Sistema Multimídia Orientado a Obje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03F7-5606-4D18-A161-2064863EE65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opriedade Coletiv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do Códig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4582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odelo tradicional: só autor de uma função pode modificá-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: o código pertence a to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alguém identifica uma oportunidade para simplificar, consertar ou melhorar código escrito por outra pessoa, que o faç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rode os test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FDA2-284A-4F50-B395-C45A1A49415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Refatoramento</a:t>
            </a:r>
            <a:br>
              <a:rPr sz="4000"/>
            </a:b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(Refactoring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ma [pequena] modificação no sistema que não altera o seu comportamento fun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que melhora alguma qualidade não-funcion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mplic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lexib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are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empen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3B57-A313-4EFA-A7E1-D56C506B6C1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xemplos de Refatorament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nça do nome de variá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nças nas interfaces dos obje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quenas mudanças arquitetur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capsular código repetido em um novo méto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neralização de méto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aizQuadrada(float x)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raiz(float x, int 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BCBE8-0339-4B20-A099-D3FDFACF382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lien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6868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sponsável por escrever “história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itas vezes é um programador ou é representado por um programador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balha no mesmo espaço físico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vas versões são enviadas para produção todo mês (ou toda seman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do cliente é ess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equisitos mudam (e isso não é mau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81FF8-5FF8-4459-A049-13F7817F1FB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Coach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trein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geral, o mais experiente do gru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dentifica quem é bom no qu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Lembra a todos as regras do jogo (XP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ventualmente faz programação par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ão desenha arquitetura, apenas chama a atenção para oportunidades de melhor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u papel diminui à medida em que o time fica mais mad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861B-B517-40CA-9BED-B472A33CCE8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000000"/>
                </a:solidFill>
                <a:latin typeface="Arial Black"/>
              </a:rPr>
              <a:t>Tracker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(Acompanhador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“consciência”  do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leta estatísticas sobre o andamento do projeto. Alguns exempl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úmero de historias definidas e implement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úmero d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unit tes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úmero de testes funcionais definidos e funcionan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úmero de classes, métodos, linhas de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ntém histórico do progress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z estimativas para 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674F-8B7F-426E-A761-5986BE098A6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885680"/>
            <a:ext cx="899172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não aceita as regras do jo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liente quer uma especificação detalhada do sistema antes de começ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s programadores não estão dispostos a seguir (todas) as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(quase) todos os programadores do time são medíoc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C70FE-6A8F-448D-8EC4-CE2E2393FC2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Quando XP Não Deve Ser Experimentad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rupos grandes (&gt;10 programador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feedback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rápido não é possíve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istema demora 6h para compil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 demoram 12h  para roda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igência de certificação que demora mes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o custo de mudanças é essencialmente exponenc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ando não é possível realizar testes (muito rar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E7B16-ADC3-411D-8471-61FA3BBC1D4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 Black"/>
              </a:rPr>
              <a:t>Reações a X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guns odeiam, outros am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Quem gosta de programar am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ixa o bom programador livre para fazer o que ele faria se não houvesse regr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orça o [mau] programador a se comportar de uma forma similar ao bom programad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1F0C-D61E-4BC8-9A18-069CF0FBF01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Vencendo os Medo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86104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códig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de idé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r em frente sem saber tudo sobre o futu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fiar em outras pesso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udar a arquitetura de um sistema em funcionam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crever test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C72F3-7F15-46A0-AC36-5DEFBD000490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As 12 Práticas de XP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versão 2000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ej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ses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en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áf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es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fator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gramação Pare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priedade Cole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tegração Contínu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mana de 40 h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liente junto aos desenvolved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01480" indent="-501480">
              <a:spcBef>
                <a:spcPts val="700"/>
              </a:spcBef>
              <a:buClr>
                <a:srgbClr val="ffcc00"/>
              </a:buClr>
              <a:buSzPct val="7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dronização do cód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7D34-6CFC-4BE4-9AEA-4D50A2F0E65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áticas de X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s práticas foram refatoradas</a:t>
            </a:r>
            <a:br>
              <a:rPr sz="32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veja www.extremeprogramming.org/rules.htm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s a idéia é exatamente a mes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ovas práticas interessan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serte XP quando a metodologia quebr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ova as pesso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lient Proxy (by Kla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37A6-E75E-442E-BAB2-25188D28C0D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Conclusã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XP não é para todo mu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todo mundo pode aprender com el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DF79-B409-44F0-89DE-C801CD05D03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iores 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forma</a:t>
            </a: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çõ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5320" y="1885680"/>
            <a:ext cx="8483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f. Dr. Fabio Kon           kon@ime.usp.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f. Dr. Alfredo Goldman  gold@ime.usp.b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kon/pres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ime.usp.br/~x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xispe.com.br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ww.extremeprogramming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205D-BA70-48A7-AF93-C425FFD884BC}" type="slidenum">
              <a:t>34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Modelo Tradicional de Desenvolviment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0. Levantamento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1. Análise de Requisi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2. Desenho da Arquite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3. Implement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4. Te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5. Produção / Manuten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D7D1D-73A5-480B-B1E7-0AFCCDDED7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Premissas Básicas do Modelo Tradicion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a análise de requisitos profunda e detalhada antes de projetar a arquitetura do sistem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fazer um estudo minucioso e elaborar uma descrição detalhada da arquitetura antes de começar a implementá-l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Tahoma"/>
              </a:rPr>
              <a:t>É necessário testar o sistema completamente antes de mandar a versão final para o client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154CC-CDEB-46B5-AE72-D202572AFF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O que está por trás deste modelo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-2728800" y="-915120"/>
            <a:ext cx="101962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21" y="0"/>
                </a:moveTo>
                <a:arcTo wR="10800" hR="10800" stAng="-5424988" swAng="5424988"/>
                <a:lnTo>
                  <a:pt x="10800" y="10800"/>
                </a:lnTo>
                <a:close/>
              </a:path>
              <a:path fill="none" w="21600" h="21600">
                <a:moveTo>
                  <a:pt x="10721" y="0"/>
                </a:moveTo>
                <a:arcTo wR="10800" hR="10800" stAng="-5424988" swAng="5424988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623520" y="328284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8560" y="5257800"/>
            <a:ext cx="50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quisitos       desenho                   te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40360" y="5562720"/>
            <a:ext cx="55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álise         implementação   p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FF46-789E-418D-A65C-A31056AD5B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a realidade hoje em dia fosse outra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81080" y="1828440"/>
            <a:ext cx="0" cy="350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05520"/>
            <a:ext cx="6400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-623520" y="3282840"/>
            <a:ext cx="31449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usto de mudanç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5257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86000" y="4267080"/>
            <a:ext cx="106675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D011-7C79-4CD1-8008-83DBD21BF6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se essa fosse a realidad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atitude dos desenvolvedores de software seria completamente difere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omaríamos as grandes decisões o mais tarde possí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mplementaríamos agora somente o que precisamos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ago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implementaríamos flexibilidade desnecessária (não anteciparíamos necessidad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9ED7-2E01-4953-B5AE-577D80D679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 Black"/>
              </a:rPr>
              <a:t>E essa é a nova realidade !</a:t>
            </a:r>
            <a:br>
              <a:rPr sz="4000"/>
            </a:br>
            <a:r>
              <a:rPr b="0" lang="pt-BR" sz="3200" spc="-1" strike="noStrike">
                <a:solidFill>
                  <a:srgbClr val="000000"/>
                </a:solidFill>
                <a:latin typeface="Arial Black"/>
              </a:rPr>
              <a:t>(pelo menos em muitos casos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Orientação a Objet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facilita e cria oportunidades para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écnicas de Refatoramento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estes automatizado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nos dão segurança quando fazemos mudanç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Prática / cultura de mudança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 aprendemos técnicas e adquirimos experiência em lidar com código muta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COOP'99 OOOS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3B58-3614-44EB-90FB-3580269179B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21:07:07Z</dcterms:created>
  <dc:creator>srg user</dc:creator>
  <dc:description/>
  <dc:language>en-US</dc:language>
  <cp:lastModifiedBy>Gary Burton</cp:lastModifiedBy>
  <cp:lastPrinted>1999-06-03T16:24:05Z</cp:lastPrinted>
  <dcterms:modified xsi:type="dcterms:W3CDTF">2002-11-25T18:54:20Z</dcterms:modified>
  <cp:revision>272</cp:revision>
  <dc:subject/>
  <dc:title>No Slide Title</dc:title>
</cp:coreProperties>
</file>