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725A-4D66-4256-9AF6-E5CA7855D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osts Fixos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- Interconectados por uma rede fixa, de alta velocidade e para alguns protocolos necessita ser confiá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osts Móveis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- Equipamentos com suporte a mobilidade, comunicam-se através de um canal sem fio pouco confiável, com  baixo poder de processamento. Podem estar ativos ou inativ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rvidores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Equipamentos que provêem a hosts móveis e fixos, serviços específicos da aplic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élula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- Área geográfica atendida por um M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Handoff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 Operação de mudança de cél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RDP será usado para operações de consulta e assinatura em bases de dados no contexto do SI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52D-CA67-42B3-939D-588CE5C4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AE2-0A3C-45D5-82FF-38802A35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BE3-47C4-42BA-912F-7FFC138E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0BF-63F2-4B34-AF97-29B8A7FE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F97B-09D8-4CA2-B04B-F27778FD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6313-A2B2-443F-B9C6-CD95B1C7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9681-8C73-4FE7-B394-C91BD750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7214-21C1-47A0-9BB5-05D23706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4B38-0EC2-490B-8819-716E4EC6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1B80-9B7F-4F41-947E-37534046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AA63-9DE3-459A-8EEF-3C9E3A4C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587-6632-4742-A2B3-D0B48A04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50E0-88DA-4A9A-AFD8-1F768375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4A2E-3656-481A-91AC-01FE1250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0617-AA38-4429-80B3-44032F9B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20BE-741E-45EF-95AC-0970728D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FB69-D0A5-4009-9493-4907899D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CE8-4DA6-4D62-AFDE-BE756EA5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4DC-A892-4875-8289-31D501A2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DF2-022A-4EDB-BE34-072580E8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E82-4EE8-4C85-B52C-29F37745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4B2-AB2F-4C30-9D76-17781CCD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D28-B9E5-4DE8-856B-936AAAD7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6EA-E3C0-420B-BB1B-C00AA418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4440" y="6305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3220-368E-4017-A655-A7411B607A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283F-2EBA-49F4-8316-2D5F65F698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Protocolos para entrega de mensagens unicast em redes móve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28440" y="3885840"/>
            <a:ext cx="67057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Weslley Emmanuel Martins Lim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weslley@ime.usp.b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E3CD-87E2-4E0E-AC21-DBE0DAD569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uncionamento do Mobile I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ruturas de D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localD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Mh possui um único origM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Mh pode migrar entre vários Mss’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ada migração, a localização do Mh é atualizada no origM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a mensagem enviada a um Mh é encaminhada ao seu origM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6400800" y="6172200"/>
            <a:ext cx="1371600" cy="387360"/>
          </a:xfrm>
          <a:custGeom>
            <a:avLst/>
            <a:gdLst>
              <a:gd name="textAreaLeft" fmla="*/ 42840 w 1371600"/>
              <a:gd name="textAreaRight" fmla="*/ 1328760 w 1371600"/>
              <a:gd name="textAreaTop" fmla="*/ 42840 h 387360"/>
              <a:gd name="textAreaBottom" fmla="*/ 344520 h 387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4042" y="2390"/>
                </a:lnTo>
                <a:lnTo>
                  <a:pt x="2390" y="239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4042" y="19210"/>
                </a:lnTo>
                <a:lnTo>
                  <a:pt x="74042" y="239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2390" y="19210"/>
                </a:lnTo>
                <a:lnTo>
                  <a:pt x="74042" y="1921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2390" y="2390"/>
                </a:lnTo>
                <a:lnTo>
                  <a:pt x="2390" y="1921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e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BE4-8732-4DCF-BA90-D1954D11E9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Snapsho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o na noção de “snapshots” distribuí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ântica “pelo menos uma vez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ita que a mensagem seja guardada em todos os Mss’s até a confirmação de recebimento da mensagem pelo M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79C-3480-427B-8FBB-BE9346BF6C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Snapsho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d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rede é um grafo conexo e direcion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nais FIFO uni-direciona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Mss conhece os Mh’s loca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canal de entrada possui um estado associado:OPEN, FLUS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migração dos Mh’s é limitada aos ca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755-6683-46F1-8D71-2DF439F818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4267080"/>
            <a:ext cx="1119240" cy="10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132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57440" y="347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16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50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8000" y="4648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500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080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7960" y="4343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79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F24-6D32-479F-8797-59FB64B920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4267080"/>
            <a:ext cx="1119240" cy="10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163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57440" y="347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16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50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8000" y="4648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500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2080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7960" y="4343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340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79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1800" y="2362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52680" y="2610000"/>
            <a:ext cx="245880" cy="582480"/>
          </a:xfrm>
          <a:custGeom>
            <a:avLst/>
            <a:gdLst/>
            <a:ahLst/>
            <a:rect l="l" t="t" r="r" b="b"/>
            <a:pathLst>
              <a:path w="155" h="367">
                <a:moveTo>
                  <a:pt x="0" y="0"/>
                </a:moveTo>
                <a:cubicBezTo>
                  <a:pt x="19" y="21"/>
                  <a:pt x="96" y="62"/>
                  <a:pt x="122" y="123"/>
                </a:cubicBezTo>
                <a:cubicBezTo>
                  <a:pt x="148" y="184"/>
                  <a:pt x="148" y="316"/>
                  <a:pt x="155" y="36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81280" y="4110120"/>
            <a:ext cx="6634080" cy="1939680"/>
          </a:xfrm>
          <a:custGeom>
            <a:avLst/>
            <a:gdLst/>
            <a:ahLst/>
            <a:rect l="l" t="t" r="r" b="b"/>
            <a:pathLst>
              <a:path w="4179" h="1222">
                <a:moveTo>
                  <a:pt x="0" y="144"/>
                </a:moveTo>
                <a:lnTo>
                  <a:pt x="989" y="1222"/>
                </a:lnTo>
                <a:lnTo>
                  <a:pt x="1456" y="1188"/>
                </a:lnTo>
                <a:lnTo>
                  <a:pt x="2534" y="233"/>
                </a:lnTo>
                <a:lnTo>
                  <a:pt x="4179" y="233"/>
                </a:lnTo>
                <a:lnTo>
                  <a:pt x="4179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200" y="51814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forward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09E-EECB-4774-8AF3-DE54E3C0A5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33440" y="4297320"/>
            <a:ext cx="10954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198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578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16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50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8000" y="4648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500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2080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7960" y="4343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340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79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3298680"/>
            <a:ext cx="941400" cy="422280"/>
          </a:xfrm>
          <a:custGeom>
            <a:avLst/>
            <a:gdLst/>
            <a:ahLst/>
            <a:rect l="l" t="t" r="r" b="b"/>
            <a:pathLst>
              <a:path w="593" h="266">
                <a:moveTo>
                  <a:pt x="593" y="266"/>
                </a:moveTo>
                <a:lnTo>
                  <a:pt x="593" y="0"/>
                </a:lnTo>
                <a:lnTo>
                  <a:pt x="4" y="0"/>
                </a:lnTo>
                <a:lnTo>
                  <a:pt x="0" y="178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99720" y="29098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4E2-2CEC-4EE6-8FA5-20708311FD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3440" y="4297320"/>
            <a:ext cx="10954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231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78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16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50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836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5000" y="2895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1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7960" y="4343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6340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79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298680"/>
            <a:ext cx="941400" cy="422280"/>
          </a:xfrm>
          <a:custGeom>
            <a:avLst/>
            <a:gdLst/>
            <a:ahLst/>
            <a:rect l="l" t="t" r="r" b="b"/>
            <a:pathLst>
              <a:path w="593" h="266">
                <a:moveTo>
                  <a:pt x="593" y="266"/>
                </a:moveTo>
                <a:lnTo>
                  <a:pt x="593" y="0"/>
                </a:lnTo>
                <a:lnTo>
                  <a:pt x="4" y="0"/>
                </a:lnTo>
                <a:lnTo>
                  <a:pt x="0" y="178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99720" y="29098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197-2A1C-419D-B734-901420CF90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33440" y="4297320"/>
            <a:ext cx="10954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264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578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1680" y="2590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536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7836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53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21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7960" y="4343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3400" y="251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6868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3298680"/>
            <a:ext cx="941400" cy="422280"/>
          </a:xfrm>
          <a:custGeom>
            <a:avLst/>
            <a:gdLst/>
            <a:ahLst/>
            <a:rect l="l" t="t" r="r" b="b"/>
            <a:pathLst>
              <a:path w="593" h="266">
                <a:moveTo>
                  <a:pt x="593" y="266"/>
                </a:moveTo>
                <a:lnTo>
                  <a:pt x="593" y="0"/>
                </a:lnTo>
                <a:lnTo>
                  <a:pt x="4" y="0"/>
                </a:lnTo>
                <a:lnTo>
                  <a:pt x="0" y="178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99720" y="29098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1A4-A593-4638-9244-2B1D71B65F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en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"/>
          <p:cNvSpPr/>
          <p:nvPr/>
        </p:nvSpPr>
        <p:spPr>
          <a:xfrm>
            <a:off x="13986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35320" y="5194440"/>
            <a:ext cx="1003320" cy="67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35320" y="182880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35320" y="362412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160360" y="2278080"/>
            <a:ext cx="107460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382840" y="395604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6800" y="4297320"/>
            <a:ext cx="0" cy="89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736800" y="2501640"/>
            <a:ext cx="0" cy="11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33440" y="4297320"/>
            <a:ext cx="10954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38640" y="2278080"/>
            <a:ext cx="1168560" cy="13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057720" y="3624120"/>
            <a:ext cx="1684080" cy="673200"/>
            <a:chOff x="6057720" y="3624120"/>
            <a:chExt cx="1684080" cy="673200"/>
          </a:xfrm>
        </p:grpSpPr>
        <p:sp>
          <p:nvSpPr>
            <p:cNvPr id="297" name=""/>
            <p:cNvSpPr/>
            <p:nvPr/>
          </p:nvSpPr>
          <p:spPr>
            <a:xfrm>
              <a:off x="6739920" y="3624120"/>
              <a:ext cx="1001880" cy="67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Mss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057720" y="3909240"/>
              <a:ext cx="66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056200" y="3624120"/>
            <a:ext cx="100188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238640" y="4297320"/>
            <a:ext cx="116856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238280" y="3946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72556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3800" y="2838600"/>
            <a:ext cx="668160" cy="785520"/>
          </a:xfrm>
          <a:custGeom>
            <a:avLst/>
            <a:gdLst/>
            <a:ahLst/>
            <a:rect l="l" t="t" r="r" b="b"/>
            <a:pathLst>
              <a:path w="576" h="504">
                <a:moveTo>
                  <a:pt x="0" y="72"/>
                </a:moveTo>
                <a:cubicBezTo>
                  <a:pt x="168" y="36"/>
                  <a:pt x="336" y="0"/>
                  <a:pt x="432" y="72"/>
                </a:cubicBezTo>
                <a:cubicBezTo>
                  <a:pt x="528" y="144"/>
                  <a:pt x="552" y="432"/>
                  <a:pt x="576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578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2040" y="2590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536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836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53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21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8680" y="4343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3760" y="2514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868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120" y="5410080"/>
            <a:ext cx="2236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-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1120" y="2930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00240" y="2616120"/>
            <a:ext cx="628560" cy="355680"/>
          </a:xfrm>
          <a:custGeom>
            <a:avLst/>
            <a:gdLst/>
            <a:ahLst/>
            <a:rect l="l" t="t" r="r" b="b"/>
            <a:pathLst>
              <a:path w="396" h="224">
                <a:moveTo>
                  <a:pt x="396" y="224"/>
                </a:moveTo>
                <a:cubicBezTo>
                  <a:pt x="344" y="144"/>
                  <a:pt x="318" y="64"/>
                  <a:pt x="252" y="32"/>
                </a:cubicBezTo>
                <a:cubicBezTo>
                  <a:pt x="186" y="0"/>
                  <a:pt x="52" y="30"/>
                  <a:pt x="0" y="3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39080" y="371628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24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15200" y="3298680"/>
            <a:ext cx="941400" cy="422280"/>
          </a:xfrm>
          <a:custGeom>
            <a:avLst/>
            <a:gdLst/>
            <a:ahLst/>
            <a:rect l="l" t="t" r="r" b="b"/>
            <a:pathLst>
              <a:path w="593" h="266">
                <a:moveTo>
                  <a:pt x="593" y="266"/>
                </a:moveTo>
                <a:lnTo>
                  <a:pt x="593" y="0"/>
                </a:lnTo>
                <a:lnTo>
                  <a:pt x="4" y="0"/>
                </a:lnTo>
                <a:lnTo>
                  <a:pt x="0" y="178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99720" y="29098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E7D-B41C-418A-AD5D-351D68D764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Snapsho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timiz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inserção de um vetor de estados em cada canal garante que múltiplas origens enviem mensagens simultane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E5C-BBC8-407D-9065-745D294BCB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nálise de  protocolos de entrega de mensag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DP - M. Endler, Dilma M. Silva e K. Oku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RDP - Alan M. Dur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bile IP - IET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napshot - Amy L. Murphy, Gian P. Picco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aração de funcionamento e requisitos: fatoração das características comu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nálise de adequação de cada protoco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ar um modelo para descrição de protocol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33E-471A-46BC-A934-E5D80C68C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Snapsho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472428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472428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00332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27432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895480" y="3276720"/>
            <a:ext cx="9986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5029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4495320" y="3276360"/>
            <a:ext cx="8384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1981080"/>
            <a:ext cx="835200" cy="67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4880" y="2130480"/>
            <a:ext cx="936720" cy="536400"/>
          </a:xfrm>
          <a:custGeom>
            <a:avLst/>
            <a:gdLst/>
            <a:ahLst/>
            <a:rect l="l" t="t" r="r" b="b"/>
            <a:pathLst>
              <a:path w="590" h="338">
                <a:moveTo>
                  <a:pt x="0" y="48"/>
                </a:moveTo>
                <a:cubicBezTo>
                  <a:pt x="123" y="12"/>
                  <a:pt x="218" y="0"/>
                  <a:pt x="316" y="48"/>
                </a:cubicBezTo>
                <a:cubicBezTo>
                  <a:pt x="414" y="96"/>
                  <a:pt x="533" y="278"/>
                  <a:pt x="590" y="33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3581280" y="5867280"/>
            <a:ext cx="1371600" cy="387360"/>
          </a:xfrm>
          <a:custGeom>
            <a:avLst/>
            <a:gdLst>
              <a:gd name="textAreaLeft" fmla="*/ 42840 w 1371600"/>
              <a:gd name="textAreaRight" fmla="*/ 1328760 w 1371600"/>
              <a:gd name="textAreaTop" fmla="*/ 42840 h 387360"/>
              <a:gd name="textAreaBottom" fmla="*/ 344520 h 387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4042" y="2390"/>
                </a:lnTo>
                <a:lnTo>
                  <a:pt x="2390" y="239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4042" y="19210"/>
                </a:lnTo>
                <a:lnTo>
                  <a:pt x="74042" y="239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2390" y="19210"/>
                </a:lnTo>
                <a:lnTo>
                  <a:pt x="74042" y="1921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2390" y="2390"/>
                </a:lnTo>
                <a:lnTo>
                  <a:pt x="2390" y="1921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e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5D8-582B-43E4-BECE-EFD8FDD8B7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cenarioRDP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3241800" y="6353280"/>
            <a:ext cx="838080" cy="380880"/>
          </a:xfrm>
          <a:custGeom>
            <a:avLst/>
            <a:gdLst>
              <a:gd name="textAreaLeft" fmla="*/ 34920 w 838080"/>
              <a:gd name="textAreaRight" fmla="*/ 803160 w 838080"/>
              <a:gd name="textAreaTop" fmla="*/ 34920 h 380880"/>
              <a:gd name="textAreaBottom" fmla="*/ 34596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5524" y="1980"/>
                </a:lnTo>
                <a:lnTo>
                  <a:pt x="1980" y="198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5524" y="19620"/>
                </a:lnTo>
                <a:lnTo>
                  <a:pt x="45524" y="198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980" y="19620"/>
                </a:lnTo>
                <a:lnTo>
                  <a:pt x="45524" y="1962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980" y="1980"/>
                </a:lnTo>
                <a:lnTo>
                  <a:pt x="1980" y="19620"/>
                </a:lnTo>
                <a:close/>
              </a:path>
              <a:path fill="darken" w="47504" h="21600">
                <a:moveTo>
                  <a:pt x="17178" y="7697"/>
                </a:moveTo>
                <a:lnTo>
                  <a:pt x="20469" y="7697"/>
                </a:lnTo>
                <a:lnTo>
                  <a:pt x="20469" y="12703"/>
                </a:lnTo>
                <a:cubicBezTo>
                  <a:pt x="20469" y="13569"/>
                  <a:pt x="21220" y="14255"/>
                  <a:pt x="22192" y="14255"/>
                </a:cubicBezTo>
                <a:lnTo>
                  <a:pt x="23752" y="14255"/>
                </a:lnTo>
                <a:cubicBezTo>
                  <a:pt x="24724" y="14255"/>
                  <a:pt x="25475" y="13569"/>
                  <a:pt x="25475" y="12703"/>
                </a:cubicBezTo>
                <a:lnTo>
                  <a:pt x="25475" y="7697"/>
                </a:lnTo>
                <a:lnTo>
                  <a:pt x="23752" y="7697"/>
                </a:lnTo>
                <a:lnTo>
                  <a:pt x="27043" y="4406"/>
                </a:lnTo>
                <a:lnTo>
                  <a:pt x="30489" y="7697"/>
                </a:lnTo>
                <a:lnTo>
                  <a:pt x="28766" y="7697"/>
                </a:lnTo>
                <a:lnTo>
                  <a:pt x="28766" y="12703"/>
                </a:lnTo>
                <a:cubicBezTo>
                  <a:pt x="28766" y="15300"/>
                  <a:pt x="26349" y="17701"/>
                  <a:pt x="23752" y="17701"/>
                </a:cubicBezTo>
                <a:lnTo>
                  <a:pt x="22192" y="17701"/>
                </a:lnTo>
                <a:cubicBezTo>
                  <a:pt x="19595" y="17701"/>
                  <a:pt x="17178" y="15300"/>
                  <a:pt x="17178" y="12703"/>
                </a:cubicBez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A70-5844-4954-8429-A0B200DC88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cenarioSRDP" descr=""/>
          <p:cNvPicPr/>
          <p:nvPr/>
        </p:nvPicPr>
        <p:blipFill>
          <a:blip r:embed="rId1"/>
          <a:stretch/>
        </p:blipFill>
        <p:spPr>
          <a:xfrm>
            <a:off x="171360" y="304920"/>
            <a:ext cx="8896320" cy="6248160"/>
          </a:xfrm>
          <a:prstGeom prst="rect">
            <a:avLst/>
          </a:prstGeom>
          <a:ln w="0">
            <a:noFill/>
          </a:ln>
        </p:spPr>
      </p:pic>
      <p:sp>
        <p:nvSpPr>
          <p:cNvPr id="337" name="">
            <a:hlinkClick r:id="" action="ppaction://hlinkshowjump?jump=previousslide"/>
          </p:cNvPr>
          <p:cNvSpPr/>
          <p:nvPr/>
        </p:nvSpPr>
        <p:spPr>
          <a:xfrm>
            <a:off x="1565280" y="6370560"/>
            <a:ext cx="838080" cy="381240"/>
          </a:xfrm>
          <a:custGeom>
            <a:avLst/>
            <a:gdLst>
              <a:gd name="textAreaLeft" fmla="*/ 34920 w 838080"/>
              <a:gd name="textAreaRight" fmla="*/ 803160 w 838080"/>
              <a:gd name="textAreaTop" fmla="*/ 34920 h 381240"/>
              <a:gd name="textAreaBottom" fmla="*/ 34632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5479" y="1980"/>
                </a:lnTo>
                <a:lnTo>
                  <a:pt x="1980" y="198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5479" y="19620"/>
                </a:lnTo>
                <a:lnTo>
                  <a:pt x="45479" y="198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980" y="19620"/>
                </a:lnTo>
                <a:lnTo>
                  <a:pt x="45479" y="1962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980" y="1980"/>
                </a:lnTo>
                <a:lnTo>
                  <a:pt x="1980" y="19620"/>
                </a:lnTo>
                <a:close/>
              </a:path>
              <a:path fill="darken" w="47459" h="21600">
                <a:moveTo>
                  <a:pt x="17155" y="7697"/>
                </a:moveTo>
                <a:lnTo>
                  <a:pt x="20446" y="7697"/>
                </a:lnTo>
                <a:lnTo>
                  <a:pt x="20446" y="12703"/>
                </a:lnTo>
                <a:cubicBezTo>
                  <a:pt x="20446" y="13569"/>
                  <a:pt x="21198" y="14255"/>
                  <a:pt x="22170" y="14255"/>
                </a:cubicBezTo>
                <a:lnTo>
                  <a:pt x="23729" y="14255"/>
                </a:lnTo>
                <a:cubicBezTo>
                  <a:pt x="24701" y="14255"/>
                  <a:pt x="25453" y="13569"/>
                  <a:pt x="25453" y="12703"/>
                </a:cubicBezTo>
                <a:lnTo>
                  <a:pt x="25453" y="7697"/>
                </a:lnTo>
                <a:lnTo>
                  <a:pt x="23729" y="7697"/>
                </a:lnTo>
                <a:lnTo>
                  <a:pt x="27021" y="4406"/>
                </a:lnTo>
                <a:lnTo>
                  <a:pt x="30467" y="7697"/>
                </a:lnTo>
                <a:lnTo>
                  <a:pt x="28744" y="7697"/>
                </a:lnTo>
                <a:lnTo>
                  <a:pt x="28744" y="12703"/>
                </a:lnTo>
                <a:cubicBezTo>
                  <a:pt x="28744" y="15300"/>
                  <a:pt x="26326" y="17701"/>
                  <a:pt x="23729" y="17701"/>
                </a:cubicBezTo>
                <a:lnTo>
                  <a:pt x="22170" y="17701"/>
                </a:lnTo>
                <a:cubicBezTo>
                  <a:pt x="19573" y="17701"/>
                  <a:pt x="17155" y="15300"/>
                  <a:pt x="17155" y="12703"/>
                </a:cubicBez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B38-ECB8-4A3E-9762-EF9934F871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cenarioIP" descr=""/>
          <p:cNvPicPr/>
          <p:nvPr/>
        </p:nvPicPr>
        <p:blipFill>
          <a:blip r:embed="rId1"/>
          <a:stretch/>
        </p:blipFill>
        <p:spPr>
          <a:xfrm>
            <a:off x="114480" y="304920"/>
            <a:ext cx="9029520" cy="624816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3241800" y="6353280"/>
            <a:ext cx="838080" cy="380880"/>
          </a:xfrm>
          <a:custGeom>
            <a:avLst/>
            <a:gdLst>
              <a:gd name="textAreaLeft" fmla="*/ 34920 w 838080"/>
              <a:gd name="textAreaRight" fmla="*/ 803160 w 838080"/>
              <a:gd name="textAreaTop" fmla="*/ 34920 h 380880"/>
              <a:gd name="textAreaBottom" fmla="*/ 34596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5524" y="1980"/>
                </a:lnTo>
                <a:lnTo>
                  <a:pt x="1980" y="198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5524" y="19620"/>
                </a:lnTo>
                <a:lnTo>
                  <a:pt x="45524" y="198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980" y="19620"/>
                </a:lnTo>
                <a:lnTo>
                  <a:pt x="45524" y="1962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980" y="1980"/>
                </a:lnTo>
                <a:lnTo>
                  <a:pt x="1980" y="19620"/>
                </a:lnTo>
                <a:close/>
              </a:path>
              <a:path fill="darken" w="47504" h="21600">
                <a:moveTo>
                  <a:pt x="17178" y="7697"/>
                </a:moveTo>
                <a:lnTo>
                  <a:pt x="20469" y="7697"/>
                </a:lnTo>
                <a:lnTo>
                  <a:pt x="20469" y="12703"/>
                </a:lnTo>
                <a:cubicBezTo>
                  <a:pt x="20469" y="13569"/>
                  <a:pt x="21220" y="14255"/>
                  <a:pt x="22192" y="14255"/>
                </a:cubicBezTo>
                <a:lnTo>
                  <a:pt x="23752" y="14255"/>
                </a:lnTo>
                <a:cubicBezTo>
                  <a:pt x="24724" y="14255"/>
                  <a:pt x="25475" y="13569"/>
                  <a:pt x="25475" y="12703"/>
                </a:cubicBezTo>
                <a:lnTo>
                  <a:pt x="25475" y="7697"/>
                </a:lnTo>
                <a:lnTo>
                  <a:pt x="23752" y="7697"/>
                </a:lnTo>
                <a:lnTo>
                  <a:pt x="27043" y="4406"/>
                </a:lnTo>
                <a:lnTo>
                  <a:pt x="30489" y="7697"/>
                </a:lnTo>
                <a:lnTo>
                  <a:pt x="28766" y="7697"/>
                </a:lnTo>
                <a:lnTo>
                  <a:pt x="28766" y="12703"/>
                </a:lnTo>
                <a:cubicBezTo>
                  <a:pt x="28766" y="15300"/>
                  <a:pt x="26349" y="17701"/>
                  <a:pt x="23752" y="17701"/>
                </a:cubicBezTo>
                <a:lnTo>
                  <a:pt x="22192" y="17701"/>
                </a:lnTo>
                <a:cubicBezTo>
                  <a:pt x="19595" y="17701"/>
                  <a:pt x="17178" y="15300"/>
                  <a:pt x="17178" y="12703"/>
                </a:cubicBez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ABD-5574-4462-8813-996DB47787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cenarioSnapshot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3241800" y="6353280"/>
            <a:ext cx="838080" cy="380880"/>
          </a:xfrm>
          <a:custGeom>
            <a:avLst/>
            <a:gdLst>
              <a:gd name="textAreaLeft" fmla="*/ 34920 w 838080"/>
              <a:gd name="textAreaRight" fmla="*/ 803160 w 838080"/>
              <a:gd name="textAreaTop" fmla="*/ 34920 h 380880"/>
              <a:gd name="textAreaBottom" fmla="*/ 34596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5524" y="1980"/>
                </a:lnTo>
                <a:lnTo>
                  <a:pt x="1980" y="198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5524" y="19620"/>
                </a:lnTo>
                <a:lnTo>
                  <a:pt x="45524" y="198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980" y="19620"/>
                </a:lnTo>
                <a:lnTo>
                  <a:pt x="45524" y="1962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980" y="1980"/>
                </a:lnTo>
                <a:lnTo>
                  <a:pt x="1980" y="19620"/>
                </a:lnTo>
                <a:close/>
              </a:path>
              <a:path fill="darken" w="47504" h="21600">
                <a:moveTo>
                  <a:pt x="17178" y="7697"/>
                </a:moveTo>
                <a:lnTo>
                  <a:pt x="20469" y="7697"/>
                </a:lnTo>
                <a:lnTo>
                  <a:pt x="20469" y="12703"/>
                </a:lnTo>
                <a:cubicBezTo>
                  <a:pt x="20469" y="13569"/>
                  <a:pt x="21220" y="14255"/>
                  <a:pt x="22192" y="14255"/>
                </a:cubicBezTo>
                <a:lnTo>
                  <a:pt x="23752" y="14255"/>
                </a:lnTo>
                <a:cubicBezTo>
                  <a:pt x="24724" y="14255"/>
                  <a:pt x="25475" y="13569"/>
                  <a:pt x="25475" y="12703"/>
                </a:cubicBezTo>
                <a:lnTo>
                  <a:pt x="25475" y="7697"/>
                </a:lnTo>
                <a:lnTo>
                  <a:pt x="23752" y="7697"/>
                </a:lnTo>
                <a:lnTo>
                  <a:pt x="27043" y="4406"/>
                </a:lnTo>
                <a:lnTo>
                  <a:pt x="30489" y="7697"/>
                </a:lnTo>
                <a:lnTo>
                  <a:pt x="28766" y="7697"/>
                </a:lnTo>
                <a:lnTo>
                  <a:pt x="28766" y="12703"/>
                </a:lnTo>
                <a:cubicBezTo>
                  <a:pt x="28766" y="15300"/>
                  <a:pt x="26349" y="17701"/>
                  <a:pt x="23752" y="17701"/>
                </a:cubicBezTo>
                <a:lnTo>
                  <a:pt x="22192" y="17701"/>
                </a:lnTo>
                <a:cubicBezTo>
                  <a:pt x="19595" y="17701"/>
                  <a:pt x="17178" y="15300"/>
                  <a:pt x="17178" y="12703"/>
                </a:cubicBezTo>
                <a:close/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D33-08DB-4980-86E3-EC8B4C6424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icro-Protocol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04920" y="1905120"/>
          <a:ext cx="7619760" cy="23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761976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217440" y="4613400"/>
            <a:ext cx="19364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R - R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S - SR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M - Mobil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Ss - Snap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8B3-4469-47EA-B01A-F9C9EC7F4E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57200" y="2057400"/>
          <a:ext cx="8115480" cy="29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1154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533520" y="5410080"/>
            <a:ext cx="1904760" cy="1015920"/>
          </a:xfrm>
          <a:prstGeom prst="rect">
            <a:avLst/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 - Possí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X -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9FF-B4E0-45B0-9DA9-1DAFCB33F1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struturas de Da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962000" y="1657440"/>
          <a:ext cx="4667400" cy="50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657440"/>
                    <a:ext cx="466740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E4D-19A6-4CCE-947B-84C033DE04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os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arcabouço para construção de protocolos de entrega de mensagens em redes móve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ção das mensagens comuns em componente(s) básico(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plagem transparente de mensagens adicionais.(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paração de protocolo de entrega e ordenação de mensagens (proxy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691-8825-4D89-BFB4-94B4CAC61A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est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istência do prox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xy vs. tabel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ção de qualquer protocolo com e sem proxy? (RDP, Snapsho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xy ~ serializaçao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nsagens comu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âmetros dife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qüências difer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99F-5D95-40CC-ADE6-1D151E9F4C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do Sist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stema composto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sts Móveis(M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sts Fix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rvi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élu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ig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3CB-7C03-48A1-87F9-452147AAEE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protocolo adaptativo para entrega de resultados em redes móve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o base comum com interface bás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torar diferenças em objetos distintos permitindo mudança dinâmica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***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ernativa: algoritmos com condicionai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pendência de algoritmo de avaliação da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os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897-43CD-40C3-B293-F3CCA43186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ferência Bibliográf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. Endler,Dilma M. Silva e K.Okuda.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Tahoma"/>
              </a:rPr>
              <a:t>RDP: A Result Delivery Protocol for Mobile Comput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an M. Durham.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Tahoma"/>
              </a:rPr>
              <a:t>A conectionless protocol for mobile agents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avid B. Johnson e David A. Maltz.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Tahoma"/>
              </a:rPr>
              <a:t>Protocols for Adaptative Wireless and Mobile Networking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my L. Murphy e Gian P. Picco.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Tahoma"/>
              </a:rPr>
              <a:t>Reliable Communication for Highly Mobile Agents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F12-2CB2-4183-9405-B970BC941A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do Sist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7981920" y="1447920"/>
            <a:ext cx="116208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odeloSistema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7240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3A5-D7E1-408B-BDEA-4C733CDAAE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85840" y="1981080"/>
          <a:ext cx="88009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981080"/>
                    <a:ext cx="88009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2280" y="457200"/>
            <a:ext cx="3581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uposiçõ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D4B-20F0-4320-8656-D8920C5C91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9154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RD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tocolo não orientado a conex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o no estilo de comunicação requisição/respos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rante a entrega confiável de mensagens a Hosts Móve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46E-2AD2-41B7-93FA-CD7D81115D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uncionamento do RD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teúdo do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urrentLo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quest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teúdo do Mss responsáve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e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505320" y="5715000"/>
            <a:ext cx="1371600" cy="457200"/>
          </a:xfrm>
          <a:custGeom>
            <a:avLst/>
            <a:gdLst>
              <a:gd name="textAreaLeft" fmla="*/ 44640 w 1371600"/>
              <a:gd name="textAreaRight" fmla="*/ 1326960 w 1371600"/>
              <a:gd name="textAreaTop" fmla="*/ 44640 h 457200"/>
              <a:gd name="textAreaBottom" fmla="*/ 41256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2645" y="2121"/>
                </a:lnTo>
                <a:lnTo>
                  <a:pt x="2121" y="2121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2645" y="19479"/>
                </a:lnTo>
                <a:lnTo>
                  <a:pt x="62645" y="2121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2121" y="19479"/>
                </a:lnTo>
                <a:lnTo>
                  <a:pt x="62645" y="19479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2121" y="2121"/>
                </a:lnTo>
                <a:lnTo>
                  <a:pt x="2121" y="1947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2D5-D465-45DC-B383-1818949130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SRD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tensão do R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rante entrega confiável mesmo em eventuais falhas da rede fix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 protocolo de Hando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o em noções 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eta de Lix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809880" y="6278400"/>
            <a:ext cx="1371600" cy="389160"/>
          </a:xfrm>
          <a:custGeom>
            <a:avLst/>
            <a:gdLst>
              <a:gd name="textAreaLeft" fmla="*/ 36360 w 1371600"/>
              <a:gd name="textAreaRight" fmla="*/ 1335240 w 1371600"/>
              <a:gd name="textAreaTop" fmla="*/ 36360 h 389160"/>
              <a:gd name="textAreaBottom" fmla="*/ 352800 h 389160"/>
            </a:gdLst>
            <a:ahLst/>
            <a:rect l="textAreaLeft" t="textAreaTop" r="textAreaRight" b="textAreaBottom"/>
            <a:pathLst>
              <a:path w="76079" h="21600">
                <a:moveTo>
                  <a:pt x="0" y="0"/>
                </a:moveTo>
                <a:lnTo>
                  <a:pt x="76079" y="0"/>
                </a:lnTo>
                <a:lnTo>
                  <a:pt x="76079" y="21600"/>
                </a:lnTo>
                <a:lnTo>
                  <a:pt x="0" y="21600"/>
                </a:lnTo>
                <a:close/>
              </a:path>
              <a:path fill="lightenLess" w="76079" h="21600">
                <a:moveTo>
                  <a:pt x="0" y="0"/>
                </a:moveTo>
                <a:lnTo>
                  <a:pt x="76079" y="0"/>
                </a:lnTo>
                <a:lnTo>
                  <a:pt x="74054" y="2025"/>
                </a:lnTo>
                <a:lnTo>
                  <a:pt x="2025" y="2025"/>
                </a:lnTo>
                <a:close/>
              </a:path>
              <a:path fill="darken" w="76079" h="21600">
                <a:moveTo>
                  <a:pt x="76079" y="0"/>
                </a:moveTo>
                <a:lnTo>
                  <a:pt x="76079" y="21600"/>
                </a:lnTo>
                <a:lnTo>
                  <a:pt x="74054" y="19575"/>
                </a:lnTo>
                <a:lnTo>
                  <a:pt x="74054" y="2025"/>
                </a:lnTo>
                <a:close/>
              </a:path>
              <a:path fill="darkenLess" w="76079" h="21600">
                <a:moveTo>
                  <a:pt x="76079" y="21600"/>
                </a:moveTo>
                <a:lnTo>
                  <a:pt x="0" y="21600"/>
                </a:lnTo>
                <a:lnTo>
                  <a:pt x="2025" y="19575"/>
                </a:lnTo>
                <a:lnTo>
                  <a:pt x="74054" y="19575"/>
                </a:lnTo>
                <a:close/>
              </a:path>
              <a:path fill="lighten" w="76079" h="21600">
                <a:moveTo>
                  <a:pt x="0" y="21600"/>
                </a:moveTo>
                <a:lnTo>
                  <a:pt x="0" y="0"/>
                </a:lnTo>
                <a:lnTo>
                  <a:pt x="2025" y="2025"/>
                </a:lnTo>
                <a:lnTo>
                  <a:pt x="2025" y="19575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B4D-1945-4F86-BEC8-638B2364C4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Mobile I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63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tocolo para roteamento de pacotes em redes móveis(Camada de Red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daptação para entrega de mensagens (Camada de Aplicaçã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assificação dos MSS’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SS de origem(origM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SS responsável(respM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utiliza a idéia de prox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396-078A-4B22-BB32-8287E80876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8:34:28Z</dcterms:created>
  <dc:creator>wmlima</dc:creator>
  <dc:description/>
  <dc:language>en-US</dc:language>
  <cp:lastModifiedBy>Weslley</cp:lastModifiedBy>
  <cp:lastPrinted>2001-10-10T00:47:01Z</cp:lastPrinted>
  <dcterms:modified xsi:type="dcterms:W3CDTF">2001-10-19T14:25:03Z</dcterms:modified>
  <cp:revision>91</cp:revision>
  <dc:subject/>
  <dc:title>Protocolos para entrega de mensagens unicast em redes móveis</dc:title>
</cp:coreProperties>
</file>