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B3766EF-9910-4A60-91AA-D1F5C636254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esentaç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uno de doutorado do IME/U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essor na rede priv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r que este problema é uma conseqüência exclusiva da computação móve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bilid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ixa banda de transmiss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m aviação, por exemplo, não é possível parar o computador móvel, como no caso dos carros e pedes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8A34-55E3-4C4C-964B-7E5F060A4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80DF-B3CD-4779-92D7-97C7C54A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1928-6570-4023-B891-92B5C5EAF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E9D0-CC2E-45F7-9BEE-E09CB89AE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3ECE-3428-43BE-AD12-43838C184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9FF3-1F82-4E0E-A70A-E2A7C9BA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8BB7-21E3-4469-B78F-A62A7CD0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709D-9BA3-4431-ADEF-45638B99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D540-2DF3-4B8D-A36C-8A5D4F24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4C77-7DB9-4C35-872A-C4D8F23C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1D6A-5AAA-47E4-96A0-DF2B4D0B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A354-23A1-4390-B321-8472D830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B2E9-8D47-401C-9772-2E8A163D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E8A6-05A5-40BE-A59E-634F5622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9DF4-6378-4158-AB9A-B74D7771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5EA4-9B78-4DB1-9D1F-AF557AE02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5135-4F2A-4474-8C40-E7DCDC87B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AD16-711A-41C4-AE96-4AADF53A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F22C-DFE8-400C-BAE4-23F71EE3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4A07-349C-4A5A-9C76-9C497C5C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4828-5C45-4938-B93C-C58CA0FD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CEB7-359F-4E51-9A29-5688DA07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EFE7-97AB-4914-BA4B-FE6116CB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A0AA-B12F-4AD9-BADC-7D0D1B6F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A213-916E-4327-981C-E4DEEEB4FF46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08F8-3FF8-4165-A900-29813F1B5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A3B8-EF32-4622-AEF4-D52108504100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A6AC-87BC-4C85-A33D-A94CB1C18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 Semântica de “aqui” Para Consultas em Sistemas Transacionais Móvei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gênio Akihiro Nas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62120" y="5486400"/>
            <a:ext cx="1520640" cy="396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543800" y="3657600"/>
            <a:ext cx="1168560" cy="1744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952880" y="5334120"/>
            <a:ext cx="1592280" cy="923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atores que influenciam a variação de “aqui”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oc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o de respo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BAC4-2B89-40D3-A35E-9DDD47B0312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F13B9A-0C62-4535-B2D7-87A2D8A4E266}" type="datetime1">
              <a:rPr lang="en-US"/>
              <a:t>07/30/26</a:t>
            </a:fld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álculo da Velocida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e ser fornecida a velocidade pelo sistema, através da leitura do velocíme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dos vindos do sistema, como a medição de velocidade da C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CF2D-B6D2-49D9-9E09-C7FEEB8578D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D2592D-5D27-44C7-B55C-4079FEF7ED9B}" type="datetime1">
              <a:rPr lang="en-US"/>
              <a:t>07/30/26</a:t>
            </a:fld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eria levar a infinitos destinos, se irrestr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 aplicação de referência, a mobilidade se restringe a um graf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ireção e sentid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597560" y="4262400"/>
            <a:ext cx="1809720" cy="1346400"/>
            <a:chOff x="4597560" y="4262400"/>
            <a:chExt cx="1809720" cy="1346400"/>
          </a:xfrm>
        </p:grpSpPr>
        <p:sp>
          <p:nvSpPr>
            <p:cNvPr id="186" name=""/>
            <p:cNvSpPr/>
            <p:nvPr/>
          </p:nvSpPr>
          <p:spPr>
            <a:xfrm>
              <a:off x="4597560" y="4633920"/>
              <a:ext cx="9504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645080" y="4452480"/>
              <a:ext cx="6760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11800" y="4395960"/>
              <a:ext cx="9540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02120" y="5167440"/>
              <a:ext cx="9540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69160" y="4262400"/>
              <a:ext cx="9504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64120" y="5519880"/>
              <a:ext cx="9540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883120" y="5281560"/>
              <a:ext cx="9540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635800" y="4338720"/>
              <a:ext cx="9504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11880" y="5148360"/>
              <a:ext cx="9540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54440" y="4700520"/>
              <a:ext cx="266760" cy="4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987800" y="4471920"/>
              <a:ext cx="371520" cy="67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68720" y="5234040"/>
              <a:ext cx="10476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5178600" y="5338800"/>
              <a:ext cx="7142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416560" y="4395600"/>
              <a:ext cx="22860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5702040" y="4424400"/>
              <a:ext cx="22860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5740560" y="4300200"/>
              <a:ext cx="266400" cy="6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35760" y="4329000"/>
              <a:ext cx="304560" cy="81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5997600" y="5205240"/>
              <a:ext cx="333360" cy="1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4" name=""/>
          <p:cNvGraphicFramePr/>
          <p:nvPr/>
        </p:nvGraphicFramePr>
        <p:xfrm>
          <a:off x="1828800" y="4267080"/>
          <a:ext cx="193356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4267080"/>
                    <a:ext cx="193356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C6A6-A8C1-4B3D-800E-364CFC3068F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8B05FC-6F61-4E15-8DE1-BB6C5DEFFA89}" type="datetime1">
              <a:rPr lang="en-US"/>
              <a:t>07/30/26</a:t>
            </a:fld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emp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nvolve várias compone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mpo de transmissão (Mh-M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mpo de localização do serv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mpo de execução da consul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mpo de localização do Mss corr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mpo de transmissão (Mss-M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u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8501-8BD2-4448-8534-29B50D13635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557BB2-F8FD-4610-9273-00B0C4445A34}" type="datetime1">
              <a:rPr lang="en-US"/>
              <a:t>07/30/26</a:t>
            </a:fld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mplementa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álculo do tempo: precisa ser estimado, levando em conta dados estatísticos dos sistemas de monitora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ocidade: consultada no velocímetro Posição: A partir dessas informações um ou vários vértices do graf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emos fornecer várias respostas possíve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D2BF-7F73-4693-A610-BB04B6F96A3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29708-142C-44FF-8C60-D7447B22D945}" type="datetime1">
              <a:rPr lang="en-US"/>
              <a:t>07/30/26</a:t>
            </a:fld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mplementa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pilador de consul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erifica se “aqui” faz parte da consul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 fizer, cria código para efetuar a consul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mplementação em Java, independente do Banco de D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erramentas: Byacc, Jflex,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es: script, semelhante ao Mob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FEBF-1732-499F-A719-F1FAAE00D42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5FEA20-444C-4B73-83DB-B2209978195A}" type="datetime1">
              <a:rPr lang="en-US"/>
              <a:t>07/30/26</a:t>
            </a:fld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mplementa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éias principa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ar a consulta, procurando p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q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não ocorrer o aqui, executa a consulta normal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ocorr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é-process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ós process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FFDC-BFB0-474C-9A72-2E9AA0A4908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C01C5A-9CD7-40E6-B4C9-D7F1904A43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osição Atual e Futur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mplementação Inici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a. Fase: Versão “Standalone”, para te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desenvolvimento. Término previsto para meados do 1o. Semestre/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2a. Fase: integraçã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3a. Fase: Finalização (tese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érmino esperado para 3/2002 (1 a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2053-2EB5-4184-930D-CFD1C0D52BE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AED2D7-ABDD-4E0A-8CF9-4C4F452A91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sultados esperad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finir as semânticas de “aqui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ste das semânticas do “aqui”, através da implement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sar o SIDAM como plataforma de teste, estendendo-o com uma nova ferram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ublicaçõ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F074-1848-4316-9700-032102FBCFD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881450-BF24-4DF7-8526-05392092C8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EUCONFUS" descr=""/>
          <p:cNvPicPr/>
          <p:nvPr/>
        </p:nvPicPr>
        <p:blipFill>
          <a:blip r:embed="rId1"/>
          <a:stretch/>
        </p:blipFill>
        <p:spPr>
          <a:xfrm>
            <a:off x="3643200" y="1430280"/>
            <a:ext cx="1857600" cy="399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F9A0-74FC-4330-BB82-85A540350522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CD18FF-7D92-44E9-9007-920D6DE5A5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udar os diversos valores possíveis para a variável “aqui” onde os usuários são móve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r a semântica correta para cada situ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ar essas semânticas implementando um pré-processador de consultas para o SID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4AEB-DA29-44E0-BCDE-A74E3639CF5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02688F-4F3A-4F2B-A402-61D10817DAB4}" type="datetime1">
              <a:rPr lang="en-US"/>
              <a:t>07/30/26</a:t>
            </a:fld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blemas Relacionad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ora” em bancos de d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ção é modificada através do tempo e espaço (mais uma dimensã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ltas a objetos móveis em G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 nosso caso, os usuários é que são móv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ão pretendemos armazenar informação sobre cada usuário no banco de 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9B3A-1A6A-4511-8B41-4BEB34EC9B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C2314B-B0BB-4C43-A59E-099C3AA62920}" type="datetime1">
              <a:rPr lang="en-US"/>
              <a:t>07/30/26</a:t>
            </a:fld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sultas Envolvendo “Aqui”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Úteis em sistemas de informação de trânsito, como na aplicação de referê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sul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rneça o restaurante chinês mais próximo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qui implíci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ualizações ou inclus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teceu um acidente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qui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u estou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qui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49A9-9EA5-4143-A963-68F39F710D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B3321B-59B5-41EA-AA8B-75F80683F33D}" type="datetime1">
              <a:rPr lang="en-US"/>
              <a:t>07/30/26</a:t>
            </a:fld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utras Aplicaçõ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amento aér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a tridimen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a veloc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ção de escritó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locidade baix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0C9D-D39D-4244-8C36-37128E001D3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BD0033-6319-47D9-9FC4-C352244C79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qui” Muda ??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do o usuário é móvel, mu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14400" y="3276720"/>
          <a:ext cx="955800" cy="26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276720"/>
                    <a:ext cx="95580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2666880" y="3276720"/>
            <a:ext cx="276480" cy="21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200400"/>
            <a:ext cx="324000" cy="276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35812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8680" y="2479680"/>
            <a:ext cx="134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ício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67080" y="2514600"/>
            <a:ext cx="357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ecebimento da respo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819160" y="3657240"/>
            <a:ext cx="2350440" cy="765000"/>
            <a:chOff x="2819160" y="3657240"/>
            <a:chExt cx="2350440" cy="765000"/>
          </a:xfrm>
        </p:grpSpPr>
        <p:sp>
          <p:nvSpPr>
            <p:cNvPr id="158" name=""/>
            <p:cNvSpPr/>
            <p:nvPr/>
          </p:nvSpPr>
          <p:spPr>
            <a:xfrm flipH="1" flipV="1">
              <a:off x="2819160" y="365724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47400" y="3962520"/>
              <a:ext cx="212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posta obti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0" name=""/>
          <p:cNvGraphicFramePr/>
          <p:nvPr/>
        </p:nvGraphicFramePr>
        <p:xfrm>
          <a:off x="5029200" y="3276720"/>
          <a:ext cx="955800" cy="26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3276720"/>
                    <a:ext cx="95580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2" name=""/>
          <p:cNvGrpSpPr/>
          <p:nvPr/>
        </p:nvGrpSpPr>
        <p:grpSpPr>
          <a:xfrm>
            <a:off x="6704640" y="3657240"/>
            <a:ext cx="2207520" cy="688680"/>
            <a:chOff x="6704640" y="3657240"/>
            <a:chExt cx="2207520" cy="688680"/>
          </a:xfrm>
        </p:grpSpPr>
        <p:sp>
          <p:nvSpPr>
            <p:cNvPr id="163" name=""/>
            <p:cNvSpPr/>
            <p:nvPr/>
          </p:nvSpPr>
          <p:spPr>
            <a:xfrm>
              <a:off x="6704640" y="3886200"/>
              <a:ext cx="220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posta corre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6933960" y="3657240"/>
              <a:ext cx="7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3549-E18C-47A7-8FB2-8CAE099E050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866D14-45BB-41D3-995B-2EB26E2C47C4}" type="datetime1">
              <a:rPr lang="en-US"/>
              <a:t>07/30/26</a:t>
            </a:fld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qui” Muda ??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666880" y="1676520"/>
          <a:ext cx="4772160" cy="41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676520"/>
                    <a:ext cx="4772160" cy="41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6781680" y="4648320"/>
            <a:ext cx="152640" cy="152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6552720" y="4266720"/>
            <a:ext cx="228600" cy="38124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6324120" y="3352680"/>
            <a:ext cx="228600" cy="9144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867280" y="3352680"/>
            <a:ext cx="457200" cy="3049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3352680"/>
            <a:ext cx="152280" cy="152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581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15000" y="3657600"/>
            <a:ext cx="152280" cy="152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A00C-572E-4482-B478-67557C14CEE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C51C62-B16F-453C-B329-41889A20DA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Diferentes Valores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</a:t>
            </a: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 “Aqui”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qui_i - quando a consulta é iniciada pelo usuá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qui_c - quando a consulta é encerrada no banco de dados (comm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qui_f - quando a resposta é recebida pelo usuá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B6FF-5DDD-46D5-9804-F73F10AB0B4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E75F57-23CB-4007-84DF-47DAD4DCAD42}" type="datetime1">
              <a:rPr lang="en-US"/>
              <a:t>07/30/26</a:t>
            </a:fld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sos dos diferentes valores de “aqui”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qui_i - atualizaçõ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ve um acident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qu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qui_c - atualizaçõ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 estou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qu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qui_f - consult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 o restaurante chinês mais próximo 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gênio A. Nas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51EF-E7DD-4CC7-A6FF-7E1BA516878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295180-01E1-4E84-BE43-4C4C174C9BAF}" type="datetime1">
              <a:rPr lang="en-US"/>
              <a:t>07/30/26</a:t>
            </a:fld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3T03:26:33Z</dcterms:created>
  <dc:creator>Eugênio Akihiro Nassu</dc:creator>
  <dc:description/>
  <dc:language>en-US</dc:language>
  <cp:lastModifiedBy>Eugênio Akihiro Nassu</cp:lastModifiedBy>
  <cp:lastPrinted>2001-01-11T02:08:52Z</cp:lastPrinted>
  <dcterms:modified xsi:type="dcterms:W3CDTF">2001-06-04T03:48:20Z</dcterms:modified>
  <cp:revision>26</cp:revision>
  <dc:subject/>
  <dc:title>A semântica de “aqui” em consultas em sistemas com usuários móveis</dc:title>
</cp:coreProperties>
</file>