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59C-DD34-4222-8CC5-4BDCFE0B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937-5544-46B8-B7E2-7F1019C6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06A-5C8F-49DD-B852-9523B499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625-8505-48AF-B92A-2FC8D1AF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3231-EF62-4435-89CC-DEA84E58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7E78-3B90-4373-BA68-2587BE7D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6A4A-2A0A-41B2-9DDD-68527D62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0E08-42F8-40DB-8FED-E93A3FBB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451E-971A-4DD8-8F0F-B727AE9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4A17-AE9B-430B-9579-8F1D3AF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206A-498D-4206-947A-15625B20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20A-6FA1-48E8-B298-82A9944F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5AD-F938-45EA-9ED5-40EFF58D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07F1-4776-441A-BBA9-14C409E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1B2D-C45F-4F64-9FBF-CB1693D8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C837-7BC9-4A32-9727-CABC59FF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A750-E108-4B0C-AA7D-0580D889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650-ABAE-41E6-82B5-3A392FCD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DF9-7F21-4906-AFAE-7824D4A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EAB-9C64-4966-8E52-40725DFC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8CF-6DDB-4B0F-B57D-098CF435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B2F-F0E4-4F59-AAAA-BC40AFC8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59F-B416-478E-8025-B21CE623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357-FBFB-45B4-A897-ADD7B55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AD38-EBF7-44B2-9038-76BEB7881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8983-87E9-450B-A10D-6D6BA4F9D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rquitetura do C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exandre Ricardo Nar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rdi@ime.usp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 - ID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mport "oaidl.idl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mport "ocidl.idl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objec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uid(B5F3E2FE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leautom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IAccount Interface"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inter_default(uniqu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terface IAccount : IUnkn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[propget, helpstring("property Balance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Balance([out, retval] double *pVa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propget, helpstring("property Name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Name([out, retval] BSTR *pVa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helpstring("method Deposit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Deposit([in] double amoun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helpstring("method Withdraw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Withdraw([in] double amoun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   objec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uid(B5F3E2FF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leautom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IAccountInit Interface"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inter_default(uniqu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terface IAccountInit : IUnkn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   const int E_INVALID_NAME = 0x8004020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helpstring("method Init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Init([in] BSTR 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 - ID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   objec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uid(B5F3E2FD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leautom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ICheckingAccount Interface"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inter_default(uniqu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terface ICheckingAccount : IAc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[helpstring("method WithdrawUsingCheck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WithdrawUsingCheck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in] long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heckNumber, [in] double amoun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   uuid(B5F3E2F0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ersion(1.0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ComCppServer 1.0 Type Library"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library COMCPPSERVERLi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mportlib("stdole32.tlb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mportlib("stdole2.tlb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   uuid(B5F3E300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Ch3CheckingAccount Class"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class CheckingAc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   interface IAccoun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terface IAccountIni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default] interface ICheckingAccoun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 IUnknow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e ser implementada por todo objeto 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éto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eryInterface: retorna um ponteiro para uma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dRef: quando um cliente recebe um interface pointer de outro cliente, o primeiro deve chamar este mé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lease: chamado por todo cliente, quando não precisar mais do 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 IUnknown - Exemp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905120"/>
            <a:ext cx="434340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OOL MyCheckingAccount::SetInterfaces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Unknown* pIUnknow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Reset all interface pointer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se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h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oid*   pInterfac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Query the IUnknown interface to get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ICheckingAccount interfa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pIUnknown-&gt;QueryInterface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D_ICheckingAccount, &amp;pInterfac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CheckingAccount 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CheckingAccount*)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Interfac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905120"/>
            <a:ext cx="457200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Query the ICheckingAccount interface to get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IAccount interfa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m_pICheckingAccount-&gt;QueryInterface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D_IAccount, &amp;pInterfac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Account = (IAccount*)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Interfac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Query the IAccount interface to get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IAccountInit interfa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m_pIAccount-&gt;QueryInterface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D_IAccountInit, &amp;pInterfac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AccountInit = (IAccountInit*)pInterfac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turn TR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ustom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 IDL suporta o tratamento de tipos simples (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long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...) e complexos (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rrays, struct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m todo ambiente de desenvolvimento suporta tipos complexos (VB, VJ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ustom interfaces são eficientes, tendo mapeamento direto em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vt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33720" y="2544840"/>
            <a:ext cx="6851520" cy="327636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Acessando um Objeto – Custom Interfac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200" y="2392200"/>
            <a:ext cx="10630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463760" y="2579760"/>
            <a:ext cx="609480" cy="152280"/>
            <a:chOff x="1463760" y="2579760"/>
            <a:chExt cx="609480" cy="152280"/>
          </a:xfrm>
        </p:grpSpPr>
        <p:sp>
          <p:nvSpPr>
            <p:cNvPr id="168" name=""/>
            <p:cNvSpPr/>
            <p:nvPr/>
          </p:nvSpPr>
          <p:spPr>
            <a:xfrm>
              <a:off x="1463760" y="257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16040" y="265572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32160" y="3089160"/>
            <a:ext cx="2819160" cy="2595960"/>
            <a:chOff x="2432160" y="3089160"/>
            <a:chExt cx="2819160" cy="2595960"/>
          </a:xfrm>
        </p:grpSpPr>
        <p:sp>
          <p:nvSpPr>
            <p:cNvPr id="171" name=""/>
            <p:cNvSpPr/>
            <p:nvPr/>
          </p:nvSpPr>
          <p:spPr>
            <a:xfrm>
              <a:off x="2432160" y="308916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32160" y="352872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32160" y="396684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2160" y="440496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32160" y="484632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2160" y="528624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95880" y="2620800"/>
            <a:ext cx="2819520" cy="2779920"/>
            <a:chOff x="6095880" y="2620800"/>
            <a:chExt cx="2819520" cy="2779920"/>
          </a:xfrm>
        </p:grpSpPr>
        <p:sp>
          <p:nvSpPr>
            <p:cNvPr id="178" name=""/>
            <p:cNvSpPr/>
            <p:nvPr/>
          </p:nvSpPr>
          <p:spPr>
            <a:xfrm>
              <a:off x="6095880" y="262080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QueryInterfac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309708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ddRef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357336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leas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95880" y="404928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epósit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452556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tirad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500184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Transferênci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249160" y="2990160"/>
            <a:ext cx="738720" cy="342000"/>
            <a:chOff x="5249160" y="2990160"/>
            <a:chExt cx="738720" cy="342000"/>
          </a:xfrm>
        </p:grpSpPr>
        <p:sp>
          <p:nvSpPr>
            <p:cNvPr id="185" name=""/>
            <p:cNvSpPr/>
            <p:nvPr/>
          </p:nvSpPr>
          <p:spPr>
            <a:xfrm rot="20349600">
              <a:off x="5269680" y="315108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454000" y="299016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55640" y="3475800"/>
            <a:ext cx="738360" cy="342000"/>
            <a:chOff x="5255640" y="3475800"/>
            <a:chExt cx="738360" cy="342000"/>
          </a:xfrm>
        </p:grpSpPr>
        <p:sp>
          <p:nvSpPr>
            <p:cNvPr id="188" name=""/>
            <p:cNvSpPr/>
            <p:nvPr/>
          </p:nvSpPr>
          <p:spPr>
            <a:xfrm rot="20349600">
              <a:off x="5276160" y="36367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460120" y="34758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5640" y="3933000"/>
            <a:ext cx="738360" cy="342000"/>
            <a:chOff x="5255640" y="3933000"/>
            <a:chExt cx="738360" cy="342000"/>
          </a:xfrm>
        </p:grpSpPr>
        <p:sp>
          <p:nvSpPr>
            <p:cNvPr id="191" name=""/>
            <p:cNvSpPr/>
            <p:nvPr/>
          </p:nvSpPr>
          <p:spPr>
            <a:xfrm rot="20349600">
              <a:off x="5276160" y="40939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460120" y="39330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55640" y="4390200"/>
            <a:ext cx="738360" cy="342000"/>
            <a:chOff x="5255640" y="4390200"/>
            <a:chExt cx="738360" cy="342000"/>
          </a:xfrm>
        </p:grpSpPr>
        <p:sp>
          <p:nvSpPr>
            <p:cNvPr id="194" name=""/>
            <p:cNvSpPr/>
            <p:nvPr/>
          </p:nvSpPr>
          <p:spPr>
            <a:xfrm rot="20349600">
              <a:off x="5276160" y="45511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460120" y="43902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255640" y="4771440"/>
            <a:ext cx="738720" cy="342000"/>
            <a:chOff x="5255640" y="4771440"/>
            <a:chExt cx="738720" cy="342000"/>
          </a:xfrm>
        </p:grpSpPr>
        <p:sp>
          <p:nvSpPr>
            <p:cNvPr id="197" name=""/>
            <p:cNvSpPr/>
            <p:nvPr/>
          </p:nvSpPr>
          <p:spPr>
            <a:xfrm rot="20349600">
              <a:off x="5276160" y="49323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460480" y="477144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255640" y="5228640"/>
            <a:ext cx="738720" cy="342000"/>
            <a:chOff x="5255640" y="5228640"/>
            <a:chExt cx="738720" cy="342000"/>
          </a:xfrm>
        </p:grpSpPr>
        <p:sp>
          <p:nvSpPr>
            <p:cNvPr id="200" name=""/>
            <p:cNvSpPr/>
            <p:nvPr/>
          </p:nvSpPr>
          <p:spPr>
            <a:xfrm rot="20349600">
              <a:off x="5276160" y="53895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460480" y="522864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089080" y="2540880"/>
            <a:ext cx="325440" cy="585000"/>
            <a:chOff x="2089080" y="2540880"/>
            <a:chExt cx="325440" cy="585000"/>
          </a:xfrm>
        </p:grpSpPr>
        <p:sp>
          <p:nvSpPr>
            <p:cNvPr id="203" name=""/>
            <p:cNvSpPr/>
            <p:nvPr/>
          </p:nvSpPr>
          <p:spPr>
            <a:xfrm rot="3910200">
              <a:off x="2113920" y="256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22280" y="2711160"/>
              <a:ext cx="192240" cy="41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413880" y="2662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imes New Roman"/>
              </a:rPr>
              <a:t>v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4760" y="5288040"/>
            <a:ext cx="1915200" cy="459720"/>
            <a:chOff x="104760" y="5288040"/>
            <a:chExt cx="1915200" cy="459720"/>
          </a:xfrm>
        </p:grpSpPr>
        <p:sp>
          <p:nvSpPr>
            <p:cNvPr id="207" name=""/>
            <p:cNvSpPr/>
            <p:nvPr/>
          </p:nvSpPr>
          <p:spPr>
            <a:xfrm>
              <a:off x="536040" y="528804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Unknow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4760" y="5416560"/>
              <a:ext cx="3808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utomation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lementação da interface IDispatch para suporte a invocação dinâmica de métodos, comum em ambientes interpretados (VBScript, JScrip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orte para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utomation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ficiência pelo menos 10x menor do que uso de custom interfa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33720" y="1828800"/>
            <a:ext cx="6851520" cy="49766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Acessando um Objeto – Automation Interfac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200" y="1676520"/>
            <a:ext cx="10630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63760" y="1863720"/>
            <a:ext cx="609480" cy="152280"/>
            <a:chOff x="1463760" y="1863720"/>
            <a:chExt cx="609480" cy="152280"/>
          </a:xfrm>
        </p:grpSpPr>
        <p:sp>
          <p:nvSpPr>
            <p:cNvPr id="215" name=""/>
            <p:cNvSpPr/>
            <p:nvPr/>
          </p:nvSpPr>
          <p:spPr>
            <a:xfrm>
              <a:off x="1463760" y="1863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16040" y="19396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32160" y="237348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2160" y="281304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2160" y="325116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2160" y="368928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2160" y="413064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2160" y="457056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2160" y="500868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95880" y="1905120"/>
            <a:ext cx="2819520" cy="4683600"/>
            <a:chOff x="6095880" y="1905120"/>
            <a:chExt cx="2819520" cy="4683600"/>
          </a:xfrm>
        </p:grpSpPr>
        <p:sp>
          <p:nvSpPr>
            <p:cNvPr id="225" name=""/>
            <p:cNvSpPr/>
            <p:nvPr/>
          </p:nvSpPr>
          <p:spPr>
            <a:xfrm>
              <a:off x="6095880" y="190512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QueryInterfac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5880" y="238140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ddRef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285768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leas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5880" y="333216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IDsOfNames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380844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TypeInf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428472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TypeInfoCount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476100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nvok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5880" y="523728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epósit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571356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tirad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5880" y="618984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Transferênci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49160" y="2274120"/>
            <a:ext cx="738360" cy="342000"/>
            <a:chOff x="5249160" y="2274120"/>
            <a:chExt cx="738360" cy="342000"/>
          </a:xfrm>
        </p:grpSpPr>
        <p:sp>
          <p:nvSpPr>
            <p:cNvPr id="236" name=""/>
            <p:cNvSpPr/>
            <p:nvPr/>
          </p:nvSpPr>
          <p:spPr>
            <a:xfrm rot="20349600">
              <a:off x="5269680" y="24350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453640" y="22741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255640" y="2760120"/>
            <a:ext cx="738720" cy="342000"/>
            <a:chOff x="5255640" y="2760120"/>
            <a:chExt cx="738720" cy="342000"/>
          </a:xfrm>
        </p:grpSpPr>
        <p:sp>
          <p:nvSpPr>
            <p:cNvPr id="239" name=""/>
            <p:cNvSpPr/>
            <p:nvPr/>
          </p:nvSpPr>
          <p:spPr>
            <a:xfrm rot="20349600">
              <a:off x="5276160" y="29210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60480" y="27601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255640" y="3217320"/>
            <a:ext cx="738720" cy="342000"/>
            <a:chOff x="5255640" y="3217320"/>
            <a:chExt cx="738720" cy="342000"/>
          </a:xfrm>
        </p:grpSpPr>
        <p:sp>
          <p:nvSpPr>
            <p:cNvPr id="242" name=""/>
            <p:cNvSpPr/>
            <p:nvPr/>
          </p:nvSpPr>
          <p:spPr>
            <a:xfrm rot="20349600">
              <a:off x="5276160" y="33782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460480" y="32173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5640" y="3674520"/>
            <a:ext cx="738720" cy="342000"/>
            <a:chOff x="5255640" y="3674520"/>
            <a:chExt cx="738720" cy="342000"/>
          </a:xfrm>
        </p:grpSpPr>
        <p:sp>
          <p:nvSpPr>
            <p:cNvPr id="245" name=""/>
            <p:cNvSpPr/>
            <p:nvPr/>
          </p:nvSpPr>
          <p:spPr>
            <a:xfrm rot="20349600">
              <a:off x="5276160" y="38354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460480" y="36745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55640" y="4055400"/>
            <a:ext cx="738720" cy="342000"/>
            <a:chOff x="5255640" y="4055400"/>
            <a:chExt cx="738720" cy="342000"/>
          </a:xfrm>
        </p:grpSpPr>
        <p:sp>
          <p:nvSpPr>
            <p:cNvPr id="248" name=""/>
            <p:cNvSpPr/>
            <p:nvPr/>
          </p:nvSpPr>
          <p:spPr>
            <a:xfrm rot="20349600">
              <a:off x="5276160" y="42163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460480" y="40554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255640" y="4512600"/>
            <a:ext cx="738720" cy="342000"/>
            <a:chOff x="5255640" y="4512600"/>
            <a:chExt cx="738720" cy="342000"/>
          </a:xfrm>
        </p:grpSpPr>
        <p:sp>
          <p:nvSpPr>
            <p:cNvPr id="251" name=""/>
            <p:cNvSpPr/>
            <p:nvPr/>
          </p:nvSpPr>
          <p:spPr>
            <a:xfrm rot="20349600">
              <a:off x="5276160" y="46735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460480" y="45126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255640" y="4969800"/>
            <a:ext cx="738720" cy="342000"/>
            <a:chOff x="5255640" y="4969800"/>
            <a:chExt cx="738720" cy="342000"/>
          </a:xfrm>
        </p:grpSpPr>
        <p:sp>
          <p:nvSpPr>
            <p:cNvPr id="254" name=""/>
            <p:cNvSpPr/>
            <p:nvPr/>
          </p:nvSpPr>
          <p:spPr>
            <a:xfrm rot="20349600">
              <a:off x="5276160" y="51307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60480" y="49698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089080" y="1824840"/>
            <a:ext cx="325440" cy="585000"/>
            <a:chOff x="2089080" y="1824840"/>
            <a:chExt cx="325440" cy="585000"/>
          </a:xfrm>
        </p:grpSpPr>
        <p:sp>
          <p:nvSpPr>
            <p:cNvPr id="257" name=""/>
            <p:cNvSpPr/>
            <p:nvPr/>
          </p:nvSpPr>
          <p:spPr>
            <a:xfrm rot="3910200">
              <a:off x="2113920" y="1849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22280" y="1995120"/>
              <a:ext cx="192240" cy="41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413880" y="1946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imes New Roman"/>
              </a:rPr>
              <a:t>v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04760" y="4572000"/>
            <a:ext cx="1915200" cy="459720"/>
            <a:chOff x="104760" y="4572000"/>
            <a:chExt cx="1915200" cy="459720"/>
          </a:xfrm>
        </p:grpSpPr>
        <p:sp>
          <p:nvSpPr>
            <p:cNvPr id="261" name=""/>
            <p:cNvSpPr/>
            <p:nvPr/>
          </p:nvSpPr>
          <p:spPr>
            <a:xfrm>
              <a:off x="536040" y="457200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Unknow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4760" y="4700520"/>
              <a:ext cx="3808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15920" y="4952880"/>
            <a:ext cx="1796760" cy="459720"/>
            <a:chOff x="115920" y="4952880"/>
            <a:chExt cx="1796760" cy="459720"/>
          </a:xfrm>
        </p:grpSpPr>
        <p:sp>
          <p:nvSpPr>
            <p:cNvPr id="264" name=""/>
            <p:cNvSpPr/>
            <p:nvPr/>
          </p:nvSpPr>
          <p:spPr>
            <a:xfrm>
              <a:off x="544680" y="495288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Dispat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5920" y="5081760"/>
              <a:ext cx="38088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8381880" y="51055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4520" y="51055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86800" y="5105520"/>
            <a:ext cx="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ual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orte para interfaces convencionais e de autom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imitação: deve utilizar apenas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utomation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133720" y="1828800"/>
            <a:ext cx="6851520" cy="49766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Acessando um Objeto – Dual Interfac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200" y="1676520"/>
            <a:ext cx="10630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463760" y="1863720"/>
            <a:ext cx="609480" cy="152280"/>
            <a:chOff x="1463760" y="1863720"/>
            <a:chExt cx="609480" cy="152280"/>
          </a:xfrm>
        </p:grpSpPr>
        <p:sp>
          <p:nvSpPr>
            <p:cNvPr id="275" name=""/>
            <p:cNvSpPr/>
            <p:nvPr/>
          </p:nvSpPr>
          <p:spPr>
            <a:xfrm>
              <a:off x="1463760" y="1863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16040" y="19396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432160" y="2373480"/>
            <a:ext cx="2818800" cy="4352400"/>
            <a:chOff x="2432160" y="2373480"/>
            <a:chExt cx="2818800" cy="4352400"/>
          </a:xfrm>
        </p:grpSpPr>
        <p:sp>
          <p:nvSpPr>
            <p:cNvPr id="278" name=""/>
            <p:cNvSpPr/>
            <p:nvPr/>
          </p:nvSpPr>
          <p:spPr>
            <a:xfrm>
              <a:off x="2432160" y="237348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32160" y="281268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32160" y="325188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2160" y="36896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32160" y="413028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32160" y="45698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2160" y="50090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2160" y="54482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32160" y="58874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32160" y="632700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95880" y="1905120"/>
            <a:ext cx="2819520" cy="4683600"/>
            <a:chOff x="6095880" y="1905120"/>
            <a:chExt cx="2819520" cy="4683600"/>
          </a:xfrm>
        </p:grpSpPr>
        <p:sp>
          <p:nvSpPr>
            <p:cNvPr id="289" name=""/>
            <p:cNvSpPr/>
            <p:nvPr/>
          </p:nvSpPr>
          <p:spPr>
            <a:xfrm>
              <a:off x="6095880" y="190512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QueryInterfac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5880" y="238140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ddRef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285768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leas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333216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IDsOfNames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5880" y="380844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TypeInf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5880" y="428472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TypeInfoCount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95880" y="476100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nvok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5880" y="523728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epósit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5880" y="571356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tirad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618984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Transferênci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249160" y="2274120"/>
            <a:ext cx="738360" cy="342000"/>
            <a:chOff x="5249160" y="2274120"/>
            <a:chExt cx="738360" cy="342000"/>
          </a:xfrm>
        </p:grpSpPr>
        <p:sp>
          <p:nvSpPr>
            <p:cNvPr id="300" name=""/>
            <p:cNvSpPr/>
            <p:nvPr/>
          </p:nvSpPr>
          <p:spPr>
            <a:xfrm rot="20349600">
              <a:off x="5269680" y="24350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453640" y="22741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255640" y="2760120"/>
            <a:ext cx="738720" cy="342000"/>
            <a:chOff x="5255640" y="2760120"/>
            <a:chExt cx="738720" cy="342000"/>
          </a:xfrm>
        </p:grpSpPr>
        <p:sp>
          <p:nvSpPr>
            <p:cNvPr id="303" name=""/>
            <p:cNvSpPr/>
            <p:nvPr/>
          </p:nvSpPr>
          <p:spPr>
            <a:xfrm rot="20349600">
              <a:off x="5276160" y="29210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460480" y="27601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255640" y="3217320"/>
            <a:ext cx="738720" cy="342000"/>
            <a:chOff x="5255640" y="3217320"/>
            <a:chExt cx="738720" cy="342000"/>
          </a:xfrm>
        </p:grpSpPr>
        <p:sp>
          <p:nvSpPr>
            <p:cNvPr id="306" name=""/>
            <p:cNvSpPr/>
            <p:nvPr/>
          </p:nvSpPr>
          <p:spPr>
            <a:xfrm rot="20349600">
              <a:off x="5276160" y="33782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460480" y="32173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55640" y="3674520"/>
            <a:ext cx="738720" cy="342000"/>
            <a:chOff x="5255640" y="3674520"/>
            <a:chExt cx="738720" cy="342000"/>
          </a:xfrm>
        </p:grpSpPr>
        <p:sp>
          <p:nvSpPr>
            <p:cNvPr id="309" name=""/>
            <p:cNvSpPr/>
            <p:nvPr/>
          </p:nvSpPr>
          <p:spPr>
            <a:xfrm rot="20349600">
              <a:off x="5276160" y="38354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460480" y="36745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255640" y="4055400"/>
            <a:ext cx="738720" cy="342000"/>
            <a:chOff x="5255640" y="4055400"/>
            <a:chExt cx="738720" cy="342000"/>
          </a:xfrm>
        </p:grpSpPr>
        <p:sp>
          <p:nvSpPr>
            <p:cNvPr id="312" name=""/>
            <p:cNvSpPr/>
            <p:nvPr/>
          </p:nvSpPr>
          <p:spPr>
            <a:xfrm rot="20349600">
              <a:off x="5276160" y="42163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460480" y="40554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255640" y="4512600"/>
            <a:ext cx="738720" cy="342000"/>
            <a:chOff x="5255640" y="4512600"/>
            <a:chExt cx="738720" cy="342000"/>
          </a:xfrm>
        </p:grpSpPr>
        <p:sp>
          <p:nvSpPr>
            <p:cNvPr id="315" name=""/>
            <p:cNvSpPr/>
            <p:nvPr/>
          </p:nvSpPr>
          <p:spPr>
            <a:xfrm rot="20349600">
              <a:off x="5276160" y="46735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460480" y="45126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255640" y="4969800"/>
            <a:ext cx="738720" cy="342000"/>
            <a:chOff x="5255640" y="4969800"/>
            <a:chExt cx="738720" cy="342000"/>
          </a:xfrm>
        </p:grpSpPr>
        <p:sp>
          <p:nvSpPr>
            <p:cNvPr id="318" name=""/>
            <p:cNvSpPr/>
            <p:nvPr/>
          </p:nvSpPr>
          <p:spPr>
            <a:xfrm rot="20349600">
              <a:off x="5276160" y="51307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460480" y="49698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250600" y="5470200"/>
            <a:ext cx="757440" cy="258120"/>
            <a:chOff x="5250600" y="5470200"/>
            <a:chExt cx="757440" cy="258120"/>
          </a:xfrm>
        </p:grpSpPr>
        <p:sp>
          <p:nvSpPr>
            <p:cNvPr id="321" name=""/>
            <p:cNvSpPr/>
            <p:nvPr/>
          </p:nvSpPr>
          <p:spPr>
            <a:xfrm rot="20759400">
              <a:off x="5266080" y="55551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453640" y="5470200"/>
              <a:ext cx="554400" cy="13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250600" y="5927400"/>
            <a:ext cx="757440" cy="258120"/>
            <a:chOff x="5250600" y="5927400"/>
            <a:chExt cx="757440" cy="258120"/>
          </a:xfrm>
        </p:grpSpPr>
        <p:sp>
          <p:nvSpPr>
            <p:cNvPr id="324" name=""/>
            <p:cNvSpPr/>
            <p:nvPr/>
          </p:nvSpPr>
          <p:spPr>
            <a:xfrm rot="20759400">
              <a:off x="5266080" y="60123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453640" y="5927400"/>
              <a:ext cx="554400" cy="13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250600" y="6384600"/>
            <a:ext cx="757440" cy="258120"/>
            <a:chOff x="5250600" y="6384600"/>
            <a:chExt cx="757440" cy="258120"/>
          </a:xfrm>
        </p:grpSpPr>
        <p:sp>
          <p:nvSpPr>
            <p:cNvPr id="327" name=""/>
            <p:cNvSpPr/>
            <p:nvPr/>
          </p:nvSpPr>
          <p:spPr>
            <a:xfrm rot="20759400">
              <a:off x="5266080" y="64695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453640" y="6384600"/>
              <a:ext cx="554400" cy="13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089080" y="1824840"/>
            <a:ext cx="325440" cy="585000"/>
            <a:chOff x="2089080" y="1824840"/>
            <a:chExt cx="325440" cy="585000"/>
          </a:xfrm>
        </p:grpSpPr>
        <p:sp>
          <p:nvSpPr>
            <p:cNvPr id="330" name=""/>
            <p:cNvSpPr/>
            <p:nvPr/>
          </p:nvSpPr>
          <p:spPr>
            <a:xfrm rot="3910200">
              <a:off x="2113920" y="1849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2280" y="1995120"/>
              <a:ext cx="192240" cy="41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413880" y="1946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imes New Roman"/>
              </a:rPr>
              <a:t>v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04760" y="4572000"/>
            <a:ext cx="1915200" cy="459720"/>
            <a:chOff x="104760" y="4572000"/>
            <a:chExt cx="1915200" cy="459720"/>
          </a:xfrm>
        </p:grpSpPr>
        <p:sp>
          <p:nvSpPr>
            <p:cNvPr id="334" name=""/>
            <p:cNvSpPr/>
            <p:nvPr/>
          </p:nvSpPr>
          <p:spPr>
            <a:xfrm>
              <a:off x="536040" y="457200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Unknow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760" y="4700520"/>
              <a:ext cx="3808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15920" y="4952880"/>
            <a:ext cx="1796760" cy="459720"/>
            <a:chOff x="115920" y="4952880"/>
            <a:chExt cx="1796760" cy="459720"/>
          </a:xfrm>
        </p:grpSpPr>
        <p:sp>
          <p:nvSpPr>
            <p:cNvPr id="337" name=""/>
            <p:cNvSpPr/>
            <p:nvPr/>
          </p:nvSpPr>
          <p:spPr>
            <a:xfrm>
              <a:off x="544680" y="495288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Dispat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920" y="5081760"/>
              <a:ext cx="38088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8381880" y="51055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34520" y="51055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686800" y="5105520"/>
            <a:ext cx="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sentar uma visão geral da infra-estrutura e funcionamento do COM, sem entrar em detalhes sobre os serviços oferecidos, como de transações, chamadas assíncronas,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tabelecer parâmetros que possibilitem comparação com o CORBA, assunto do seminário “COM ou CORBA 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Dados - Autom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5800" y="1981080"/>
          <a:ext cx="8153280" cy="4656240"/>
        </p:xfrm>
        <a:graphic>
          <a:graphicData uri="http://schemas.openxmlformats.org/drawingml/2006/table">
            <a:tbl>
              <a:tblPr/>
              <a:tblGrid>
                <a:gridCol w="2209680"/>
                <a:gridCol w="5943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 IDL 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iro de 16 bits co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iro de 32 bits co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em ponto flutuante com 32 b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em ponto flutuante com 64 b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T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ay com tamanho pré-fixado de caracteres de 2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_BO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 integer used to indicate true or fal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representando da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Unknow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eiro genérico para interf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ispatch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eiro para interface de autom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de todos os tipos de autom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FEARR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gerenciar arrays multi-dimensionais de tamanho variá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96920" y="914400"/>
            <a:ext cx="4267080" cy="5715000"/>
            <a:chOff x="196920" y="914400"/>
            <a:chExt cx="4267080" cy="5715000"/>
          </a:xfrm>
        </p:grpSpPr>
        <p:sp>
          <p:nvSpPr>
            <p:cNvPr id="345" name=""/>
            <p:cNvSpPr/>
            <p:nvPr/>
          </p:nvSpPr>
          <p:spPr>
            <a:xfrm>
              <a:off x="196920" y="914400"/>
              <a:ext cx="4267080" cy="571500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omputador 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9720" y="1306440"/>
              <a:ext cx="3942000" cy="318924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Processo 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6520" y="1712880"/>
              <a:ext cx="1474560" cy="1155600"/>
            </a:xfrm>
            <a:prstGeom prst="roundRect">
              <a:avLst>
                <a:gd name="adj" fmla="val 12347"/>
              </a:avLst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plica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52560" y="1420920"/>
              <a:ext cx="1495440" cy="1127160"/>
            </a:xfrm>
            <a:prstGeom prst="roundRect">
              <a:avLst>
                <a:gd name="adj" fmla="val 12361"/>
              </a:avLst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Servidor in-process (DLL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2516040" y="1569960"/>
              <a:ext cx="1438200" cy="430200"/>
              <a:chOff x="2516040" y="1569960"/>
              <a:chExt cx="1438200" cy="430200"/>
            </a:xfrm>
          </p:grpSpPr>
          <p:sp>
            <p:nvSpPr>
              <p:cNvPr id="350" name=""/>
              <p:cNvSpPr/>
              <p:nvPr/>
            </p:nvSpPr>
            <p:spPr>
              <a:xfrm>
                <a:off x="2850840" y="1569960"/>
                <a:ext cx="1103400" cy="430200"/>
              </a:xfrm>
              <a:prstGeom prst="roundRect">
                <a:avLst>
                  <a:gd name="adj" fmla="val 12287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ffff"/>
                    </a:solidFill>
                    <a:latin typeface="Arial"/>
                  </a:rPr>
                  <a:t>Objeto in-proces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2516040" y="1630800"/>
                <a:ext cx="344520" cy="126000"/>
                <a:chOff x="2516040" y="1630800"/>
                <a:chExt cx="344520" cy="126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516040" y="1630800"/>
                  <a:ext cx="136440" cy="126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646000" y="1690560"/>
                  <a:ext cx="214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516040" y="1868760"/>
                <a:ext cx="344520" cy="126000"/>
                <a:chOff x="2516040" y="1868760"/>
                <a:chExt cx="344520" cy="1260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516040" y="1868760"/>
                  <a:ext cx="136440" cy="126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646000" y="1928520"/>
                  <a:ext cx="214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 flipV="1">
              <a:off x="1981080" y="1712880"/>
              <a:ext cx="544680" cy="496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3080" y="761760"/>
            <a:ext cx="8458200" cy="75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                        Tipos de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                            Servi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58800" y="2870280"/>
            <a:ext cx="3505320" cy="3682800"/>
            <a:chOff x="658800" y="2870280"/>
            <a:chExt cx="3505320" cy="3682800"/>
          </a:xfrm>
        </p:grpSpPr>
        <p:grpSp>
          <p:nvGrpSpPr>
            <p:cNvPr id="360" name=""/>
            <p:cNvGrpSpPr/>
            <p:nvPr/>
          </p:nvGrpSpPr>
          <p:grpSpPr>
            <a:xfrm>
              <a:off x="658800" y="4948200"/>
              <a:ext cx="3505320" cy="1604880"/>
              <a:chOff x="658800" y="4948200"/>
              <a:chExt cx="3505320" cy="1604880"/>
            </a:xfrm>
          </p:grpSpPr>
          <p:sp>
            <p:nvSpPr>
              <p:cNvPr id="361" name=""/>
              <p:cNvSpPr/>
              <p:nvPr/>
            </p:nvSpPr>
            <p:spPr>
              <a:xfrm>
                <a:off x="658800" y="4948200"/>
                <a:ext cx="3505320" cy="160488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"/>
                  </a:rPr>
                  <a:t>Processo Servidor Loca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374920" y="5074920"/>
                <a:ext cx="1712880" cy="1157760"/>
              </a:xfrm>
              <a:prstGeom prst="roundRect">
                <a:avLst>
                  <a:gd name="adj" fmla="val 12361"/>
                </a:avLst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Servidor local (out-of-process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2106720" y="5144040"/>
                <a:ext cx="1460520" cy="592200"/>
                <a:chOff x="2106720" y="5144040"/>
                <a:chExt cx="1460520" cy="5922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441880" y="5144040"/>
                  <a:ext cx="1125360" cy="592200"/>
                </a:xfrm>
                <a:prstGeom prst="roundRect">
                  <a:avLst>
                    <a:gd name="adj" fmla="val 12287"/>
                  </a:avLst>
                </a:prstGeom>
                <a:solidFill>
                  <a:srgbClr val="ff00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ffffff"/>
                      </a:solidFill>
                      <a:latin typeface="Arial"/>
                    </a:rPr>
                    <a:t>Objeto Local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2106720" y="5272200"/>
                  <a:ext cx="344520" cy="129240"/>
                  <a:chOff x="2106720" y="5272200"/>
                  <a:chExt cx="344520" cy="1292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2106720" y="5272200"/>
                    <a:ext cx="136800" cy="129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238480" y="5333400"/>
                    <a:ext cx="21276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106720" y="5516280"/>
                  <a:ext cx="344520" cy="129240"/>
                  <a:chOff x="2106720" y="5516280"/>
                  <a:chExt cx="344520" cy="12924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106720" y="5516280"/>
                    <a:ext cx="136800" cy="129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238480" y="5577480"/>
                    <a:ext cx="21276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1" name=""/>
              <p:cNvSpPr/>
              <p:nvPr/>
            </p:nvSpPr>
            <p:spPr>
              <a:xfrm>
                <a:off x="773280" y="5061600"/>
                <a:ext cx="898560" cy="981360"/>
              </a:xfrm>
              <a:custGeom>
                <a:avLst/>
                <a:gdLst>
                  <a:gd name="textAreaLeft" fmla="*/ 32400 w 898560"/>
                  <a:gd name="textAreaRight" fmla="*/ 866160 w 898560"/>
                  <a:gd name="textAreaTop" fmla="*/ 32400 h 981360"/>
                  <a:gd name="textAreaBottom" fmla="*/ 948960 h 981360"/>
                </a:gdLst>
                <a:ahLst/>
                <a:rect l="textAreaLeft" t="textAreaTop" r="textAreaRight" b="textAreaBottom"/>
                <a:pathLst>
                  <a:path w="21600" h="23590">
                    <a:moveTo>
                      <a:pt x="2664" y="0"/>
                    </a:moveTo>
                    <a:arcTo wR="2664" hR="2664" stAng="16200000" swAng="-5400000"/>
                    <a:lnTo>
                      <a:pt x="0" y="20926"/>
                    </a:lnTo>
                    <a:arcTo wR="2664" hR="2664" stAng="10800000" swAng="-5400000"/>
                    <a:lnTo>
                      <a:pt x="18936" y="23590"/>
                    </a:lnTo>
                    <a:arcTo wR="2664" hR="2664" stAng="5400000" swAng="-5400000"/>
                    <a:lnTo>
                      <a:pt x="21600" y="2664"/>
                    </a:lnTo>
                    <a:arcTo wR="2664" hR="2664" stAng="0" swAng="-5400000"/>
                    <a:close/>
                  </a:path>
                </a:pathLst>
              </a:cu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87400" y="5208120"/>
                <a:ext cx="689040" cy="520200"/>
              </a:xfrm>
              <a:prstGeom prst="roundRect">
                <a:avLst>
                  <a:gd name="adj" fmla="val 12255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tu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560600" y="5337360"/>
                <a:ext cx="57456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96160" y="45720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P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192320" y="4343400"/>
              <a:ext cx="380880" cy="761760"/>
              <a:chOff x="1192320" y="4343400"/>
              <a:chExt cx="380880" cy="761760"/>
            </a:xfrm>
          </p:grpSpPr>
          <p:sp>
            <p:nvSpPr>
              <p:cNvPr id="376" name=""/>
              <p:cNvSpPr/>
              <p:nvPr/>
            </p:nvSpPr>
            <p:spPr>
              <a:xfrm flipH="1">
                <a:off x="1226880" y="4343400"/>
                <a:ext cx="346320" cy="682560"/>
              </a:xfrm>
              <a:custGeom>
                <a:avLst/>
                <a:gdLst/>
                <a:ahLst/>
                <a:rect l="l" t="t" r="r" b="b"/>
                <a:pathLst>
                  <a:path w="1964" h="689">
                    <a:moveTo>
                      <a:pt x="0" y="0"/>
                    </a:moveTo>
                    <a:lnTo>
                      <a:pt x="1188" y="461"/>
                    </a:lnTo>
                    <a:lnTo>
                      <a:pt x="1041" y="319"/>
                    </a:lnTo>
                    <a:lnTo>
                      <a:pt x="1964" y="689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1192320" y="4955040"/>
                <a:ext cx="41040" cy="150120"/>
              </a:xfrm>
              <a:custGeom>
                <a:avLst/>
                <a:gdLst/>
                <a:ahLst/>
                <a:rect l="l" t="t" r="r" b="b"/>
                <a:pathLst>
                  <a:path w="233" h="151">
                    <a:moveTo>
                      <a:pt x="233" y="151"/>
                    </a:moveTo>
                    <a:lnTo>
                      <a:pt x="49" y="0"/>
                    </a:lnTo>
                    <a:lnTo>
                      <a:pt x="0" y="130"/>
                    </a:lnTo>
                    <a:lnTo>
                      <a:pt x="233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897120" y="2870280"/>
              <a:ext cx="1440" cy="51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811440" y="3243240"/>
              <a:ext cx="1371600" cy="1103400"/>
              <a:chOff x="811440" y="3243240"/>
              <a:chExt cx="1371600" cy="1103400"/>
            </a:xfrm>
          </p:grpSpPr>
          <p:sp>
            <p:nvSpPr>
              <p:cNvPr id="380" name=""/>
              <p:cNvSpPr/>
              <p:nvPr/>
            </p:nvSpPr>
            <p:spPr>
              <a:xfrm>
                <a:off x="1116360" y="3243240"/>
                <a:ext cx="1066680" cy="1103400"/>
              </a:xfrm>
              <a:custGeom>
                <a:avLst/>
                <a:gdLst>
                  <a:gd name="textAreaLeft" fmla="*/ 38520 w 1066680"/>
                  <a:gd name="textAreaRight" fmla="*/ 1028160 w 1066680"/>
                  <a:gd name="textAreaTop" fmla="*/ 38520 h 1103400"/>
                  <a:gd name="textAreaBottom" fmla="*/ 1064880 h 1103400"/>
                </a:gdLst>
                <a:ahLst/>
                <a:rect l="textAreaLeft" t="textAreaTop" r="textAreaRight" b="textAreaBottom"/>
                <a:pathLst>
                  <a:path w="21600" h="22343">
                    <a:moveTo>
                      <a:pt x="2664" y="0"/>
                    </a:moveTo>
                    <a:arcTo wR="2664" hR="2664" stAng="16200000" swAng="-5400000"/>
                    <a:lnTo>
                      <a:pt x="0" y="19679"/>
                    </a:lnTo>
                    <a:arcTo wR="2664" hR="2664" stAng="10800000" swAng="-5400000"/>
                    <a:lnTo>
                      <a:pt x="18936" y="22343"/>
                    </a:lnTo>
                    <a:arcTo wR="2664" hR="2664" stAng="5400000" swAng="-5400000"/>
                    <a:lnTo>
                      <a:pt x="21600" y="2664"/>
                    </a:lnTo>
                    <a:arcTo wR="2664" hR="2664" stAng="0" swAng="-5400000"/>
                    <a:close/>
                  </a:path>
                </a:pathLst>
              </a:cu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CO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68640" y="3312720"/>
                <a:ext cx="762120" cy="563760"/>
              </a:xfrm>
              <a:prstGeom prst="roundRect">
                <a:avLst>
                  <a:gd name="adj" fmla="val 12255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ffffff"/>
                    </a:solidFill>
                    <a:latin typeface="Arial"/>
                  </a:rPr>
                  <a:t>Proxy p/ objeto loc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811440" y="3591360"/>
                <a:ext cx="474840" cy="138960"/>
                <a:chOff x="811440" y="3591360"/>
                <a:chExt cx="474840" cy="1389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811440" y="3591360"/>
                  <a:ext cx="181080" cy="13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984600" y="3646080"/>
                  <a:ext cx="301680" cy="1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11440" y="3382560"/>
                <a:ext cx="474840" cy="138960"/>
                <a:chOff x="811440" y="3382560"/>
                <a:chExt cx="474840" cy="1389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811440" y="3382560"/>
                  <a:ext cx="181080" cy="13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984600" y="3437280"/>
                  <a:ext cx="301680" cy="1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"/>
            <p:cNvSpPr/>
            <p:nvPr/>
          </p:nvSpPr>
          <p:spPr>
            <a:xfrm>
              <a:off x="852480" y="57150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CO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981080" y="2819520"/>
            <a:ext cx="6983640" cy="3789360"/>
            <a:chOff x="1981080" y="2819520"/>
            <a:chExt cx="6983640" cy="3789360"/>
          </a:xfrm>
        </p:grpSpPr>
        <p:sp>
          <p:nvSpPr>
            <p:cNvPr id="390" name=""/>
            <p:cNvSpPr/>
            <p:nvPr/>
          </p:nvSpPr>
          <p:spPr>
            <a:xfrm>
              <a:off x="4570920" y="510552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P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83200" y="3936960"/>
              <a:ext cx="3881520" cy="267192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omputador 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2819520"/>
              <a:ext cx="671760" cy="61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625840" y="3270240"/>
              <a:ext cx="1371600" cy="1103400"/>
              <a:chOff x="2625840" y="3270240"/>
              <a:chExt cx="1371600" cy="1103400"/>
            </a:xfrm>
          </p:grpSpPr>
          <p:sp>
            <p:nvSpPr>
              <p:cNvPr id="394" name=""/>
              <p:cNvSpPr/>
              <p:nvPr/>
            </p:nvSpPr>
            <p:spPr>
              <a:xfrm>
                <a:off x="2930760" y="3270240"/>
                <a:ext cx="1066680" cy="1103400"/>
              </a:xfrm>
              <a:custGeom>
                <a:avLst/>
                <a:gdLst>
                  <a:gd name="textAreaLeft" fmla="*/ 38520 w 1066680"/>
                  <a:gd name="textAreaRight" fmla="*/ 1028160 w 1066680"/>
                  <a:gd name="textAreaTop" fmla="*/ 38520 h 1103400"/>
                  <a:gd name="textAreaBottom" fmla="*/ 1064880 h 1103400"/>
                </a:gdLst>
                <a:ahLst/>
                <a:rect l="textAreaLeft" t="textAreaTop" r="textAreaRight" b="textAreaBottom"/>
                <a:pathLst>
                  <a:path w="21600" h="22343">
                    <a:moveTo>
                      <a:pt x="2664" y="0"/>
                    </a:moveTo>
                    <a:arcTo wR="2664" hR="2664" stAng="16200000" swAng="-5400000"/>
                    <a:lnTo>
                      <a:pt x="0" y="19679"/>
                    </a:lnTo>
                    <a:arcTo wR="2664" hR="2664" stAng="10800000" swAng="-5400000"/>
                    <a:lnTo>
                      <a:pt x="18936" y="22343"/>
                    </a:lnTo>
                    <a:arcTo wR="2664" hR="2664" stAng="5400000" swAng="-5400000"/>
                    <a:lnTo>
                      <a:pt x="21600" y="2664"/>
                    </a:lnTo>
                    <a:arcTo wR="2664" hR="2664" stAng="0" swAng="-5400000"/>
                    <a:close/>
                  </a:path>
                </a:pathLst>
              </a:cu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DCO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83040" y="3339720"/>
                <a:ext cx="762120" cy="563760"/>
              </a:xfrm>
              <a:prstGeom prst="roundRect">
                <a:avLst>
                  <a:gd name="adj" fmla="val 12255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ffffff"/>
                    </a:solidFill>
                    <a:latin typeface="Arial"/>
                  </a:rPr>
                  <a:t>Proxy p/ objeto remoto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625840" y="3618360"/>
                <a:ext cx="474840" cy="138960"/>
                <a:chOff x="2625840" y="3618360"/>
                <a:chExt cx="474840" cy="1389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25840" y="3618360"/>
                  <a:ext cx="181080" cy="13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2799000" y="3673080"/>
                  <a:ext cx="301680" cy="1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2625840" y="3409560"/>
                <a:ext cx="474840" cy="138960"/>
                <a:chOff x="2625840" y="3409560"/>
                <a:chExt cx="474840" cy="1389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25840" y="3409560"/>
                  <a:ext cx="181080" cy="13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2799000" y="3464280"/>
                  <a:ext cx="301680" cy="1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3613320" y="4370760"/>
              <a:ext cx="1831320" cy="990360"/>
              <a:chOff x="3613320" y="4370760"/>
              <a:chExt cx="1831320" cy="99036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3613320" y="4370400"/>
                <a:ext cx="1674360" cy="894600"/>
              </a:xfrm>
              <a:custGeom>
                <a:avLst/>
                <a:gdLst/>
                <a:ahLst/>
                <a:rect l="l" t="t" r="r" b="b"/>
                <a:pathLst>
                  <a:path w="1938" h="1083">
                    <a:moveTo>
                      <a:pt x="0" y="1083"/>
                    </a:moveTo>
                    <a:lnTo>
                      <a:pt x="1165" y="364"/>
                    </a:lnTo>
                    <a:lnTo>
                      <a:pt x="1020" y="585"/>
                    </a:lnTo>
                    <a:lnTo>
                      <a:pt x="1938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5249520" y="5209200"/>
                <a:ext cx="195120" cy="151920"/>
              </a:xfrm>
              <a:custGeom>
                <a:avLst/>
                <a:gdLst/>
                <a:ahLst/>
                <a:rect l="l" t="t" r="r" b="b"/>
                <a:pathLst>
                  <a:path w="226" h="183">
                    <a:moveTo>
                      <a:pt x="226" y="0"/>
                    </a:moveTo>
                    <a:lnTo>
                      <a:pt x="0" y="65"/>
                    </a:lnTo>
                    <a:lnTo>
                      <a:pt x="67" y="183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5288040" y="4379760"/>
              <a:ext cx="3510000" cy="19098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Processo Servidor Remot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6560" y="4770360"/>
              <a:ext cx="1788840" cy="1378080"/>
            </a:xfrm>
            <a:prstGeom prst="roundRect">
              <a:avLst>
                <a:gd name="adj" fmla="val 12361"/>
              </a:avLst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Servidor remo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(out-of-proces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678720" y="4975200"/>
              <a:ext cx="1460520" cy="704880"/>
              <a:chOff x="6678720" y="4975200"/>
              <a:chExt cx="1460520" cy="704880"/>
            </a:xfrm>
          </p:grpSpPr>
          <p:sp>
            <p:nvSpPr>
              <p:cNvPr id="408" name=""/>
              <p:cNvSpPr/>
              <p:nvPr/>
            </p:nvSpPr>
            <p:spPr>
              <a:xfrm>
                <a:off x="7013880" y="4975200"/>
                <a:ext cx="1125360" cy="704880"/>
              </a:xfrm>
              <a:prstGeom prst="roundRect">
                <a:avLst>
                  <a:gd name="adj" fmla="val 12287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ffff"/>
                    </a:solidFill>
                    <a:latin typeface="Arial"/>
                  </a:rPr>
                  <a:t>Objeto Remot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6678720" y="5127840"/>
                <a:ext cx="344520" cy="154080"/>
                <a:chOff x="6678720" y="5127840"/>
                <a:chExt cx="344520" cy="1540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678720" y="5127840"/>
                  <a:ext cx="136800" cy="154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810480" y="5200920"/>
                  <a:ext cx="21276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678720" y="5418360"/>
                <a:ext cx="344520" cy="154080"/>
                <a:chOff x="6678720" y="5418360"/>
                <a:chExt cx="344520" cy="154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678720" y="5418360"/>
                  <a:ext cx="136800" cy="154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810480" y="5491440"/>
                  <a:ext cx="21276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>
              <a:off x="5394240" y="4878360"/>
              <a:ext cx="1082880" cy="1168560"/>
            </a:xfrm>
            <a:custGeom>
              <a:avLst/>
              <a:gdLst>
                <a:gd name="textAreaLeft" fmla="*/ 38880 w 1082880"/>
                <a:gd name="textAreaRight" fmla="*/ 1044000 w 1082880"/>
                <a:gd name="textAreaTop" fmla="*/ 38880 h 1168560"/>
                <a:gd name="textAreaBottom" fmla="*/ 1129680 h 1168560"/>
              </a:gdLst>
              <a:ahLst/>
              <a:rect l="textAreaLeft" t="textAreaTop" r="textAreaRight" b="textAreaBottom"/>
              <a:pathLst>
                <a:path w="21600" h="23308">
                  <a:moveTo>
                    <a:pt x="2664" y="0"/>
                  </a:moveTo>
                  <a:arcTo wR="2664" hR="2664" stAng="16200000" swAng="-5400000"/>
                  <a:lnTo>
                    <a:pt x="0" y="20644"/>
                  </a:lnTo>
                  <a:arcTo wR="2664" hR="2664" stAng="10800000" swAng="-5400000"/>
                  <a:lnTo>
                    <a:pt x="18936" y="23308"/>
                  </a:lnTo>
                  <a:arcTo wR="2664" hR="2664" stAng="5400000" swAng="-5400000"/>
                  <a:lnTo>
                    <a:pt x="21600" y="2664"/>
                  </a:lnTo>
                  <a:arcTo wR="2664" hR="2664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08720" y="5052960"/>
              <a:ext cx="689040" cy="619200"/>
            </a:xfrm>
            <a:prstGeom prst="roundRect">
              <a:avLst>
                <a:gd name="adj" fmla="val 12255"/>
              </a:avLst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tu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194520" y="5207040"/>
              <a:ext cx="487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roxies e Stu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80880" y="2057400"/>
          <a:ext cx="3581280" cy="217656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LL gerada pelo MID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/D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2133720" y="4419720"/>
          <a:ext cx="2209680" cy="217620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leaut32.dl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/D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88920" y="4737240"/>
            <a:ext cx="1862280" cy="15570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ype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TLB ge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lo MID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36800" y="5557680"/>
            <a:ext cx="19692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257800" y="2057400"/>
          <a:ext cx="3581280" cy="2144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d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LL gerada pelo MID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/D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800600" y="4419720"/>
          <a:ext cx="2209680" cy="217620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d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leaut32.dl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/D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25" name=""/>
          <p:cNvSpPr/>
          <p:nvPr/>
        </p:nvSpPr>
        <p:spPr>
          <a:xfrm>
            <a:off x="7227720" y="4656240"/>
            <a:ext cx="1862280" cy="15570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ype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TLB ge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lo MID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5486400"/>
            <a:ext cx="1969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3886200"/>
            <a:ext cx="1295280" cy="15228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144"/>
                </a:moveTo>
                <a:lnTo>
                  <a:pt x="624" y="0"/>
                </a:lnTo>
                <a:lnTo>
                  <a:pt x="576" y="192"/>
                </a:lnTo>
                <a:lnTo>
                  <a:pt x="1152" y="48"/>
                </a:lnTo>
                <a:lnTo>
                  <a:pt x="480" y="288"/>
                </a:lnTo>
                <a:lnTo>
                  <a:pt x="528" y="96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6324480"/>
            <a:ext cx="457200" cy="7632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144"/>
                </a:moveTo>
                <a:lnTo>
                  <a:pt x="624" y="0"/>
                </a:lnTo>
                <a:lnTo>
                  <a:pt x="576" y="192"/>
                </a:lnTo>
                <a:lnTo>
                  <a:pt x="1152" y="48"/>
                </a:lnTo>
                <a:lnTo>
                  <a:pt x="480" y="288"/>
                </a:lnTo>
                <a:lnTo>
                  <a:pt x="528" y="96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9240" y="3581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91120" y="65530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rsha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210960" y="1838160"/>
          <a:ext cx="8686800" cy="4916520"/>
        </p:xfrm>
        <a:graphic>
          <a:graphicData uri="http://schemas.openxmlformats.org/drawingml/2006/table">
            <a:tbl>
              <a:tblPr/>
              <a:tblGrid>
                <a:gridCol w="3200400"/>
                <a:gridCol w="5486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interface 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arsha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 interf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/stub (DLL) deve ser registrada em cada computador 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 interface como [oleautomation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rar type library ou registrar proxy/stub (DLL) em cada 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ation interf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ispatch já está instalada (nada a faze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al interf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rar type library ou registrar proxy/stub (DLL) em cada 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 clientes usando apenas IDispatch, nada a faz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80880" y="1981080"/>
            <a:ext cx="3733920" cy="2971800"/>
            <a:chOff x="380880" y="1981080"/>
            <a:chExt cx="3733920" cy="2971800"/>
          </a:xfrm>
        </p:grpSpPr>
        <p:sp>
          <p:nvSpPr>
            <p:cNvPr id="434" name=""/>
            <p:cNvSpPr/>
            <p:nvPr/>
          </p:nvSpPr>
          <p:spPr>
            <a:xfrm>
              <a:off x="380880" y="1981080"/>
              <a:ext cx="3733920" cy="297180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2320" y="198108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liente.EX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Criação de Objetos – Servidor In-Proces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4952880"/>
            <a:ext cx="3733920" cy="12956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OLE32.D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Load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DLL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2209680"/>
            <a:ext cx="434340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ervice Control Manager (SC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vchost.exe / rpcss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4191120"/>
            <a:ext cx="3886200" cy="13716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Reg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{CLSID}  -  Servidor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2209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1360" y="251460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Fac::Create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9200" y="2819520"/>
            <a:ext cx="25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Obj::MeuMét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828800" y="3138480"/>
            <a:ext cx="1905120" cy="1662120"/>
            <a:chOff x="1828800" y="3138480"/>
            <a:chExt cx="1905120" cy="1662120"/>
          </a:xfrm>
        </p:grpSpPr>
        <p:sp>
          <p:nvSpPr>
            <p:cNvPr id="444" name=""/>
            <p:cNvSpPr/>
            <p:nvPr/>
          </p:nvSpPr>
          <p:spPr>
            <a:xfrm>
              <a:off x="1828800" y="3200400"/>
              <a:ext cx="190512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2040" y="3138480"/>
              <a:ext cx="13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Servidor.D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828800" y="2590920"/>
            <a:ext cx="304920" cy="2743200"/>
          </a:xfrm>
          <a:prstGeom prst="downArrow">
            <a:avLst>
              <a:gd name="adj1" fmla="val 50000"/>
              <a:gd name="adj2" fmla="val 22491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3067200">
            <a:off x="4419360" y="3047760"/>
            <a:ext cx="304560" cy="2590560"/>
          </a:xfrm>
          <a:prstGeom prst="upArrow">
            <a:avLst>
              <a:gd name="adj1" fmla="val 50000"/>
              <a:gd name="adj2" fmla="val 21264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3446640"/>
            <a:ext cx="533160" cy="744480"/>
          </a:xfrm>
          <a:prstGeom prst="upDownArrow">
            <a:avLst>
              <a:gd name="adj1" fmla="val 50000"/>
              <a:gd name="adj2" fmla="val 2779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9438200">
            <a:off x="3213000" y="4220640"/>
            <a:ext cx="2667240" cy="304920"/>
          </a:xfrm>
          <a:prstGeom prst="leftArrow">
            <a:avLst>
              <a:gd name="adj1" fmla="val 50000"/>
              <a:gd name="adj2" fmla="val 21868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86160" y="4176720"/>
            <a:ext cx="2818800" cy="581040"/>
            <a:chOff x="686160" y="4176720"/>
            <a:chExt cx="2818800" cy="581040"/>
          </a:xfrm>
        </p:grpSpPr>
        <p:sp>
          <p:nvSpPr>
            <p:cNvPr id="451" name=""/>
            <p:cNvSpPr/>
            <p:nvPr/>
          </p:nvSpPr>
          <p:spPr>
            <a:xfrm>
              <a:off x="686160" y="41911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1370880" y="4176720"/>
              <a:ext cx="2134080" cy="581040"/>
              <a:chOff x="1370880" y="4176720"/>
              <a:chExt cx="2134080" cy="581040"/>
            </a:xfrm>
          </p:grpSpPr>
          <p:sp>
            <p:nvSpPr>
              <p:cNvPr id="453" name=""/>
              <p:cNvSpPr/>
              <p:nvPr/>
            </p:nvSpPr>
            <p:spPr>
              <a:xfrm>
                <a:off x="2058840" y="417672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Obj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Métod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54" name=""/>
              <p:cNvCxnSpPr>
                <a:stCxn id="453" idx="1"/>
              </p:cNvCxnSpPr>
              <p:nvPr/>
            </p:nvCxnSpPr>
            <p:spPr>
              <a:xfrm flipH="1">
                <a:off x="1370880" y="446688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455" name=""/>
          <p:cNvSpPr/>
          <p:nvPr/>
        </p:nvSpPr>
        <p:spPr>
          <a:xfrm>
            <a:off x="2585880" y="403380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074600">
            <a:off x="-676080" y="3426840"/>
            <a:ext cx="2361960" cy="5335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777121"/>
                <a:lnTo>
                  <a:pt x="1737" y="16675"/>
                </a:lnTo>
                <a:arcTo wR="10800" hR="10800" stAng="8822879" swAng="1277712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480060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7960" y="3505320"/>
            <a:ext cx="2817000" cy="581040"/>
            <a:chOff x="687960" y="3505320"/>
            <a:chExt cx="2817000" cy="581040"/>
          </a:xfrm>
        </p:grpSpPr>
        <p:sp>
          <p:nvSpPr>
            <p:cNvPr id="459" name=""/>
            <p:cNvSpPr/>
            <p:nvPr/>
          </p:nvSpPr>
          <p:spPr>
            <a:xfrm>
              <a:off x="687960" y="356724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370880" y="3505320"/>
              <a:ext cx="2134080" cy="581040"/>
              <a:chOff x="1370880" y="3505320"/>
              <a:chExt cx="2134080" cy="581040"/>
            </a:xfrm>
          </p:grpSpPr>
          <p:sp>
            <p:nvSpPr>
              <p:cNvPr id="461" name=""/>
              <p:cNvSpPr/>
              <p:nvPr/>
            </p:nvSpPr>
            <p:spPr>
              <a:xfrm>
                <a:off x="2058840" y="350532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lassFact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reateInstan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62" name=""/>
              <p:cNvCxnSpPr>
                <a:stCxn id="461" idx="1"/>
              </p:cNvCxnSpPr>
              <p:nvPr/>
            </p:nvCxnSpPr>
            <p:spPr>
              <a:xfrm flipH="1">
                <a:off x="1370880" y="379548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463" name=""/>
          <p:cNvSpPr/>
          <p:nvPr/>
        </p:nvSpPr>
        <p:spPr>
          <a:xfrm>
            <a:off x="2590920" y="4114800"/>
            <a:ext cx="380880" cy="1752480"/>
          </a:xfrm>
          <a:prstGeom prst="upArrow">
            <a:avLst>
              <a:gd name="adj1" fmla="val 50000"/>
              <a:gd name="adj2" fmla="val 11502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320040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79600" y="2844720"/>
            <a:ext cx="152640" cy="990720"/>
          </a:xfrm>
          <a:prstGeom prst="downArrow">
            <a:avLst>
              <a:gd name="adj1" fmla="val 50000"/>
              <a:gd name="adj2" fmla="val 16226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20801400">
            <a:off x="1143000" y="3962160"/>
            <a:ext cx="304920" cy="1981080"/>
          </a:xfrm>
          <a:prstGeom prst="downArrow">
            <a:avLst>
              <a:gd name="adj1" fmla="val 50000"/>
              <a:gd name="adj2" fmla="val 16242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074600">
            <a:off x="-1567440" y="3808800"/>
            <a:ext cx="4189680" cy="533520"/>
          </a:xfrm>
          <a:custGeom>
            <a:avLst/>
            <a:gdLst>
              <a:gd name="textAreaLeft" fmla="*/ 0 w 4189680"/>
              <a:gd name="textAreaRight" fmla="*/ 4190040 w 4189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4744" y="12188"/>
                </a:moveTo>
                <a:arcTo wR="-6213" hR="-6213" stAng="10025465" swAng="-12002585"/>
                <a:lnTo>
                  <a:pt x="1737" y="16675"/>
                </a:lnTo>
                <a:arcTo wR="10800" hR="10800" stAng="8822879" swAng="12002585"/>
                <a:lnTo>
                  <a:pt x="23959" y="7784"/>
                </a:lnTo>
                <a:lnTo>
                  <a:pt x="20207" y="13767"/>
                </a:lnTo>
                <a:lnTo>
                  <a:pt x="14224" y="100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34120" y="3200400"/>
            <a:ext cx="3276360" cy="13716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Reg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{CLSID}  -  Servidor.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2152800"/>
            <a:ext cx="3429000" cy="3181320"/>
            <a:chOff x="5257800" y="2152800"/>
            <a:chExt cx="3429000" cy="3181320"/>
          </a:xfrm>
        </p:grpSpPr>
        <p:grpSp>
          <p:nvGrpSpPr>
            <p:cNvPr id="470" name=""/>
            <p:cNvGrpSpPr/>
            <p:nvPr/>
          </p:nvGrpSpPr>
          <p:grpSpPr>
            <a:xfrm>
              <a:off x="5257800" y="2152800"/>
              <a:ext cx="3429000" cy="3181320"/>
              <a:chOff x="5257800" y="2152800"/>
              <a:chExt cx="3429000" cy="3181320"/>
            </a:xfrm>
          </p:grpSpPr>
          <p:sp>
            <p:nvSpPr>
              <p:cNvPr id="471" name=""/>
              <p:cNvSpPr/>
              <p:nvPr/>
            </p:nvSpPr>
            <p:spPr>
              <a:xfrm>
                <a:off x="5257800" y="2152800"/>
                <a:ext cx="3429000" cy="3181320"/>
              </a:xfrm>
              <a:prstGeom prst="rect">
                <a:avLst/>
              </a:prstGeom>
              <a:solidFill>
                <a:srgbClr val="0000ff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36280" y="2209680"/>
                <a:ext cx="1500480" cy="398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Servidor.EX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407200" y="4038480"/>
              <a:ext cx="3125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Win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oInitializ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ria e registra ClassFa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80880" y="1981080"/>
            <a:ext cx="3733920" cy="2971800"/>
            <a:chOff x="380880" y="1981080"/>
            <a:chExt cx="3733920" cy="2971800"/>
          </a:xfrm>
        </p:grpSpPr>
        <p:sp>
          <p:nvSpPr>
            <p:cNvPr id="475" name=""/>
            <p:cNvSpPr/>
            <p:nvPr/>
          </p:nvSpPr>
          <p:spPr>
            <a:xfrm>
              <a:off x="380880" y="1981080"/>
              <a:ext cx="3733920" cy="297180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2320" y="198108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liente.EX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Criação de Objetos – Servidor Loca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4952880"/>
            <a:ext cx="3733920" cy="8384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OLE32.D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06920" y="5527800"/>
            <a:ext cx="434340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ervice Control Manager (SC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vchost.exe / rpcss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2209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1360" y="251460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Fac::Create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200" y="2819520"/>
            <a:ext cx="25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Obj::MeuMét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2590920"/>
            <a:ext cx="304920" cy="2743200"/>
          </a:xfrm>
          <a:prstGeom prst="downArrow">
            <a:avLst>
              <a:gd name="adj1" fmla="val 50000"/>
              <a:gd name="adj2" fmla="val 22491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 rot="17352000">
            <a:off x="3695400" y="499140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53080" y="4724280"/>
            <a:ext cx="533520" cy="744480"/>
          </a:xfrm>
          <a:prstGeom prst="upDownArrow">
            <a:avLst>
              <a:gd name="adj1" fmla="val 50000"/>
              <a:gd name="adj2" fmla="val 2777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 rot="1306800">
            <a:off x="3038400" y="5603760"/>
            <a:ext cx="1524240" cy="304920"/>
          </a:xfrm>
          <a:prstGeom prst="leftArrow">
            <a:avLst>
              <a:gd name="adj1" fmla="val 50000"/>
              <a:gd name="adj2" fmla="val 1249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348440" y="3343320"/>
            <a:ext cx="2818800" cy="581040"/>
            <a:chOff x="4348440" y="3343320"/>
            <a:chExt cx="2818800" cy="581040"/>
          </a:xfrm>
        </p:grpSpPr>
        <p:sp>
          <p:nvSpPr>
            <p:cNvPr id="488" name=""/>
            <p:cNvSpPr/>
            <p:nvPr/>
          </p:nvSpPr>
          <p:spPr>
            <a:xfrm>
              <a:off x="4348440" y="33577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5033160" y="3343320"/>
              <a:ext cx="2134080" cy="581040"/>
              <a:chOff x="5033160" y="3343320"/>
              <a:chExt cx="2134080" cy="581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721120" y="334332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Obj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Métod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91" name=""/>
              <p:cNvCxnSpPr>
                <a:stCxn id="490" idx="1"/>
              </p:cNvCxnSpPr>
              <p:nvPr/>
            </p:nvCxnSpPr>
            <p:spPr>
              <a:xfrm flipH="1">
                <a:off x="5033160" y="363348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492" name=""/>
          <p:cNvSpPr/>
          <p:nvPr/>
        </p:nvSpPr>
        <p:spPr>
          <a:xfrm>
            <a:off x="6248520" y="320040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6074600">
            <a:off x="-518040" y="3578400"/>
            <a:ext cx="2055960" cy="533160"/>
          </a:xfrm>
          <a:custGeom>
            <a:avLst/>
            <a:gdLst>
              <a:gd name="textAreaLeft" fmla="*/ 0 w 2055960"/>
              <a:gd name="textAreaRight" fmla="*/ 2056320 w 2055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777121"/>
                <a:lnTo>
                  <a:pt x="1737" y="16675"/>
                </a:lnTo>
                <a:arcTo wR="10800" hR="10800" stAng="8822879" swAng="1277712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350240" y="2671920"/>
            <a:ext cx="2817000" cy="581040"/>
            <a:chOff x="4350240" y="2671920"/>
            <a:chExt cx="2817000" cy="581040"/>
          </a:xfrm>
        </p:grpSpPr>
        <p:sp>
          <p:nvSpPr>
            <p:cNvPr id="495" name=""/>
            <p:cNvSpPr/>
            <p:nvPr/>
          </p:nvSpPr>
          <p:spPr>
            <a:xfrm>
              <a:off x="4350240" y="273384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5033160" y="2671920"/>
              <a:ext cx="2134080" cy="581040"/>
              <a:chOff x="5033160" y="2671920"/>
              <a:chExt cx="2134080" cy="581040"/>
            </a:xfrm>
          </p:grpSpPr>
          <p:sp>
            <p:nvSpPr>
              <p:cNvPr id="497" name=""/>
              <p:cNvSpPr/>
              <p:nvPr/>
            </p:nvSpPr>
            <p:spPr>
              <a:xfrm>
                <a:off x="5721120" y="267192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lassFact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reateInstan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98" name=""/>
              <p:cNvCxnSpPr>
                <a:stCxn id="497" idx="1"/>
              </p:cNvCxnSpPr>
              <p:nvPr/>
            </p:nvCxnSpPr>
            <p:spPr>
              <a:xfrm flipH="1">
                <a:off x="5033160" y="296208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499" name=""/>
          <p:cNvSpPr/>
          <p:nvPr/>
        </p:nvSpPr>
        <p:spPr>
          <a:xfrm rot="15792000">
            <a:off x="4706640" y="2760120"/>
            <a:ext cx="306360" cy="2252520"/>
          </a:xfrm>
          <a:prstGeom prst="downArrow">
            <a:avLst>
              <a:gd name="adj1" fmla="val 50000"/>
              <a:gd name="adj2" fmla="val 18381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15032400">
            <a:off x="4640760" y="2263680"/>
            <a:ext cx="360360" cy="2327400"/>
          </a:xfrm>
          <a:prstGeom prst="downArrow">
            <a:avLst>
              <a:gd name="adj1" fmla="val 50000"/>
              <a:gd name="adj2" fmla="val 16146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21578400">
            <a:off x="2361960" y="4874040"/>
            <a:ext cx="4554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074600">
            <a:off x="-1567440" y="3808800"/>
            <a:ext cx="4189680" cy="533520"/>
          </a:xfrm>
          <a:custGeom>
            <a:avLst/>
            <a:gdLst>
              <a:gd name="textAreaLeft" fmla="*/ 0 w 4189680"/>
              <a:gd name="textAreaRight" fmla="*/ 4190040 w 4189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4744" y="12188"/>
                </a:moveTo>
                <a:arcTo wR="-6213" hR="-6213" stAng="10025465" swAng="-12002585"/>
                <a:lnTo>
                  <a:pt x="1737" y="16675"/>
                </a:lnTo>
                <a:arcTo wR="10800" hR="10800" stAng="8822879" swAng="12002585"/>
                <a:lnTo>
                  <a:pt x="23959" y="7784"/>
                </a:lnTo>
                <a:lnTo>
                  <a:pt x="20207" y="13767"/>
                </a:lnTo>
                <a:lnTo>
                  <a:pt x="14224" y="100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3284640"/>
            <a:ext cx="390240" cy="1439640"/>
          </a:xfrm>
          <a:prstGeom prst="upArrow">
            <a:avLst>
              <a:gd name="adj1" fmla="val 50000"/>
              <a:gd name="adj2" fmla="val 9222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5400" y="638964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reate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8000">
            <a:off x="6021000" y="4417920"/>
            <a:ext cx="442800" cy="2082960"/>
          </a:xfrm>
          <a:prstGeom prst="upArrow">
            <a:avLst>
              <a:gd name="adj1" fmla="val 50000"/>
              <a:gd name="adj2" fmla="val 11760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28800" y="287820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62320" y="3156120"/>
            <a:ext cx="303120" cy="501480"/>
          </a:xfrm>
          <a:prstGeom prst="downArrow">
            <a:avLst>
              <a:gd name="adj1" fmla="val 50000"/>
              <a:gd name="adj2" fmla="val 4136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16920" y="3657600"/>
            <a:ext cx="2740680" cy="1143000"/>
            <a:chOff x="916920" y="3657600"/>
            <a:chExt cx="2740680" cy="1143000"/>
          </a:xfrm>
        </p:grpSpPr>
        <p:sp>
          <p:nvSpPr>
            <p:cNvPr id="509" name=""/>
            <p:cNvSpPr/>
            <p:nvPr/>
          </p:nvSpPr>
          <p:spPr>
            <a:xfrm>
              <a:off x="2211480" y="3657600"/>
              <a:ext cx="1446120" cy="1143000"/>
            </a:xfrm>
            <a:prstGeom prst="roundRect">
              <a:avLst>
                <a:gd name="adj" fmla="val 16667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 Narrow"/>
                </a:rPr>
                <a:t>Proxy pa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 Narrow"/>
                </a:rPr>
                <a:t>Servidor.EX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/>
            <p:nvPr/>
          </p:nvCxnSpPr>
          <p:spPr>
            <a:xfrm flipH="1">
              <a:off x="1523880" y="3962160"/>
              <a:ext cx="68796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oval" w="lg"/>
            </a:ln>
          </p:spPr>
        </p:cxnSp>
        <p:sp>
          <p:nvSpPr>
            <p:cNvPr id="511" name=""/>
            <p:cNvSpPr/>
            <p:nvPr/>
          </p:nvSpPr>
          <p:spPr>
            <a:xfrm>
              <a:off x="916920" y="37339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915840" y="4191120"/>
            <a:ext cx="1295640" cy="459720"/>
            <a:chOff x="915840" y="4191120"/>
            <a:chExt cx="1295640" cy="459720"/>
          </a:xfrm>
        </p:grpSpPr>
        <p:cxnSp>
          <p:nvCxnSpPr>
            <p:cNvPr id="513" name=""/>
            <p:cNvCxnSpPr/>
            <p:nvPr/>
          </p:nvCxnSpPr>
          <p:spPr>
            <a:xfrm flipH="1">
              <a:off x="1523880" y="4419360"/>
              <a:ext cx="68796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oval" w="lg"/>
            </a:ln>
          </p:spPr>
        </p:cxnSp>
        <p:sp>
          <p:nvSpPr>
            <p:cNvPr id="514" name=""/>
            <p:cNvSpPr/>
            <p:nvPr/>
          </p:nvSpPr>
          <p:spPr>
            <a:xfrm>
              <a:off x="915840" y="41911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653000" y="1217520"/>
            <a:ext cx="4303800" cy="5486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mputador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80" y="1219320"/>
            <a:ext cx="4303800" cy="5486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mputador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481720" y="1992240"/>
            <a:ext cx="3429000" cy="3181320"/>
            <a:chOff x="5481720" y="1992240"/>
            <a:chExt cx="3429000" cy="3181320"/>
          </a:xfrm>
        </p:grpSpPr>
        <p:grpSp>
          <p:nvGrpSpPr>
            <p:cNvPr id="518" name=""/>
            <p:cNvGrpSpPr/>
            <p:nvPr/>
          </p:nvGrpSpPr>
          <p:grpSpPr>
            <a:xfrm>
              <a:off x="5481720" y="1992240"/>
              <a:ext cx="3429000" cy="3181320"/>
              <a:chOff x="5481720" y="1992240"/>
              <a:chExt cx="3429000" cy="3181320"/>
            </a:xfrm>
          </p:grpSpPr>
          <p:sp>
            <p:nvSpPr>
              <p:cNvPr id="519" name=""/>
              <p:cNvSpPr/>
              <p:nvPr/>
            </p:nvSpPr>
            <p:spPr>
              <a:xfrm>
                <a:off x="5481720" y="1992240"/>
                <a:ext cx="3429000" cy="3181320"/>
              </a:xfrm>
              <a:prstGeom prst="rect">
                <a:avLst/>
              </a:prstGeom>
              <a:solidFill>
                <a:srgbClr val="0000ff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60200" y="2049120"/>
                <a:ext cx="1500480" cy="398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Servidor.EX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5631120" y="3877920"/>
              <a:ext cx="3125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Win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oInitializ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ria e registra ClassFa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45960" y="1787400"/>
            <a:ext cx="3733920" cy="2971800"/>
            <a:chOff x="345960" y="1787400"/>
            <a:chExt cx="3733920" cy="2971800"/>
          </a:xfrm>
        </p:grpSpPr>
        <p:sp>
          <p:nvSpPr>
            <p:cNvPr id="523" name=""/>
            <p:cNvSpPr/>
            <p:nvPr/>
          </p:nvSpPr>
          <p:spPr>
            <a:xfrm>
              <a:off x="345960" y="1787400"/>
              <a:ext cx="3733920" cy="297180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7400" y="178740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liente.EX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Criação de Objetos – Servidor Remot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5960" y="4759200"/>
            <a:ext cx="3733920" cy="8384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OLE32.D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8600" y="2016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6440" y="232092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Fac::Create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4280" y="2625840"/>
            <a:ext cx="25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Obj::MeuMét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93880" y="2397240"/>
            <a:ext cx="304920" cy="2743200"/>
          </a:xfrm>
          <a:prstGeom prst="downArrow">
            <a:avLst>
              <a:gd name="adj1" fmla="val 50000"/>
              <a:gd name="adj2" fmla="val 22491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 rot="3842400">
            <a:off x="2725560" y="5640480"/>
            <a:ext cx="633240" cy="328680"/>
          </a:xfrm>
          <a:prstGeom prst="leftArrow">
            <a:avLst>
              <a:gd name="adj1" fmla="val 50000"/>
              <a:gd name="adj2" fmla="val 4816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572360" y="3182760"/>
            <a:ext cx="2818800" cy="581040"/>
            <a:chOff x="4572360" y="3182760"/>
            <a:chExt cx="2818800" cy="581040"/>
          </a:xfrm>
        </p:grpSpPr>
        <p:sp>
          <p:nvSpPr>
            <p:cNvPr id="533" name=""/>
            <p:cNvSpPr/>
            <p:nvPr/>
          </p:nvSpPr>
          <p:spPr>
            <a:xfrm>
              <a:off x="4572360" y="31971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257080" y="3182760"/>
              <a:ext cx="2134080" cy="581040"/>
              <a:chOff x="5257080" y="3182760"/>
              <a:chExt cx="2134080" cy="581040"/>
            </a:xfrm>
          </p:grpSpPr>
          <p:sp>
            <p:nvSpPr>
              <p:cNvPr id="535" name=""/>
              <p:cNvSpPr/>
              <p:nvPr/>
            </p:nvSpPr>
            <p:spPr>
              <a:xfrm>
                <a:off x="5945040" y="318276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Obj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Métod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36" name=""/>
              <p:cNvCxnSpPr>
                <a:stCxn id="535" idx="1"/>
              </p:cNvCxnSpPr>
              <p:nvPr/>
            </p:nvCxnSpPr>
            <p:spPr>
              <a:xfrm flipH="1">
                <a:off x="5257080" y="347292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537" name=""/>
          <p:cNvSpPr/>
          <p:nvPr/>
        </p:nvSpPr>
        <p:spPr>
          <a:xfrm>
            <a:off x="6472080" y="304020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6074600">
            <a:off x="-552960" y="3384720"/>
            <a:ext cx="2055960" cy="533160"/>
          </a:xfrm>
          <a:custGeom>
            <a:avLst/>
            <a:gdLst>
              <a:gd name="textAreaLeft" fmla="*/ 0 w 2055960"/>
              <a:gd name="textAreaRight" fmla="*/ 2056320 w 2055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777121"/>
                <a:lnTo>
                  <a:pt x="1737" y="16675"/>
                </a:lnTo>
                <a:arcTo wR="10800" hR="10800" stAng="8822879" swAng="1277712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574160" y="2511360"/>
            <a:ext cx="2817000" cy="581040"/>
            <a:chOff x="4574160" y="2511360"/>
            <a:chExt cx="2817000" cy="581040"/>
          </a:xfrm>
        </p:grpSpPr>
        <p:sp>
          <p:nvSpPr>
            <p:cNvPr id="540" name=""/>
            <p:cNvSpPr/>
            <p:nvPr/>
          </p:nvSpPr>
          <p:spPr>
            <a:xfrm>
              <a:off x="4574160" y="25732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257080" y="2511360"/>
              <a:ext cx="2134080" cy="581040"/>
              <a:chOff x="5257080" y="2511360"/>
              <a:chExt cx="2134080" cy="581040"/>
            </a:xfrm>
          </p:grpSpPr>
          <p:sp>
            <p:nvSpPr>
              <p:cNvPr id="542" name=""/>
              <p:cNvSpPr/>
              <p:nvPr/>
            </p:nvSpPr>
            <p:spPr>
              <a:xfrm>
                <a:off x="5945040" y="251136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lassFact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reateInstan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43" name=""/>
              <p:cNvCxnSpPr>
                <a:stCxn id="542" idx="1"/>
              </p:cNvCxnSpPr>
              <p:nvPr/>
            </p:nvCxnSpPr>
            <p:spPr>
              <a:xfrm flipH="1">
                <a:off x="5257080" y="280152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544" name=""/>
          <p:cNvSpPr/>
          <p:nvPr/>
        </p:nvSpPr>
        <p:spPr>
          <a:xfrm rot="15792000">
            <a:off x="4671720" y="2566440"/>
            <a:ext cx="306360" cy="2252520"/>
          </a:xfrm>
          <a:prstGeom prst="downArrow">
            <a:avLst>
              <a:gd name="adj1" fmla="val 50000"/>
              <a:gd name="adj2" fmla="val 18381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5032400">
            <a:off x="4605840" y="2070000"/>
            <a:ext cx="360360" cy="2327400"/>
          </a:xfrm>
          <a:prstGeom prst="downArrow">
            <a:avLst>
              <a:gd name="adj1" fmla="val 50000"/>
              <a:gd name="adj2" fmla="val 16146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 rot="21578400">
            <a:off x="2327040" y="4680360"/>
            <a:ext cx="4554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6074600">
            <a:off x="-1602360" y="3615120"/>
            <a:ext cx="4189680" cy="533520"/>
          </a:xfrm>
          <a:custGeom>
            <a:avLst/>
            <a:gdLst>
              <a:gd name="textAreaLeft" fmla="*/ 0 w 4189680"/>
              <a:gd name="textAreaRight" fmla="*/ 4190040 w 4189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4744" y="12188"/>
                </a:moveTo>
                <a:arcTo wR="-6213" hR="-6213" stAng="10025465" swAng="-12002585"/>
                <a:lnTo>
                  <a:pt x="1737" y="16675"/>
                </a:lnTo>
                <a:arcTo wR="10800" hR="10800" stAng="8822879" swAng="12002585"/>
                <a:lnTo>
                  <a:pt x="23959" y="7784"/>
                </a:lnTo>
                <a:lnTo>
                  <a:pt x="20207" y="13767"/>
                </a:lnTo>
                <a:lnTo>
                  <a:pt x="14224" y="100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72080" y="3124080"/>
            <a:ext cx="390600" cy="1440000"/>
          </a:xfrm>
          <a:prstGeom prst="upArrow">
            <a:avLst>
              <a:gd name="adj1" fmla="val 50000"/>
              <a:gd name="adj2" fmla="val 9216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8000">
            <a:off x="5638320" y="4191120"/>
            <a:ext cx="443160" cy="1523880"/>
          </a:xfrm>
          <a:prstGeom prst="upArrow">
            <a:avLst>
              <a:gd name="adj1" fmla="val 50000"/>
              <a:gd name="adj2" fmla="val 859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93880" y="26845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27400" y="2962440"/>
            <a:ext cx="303120" cy="501480"/>
          </a:xfrm>
          <a:prstGeom prst="downArrow">
            <a:avLst>
              <a:gd name="adj1" fmla="val 50000"/>
              <a:gd name="adj2" fmla="val 4136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882000" y="3463920"/>
            <a:ext cx="2740680" cy="1143000"/>
            <a:chOff x="882000" y="3463920"/>
            <a:chExt cx="2740680" cy="1143000"/>
          </a:xfrm>
        </p:grpSpPr>
        <p:sp>
          <p:nvSpPr>
            <p:cNvPr id="553" name=""/>
            <p:cNvSpPr/>
            <p:nvPr/>
          </p:nvSpPr>
          <p:spPr>
            <a:xfrm>
              <a:off x="2176560" y="3463920"/>
              <a:ext cx="1446120" cy="1143000"/>
            </a:xfrm>
            <a:prstGeom prst="roundRect">
              <a:avLst>
                <a:gd name="adj" fmla="val 16667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 Narrow"/>
                </a:rPr>
                <a:t>Proxy pa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 Narrow"/>
                </a:rPr>
                <a:t>Servidor.EX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54" name=""/>
            <p:cNvCxnSpPr/>
            <p:nvPr/>
          </p:nvCxnSpPr>
          <p:spPr>
            <a:xfrm flipH="1">
              <a:off x="1488960" y="3768480"/>
              <a:ext cx="68796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oval" w="lg"/>
            </a:ln>
          </p:spPr>
        </p:cxnSp>
        <p:sp>
          <p:nvSpPr>
            <p:cNvPr id="555" name=""/>
            <p:cNvSpPr/>
            <p:nvPr/>
          </p:nvSpPr>
          <p:spPr>
            <a:xfrm>
              <a:off x="882000" y="35402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880920" y="3997440"/>
            <a:ext cx="1295640" cy="459720"/>
            <a:chOff x="880920" y="3997440"/>
            <a:chExt cx="1295640" cy="459720"/>
          </a:xfrm>
        </p:grpSpPr>
        <p:cxnSp>
          <p:nvCxnSpPr>
            <p:cNvPr id="557" name=""/>
            <p:cNvCxnSpPr/>
            <p:nvPr/>
          </p:nvCxnSpPr>
          <p:spPr>
            <a:xfrm flipH="1">
              <a:off x="1488960" y="4225680"/>
              <a:ext cx="68796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oval" w="lg"/>
            </a:ln>
          </p:spPr>
        </p:cxnSp>
        <p:sp>
          <p:nvSpPr>
            <p:cNvPr id="558" name=""/>
            <p:cNvSpPr/>
            <p:nvPr/>
          </p:nvSpPr>
          <p:spPr>
            <a:xfrm>
              <a:off x="880920" y="3997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2438280" y="5791320"/>
            <a:ext cx="144792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8000" y="5835600"/>
            <a:ext cx="220968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g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{AppID} – Computador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5791320"/>
            <a:ext cx="144756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48640" y="606420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reate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15080" y="5824440"/>
            <a:ext cx="220968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g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{CLSID} – Servidor.EX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81080" y="609588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48520" y="601992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 rot="20054400">
            <a:off x="2862000" y="5492520"/>
            <a:ext cx="307800" cy="6091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7720" y="60418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977640" y="603252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riação de Objetos - Exemp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1585800"/>
            <a:ext cx="457200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OOL MyCheckingAccount::Init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nst CString&amp; nam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nst CString&amp; serverNam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String&amp; errms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Create server inf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ERVERINFO  serverInf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.dwReserved1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.dwReserved2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.pwszName    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Name.AllocSysString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.pAuthInfo  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Get the factory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ClassFactory* pICF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h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09880" y="1509840"/>
            <a:ext cx="579132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CoGetClass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(CLSID_Ch3CheckingAccount,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LSCTX_LOCAL_SERVER 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LSCTX_REMOTE_SERVER,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&amp;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D_IClassFactory,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(void**)&amp;pICF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::SysFreeString(serverInfo.pwsz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Create the instance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Unknown* pIUk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pICF-&gt;CreateInstance(NULL,IID_IUnknown, (void**)&amp;pIUk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ICF-&gt;Relea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Set the interfaces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with Query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tInterfaces(pIUk)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Initialize the na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STR bstrName = name.AllocSysString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m_pIAccountInit-&gt;Init(bstr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::SysFreeString(bstr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turn TR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estruição de Ob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 suporta contagem de referências e coleta de lixo distribuí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ndo o cliente não mais necessitar de um objeto, deve invocar o método IUnknown::Release, que decrementa o número de referências. Ao chegar a zero, o objeto é destruí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ambientes distribuídos há grande chance do cliente perder comunicação com o servidor: para isso são utilizadas estratégias como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inging/delta-pinging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otimizadas de modo a não haver degradação significativa d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estruição de Objetos - Exemp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66960" y="2286000"/>
            <a:ext cx="5410080" cy="39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yCheckingAccount::~MyCheckingAccoun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se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oid MyCheckingAccount::Rese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f (m_pIAccount) m_pIAccount-&gt;Relea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Account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f (m_pIAccountInit) m_pIAccountInit-&gt;Relea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AccountInit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f (m_pICheckingAccount) m_pICheckingAccount-&gt;Relea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CheckingAccount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bjetos X Compon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undamentos do 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ando um 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de serv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xies e Stu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rsh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ção de ob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truição de ob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ason Pritchard. COM and CORBA Side by Side (Addison-Wesley, 19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n Box. Essential COM (Addison-Wesley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ale Rogerson. Inside COM (Microsoft Press, 199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avid Chappell. Understanding ActiveX and OLE (Microsoft Press, 199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icrosoft Developer Network, em                                    http : // www.microsoft.com/msd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exandre Nardi. Curso “Organização e Desenvolvimento de Sistemas Distribuídos Utilizando Windows DNA” (Microsoft/Opus Software, 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ry Kirtland. COM+ Intern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88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cepção do 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fluenciado por trabalhos prévios em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talk, C++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SF Distributed Computing Environment (D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3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meira versão do COM, como parte d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E 2.0 SD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enas comunicação lo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-bit/single-threa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4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nçamento do W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ws NT 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uporte par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-bit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5: Windows NT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51/Windows 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equenas melhorias, como suporte para ambien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1640" y="11430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: Windows NT 4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CE-based Distributed COM (DCOM) protoc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elhorias em segurança 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: Microsoft Transaction Server (MTS)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onent-based Distributed Application Frame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8: Windows NT 4.0 Option P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soft Transaction Server 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soft Message Queue (MSMQ) 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 Information Server 4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000: Windows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M+, com a incorporação de diversos serviç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5715000" cy="4077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4197240" y="1746720"/>
            <a:ext cx="4939200" cy="1756440"/>
            <a:chOff x="4197240" y="1746720"/>
            <a:chExt cx="4939200" cy="1756440"/>
          </a:xfrm>
        </p:grpSpPr>
        <p:grpSp>
          <p:nvGrpSpPr>
            <p:cNvPr id="100" name=""/>
            <p:cNvGrpSpPr/>
            <p:nvPr/>
          </p:nvGrpSpPr>
          <p:grpSpPr>
            <a:xfrm>
              <a:off x="4197240" y="1746720"/>
              <a:ext cx="2316240" cy="1756440"/>
              <a:chOff x="4197240" y="1746720"/>
              <a:chExt cx="2316240" cy="1756440"/>
            </a:xfrm>
          </p:grpSpPr>
          <p:sp>
            <p:nvSpPr>
              <p:cNvPr id="101" name=""/>
              <p:cNvSpPr/>
              <p:nvPr/>
            </p:nvSpPr>
            <p:spPr>
              <a:xfrm flipH="1" flipV="1" rot="21279600">
                <a:off x="4264920" y="1860480"/>
                <a:ext cx="2019240" cy="1551600"/>
              </a:xfrm>
              <a:custGeom>
                <a:avLst/>
                <a:gdLst/>
                <a:ahLst/>
                <a:rect l="l" t="t" r="r" b="b"/>
                <a:pathLst>
                  <a:path w="941" h="1023">
                    <a:moveTo>
                      <a:pt x="940" y="0"/>
                    </a:moveTo>
                    <a:lnTo>
                      <a:pt x="929" y="54"/>
                    </a:lnTo>
                    <a:lnTo>
                      <a:pt x="919" y="80"/>
                    </a:lnTo>
                    <a:lnTo>
                      <a:pt x="909" y="111"/>
                    </a:lnTo>
                    <a:lnTo>
                      <a:pt x="898" y="143"/>
                    </a:lnTo>
                    <a:lnTo>
                      <a:pt x="887" y="173"/>
                    </a:lnTo>
                    <a:lnTo>
                      <a:pt x="872" y="203"/>
                    </a:lnTo>
                    <a:lnTo>
                      <a:pt x="858" y="230"/>
                    </a:lnTo>
                    <a:lnTo>
                      <a:pt x="842" y="261"/>
                    </a:lnTo>
                    <a:lnTo>
                      <a:pt x="819" y="298"/>
                    </a:lnTo>
                    <a:lnTo>
                      <a:pt x="793" y="333"/>
                    </a:lnTo>
                    <a:lnTo>
                      <a:pt x="768" y="364"/>
                    </a:lnTo>
                    <a:lnTo>
                      <a:pt x="741" y="400"/>
                    </a:lnTo>
                    <a:lnTo>
                      <a:pt x="709" y="434"/>
                    </a:lnTo>
                    <a:lnTo>
                      <a:pt x="678" y="467"/>
                    </a:lnTo>
                    <a:lnTo>
                      <a:pt x="650" y="497"/>
                    </a:lnTo>
                    <a:lnTo>
                      <a:pt x="618" y="529"/>
                    </a:lnTo>
                    <a:lnTo>
                      <a:pt x="589" y="557"/>
                    </a:lnTo>
                    <a:lnTo>
                      <a:pt x="557" y="589"/>
                    </a:lnTo>
                    <a:lnTo>
                      <a:pt x="525" y="619"/>
                    </a:lnTo>
                    <a:lnTo>
                      <a:pt x="485" y="651"/>
                    </a:lnTo>
                    <a:lnTo>
                      <a:pt x="456" y="677"/>
                    </a:lnTo>
                    <a:lnTo>
                      <a:pt x="414" y="708"/>
                    </a:lnTo>
                    <a:lnTo>
                      <a:pt x="377" y="735"/>
                    </a:lnTo>
                    <a:lnTo>
                      <a:pt x="339" y="762"/>
                    </a:lnTo>
                    <a:lnTo>
                      <a:pt x="299" y="784"/>
                    </a:lnTo>
                    <a:lnTo>
                      <a:pt x="269" y="801"/>
                    </a:lnTo>
                    <a:lnTo>
                      <a:pt x="235" y="817"/>
                    </a:lnTo>
                    <a:lnTo>
                      <a:pt x="212" y="1022"/>
                    </a:lnTo>
                    <a:lnTo>
                      <a:pt x="204" y="990"/>
                    </a:lnTo>
                    <a:lnTo>
                      <a:pt x="191" y="967"/>
                    </a:lnTo>
                    <a:lnTo>
                      <a:pt x="184" y="939"/>
                    </a:lnTo>
                    <a:lnTo>
                      <a:pt x="167" y="917"/>
                    </a:lnTo>
                    <a:lnTo>
                      <a:pt x="155" y="901"/>
                    </a:lnTo>
                    <a:lnTo>
                      <a:pt x="147" y="885"/>
                    </a:lnTo>
                    <a:lnTo>
                      <a:pt x="134" y="868"/>
                    </a:lnTo>
                    <a:lnTo>
                      <a:pt x="121" y="852"/>
                    </a:lnTo>
                    <a:lnTo>
                      <a:pt x="101" y="836"/>
                    </a:lnTo>
                    <a:lnTo>
                      <a:pt x="83" y="818"/>
                    </a:lnTo>
                    <a:lnTo>
                      <a:pt x="64" y="800"/>
                    </a:lnTo>
                    <a:lnTo>
                      <a:pt x="42" y="785"/>
                    </a:lnTo>
                    <a:lnTo>
                      <a:pt x="19" y="769"/>
                    </a:lnTo>
                    <a:lnTo>
                      <a:pt x="0" y="757"/>
                    </a:lnTo>
                    <a:lnTo>
                      <a:pt x="12" y="738"/>
                    </a:lnTo>
                    <a:lnTo>
                      <a:pt x="31" y="722"/>
                    </a:lnTo>
                    <a:lnTo>
                      <a:pt x="46" y="705"/>
                    </a:lnTo>
                    <a:lnTo>
                      <a:pt x="65" y="681"/>
                    </a:lnTo>
                    <a:lnTo>
                      <a:pt x="86" y="660"/>
                    </a:lnTo>
                    <a:lnTo>
                      <a:pt x="100" y="640"/>
                    </a:lnTo>
                    <a:lnTo>
                      <a:pt x="114" y="620"/>
                    </a:lnTo>
                    <a:lnTo>
                      <a:pt x="128" y="597"/>
                    </a:lnTo>
                    <a:lnTo>
                      <a:pt x="141" y="577"/>
                    </a:lnTo>
                    <a:lnTo>
                      <a:pt x="160" y="552"/>
                    </a:lnTo>
                    <a:lnTo>
                      <a:pt x="174" y="533"/>
                    </a:lnTo>
                    <a:lnTo>
                      <a:pt x="185" y="509"/>
                    </a:lnTo>
                    <a:lnTo>
                      <a:pt x="200" y="488"/>
                    </a:lnTo>
                    <a:lnTo>
                      <a:pt x="212" y="465"/>
                    </a:lnTo>
                    <a:lnTo>
                      <a:pt x="225" y="446"/>
                    </a:lnTo>
                    <a:lnTo>
                      <a:pt x="240" y="421"/>
                    </a:lnTo>
                    <a:lnTo>
                      <a:pt x="254" y="390"/>
                    </a:lnTo>
                    <a:lnTo>
                      <a:pt x="248" y="598"/>
                    </a:lnTo>
                    <a:lnTo>
                      <a:pt x="295" y="580"/>
                    </a:lnTo>
                    <a:lnTo>
                      <a:pt x="333" y="560"/>
                    </a:lnTo>
                    <a:lnTo>
                      <a:pt x="401" y="523"/>
                    </a:lnTo>
                    <a:lnTo>
                      <a:pt x="436" y="503"/>
                    </a:lnTo>
                    <a:lnTo>
                      <a:pt x="468" y="482"/>
                    </a:lnTo>
                    <a:lnTo>
                      <a:pt x="510" y="455"/>
                    </a:lnTo>
                    <a:lnTo>
                      <a:pt x="555" y="424"/>
                    </a:lnTo>
                    <a:lnTo>
                      <a:pt x="588" y="394"/>
                    </a:lnTo>
                    <a:lnTo>
                      <a:pt x="637" y="355"/>
                    </a:lnTo>
                    <a:lnTo>
                      <a:pt x="673" y="323"/>
                    </a:lnTo>
                    <a:lnTo>
                      <a:pt x="701" y="293"/>
                    </a:lnTo>
                    <a:lnTo>
                      <a:pt x="730" y="266"/>
                    </a:lnTo>
                    <a:lnTo>
                      <a:pt x="747" y="248"/>
                    </a:lnTo>
                    <a:lnTo>
                      <a:pt x="768" y="214"/>
                    </a:lnTo>
                    <a:lnTo>
                      <a:pt x="790" y="184"/>
                    </a:lnTo>
                    <a:lnTo>
                      <a:pt x="816" y="149"/>
                    </a:lnTo>
                    <a:lnTo>
                      <a:pt x="840" y="104"/>
                    </a:lnTo>
                    <a:lnTo>
                      <a:pt x="861" y="70"/>
                    </a:lnTo>
                    <a:lnTo>
                      <a:pt x="880" y="2"/>
                    </a:lnTo>
                    <a:lnTo>
                      <a:pt x="940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 rot="21279600">
                <a:off x="4387680" y="1838880"/>
                <a:ext cx="2057760" cy="1549800"/>
              </a:xfrm>
              <a:custGeom>
                <a:avLst/>
                <a:gdLst/>
                <a:ahLst/>
                <a:rect l="l" t="t" r="r" b="b"/>
                <a:pathLst>
                  <a:path w="959" h="1022">
                    <a:moveTo>
                      <a:pt x="958" y="0"/>
                    </a:moveTo>
                    <a:lnTo>
                      <a:pt x="947" y="53"/>
                    </a:lnTo>
                    <a:lnTo>
                      <a:pt x="938" y="80"/>
                    </a:lnTo>
                    <a:lnTo>
                      <a:pt x="930" y="110"/>
                    </a:lnTo>
                    <a:lnTo>
                      <a:pt x="919" y="140"/>
                    </a:lnTo>
                    <a:lnTo>
                      <a:pt x="907" y="172"/>
                    </a:lnTo>
                    <a:lnTo>
                      <a:pt x="892" y="202"/>
                    </a:lnTo>
                    <a:lnTo>
                      <a:pt x="877" y="229"/>
                    </a:lnTo>
                    <a:lnTo>
                      <a:pt x="859" y="260"/>
                    </a:lnTo>
                    <a:lnTo>
                      <a:pt x="836" y="297"/>
                    </a:lnTo>
                    <a:lnTo>
                      <a:pt x="811" y="331"/>
                    </a:lnTo>
                    <a:lnTo>
                      <a:pt x="785" y="364"/>
                    </a:lnTo>
                    <a:lnTo>
                      <a:pt x="759" y="397"/>
                    </a:lnTo>
                    <a:lnTo>
                      <a:pt x="727" y="432"/>
                    </a:lnTo>
                    <a:lnTo>
                      <a:pt x="694" y="465"/>
                    </a:lnTo>
                    <a:lnTo>
                      <a:pt x="663" y="495"/>
                    </a:lnTo>
                    <a:lnTo>
                      <a:pt x="633" y="529"/>
                    </a:lnTo>
                    <a:lnTo>
                      <a:pt x="602" y="556"/>
                    </a:lnTo>
                    <a:lnTo>
                      <a:pt x="569" y="588"/>
                    </a:lnTo>
                    <a:lnTo>
                      <a:pt x="537" y="618"/>
                    </a:lnTo>
                    <a:lnTo>
                      <a:pt x="499" y="649"/>
                    </a:lnTo>
                    <a:lnTo>
                      <a:pt x="465" y="676"/>
                    </a:lnTo>
                    <a:lnTo>
                      <a:pt x="425" y="708"/>
                    </a:lnTo>
                    <a:lnTo>
                      <a:pt x="385" y="734"/>
                    </a:lnTo>
                    <a:lnTo>
                      <a:pt x="350" y="760"/>
                    </a:lnTo>
                    <a:lnTo>
                      <a:pt x="308" y="784"/>
                    </a:lnTo>
                    <a:lnTo>
                      <a:pt x="277" y="801"/>
                    </a:lnTo>
                    <a:lnTo>
                      <a:pt x="240" y="818"/>
                    </a:lnTo>
                    <a:lnTo>
                      <a:pt x="224" y="1021"/>
                    </a:lnTo>
                    <a:lnTo>
                      <a:pt x="211" y="989"/>
                    </a:lnTo>
                    <a:lnTo>
                      <a:pt x="198" y="965"/>
                    </a:lnTo>
                    <a:lnTo>
                      <a:pt x="186" y="939"/>
                    </a:lnTo>
                    <a:lnTo>
                      <a:pt x="174" y="917"/>
                    </a:lnTo>
                    <a:lnTo>
                      <a:pt x="162" y="899"/>
                    </a:lnTo>
                    <a:lnTo>
                      <a:pt x="152" y="881"/>
                    </a:lnTo>
                    <a:lnTo>
                      <a:pt x="135" y="868"/>
                    </a:lnTo>
                    <a:lnTo>
                      <a:pt x="121" y="853"/>
                    </a:lnTo>
                    <a:lnTo>
                      <a:pt x="106" y="836"/>
                    </a:lnTo>
                    <a:lnTo>
                      <a:pt x="84" y="822"/>
                    </a:lnTo>
                    <a:lnTo>
                      <a:pt x="66" y="802"/>
                    </a:lnTo>
                    <a:lnTo>
                      <a:pt x="43" y="785"/>
                    </a:lnTo>
                    <a:lnTo>
                      <a:pt x="20" y="769"/>
                    </a:lnTo>
                    <a:lnTo>
                      <a:pt x="0" y="756"/>
                    </a:lnTo>
                    <a:lnTo>
                      <a:pt x="14" y="740"/>
                    </a:lnTo>
                    <a:lnTo>
                      <a:pt x="31" y="723"/>
                    </a:lnTo>
                    <a:lnTo>
                      <a:pt x="48" y="705"/>
                    </a:lnTo>
                    <a:lnTo>
                      <a:pt x="65" y="681"/>
                    </a:lnTo>
                    <a:lnTo>
                      <a:pt x="88" y="660"/>
                    </a:lnTo>
                    <a:lnTo>
                      <a:pt x="103" y="641"/>
                    </a:lnTo>
                    <a:lnTo>
                      <a:pt x="113" y="622"/>
                    </a:lnTo>
                    <a:lnTo>
                      <a:pt x="129" y="599"/>
                    </a:lnTo>
                    <a:lnTo>
                      <a:pt x="146" y="575"/>
                    </a:lnTo>
                    <a:lnTo>
                      <a:pt x="162" y="552"/>
                    </a:lnTo>
                    <a:lnTo>
                      <a:pt x="178" y="531"/>
                    </a:lnTo>
                    <a:lnTo>
                      <a:pt x="190" y="510"/>
                    </a:lnTo>
                    <a:lnTo>
                      <a:pt x="202" y="488"/>
                    </a:lnTo>
                    <a:lnTo>
                      <a:pt x="215" y="465"/>
                    </a:lnTo>
                    <a:lnTo>
                      <a:pt x="227" y="446"/>
                    </a:lnTo>
                    <a:lnTo>
                      <a:pt x="243" y="421"/>
                    </a:lnTo>
                    <a:lnTo>
                      <a:pt x="257" y="391"/>
                    </a:lnTo>
                    <a:lnTo>
                      <a:pt x="254" y="599"/>
                    </a:lnTo>
                    <a:lnTo>
                      <a:pt x="301" y="582"/>
                    </a:lnTo>
                    <a:lnTo>
                      <a:pt x="340" y="560"/>
                    </a:lnTo>
                    <a:lnTo>
                      <a:pt x="412" y="523"/>
                    </a:lnTo>
                    <a:lnTo>
                      <a:pt x="445" y="505"/>
                    </a:lnTo>
                    <a:lnTo>
                      <a:pt x="479" y="483"/>
                    </a:lnTo>
                    <a:lnTo>
                      <a:pt x="533" y="445"/>
                    </a:lnTo>
                    <a:lnTo>
                      <a:pt x="568" y="423"/>
                    </a:lnTo>
                    <a:lnTo>
                      <a:pt x="608" y="397"/>
                    </a:lnTo>
                    <a:lnTo>
                      <a:pt x="642" y="374"/>
                    </a:lnTo>
                    <a:lnTo>
                      <a:pt x="670" y="352"/>
                    </a:lnTo>
                    <a:lnTo>
                      <a:pt x="694" y="334"/>
                    </a:lnTo>
                    <a:lnTo>
                      <a:pt x="723" y="311"/>
                    </a:lnTo>
                    <a:lnTo>
                      <a:pt x="754" y="286"/>
                    </a:lnTo>
                    <a:lnTo>
                      <a:pt x="778" y="260"/>
                    </a:lnTo>
                    <a:lnTo>
                      <a:pt x="801" y="234"/>
                    </a:lnTo>
                    <a:lnTo>
                      <a:pt x="828" y="206"/>
                    </a:lnTo>
                    <a:lnTo>
                      <a:pt x="847" y="177"/>
                    </a:lnTo>
                    <a:lnTo>
                      <a:pt x="870" y="144"/>
                    </a:lnTo>
                    <a:lnTo>
                      <a:pt x="890" y="116"/>
                    </a:lnTo>
                    <a:lnTo>
                      <a:pt x="908" y="84"/>
                    </a:lnTo>
                    <a:lnTo>
                      <a:pt x="926" y="52"/>
                    </a:lnTo>
                    <a:lnTo>
                      <a:pt x="958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 rot="21279600">
                <a:off x="5697360" y="1801800"/>
                <a:ext cx="208080" cy="316800"/>
              </a:xfrm>
              <a:custGeom>
                <a:avLst/>
                <a:gdLst/>
                <a:ahLst/>
                <a:rect l="l" t="t" r="r" b="b"/>
                <a:pathLst>
                  <a:path w="97" h="209">
                    <a:moveTo>
                      <a:pt x="66" y="201"/>
                    </a:moveTo>
                    <a:lnTo>
                      <a:pt x="0" y="208"/>
                    </a:lnTo>
                    <a:lnTo>
                      <a:pt x="6" y="8"/>
                    </a:lnTo>
                    <a:lnTo>
                      <a:pt x="96" y="0"/>
                    </a:lnTo>
                    <a:lnTo>
                      <a:pt x="66" y="20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 rot="21279600">
                <a:off x="5731920" y="2443680"/>
                <a:ext cx="176040" cy="326160"/>
              </a:xfrm>
              <a:custGeom>
                <a:avLst/>
                <a:gdLst/>
                <a:ahLst/>
                <a:rect l="l" t="t" r="r" b="b"/>
                <a:pathLst>
                  <a:path w="82" h="215">
                    <a:moveTo>
                      <a:pt x="81" y="0"/>
                    </a:moveTo>
                    <a:lnTo>
                      <a:pt x="8" y="7"/>
                    </a:lnTo>
                    <a:lnTo>
                      <a:pt x="0" y="214"/>
                    </a:lnTo>
                    <a:lnTo>
                      <a:pt x="36" y="205"/>
                    </a:lnTo>
                    <a:lnTo>
                      <a:pt x="71" y="189"/>
                    </a:lnTo>
                    <a:lnTo>
                      <a:pt x="81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excel" descr="*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6285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108560" y="1905120"/>
              <a:ext cx="202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Microsoft Excel 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4040" y="228600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5800" y="3384000"/>
            <a:ext cx="3429000" cy="3274560"/>
            <a:chOff x="685800" y="3384000"/>
            <a:chExt cx="3429000" cy="3274560"/>
          </a:xfrm>
        </p:grpSpPr>
        <p:grpSp>
          <p:nvGrpSpPr>
            <p:cNvPr id="109" name=""/>
            <p:cNvGrpSpPr/>
            <p:nvPr/>
          </p:nvGrpSpPr>
          <p:grpSpPr>
            <a:xfrm>
              <a:off x="970560" y="3384000"/>
              <a:ext cx="1536120" cy="1981080"/>
              <a:chOff x="970560" y="3384000"/>
              <a:chExt cx="1536120" cy="1981080"/>
            </a:xfrm>
          </p:grpSpPr>
          <p:sp>
            <p:nvSpPr>
              <p:cNvPr id="110" name=""/>
              <p:cNvSpPr/>
              <p:nvPr/>
            </p:nvSpPr>
            <p:spPr>
              <a:xfrm rot="10479600">
                <a:off x="1053720" y="3458880"/>
                <a:ext cx="1269000" cy="1851120"/>
              </a:xfrm>
              <a:custGeom>
                <a:avLst/>
                <a:gdLst/>
                <a:ahLst/>
                <a:rect l="l" t="t" r="r" b="b"/>
                <a:pathLst>
                  <a:path w="941" h="1023">
                    <a:moveTo>
                      <a:pt x="940" y="0"/>
                    </a:moveTo>
                    <a:lnTo>
                      <a:pt x="929" y="54"/>
                    </a:lnTo>
                    <a:lnTo>
                      <a:pt x="919" y="80"/>
                    </a:lnTo>
                    <a:lnTo>
                      <a:pt x="909" y="111"/>
                    </a:lnTo>
                    <a:lnTo>
                      <a:pt x="898" y="143"/>
                    </a:lnTo>
                    <a:lnTo>
                      <a:pt x="887" y="173"/>
                    </a:lnTo>
                    <a:lnTo>
                      <a:pt x="872" y="203"/>
                    </a:lnTo>
                    <a:lnTo>
                      <a:pt x="858" y="230"/>
                    </a:lnTo>
                    <a:lnTo>
                      <a:pt x="842" y="261"/>
                    </a:lnTo>
                    <a:lnTo>
                      <a:pt x="819" y="298"/>
                    </a:lnTo>
                    <a:lnTo>
                      <a:pt x="793" y="333"/>
                    </a:lnTo>
                    <a:lnTo>
                      <a:pt x="768" y="364"/>
                    </a:lnTo>
                    <a:lnTo>
                      <a:pt x="741" y="400"/>
                    </a:lnTo>
                    <a:lnTo>
                      <a:pt x="709" y="434"/>
                    </a:lnTo>
                    <a:lnTo>
                      <a:pt x="678" y="467"/>
                    </a:lnTo>
                    <a:lnTo>
                      <a:pt x="650" y="497"/>
                    </a:lnTo>
                    <a:lnTo>
                      <a:pt x="618" y="529"/>
                    </a:lnTo>
                    <a:lnTo>
                      <a:pt x="589" y="557"/>
                    </a:lnTo>
                    <a:lnTo>
                      <a:pt x="557" y="589"/>
                    </a:lnTo>
                    <a:lnTo>
                      <a:pt x="525" y="619"/>
                    </a:lnTo>
                    <a:lnTo>
                      <a:pt x="485" y="651"/>
                    </a:lnTo>
                    <a:lnTo>
                      <a:pt x="456" y="677"/>
                    </a:lnTo>
                    <a:lnTo>
                      <a:pt x="414" y="708"/>
                    </a:lnTo>
                    <a:lnTo>
                      <a:pt x="377" y="735"/>
                    </a:lnTo>
                    <a:lnTo>
                      <a:pt x="339" y="762"/>
                    </a:lnTo>
                    <a:lnTo>
                      <a:pt x="299" y="784"/>
                    </a:lnTo>
                    <a:lnTo>
                      <a:pt x="269" y="801"/>
                    </a:lnTo>
                    <a:lnTo>
                      <a:pt x="235" y="817"/>
                    </a:lnTo>
                    <a:lnTo>
                      <a:pt x="212" y="1022"/>
                    </a:lnTo>
                    <a:lnTo>
                      <a:pt x="204" y="990"/>
                    </a:lnTo>
                    <a:lnTo>
                      <a:pt x="191" y="967"/>
                    </a:lnTo>
                    <a:lnTo>
                      <a:pt x="184" y="939"/>
                    </a:lnTo>
                    <a:lnTo>
                      <a:pt x="167" y="917"/>
                    </a:lnTo>
                    <a:lnTo>
                      <a:pt x="155" y="901"/>
                    </a:lnTo>
                    <a:lnTo>
                      <a:pt x="147" y="885"/>
                    </a:lnTo>
                    <a:lnTo>
                      <a:pt x="134" y="868"/>
                    </a:lnTo>
                    <a:lnTo>
                      <a:pt x="121" y="852"/>
                    </a:lnTo>
                    <a:lnTo>
                      <a:pt x="101" y="836"/>
                    </a:lnTo>
                    <a:lnTo>
                      <a:pt x="83" y="818"/>
                    </a:lnTo>
                    <a:lnTo>
                      <a:pt x="64" y="800"/>
                    </a:lnTo>
                    <a:lnTo>
                      <a:pt x="42" y="785"/>
                    </a:lnTo>
                    <a:lnTo>
                      <a:pt x="19" y="769"/>
                    </a:lnTo>
                    <a:lnTo>
                      <a:pt x="0" y="757"/>
                    </a:lnTo>
                    <a:lnTo>
                      <a:pt x="12" y="738"/>
                    </a:lnTo>
                    <a:lnTo>
                      <a:pt x="31" y="722"/>
                    </a:lnTo>
                    <a:lnTo>
                      <a:pt x="46" y="705"/>
                    </a:lnTo>
                    <a:lnTo>
                      <a:pt x="65" y="681"/>
                    </a:lnTo>
                    <a:lnTo>
                      <a:pt x="86" y="660"/>
                    </a:lnTo>
                    <a:lnTo>
                      <a:pt x="100" y="640"/>
                    </a:lnTo>
                    <a:lnTo>
                      <a:pt x="114" y="620"/>
                    </a:lnTo>
                    <a:lnTo>
                      <a:pt x="128" y="597"/>
                    </a:lnTo>
                    <a:lnTo>
                      <a:pt x="141" y="577"/>
                    </a:lnTo>
                    <a:lnTo>
                      <a:pt x="160" y="552"/>
                    </a:lnTo>
                    <a:lnTo>
                      <a:pt x="174" y="533"/>
                    </a:lnTo>
                    <a:lnTo>
                      <a:pt x="185" y="509"/>
                    </a:lnTo>
                    <a:lnTo>
                      <a:pt x="200" y="488"/>
                    </a:lnTo>
                    <a:lnTo>
                      <a:pt x="212" y="465"/>
                    </a:lnTo>
                    <a:lnTo>
                      <a:pt x="225" y="446"/>
                    </a:lnTo>
                    <a:lnTo>
                      <a:pt x="240" y="421"/>
                    </a:lnTo>
                    <a:lnTo>
                      <a:pt x="254" y="390"/>
                    </a:lnTo>
                    <a:lnTo>
                      <a:pt x="248" y="598"/>
                    </a:lnTo>
                    <a:lnTo>
                      <a:pt x="295" y="580"/>
                    </a:lnTo>
                    <a:lnTo>
                      <a:pt x="333" y="560"/>
                    </a:lnTo>
                    <a:lnTo>
                      <a:pt x="401" y="523"/>
                    </a:lnTo>
                    <a:lnTo>
                      <a:pt x="436" y="503"/>
                    </a:lnTo>
                    <a:lnTo>
                      <a:pt x="468" y="482"/>
                    </a:lnTo>
                    <a:lnTo>
                      <a:pt x="510" y="455"/>
                    </a:lnTo>
                    <a:lnTo>
                      <a:pt x="555" y="424"/>
                    </a:lnTo>
                    <a:lnTo>
                      <a:pt x="588" y="394"/>
                    </a:lnTo>
                    <a:lnTo>
                      <a:pt x="637" y="355"/>
                    </a:lnTo>
                    <a:lnTo>
                      <a:pt x="673" y="323"/>
                    </a:lnTo>
                    <a:lnTo>
                      <a:pt x="701" y="293"/>
                    </a:lnTo>
                    <a:lnTo>
                      <a:pt x="730" y="266"/>
                    </a:lnTo>
                    <a:lnTo>
                      <a:pt x="747" y="248"/>
                    </a:lnTo>
                    <a:lnTo>
                      <a:pt x="768" y="214"/>
                    </a:lnTo>
                    <a:lnTo>
                      <a:pt x="790" y="184"/>
                    </a:lnTo>
                    <a:lnTo>
                      <a:pt x="816" y="149"/>
                    </a:lnTo>
                    <a:lnTo>
                      <a:pt x="840" y="104"/>
                    </a:lnTo>
                    <a:lnTo>
                      <a:pt x="861" y="70"/>
                    </a:lnTo>
                    <a:lnTo>
                      <a:pt x="880" y="2"/>
                    </a:lnTo>
                    <a:lnTo>
                      <a:pt x="940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0479600">
                <a:off x="1130040" y="3440160"/>
                <a:ext cx="1293120" cy="1848960"/>
              </a:xfrm>
              <a:custGeom>
                <a:avLst/>
                <a:gdLst/>
                <a:ahLst/>
                <a:rect l="l" t="t" r="r" b="b"/>
                <a:pathLst>
                  <a:path w="959" h="1022">
                    <a:moveTo>
                      <a:pt x="958" y="0"/>
                    </a:moveTo>
                    <a:lnTo>
                      <a:pt x="947" y="53"/>
                    </a:lnTo>
                    <a:lnTo>
                      <a:pt x="938" y="80"/>
                    </a:lnTo>
                    <a:lnTo>
                      <a:pt x="930" y="110"/>
                    </a:lnTo>
                    <a:lnTo>
                      <a:pt x="919" y="140"/>
                    </a:lnTo>
                    <a:lnTo>
                      <a:pt x="907" y="172"/>
                    </a:lnTo>
                    <a:lnTo>
                      <a:pt x="892" y="202"/>
                    </a:lnTo>
                    <a:lnTo>
                      <a:pt x="877" y="229"/>
                    </a:lnTo>
                    <a:lnTo>
                      <a:pt x="859" y="260"/>
                    </a:lnTo>
                    <a:lnTo>
                      <a:pt x="836" y="297"/>
                    </a:lnTo>
                    <a:lnTo>
                      <a:pt x="811" y="331"/>
                    </a:lnTo>
                    <a:lnTo>
                      <a:pt x="785" y="364"/>
                    </a:lnTo>
                    <a:lnTo>
                      <a:pt x="759" y="397"/>
                    </a:lnTo>
                    <a:lnTo>
                      <a:pt x="727" y="432"/>
                    </a:lnTo>
                    <a:lnTo>
                      <a:pt x="694" y="465"/>
                    </a:lnTo>
                    <a:lnTo>
                      <a:pt x="663" y="495"/>
                    </a:lnTo>
                    <a:lnTo>
                      <a:pt x="633" y="529"/>
                    </a:lnTo>
                    <a:lnTo>
                      <a:pt x="602" y="556"/>
                    </a:lnTo>
                    <a:lnTo>
                      <a:pt x="569" y="588"/>
                    </a:lnTo>
                    <a:lnTo>
                      <a:pt x="537" y="618"/>
                    </a:lnTo>
                    <a:lnTo>
                      <a:pt x="499" y="649"/>
                    </a:lnTo>
                    <a:lnTo>
                      <a:pt x="465" y="676"/>
                    </a:lnTo>
                    <a:lnTo>
                      <a:pt x="425" y="708"/>
                    </a:lnTo>
                    <a:lnTo>
                      <a:pt x="385" y="734"/>
                    </a:lnTo>
                    <a:lnTo>
                      <a:pt x="350" y="760"/>
                    </a:lnTo>
                    <a:lnTo>
                      <a:pt x="308" y="784"/>
                    </a:lnTo>
                    <a:lnTo>
                      <a:pt x="277" y="801"/>
                    </a:lnTo>
                    <a:lnTo>
                      <a:pt x="240" y="818"/>
                    </a:lnTo>
                    <a:lnTo>
                      <a:pt x="224" y="1021"/>
                    </a:lnTo>
                    <a:lnTo>
                      <a:pt x="211" y="989"/>
                    </a:lnTo>
                    <a:lnTo>
                      <a:pt x="198" y="965"/>
                    </a:lnTo>
                    <a:lnTo>
                      <a:pt x="186" y="939"/>
                    </a:lnTo>
                    <a:lnTo>
                      <a:pt x="174" y="917"/>
                    </a:lnTo>
                    <a:lnTo>
                      <a:pt x="162" y="899"/>
                    </a:lnTo>
                    <a:lnTo>
                      <a:pt x="152" y="881"/>
                    </a:lnTo>
                    <a:lnTo>
                      <a:pt x="135" y="868"/>
                    </a:lnTo>
                    <a:lnTo>
                      <a:pt x="121" y="853"/>
                    </a:lnTo>
                    <a:lnTo>
                      <a:pt x="106" y="836"/>
                    </a:lnTo>
                    <a:lnTo>
                      <a:pt x="84" y="822"/>
                    </a:lnTo>
                    <a:lnTo>
                      <a:pt x="66" y="802"/>
                    </a:lnTo>
                    <a:lnTo>
                      <a:pt x="43" y="785"/>
                    </a:lnTo>
                    <a:lnTo>
                      <a:pt x="20" y="769"/>
                    </a:lnTo>
                    <a:lnTo>
                      <a:pt x="0" y="756"/>
                    </a:lnTo>
                    <a:lnTo>
                      <a:pt x="14" y="740"/>
                    </a:lnTo>
                    <a:lnTo>
                      <a:pt x="31" y="723"/>
                    </a:lnTo>
                    <a:lnTo>
                      <a:pt x="48" y="705"/>
                    </a:lnTo>
                    <a:lnTo>
                      <a:pt x="65" y="681"/>
                    </a:lnTo>
                    <a:lnTo>
                      <a:pt x="88" y="660"/>
                    </a:lnTo>
                    <a:lnTo>
                      <a:pt x="103" y="641"/>
                    </a:lnTo>
                    <a:lnTo>
                      <a:pt x="113" y="622"/>
                    </a:lnTo>
                    <a:lnTo>
                      <a:pt x="129" y="599"/>
                    </a:lnTo>
                    <a:lnTo>
                      <a:pt x="146" y="575"/>
                    </a:lnTo>
                    <a:lnTo>
                      <a:pt x="162" y="552"/>
                    </a:lnTo>
                    <a:lnTo>
                      <a:pt x="178" y="531"/>
                    </a:lnTo>
                    <a:lnTo>
                      <a:pt x="190" y="510"/>
                    </a:lnTo>
                    <a:lnTo>
                      <a:pt x="202" y="488"/>
                    </a:lnTo>
                    <a:lnTo>
                      <a:pt x="215" y="465"/>
                    </a:lnTo>
                    <a:lnTo>
                      <a:pt x="227" y="446"/>
                    </a:lnTo>
                    <a:lnTo>
                      <a:pt x="243" y="421"/>
                    </a:lnTo>
                    <a:lnTo>
                      <a:pt x="257" y="391"/>
                    </a:lnTo>
                    <a:lnTo>
                      <a:pt x="254" y="599"/>
                    </a:lnTo>
                    <a:lnTo>
                      <a:pt x="301" y="582"/>
                    </a:lnTo>
                    <a:lnTo>
                      <a:pt x="340" y="560"/>
                    </a:lnTo>
                    <a:lnTo>
                      <a:pt x="412" y="523"/>
                    </a:lnTo>
                    <a:lnTo>
                      <a:pt x="445" y="505"/>
                    </a:lnTo>
                    <a:lnTo>
                      <a:pt x="479" y="483"/>
                    </a:lnTo>
                    <a:lnTo>
                      <a:pt x="533" y="445"/>
                    </a:lnTo>
                    <a:lnTo>
                      <a:pt x="568" y="423"/>
                    </a:lnTo>
                    <a:lnTo>
                      <a:pt x="608" y="397"/>
                    </a:lnTo>
                    <a:lnTo>
                      <a:pt x="642" y="374"/>
                    </a:lnTo>
                    <a:lnTo>
                      <a:pt x="670" y="352"/>
                    </a:lnTo>
                    <a:lnTo>
                      <a:pt x="694" y="334"/>
                    </a:lnTo>
                    <a:lnTo>
                      <a:pt x="723" y="311"/>
                    </a:lnTo>
                    <a:lnTo>
                      <a:pt x="754" y="286"/>
                    </a:lnTo>
                    <a:lnTo>
                      <a:pt x="778" y="260"/>
                    </a:lnTo>
                    <a:lnTo>
                      <a:pt x="801" y="234"/>
                    </a:lnTo>
                    <a:lnTo>
                      <a:pt x="828" y="206"/>
                    </a:lnTo>
                    <a:lnTo>
                      <a:pt x="847" y="177"/>
                    </a:lnTo>
                    <a:lnTo>
                      <a:pt x="870" y="144"/>
                    </a:lnTo>
                    <a:lnTo>
                      <a:pt x="890" y="116"/>
                    </a:lnTo>
                    <a:lnTo>
                      <a:pt x="908" y="84"/>
                    </a:lnTo>
                    <a:lnTo>
                      <a:pt x="926" y="52"/>
                    </a:lnTo>
                    <a:lnTo>
                      <a:pt x="958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0479600">
                <a:off x="1920960" y="3418920"/>
                <a:ext cx="130680" cy="378000"/>
              </a:xfrm>
              <a:custGeom>
                <a:avLst/>
                <a:gdLst/>
                <a:ahLst/>
                <a:rect l="l" t="t" r="r" b="b"/>
                <a:pathLst>
                  <a:path w="97" h="209">
                    <a:moveTo>
                      <a:pt x="66" y="201"/>
                    </a:moveTo>
                    <a:lnTo>
                      <a:pt x="0" y="208"/>
                    </a:lnTo>
                    <a:lnTo>
                      <a:pt x="6" y="8"/>
                    </a:lnTo>
                    <a:lnTo>
                      <a:pt x="96" y="0"/>
                    </a:lnTo>
                    <a:lnTo>
                      <a:pt x="66" y="20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0479600">
                <a:off x="1976760" y="4183200"/>
                <a:ext cx="110520" cy="388800"/>
              </a:xfrm>
              <a:custGeom>
                <a:avLst/>
                <a:gdLst/>
                <a:ahLst/>
                <a:rect l="l" t="t" r="r" b="b"/>
                <a:pathLst>
                  <a:path w="82" h="215">
                    <a:moveTo>
                      <a:pt x="81" y="0"/>
                    </a:moveTo>
                    <a:lnTo>
                      <a:pt x="8" y="7"/>
                    </a:lnTo>
                    <a:lnTo>
                      <a:pt x="0" y="214"/>
                    </a:lnTo>
                    <a:lnTo>
                      <a:pt x="36" y="205"/>
                    </a:lnTo>
                    <a:lnTo>
                      <a:pt x="71" y="189"/>
                    </a:lnTo>
                    <a:lnTo>
                      <a:pt x="81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4" name=""/>
            <p:cNvGraphicFramePr/>
            <p:nvPr/>
          </p:nvGraphicFramePr>
          <p:xfrm>
            <a:off x="685800" y="5410080"/>
            <a:ext cx="990720" cy="94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5410080"/>
                      <a:ext cx="99072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1816560" y="522288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INK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12960" y="5649840"/>
              <a:ext cx="2301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Dados permanecem no arquivo de orig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489560" y="3369600"/>
            <a:ext cx="4349520" cy="3049200"/>
            <a:chOff x="4489560" y="3369600"/>
            <a:chExt cx="4349520" cy="3049200"/>
          </a:xfrm>
        </p:grpSpPr>
        <p:sp>
          <p:nvSpPr>
            <p:cNvPr id="119" name=""/>
            <p:cNvSpPr/>
            <p:nvPr/>
          </p:nvSpPr>
          <p:spPr>
            <a:xfrm>
              <a:off x="6404760" y="5288040"/>
              <a:ext cx="200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MBEDD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571500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Dados são copiados para o arquivo desti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5257800" y="5410080"/>
            <a:ext cx="990720" cy="94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57800" y="5410080"/>
                      <a:ext cx="99072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3" name=""/>
            <p:cNvGrpSpPr/>
            <p:nvPr/>
          </p:nvGrpSpPr>
          <p:grpSpPr>
            <a:xfrm>
              <a:off x="4489560" y="3369600"/>
              <a:ext cx="1536480" cy="1981080"/>
              <a:chOff x="4489560" y="3369600"/>
              <a:chExt cx="1536480" cy="1981080"/>
            </a:xfrm>
          </p:grpSpPr>
          <p:sp>
            <p:nvSpPr>
              <p:cNvPr id="124" name=""/>
              <p:cNvSpPr/>
              <p:nvPr/>
            </p:nvSpPr>
            <p:spPr>
              <a:xfrm flipH="1" rot="11120400">
                <a:off x="4673160" y="3444120"/>
                <a:ext cx="1269000" cy="1851480"/>
              </a:xfrm>
              <a:custGeom>
                <a:avLst/>
                <a:gdLst/>
                <a:ahLst/>
                <a:rect l="l" t="t" r="r" b="b"/>
                <a:pathLst>
                  <a:path w="941" h="1023">
                    <a:moveTo>
                      <a:pt x="940" y="0"/>
                    </a:moveTo>
                    <a:lnTo>
                      <a:pt x="929" y="54"/>
                    </a:lnTo>
                    <a:lnTo>
                      <a:pt x="919" y="80"/>
                    </a:lnTo>
                    <a:lnTo>
                      <a:pt x="909" y="111"/>
                    </a:lnTo>
                    <a:lnTo>
                      <a:pt x="898" y="143"/>
                    </a:lnTo>
                    <a:lnTo>
                      <a:pt x="887" y="173"/>
                    </a:lnTo>
                    <a:lnTo>
                      <a:pt x="872" y="203"/>
                    </a:lnTo>
                    <a:lnTo>
                      <a:pt x="858" y="230"/>
                    </a:lnTo>
                    <a:lnTo>
                      <a:pt x="842" y="261"/>
                    </a:lnTo>
                    <a:lnTo>
                      <a:pt x="819" y="298"/>
                    </a:lnTo>
                    <a:lnTo>
                      <a:pt x="793" y="333"/>
                    </a:lnTo>
                    <a:lnTo>
                      <a:pt x="768" y="364"/>
                    </a:lnTo>
                    <a:lnTo>
                      <a:pt x="741" y="400"/>
                    </a:lnTo>
                    <a:lnTo>
                      <a:pt x="709" y="434"/>
                    </a:lnTo>
                    <a:lnTo>
                      <a:pt x="678" y="467"/>
                    </a:lnTo>
                    <a:lnTo>
                      <a:pt x="650" y="497"/>
                    </a:lnTo>
                    <a:lnTo>
                      <a:pt x="618" y="529"/>
                    </a:lnTo>
                    <a:lnTo>
                      <a:pt x="589" y="557"/>
                    </a:lnTo>
                    <a:lnTo>
                      <a:pt x="557" y="589"/>
                    </a:lnTo>
                    <a:lnTo>
                      <a:pt x="525" y="619"/>
                    </a:lnTo>
                    <a:lnTo>
                      <a:pt x="485" y="651"/>
                    </a:lnTo>
                    <a:lnTo>
                      <a:pt x="456" y="677"/>
                    </a:lnTo>
                    <a:lnTo>
                      <a:pt x="414" y="708"/>
                    </a:lnTo>
                    <a:lnTo>
                      <a:pt x="377" y="735"/>
                    </a:lnTo>
                    <a:lnTo>
                      <a:pt x="339" y="762"/>
                    </a:lnTo>
                    <a:lnTo>
                      <a:pt x="299" y="784"/>
                    </a:lnTo>
                    <a:lnTo>
                      <a:pt x="269" y="801"/>
                    </a:lnTo>
                    <a:lnTo>
                      <a:pt x="235" y="817"/>
                    </a:lnTo>
                    <a:lnTo>
                      <a:pt x="212" y="1022"/>
                    </a:lnTo>
                    <a:lnTo>
                      <a:pt x="204" y="990"/>
                    </a:lnTo>
                    <a:lnTo>
                      <a:pt x="191" y="967"/>
                    </a:lnTo>
                    <a:lnTo>
                      <a:pt x="184" y="939"/>
                    </a:lnTo>
                    <a:lnTo>
                      <a:pt x="167" y="917"/>
                    </a:lnTo>
                    <a:lnTo>
                      <a:pt x="155" y="901"/>
                    </a:lnTo>
                    <a:lnTo>
                      <a:pt x="147" y="885"/>
                    </a:lnTo>
                    <a:lnTo>
                      <a:pt x="134" y="868"/>
                    </a:lnTo>
                    <a:lnTo>
                      <a:pt x="121" y="852"/>
                    </a:lnTo>
                    <a:lnTo>
                      <a:pt x="101" y="836"/>
                    </a:lnTo>
                    <a:lnTo>
                      <a:pt x="83" y="818"/>
                    </a:lnTo>
                    <a:lnTo>
                      <a:pt x="64" y="800"/>
                    </a:lnTo>
                    <a:lnTo>
                      <a:pt x="42" y="785"/>
                    </a:lnTo>
                    <a:lnTo>
                      <a:pt x="19" y="769"/>
                    </a:lnTo>
                    <a:lnTo>
                      <a:pt x="0" y="757"/>
                    </a:lnTo>
                    <a:lnTo>
                      <a:pt x="12" y="738"/>
                    </a:lnTo>
                    <a:lnTo>
                      <a:pt x="31" y="722"/>
                    </a:lnTo>
                    <a:lnTo>
                      <a:pt x="46" y="705"/>
                    </a:lnTo>
                    <a:lnTo>
                      <a:pt x="65" y="681"/>
                    </a:lnTo>
                    <a:lnTo>
                      <a:pt x="86" y="660"/>
                    </a:lnTo>
                    <a:lnTo>
                      <a:pt x="100" y="640"/>
                    </a:lnTo>
                    <a:lnTo>
                      <a:pt x="114" y="620"/>
                    </a:lnTo>
                    <a:lnTo>
                      <a:pt x="128" y="597"/>
                    </a:lnTo>
                    <a:lnTo>
                      <a:pt x="141" y="577"/>
                    </a:lnTo>
                    <a:lnTo>
                      <a:pt x="160" y="552"/>
                    </a:lnTo>
                    <a:lnTo>
                      <a:pt x="174" y="533"/>
                    </a:lnTo>
                    <a:lnTo>
                      <a:pt x="185" y="509"/>
                    </a:lnTo>
                    <a:lnTo>
                      <a:pt x="200" y="488"/>
                    </a:lnTo>
                    <a:lnTo>
                      <a:pt x="212" y="465"/>
                    </a:lnTo>
                    <a:lnTo>
                      <a:pt x="225" y="446"/>
                    </a:lnTo>
                    <a:lnTo>
                      <a:pt x="240" y="421"/>
                    </a:lnTo>
                    <a:lnTo>
                      <a:pt x="254" y="390"/>
                    </a:lnTo>
                    <a:lnTo>
                      <a:pt x="248" y="598"/>
                    </a:lnTo>
                    <a:lnTo>
                      <a:pt x="295" y="580"/>
                    </a:lnTo>
                    <a:lnTo>
                      <a:pt x="333" y="560"/>
                    </a:lnTo>
                    <a:lnTo>
                      <a:pt x="401" y="523"/>
                    </a:lnTo>
                    <a:lnTo>
                      <a:pt x="436" y="503"/>
                    </a:lnTo>
                    <a:lnTo>
                      <a:pt x="468" y="482"/>
                    </a:lnTo>
                    <a:lnTo>
                      <a:pt x="510" y="455"/>
                    </a:lnTo>
                    <a:lnTo>
                      <a:pt x="555" y="424"/>
                    </a:lnTo>
                    <a:lnTo>
                      <a:pt x="588" y="394"/>
                    </a:lnTo>
                    <a:lnTo>
                      <a:pt x="637" y="355"/>
                    </a:lnTo>
                    <a:lnTo>
                      <a:pt x="673" y="323"/>
                    </a:lnTo>
                    <a:lnTo>
                      <a:pt x="701" y="293"/>
                    </a:lnTo>
                    <a:lnTo>
                      <a:pt x="730" y="266"/>
                    </a:lnTo>
                    <a:lnTo>
                      <a:pt x="747" y="248"/>
                    </a:lnTo>
                    <a:lnTo>
                      <a:pt x="768" y="214"/>
                    </a:lnTo>
                    <a:lnTo>
                      <a:pt x="790" y="184"/>
                    </a:lnTo>
                    <a:lnTo>
                      <a:pt x="816" y="149"/>
                    </a:lnTo>
                    <a:lnTo>
                      <a:pt x="840" y="104"/>
                    </a:lnTo>
                    <a:lnTo>
                      <a:pt x="861" y="70"/>
                    </a:lnTo>
                    <a:lnTo>
                      <a:pt x="880" y="2"/>
                    </a:lnTo>
                    <a:lnTo>
                      <a:pt x="940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rot="11120400">
                <a:off x="4572360" y="3425760"/>
                <a:ext cx="1293120" cy="1848960"/>
              </a:xfrm>
              <a:custGeom>
                <a:avLst/>
                <a:gdLst/>
                <a:ahLst/>
                <a:rect l="l" t="t" r="r" b="b"/>
                <a:pathLst>
                  <a:path w="959" h="1022">
                    <a:moveTo>
                      <a:pt x="958" y="0"/>
                    </a:moveTo>
                    <a:lnTo>
                      <a:pt x="947" y="53"/>
                    </a:lnTo>
                    <a:lnTo>
                      <a:pt x="938" y="80"/>
                    </a:lnTo>
                    <a:lnTo>
                      <a:pt x="930" y="110"/>
                    </a:lnTo>
                    <a:lnTo>
                      <a:pt x="919" y="140"/>
                    </a:lnTo>
                    <a:lnTo>
                      <a:pt x="907" y="172"/>
                    </a:lnTo>
                    <a:lnTo>
                      <a:pt x="892" y="202"/>
                    </a:lnTo>
                    <a:lnTo>
                      <a:pt x="877" y="229"/>
                    </a:lnTo>
                    <a:lnTo>
                      <a:pt x="859" y="260"/>
                    </a:lnTo>
                    <a:lnTo>
                      <a:pt x="836" y="297"/>
                    </a:lnTo>
                    <a:lnTo>
                      <a:pt x="811" y="331"/>
                    </a:lnTo>
                    <a:lnTo>
                      <a:pt x="785" y="364"/>
                    </a:lnTo>
                    <a:lnTo>
                      <a:pt x="759" y="397"/>
                    </a:lnTo>
                    <a:lnTo>
                      <a:pt x="727" y="432"/>
                    </a:lnTo>
                    <a:lnTo>
                      <a:pt x="694" y="465"/>
                    </a:lnTo>
                    <a:lnTo>
                      <a:pt x="663" y="495"/>
                    </a:lnTo>
                    <a:lnTo>
                      <a:pt x="633" y="529"/>
                    </a:lnTo>
                    <a:lnTo>
                      <a:pt x="602" y="556"/>
                    </a:lnTo>
                    <a:lnTo>
                      <a:pt x="569" y="588"/>
                    </a:lnTo>
                    <a:lnTo>
                      <a:pt x="537" y="618"/>
                    </a:lnTo>
                    <a:lnTo>
                      <a:pt x="499" y="649"/>
                    </a:lnTo>
                    <a:lnTo>
                      <a:pt x="465" y="676"/>
                    </a:lnTo>
                    <a:lnTo>
                      <a:pt x="425" y="708"/>
                    </a:lnTo>
                    <a:lnTo>
                      <a:pt x="385" y="734"/>
                    </a:lnTo>
                    <a:lnTo>
                      <a:pt x="350" y="760"/>
                    </a:lnTo>
                    <a:lnTo>
                      <a:pt x="308" y="784"/>
                    </a:lnTo>
                    <a:lnTo>
                      <a:pt x="277" y="801"/>
                    </a:lnTo>
                    <a:lnTo>
                      <a:pt x="240" y="818"/>
                    </a:lnTo>
                    <a:lnTo>
                      <a:pt x="224" y="1021"/>
                    </a:lnTo>
                    <a:lnTo>
                      <a:pt x="211" y="989"/>
                    </a:lnTo>
                    <a:lnTo>
                      <a:pt x="198" y="965"/>
                    </a:lnTo>
                    <a:lnTo>
                      <a:pt x="186" y="939"/>
                    </a:lnTo>
                    <a:lnTo>
                      <a:pt x="174" y="917"/>
                    </a:lnTo>
                    <a:lnTo>
                      <a:pt x="162" y="899"/>
                    </a:lnTo>
                    <a:lnTo>
                      <a:pt x="152" y="881"/>
                    </a:lnTo>
                    <a:lnTo>
                      <a:pt x="135" y="868"/>
                    </a:lnTo>
                    <a:lnTo>
                      <a:pt x="121" y="853"/>
                    </a:lnTo>
                    <a:lnTo>
                      <a:pt x="106" y="836"/>
                    </a:lnTo>
                    <a:lnTo>
                      <a:pt x="84" y="822"/>
                    </a:lnTo>
                    <a:lnTo>
                      <a:pt x="66" y="802"/>
                    </a:lnTo>
                    <a:lnTo>
                      <a:pt x="43" y="785"/>
                    </a:lnTo>
                    <a:lnTo>
                      <a:pt x="20" y="769"/>
                    </a:lnTo>
                    <a:lnTo>
                      <a:pt x="0" y="756"/>
                    </a:lnTo>
                    <a:lnTo>
                      <a:pt x="14" y="740"/>
                    </a:lnTo>
                    <a:lnTo>
                      <a:pt x="31" y="723"/>
                    </a:lnTo>
                    <a:lnTo>
                      <a:pt x="48" y="705"/>
                    </a:lnTo>
                    <a:lnTo>
                      <a:pt x="65" y="681"/>
                    </a:lnTo>
                    <a:lnTo>
                      <a:pt x="88" y="660"/>
                    </a:lnTo>
                    <a:lnTo>
                      <a:pt x="103" y="641"/>
                    </a:lnTo>
                    <a:lnTo>
                      <a:pt x="113" y="622"/>
                    </a:lnTo>
                    <a:lnTo>
                      <a:pt x="129" y="599"/>
                    </a:lnTo>
                    <a:lnTo>
                      <a:pt x="146" y="575"/>
                    </a:lnTo>
                    <a:lnTo>
                      <a:pt x="162" y="552"/>
                    </a:lnTo>
                    <a:lnTo>
                      <a:pt x="178" y="531"/>
                    </a:lnTo>
                    <a:lnTo>
                      <a:pt x="190" y="510"/>
                    </a:lnTo>
                    <a:lnTo>
                      <a:pt x="202" y="488"/>
                    </a:lnTo>
                    <a:lnTo>
                      <a:pt x="215" y="465"/>
                    </a:lnTo>
                    <a:lnTo>
                      <a:pt x="227" y="446"/>
                    </a:lnTo>
                    <a:lnTo>
                      <a:pt x="243" y="421"/>
                    </a:lnTo>
                    <a:lnTo>
                      <a:pt x="257" y="391"/>
                    </a:lnTo>
                    <a:lnTo>
                      <a:pt x="254" y="599"/>
                    </a:lnTo>
                    <a:lnTo>
                      <a:pt x="301" y="582"/>
                    </a:lnTo>
                    <a:lnTo>
                      <a:pt x="340" y="560"/>
                    </a:lnTo>
                    <a:lnTo>
                      <a:pt x="412" y="523"/>
                    </a:lnTo>
                    <a:lnTo>
                      <a:pt x="445" y="505"/>
                    </a:lnTo>
                    <a:lnTo>
                      <a:pt x="479" y="483"/>
                    </a:lnTo>
                    <a:lnTo>
                      <a:pt x="533" y="445"/>
                    </a:lnTo>
                    <a:lnTo>
                      <a:pt x="568" y="423"/>
                    </a:lnTo>
                    <a:lnTo>
                      <a:pt x="608" y="397"/>
                    </a:lnTo>
                    <a:lnTo>
                      <a:pt x="642" y="374"/>
                    </a:lnTo>
                    <a:lnTo>
                      <a:pt x="670" y="352"/>
                    </a:lnTo>
                    <a:lnTo>
                      <a:pt x="694" y="334"/>
                    </a:lnTo>
                    <a:lnTo>
                      <a:pt x="723" y="311"/>
                    </a:lnTo>
                    <a:lnTo>
                      <a:pt x="754" y="286"/>
                    </a:lnTo>
                    <a:lnTo>
                      <a:pt x="778" y="260"/>
                    </a:lnTo>
                    <a:lnTo>
                      <a:pt x="801" y="234"/>
                    </a:lnTo>
                    <a:lnTo>
                      <a:pt x="828" y="206"/>
                    </a:lnTo>
                    <a:lnTo>
                      <a:pt x="847" y="177"/>
                    </a:lnTo>
                    <a:lnTo>
                      <a:pt x="870" y="144"/>
                    </a:lnTo>
                    <a:lnTo>
                      <a:pt x="890" y="116"/>
                    </a:lnTo>
                    <a:lnTo>
                      <a:pt x="908" y="84"/>
                    </a:lnTo>
                    <a:lnTo>
                      <a:pt x="926" y="52"/>
                    </a:lnTo>
                    <a:lnTo>
                      <a:pt x="958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11120400">
                <a:off x="4944240" y="3403800"/>
                <a:ext cx="130680" cy="378360"/>
              </a:xfrm>
              <a:custGeom>
                <a:avLst/>
                <a:gdLst/>
                <a:ahLst/>
                <a:rect l="l" t="t" r="r" b="b"/>
                <a:pathLst>
                  <a:path w="97" h="209">
                    <a:moveTo>
                      <a:pt x="66" y="201"/>
                    </a:moveTo>
                    <a:lnTo>
                      <a:pt x="0" y="208"/>
                    </a:lnTo>
                    <a:lnTo>
                      <a:pt x="6" y="8"/>
                    </a:lnTo>
                    <a:lnTo>
                      <a:pt x="96" y="0"/>
                    </a:lnTo>
                    <a:lnTo>
                      <a:pt x="66" y="20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rot="11120400">
                <a:off x="4908960" y="4168440"/>
                <a:ext cx="110520" cy="389160"/>
              </a:xfrm>
              <a:custGeom>
                <a:avLst/>
                <a:gdLst/>
                <a:ahLst/>
                <a:rect l="l" t="t" r="r" b="b"/>
                <a:pathLst>
                  <a:path w="82" h="215">
                    <a:moveTo>
                      <a:pt x="81" y="0"/>
                    </a:moveTo>
                    <a:lnTo>
                      <a:pt x="8" y="7"/>
                    </a:lnTo>
                    <a:lnTo>
                      <a:pt x="0" y="214"/>
                    </a:lnTo>
                    <a:lnTo>
                      <a:pt x="36" y="205"/>
                    </a:lnTo>
                    <a:lnTo>
                      <a:pt x="71" y="189"/>
                    </a:lnTo>
                    <a:lnTo>
                      <a:pt x="81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5030640" y="38098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isual Ed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LE 2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ctiv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tiveX Contr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tiveX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tiveX DLL e 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indows DNA (Distributed interNet Applications Architec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áticas de programação recomend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icrosoft 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tos X Componen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bje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oridade para encapsulamento e reutilização de implementação através de he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aces de objetos representam um contr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oridade para conectividade (pluggabi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possível implementar um componente sem usar objeto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capsulamento é conseqü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erança deveria ser resultado de bo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ão contratos que descrevem as funcionalidades disponibilizadas pelos objetos d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finidas através da linguagem IDL (da Microsoft) – Interface Definition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r vezes substituído por Type Libraries, arquivos compilados (binários) que contém uma descrição padronizada de um objeto COM. Muito utilizado por clientes VB – facilita a codificação, eliminando a necessidade de conhecer a estrutura da IDL. Entretanto, muitas vezes é necessário utilizar I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 suporta herança (simples) de interfaces, mas não de implemen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62320" y="1828800"/>
            <a:ext cx="5813280" cy="49482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class Checking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 – Um exemp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438280"/>
            <a:ext cx="5333760" cy="1447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I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971800" y="2835360"/>
          <a:ext cx="4724280" cy="669960"/>
        </p:xfrm>
        <a:graphic>
          <a:graphicData uri="http://schemas.openxmlformats.org/drawingml/2006/table">
            <a:tbl>
              <a:tblPr/>
              <a:tblGrid>
                <a:gridCol w="820800"/>
                <a:gridCol w="3903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(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l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ithdraw(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90920" y="3962520"/>
            <a:ext cx="5333760" cy="1082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3962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IAccount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971800" y="4359240"/>
          <a:ext cx="4724280" cy="33516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t(na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590920" y="5105520"/>
            <a:ext cx="5333760" cy="1600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ICheckingAccount:I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971800" y="5502240"/>
          <a:ext cx="4724280" cy="100476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(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l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ithdraw(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ithdrawUsingCheck(checkNumber, 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48" name=""/>
          <p:cNvCxnSpPr/>
          <p:nvPr/>
        </p:nvCxnSpPr>
        <p:spPr>
          <a:xfrm flipH="1">
            <a:off x="1904400" y="3123720"/>
            <a:ext cx="6879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oval" w="lg"/>
          </a:ln>
        </p:spPr>
      </p:cxnSp>
      <p:cxnSp>
        <p:nvCxnSpPr>
          <p:cNvPr id="149" name=""/>
          <p:cNvCxnSpPr/>
          <p:nvPr/>
        </p:nvCxnSpPr>
        <p:spPr>
          <a:xfrm flipH="1">
            <a:off x="1904400" y="4495320"/>
            <a:ext cx="6879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oval" w="lg"/>
          </a:ln>
        </p:spPr>
      </p:cxnSp>
      <p:cxnSp>
        <p:nvCxnSpPr>
          <p:cNvPr id="150" name=""/>
          <p:cNvCxnSpPr/>
          <p:nvPr/>
        </p:nvCxnSpPr>
        <p:spPr>
          <a:xfrm flipH="1">
            <a:off x="1904400" y="5866920"/>
            <a:ext cx="6879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oval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8T13:16:59Z</dcterms:created>
  <dc:creator>Alexandre Ricardo Nardi</dc:creator>
  <dc:description/>
  <dc:language>en-US</dc:language>
  <cp:lastModifiedBy>Alexandre Ricardo Nardi</cp:lastModifiedBy>
  <dcterms:modified xsi:type="dcterms:W3CDTF">2001-05-25T15:45:00Z</dcterms:modified>
  <cp:revision>66</cp:revision>
  <dc:subject/>
  <dc:title>Arquitetura do COM</dc:title>
</cp:coreProperties>
</file>