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DD0-A9F3-4571-A461-B0D7EA40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231-4C18-4883-A380-F61D04D3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4D7-7037-4AF4-A736-84AC71C9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BA9-C5B0-4FCB-9D35-51913DAC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16D2-28B5-4A7F-9ACE-EC9CF3E1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1800-CB8E-4093-A2B7-DB2DA59C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5590-E5BA-474E-817D-D2156AC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5DAB-38F0-4082-A5CC-B665BBA6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1EF5-C105-4C02-AA29-8D4A0E0C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7B6-232F-49AD-94ED-F5A4117A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00EB-DE7A-48CC-AE05-22D2342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446-AC28-4651-9E69-729EFCD7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CC97-5E13-4B62-BBF0-11EFFBC7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018B-B9EF-4CC4-A18B-C567606B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C973-B02D-4F09-AE85-85644BFB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BFC4-0549-48F3-A0D7-D6E273B0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EB1C-3742-4C7A-A97A-6EAF5DC7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7A2-D890-4692-9A56-CF5DED08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DFE-3955-44E6-82BA-12E029EE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7AA-DC17-4353-A42B-F7EC50B8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F6C-AC60-48AA-8B73-76D3C204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CFA-E14E-4534-8402-8AB11745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245-3D8D-4BAB-8020-7F9D42CD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211-449D-4E52-AEA1-AF270533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92B9-ED2B-4C77-B5BC-2CD2DB74C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8FFB-F0E3-44C5-886C-2953460E3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Visão Geral do 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 Component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lexandre Ricardo Nardi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nardi@ime.usp.b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Uma referência a uma instância do componente Foo aparece para os clientes como um objeto CORBA tradicional. Assim, cliente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-una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podem invocar operações através de uma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equivalent interfac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é aquela que identifica unicamente a instância do componente, e que pode herdar de outras interfaces, chamada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upported interfac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Vimos que é difícil estender objetos CORBA apenas por herança. Como alternativa, CCM define o conceito denomina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et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semelhante às interfaces dos componentes COM, permitindo suporte a interfaces não relacionadas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unrelated interfa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. Os clientes podem navegar pelas interfaces de um componente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et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equivalent interfa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por intermédio da interfac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Naviga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definida em CORBA::CCMObject (herdada por todos os componentes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</a:t>
            </a:r>
            <a:br>
              <a:rPr sz="4400"/>
            </a:br>
            <a:r>
              <a:rPr b="0" lang="pt-BR" sz="2800" spc="-1" strike="noStrike">
                <a:solidFill>
                  <a:srgbClr val="ffcc66"/>
                </a:solidFill>
                <a:latin typeface="Arial"/>
              </a:rPr>
              <a:t>Gerenciamento do Ciclo de Vida dos Component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É importante que o servidor de componentes trate adequadamente os problemas relativos a gerenciamento do ciclo de vida dos componentes, e que os clientes auxiliem os servidores no tratamento relativo às instâncias de componentes que utilize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servidor deve saber quando criar e destruir instâncias no sentido de evita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resource leak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RBA Object Servi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efine 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Lifecycle Servic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não é de uso obrigatório, fazendo com que o desenvolvedor implemente sua própria estratégia de gerenciamen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introduz a palavra-chav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interface que pode ser usada pelos clientes para controlar o ciclo do componente, podendo se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keyles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suporte a operaçõe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ou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keyed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. Possui o méto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remove_component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notifica o servidor para tratar da remoção de uma instância conforme sua estratégi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Cenários de Uso de Componen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cliente deve obter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o componente. Para isso, CCM define a interfac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semelhante a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MG Naming Servic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implementa um serviço de diretório para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hom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. Para obter referência a esta interface utiliza-se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resolve_initial_references(“HomeFinder”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 partir desta referência, utiliza-se um dos métodos da interfac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para se obter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o componente. Por exemplo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ind_home_by_name(“HomeDoComponenteA”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Uma vez com uma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o componente, o cliente usa operações d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ou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conforme apropriado, para obter uma referência ao compone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Por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ão mecanismos de interação com entidades externas, como serviços fornecidos pelo ORB, outros componentes ou clientes. Existem os seguintes tipo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Facet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unrelated interface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): permitem reutilização através de composição, ao invés de heranç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Receptacle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modo de um componente delegar operações a outros componen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Event sources/sink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para publicação/subscrição a event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Attribute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facilitam a configuração dos componen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sses mecanismos podem ser utilizados pelo cliente, mas o objetivo principal dos três últimos relaciona-se à configuração dos componentes, sendo utilizados pela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CM deployment framework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Por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480" y="1447920"/>
            <a:ext cx="3186000" cy="3693960"/>
            <a:chOff x="609480" y="1447920"/>
            <a:chExt cx="3186000" cy="3693960"/>
          </a:xfrm>
        </p:grpSpPr>
        <p:sp>
          <p:nvSpPr>
            <p:cNvPr id="150" name=""/>
            <p:cNvSpPr/>
            <p:nvPr/>
          </p:nvSpPr>
          <p:spPr>
            <a:xfrm>
              <a:off x="1324080" y="2149560"/>
              <a:ext cx="1752480" cy="228600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286000"/>
                <a:gd name="textAreaBottom" fmla="*/ 220068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3600" y="0"/>
                  </a:moveTo>
                  <a:arcTo wR="3600" hR="3600" stAng="16200000" swAng="-5400000"/>
                  <a:lnTo>
                    <a:pt x="0" y="24574"/>
                  </a:lnTo>
                  <a:arcTo wR="3600" hR="3600" stAng="10800000" swAng="-5400000"/>
                  <a:lnTo>
                    <a:pt x="18000" y="281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09480" y="2301840"/>
              <a:ext cx="717120" cy="488880"/>
              <a:chOff x="609480" y="2301840"/>
              <a:chExt cx="717120" cy="48888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858960" y="26827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9480" y="25621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4000" y="23018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361960" y="1447920"/>
              <a:ext cx="228600" cy="706320"/>
              <a:chOff x="2361960" y="1447920"/>
              <a:chExt cx="228600" cy="70632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2469960" y="169704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5400000">
                <a:off x="2361960" y="14479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09480" y="2759040"/>
              <a:ext cx="717120" cy="488880"/>
              <a:chOff x="609480" y="2759040"/>
              <a:chExt cx="717120" cy="48888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858960" y="31399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30193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4000" y="27590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09480" y="3216240"/>
              <a:ext cx="717120" cy="488880"/>
              <a:chOff x="609480" y="3216240"/>
              <a:chExt cx="717120" cy="48888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858960" y="35971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9480" y="34765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74000" y="32162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438280" y="4435560"/>
              <a:ext cx="228600" cy="706320"/>
              <a:chOff x="2438280" y="4435560"/>
              <a:chExt cx="228600" cy="706320"/>
            </a:xfrm>
          </p:grpSpPr>
          <p:sp>
            <p:nvSpPr>
              <p:cNvPr id="167" name=""/>
              <p:cNvSpPr/>
              <p:nvPr/>
            </p:nvSpPr>
            <p:spPr>
              <a:xfrm>
                <a:off x="255888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6200000">
                <a:off x="2438280" y="49132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676520" y="4435560"/>
              <a:ext cx="228600" cy="706320"/>
              <a:chOff x="1676520" y="4435560"/>
              <a:chExt cx="228600" cy="706320"/>
            </a:xfrm>
          </p:grpSpPr>
          <p:sp>
            <p:nvSpPr>
              <p:cNvPr id="170" name=""/>
              <p:cNvSpPr/>
              <p:nvPr/>
            </p:nvSpPr>
            <p:spPr>
              <a:xfrm>
                <a:off x="179712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1676520" y="49132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089160" y="3825360"/>
              <a:ext cx="706320" cy="228600"/>
              <a:chOff x="3089160" y="3825360"/>
              <a:chExt cx="706320" cy="228600"/>
            </a:xfrm>
          </p:grpSpPr>
          <p:sp>
            <p:nvSpPr>
              <p:cNvPr id="173" name=""/>
              <p:cNvSpPr/>
              <p:nvPr/>
            </p:nvSpPr>
            <p:spPr>
              <a:xfrm>
                <a:off x="3089160" y="39333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0800000">
                <a:off x="3566880" y="38253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089160" y="3368160"/>
              <a:ext cx="706320" cy="228600"/>
              <a:chOff x="3089160" y="3368160"/>
              <a:chExt cx="706320" cy="228600"/>
            </a:xfrm>
          </p:grpSpPr>
          <p:sp>
            <p:nvSpPr>
              <p:cNvPr id="176" name=""/>
              <p:cNvSpPr/>
              <p:nvPr/>
            </p:nvSpPr>
            <p:spPr>
              <a:xfrm>
                <a:off x="3089160" y="34761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00000">
                <a:off x="3566880" y="33681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089160" y="2377800"/>
              <a:ext cx="706320" cy="228600"/>
              <a:chOff x="3089160" y="2377800"/>
              <a:chExt cx="706320" cy="228600"/>
            </a:xfrm>
          </p:grpSpPr>
          <p:sp>
            <p:nvSpPr>
              <p:cNvPr id="179" name=""/>
              <p:cNvSpPr/>
              <p:nvPr/>
            </p:nvSpPr>
            <p:spPr>
              <a:xfrm>
                <a:off x="3089160" y="24858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0800000">
                <a:off x="3566880" y="23778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rot="16200000">
              <a:off x="2588400" y="2457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Attribu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214956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omponente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6200" y="397836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Ev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3760" y="4130640"/>
              <a:ext cx="47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8640" y="413064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00000">
              <a:off x="2438280" y="3597840"/>
              <a:ext cx="109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Receptac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1121760" y="300852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Face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800360" y="2911320"/>
              <a:ext cx="838080" cy="914400"/>
              <a:chOff x="1800360" y="2911320"/>
              <a:chExt cx="838080" cy="914400"/>
            </a:xfrm>
          </p:grpSpPr>
          <p:sp>
            <p:nvSpPr>
              <p:cNvPr id="189" name=""/>
              <p:cNvSpPr/>
              <p:nvPr/>
            </p:nvSpPr>
            <p:spPr>
              <a:xfrm>
                <a:off x="1800360" y="2911320"/>
                <a:ext cx="838080" cy="304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00360" y="3215880"/>
                <a:ext cx="83808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00360" y="3520800"/>
                <a:ext cx="83808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209680" y="2638440"/>
              <a:ext cx="0" cy="2919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09680" y="2638440"/>
              <a:ext cx="59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257800" y="1447920"/>
            <a:ext cx="3185640" cy="3693960"/>
            <a:chOff x="5257800" y="1447920"/>
            <a:chExt cx="3185640" cy="3693960"/>
          </a:xfrm>
        </p:grpSpPr>
        <p:sp>
          <p:nvSpPr>
            <p:cNvPr id="195" name=""/>
            <p:cNvSpPr/>
            <p:nvPr/>
          </p:nvSpPr>
          <p:spPr>
            <a:xfrm>
              <a:off x="5972040" y="2149560"/>
              <a:ext cx="1752120" cy="2286000"/>
            </a:xfrm>
            <a:custGeom>
              <a:avLst/>
              <a:gdLst>
                <a:gd name="textAreaLeft" fmla="*/ 85320 w 1752120"/>
                <a:gd name="textAreaRight" fmla="*/ 1666800 w 1752120"/>
                <a:gd name="textAreaTop" fmla="*/ 85320 h 2286000"/>
                <a:gd name="textAreaBottom" fmla="*/ 2200680 h 2286000"/>
              </a:gdLst>
              <a:ahLst/>
              <a:rect l="textAreaLeft" t="textAreaTop" r="textAreaRight" b="textAreaBottom"/>
              <a:pathLst>
                <a:path w="21600" h="28180">
                  <a:moveTo>
                    <a:pt x="3600" y="0"/>
                  </a:moveTo>
                  <a:arcTo wR="3600" hR="3600" stAng="16200000" swAng="-5400000"/>
                  <a:lnTo>
                    <a:pt x="0" y="24580"/>
                  </a:lnTo>
                  <a:arcTo wR="3600" hR="3600" stAng="10800000" swAng="-5400000"/>
                  <a:lnTo>
                    <a:pt x="18000" y="2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257800" y="2301840"/>
              <a:ext cx="716400" cy="488880"/>
              <a:chOff x="5257800" y="2301840"/>
              <a:chExt cx="716400" cy="48888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5506560" y="268272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57800" y="25621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21600" y="23018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010280" y="1447920"/>
              <a:ext cx="228240" cy="706320"/>
              <a:chOff x="7010280" y="1447920"/>
              <a:chExt cx="228240" cy="70632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7118280" y="169704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00000">
                <a:off x="7009920" y="144792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257800" y="2759040"/>
              <a:ext cx="716400" cy="488880"/>
              <a:chOff x="5257800" y="2759040"/>
              <a:chExt cx="716400" cy="48888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5506560" y="313992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57800" y="30193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21600" y="27590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257800" y="3216240"/>
              <a:ext cx="716400" cy="488880"/>
              <a:chOff x="5257800" y="3216240"/>
              <a:chExt cx="716400" cy="48888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5506560" y="359712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57800" y="34765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21600" y="32162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086240" y="4435560"/>
              <a:ext cx="228240" cy="706320"/>
              <a:chOff x="7086240" y="4435560"/>
              <a:chExt cx="228240" cy="706320"/>
            </a:xfrm>
          </p:grpSpPr>
          <p:sp>
            <p:nvSpPr>
              <p:cNvPr id="212" name=""/>
              <p:cNvSpPr/>
              <p:nvPr/>
            </p:nvSpPr>
            <p:spPr>
              <a:xfrm>
                <a:off x="720648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6200000">
                <a:off x="7085880" y="491328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324480" y="4435560"/>
              <a:ext cx="228240" cy="706320"/>
              <a:chOff x="6324480" y="4435560"/>
              <a:chExt cx="228240" cy="706320"/>
            </a:xfrm>
          </p:grpSpPr>
          <p:sp>
            <p:nvSpPr>
              <p:cNvPr id="215" name=""/>
              <p:cNvSpPr/>
              <p:nvPr/>
            </p:nvSpPr>
            <p:spPr>
              <a:xfrm>
                <a:off x="644472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6200000">
                <a:off x="6324120" y="491328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737120" y="3825360"/>
              <a:ext cx="706320" cy="228600"/>
              <a:chOff x="7737120" y="3825360"/>
              <a:chExt cx="706320" cy="22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737120" y="39333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8214840" y="38253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737120" y="3368160"/>
              <a:ext cx="706320" cy="228600"/>
              <a:chOff x="7737120" y="3368160"/>
              <a:chExt cx="706320" cy="228600"/>
            </a:xfrm>
          </p:grpSpPr>
          <p:sp>
            <p:nvSpPr>
              <p:cNvPr id="221" name=""/>
              <p:cNvSpPr/>
              <p:nvPr/>
            </p:nvSpPr>
            <p:spPr>
              <a:xfrm>
                <a:off x="7737120" y="34761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8214840" y="33681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737120" y="2377800"/>
              <a:ext cx="706320" cy="228600"/>
              <a:chOff x="7737120" y="2377800"/>
              <a:chExt cx="706320" cy="228600"/>
            </a:xfrm>
          </p:grpSpPr>
          <p:sp>
            <p:nvSpPr>
              <p:cNvPr id="224" name=""/>
              <p:cNvSpPr/>
              <p:nvPr/>
            </p:nvSpPr>
            <p:spPr>
              <a:xfrm>
                <a:off x="7737120" y="24858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800000">
                <a:off x="8214840" y="23778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rot="16200000">
              <a:off x="7236360" y="2457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Attribu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71840" y="214956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omponente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4160" y="397836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Ev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1360" y="4130640"/>
              <a:ext cx="47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6600" y="413064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7086240" y="3597840"/>
              <a:ext cx="109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Receptac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5769720" y="300852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Face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448320" y="2911320"/>
              <a:ext cx="837720" cy="914400"/>
              <a:chOff x="6448320" y="2911320"/>
              <a:chExt cx="837720" cy="91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6448320" y="2911320"/>
                <a:ext cx="837720" cy="304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48320" y="3215880"/>
                <a:ext cx="83772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8320" y="3520800"/>
                <a:ext cx="83772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6857640" y="2638440"/>
              <a:ext cx="0" cy="2919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7640" y="2638440"/>
              <a:ext cx="59364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835440" y="1544760"/>
            <a:ext cx="3174480" cy="1927440"/>
            <a:chOff x="3835440" y="1544760"/>
            <a:chExt cx="3174480" cy="1927440"/>
          </a:xfrm>
        </p:grpSpPr>
        <p:grpSp>
          <p:nvGrpSpPr>
            <p:cNvPr id="240" name=""/>
            <p:cNvGrpSpPr/>
            <p:nvPr/>
          </p:nvGrpSpPr>
          <p:grpSpPr>
            <a:xfrm>
              <a:off x="3835440" y="1544760"/>
              <a:ext cx="279360" cy="1927440"/>
              <a:chOff x="3835440" y="1544760"/>
              <a:chExt cx="279360" cy="1927440"/>
            </a:xfrm>
          </p:grpSpPr>
          <p:sp>
            <p:nvSpPr>
              <p:cNvPr id="241" name=""/>
              <p:cNvSpPr/>
              <p:nvPr/>
            </p:nvSpPr>
            <p:spPr>
              <a:xfrm>
                <a:off x="3835440" y="3472200"/>
                <a:ext cx="265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114800" y="1544760"/>
                <a:ext cx="0" cy="192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4114440" y="154764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16360" y="3123720"/>
            <a:ext cx="1059480" cy="820800"/>
            <a:chOff x="3816360" y="3123720"/>
            <a:chExt cx="1059480" cy="820800"/>
          </a:xfrm>
        </p:grpSpPr>
        <p:sp>
          <p:nvSpPr>
            <p:cNvPr id="245" name=""/>
            <p:cNvSpPr/>
            <p:nvPr/>
          </p:nvSpPr>
          <p:spPr>
            <a:xfrm>
              <a:off x="3816360" y="3944520"/>
              <a:ext cx="10072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875840" y="3123720"/>
              <a:ext cx="0" cy="820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>
            <a:off x="487692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489840" y="4495680"/>
            <a:ext cx="2129760" cy="2062440"/>
            <a:chOff x="3489840" y="4495680"/>
            <a:chExt cx="2129760" cy="2062440"/>
          </a:xfrm>
        </p:grpSpPr>
        <p:sp>
          <p:nvSpPr>
            <p:cNvPr id="249" name=""/>
            <p:cNvSpPr/>
            <p:nvPr/>
          </p:nvSpPr>
          <p:spPr>
            <a:xfrm>
              <a:off x="3505320" y="4495680"/>
              <a:ext cx="2023920" cy="2057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22120" y="4724280"/>
              <a:ext cx="1396080" cy="609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Channel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22120" y="5410080"/>
              <a:ext cx="1396080" cy="609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Channel 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89840" y="6159240"/>
              <a:ext cx="21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Notification 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6688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7400" y="5715000"/>
            <a:ext cx="202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87400" y="5181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257800" y="5181480"/>
            <a:ext cx="1957320" cy="533520"/>
            <a:chOff x="5257800" y="5181480"/>
            <a:chExt cx="1957320" cy="533520"/>
          </a:xfrm>
        </p:grpSpPr>
        <p:sp>
          <p:nvSpPr>
            <p:cNvPr id="258" name=""/>
            <p:cNvSpPr/>
            <p:nvPr/>
          </p:nvSpPr>
          <p:spPr>
            <a:xfrm>
              <a:off x="5257800" y="5715000"/>
              <a:ext cx="1957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4760" y="5181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547600" y="4672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9960" y="12193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9600" y="358128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04600" y="468936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cons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8400" y="537048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cons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9920" y="53751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Component Implementation Framework (CIF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define grande número de interfaces (por exemplo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Naviga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para suportar a estrutura e funcionalidade dos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s implementações de muitas dessas interfaces podem ser geradas automaticamente: esse é o objetivo d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RBA Component Implementation Framework (CIF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define uma linguagem declarativa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Implementation Definition Language (CIDL)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para descrever implementações e persistência de estado de componentes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IF usa a CIDL para gera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keleton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que automatizam tarefas básicas, como navegação, ativação e gerenciamento de est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Component Implementation Framework (CIF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3716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Arquivos CI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27432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tu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137160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Reposi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13716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Arquivos I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7080" y="152388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ID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680" y="1371600"/>
            <a:ext cx="11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ID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(component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awa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74320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kelet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27432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kelet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74320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Descri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419112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ource 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563868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(DL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563868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419112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2200" y="434340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2400" y="434340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1752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276000" y="17524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781680" y="1752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410080" y="1752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858000" y="4572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4572000"/>
            <a:ext cx="1905120" cy="152280"/>
          </a:xfrm>
          <a:prstGeom prst="rightArrow">
            <a:avLst>
              <a:gd name="adj1" fmla="val 50000"/>
              <a:gd name="adj2" fmla="val 31276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0574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243828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3111600">
            <a:off x="2089080" y="19224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4021800">
            <a:off x="5545080" y="3341520"/>
            <a:ext cx="152280" cy="1447920"/>
          </a:xfrm>
          <a:prstGeom prst="downArrow">
            <a:avLst>
              <a:gd name="adj1" fmla="val 50000"/>
              <a:gd name="adj2" fmla="val 23770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021800">
            <a:off x="7277040" y="3314520"/>
            <a:ext cx="152280" cy="1447920"/>
          </a:xfrm>
          <a:prstGeom prst="downArrow">
            <a:avLst>
              <a:gd name="adj1" fmla="val 50000"/>
              <a:gd name="adj2" fmla="val 23770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rot="17578200">
            <a:off x="3694680" y="3314880"/>
            <a:ext cx="152280" cy="1447560"/>
          </a:xfrm>
          <a:prstGeom prst="downArrow">
            <a:avLst>
              <a:gd name="adj1" fmla="val 50000"/>
              <a:gd name="adj2" fmla="val 23764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rot="18488400">
            <a:off x="7162920" y="198072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8320" y="49528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48520" y="49528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ontain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o vimos, componentes são empacotados em DLLs e executados em servidores de componentes. As implementações dos componentes dependem do POA para encaminhar requisições de clientes para os serv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s componentes não precisam saber como tratar problemas como a  criação de  hierarquia de POAs e localizar serviços do CCM. Para isso foram definidos o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ntaine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com as seguintes funcionalidad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Ativação/desativação de implementações de componentes, preservando recursos (como memória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ornecimento de camada de adaptação com os serviços de transação, persistência, segurança e notificaçã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ornecimento de camada de adaptação para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callback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Gerenciamento de políticas do PO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ontain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gerenciamento do tempo de vida dos serventes é feito através de políticas que controlam o momento de ativação/desativação dos component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thod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ativação/desativação a cada chamada de método, limitando o uso de memória ao tempo de duração da operação, mas acrescentando o custo de ativação e desativação do compon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ransaction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ativação/desativação a cada transação. Memória permanece alocada durante a transaçã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mponent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o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ainer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tiva o componente quando for feita a primeira chamada a alguma de suas operações, e desativa quando explicitamente requisitado pela aplicação, desalocando a memória utilizada pelo compon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ainer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o componente será ativado quando for feita a primeira chamada a alguma de suas operações e, ao final da execução da mesma, será desativado. Entretanto, a memória permanecerá alocada até que o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ainer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decida desalocá-l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omponent Categori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stende 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ORBA Usage Model,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que classifica o padrão de interação entre o container, o POA e os serviços de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São especificadas em arquivo CID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1840" y="3314880"/>
          <a:ext cx="8758080" cy="3367080"/>
        </p:xfrm>
        <a:graphic>
          <a:graphicData uri="http://schemas.openxmlformats.org/drawingml/2006/table">
            <a:tbl>
              <a:tblPr/>
              <a:tblGrid>
                <a:gridCol w="1720800"/>
                <a:gridCol w="1747800"/>
                <a:gridCol w="1425600"/>
                <a:gridCol w="1263600"/>
                <a:gridCol w="26002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tegoria do Compon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RBA U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ipo de API do Contain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ed H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emp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r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tel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rappers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para aplic. procedurais de leg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vers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ter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urá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ras de negócio. Ex.: carrinho de comp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urá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i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ças num inventár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presentar os problemas existentes atualmente em CORBA que o CCM pretende resolv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Familiarizar o participante com os termos usados pelo CC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Mostrar a estrutura geral do CC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Empacotamento e Distribuiçã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m sistemas distribuídos, componentes podem ser implantados em diversos servidores e sistemas operacionais. Além disso, um componente pode depender de outros componentes, tornando o processo de empacotamento e distribuição bem complic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descreve componentes e suas dependências usan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pen Software Description (OSD)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é um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XML Document Type Defini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(DTD)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efinido pelo consórcio WWW. Componentes são empacotados em DLLs.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ackage descripto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são documentos XML em conformidade com o OSD DTD, descrevendo o conteúdo da DLL e suas dependência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OSD também defin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assembly descripto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descrevem instruções de implantação e topologia dos componentes, e objetiva o suporte à implantação automátic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RB Exten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Simplificam a implementação da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CM framework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focando também em melhorias de performa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Locality-constrained interfa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: permite comunicação local entre componente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melhorando a performanc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xtensões a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Interface Reposi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IR): o modelo do CCM utiliza largamente a navegação através das interfaces dos componentes, o que já era possível utilizando o IR, mas ganhou em desempenho ao se utilizar CCMObject, uma vez que a chamada de operações é feita de modo “co-locado”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xtensões à IDL, com construções para importação de declarações de tipos definidos em arquivos separados, e mecanismos para controlar identificadores no I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utras Tecnolog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Enterprise Java Bean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(EJB): a especificação do CCM foi modelada em muitos pontos baseada na do EJB. Entretanto, CCM utiliza CORBA como arquitetura para interoperabilidade, não estando associada a uma linguagem em particular. CCM também define mapeamento entre os dois padrõ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icrosoft .NET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: possui vários pontos em comum com o CCM sendo, entretanto, limitada às plataformas Microsof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Object Management Group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Don Box. Essential COM (Addison-Wesley, 1998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M. Henning, S. Vinoski. Advanced CORBA Programming with C++ (Addison-Wesley, 199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E. Gamma et al. Design Patterns: Elements of Reusable Object-Oriented Software (Addison-Wesley, 1994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ttp://ditec.um.es/~dsevilla/ccm/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Introduçã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presentação do CC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Ponto de vista do clien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Equivalent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Supported interfac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Port mechanisms: Facets (provided interfaces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Gerenciamento do ciclo-de-vida dos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Home interfac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enários de uso de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Ponto de vista do desenvolved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Port mechanisms: Receptacles, Event sources/sinks, Attribu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Hom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nfiguração de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Implementation Framework (CIF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ntain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Categori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ackaging and Deploy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ORB Extens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Outras Tecnologia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nterprise Java Beans (EJB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Microsoft .NE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Referência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17640" y="1527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tem sido utilizado por um número crescente de aplicações distribuídas, como pode ser visto em “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success stori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” e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http://www.omg.org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devido a características  com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Independência de linguagem, sistema operacional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ard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localização relativa entre cliente e servido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rviço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naming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trading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event notifica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fornecem reusabilidad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rviços essenciais como o de transações e seguranç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ntretanto, a especificação de CORBA 2.3 não atende bem a pontos tais como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padrão para implantação (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deployment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) de objet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suporte para o uso de subconjuntos de funcionalidades “comuns”. Por exemplo, um grande número de aplicações utiliza apenas um subconjunto das possíveis configurações do POA e, apesar disso, o desenvolvedor deve conhecer muitas políticas do POA para conseguir o efeito desejad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Dificuldade para estender funcionalidades de objetos CORBA, possível apenas através de heranç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definição de serviços obrigatórios: a aplicação deve possuir código que trate a indisponibilidade de serviç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padrão para gerenciamento de ciclo-de-vida de objetos: apesar da existência do “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Lifecycle Service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”, seu uso não é obrigatório, o que dificulta o trabalho no cli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roblemas como esses levam à produção de aplicações com objetos fortemente acoplados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tightly coupled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difíceis de modelar, reutilizar, implantar, manter e estend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o objetivo de solucionar esses problemas, a OMG adotou 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RBA Component Model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CCM) como parte da especificação de CORBA 3.0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estende o modelo de objetos de CORBA, definindo funcionalidades e serviços que permitem que o desenvolvedor implemente, gerencie, configure e implante componentes que integrem os serviços de CORBA, como segurança, transações, persistência e eventos, em um ambiente padroniz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permite maior reutilização de servidores e mais flexibilidade para configuração dinâmica de aplicações CORB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Nesta apresentação, veremos as principais funcionalidades e serviços definidos pelo CC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presentação do CC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Uma das principais contribuições do CCM é a padronização do processo de desenvolvimento, que pode ser resumido com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desenvolvedor de componentes define, em IDL, as interfaces que as implementações dos componentes irão suporta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desenvolvedor implementa os componentes utilizando ferramentas disponibilizadas pelo fornecedor do CC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componente é empacotado em uma DL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componente é implantado por mecanismo desenvolvido pelo fornecedor do CC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 seguir apresentaremos os componentes do CCM sob as ópticas do cliente e do desenvolvedor, e as extensões dos ORB´s necessárias para suporte ao CC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9120" y="990720"/>
            <a:ext cx="735732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                                                            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I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interface A, B;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component Foo supports A, B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definição de </a:t>
            </a:r>
            <a:r>
              <a:rPr b="1" i="1" lang="pt-BR" sz="2000" spc="-1" strike="noStrike">
                <a:solidFill>
                  <a:srgbClr val="0000ff"/>
                </a:solidFill>
                <a:latin typeface="Arial Narrow"/>
              </a:rPr>
              <a:t>equivalent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{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e </a:t>
            </a:r>
            <a:r>
              <a:rPr b="1" i="1" lang="pt-BR" sz="2000" spc="-1" strike="noStrike">
                <a:solidFill>
                  <a:srgbClr val="0000ff"/>
                </a:solidFill>
                <a:latin typeface="Arial Narrow"/>
              </a:rPr>
              <a:t>supported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provides W, X, Y, Z;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</a:t>
            </a:r>
            <a:r>
              <a:rPr b="1" i="1" lang="pt-BR" sz="2000" spc="-1" strike="noStrike">
                <a:solidFill>
                  <a:srgbClr val="0000ff"/>
                </a:solidFill>
                <a:latin typeface="Arial Narrow"/>
              </a:rPr>
              <a:t>Facets (provided interfac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. . .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outras definições do compon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114800"/>
            <a:ext cx="2133720" cy="2602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1911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mpon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66880" y="4876920"/>
            <a:ext cx="2306520" cy="533160"/>
            <a:chOff x="2666880" y="4876920"/>
            <a:chExt cx="2306520" cy="533160"/>
          </a:xfrm>
        </p:grpSpPr>
        <p:grpSp>
          <p:nvGrpSpPr>
            <p:cNvPr id="109" name=""/>
            <p:cNvGrpSpPr/>
            <p:nvPr/>
          </p:nvGrpSpPr>
          <p:grpSpPr>
            <a:xfrm>
              <a:off x="2666880" y="5105520"/>
              <a:ext cx="2306520" cy="304560"/>
              <a:chOff x="2666880" y="5105520"/>
              <a:chExt cx="230652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3830400" y="510552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916000" y="52578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66880" y="5137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917800" y="487692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666880" y="5283360"/>
            <a:ext cx="2306520" cy="533160"/>
            <a:chOff x="2666880" y="5283360"/>
            <a:chExt cx="2306520" cy="533160"/>
          </a:xfrm>
        </p:grpSpPr>
        <p:grpSp>
          <p:nvGrpSpPr>
            <p:cNvPr id="115" name=""/>
            <p:cNvGrpSpPr/>
            <p:nvPr/>
          </p:nvGrpSpPr>
          <p:grpSpPr>
            <a:xfrm>
              <a:off x="2666880" y="5511960"/>
              <a:ext cx="2306520" cy="304560"/>
              <a:chOff x="2666880" y="5511960"/>
              <a:chExt cx="2306520" cy="304560"/>
            </a:xfrm>
          </p:grpSpPr>
          <p:sp>
            <p:nvSpPr>
              <p:cNvPr id="116" name=""/>
              <p:cNvSpPr/>
              <p:nvPr/>
            </p:nvSpPr>
            <p:spPr>
              <a:xfrm>
                <a:off x="3830400" y="551196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16000" y="56642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66880" y="55436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946600" y="5283360"/>
              <a:ext cx="3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666880" y="5689440"/>
            <a:ext cx="2306520" cy="533160"/>
            <a:chOff x="2666880" y="5689440"/>
            <a:chExt cx="2306520" cy="533160"/>
          </a:xfrm>
        </p:grpSpPr>
        <p:grpSp>
          <p:nvGrpSpPr>
            <p:cNvPr id="121" name=""/>
            <p:cNvGrpSpPr/>
            <p:nvPr/>
          </p:nvGrpSpPr>
          <p:grpSpPr>
            <a:xfrm>
              <a:off x="2666880" y="5918040"/>
              <a:ext cx="2306520" cy="304560"/>
              <a:chOff x="2666880" y="5918040"/>
              <a:chExt cx="2306520" cy="304560"/>
            </a:xfrm>
          </p:grpSpPr>
          <p:sp>
            <p:nvSpPr>
              <p:cNvPr id="122" name=""/>
              <p:cNvSpPr/>
              <p:nvPr/>
            </p:nvSpPr>
            <p:spPr>
              <a:xfrm>
                <a:off x="3830400" y="591804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16000" y="6070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66880" y="59497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946600" y="5689440"/>
              <a:ext cx="3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666880" y="6095880"/>
            <a:ext cx="2306520" cy="533160"/>
            <a:chOff x="2666880" y="6095880"/>
            <a:chExt cx="2306520" cy="533160"/>
          </a:xfrm>
        </p:grpSpPr>
        <p:grpSp>
          <p:nvGrpSpPr>
            <p:cNvPr id="127" name=""/>
            <p:cNvGrpSpPr/>
            <p:nvPr/>
          </p:nvGrpSpPr>
          <p:grpSpPr>
            <a:xfrm>
              <a:off x="2666880" y="6324480"/>
              <a:ext cx="2306520" cy="304560"/>
              <a:chOff x="2666880" y="6324480"/>
              <a:chExt cx="2306520" cy="304560"/>
            </a:xfrm>
          </p:grpSpPr>
          <p:sp>
            <p:nvSpPr>
              <p:cNvPr id="128" name=""/>
              <p:cNvSpPr/>
              <p:nvPr/>
            </p:nvSpPr>
            <p:spPr>
              <a:xfrm>
                <a:off x="3830400" y="632448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916000" y="64767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66880" y="63561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952000" y="6095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00600" y="3499560"/>
            <a:ext cx="228600" cy="611640"/>
            <a:chOff x="4800600" y="3499560"/>
            <a:chExt cx="228600" cy="611640"/>
          </a:xfrm>
        </p:grpSpPr>
        <p:sp>
          <p:nvSpPr>
            <p:cNvPr id="133" name=""/>
            <p:cNvSpPr/>
            <p:nvPr/>
          </p:nvSpPr>
          <p:spPr>
            <a:xfrm flipV="1">
              <a:off x="4918320" y="3745800"/>
              <a:ext cx="0" cy="36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5400000">
              <a:off x="4800600" y="3499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21440" y="320040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quivalent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(suporta as interfac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 e B por heranç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8360" y="5410080"/>
            <a:ext cx="11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Fac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(provi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interfac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5257800"/>
            <a:ext cx="152280" cy="120636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6360"/>
              <a:gd name="textAreaBottom" fmla="*/ 1175040 h 12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5867280"/>
            <a:ext cx="566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79320" y="564984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mplementaçõ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8T13:16:59Z</dcterms:created>
  <dc:creator>Alexandre Ricardo Nardi</dc:creator>
  <dc:description/>
  <dc:language>en-US</dc:language>
  <cp:lastModifiedBy>Alexandre Ricardo Nardi</cp:lastModifiedBy>
  <dcterms:modified xsi:type="dcterms:W3CDTF">2001-09-11T12:24:00Z</dcterms:modified>
  <cp:revision>143</cp:revision>
  <dc:subject/>
  <dc:title>Arquitetura do COM</dc:title>
</cp:coreProperties>
</file>