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2E24-3940-4B2F-8569-537810B36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C085-6F2B-4010-99DC-8030A546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84FD-58CF-4710-9B9D-38B75F748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39B2-D6AC-4C8D-AFBF-E5FB8A2A9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0E2A-A887-462F-B2CF-BEBBD650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6964-2D23-47D2-9750-1878E4D2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6D95-407B-4585-8550-0E6C9993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FD84-6F39-43C6-8D5C-10891A4E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DE71-8F56-417F-822D-8A9295C3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B607-B5C1-4A1E-BDED-2CC4A4F1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973A-80F5-44C2-BF47-269051B3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C8A9-018D-4C8F-A450-241ADB36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77C2-D299-44C2-A3E2-DC118A35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5269-8F87-4AC0-BA3B-6A41A2D4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0B6B-40AD-440C-A48A-C3D71A6A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50BB-A171-4E02-B4C8-4663EB03E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D308-0814-4ED2-97A9-B4DC373A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605D-090E-4CD6-887F-49460991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210D-3942-4AA6-9D26-719FD0A5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6ED6-7849-449F-8655-4565720E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8386-4961-4F63-89AE-634F95A2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7597-E8A7-4CCF-A352-B8F3A102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2B6D-45BF-4FC2-822C-ECD45B64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0EDD-FD94-46A5-9CA2-0B8B6BFA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9ED1-0604-403D-8F0A-D71EAC0611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FBCE-2336-473C-AAF0-7FEFF10B85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Visão Geral do 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ORBA Component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Alexandre Ricardo Nardi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nardi@ime.usp.br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Ponto de Vista do Cliente (cont.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Uma referência a uma instância do componente Foo aparece para os clientes como um objeto CORBA tradicional. Assim, clientes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omponent-unaware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podem invocar operações através de uma referência à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equivalent interface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que é aquela que identifica unicamente a instância do componente, e que pode herdar de outras interfaces, chamadas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supported interfac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Vimos que é difícil estender objetos CORBA apenas por herança. Como alternativa, CCM define o conceito denominado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facet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semelhante às interfaces dos componentes COM, permitindo suporte a interfaces não relacionadas (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unrelated interface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). Os clientes podem navegar pelas interfaces de um componente (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facet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equivalent interface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) por intermédio da interfac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Navigation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definida em CORBA::CCMObject (herdada por todos os componentes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Ponto de Vista do Cliente</a:t>
            </a:r>
            <a:br>
              <a:rPr sz="4400"/>
            </a:br>
            <a:r>
              <a:rPr b="0" lang="pt-BR" sz="2800" spc="-1" strike="noStrike">
                <a:solidFill>
                  <a:srgbClr val="ffcc66"/>
                </a:solidFill>
                <a:latin typeface="Arial"/>
              </a:rPr>
              <a:t>Gerenciamento do Ciclo de Vida dos Componente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É importante que o servidor de componentes trate adequadamente os problemas relativos a gerenciamento do ciclo de vida dos componentes, e que os clientes auxiliem os servidores no tratamento relativo às instâncias de componentes que utilizem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O servidor deve saber quando criar e destruir instâncias no sentido de evitar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resource leak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ORBA Object Service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define o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Lifecycle Service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que não é de uso obrigatório, fazendo com que o desenvolvedor implemente sua própria estratégia de gerenciamento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CM introduz a palavra-chav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home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interface que pode ser usada pelos clientes para controlar o ciclo do componente, podendo ser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keyles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(suporte a operações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factory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) ou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keyed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(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factory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finder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). Possui o método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remove_component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que notifica o servidor para tratar da remoção de uma instância conforme sua estratégia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Ponto de Vista do Cliente</a:t>
            </a:r>
            <a:br>
              <a:rPr sz="4400"/>
            </a:br>
            <a:r>
              <a:rPr b="0" lang="pt-BR" sz="3600" spc="-1" strike="noStrike">
                <a:solidFill>
                  <a:srgbClr val="ffcc66"/>
                </a:solidFill>
                <a:latin typeface="Arial"/>
              </a:rPr>
              <a:t>Cenários de Uso de Component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O cliente deve obter referência à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home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do componente. Para isso, CCM define a interfac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HomeFinder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semelhante ao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OMG Naming Service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que implementa um serviço de diretório para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omponent home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. Para obter referência a esta interface utiliza-se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resolve_initial_references(“HomeFinder”)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A partir desta referência, utiliza-se um dos métodos da interfac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HomeFinder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para se obter referência à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Home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do componente. Por exemplo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find_home_by_name(“HomeDoComponenteA”)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Uma vez com uma referência à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home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do componente, o cliente usa operações d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factory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ou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finder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conforme apropriado, para obter uma referência ao component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Ponto de Vista do Desenvolvedor</a:t>
            </a:r>
            <a:br>
              <a:rPr sz="4400"/>
            </a:br>
            <a:r>
              <a:rPr b="0" lang="pt-BR" sz="4000" spc="-1" strike="noStrike">
                <a:solidFill>
                  <a:srgbClr val="ffcc66"/>
                </a:solidFill>
                <a:latin typeface="Arial"/>
              </a:rPr>
              <a:t>Port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São mecanismos de interação com entidades externas, como serviços fornecidos pelo ORB, outros componentes ou clientes. Existem os seguintes tipos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Facets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 (</a:t>
            </a: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unrelated interfaces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): permitem reutilização através de composição, ao invés de herança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Receptacles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: modo de um componente delegar operações a outros componente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Event sources/sinks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: para publicação/subscrição a evento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Attributes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: facilitam a configuração dos componente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Esses mecanismos podem ser utilizados pelo cliente, mas o objetivo principal dos três últimos relaciona-se à configuração dos componentes, sendo utilizados pela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CM deployment framework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Ponto de Vista do Desenvolvedor</a:t>
            </a:r>
            <a:br>
              <a:rPr sz="4400"/>
            </a:br>
            <a:r>
              <a:rPr b="0" lang="pt-BR" sz="4000" spc="-1" strike="noStrike">
                <a:solidFill>
                  <a:srgbClr val="ffcc66"/>
                </a:solidFill>
                <a:latin typeface="Arial"/>
              </a:rPr>
              <a:t>Port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09480" y="1447920"/>
            <a:ext cx="3186000" cy="3693960"/>
            <a:chOff x="609480" y="1447920"/>
            <a:chExt cx="3186000" cy="3693960"/>
          </a:xfrm>
        </p:grpSpPr>
        <p:sp>
          <p:nvSpPr>
            <p:cNvPr id="150" name=""/>
            <p:cNvSpPr/>
            <p:nvPr/>
          </p:nvSpPr>
          <p:spPr>
            <a:xfrm>
              <a:off x="1324080" y="2149560"/>
              <a:ext cx="1752480" cy="228600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286000"/>
                <a:gd name="textAreaBottom" fmla="*/ 220068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3600" y="0"/>
                  </a:moveTo>
                  <a:arcTo wR="3600" hR="3600" stAng="16200000" swAng="-5400000"/>
                  <a:lnTo>
                    <a:pt x="0" y="24574"/>
                  </a:lnTo>
                  <a:arcTo wR="3600" hR="3600" stAng="10800000" swAng="-5400000"/>
                  <a:lnTo>
                    <a:pt x="18000" y="281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609480" y="2301840"/>
              <a:ext cx="717120" cy="488880"/>
              <a:chOff x="609480" y="2301840"/>
              <a:chExt cx="717120" cy="488880"/>
            </a:xfrm>
          </p:grpSpPr>
          <p:sp>
            <p:nvSpPr>
              <p:cNvPr id="152" name=""/>
              <p:cNvSpPr/>
              <p:nvPr/>
            </p:nvSpPr>
            <p:spPr>
              <a:xfrm flipH="1">
                <a:off x="858960" y="2682720"/>
                <a:ext cx="45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9480" y="256212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74000" y="2301840"/>
                <a:ext cx="55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ffffff"/>
                    </a:solidFill>
                    <a:latin typeface="Arial Narrow"/>
                  </a:rPr>
                  <a:t>op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361960" y="1447920"/>
              <a:ext cx="228600" cy="706320"/>
              <a:chOff x="2361960" y="1447920"/>
              <a:chExt cx="228600" cy="706320"/>
            </a:xfrm>
          </p:grpSpPr>
          <p:sp>
            <p:nvSpPr>
              <p:cNvPr id="156" name=""/>
              <p:cNvSpPr/>
              <p:nvPr/>
            </p:nvSpPr>
            <p:spPr>
              <a:xfrm flipV="1">
                <a:off x="2469960" y="1697040"/>
                <a:ext cx="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5400000">
                <a:off x="2361960" y="144792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609480" y="2759040"/>
              <a:ext cx="717120" cy="488880"/>
              <a:chOff x="609480" y="2759040"/>
              <a:chExt cx="717120" cy="488880"/>
            </a:xfrm>
          </p:grpSpPr>
          <p:sp>
            <p:nvSpPr>
              <p:cNvPr id="159" name=""/>
              <p:cNvSpPr/>
              <p:nvPr/>
            </p:nvSpPr>
            <p:spPr>
              <a:xfrm flipH="1">
                <a:off x="858960" y="3139920"/>
                <a:ext cx="45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09480" y="301932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74000" y="2759040"/>
                <a:ext cx="55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ffffff"/>
                    </a:solidFill>
                    <a:latin typeface="Arial Narrow"/>
                  </a:rPr>
                  <a:t>op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609480" y="3216240"/>
              <a:ext cx="717120" cy="488880"/>
              <a:chOff x="609480" y="3216240"/>
              <a:chExt cx="717120" cy="488880"/>
            </a:xfrm>
          </p:grpSpPr>
          <p:sp>
            <p:nvSpPr>
              <p:cNvPr id="163" name=""/>
              <p:cNvSpPr/>
              <p:nvPr/>
            </p:nvSpPr>
            <p:spPr>
              <a:xfrm flipH="1">
                <a:off x="858960" y="3597120"/>
                <a:ext cx="45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09480" y="347652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74000" y="3216240"/>
                <a:ext cx="55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ffffff"/>
                    </a:solidFill>
                    <a:latin typeface="Arial Narrow"/>
                  </a:rPr>
                  <a:t>op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2438280" y="4435560"/>
              <a:ext cx="228600" cy="706320"/>
              <a:chOff x="2438280" y="4435560"/>
              <a:chExt cx="228600" cy="706320"/>
            </a:xfrm>
          </p:grpSpPr>
          <p:sp>
            <p:nvSpPr>
              <p:cNvPr id="167" name=""/>
              <p:cNvSpPr/>
              <p:nvPr/>
            </p:nvSpPr>
            <p:spPr>
              <a:xfrm>
                <a:off x="2558880" y="4435560"/>
                <a:ext cx="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6200000">
                <a:off x="2438280" y="491328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1676520" y="4435560"/>
              <a:ext cx="228600" cy="706320"/>
              <a:chOff x="1676520" y="4435560"/>
              <a:chExt cx="228600" cy="706320"/>
            </a:xfrm>
          </p:grpSpPr>
          <p:sp>
            <p:nvSpPr>
              <p:cNvPr id="170" name=""/>
              <p:cNvSpPr/>
              <p:nvPr/>
            </p:nvSpPr>
            <p:spPr>
              <a:xfrm>
                <a:off x="1797120" y="4435560"/>
                <a:ext cx="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6200000">
                <a:off x="1676520" y="491328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3089160" y="3825360"/>
              <a:ext cx="706320" cy="228600"/>
              <a:chOff x="3089160" y="3825360"/>
              <a:chExt cx="706320" cy="228600"/>
            </a:xfrm>
          </p:grpSpPr>
          <p:sp>
            <p:nvSpPr>
              <p:cNvPr id="173" name=""/>
              <p:cNvSpPr/>
              <p:nvPr/>
            </p:nvSpPr>
            <p:spPr>
              <a:xfrm>
                <a:off x="3089160" y="3933360"/>
                <a:ext cx="45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0800000">
                <a:off x="3566880" y="382536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089160" y="3368160"/>
              <a:ext cx="706320" cy="228600"/>
              <a:chOff x="3089160" y="3368160"/>
              <a:chExt cx="706320" cy="228600"/>
            </a:xfrm>
          </p:grpSpPr>
          <p:sp>
            <p:nvSpPr>
              <p:cNvPr id="176" name=""/>
              <p:cNvSpPr/>
              <p:nvPr/>
            </p:nvSpPr>
            <p:spPr>
              <a:xfrm>
                <a:off x="3089160" y="3476160"/>
                <a:ext cx="45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0800000">
                <a:off x="3566880" y="336816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3089160" y="2377800"/>
              <a:ext cx="706320" cy="228600"/>
              <a:chOff x="3089160" y="2377800"/>
              <a:chExt cx="706320" cy="228600"/>
            </a:xfrm>
          </p:grpSpPr>
          <p:sp>
            <p:nvSpPr>
              <p:cNvPr id="179" name=""/>
              <p:cNvSpPr/>
              <p:nvPr/>
            </p:nvSpPr>
            <p:spPr>
              <a:xfrm>
                <a:off x="3089160" y="2485800"/>
                <a:ext cx="45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0800000">
                <a:off x="3566880" y="237780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 rot="16200000">
              <a:off x="2588400" y="245736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 Narrow"/>
                </a:rPr>
                <a:t>Attribu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2149560"/>
              <a:ext cx="136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Componente 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06200" y="3978360"/>
              <a:ext cx="69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 Narrow"/>
                </a:rPr>
                <a:t>Even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63760" y="4130640"/>
              <a:ext cx="47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 Narrow"/>
                </a:rPr>
                <a:t>s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48640" y="4130640"/>
              <a:ext cx="68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 Narrow"/>
                </a:rPr>
                <a:t>sourc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6200000">
              <a:off x="2438280" y="3597840"/>
              <a:ext cx="109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 Narrow"/>
                </a:rPr>
                <a:t>Receptacl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5400000">
              <a:off x="1121760" y="3008520"/>
              <a:ext cx="68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 Narrow"/>
                </a:rPr>
                <a:t>Face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1800360" y="2911320"/>
              <a:ext cx="838080" cy="914400"/>
              <a:chOff x="1800360" y="2911320"/>
              <a:chExt cx="838080" cy="914400"/>
            </a:xfrm>
          </p:grpSpPr>
          <p:sp>
            <p:nvSpPr>
              <p:cNvPr id="189" name=""/>
              <p:cNvSpPr/>
              <p:nvPr/>
            </p:nvSpPr>
            <p:spPr>
              <a:xfrm>
                <a:off x="1800360" y="2911320"/>
                <a:ext cx="838080" cy="3045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800360" y="3215880"/>
                <a:ext cx="838080" cy="3049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800360" y="3520800"/>
                <a:ext cx="838080" cy="3049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2209680" y="2638440"/>
              <a:ext cx="0" cy="29196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09680" y="2638440"/>
              <a:ext cx="59400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257800" y="1447920"/>
            <a:ext cx="3185640" cy="3693960"/>
            <a:chOff x="5257800" y="1447920"/>
            <a:chExt cx="3185640" cy="3693960"/>
          </a:xfrm>
        </p:grpSpPr>
        <p:sp>
          <p:nvSpPr>
            <p:cNvPr id="195" name=""/>
            <p:cNvSpPr/>
            <p:nvPr/>
          </p:nvSpPr>
          <p:spPr>
            <a:xfrm>
              <a:off x="5972040" y="2149560"/>
              <a:ext cx="1752120" cy="2286000"/>
            </a:xfrm>
            <a:custGeom>
              <a:avLst/>
              <a:gdLst>
                <a:gd name="textAreaLeft" fmla="*/ 85320 w 1752120"/>
                <a:gd name="textAreaRight" fmla="*/ 1666800 w 1752120"/>
                <a:gd name="textAreaTop" fmla="*/ 85320 h 2286000"/>
                <a:gd name="textAreaBottom" fmla="*/ 2200680 h 2286000"/>
              </a:gdLst>
              <a:ahLst/>
              <a:rect l="textAreaLeft" t="textAreaTop" r="textAreaRight" b="textAreaBottom"/>
              <a:pathLst>
                <a:path w="21600" h="28180">
                  <a:moveTo>
                    <a:pt x="3600" y="0"/>
                  </a:moveTo>
                  <a:arcTo wR="3600" hR="3600" stAng="16200000" swAng="-5400000"/>
                  <a:lnTo>
                    <a:pt x="0" y="24580"/>
                  </a:lnTo>
                  <a:arcTo wR="3600" hR="3600" stAng="10800000" swAng="-5400000"/>
                  <a:lnTo>
                    <a:pt x="18000" y="2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257800" y="2301840"/>
              <a:ext cx="716400" cy="488880"/>
              <a:chOff x="5257800" y="2301840"/>
              <a:chExt cx="716400" cy="488880"/>
            </a:xfrm>
          </p:grpSpPr>
          <p:sp>
            <p:nvSpPr>
              <p:cNvPr id="197" name=""/>
              <p:cNvSpPr/>
              <p:nvPr/>
            </p:nvSpPr>
            <p:spPr>
              <a:xfrm flipH="1">
                <a:off x="5506560" y="2682720"/>
                <a:ext cx="456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257800" y="2562120"/>
                <a:ext cx="2282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421600" y="2301840"/>
                <a:ext cx="55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ffffff"/>
                    </a:solidFill>
                    <a:latin typeface="Arial Narrow"/>
                  </a:rPr>
                  <a:t>op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7010280" y="1447920"/>
              <a:ext cx="228240" cy="706320"/>
              <a:chOff x="7010280" y="1447920"/>
              <a:chExt cx="228240" cy="706320"/>
            </a:xfrm>
          </p:grpSpPr>
          <p:sp>
            <p:nvSpPr>
              <p:cNvPr id="201" name=""/>
              <p:cNvSpPr/>
              <p:nvPr/>
            </p:nvSpPr>
            <p:spPr>
              <a:xfrm flipV="1">
                <a:off x="7118280" y="1697040"/>
                <a:ext cx="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5400000">
                <a:off x="7009920" y="1447920"/>
                <a:ext cx="22860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5257800" y="2759040"/>
              <a:ext cx="716400" cy="488880"/>
              <a:chOff x="5257800" y="2759040"/>
              <a:chExt cx="716400" cy="488880"/>
            </a:xfrm>
          </p:grpSpPr>
          <p:sp>
            <p:nvSpPr>
              <p:cNvPr id="204" name=""/>
              <p:cNvSpPr/>
              <p:nvPr/>
            </p:nvSpPr>
            <p:spPr>
              <a:xfrm flipH="1">
                <a:off x="5506560" y="3139920"/>
                <a:ext cx="456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257800" y="3019320"/>
                <a:ext cx="2282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421600" y="2759040"/>
                <a:ext cx="55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ffffff"/>
                    </a:solidFill>
                    <a:latin typeface="Arial Narrow"/>
                  </a:rPr>
                  <a:t>op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5257800" y="3216240"/>
              <a:ext cx="716400" cy="488880"/>
              <a:chOff x="5257800" y="3216240"/>
              <a:chExt cx="716400" cy="488880"/>
            </a:xfrm>
          </p:grpSpPr>
          <p:sp>
            <p:nvSpPr>
              <p:cNvPr id="208" name=""/>
              <p:cNvSpPr/>
              <p:nvPr/>
            </p:nvSpPr>
            <p:spPr>
              <a:xfrm flipH="1">
                <a:off x="5506560" y="3597120"/>
                <a:ext cx="456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257800" y="3476520"/>
                <a:ext cx="2282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421600" y="3216240"/>
                <a:ext cx="55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ffffff"/>
                    </a:solidFill>
                    <a:latin typeface="Arial Narrow"/>
                  </a:rPr>
                  <a:t>op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7086240" y="4435560"/>
              <a:ext cx="228240" cy="706320"/>
              <a:chOff x="7086240" y="4435560"/>
              <a:chExt cx="228240" cy="706320"/>
            </a:xfrm>
          </p:grpSpPr>
          <p:sp>
            <p:nvSpPr>
              <p:cNvPr id="212" name=""/>
              <p:cNvSpPr/>
              <p:nvPr/>
            </p:nvSpPr>
            <p:spPr>
              <a:xfrm>
                <a:off x="7206480" y="4435560"/>
                <a:ext cx="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6200000">
                <a:off x="7085880" y="4913280"/>
                <a:ext cx="22860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6324480" y="4435560"/>
              <a:ext cx="228240" cy="706320"/>
              <a:chOff x="6324480" y="4435560"/>
              <a:chExt cx="228240" cy="706320"/>
            </a:xfrm>
          </p:grpSpPr>
          <p:sp>
            <p:nvSpPr>
              <p:cNvPr id="215" name=""/>
              <p:cNvSpPr/>
              <p:nvPr/>
            </p:nvSpPr>
            <p:spPr>
              <a:xfrm>
                <a:off x="6444720" y="4435560"/>
                <a:ext cx="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16200000">
                <a:off x="6324120" y="4913280"/>
                <a:ext cx="22860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737120" y="3825360"/>
              <a:ext cx="706320" cy="228600"/>
              <a:chOff x="7737120" y="3825360"/>
              <a:chExt cx="706320" cy="228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737120" y="3933360"/>
                <a:ext cx="45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10800000">
                <a:off x="8214840" y="382536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737120" y="3368160"/>
              <a:ext cx="706320" cy="228600"/>
              <a:chOff x="7737120" y="3368160"/>
              <a:chExt cx="706320" cy="228600"/>
            </a:xfrm>
          </p:grpSpPr>
          <p:sp>
            <p:nvSpPr>
              <p:cNvPr id="221" name=""/>
              <p:cNvSpPr/>
              <p:nvPr/>
            </p:nvSpPr>
            <p:spPr>
              <a:xfrm>
                <a:off x="7737120" y="3476160"/>
                <a:ext cx="45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0800000">
                <a:off x="8214840" y="336816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7737120" y="2377800"/>
              <a:ext cx="706320" cy="228600"/>
              <a:chOff x="7737120" y="2377800"/>
              <a:chExt cx="706320" cy="228600"/>
            </a:xfrm>
          </p:grpSpPr>
          <p:sp>
            <p:nvSpPr>
              <p:cNvPr id="224" name=""/>
              <p:cNvSpPr/>
              <p:nvPr/>
            </p:nvSpPr>
            <p:spPr>
              <a:xfrm>
                <a:off x="7737120" y="2485800"/>
                <a:ext cx="45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0800000">
                <a:off x="8214840" y="237780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 rot="16200000">
              <a:off x="7236360" y="245736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 Narrow"/>
                </a:rPr>
                <a:t>Attribu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71840" y="2149560"/>
              <a:ext cx="136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Componente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54160" y="3978360"/>
              <a:ext cx="69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 Narrow"/>
                </a:rPr>
                <a:t>Even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11360" y="4130640"/>
              <a:ext cx="47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 Narrow"/>
                </a:rPr>
                <a:t>s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96600" y="4130640"/>
              <a:ext cx="68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 Narrow"/>
                </a:rPr>
                <a:t>sourc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6200000">
              <a:off x="7086240" y="3597840"/>
              <a:ext cx="109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 Narrow"/>
                </a:rPr>
                <a:t>Receptacl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5400000">
              <a:off x="5769720" y="3008520"/>
              <a:ext cx="68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 Narrow"/>
                </a:rPr>
                <a:t>Face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6448320" y="2911320"/>
              <a:ext cx="837720" cy="914400"/>
              <a:chOff x="6448320" y="2911320"/>
              <a:chExt cx="837720" cy="91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6448320" y="2911320"/>
                <a:ext cx="837720" cy="3045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448320" y="3215880"/>
                <a:ext cx="837720" cy="3049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48320" y="3520800"/>
                <a:ext cx="837720" cy="3049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6857640" y="2638440"/>
              <a:ext cx="0" cy="29196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57640" y="2638440"/>
              <a:ext cx="59364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835440" y="1544760"/>
            <a:ext cx="3174480" cy="1927440"/>
            <a:chOff x="3835440" y="1544760"/>
            <a:chExt cx="3174480" cy="1927440"/>
          </a:xfrm>
        </p:grpSpPr>
        <p:grpSp>
          <p:nvGrpSpPr>
            <p:cNvPr id="240" name=""/>
            <p:cNvGrpSpPr/>
            <p:nvPr/>
          </p:nvGrpSpPr>
          <p:grpSpPr>
            <a:xfrm>
              <a:off x="3835440" y="1544760"/>
              <a:ext cx="279360" cy="1927440"/>
              <a:chOff x="3835440" y="1544760"/>
              <a:chExt cx="279360" cy="1927440"/>
            </a:xfrm>
          </p:grpSpPr>
          <p:sp>
            <p:nvSpPr>
              <p:cNvPr id="241" name=""/>
              <p:cNvSpPr/>
              <p:nvPr/>
            </p:nvSpPr>
            <p:spPr>
              <a:xfrm>
                <a:off x="3835440" y="3472200"/>
                <a:ext cx="265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4114800" y="1544760"/>
                <a:ext cx="0" cy="192744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 flipH="1">
              <a:off x="4114440" y="154764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816360" y="3123720"/>
            <a:ext cx="1059480" cy="820800"/>
            <a:chOff x="3816360" y="3123720"/>
            <a:chExt cx="1059480" cy="820800"/>
          </a:xfrm>
        </p:grpSpPr>
        <p:sp>
          <p:nvSpPr>
            <p:cNvPr id="245" name=""/>
            <p:cNvSpPr/>
            <p:nvPr/>
          </p:nvSpPr>
          <p:spPr>
            <a:xfrm>
              <a:off x="3816360" y="3944520"/>
              <a:ext cx="10072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875840" y="3123720"/>
              <a:ext cx="0" cy="820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 flipH="1">
            <a:off x="4876920" y="31240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489840" y="4495680"/>
            <a:ext cx="2129760" cy="2062440"/>
            <a:chOff x="3489840" y="4495680"/>
            <a:chExt cx="2129760" cy="2062440"/>
          </a:xfrm>
        </p:grpSpPr>
        <p:sp>
          <p:nvSpPr>
            <p:cNvPr id="249" name=""/>
            <p:cNvSpPr/>
            <p:nvPr/>
          </p:nvSpPr>
          <p:spPr>
            <a:xfrm>
              <a:off x="3505320" y="4495680"/>
              <a:ext cx="2023920" cy="2057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22120" y="4724280"/>
              <a:ext cx="1396080" cy="6094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 Narrow"/>
                </a:rPr>
                <a:t>Ev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 Narrow"/>
                </a:rPr>
                <a:t>Channel 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22120" y="5410080"/>
              <a:ext cx="1396080" cy="6094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 Narrow"/>
                </a:rPr>
                <a:t>Ev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 Narrow"/>
                </a:rPr>
                <a:t>Channel 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489840" y="6159240"/>
              <a:ext cx="212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 Narrow"/>
                </a:rPr>
                <a:t>Notification Servi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2666880" y="50292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57800" y="50292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87400" y="5715000"/>
            <a:ext cx="20224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87400" y="51814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257800" y="5181480"/>
            <a:ext cx="1957320" cy="533520"/>
            <a:chOff x="5257800" y="5181480"/>
            <a:chExt cx="1957320" cy="533520"/>
          </a:xfrm>
        </p:grpSpPr>
        <p:sp>
          <p:nvSpPr>
            <p:cNvPr id="258" name=""/>
            <p:cNvSpPr/>
            <p:nvPr/>
          </p:nvSpPr>
          <p:spPr>
            <a:xfrm>
              <a:off x="5257800" y="5715000"/>
              <a:ext cx="195732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14760" y="518148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5547600" y="46720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Narrow"/>
              </a:rPr>
              <a:t>publ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59960" y="121932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Narrow"/>
              </a:rPr>
              <a:t>u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69600" y="358128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Narrow"/>
              </a:rPr>
              <a:t>u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04600" y="4689360"/>
            <a:ext cx="102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Narrow"/>
              </a:rPr>
              <a:t>cons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8400" y="5370480"/>
            <a:ext cx="102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Narrow"/>
              </a:rPr>
              <a:t>cons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59920" y="53751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Narrow"/>
              </a:rPr>
              <a:t>publ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Ponto de Vista do Desenvolvedor</a:t>
            </a:r>
            <a:br>
              <a:rPr sz="4400"/>
            </a:br>
            <a:r>
              <a:rPr b="0" lang="pt-BR" sz="3200" spc="-1" strike="noStrike">
                <a:solidFill>
                  <a:srgbClr val="ffcc66"/>
                </a:solidFill>
                <a:latin typeface="Arial"/>
              </a:rPr>
              <a:t>Component Implementation Framework (CIF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CM define grande número de interfaces (por exemplo,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Home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Navigation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) para suportar a estrutura e funcionalidade dos component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As implementações de muitas dessas interfaces podem ser geradas automaticamente: esse é o objetivo d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ORBA Component Implementation Framework (CIF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CM define uma linguagem declarativa,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omponent Implementation Definition Language (CIDL)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para descrever implementações e persistência de estado de componentes 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hom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IF usa a CIDL para gerar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skeleton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que automatizam tarefas básicas, como navegação, ativação e gerenciamento de estado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Ponto de Vista do Desenvolvedor</a:t>
            </a:r>
            <a:br>
              <a:rPr sz="4400"/>
            </a:br>
            <a:r>
              <a:rPr b="0" lang="pt-BR" sz="3200" spc="-1" strike="noStrike">
                <a:solidFill>
                  <a:srgbClr val="ffcc66"/>
                </a:solidFill>
                <a:latin typeface="Arial"/>
              </a:rPr>
              <a:t>Component Implementation Framework (CIF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1371600"/>
            <a:ext cx="144756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Arquivos CID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91520" y="2743200"/>
            <a:ext cx="144756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Stub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1371600"/>
            <a:ext cx="144792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Reposito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91520" y="1371600"/>
            <a:ext cx="144756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Arquivos ID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7080" y="1523880"/>
            <a:ext cx="110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Compilad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CID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791680" y="1371600"/>
            <a:ext cx="11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Compilad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ID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(component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awar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38680" y="2743200"/>
            <a:ext cx="144792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Skelet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133720" y="2743200"/>
            <a:ext cx="144756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Compon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Implem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Skelet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2743200"/>
            <a:ext cx="144792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Compon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Descrip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4191120"/>
            <a:ext cx="144792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Compon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Implem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Source C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5638680"/>
            <a:ext cx="144792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Compon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Prog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(DL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91320" y="5638680"/>
            <a:ext cx="144756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Prog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467480" y="4191120"/>
            <a:ext cx="144792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C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92200" y="4343400"/>
            <a:ext cx="110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Compilad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92400" y="4343400"/>
            <a:ext cx="110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Compilad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8800" y="1752480"/>
            <a:ext cx="533520" cy="152640"/>
          </a:xfrm>
          <a:prstGeom prst="rightArrow">
            <a:avLst>
              <a:gd name="adj1" fmla="val 50000"/>
              <a:gd name="adj2" fmla="val 87382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3276000" y="1752480"/>
            <a:ext cx="533160" cy="152640"/>
          </a:xfrm>
          <a:prstGeom prst="rightArrow">
            <a:avLst>
              <a:gd name="adj1" fmla="val 50000"/>
              <a:gd name="adj2" fmla="val 87323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781680" y="1752480"/>
            <a:ext cx="533520" cy="152640"/>
          </a:xfrm>
          <a:prstGeom prst="rightArrow">
            <a:avLst>
              <a:gd name="adj1" fmla="val 50000"/>
              <a:gd name="adj2" fmla="val 87382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410080" y="1752480"/>
            <a:ext cx="533520" cy="152640"/>
          </a:xfrm>
          <a:prstGeom prst="rightArrow">
            <a:avLst>
              <a:gd name="adj1" fmla="val 50000"/>
              <a:gd name="adj2" fmla="val 87382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6858000" y="457200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09680" y="4572000"/>
            <a:ext cx="1905120" cy="152280"/>
          </a:xfrm>
          <a:prstGeom prst="rightArrow">
            <a:avLst>
              <a:gd name="adj1" fmla="val 50000"/>
              <a:gd name="adj2" fmla="val 312766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743200" y="2057400"/>
            <a:ext cx="152280" cy="609480"/>
          </a:xfrm>
          <a:prstGeom prst="downArrow">
            <a:avLst>
              <a:gd name="adj1" fmla="val 50000"/>
              <a:gd name="adj2" fmla="val 100059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4480" y="2438280"/>
            <a:ext cx="152640" cy="228600"/>
          </a:xfrm>
          <a:prstGeom prst="downArrow">
            <a:avLst>
              <a:gd name="adj1" fmla="val 50000"/>
              <a:gd name="adj2" fmla="val 37441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3111600">
            <a:off x="2089080" y="1922400"/>
            <a:ext cx="152280" cy="914400"/>
          </a:xfrm>
          <a:prstGeom prst="downArrow">
            <a:avLst>
              <a:gd name="adj1" fmla="val 50000"/>
              <a:gd name="adj2" fmla="val 150118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rot="4021800">
            <a:off x="5545080" y="3341520"/>
            <a:ext cx="152280" cy="1447920"/>
          </a:xfrm>
          <a:prstGeom prst="downArrow">
            <a:avLst>
              <a:gd name="adj1" fmla="val 50000"/>
              <a:gd name="adj2" fmla="val 23770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4021800">
            <a:off x="7277040" y="3314520"/>
            <a:ext cx="152280" cy="1447920"/>
          </a:xfrm>
          <a:prstGeom prst="downArrow">
            <a:avLst>
              <a:gd name="adj1" fmla="val 50000"/>
              <a:gd name="adj2" fmla="val 23770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 rot="17578200">
            <a:off x="3694680" y="3314880"/>
            <a:ext cx="152280" cy="1447560"/>
          </a:xfrm>
          <a:prstGeom prst="downArrow">
            <a:avLst>
              <a:gd name="adj1" fmla="val 50000"/>
              <a:gd name="adj2" fmla="val 237648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 rot="18488400">
            <a:off x="7162920" y="1980720"/>
            <a:ext cx="152280" cy="914400"/>
          </a:xfrm>
          <a:prstGeom prst="downArrow">
            <a:avLst>
              <a:gd name="adj1" fmla="val 50000"/>
              <a:gd name="adj2" fmla="val 150118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48320" y="4952880"/>
            <a:ext cx="152280" cy="609840"/>
          </a:xfrm>
          <a:prstGeom prst="downArrow">
            <a:avLst>
              <a:gd name="adj1" fmla="val 50000"/>
              <a:gd name="adj2" fmla="val 100118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48520" y="4952880"/>
            <a:ext cx="152280" cy="609840"/>
          </a:xfrm>
          <a:prstGeom prst="downArrow">
            <a:avLst>
              <a:gd name="adj1" fmla="val 50000"/>
              <a:gd name="adj2" fmla="val 100118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Ponto de Vista do Desenvolvedor</a:t>
            </a:r>
            <a:br>
              <a:rPr sz="4400"/>
            </a:br>
            <a:r>
              <a:rPr b="0" lang="pt-BR" sz="4000" spc="-1" strike="noStrike">
                <a:solidFill>
                  <a:srgbClr val="ffcc66"/>
                </a:solidFill>
                <a:latin typeface="Arial"/>
              </a:rPr>
              <a:t>Container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omo vimos, componentes são empacotados em DLLs e executados em servidores de componentes. As implementações dos componentes dependem do POA para encaminhar requisições de clientes para os servent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Os componentes não precisam saber como tratar problemas como a  criação de  hierarquia de POAs e localizar serviços do CCM. Para isso foram definidos os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ontainer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com as seguintes funcionalidades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Ativação/desativação de implementações de componentes, preservando recursos (como memória)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Fornecimento de camada de adaptação com os serviços de transação, persistência, segurança e notificação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Fornecimento de camada de adaptação para </a:t>
            </a: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callback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Gerenciamento de políticas do POA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Ponto de Vista do Desenvolvedor</a:t>
            </a:r>
            <a:br>
              <a:rPr sz="4400"/>
            </a:br>
            <a:r>
              <a:rPr b="0" lang="pt-BR" sz="4000" spc="-1" strike="noStrike">
                <a:solidFill>
                  <a:srgbClr val="ffcc66"/>
                </a:solidFill>
                <a:latin typeface="Arial"/>
              </a:rPr>
              <a:t>Container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O gerenciamento do tempo de vida dos serventes é feito através de políticas que controlam o momento de ativação/desativação dos componentes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ethod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: ativação/desativação a cada chamada de método, limitando o uso de memória ao tempo de duração da operação, mas acrescentando o custo de ativação e desativação do componente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ransaction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: ativação/desativação a cada transação. Memória permanece alocada durante a transação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omponent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: o </a:t>
            </a:r>
            <a:r>
              <a:rPr b="1" i="1" lang="pt-BR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ontainer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ativa o componente quando for feita a primeira chamada a alguma de suas operações, e desativa quando explicitamente requisitado pela aplicação, desalocando a memória utilizada pelo componente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ontainer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: o componente será ativado quando for feita a primeira chamada a alguma de suas operações e, ao final da execução da mesma, será desativado. Entretanto, a memória permanecerá alocada até que o </a:t>
            </a:r>
            <a:r>
              <a:rPr b="1" i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ontainer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decida desalocá-la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Ponto de Vista do Desenvolvedor</a:t>
            </a:r>
            <a:br>
              <a:rPr sz="4400"/>
            </a:br>
            <a:r>
              <a:rPr b="0" lang="pt-BR" sz="4000" spc="-1" strike="noStrike">
                <a:solidFill>
                  <a:srgbClr val="ffcc66"/>
                </a:solidFill>
                <a:latin typeface="Arial"/>
              </a:rPr>
              <a:t>Component Categori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Estende o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CORBA Usage Model,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 que classifica o padrão de interação entre o container, o POA e os serviços de CORBA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São especificadas em arquivo CID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31840" y="3314880"/>
          <a:ext cx="8758080" cy="3367080"/>
        </p:xfrm>
        <a:graphic>
          <a:graphicData uri="http://schemas.openxmlformats.org/drawingml/2006/table">
            <a:tbl>
              <a:tblPr/>
              <a:tblGrid>
                <a:gridCol w="1720800"/>
                <a:gridCol w="1747800"/>
                <a:gridCol w="1425600"/>
                <a:gridCol w="1263600"/>
                <a:gridCol w="260028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tegoria do Compone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RBA Us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ipo de API do Contain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yed Ho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nterf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xemp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erv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tatel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es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ã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Wrappers</a:t>
                      </a: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para aplic. procedurais de lega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es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nvers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es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ã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terado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urá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t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ã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ras de negócio. Ex.: carrinho de compr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t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urá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t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i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eças num inventári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Objetiv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Apresentar os problemas existentes atualmente em CORBA que o CCM pretende resolver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Familiarizar o participante com os termos usados pelo CCM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Mostrar a estrutura geral do CCM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Ponto de Vista do Desenvolvedor</a:t>
            </a:r>
            <a:br>
              <a:rPr sz="4400"/>
            </a:br>
            <a:r>
              <a:rPr b="0" lang="pt-BR" sz="4000" spc="-1" strike="noStrike">
                <a:solidFill>
                  <a:srgbClr val="ffcc66"/>
                </a:solidFill>
                <a:latin typeface="Arial"/>
              </a:rPr>
              <a:t>Empacotamento e Distribuição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Em sistemas distribuídos, componentes podem ser implantados em diversos servidores e sistemas operacionais. Além disso, um componente pode depender de outros componentes, tornando o processo de empacotamento e distribuição bem complicado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CM descreve componentes e suas dependências usando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Open Software Description (OSD)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que é um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XML Document Type Definition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(DTD)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definido pelo consórcio WWW. Componentes são empacotados em DLLs.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Package descriptor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são documentos XML em conformidade com o OSD DTD, descrevendo o conteúdo da DLL e suas dependência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CM OSD também defin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omponent assembly descriptor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que descrevem instruções de implantação e topologia dos componentes, e objetiva o suporte à implantação automática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ORB Exten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Simplificam a implementação da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CCM framework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, focando também em melhorias de performanc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Locality-constrained interface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: permite comunicação local entre componente 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ontainer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melhorando a performanc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Extensões ao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Interface Repository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(IR): o modelo do CCM utiliza largamente a navegação através das interfaces dos componentes, o que já era possível utilizando o IR, mas ganhou em desempenho ao se utilizar CCMObject, uma vez que a chamada de operações é feita de modo “co-locado”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Extensões à IDL, com construções para importação de declarações de tipos definidos em arquivos separados, e mecanismos para controlar identificadores no I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Outras Tecnologi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Enterprise Java Beans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 (EJB): a especificação do CCM foi modelada em muitos pontos baseada na do EJB. Entretanto, CCM utiliza CORBA como arquitetura para interoperabilidade, não estando associada a uma linguagem em particular. CCM também define mapeamento entre os dois padrõ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Microsoft .NET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: possui vários pontos em comum com o CCM sendo, entretanto, limitada às plataformas Microsof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Referênci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Object Management Group.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Don Box. Essential COM (Addison-Wesley, 1998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M. Henning, S. Vinoski. Advanced CORBA Programming with C++ (Addison-Wesley, 1999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E. Gamma et al. Design Patterns: Elements of Reusable Object-Oriented Software (Addison-Wesley, 1994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http://ditec.um.es/~dsevilla/ccm/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Roteir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Introdução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Apresentação do CCM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Ponto de vista do client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omponent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Equivalent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 e </a:t>
            </a: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Supported interface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Port mechanisms: Facets (provided interfaces)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Gerenciamento do ciclo-de-vida dos component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Home interface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enários de uso de component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Roteiro (cont.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Ponto de vista do desenvolvedor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omponent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788400" indent="-1576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Port mechanisms: Receptacles, Event sources/sinks, Attribute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omponent Hom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onfiguração de Component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omponent Implementation Framework (CIF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ontainer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omponent Categori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Packaging and Deployment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ORB Extension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Outras Tecnologia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Enterprise Java Beans (EJB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Microsoft .NET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Referência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17640" y="1527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RBA tem sido utilizado por um número crescente de aplicações distribuídas, como pode ser visto em “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success stories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” em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http://www.omg.org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, devido a características  como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Independência de linguagem, sistema operacional,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hardware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e localização relativa entre cliente e servido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Serviços como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naming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trading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event notification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que fornecem reusabilidad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Serviços essenciais como o de transações e segurança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Introdução (cont.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Entretanto, a especificação de CORBA 2.3 não atende bem a pontos tais como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Falta de padrão para implantação (</a:t>
            </a: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deployment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) de objeto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Falta de suporte para o uso de subconjuntos de funcionalidades “comuns”. Por exemplo, um grande número de aplicações utiliza apenas um subconjunto das possíveis configurações do POA e, apesar disso, o desenvolvedor deve conhecer muitas políticas do POA para conseguir o efeito desejado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Dificuldade para estender funcionalidades de objetos CORBA, possível apenas através de herança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Falta de definição de serviços obrigatórios: a aplicação deve possuir código que trate a indisponibilidade de serviço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Falta de padrão para gerenciamento de ciclo-de-vida de objetos: apesar da existência do “</a:t>
            </a: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Lifecycle Service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”, seu uso não é obrigatório, o que dificulta o trabalho no cliente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Problemas como esses levam à produção de aplicações com objetos fortemente acoplados (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tightly coupled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) difíceis de modelar, reutilizar, implantar, manter e estende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Introdução (cont.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om o objetivo de solucionar esses problemas, a OMG adotou o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ORBA Component Model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(CCM) como parte da especificação de CORBA 3.0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CM estende o modelo de objetos de CORBA, definindo funcionalidades e serviços que permitem que o desenvolvedor implemente, gerencie, configure e implante componentes que integrem os serviços de CORBA, como segurança, transações, persistência e eventos, em um ambiente padronizado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CM permite maior reutilização de servidores e mais flexibilidade para configuração dinâmica de aplicações CORBA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Nesta apresentação, veremos as principais funcionalidades e serviços definidos pelo CCM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Apresentação do CC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Uma das principais contribuições do CCM é a padronização do processo de desenvolvimento, que pode ser resumido como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O desenvolvedor de componentes define, em IDL, as interfaces que as implementações dos componentes irão suporta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O desenvolvedor implementa os componentes utilizando ferramentas disponibilizadas pelo fornecedor do CCM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O componente é empacotado em uma DL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O componente é implantado por mecanismo desenvolvido pelo fornecedor do CCM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A seguir apresentaremos os componentes do CCM sob as ópticas do cliente e do desenvolvedor, e as extensões dos ORB´s necessárias para suporte ao CCM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Ponto de Vista do Clien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59120" y="990720"/>
            <a:ext cx="7357320" cy="22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                                                            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ID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interface A, B;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component Foo supports A, B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// definição de </a:t>
            </a:r>
            <a:r>
              <a:rPr b="1" i="1" lang="pt-BR" sz="2000" spc="-1" strike="noStrike">
                <a:solidFill>
                  <a:srgbClr val="0000ff"/>
                </a:solidFill>
                <a:latin typeface="Arial Narrow"/>
              </a:rPr>
              <a:t>equivalent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{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// e </a:t>
            </a:r>
            <a:r>
              <a:rPr b="1" i="1" lang="pt-BR" sz="2000" spc="-1" strike="noStrike">
                <a:solidFill>
                  <a:srgbClr val="0000ff"/>
                </a:solidFill>
                <a:latin typeface="Arial Narrow"/>
              </a:rPr>
              <a:t>supported interfa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provides W, X, Y, Z;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// </a:t>
            </a:r>
            <a:r>
              <a:rPr b="1" i="1" lang="pt-BR" sz="2000" spc="-1" strike="noStrike">
                <a:solidFill>
                  <a:srgbClr val="0000ff"/>
                </a:solidFill>
                <a:latin typeface="Arial Narrow"/>
              </a:rPr>
              <a:t>Facets (provided interfac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. . .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// outras definições do compon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4114800"/>
            <a:ext cx="2133720" cy="26020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41911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Compon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Fo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666880" y="4876920"/>
            <a:ext cx="2306520" cy="533160"/>
            <a:chOff x="2666880" y="4876920"/>
            <a:chExt cx="2306520" cy="533160"/>
          </a:xfrm>
        </p:grpSpPr>
        <p:grpSp>
          <p:nvGrpSpPr>
            <p:cNvPr id="109" name=""/>
            <p:cNvGrpSpPr/>
            <p:nvPr/>
          </p:nvGrpSpPr>
          <p:grpSpPr>
            <a:xfrm>
              <a:off x="2666880" y="5105520"/>
              <a:ext cx="2306520" cy="304560"/>
              <a:chOff x="2666880" y="5105520"/>
              <a:chExt cx="2306520" cy="304560"/>
            </a:xfrm>
          </p:grpSpPr>
          <p:sp>
            <p:nvSpPr>
              <p:cNvPr id="110" name=""/>
              <p:cNvSpPr/>
              <p:nvPr/>
            </p:nvSpPr>
            <p:spPr>
              <a:xfrm>
                <a:off x="3830400" y="5105520"/>
                <a:ext cx="1143000" cy="30456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2916000" y="525780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666880" y="513720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2917800" y="4876920"/>
              <a:ext cx="37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666880" y="5283360"/>
            <a:ext cx="2306520" cy="533160"/>
            <a:chOff x="2666880" y="5283360"/>
            <a:chExt cx="2306520" cy="533160"/>
          </a:xfrm>
        </p:grpSpPr>
        <p:grpSp>
          <p:nvGrpSpPr>
            <p:cNvPr id="115" name=""/>
            <p:cNvGrpSpPr/>
            <p:nvPr/>
          </p:nvGrpSpPr>
          <p:grpSpPr>
            <a:xfrm>
              <a:off x="2666880" y="5511960"/>
              <a:ext cx="2306520" cy="304560"/>
              <a:chOff x="2666880" y="5511960"/>
              <a:chExt cx="2306520" cy="304560"/>
            </a:xfrm>
          </p:grpSpPr>
          <p:sp>
            <p:nvSpPr>
              <p:cNvPr id="116" name=""/>
              <p:cNvSpPr/>
              <p:nvPr/>
            </p:nvSpPr>
            <p:spPr>
              <a:xfrm>
                <a:off x="3830400" y="5511960"/>
                <a:ext cx="1143000" cy="30456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2916000" y="566424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666880" y="554364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2946600" y="5283360"/>
              <a:ext cx="3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666880" y="5689440"/>
            <a:ext cx="2306520" cy="533160"/>
            <a:chOff x="2666880" y="5689440"/>
            <a:chExt cx="2306520" cy="533160"/>
          </a:xfrm>
        </p:grpSpPr>
        <p:grpSp>
          <p:nvGrpSpPr>
            <p:cNvPr id="121" name=""/>
            <p:cNvGrpSpPr/>
            <p:nvPr/>
          </p:nvGrpSpPr>
          <p:grpSpPr>
            <a:xfrm>
              <a:off x="2666880" y="5918040"/>
              <a:ext cx="2306520" cy="304560"/>
              <a:chOff x="2666880" y="5918040"/>
              <a:chExt cx="2306520" cy="304560"/>
            </a:xfrm>
          </p:grpSpPr>
          <p:sp>
            <p:nvSpPr>
              <p:cNvPr id="122" name=""/>
              <p:cNvSpPr/>
              <p:nvPr/>
            </p:nvSpPr>
            <p:spPr>
              <a:xfrm>
                <a:off x="3830400" y="5918040"/>
                <a:ext cx="1143000" cy="30456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2916000" y="607032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666880" y="594972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946600" y="5689440"/>
              <a:ext cx="3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666880" y="6095880"/>
            <a:ext cx="2306520" cy="533160"/>
            <a:chOff x="2666880" y="6095880"/>
            <a:chExt cx="2306520" cy="533160"/>
          </a:xfrm>
        </p:grpSpPr>
        <p:grpSp>
          <p:nvGrpSpPr>
            <p:cNvPr id="127" name=""/>
            <p:cNvGrpSpPr/>
            <p:nvPr/>
          </p:nvGrpSpPr>
          <p:grpSpPr>
            <a:xfrm>
              <a:off x="2666880" y="6324480"/>
              <a:ext cx="2306520" cy="304560"/>
              <a:chOff x="2666880" y="6324480"/>
              <a:chExt cx="2306520" cy="304560"/>
            </a:xfrm>
          </p:grpSpPr>
          <p:sp>
            <p:nvSpPr>
              <p:cNvPr id="128" name=""/>
              <p:cNvSpPr/>
              <p:nvPr/>
            </p:nvSpPr>
            <p:spPr>
              <a:xfrm>
                <a:off x="3830400" y="6324480"/>
                <a:ext cx="1143000" cy="30456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2916000" y="647676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666880" y="635616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2952000" y="6095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Z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800600" y="3499560"/>
            <a:ext cx="228600" cy="611640"/>
            <a:chOff x="4800600" y="3499560"/>
            <a:chExt cx="228600" cy="611640"/>
          </a:xfrm>
        </p:grpSpPr>
        <p:sp>
          <p:nvSpPr>
            <p:cNvPr id="133" name=""/>
            <p:cNvSpPr/>
            <p:nvPr/>
          </p:nvSpPr>
          <p:spPr>
            <a:xfrm flipV="1">
              <a:off x="4918320" y="3745800"/>
              <a:ext cx="0" cy="365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 rot="5400000">
              <a:off x="4800600" y="34992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521440" y="320040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Equivalent inte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(suporta as interfac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A e B por heranç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8360" y="5410080"/>
            <a:ext cx="112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Fac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(provid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interfac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05520" y="5257800"/>
            <a:ext cx="152280" cy="1206360"/>
          </a:xfrm>
          <a:custGeom>
            <a:avLst/>
            <a:gdLst>
              <a:gd name="textAreaLeft" fmla="*/ 0 w 152280"/>
              <a:gd name="textAreaRight" fmla="*/ 55080 w 152280"/>
              <a:gd name="textAreaTop" fmla="*/ 31320 h 1206360"/>
              <a:gd name="textAreaBottom" fmla="*/ 1175040 h 120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5867280"/>
            <a:ext cx="566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79320" y="5649840"/>
            <a:ext cx="187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Implementaçõ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8T13:16:59Z</dcterms:created>
  <dc:creator>Alexandre Ricardo Nardi</dc:creator>
  <dc:description/>
  <dc:language>en-US</dc:language>
  <cp:lastModifiedBy>Alexandre Ricardo Nardi</cp:lastModifiedBy>
  <dcterms:modified xsi:type="dcterms:W3CDTF">2001-09-11T12:24:00Z</dcterms:modified>
  <cp:revision>143</cp:revision>
  <dc:subject/>
  <dc:title>Arquitetura do COM</dc:title>
</cp:coreProperties>
</file>