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E19-57B5-45CA-A0D8-7E3AE83C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A24D-8505-4080-9DD4-68FBEFFC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19F-3320-4475-84F5-6D3667EC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C0A-3C2E-46CC-BAD1-D679BCBD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591F-1AF3-4DCD-B253-825E1579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1CA5-21E2-4854-B4A3-916279E5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EBEF-EA48-4EDB-ACB1-28E10AD6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6C1F-0640-4681-8E13-A27615C7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E02-D131-4B73-A5A6-B6516EA0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C9EF-9090-4CC0-B137-39210CD3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21A-B5C4-4A9F-926F-D9EFC07A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06F-D346-4661-AE36-D45BDDED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4AA3-79E4-4803-8315-3BDE34B5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B352-4BA0-472A-A3FD-E6CCEA82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F3F1-B9A9-40C7-BAD8-731C082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CCDE-C85D-4BAC-A0BA-47547065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90EE-5544-4A18-80CB-557AF072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C20B-E7E4-4AF2-94F7-E6F26C25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35E-6E6D-45D5-B053-2C71286E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B82-1506-411E-A0C3-A8883758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6E0-0278-4D25-8C4A-97AE43E3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B87-7904-4675-9A4E-0D0BE857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8F1-B792-463E-807C-3F9554EE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E85-00F6-41F9-834F-90AE42C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3F8-6C9C-4D4A-866D-CBE8626982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91F2-40C0-4501-BDBA-1613797CAA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Rounded MT Bold"/>
              </a:rPr>
              <a:t>Computação Ubíqua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548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lindo Flávio da Conce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lindo@ime.usp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336480"/>
            <a:ext cx="7775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Arial"/>
              </a:rPr>
              <a:t>Passado, presente e futuro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jitsu TeamPad 760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tium 166 MM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 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0 X 600 pix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1 X 15 X 1,5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50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Lucent 200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teampad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3238560" cy="281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D96-A701-4274-8BF8-A11E12D8AF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quitetura do Gu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" y="2595600"/>
            <a:ext cx="879480" cy="728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32000" y="2514600"/>
            <a:ext cx="880920" cy="72864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280" y="4133880"/>
            <a:ext cx="3743280" cy="810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781520"/>
            <a:ext cx="990360" cy="8096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55880" y="5348160"/>
            <a:ext cx="1431720" cy="10526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2"/>
            <a:endCxn id="120" idx="1"/>
          </p:cNvCxnSpPr>
          <p:nvPr/>
        </p:nvCxnSpPr>
        <p:spPr>
          <a:xfrm>
            <a:off x="799920" y="3324240"/>
            <a:ext cx="1080" cy="851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671560" y="3243240"/>
            <a:ext cx="108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21" idx="0"/>
            <a:endCxn id="120" idx="1"/>
          </p:cNvCxnSpPr>
          <p:nvPr/>
        </p:nvCxnSpPr>
        <p:spPr>
          <a:xfrm flipV="1">
            <a:off x="799920" y="4174920"/>
            <a:ext cx="1080" cy="606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2" idx="0"/>
            <a:endCxn id="120" idx="2"/>
          </p:cNvCxnSpPr>
          <p:nvPr/>
        </p:nvCxnSpPr>
        <p:spPr>
          <a:xfrm flipV="1">
            <a:off x="2671560" y="4214520"/>
            <a:ext cx="1080" cy="11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8" idx="0"/>
            <a:endCxn id="120" idx="3"/>
          </p:cNvCxnSpPr>
          <p:nvPr/>
        </p:nvCxnSpPr>
        <p:spPr>
          <a:xfrm flipV="1">
            <a:off x="4541400" y="4174560"/>
            <a:ext cx="252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27120" y="5105520"/>
            <a:ext cx="32076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98600" y="556272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3040" y="579132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5720" y="4876920"/>
            <a:ext cx="1432080" cy="10522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98960" y="511488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78200" y="5191200"/>
            <a:ext cx="32256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92640" y="5572080"/>
            <a:ext cx="322200" cy="22860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4960" y="266688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onso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Cen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1320" y="2590920"/>
            <a:ext cx="792000" cy="5806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WE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105520" y="2209680"/>
            <a:ext cx="3603240" cy="4114800"/>
            <a:chOff x="5105520" y="2209680"/>
            <a:chExt cx="3603240" cy="4114800"/>
          </a:xfrm>
        </p:grpSpPr>
        <p:sp>
          <p:nvSpPr>
            <p:cNvPr id="138" name=""/>
            <p:cNvSpPr/>
            <p:nvPr/>
          </p:nvSpPr>
          <p:spPr>
            <a:xfrm>
              <a:off x="5867280" y="3200400"/>
              <a:ext cx="2362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5308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0360" y="2451960"/>
              <a:ext cx="70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ROX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100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31240" y="2361600"/>
              <a:ext cx="677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WEB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Ser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66040" y="350532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83320" y="3747240"/>
              <a:ext cx="70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ROX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29720" y="47242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3080" y="496656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Posi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53080" y="464832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02040" y="479988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Client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Ag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6" idx="1"/>
              <a:endCxn id="147" idx="6"/>
            </p:cNvCxnSpPr>
            <p:nvPr/>
          </p:nvCxnSpPr>
          <p:spPr>
            <a:xfrm flipH="1" flipV="1">
              <a:off x="7238520" y="4990680"/>
              <a:ext cx="68184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9" idx="4"/>
              <a:endCxn id="143" idx="0"/>
            </p:cNvCxnSpPr>
            <p:nvPr/>
          </p:nvCxnSpPr>
          <p:spPr>
            <a:xfrm>
              <a:off x="6895800" y="2895480"/>
              <a:ext cx="1332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2" idx="1"/>
              <a:endCxn id="140" idx="3"/>
            </p:cNvCxnSpPr>
            <p:nvPr/>
          </p:nvCxnSpPr>
          <p:spPr>
            <a:xfrm flipH="1">
              <a:off x="7302240" y="2590560"/>
              <a:ext cx="730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7" idx="0"/>
            </p:cNvCxnSpPr>
            <p:nvPr/>
          </p:nvCxnSpPr>
          <p:spPr>
            <a:xfrm flipH="1">
              <a:off x="6895440" y="4191120"/>
              <a:ext cx="1332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7483320" y="5638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1640" y="5880960"/>
              <a:ext cx="81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Brows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3" idx="1"/>
              <a:endCxn id="147" idx="5"/>
            </p:cNvCxnSpPr>
            <p:nvPr/>
          </p:nvCxnSpPr>
          <p:spPr>
            <a:xfrm flipH="1" flipV="1">
              <a:off x="7138800" y="5233680"/>
              <a:ext cx="444960" cy="50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5105520" y="2209680"/>
              <a:ext cx="685800" cy="6858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69240" y="245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Rounded MT Bold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7" idx="3"/>
              <a:endCxn id="140" idx="1"/>
            </p:cNvCxnSpPr>
            <p:nvPr/>
          </p:nvCxnSpPr>
          <p:spPr>
            <a:xfrm>
              <a:off x="5788080" y="2590560"/>
              <a:ext cx="754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0A3-CDF0-4C84-B03E-41280BC283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umo ao nível 2 de maturid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tores hum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álises de compor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ltidisciplin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01B-56D9-4A92-A306-C8643FE315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assiopeia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4514760" cy="37368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 Lab e Guide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 guia multimídia de visi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ção vis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nsagens de aud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udo de comport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tato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res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2D1-2B09-4501-AAF1-E95D59D3AD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2514240"/>
            <a:ext cx="8178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sers want to construct a experience that incorporates the three entities they value: the guidebook, the room, and their companion(s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 Lab e Guide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EB7-DB90-4772-A407-C6383B486D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iajando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upermercado ubíqu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 carrin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 congestionamen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ção de custos e esto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ís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BFB-FAA8-4070-A40F-13E2BE2A46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sultados interessan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 e intens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cacos andam em ban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lta muito a ser fe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D67-A173-41FF-A43A-22466FF582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BI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to GUIDE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guide.lancs.ac.uk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C Lab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parc.xerox.com/parc-go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and ubiquitous computing readin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cc.gatech.edu/classes/AY2001/cs7470_spring/readings/overview.htm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9FE-9BEA-419C-B574-3DEE7D3419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xt-Aware Computing Applications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ll Schilit, Norman Adams, Roy W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rc Tab Ubiquitous Computing Experimen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y Want,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tronic Guidebooks and Visitor Attention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ison Woodruff, Paul M Aoki, Amy Hust, Margaret H. Szymansk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llenges: An Application Model for Pervasive Computing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ruduth Banavar, James Beck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s of Developing and Deploying a Context-Aware Tourist Guide: The GUIDE Projec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eith Cheverst, Nigel Davies, Keith Mitchell and Adrian Frid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FE5-A7F8-4D36-8828-0ED80021E1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mputação Ubíqu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ção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 obje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ção de Computação Ubíqu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uridade de novas tecnolog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uns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jetos e seus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CT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GU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lavras fi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21A-E272-41F9-9C25-F268734F4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ção</a:t>
            </a:r>
            <a:r>
              <a:rPr b="0" lang="pt-BR" sz="3600" spc="-1" strike="noStrike">
                <a:solidFill>
                  <a:srgbClr val="000000"/>
                </a:solidFill>
                <a:latin typeface="Arial Black"/>
              </a:rPr>
              <a:t> e objetiv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pilação de resultados recentes e releva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hecer grupos e projetos de pesqu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render um pouco mais sobre a Computação 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Distribuí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Mó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* Ubíqua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7D3-979D-409E-B79E-E38652DB26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finição de Comp. Ubíqu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esso móvel a d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ção mass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aços intelig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ces intelig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ervasive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799-0BD8-4CC6-A6AB-BBB2DD4939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esafi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ruturada X Adho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plicações út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oniz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tc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AB0-65A4-432A-9E4D-42B15F95C5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yr4"/>
          <p:cNvSpPr/>
          <p:nvPr/>
        </p:nvSpPr>
        <p:spPr>
          <a:xfrm>
            <a:off x="533520" y="4981680"/>
            <a:ext cx="3276360" cy="1000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aturidade de tecnologi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925440" y="5211720"/>
            <a:ext cx="430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Rounded MT Bold"/>
              </a:rPr>
              <a:t>O que podemos fa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61920" y="3987720"/>
            <a:ext cx="5878440" cy="998640"/>
            <a:chOff x="961920" y="3987720"/>
            <a:chExt cx="5878440" cy="998640"/>
          </a:xfrm>
        </p:grpSpPr>
        <p:sp>
          <p:nvSpPr>
            <p:cNvPr id="98" name="Pyr3"/>
            <p:cNvSpPr/>
            <p:nvPr/>
          </p:nvSpPr>
          <p:spPr>
            <a:xfrm>
              <a:off x="961920" y="3987720"/>
              <a:ext cx="2422800" cy="998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14760" y="4267080"/>
              <a:ext cx="322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Aplicações úte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382760" y="2986200"/>
            <a:ext cx="6201000" cy="1001520"/>
            <a:chOff x="1382760" y="2986200"/>
            <a:chExt cx="6201000" cy="1001520"/>
          </a:xfrm>
        </p:grpSpPr>
        <p:sp>
          <p:nvSpPr>
            <p:cNvPr id="101" name="Pyr2"/>
            <p:cNvSpPr/>
            <p:nvPr/>
          </p:nvSpPr>
          <p:spPr>
            <a:xfrm>
              <a:off x="1382760" y="2986200"/>
              <a:ext cx="1581120" cy="10015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60080" y="3276720"/>
              <a:ext cx="442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Aceitação do merca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08280" y="2133720"/>
            <a:ext cx="2080800" cy="852480"/>
            <a:chOff x="1808280" y="2133720"/>
            <a:chExt cx="2080800" cy="852480"/>
          </a:xfrm>
        </p:grpSpPr>
        <p:sp>
          <p:nvSpPr>
            <p:cNvPr id="104" name="Pyr1"/>
            <p:cNvSpPr/>
            <p:nvPr/>
          </p:nvSpPr>
          <p:spPr>
            <a:xfrm>
              <a:off x="1808280" y="2133720"/>
              <a:ext cx="734760" cy="8524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33760" y="2239920"/>
              <a:ext cx="125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 Rounded MT Bold"/>
                </a:rPr>
                <a:t>Luc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E79F-E31D-431F-9C8D-C13D39D45E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lguns projet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CT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Poineiro no PARC Lab da XERO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ortol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fraestrutura, serviços distribuídos e interfaces na Universidade de Washingt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Invisible Computing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no 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nTheM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ahoma"/>
              </a:rPr>
              <a:t>City Guide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 em desenvolvimento na Suéc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formações turísticas na Universidade de Lancas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CCD-32A6-4C18-A20C-09A1952457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ARCTa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r dispositivos móveis na rede de um escritó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ordagem estrutur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çou o termo Computação Ubíq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held da Olivetti (monocromático de 10.5 x 7.8 x 2.4 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errado em 95/96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stro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unistroke" descr=""/>
          <p:cNvPicPr/>
          <p:nvPr/>
        </p:nvPicPr>
        <p:blipFill>
          <a:blip r:embed="rId1"/>
          <a:stretch/>
        </p:blipFill>
        <p:spPr>
          <a:xfrm>
            <a:off x="2819520" y="5410080"/>
            <a:ext cx="4010040" cy="11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0DA-8DFD-4913-ACD4-D657AAABA2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GU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uia turístico da cidade sensível a localização do usuário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context-awa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rface WE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bordagem estruturada e baseada em célu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adeo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t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 e liber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Guide2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2624040" cy="197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BAD-5BB0-49B9-9723-FD211A1F6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9:10:18Z</dcterms:created>
  <dc:creator>Arlindo Flávio da Conceição</dc:creator>
  <dc:description/>
  <dc:language>en-US</dc:language>
  <cp:lastModifiedBy>Ericsson User</cp:lastModifiedBy>
  <cp:lastPrinted>2001-06-22T14:32:31Z</cp:lastPrinted>
  <dcterms:modified xsi:type="dcterms:W3CDTF">2001-06-22T16:21:09Z</dcterms:modified>
  <cp:revision>234</cp:revision>
  <dc:subject/>
  <dc:title>Apreentação sobre comp ubi</dc:title>
</cp:coreProperties>
</file>