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1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906-F51A-4E3E-BCC5-717B32CD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DE5-05ED-4F9D-A7DE-C825E110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24FD-FAF8-4839-A90F-B6F85C37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676-1FD2-4447-9C5E-DCE44800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9BDB-8A72-4A1A-9A95-C64D1C1D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8FE6-4E7B-4C4B-9BED-24E65AC9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26FE-BFA2-4D9B-B8C0-EF5D3B24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9053-E1D4-4D26-B43A-6B0057BA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70C6-9ACC-491E-876A-5B3874CB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1757-F63E-4C65-89EC-DF8F6B80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1BB6-3294-4BCF-BF8C-BD19572B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44E-DD0E-4507-97A0-331705DE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61EB-7959-4E2D-9D7D-1C6A87B2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9354-0FCE-404F-ABD6-DC80155F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2828-09B4-40A8-829C-09B1A10E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38FA-E0CD-4F33-89D0-E5C9F81F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8962-F742-4DCB-AE25-E3348EEF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6D3-1CBF-4644-B96A-C81BBAE6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768-E10C-49A2-BCB4-15D47C12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5E2-C4DC-4FDA-8633-9E564D35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791-5C13-4371-99DE-346D4836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1D7-130F-4F88-AE72-C0B2D1A7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D9A-F9DF-42A4-8B25-420829FE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CB7-5B70-4319-954E-767C1F9C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BB29-2250-432C-AA8D-F986BA0E1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77A7-C75E-4E50-A650-437A7B4E6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olíticas de </a:t>
            </a:r>
            <a:r>
              <a:rPr b="0" i="1" lang="pt-BR" sz="4400" spc="-1" strike="noStrike">
                <a:solidFill>
                  <a:srgbClr val="003366"/>
                </a:solidFill>
                <a:latin typeface="Times New Roman"/>
              </a:rPr>
              <a:t>Hand-off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 com Balanceamento de Carga para Computação Móv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95280" y="5638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o de Matemática e Estat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dade de 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4290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lessandro Santiago {santiago@ime.usp.b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lfredo Goldman {gold@ime.usp.b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ulação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mos 3 comportamentos(políti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ocação fixa pu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ocação fixa com tolerância de s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ocação fixa com o modelo suger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rea de cobertura representada por uma matriz 80x80, com 9 ERBs instalad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ERB tem 30 canais, e diâmetro de alcance de 40 unidades, com no máximo 15 unidades na intersecção de ER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drão de mobilidade, segue pontos de origem e destino estipulados aleator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ult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312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didas avali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nd-off confirmados e Bloqu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madas confirmadas e Bloque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495680" y="228600"/>
            <a:ext cx="4648320" cy="6400800"/>
            <a:chOff x="4495680" y="228600"/>
            <a:chExt cx="4648320" cy="6400800"/>
          </a:xfrm>
        </p:grpSpPr>
        <p:graphicFrame>
          <p:nvGraphicFramePr>
            <p:cNvPr id="184" name=""/>
            <p:cNvGraphicFramePr/>
            <p:nvPr/>
          </p:nvGraphicFramePr>
          <p:xfrm>
            <a:off x="4495680" y="228600"/>
            <a:ext cx="4648320" cy="3124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95680" y="228600"/>
                      <a:ext cx="4648320" cy="31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4495680" y="3375000"/>
            <a:ext cx="4648320" cy="3254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95680" y="3375000"/>
                      <a:ext cx="4648320" cy="32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664160" y="228600"/>
          <a:ext cx="4479840" cy="30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4160" y="228600"/>
                    <a:ext cx="4479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648320" y="3581280"/>
          <a:ext cx="4495680" cy="32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581280"/>
                    <a:ext cx="44956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lhor Distribuição da unidades mó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ferece um maior grau de liberdade na alocação de ca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udo de uma nova possibilidade: fazer o hand-off por iniciativa da 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balhos Futur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izar uma simulação com um padrão dentro dos padrões de norm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r o custo da intersecção(custo/benefí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tiv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nço e popularização dos dispositivos portát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ção física dos link´s de Comun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no número de redes móveis de micro e pico cél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iagrama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5029200" cy="384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38080" y="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ocupação em se manter a conex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762120"/>
            <a:ext cx="822960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PC - Tempo Requerido de Permanência da Cham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mpo que o usuário deseja permanecer na chamada, isto é, tempo total da chamada sem interrup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C - Tempo Atual de Permanência da Ch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ação final da chamada com ou sem interrupçõ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ocação de Cana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ção Fi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ção Dinâ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cação Híbr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elo sugeri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5029200"/>
            <a:ext cx="758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ximizar tempo conexão dese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oveitamento de áreas de intersecção entre células, em Everit´90 diz que 30% a 45% da comunicação ocorre na área de intersec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inal1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403680" cy="1685880"/>
          </a:xfrm>
          <a:prstGeom prst="rect">
            <a:avLst/>
          </a:prstGeom>
          <a:ln w="0">
            <a:noFill/>
          </a:ln>
        </p:spPr>
      </p:pic>
      <p:pic>
        <p:nvPicPr>
          <p:cNvPr id="141" name="sinal2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6403680" cy="1685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64160" y="99072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8195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 Sug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elo sugeri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20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unidade Móvel pode mudar de ERB em 2 casos: Mobilidade ou Balanceamento de Car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cessamento ocorre de forma distribuída nas ER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ecisão de transferir a Unidade Móvel também fica a cargo da 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ivo de balancear a carga entre as ERBs vizin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elo Sugeri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areanovo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14680" cy="464688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3048120" y="2819520"/>
            <a:ext cx="2209680" cy="304560"/>
            <a:chOff x="3048120" y="2819520"/>
            <a:chExt cx="2209680" cy="304560"/>
          </a:xfrm>
        </p:grpSpPr>
        <p:sp>
          <p:nvSpPr>
            <p:cNvPr id="149" name=""/>
            <p:cNvSpPr/>
            <p:nvPr/>
          </p:nvSpPr>
          <p:spPr>
            <a:xfrm>
              <a:off x="3048120" y="2819520"/>
              <a:ext cx="304560" cy="2286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2971800"/>
              <a:ext cx="533520" cy="15228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114800" y="2438280"/>
            <a:ext cx="2438280" cy="2057400"/>
            <a:chOff x="4114800" y="2438280"/>
            <a:chExt cx="2438280" cy="2057400"/>
          </a:xfrm>
        </p:grpSpPr>
        <p:sp>
          <p:nvSpPr>
            <p:cNvPr id="152" name=""/>
            <p:cNvSpPr/>
            <p:nvPr/>
          </p:nvSpPr>
          <p:spPr>
            <a:xfrm>
              <a:off x="4114800" y="2438280"/>
              <a:ext cx="228600" cy="2286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1120" y="3124080"/>
              <a:ext cx="152280" cy="4572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95680" y="3124080"/>
              <a:ext cx="228600" cy="22860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43600" y="4114800"/>
              <a:ext cx="152280" cy="38088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2200" y="3809880"/>
              <a:ext cx="380880" cy="152640"/>
            </a:xfrm>
            <a:prstGeom prst="lightningBol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657600" y="29718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29718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8120" y="2819520"/>
            <a:ext cx="2209680" cy="304560"/>
            <a:chOff x="3048120" y="2819520"/>
            <a:chExt cx="2209680" cy="304560"/>
          </a:xfrm>
        </p:grpSpPr>
        <p:sp>
          <p:nvSpPr>
            <p:cNvPr id="160" name=""/>
            <p:cNvSpPr/>
            <p:nvPr/>
          </p:nvSpPr>
          <p:spPr>
            <a:xfrm>
              <a:off x="3048120" y="2819520"/>
              <a:ext cx="304560" cy="22860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4280" y="2971800"/>
              <a:ext cx="533520" cy="15228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581280" y="2895480"/>
            <a:ext cx="533520" cy="152640"/>
          </a:xfrm>
          <a:prstGeom prst="lightningBol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486400" y="2514600"/>
            <a:ext cx="457200" cy="609480"/>
          </a:xfrm>
          <a:prstGeom prst="lightningBol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elo sugeri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area" descr=""/>
          <p:cNvPicPr/>
          <p:nvPr/>
        </p:nvPicPr>
        <p:blipFill>
          <a:blip r:embed="rId1"/>
          <a:stretch/>
        </p:blipFill>
        <p:spPr>
          <a:xfrm>
            <a:off x="1371600" y="3927600"/>
            <a:ext cx="3352680" cy="2930400"/>
          </a:xfrm>
          <a:prstGeom prst="rect">
            <a:avLst/>
          </a:prstGeom>
          <a:ln w="0">
            <a:noFill/>
          </a:ln>
        </p:spPr>
      </p:pic>
      <p:pic>
        <p:nvPicPr>
          <p:cNvPr id="166" name="grafobip" descr=""/>
          <p:cNvPicPr/>
          <p:nvPr/>
        </p:nvPicPr>
        <p:blipFill>
          <a:blip r:embed="rId2"/>
          <a:stretch/>
        </p:blipFill>
        <p:spPr>
          <a:xfrm>
            <a:off x="6095880" y="3200400"/>
            <a:ext cx="2136960" cy="31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1752480" y="1905120"/>
          <a:ext cx="2743200" cy="1603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905120"/>
                    <a:ext cx="274320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068120" y="2057400"/>
            <a:ext cx="4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39720" y="1940040"/>
            <a:ext cx="76320" cy="144756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50840" y="91440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ais recebidos pela Unidade Mó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0000" y="350532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ea de cob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22860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tura de armazenamento em cada 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alanceamento de Carg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F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ga crí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ament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28840" y="990360"/>
            <a:ext cx="3809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tr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 Unidade Móvel deverá migr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qual ERB a Unidade deverá migr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Carga" descr=""/>
          <p:cNvPicPr/>
          <p:nvPr/>
        </p:nvPicPr>
        <p:blipFill>
          <a:blip r:embed="rId1"/>
          <a:stretch/>
        </p:blipFill>
        <p:spPr>
          <a:xfrm>
            <a:off x="1295280" y="3429000"/>
            <a:ext cx="2783160" cy="3124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029200" y="3429000"/>
            <a:ext cx="3809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atégias Princip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r para ERB vizinha com menor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e móvel que deverá migrar, será aquela com menor mo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5T15:46:24Z</dcterms:created>
  <dc:creator>alessandro</dc:creator>
  <dc:description/>
  <dc:language>en-US</dc:language>
  <cp:lastModifiedBy>alessandro</cp:lastModifiedBy>
  <dcterms:modified xsi:type="dcterms:W3CDTF">2001-11-29T12:34:01Z</dcterms:modified>
  <cp:revision>12</cp:revision>
  <dc:subject/>
  <dc:title>Políticas de Hand-off com Balanceamento de Carga para Computação Móvel</dc:title>
</cp:coreProperties>
</file>