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28113"/>
  <p:custShowLst>
    <p:custShow name="Apresentação personalizada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786-E532-4C73-A287-E6899D44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6A9-B67D-463B-9510-ED3CAA5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C6C-CD78-4B48-83F1-158846B6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37B-4CF0-48A4-974A-4603E8E0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D5B4-4AA0-4560-8CE3-CF6B8837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8A57-8FB6-4832-A0A9-8DC0897B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F004-EF13-410B-BEA9-4C26155F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2B20-F563-4072-B5EC-88EFC092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43D2-D25D-4857-870C-0148E7E5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4EA-7A2D-454C-B01F-0A78AD35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49E5-745F-4B3D-BD06-555F572F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092-0821-48D9-BDAB-5B811E36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7EE2-EE24-44BF-AD4C-4FCBD05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7A9F-2C2F-4949-84CC-6FB299D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B74F-AC9F-4C93-8BF6-3C75B95A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8526-6392-41CE-9E17-C6639420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8EA2-2016-46A1-8047-8FBF8C2E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A6B-1608-41E0-AD8F-767590B0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47D-0C75-4EB5-9E9D-99A78172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067-2F83-47BA-91EF-3CC9FF91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C20-4229-4118-9A75-4762928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273-DC92-4569-9370-98E19085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8C9-DBAF-4B7C-BB72-12C62DCE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90D-8939-4F62-98E8-C0FCBF2C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8F90-FAA7-4278-9680-029777E3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2691-9590-408B-888C-E4D8B8EAD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e Canais para Comunicação de Dispositivos Móv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o de Matemática e Estat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4290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essandro Santiago {santiago@ime.usp.b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75248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 (sub-grup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ell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gnal strength measurements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95280" y="1676520"/>
            <a:ext cx="3276720" cy="5223960"/>
            <a:chOff x="1295280" y="1676520"/>
            <a:chExt cx="3276720" cy="5223960"/>
          </a:xfrm>
        </p:grpSpPr>
        <p:sp>
          <p:nvSpPr>
            <p:cNvPr id="186" name=""/>
            <p:cNvSpPr/>
            <p:nvPr/>
          </p:nvSpPr>
          <p:spPr>
            <a:xfrm>
              <a:off x="1295280" y="1676520"/>
              <a:ext cx="327672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First Available (F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Locally Optimized Dynamic Assignment(LOD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lection with maximum usage on the ring(RING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Nearest Neighbor(N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Nearest Neighbor plus one(NN+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47200" y="4327560"/>
              <a:ext cx="2265840" cy="2572920"/>
              <a:chOff x="1447200" y="4327560"/>
              <a:chExt cx="2265840" cy="2572920"/>
            </a:xfrm>
          </p:grpSpPr>
          <p:sp>
            <p:nvSpPr>
              <p:cNvPr id="188" name=""/>
              <p:cNvSpPr/>
              <p:nvPr/>
            </p:nvSpPr>
            <p:spPr>
              <a:xfrm>
                <a:off x="1555920" y="4701960"/>
                <a:ext cx="2157120" cy="673920"/>
              </a:xfrm>
              <a:prstGeom prst="rightArrow">
                <a:avLst>
                  <a:gd name="adj1" fmla="val 50000"/>
                  <a:gd name="adj2" fmla="val 80021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N,NN+1,RING,F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7200" y="4327560"/>
                <a:ext cx="226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rga do Tráfi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28440" y="6226200"/>
                <a:ext cx="1533600" cy="674280"/>
              </a:xfrm>
              <a:prstGeom prst="rightArrow">
                <a:avLst>
                  <a:gd name="adj1" fmla="val 50000"/>
                  <a:gd name="adj2" fmla="val 56861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N,FA,NN+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20960" y="5657760"/>
                <a:ext cx="12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loque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1903680" y="1066680"/>
            <a:ext cx="5349960" cy="536040"/>
            <a:chOff x="1903680" y="1066680"/>
            <a:chExt cx="5349960" cy="536040"/>
          </a:xfrm>
        </p:grpSpPr>
        <p:sp>
          <p:nvSpPr>
            <p:cNvPr id="193" name=""/>
            <p:cNvSpPr/>
            <p:nvPr/>
          </p:nvSpPr>
          <p:spPr>
            <a:xfrm>
              <a:off x="1903680" y="106668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ntraliz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2720" y="114300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í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87480" y="1058760"/>
          <a:ext cx="8485200" cy="170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058760"/>
                    <a:ext cx="8485200" cy="170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 X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1676520"/>
            <a:ext cx="3581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 em alto tráf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 flex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priado para Macro-cél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Probabilidade de terminação forçada de cham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o Esforç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 Complexidade na 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 carga de sin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o/Intenso planejamento de freqü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16002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 em moderado ou leve 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priado para Micro-Célu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/Moderada Probabilidade de terminação forçada de cham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 Esforç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Complexidade na 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carga de sin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planejamento de freqüê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9040" y="10666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404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ras Esqu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52388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verlapping Ce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6" name="areanovo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4680" cy="46468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208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14800" y="2438280"/>
            <a:ext cx="2438280" cy="2057400"/>
            <a:chOff x="4114800" y="2438280"/>
            <a:chExt cx="2438280" cy="2057400"/>
          </a:xfrm>
        </p:grpSpPr>
        <p:sp>
          <p:nvSpPr>
            <p:cNvPr id="211" name=""/>
            <p:cNvSpPr/>
            <p:nvPr/>
          </p:nvSpPr>
          <p:spPr>
            <a:xfrm>
              <a:off x="4114800" y="24382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1120" y="3124080"/>
              <a:ext cx="152280" cy="4572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95680" y="31240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3600" y="4114800"/>
              <a:ext cx="152280" cy="3808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3809880"/>
              <a:ext cx="380880" cy="15264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219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581280" y="2895480"/>
            <a:ext cx="533520" cy="15264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486400" y="2514600"/>
            <a:ext cx="457200" cy="60948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nda não se chegou num modelo defin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modelo é mais adequado a um tipo ambiente, e não ao 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tendência da infra-estrutura de micro ou pico cél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 tendência a alocação dinâ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.Katezela, M. Naghsshineh. Channel assigment schemes for cellular mobile telecomunications systems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inicurso: Infra-estrutura de redes celulares e serviços, em III workshop de comunicação sem fio e computação mó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é Alocação de Cana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cação de Canais Fixa, Dinâmica, Híb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ção Fix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ção Dinâm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ção Híbr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os esqu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a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029200" cy="384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cupação em se manter a conex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762120"/>
            <a:ext cx="822960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PC - Tempo Requerido de Permanência da Cham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mpo que o usuário deseja permanecer na chamada, isto é, tempo total da chamada sem interrup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C - Tempo Atual de Permanência d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ação final da chamada com ou sem interrup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 que é Alocação de Ca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do spectrum de freqüência para formar os ca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600200" y="37335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58128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1480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464832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10552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3392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3809880"/>
            <a:ext cx="3049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naL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638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809880"/>
            <a:ext cx="304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809880"/>
            <a:ext cx="304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3809880"/>
            <a:ext cx="304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9588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5638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962520"/>
            <a:ext cx="18288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s os canais compartilham a largura de banda, identificação por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9520" y="567684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ü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4720" y="5715000"/>
            <a:ext cx="119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5240" y="5715000"/>
            <a:ext cx="121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e Ca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F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Dinâ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Híbr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ição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ição não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5909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atégias de Empréstimo de Ca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íbr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mpréstimo canai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3276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from Richest (SB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sic Algorithm(B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.Algorithm with Reassi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First Available(BF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219320"/>
            <a:ext cx="4724280" cy="1676160"/>
            <a:chOff x="4419720" y="1219320"/>
            <a:chExt cx="4724280" cy="1676160"/>
          </a:xfrm>
        </p:grpSpPr>
        <p:sp>
          <p:nvSpPr>
            <p:cNvPr id="164" name=""/>
            <p:cNvSpPr/>
            <p:nvPr/>
          </p:nvSpPr>
          <p:spPr>
            <a:xfrm>
              <a:off x="4419720" y="1219320"/>
              <a:ext cx="16002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x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i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67280" y="1219320"/>
              <a:ext cx="16002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lexi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i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15200" y="1219320"/>
              <a:ext cx="18288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u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ito pou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52480" y="358128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with channel ordering (B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with directional channel locking(BDC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143000"/>
            <a:ext cx="257400" cy="4251600"/>
            <a:chOff x="1066680" y="1143000"/>
            <a:chExt cx="257400" cy="4251600"/>
          </a:xfrm>
        </p:grpSpPr>
        <p:sp>
          <p:nvSpPr>
            <p:cNvPr id="169" name=""/>
            <p:cNvSpPr/>
            <p:nvPr/>
          </p:nvSpPr>
          <p:spPr>
            <a:xfrm>
              <a:off x="1066680" y="1143000"/>
              <a:ext cx="257400" cy="179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3597120"/>
              <a:ext cx="257400" cy="179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IBR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6560" y="3733920"/>
            <a:ext cx="2265480" cy="2572920"/>
            <a:chOff x="5866560" y="3733920"/>
            <a:chExt cx="2265480" cy="2572920"/>
          </a:xfrm>
        </p:grpSpPr>
        <p:sp>
          <p:nvSpPr>
            <p:cNvPr id="172" name=""/>
            <p:cNvSpPr/>
            <p:nvPr/>
          </p:nvSpPr>
          <p:spPr>
            <a:xfrm>
              <a:off x="6104160" y="4108320"/>
              <a:ext cx="1868040" cy="673920"/>
            </a:xfrm>
            <a:prstGeom prst="rightArrow">
              <a:avLst>
                <a:gd name="adj1" fmla="val 50000"/>
                <a:gd name="adj2" fmla="val 69298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CA,BCO,BD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6560" y="373392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ga do Tráf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05960" y="5632560"/>
              <a:ext cx="1868040" cy="674280"/>
            </a:xfrm>
            <a:prstGeom prst="rightArrow">
              <a:avLst>
                <a:gd name="adj1" fmla="val 50000"/>
                <a:gd name="adj2" fmla="val 69261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DCL,BCO,F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0680" y="506412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que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mpréstimo canai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219320"/>
            <a:ext cx="3276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ple F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atic Borr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ple channel borr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ibryd channel borr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1219320"/>
            <a:ext cx="1600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-Ba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-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1219320"/>
            <a:ext cx="1600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1219320"/>
            <a:ext cx="2514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hibrido em alto 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F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FCA e Static Borrowing em tráfico moderado e l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FCA em tráfico moderado e leve. Melhor que simple borrowing em alto 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í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5T15:46:24Z</dcterms:created>
  <dc:creator>alessandro</dc:creator>
  <dc:description/>
  <dc:language>en-US</dc:language>
  <cp:lastModifiedBy>alessandro</cp:lastModifiedBy>
  <cp:lastPrinted>2001-10-11T17:17:57Z</cp:lastPrinted>
  <dcterms:modified xsi:type="dcterms:W3CDTF">2001-10-11T17:23:40Z</dcterms:modified>
  <cp:revision>25</cp:revision>
  <dc:subject/>
  <dc:title>Políticas de Hand-off com Balanceamento de Carga para Computação Móvel</dc:title>
</cp:coreProperties>
</file>