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026-5016-4B34-93F3-12166BD4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A4C-C231-40C7-BACD-0CD853A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D83-3F8F-4733-BC25-7CA6BE09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724-0311-46E1-8F79-4577B20F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F11-51EC-45CD-8E1F-B2E35FB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254-030A-4F9B-AC87-48352549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0B7-0B68-4590-912E-DAA31531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40C-EDFE-46D9-99E8-4162BB8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96B-8F6D-4BF4-86B7-904960F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81B-2E14-400D-9DBA-4513342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B3B-43C1-4B83-A19E-3A8A3175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C2F-DCBB-44CA-9C29-398EB267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7E62-69A2-490D-A008-689137B93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iangulação em O(n lo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rdene os pontos pela coordenada y O(n logn)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Decomponha o polígono em trapézios usando uma scanline O(n logn)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Usando os trapezóides, quebre o polígono em partes monótonas através da eliminação das cúspides internas O(n)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- Triangule as partes monótonas 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Vértices reflexos e cúspides inter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7621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vértice v de um polígono P é reflexo se o seu ângulo interno é estritamente maior que pi. Um vértice reflexo r é uma cúspide interna de P com relação à reta r se seus dois vizinhos estão contidos no mesmo semi-plano fechado definido pela paralela a r que passa por v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usp" descr=""/>
          <p:cNvPicPr/>
          <p:nvPr/>
        </p:nvPicPr>
        <p:blipFill>
          <a:blip r:embed="rId1"/>
          <a:srcRect l="11201" t="11656" r="9264" b="11139"/>
          <a:stretch/>
        </p:blipFill>
        <p:spPr>
          <a:xfrm>
            <a:off x="1981080" y="2590920"/>
            <a:ext cx="5410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tição em trapéz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2952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olígono particionado em trapézios (triângulos são trapézios degenerados.) Note que o lado inferior de cada trapézio contém exatamente um vértice e o superior també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rapezios" descr=""/>
          <p:cNvPicPr/>
          <p:nvPr/>
        </p:nvPicPr>
        <p:blipFill>
          <a:blip r:embed="rId1"/>
          <a:srcRect l="8563" t="3500" r="25494" b="6228"/>
          <a:stretch/>
        </p:blipFill>
        <p:spPr>
          <a:xfrm>
            <a:off x="1905120" y="2438280"/>
            <a:ext cx="5486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 da sca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canline" descr=""/>
          <p:cNvPicPr/>
          <p:nvPr/>
        </p:nvPicPr>
        <p:blipFill>
          <a:blip r:embed="rId1"/>
          <a:srcRect l="6688" t="6420" r="2208" b="4868"/>
          <a:stretch/>
        </p:blipFill>
        <p:spPr>
          <a:xfrm>
            <a:off x="228600" y="1066680"/>
            <a:ext cx="89154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ligonais estritamente monóto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0666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poligonal P é estritamente monótona com respeito à uma reta r se toda perpendicular à r corta P em no máximo um p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onopolig" descr=""/>
          <p:cNvPicPr/>
          <p:nvPr/>
        </p:nvPicPr>
        <p:blipFill>
          <a:blip r:embed="rId1"/>
          <a:srcRect l="3609" t="3236" r="2580" b="2831"/>
          <a:stretch/>
        </p:blipFill>
        <p:spPr>
          <a:xfrm>
            <a:off x="2286000" y="20574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ligonais monóto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poligonal P é monótona com respeito à uma reta r se toda perpendicular à r corta P em no máximo uma componente co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nopolig2" descr=""/>
          <p:cNvPicPr/>
          <p:nvPr/>
        </p:nvPicPr>
        <p:blipFill>
          <a:blip r:embed="rId1"/>
          <a:srcRect l="0" t="1460" r="7994" b="6768"/>
          <a:stretch/>
        </p:blipFill>
        <p:spPr>
          <a:xfrm>
            <a:off x="1371600" y="2057400"/>
            <a:ext cx="63244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ser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rdem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1085760"/>
          </a:xfrm>
          <a:prstGeom prst="rect">
            <a:avLst/>
          </a:prstGeom>
          <a:ln w="0">
            <a:noFill/>
          </a:ln>
        </p:spPr>
      </p:pic>
      <p:pic>
        <p:nvPicPr>
          <p:cNvPr id="82" name="oscila" descr=""/>
          <p:cNvPicPr/>
          <p:nvPr/>
        </p:nvPicPr>
        <p:blipFill>
          <a:blip r:embed="rId2"/>
          <a:srcRect l="30831" t="22178" r="10938" b="24906"/>
          <a:stretch/>
        </p:blipFill>
        <p:spPr>
          <a:xfrm>
            <a:off x="1219320" y="29718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lígonos monóto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9144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polígono é (estritamente) monótono com respeito à uma reta r se puder ser particionado em duas poligonais que são (estritamente) monótonas com respeito a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onopolig3" descr=""/>
          <p:cNvPicPr/>
          <p:nvPr/>
        </p:nvPicPr>
        <p:blipFill>
          <a:blip r:embed="rId1"/>
          <a:srcRect l="9262" t="0" r="10754" b="0"/>
          <a:stretch/>
        </p:blipFill>
        <p:spPr>
          <a:xfrm>
            <a:off x="1600200" y="2070000"/>
            <a:ext cx="62485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seqüência da observação passa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rdem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0084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monopolig3B" descr=""/>
          <p:cNvPicPr/>
          <p:nvPr/>
        </p:nvPicPr>
        <p:blipFill>
          <a:blip r:embed="rId2"/>
          <a:srcRect l="7511" t="11288" r="35112" b="14008"/>
          <a:stretch/>
        </p:blipFill>
        <p:spPr>
          <a:xfrm>
            <a:off x="2209680" y="3124080"/>
            <a:ext cx="4724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ritério de não monotonic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0666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ma: Um polígono P não monótono com relação a uma reta r contém pelo menos uma cúspide in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590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cíproca deste lemma e versões mais fortes são fal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a" descr=""/>
          <p:cNvPicPr/>
          <p:nvPr/>
        </p:nvPicPr>
        <p:blipFill>
          <a:blip r:embed="rId1"/>
          <a:srcRect l="3811" t="19422" r="20952" b="36874"/>
          <a:stretch/>
        </p:blipFill>
        <p:spPr>
          <a:xfrm>
            <a:off x="1752480" y="3733920"/>
            <a:ext cx="60199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duto ve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ross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373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déia da prova do Lema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s detalhes são muito cha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95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``Prova’’ do Lema: suponha que o polígono esboçado na figura não é monótono. Então podemos assumir que uma paralela a r intercepta a poligonal cyan em mais de uma componente conex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81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sto implica que v0 está abaixo da paralela e vn está acima. Portanto a paralela também corta a poligonal amarela.  Ai temos alguns casos. Por exemplo, poderíamos conectar o ponto a ao ponto b ou ao pon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rovaCusp" descr=""/>
          <p:cNvPicPr/>
          <p:nvPr/>
        </p:nvPicPr>
        <p:blipFill>
          <a:blip r:embed="rId1"/>
          <a:srcRect l="10176" t="3401" r="26496" b="4826"/>
          <a:stretch/>
        </p:blipFill>
        <p:spPr>
          <a:xfrm>
            <a:off x="4495680" y="2514600"/>
            <a:ext cx="405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tinuação da prova do 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rovaCuspB" descr=""/>
          <p:cNvPicPr/>
          <p:nvPr/>
        </p:nvPicPr>
        <p:blipFill>
          <a:blip r:embed="rId1"/>
          <a:srcRect l="5064" t="0" r="23431" b="0"/>
          <a:stretch/>
        </p:blipFill>
        <p:spPr>
          <a:xfrm>
            <a:off x="4724280" y="1905120"/>
            <a:ext cx="4191120" cy="4109760"/>
          </a:xfrm>
          <a:prstGeom prst="rect">
            <a:avLst/>
          </a:prstGeom>
          <a:ln w="0">
            <a:noFill/>
          </a:ln>
        </p:spPr>
      </p:pic>
      <p:pic>
        <p:nvPicPr>
          <p:cNvPr id="99" name="provaCuspA" descr=""/>
          <p:cNvPicPr/>
          <p:nvPr/>
        </p:nvPicPr>
        <p:blipFill>
          <a:blip r:embed="rId2"/>
          <a:srcRect l="7149" t="4372" r="26453" b="3855"/>
          <a:stretch/>
        </p:blipFill>
        <p:spPr>
          <a:xfrm>
            <a:off x="304920" y="1905120"/>
            <a:ext cx="42670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 trapezóides para partes monóton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sta remover as cúspides internas conectando-as da seguinte maneira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- Uma cúspide interna que está no lado inferior de um trapézio é ligada ao vértice do polígono que está no lado superior do mesmo trapézio por uma diagonal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- Uma cúspide interna que está no lado superior de um trapézio é ligada ao vértice do polígono que está no lado inferior do mesmo trapézio por uma diag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 trapezóides para partes monóton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rapdecomp" descr=""/>
          <p:cNvPicPr/>
          <p:nvPr/>
        </p:nvPicPr>
        <p:blipFill>
          <a:blip r:embed="rId1"/>
          <a:srcRect l="8563" t="3111" r="30633" b="8170"/>
          <a:stretch/>
        </p:blipFill>
        <p:spPr>
          <a:xfrm>
            <a:off x="1447920" y="1295280"/>
            <a:ext cx="64767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inalmente, triangular polígono monótono em O(n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órm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rossForm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01992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ncarando como transformação line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t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693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7600" y="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is fórmul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isForm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924680" cy="4690800"/>
          </a:xfrm>
          <a:prstGeom prst="rect">
            <a:avLst/>
          </a:prstGeom>
          <a:ln w="0">
            <a:noFill/>
          </a:ln>
        </p:spPr>
      </p:pic>
      <p:pic>
        <p:nvPicPr>
          <p:cNvPr id="51" name="triang" descr=""/>
          <p:cNvPicPr/>
          <p:nvPr/>
        </p:nvPicPr>
        <p:blipFill>
          <a:blip r:embed="rId2"/>
          <a:srcRect l="24727" t="51476" r="21693" b="15025"/>
          <a:stretch/>
        </p:blipFill>
        <p:spPr>
          <a:xfrm>
            <a:off x="0" y="0"/>
            <a:ext cx="4038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eneralizaç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ener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705720" cy="4743720"/>
          </a:xfrm>
          <a:prstGeom prst="rect">
            <a:avLst/>
          </a:prstGeom>
          <a:ln w="0">
            <a:noFill/>
          </a:ln>
        </p:spPr>
      </p:pic>
      <p:pic>
        <p:nvPicPr>
          <p:cNvPr id="54" name="curva" descr=""/>
          <p:cNvPicPr/>
          <p:nvPr/>
        </p:nvPicPr>
        <p:blipFill>
          <a:blip r:embed="rId2"/>
          <a:srcRect l="0" t="74788" r="27502" b="0"/>
          <a:stretch/>
        </p:blipFill>
        <p:spPr>
          <a:xfrm>
            <a:off x="3733920" y="5257800"/>
            <a:ext cx="48006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Times New Roman"/>
              </a:rPr>
              <a:t>Orientação indica esquerda/sobre/direit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orientacao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37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rda/direita/sobre &amp;&amp; interse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6095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rte transversal &lt;=&gt;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querda(A,B,C) * esquerda(A,B,D) = esquerda(C,D,A) * esquerda(C,D,B) = -1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ansversal" descr=""/>
          <p:cNvPicPr/>
          <p:nvPr/>
        </p:nvPicPr>
        <p:blipFill>
          <a:blip r:embed="rId1"/>
          <a:srcRect l="6851" t="14008" r="55471" b="26458"/>
          <a:stretch/>
        </p:blipFill>
        <p:spPr>
          <a:xfrm>
            <a:off x="6553080" y="1295280"/>
            <a:ext cx="2286000" cy="19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4191120"/>
            <a:ext cx="6095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querda(A,B,C) * esquerda(A,B,D) = 1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squerda(C,D,A) * esquerda(C,D,B) = 1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&gt; não há interseção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isjunto" descr=""/>
          <p:cNvPicPr/>
          <p:nvPr/>
        </p:nvPicPr>
        <p:blipFill>
          <a:blip r:embed="rId2"/>
          <a:srcRect l="12632" t="14568" r="57903" b="6768"/>
          <a:stretch/>
        </p:blipFill>
        <p:spPr>
          <a:xfrm>
            <a:off x="6629400" y="3581280"/>
            <a:ext cx="1974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tam os casos degene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13:42Z</dcterms:created>
  <dc:creator>Walter Mascarenhas</dc:creator>
  <dc:description/>
  <dc:language>en-US</dc:language>
  <cp:lastModifiedBy>Walter Mascarenhas</cp:lastModifiedBy>
  <dcterms:modified xsi:type="dcterms:W3CDTF">2004-09-02T17:15:05Z</dcterms:modified>
  <cp:revision>22</cp:revision>
  <dc:subject/>
  <dc:title>Geometria Computacional</dc:title>
</cp:coreProperties>
</file>