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C707-BEF4-4FE6-9845-26CA5D6BB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AA07-00F2-489C-A1A1-B8ED44452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BC0B-8C86-4C3F-94CE-9C0872930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D1D5-EAA3-49C8-8267-31C644560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1B5F-F787-4937-95C3-C58C32213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F9D8-972D-412A-81C9-D5C5F5ED3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D30B-14F0-49A6-AD7B-ABFFC0899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8BF2-E5AF-496E-9043-6AAB7BAE4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F543-76B2-4009-811E-945EDA161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F482-E100-41E2-A7C5-9CA484AD2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4B41-D6AD-460E-87ED-B0D3A5DF8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AA46-4830-4D9D-974A-0A62B0D59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28116-0E6E-4B38-9EA4-C44D069B23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Geometria Computac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Prof. Walter Mascarenh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Segundo semestre de 20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160" y="2361960"/>
            <a:ext cx="83055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Tá bom, mas na prática isto quer dizer o que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Uma aplicaçã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toyStory" descr=""/>
          <p:cNvPicPr/>
          <p:nvPr/>
        </p:nvPicPr>
        <p:blipFill>
          <a:blip r:embed="rId1"/>
          <a:stretch/>
        </p:blipFill>
        <p:spPr>
          <a:xfrm>
            <a:off x="533520" y="1676520"/>
            <a:ext cx="8153280" cy="45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buzzModel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7696080" cy="50436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O modelo geométric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Burocrac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0" y="159984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Avalia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3 Listas de exercícios. Peso 1 cada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Implementação O(n log n) da triangulação de  Delaunay. Peso 7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Se a média for menor que 5 tem prova de recuperação (matéria toda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Média final = (Média + 2 * Recuperação) /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Dat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23/09: Primeira Lis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23/10: Segunda Lis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23/11: Terceira Lis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17/12: Delaun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23/12: Recuper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Espírito do curs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Aprender geometria computac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Com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Assistindo e participando da au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Estudand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Fazendo exercíc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Programan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2819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O que é geometria computaciona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Primeira respos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2590920"/>
            <a:ext cx="777240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Geometria computacional =</a:t>
            </a:r>
            <a:br>
              <a:rPr sz="4400"/>
            </a:b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Geometria + Computaçã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E o que é geometri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2362320"/>
            <a:ext cx="815364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Geo = terra, o ambiente em que vivemos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Metria = medir, medições, números, matemá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3962520"/>
            <a:ext cx="81532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Geometria = matemática para descrever e lidar com o ambiente que nos cer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E o que é computaçã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3520" y="41148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Neste curso: algoritmos, estruturas de dados e sua implementa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2209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Um monte de coisas: Algoritmos, linguagens, sistemas operacionais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98108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Resumindo, geometria computacional é um conjunto de técnicas computacionais para resolver problemas geométr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3T01:23:29Z</dcterms:created>
  <dc:creator>Walter Mascarenhas</dc:creator>
  <dc:description/>
  <dc:language>en-US</dc:language>
  <cp:lastModifiedBy>Walter Mascarenhas</cp:lastModifiedBy>
  <dcterms:modified xsi:type="dcterms:W3CDTF">2004-08-23T11:55:58Z</dcterms:modified>
  <cp:revision>5</cp:revision>
  <dc:subject/>
  <dc:title>Geometria Computacional</dc:title>
</cp:coreProperties>
</file>