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6077-7E73-48E3-8CD1-9F8E689C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8C7F-9CFD-4399-9C13-17A44A8F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EC6D-85EF-4DD6-8B72-730F540D3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41FB-BF14-4F03-9CFF-A5F2AC17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BC90-73C5-4D43-9F23-A4522B46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68EB-182C-4764-ABAB-37886110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C64B-3CFC-453D-B0D3-F03EC2D5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A7A4-1ACB-418B-9FE7-ADF08195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F47B-8931-4393-A7E7-539AB972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15D8-3E5A-4EA6-AD96-0F46C5CA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985E-C6CB-46B0-B3A9-4CC5B122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A5B5-1F08-4076-A4C1-4B4CC1D5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1F42-815C-4C84-ADEC-36BE20D83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Geometria Comput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f. Walter Mascarenh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gundo semestre de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ula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- Dois lados acima da scan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838080"/>
            <a:ext cx="84582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.1 Vértice reverso: completar o trapézio ativo e inserir os doi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lados. Atualizar o vértice inferior dos lados adjacentes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.2 Vértice convexo: inserir os lado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scanUp" descr=""/>
          <p:cNvPicPr/>
          <p:nvPr/>
        </p:nvPicPr>
        <p:blipFill>
          <a:blip r:embed="rId1"/>
          <a:srcRect l="13663" t="20237" r="20125" b="11288"/>
          <a:stretch/>
        </p:blipFill>
        <p:spPr>
          <a:xfrm>
            <a:off x="1905120" y="2666880"/>
            <a:ext cx="563868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2- Dois lados abaixo da scan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762120"/>
            <a:ext cx="8839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.1 Vértice reverso. Completar os dois trapézios, remover os lados adjacentes e atualizar os vértices inferiores dos lados vizinhos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.2 Vértice convexo. Completar o trapézio e remover os 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scanDown" descr=""/>
          <p:cNvPicPr/>
          <p:nvPr/>
        </p:nvPicPr>
        <p:blipFill>
          <a:blip r:embed="rId1"/>
          <a:srcRect l="16077" t="19068" r="29119" b="14008"/>
          <a:stretch/>
        </p:blipFill>
        <p:spPr>
          <a:xfrm>
            <a:off x="1981080" y="2687760"/>
            <a:ext cx="586764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3- Lados em lados opostos da scan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762120"/>
            <a:ext cx="9144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.1 Polígono à esquerda: Completar o trapézio, usando o lado adjacente esquerdo.  Remover lado de baixo, inserir lado de cima, atualizar vértice de baixo do lado adjacente esquerdo.</a:t>
            </a:r>
            <a:br>
              <a:rPr sz="2400"/>
            </a:br>
            <a:br>
              <a:rPr sz="1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.2 Polígono à direita. Completar o trapézio, usando o lado adjacente direito.  Remover lado de baixo, inserir lado de cima, atualizar vértice de baixo do lado adjacente direit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scanUpDown" descr=""/>
          <p:cNvPicPr/>
          <p:nvPr/>
        </p:nvPicPr>
        <p:blipFill>
          <a:blip r:embed="rId1"/>
          <a:srcRect l="0" t="22341" r="33520" b="15022"/>
          <a:stretch/>
        </p:blipFill>
        <p:spPr>
          <a:xfrm>
            <a:off x="2209680" y="3429000"/>
            <a:ext cx="4921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O que fazer com y’s repetid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828800"/>
            <a:ext cx="79246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4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Rotacionar a scanline, escolher outra direção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2- Rotacionar o polígono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3- Simular uma rotação muito pequ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feitos colater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828800"/>
            <a:ext cx="83059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4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Rotacionar a scanline, escolher outra direção:</a:t>
            </a:r>
            <a:br>
              <a:rPr sz="3200"/>
            </a:br>
            <a:br>
              <a:rPr sz="14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alcular interseções com retas inclinadas é mais caro do que com retas horizontais. Além disso, como escolher uma “boa” direção?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2- Rotacionar o polígono: As coordenadas dos vértices deixam de ser inteiras. Como achar um bom ângulo de rotação? 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3- Simular uma rotação muito pequena. Com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otação simul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1143000"/>
            <a:ext cx="83059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4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otacione os vértices por um ângulo minúsculo.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Qual ângulo?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Se for minúsculo, não importa!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otação simul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simulated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239240" cy="50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otação simul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simulatedinter" descr=""/>
          <p:cNvPicPr/>
          <p:nvPr/>
        </p:nvPicPr>
        <p:blipFill>
          <a:blip r:embed="rId1"/>
          <a:srcRect l="16716" t="26848" r="16755" b="29576"/>
          <a:stretch/>
        </p:blipFill>
        <p:spPr>
          <a:xfrm>
            <a:off x="76320" y="3276720"/>
            <a:ext cx="8915400" cy="3493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1828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ara cada lado horizontal no polígono original, a interseção com a scanline será o primeiro vértice quando ele entra na estrutura de dados e o segundo vértice logo em seguida, quando ele sairá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76212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 as interseções com a scanline?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Triangulação em O(n log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6002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4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Ordene os pontos pela coordenada y O(n logn) 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2- Decomponha o polígono em trapézios usando uma scanline O(n logn)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3- Usando os trapézios, quebre o polígono em partes monótonas através da eliminação das cúspides internas O(n)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4- Triangule as partes monótonas O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Vértices reversos e cúspides inter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762120"/>
            <a:ext cx="8915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 vértice v de um polígono P é reverso se o seu ângulo interno é estritamente maior que pi. Um vértice reverso r é uma cúspide interna de P com relação à reta r se seus dois vizinhos estão contidos no mesmo semi-plano fechado definido pela paralela a r que passa por 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usp" descr=""/>
          <p:cNvPicPr/>
          <p:nvPr/>
        </p:nvPicPr>
        <p:blipFill>
          <a:blip r:embed="rId1"/>
          <a:srcRect l="11324" t="14568" r="4266" b="14052"/>
          <a:stretch/>
        </p:blipFill>
        <p:spPr>
          <a:xfrm>
            <a:off x="1219320" y="2484360"/>
            <a:ext cx="708660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artição em trapéz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295280"/>
            <a:ext cx="8381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 polígono particionado em trapézios (triângulos são trapézios degenerados.) Note que o lado inferior de cada trapézio contém exatamente um vértice e o superior também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rapezios" descr=""/>
          <p:cNvPicPr/>
          <p:nvPr/>
        </p:nvPicPr>
        <p:blipFill>
          <a:blip r:embed="rId1"/>
          <a:srcRect l="8563" t="3500" r="25494" b="6228"/>
          <a:stretch/>
        </p:blipFill>
        <p:spPr>
          <a:xfrm>
            <a:off x="1905120" y="2438280"/>
            <a:ext cx="548640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Método da sca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scanline2" descr=""/>
          <p:cNvPicPr/>
          <p:nvPr/>
        </p:nvPicPr>
        <p:blipFill>
          <a:blip r:embed="rId1"/>
          <a:srcRect l="13993" t="36732" r="44248" b="16083"/>
          <a:stretch/>
        </p:blipFill>
        <p:spPr>
          <a:xfrm>
            <a:off x="533520" y="990720"/>
            <a:ext cx="8153280" cy="56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lgoritm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676520"/>
            <a:ext cx="5943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4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Entrada: Polígono</a:t>
            </a:r>
            <a:br>
              <a:rPr sz="3200"/>
            </a:br>
            <a:br>
              <a:rPr sz="24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2- Saída: lista de trapezóides, onde</a:t>
            </a:r>
            <a:br>
              <a:rPr sz="3200"/>
            </a:br>
            <a:br>
              <a:rPr sz="24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truct Trapezoide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int ladoDireito;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int ladoEsquerdo;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int verticeInferior;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int verticeSuperior;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structTrapezio" descr=""/>
          <p:cNvPicPr/>
          <p:nvPr/>
        </p:nvPicPr>
        <p:blipFill>
          <a:blip r:embed="rId1"/>
          <a:srcRect l="19652" t="44193" r="43616" b="15022"/>
          <a:stretch/>
        </p:blipFill>
        <p:spPr>
          <a:xfrm>
            <a:off x="4267080" y="2895480"/>
            <a:ext cx="4648320" cy="36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lgoritm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133720"/>
            <a:ext cx="9144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4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Usar estrutura de dados que permita busca, inserção e remoção em O(log n) comparações para armazenar os lados cortados pela scanline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2- Armazenar os vértices em um vetor ordenado pela coordenada y.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3- For( i = 0; i &lt; nVertices; i++)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trateVertice(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133720"/>
            <a:ext cx="9144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380880"/>
            <a:ext cx="88390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estrutura de dados que mantém os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ados é ordenada assim:</a:t>
            </a:r>
            <a:br>
              <a:rPr sz="2400"/>
            </a:br>
            <a:br>
              <a:rPr sz="10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t compare(lado1, lado2)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x1 = xDoCorte(lado1,scanline);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x2 = xDoCorte(lado2,scanline);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if( x1 &lt; x2 )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return -1;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if( x1 &gt; x2 )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return 1;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return compareInclinacoes(lado1,lado2);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} </a:t>
            </a:r>
            <a:br>
              <a:rPr sz="2400"/>
            </a:br>
            <a:br>
              <a:rPr sz="10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mportante: esta comparação não se altera quando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scanline move. Se dois lados estão na estrutura de dados em dois momentos diferentes, então o resultado da comparação será o mesmo nos dois inst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scanCorte" descr=""/>
          <p:cNvPicPr/>
          <p:nvPr/>
        </p:nvPicPr>
        <p:blipFill>
          <a:blip r:embed="rId1"/>
          <a:srcRect l="12636" t="0" r="35041" b="7015"/>
          <a:stretch/>
        </p:blipFill>
        <p:spPr>
          <a:xfrm>
            <a:off x="5692680" y="0"/>
            <a:ext cx="3451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Trate vértice: 6 ca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295280"/>
            <a:ext cx="67057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- Dois lados acima da scanline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.1 Vértice reverso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.2 Vértice convexo</a:t>
            </a:r>
            <a:br>
              <a:rPr sz="2400"/>
            </a:b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2- Dois lados abaixo da scanline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.1 Vértice reverso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.2 Vértice convex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3- Lados em lados opostos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.1 Polígono à esquerda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.2 Polígono à direita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scanline2" descr=""/>
          <p:cNvPicPr/>
          <p:nvPr/>
        </p:nvPicPr>
        <p:blipFill>
          <a:blip r:embed="rId1"/>
          <a:srcRect l="12879" t="35423" r="43335" b="14587"/>
          <a:stretch/>
        </p:blipFill>
        <p:spPr>
          <a:xfrm>
            <a:off x="4343400" y="3471840"/>
            <a:ext cx="480060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02:13:42Z</dcterms:created>
  <dc:creator>Walter Mascarenhas</dc:creator>
  <dc:description/>
  <dc:language>en-US</dc:language>
  <cp:lastModifiedBy>Walter Mascarenhas</cp:lastModifiedBy>
  <dcterms:modified xsi:type="dcterms:W3CDTF">2004-09-13T14:38:49Z</dcterms:modified>
  <cp:revision>50</cp:revision>
  <dc:subject/>
  <dc:title>Geometria Computacional</dc:title>
</cp:coreProperties>
</file>