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82F-73BC-40B5-AA70-AB7DBE78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D3C-200B-49A0-8421-3BACF6C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FF8-AC71-49A0-89B2-C2827092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398-DF5E-4B34-B9C6-3509D40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C92-90F7-415D-BA71-530192CC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C9B-F771-4576-AE67-F355208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B38-1DB5-4B23-9E84-6E0C421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DDF-E302-4AEC-BBFD-D491E5FB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083-C0DB-43EE-BBD9-D19F402E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EA-2DF6-4620-946F-1758D592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70B-BAA0-4DBB-AC64-3AC7ED9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500-B728-4A0D-8851-D94E02C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91A-F994-4B14-837B-76E4F2EC6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Áreas de triâng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43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www.cs.berkeley.edu/~wkahan/triangle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14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balho de W. Kahan (medalha Turing, projetista das calculadoras da HP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276720"/>
            <a:ext cx="838188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ja també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What has the Volume of a Tetrahedron to do with Computer Programming Langu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ow JAVA’s Floating Point hurst everyone everyw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muitos outros em www.cs.berkeley.edu/~wk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ultura G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docs.sun.com/source/806-3568/ncg_goldberg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Verdana"/>
              </a:rPr>
              <a:t>What Every Computer Scientist Should Know About Floating-Point Arithmetic,</a:t>
            </a:r>
            <a:br>
              <a:rPr sz="3200"/>
            </a:br>
            <a:r>
              <a:rPr b="0" lang="pt-BR" sz="3200" spc="-1" strike="noStrike">
                <a:solidFill>
                  <a:srgbClr val="000080"/>
                </a:solidFill>
                <a:latin typeface="Verdana"/>
              </a:rPr>
              <a:t>por David Goldbe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Álgebra Lin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is tipos de vetores: posições e desloca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ta" descr=""/>
          <p:cNvPicPr/>
          <p:nvPr/>
        </p:nvPicPr>
        <p:blipFill>
          <a:blip r:embed="rId1"/>
          <a:srcRect l="9262" t="0" r="13280" b="6768"/>
          <a:stretch/>
        </p:blipFill>
        <p:spPr>
          <a:xfrm>
            <a:off x="1219320" y="1981080"/>
            <a:ext cx="65530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gora com eix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ords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4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s se o plano fosse curv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sfera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34320" cy="373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7150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le teria um plano tangente (direções) diferente em cada po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Produto interno: âng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otprod" descr=""/>
          <p:cNvPicPr/>
          <p:nvPr/>
        </p:nvPicPr>
        <p:blipFill>
          <a:blip r:embed="rId1"/>
          <a:srcRect l="9167" t="5824" r="12500" b="3855"/>
          <a:stretch/>
        </p:blipFill>
        <p:spPr>
          <a:xfrm>
            <a:off x="838080" y="160020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duto interno: proje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otproj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2500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plicação: distância de ponto a segmen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alcDist" descr=""/>
          <p:cNvPicPr/>
          <p:nvPr/>
        </p:nvPicPr>
        <p:blipFill>
          <a:blip r:embed="rId1"/>
          <a:srcRect l="22453" t="21336" r="24225" b="29136"/>
          <a:stretch/>
        </p:blipFill>
        <p:spPr>
          <a:xfrm>
            <a:off x="762120" y="1600200"/>
            <a:ext cx="7696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alisando as proje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roj" descr=""/>
          <p:cNvPicPr/>
          <p:nvPr/>
        </p:nvPicPr>
        <p:blipFill>
          <a:blip r:embed="rId1"/>
          <a:srcRect l="18713" t="20399" r="21418" b="22795"/>
          <a:stretch/>
        </p:blipFill>
        <p:spPr>
          <a:xfrm>
            <a:off x="762120" y="1523880"/>
            <a:ext cx="800100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stânci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dResult" descr=""/>
          <p:cNvPicPr/>
          <p:nvPr/>
        </p:nvPicPr>
        <p:blipFill>
          <a:blip r:embed="rId1"/>
          <a:srcRect l="19645" t="23312" r="21418" b="0"/>
          <a:stretch/>
        </p:blipFill>
        <p:spPr>
          <a:xfrm>
            <a:off x="1523880" y="1219320"/>
            <a:ext cx="65534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rolários do dual da triangulação ser árv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a triangulação tem n - 2 triângulos. Pro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do polígono tem pelo menos duas orelhas. Pro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imeiro algoritmo de triangulação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193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éia básica: Ir removendo orel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usto no passo 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har a orelha dentre n - k (= O(n)) vé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decidir se o vértice v é orel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ifique se não é reverso (O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ifique se há outros vértices no triângulo (n - k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usto do passo: (n - k) (n - k - 3) = O(n^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tal, n - 3 passos =&gt; Custo O(n^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ergunta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rá que ao remover uma orelha eu não estrago o polígo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move" descr=""/>
          <p:cNvPicPr/>
          <p:nvPr/>
        </p:nvPicPr>
        <p:blipFill>
          <a:blip r:embed="rId1"/>
          <a:srcRect l="11364" t="4669" r="2094" b="19068"/>
          <a:stretch/>
        </p:blipFill>
        <p:spPr>
          <a:xfrm>
            <a:off x="990720" y="2362320"/>
            <a:ext cx="7543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oda triangulação tem n-2 triâng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295280"/>
            <a:ext cx="7924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 por in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le para o triâng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o caso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nducao" descr=""/>
          <p:cNvPicPr/>
          <p:nvPr/>
        </p:nvPicPr>
        <p:blipFill>
          <a:blip r:embed="rId1"/>
          <a:srcRect l="0" t="9680" r="0" b="24764"/>
          <a:stretch/>
        </p:blipFill>
        <p:spPr>
          <a:xfrm>
            <a:off x="762120" y="3505320"/>
            <a:ext cx="73911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ritmé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Aft>
                <a:spcPts val="6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ata: pode ser lenta e consumir muit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nto flutuante: rápida mas aproximada e pode causar erros sut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ritmética de ponto flutu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loating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401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4100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perimentando com o epsilon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www.ime.usp.br/~walterfm/cursos/mac0331/2004/float.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ratica" descr=""/>
          <p:cNvPicPr/>
          <p:nvPr/>
        </p:nvPicPr>
        <p:blipFill>
          <a:blip r:embed="rId1"/>
          <a:srcRect l="0" t="0" r="13787" b="0"/>
          <a:stretch/>
        </p:blipFill>
        <p:spPr>
          <a:xfrm>
            <a:off x="304920" y="1905120"/>
            <a:ext cx="84582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 p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ratica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536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bacaxis de dois sabo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9144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goritmos instávei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am soluções ruins, mesmo para problemas simples. Exemplo: slide an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9810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blemas mal condicionado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oitado do algoritmo tem pouca chance. Exemplo: raízes dup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upla" descr=""/>
          <p:cNvPicPr/>
          <p:nvPr/>
        </p:nvPicPr>
        <p:blipFill>
          <a:blip r:embed="rId1"/>
          <a:srcRect l="0" t="3854" r="0" b="5830"/>
          <a:stretch/>
        </p:blipFill>
        <p:spPr>
          <a:xfrm>
            <a:off x="2514600" y="3352680"/>
            <a:ext cx="4191120" cy="257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57150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prática: é só dar o mouse para o usuári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Há dois tipos de estabilida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2193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solução calculada está próxima do valor c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solução calculada é o valor certo para um problema aproximado. Muito útil para problemas mal condicionados. Exemplo: Intersecção de retas quase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ackwards" descr=""/>
          <p:cNvPicPr/>
          <p:nvPr/>
        </p:nvPicPr>
        <p:blipFill>
          <a:blip r:embed="rId1"/>
          <a:srcRect l="0" t="27167" r="0" b="34967"/>
          <a:stretch/>
        </p:blipFill>
        <p:spPr>
          <a:xfrm>
            <a:off x="380880" y="4495680"/>
            <a:ext cx="8088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11:45Z</dcterms:created>
  <dc:creator>Walter Mascarenhas</dc:creator>
  <dc:description/>
  <dc:language>en-US</dc:language>
  <cp:lastModifiedBy>Walter Mascarenhas</cp:lastModifiedBy>
  <dcterms:modified xsi:type="dcterms:W3CDTF">2004-08-30T11:53:12Z</dcterms:modified>
  <cp:revision>21</cp:revision>
  <dc:subject/>
  <dc:title>Geometria Computacional</dc:title>
</cp:coreProperties>
</file>