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5D7B-717B-4D50-AD24-28B6775D99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FA2D-6086-49D4-9B5C-DB10AF2F78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é a mais conhecida ferramenta objeto/relacional. Isto é, transforma objetos em registros num gerenciador de banco de dados rela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odo tradicional para persistência de dados é através de Stored Procedures, que ficam armazenadas e pré-compiladas no ban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facilita *muito* a tarefa repetitiva de fazer a persistência. Assim como a manutenção de códi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 entanto, por ser uma camada extra na aplicação, 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perde desempenho em comparação com Stored Proced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objetivo deste trabalho foi fazer testes num ambiente real para saber se vale a pena usar 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mesmo com a perda de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2A5-6A7D-4B73-B70F-C72B7E4632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ambiente usado foi um sistema de roteamento de ordens, que desenvolvi para uma importante corretora de va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sistema deste tipo é usado numa corretora de valores para enviar mensagens de clientes institucionais para as bolsas e vice 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sistema tem uma grande demanda por performance. Muitos clientes fazem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arbitra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e sistema manda hoje, uns 20% de todas as ordens recebidas pela Bove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sistema foi desenvolvido em Microsoft C# e SQ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991-4293-4952-B82C-4E7BFC6A1F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Engine foi dividido em 4 grandes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criada uma camada extra na aplicação para que fosse possível substituir a persistência por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por outra solução, nesse caso a persistência por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amada foi criada como uma Interface do C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bora a solução de persistência ficasse separada do resto da aplicação, ela foi baseada no paradigma d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 O que tornou uma possível mudança de paradigma muito difí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3FC4-C4D5-4BB4-BCEF-EE7E316114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am coletados dados de todas as funções na camada de persist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cobri que apenas 4 métodos eram responsáveis por quase 85% de todo o tempo gasto na camada de persist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am coletados, também, dados dos tempos da aplicação mais custosos. A idéia era mover parte da lógica ao banco de dados e tirar mais proveito das stored procedures, armazenadas e pré-compil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criada uma nova implementação da interface IPersistencia, baseada em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E56-9776-411A-BA78-616FC2BDF3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s alterações dos métodos na camada de persistência, o ganho foi de aproximadamente 13,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 verdade, tiveram que ser modificados muito mais de 4 métodos, já que um objeto contém outros que contém outr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s alterações de alguns métodos da aplicação, houve ganhos de até 50%. E em outros houve até perda de desempenho. É difícil estabelecer uma métrica que compare as mudanças deste tipo de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para Stored Proced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0DE-31D1-444C-81B1-4EA70C101D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 principais conclusões são as segui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aju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a tarefa de fazer a persistência dos objetos. A mudança para stored procedures foi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uito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is difícil do que o esper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muito difícil estabelecer uma métrica para comparar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om persistÊncia por stored procedures. A comparação de substituição de um método por outro equivalente é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plicações com forte demanda por desempenho, é justificada a criação de uma solução híbrida, que uma o poder do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om o ganho de desempenho do acesos direto a stored proced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C7D-F76B-4AC6-B88D-887A01ED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A25-5478-46F0-8C72-F1EB64CC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031-D937-4A33-82FC-94BD879D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389-9C58-4873-ADFA-3C5A4D2D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140-C760-44A3-A5BD-D898E0A2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F7D-8058-451D-B290-B6FAB6A9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C27-A5D9-4D1B-B9B2-3BADFE65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EE1-2AFF-43F9-A091-CD5E43F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A1C-04C1-401E-AE77-8467D957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C45-3644-496A-8E05-D719C11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C8E-9484-4DF0-8AC8-7C05E65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825-9A70-457A-8105-BED1D06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nente\Desktop\fund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EE3-FD4F-4175-A5DD-7744281E20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E:\IME\mac499_2\apresentacao\hibernate(1).gif"/>
          <p:cNvPicPr/>
          <p:nvPr/>
        </p:nvPicPr>
        <p:blipFill>
          <a:blip r:embed="rId3"/>
          <a:stretch/>
        </p:blipFill>
        <p:spPr>
          <a:xfrm>
            <a:off x="6297480" y="5965920"/>
            <a:ext cx="284652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E:\IME\mac499_2\apresentacao\logo_ime.PNG"/>
          <p:cNvPicPr/>
          <p:nvPr/>
        </p:nvPicPr>
        <p:blipFill>
          <a:blip r:embed="rId1"/>
          <a:stretch/>
        </p:blipFill>
        <p:spPr>
          <a:xfrm>
            <a:off x="914400" y="131760"/>
            <a:ext cx="1219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:\IME\mac499_2\apresentacao\logo_usp.PNG"/>
          <p:cNvPicPr/>
          <p:nvPr/>
        </p:nvPicPr>
        <p:blipFill>
          <a:blip r:embed="rId2"/>
          <a:stretch/>
        </p:blipFill>
        <p:spPr>
          <a:xfrm>
            <a:off x="7467480" y="111240"/>
            <a:ext cx="1008360" cy="81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manente\Desktop\linha_verde.tif"/>
          <p:cNvPicPr/>
          <p:nvPr/>
        </p:nvPicPr>
        <p:blipFill>
          <a:blip r:embed="rId3"/>
          <a:stretch/>
        </p:blipFill>
        <p:spPr>
          <a:xfrm>
            <a:off x="0" y="91440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536760" y="18288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996120" y="236232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osa ferramenta objeto/rel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000440" y="289548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agilidade no desenvolvimento de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997560" y="3429000"/>
            <a:ext cx="74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 de desempenho pela adição de outra c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508560" y="419112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Vale a pe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2120" y="4876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bjetivo deste trabalho foi fazer comparações do Hibernat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Stored Procedures em um ambiente real de larg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2720" y="105552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bernate em um ambiente de larga esc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manente\Desktop\linha_verde.t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7240" y="406440"/>
            <a:ext cx="518148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mbiente U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12000" y="121932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eamento de ordens em uma corretora de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desenho1_small.png"/>
          <p:cNvPicPr/>
          <p:nvPr/>
        </p:nvPicPr>
        <p:blipFill>
          <a:blip r:embed="rId2"/>
          <a:stretch/>
        </p:blipFill>
        <p:spPr>
          <a:xfrm>
            <a:off x="750960" y="1422360"/>
            <a:ext cx="74451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manente\Desktop\linha_verde.t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4840" y="393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ngin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9480" y="1600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extra para persistência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04920" y="2743200"/>
            <a:ext cx="502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erface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600" spc="-1" strike="noStrike">
                <a:solidFill>
                  <a:srgbClr val="2b91af"/>
                </a:solidFill>
                <a:latin typeface="Courier New"/>
                <a:ea typeface="Courier New"/>
              </a:rPr>
              <a:t>IPersistencia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2b91af"/>
                </a:solidFill>
                <a:latin typeface="Courier New"/>
                <a:ea typeface="Courier New"/>
              </a:rPr>
              <a:t>Conta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nta(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dCon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2b91af"/>
                </a:solidFill>
                <a:latin typeface="Courier New"/>
                <a:ea typeface="Courier New"/>
              </a:rPr>
              <a:t>Oferta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Oferta(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dOfer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aveOferta(</a:t>
            </a:r>
            <a:r>
              <a:rPr b="1" lang="pt-BR" sz="1600" spc="-1" strike="noStrike">
                <a:solidFill>
                  <a:srgbClr val="2b91af"/>
                </a:solidFill>
                <a:latin typeface="Courier New"/>
                <a:ea typeface="Courier New"/>
              </a:rPr>
              <a:t>Oferta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ofer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* (...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9480" y="4952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paração da solução de persistência da 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desenho2_small.png"/>
          <p:cNvPicPr/>
          <p:nvPr/>
        </p:nvPicPr>
        <p:blipFill>
          <a:blip r:embed="rId2"/>
          <a:stretch/>
        </p:blipFill>
        <p:spPr>
          <a:xfrm>
            <a:off x="5643720" y="1500120"/>
            <a:ext cx="3230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manente\Desktop\linha_verde.t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2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86696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80880" y="13716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am medidos os tempos dos métodos na camada de persis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04920" y="26668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 métodos eram responsáveis por quas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85% d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0492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va implementação de </a:t>
            </a:r>
            <a:r>
              <a:rPr b="1" lang="pt-BR" sz="2400" spc="-1" strike="noStrike">
                <a:solidFill>
                  <a:srgbClr val="2b91af"/>
                </a:solidFill>
                <a:latin typeface="Courier New"/>
              </a:rPr>
              <a:t>IPersiste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aseada em Stored Procedures</a:t>
            </a:r>
            <a:r>
              <a:rPr b="0" lang="pt-BR" sz="2400" spc="-1" strike="noStrike">
                <a:solidFill>
                  <a:srgbClr val="2b91a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grafico1_small.bmp"/>
          <p:cNvPicPr/>
          <p:nvPr/>
        </p:nvPicPr>
        <p:blipFill>
          <a:blip r:embed="rId2"/>
          <a:stretch/>
        </p:blipFill>
        <p:spPr>
          <a:xfrm>
            <a:off x="3286080" y="1928880"/>
            <a:ext cx="5362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manente\Desktop\linha_verde.t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8000" y="487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211800" y="3046320"/>
            <a:ext cx="26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 alterações dos 4 métodos: ganho de quas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215040" y="128592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 alterações dos métodos da aplicação houve ganho de até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357120" y="1766880"/>
            <a:ext cx="5543640" cy="4065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211800" y="483228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ícil estabelecer métrica de com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manente\Desktop\linha_verde.tif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6320" y="4730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0880" y="1371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acilit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mui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problema da persis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1981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muito difícil estabelecer uma métrica de comparação entr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/ 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57200" y="2819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uitos casos, é justificada a criação de uma solução híb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" y="39625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Arial"/>
              </a:rPr>
              <a:t>Rogério 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Arial"/>
              </a:rPr>
              <a:t>rogerio@manente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Orientador: Prof. Dr. João Eduardo Ferr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jef@ime.usp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1:28:56Z</dcterms:created>
  <dc:creator>Socopa</dc:creator>
  <dc:description/>
  <dc:language>en-US</dc:language>
  <cp:lastModifiedBy>Rogerio</cp:lastModifiedBy>
  <dcterms:modified xsi:type="dcterms:W3CDTF">2007-11-20T14:54:11Z</dcterms:modified>
  <cp:revision>39</cp:revision>
  <dc:subject/>
  <dc:title>Apresentação do PowerPoint</dc:title>
</cp:coreProperties>
</file>