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12E5-5C89-43A6-B0E6-1333445ED96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832-A2F7-466B-95D9-E2B807E6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FE3-FE7B-4317-B917-648706AB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2C9-2521-4AA7-9D72-BD67CC07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B23-5A16-41B2-9F7E-A9CCB9CE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CA35-4F55-4363-948D-F2AB0BD7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CD5D-73CE-4FF8-BBB7-4C9995DC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715E-66D1-4405-BD48-A041493F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9538-8395-4266-B711-31AB7C46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BFA3-E052-4C5C-BAED-3C24ADD6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BC1-D00F-4A58-8839-575D8D3F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A272-A10A-41B6-A917-8D3E77C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026-9E4F-494B-8EBD-4D9F68EB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0341-E6BB-41F2-B2EE-C5B2F130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ADB3-5F61-433F-A235-7584E206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ED4-FBF7-4D15-ACED-CC4C8E93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E21B-E786-47EA-92D1-E1ED06EE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5BCD-8200-4827-9ABD-7353CDFD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A51-BD05-4F14-9100-43505338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254-79A7-4E15-AC3F-AB2397DA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72C-7E69-4495-A65F-55ECA08A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11A-477E-4E6D-8B50-C50457BB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887-D803-4B54-ACF4-0C7C9677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634-A4D2-4955-8798-394B7571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3D8-A5D7-4D5E-83EE-E4EA185D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00800"/>
            <a:ext cx="1346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84E1-DBF9-4792-992D-71EF4592DA4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00800"/>
            <a:ext cx="35402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00800"/>
            <a:ext cx="12510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0908-8C7C-488B-B4C4-C80AB6F079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497E-8AA5-47B9-97EE-6E5C3601D40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0D6B-939C-4A5F-A258-9C5B37D78A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81080" y="-152640"/>
            <a:ext cx="6858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quitetura de Software II –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quisitos Arquitetu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960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ópicos Avançados 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ogramação Orientada a Objet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MAC 413 / 571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of. Fabio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ME / US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73AE-D9E5-4AE1-AA24-A8B7C68BBD1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269EFE6-E187-4CF1-8601-34626796DE15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c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ângelo Ianelli -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fase figura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marinha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3124080" cy="2217960"/>
          </a:xfrm>
          <a:prstGeom prst="rect">
            <a:avLst/>
          </a:prstGeom>
          <a:ln w="0">
            <a:noFill/>
          </a:ln>
        </p:spPr>
      </p:pic>
      <p:pic>
        <p:nvPicPr>
          <p:cNvPr id="273" name="barcos" descr=""/>
          <p:cNvPicPr/>
          <p:nvPr/>
        </p:nvPicPr>
        <p:blipFill>
          <a:blip r:embed="rId2"/>
          <a:stretch/>
        </p:blipFill>
        <p:spPr>
          <a:xfrm>
            <a:off x="5791320" y="3992400"/>
            <a:ext cx="3352680" cy="2865600"/>
          </a:xfrm>
          <a:prstGeom prst="rect">
            <a:avLst/>
          </a:prstGeom>
          <a:ln w="0">
            <a:noFill/>
          </a:ln>
        </p:spPr>
      </p:pic>
      <p:pic>
        <p:nvPicPr>
          <p:cNvPr id="274" name="katia" descr=""/>
          <p:cNvPicPr/>
          <p:nvPr/>
        </p:nvPicPr>
        <p:blipFill>
          <a:blip r:embed="rId3"/>
          <a:stretch/>
        </p:blipFill>
        <p:spPr>
          <a:xfrm>
            <a:off x="557280" y="2133720"/>
            <a:ext cx="365292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876920" y="2057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rinha 19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rcos 19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5273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tia 19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A43-1238-4E31-AF46-71705E3184D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9F0D4-4A60-49A1-A3FE-B39DC9F322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cângelo Ianelli –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cesso de abst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arvores" descr=""/>
          <p:cNvPicPr/>
          <p:nvPr/>
        </p:nvPicPr>
        <p:blipFill>
          <a:blip r:embed="rId1"/>
          <a:stretch/>
        </p:blipFill>
        <p:spPr>
          <a:xfrm>
            <a:off x="1371600" y="1433520"/>
            <a:ext cx="4114800" cy="3003480"/>
          </a:xfrm>
          <a:prstGeom prst="rect">
            <a:avLst/>
          </a:prstGeom>
          <a:ln w="0">
            <a:noFill/>
          </a:ln>
        </p:spPr>
      </p:pic>
      <p:pic>
        <p:nvPicPr>
          <p:cNvPr id="280" name="natureza" descr=""/>
          <p:cNvPicPr/>
          <p:nvPr/>
        </p:nvPicPr>
        <p:blipFill>
          <a:blip r:embed="rId2"/>
          <a:stretch/>
        </p:blipFill>
        <p:spPr>
          <a:xfrm>
            <a:off x="5181480" y="3603600"/>
            <a:ext cx="3962520" cy="3254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581280" y="5504040"/>
            <a:ext cx="2210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tureza M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1981080"/>
            <a:ext cx="22096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Ár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AE8-78CF-42C1-BE4D-77406F5A987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8CAC0-EC40-42CC-8018-B08F5D32BF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cângelo Ianelli –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bras abstra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ruptura" descr=""/>
          <p:cNvPicPr/>
          <p:nvPr/>
        </p:nvPicPr>
        <p:blipFill>
          <a:blip r:embed="rId1"/>
          <a:stretch/>
        </p:blipFill>
        <p:spPr>
          <a:xfrm>
            <a:off x="1876320" y="1600200"/>
            <a:ext cx="3076560" cy="4267080"/>
          </a:xfrm>
          <a:prstGeom prst="rect">
            <a:avLst/>
          </a:prstGeom>
          <a:ln w="0">
            <a:noFill/>
          </a:ln>
        </p:spPr>
      </p:pic>
      <p:pic>
        <p:nvPicPr>
          <p:cNvPr id="285" name="azul" descr=""/>
          <p:cNvPicPr/>
          <p:nvPr/>
        </p:nvPicPr>
        <p:blipFill>
          <a:blip r:embed="rId2"/>
          <a:stretch/>
        </p:blipFill>
        <p:spPr>
          <a:xfrm>
            <a:off x="5410080" y="1600200"/>
            <a:ext cx="3403800" cy="42670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28800" y="58514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uptura 19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5867280"/>
            <a:ext cx="33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uperposição de Retângulos 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EC9-7020-401F-AA5D-5573CBC00A5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6D115-1B7D-4551-8D39-FE62CA0E0C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bst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O bom projetista de software deve ser capaz 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fetuar abstrações mentais de elementos de um sistema complexo 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incluir abstrações bem elaboradas como parte do projeto arquitetura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bstrações em SO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rocesso, memória virtual, R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A10-3D26-4615-959F-94B2E632B8E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B93F5-4CB4-4219-A7D4-9D0FA539A8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mpartilhamento de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400" y="1904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r um lado queremos um sistema modularizad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m baixo acoplamento entre os módulos 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m módulos bem coeso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r outro lado, precisamos identificar quais recursos devem ser compartilhados entre os diversos módul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ompartilhamento efica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vita duplicaçõ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promove desacoplamen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58E-7A1B-46BE-908D-5519B3EA0E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B5E82-9650-4AC8-BE1A-A67F00D166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quisitos Não-Funcion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Também chamados 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tributos de qualida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requisitos não comportamenta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escreve não </a:t>
            </a: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o que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um sistema faz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as sim </a:t>
            </a: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como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ele faz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adrão IEEE 830-1993 lista 13 requisitos não-funcionais para documentos de especificação de requisitos de softwar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B14-5F12-400C-9A75-026063BA7D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6A10A-1EC9-4A0B-8A6E-C1E7B91A4B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quisitos Arquiteturai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Não-Funcion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868040" y="2286000"/>
            <a:ext cx="3922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Usabilida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cilidade de apren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cilidade de us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Manutenibilida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51360" y="2285640"/>
            <a:ext cx="3392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Desempenh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Portabilidad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Reusabilidad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Seguranç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44A-5C2E-4814-8B46-7278003DA5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413F1-0DC8-4B65-965B-04EE9AD4A3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lguns Critérios para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edição de Usa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empo para realizar uma taref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ercentual de tarefa concluído / temp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axa de sucessos / falha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empo consumido com err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Número de comandos utilizad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Número de comandos disponíveis não utilizad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reqüência de uso da documentaçã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EED-D5AE-4409-94F0-7713B18A04D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FBC88-80E7-4C71-BC5E-265AE4D4FF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anuteni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04760" y="20574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acilidade de reparo de err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acilidade d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volu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ltera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 manutenibilidade será boa se o sistema 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ormado por módulos desacoplados e coes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arquitetura provê flexibilida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BC2-531B-46C5-869D-8FBB926762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8D003-2ED4-4BE6-B43A-6D1BB93ACA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nfia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isponibilidad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.ex. 99.999% do tempo ou das requisiçõ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axa de ocorrência de falh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lha = ocorrência de comportamento inesperado, p.ex., 2+2=5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obabilidade de falha durante operaç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empo médio até ocorrência de falh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TTF é usado com discos, por exempl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1C3-AE03-4462-B071-3CFC55C22E1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B95E8-FFD0-4ADD-AC4A-8C1A854EAB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quisitos Arquitetu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Antes de projetar uma Arquitetura: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modelagem do problem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identificação dos requisito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funcionai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não-funcionai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DF8-24C1-4B77-B885-543CE94BBB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2D9CF-F0D2-43AB-9E03-FF7823F266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nfia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 Narrow"/>
              </a:rPr>
              <a:t>Mean Time Between Failu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TBF = MTTF + MTT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onde MTTR é o tempo para repar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isponibilidade = MTTF / (MTTF + MTTR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473-879F-43E9-8CB7-B10B6BBFAC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E4C18-AF11-41DA-9E4F-6DBB909FC2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Desempen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2209680"/>
            <a:ext cx="2743200" cy="83844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3581280"/>
            <a:ext cx="167652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3581280"/>
            <a:ext cx="190512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4952880"/>
            <a:ext cx="137160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t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952880"/>
            <a:ext cx="152424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4952880"/>
            <a:ext cx="152424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4952880"/>
            <a:ext cx="160020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cundá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5600" y="3048120"/>
            <a:ext cx="1841400" cy="536400"/>
          </a:xfrm>
          <a:custGeom>
            <a:avLst/>
            <a:gdLst/>
            <a:ahLst/>
            <a:rect l="l" t="t" r="r" b="b"/>
            <a:pathLst>
              <a:path w="1160" h="338">
                <a:moveTo>
                  <a:pt x="1158" y="0"/>
                </a:moveTo>
                <a:lnTo>
                  <a:pt x="1160" y="196"/>
                </a:lnTo>
                <a:lnTo>
                  <a:pt x="0" y="196"/>
                </a:lnTo>
                <a:lnTo>
                  <a:pt x="0" y="3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3359160"/>
            <a:ext cx="1752480" cy="222120"/>
          </a:xfrm>
          <a:custGeom>
            <a:avLst/>
            <a:gdLst/>
            <a:ahLst/>
            <a:rect l="l" t="t" r="r" b="b"/>
            <a:pathLst>
              <a:path w="1104" h="140">
                <a:moveTo>
                  <a:pt x="1104" y="140"/>
                </a:moveTo>
                <a:lnTo>
                  <a:pt x="110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0920" y="4267080"/>
            <a:ext cx="761760" cy="689040"/>
          </a:xfrm>
          <a:custGeom>
            <a:avLst/>
            <a:gdLst/>
            <a:ahLst/>
            <a:rect l="l" t="t" r="r" b="b"/>
            <a:pathLst>
              <a:path w="1160" h="338">
                <a:moveTo>
                  <a:pt x="1158" y="0"/>
                </a:moveTo>
                <a:lnTo>
                  <a:pt x="1160" y="196"/>
                </a:lnTo>
                <a:lnTo>
                  <a:pt x="0" y="196"/>
                </a:lnTo>
                <a:lnTo>
                  <a:pt x="0" y="3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4648320"/>
            <a:ext cx="1067040" cy="304560"/>
          </a:xfrm>
          <a:custGeom>
            <a:avLst/>
            <a:gdLst/>
            <a:ahLst/>
            <a:rect l="l" t="t" r="r" b="b"/>
            <a:pathLst>
              <a:path w="1104" h="140">
                <a:moveTo>
                  <a:pt x="1104" y="140"/>
                </a:moveTo>
                <a:lnTo>
                  <a:pt x="110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19920" y="4267080"/>
            <a:ext cx="1066680" cy="685800"/>
          </a:xfrm>
          <a:custGeom>
            <a:avLst/>
            <a:gdLst/>
            <a:ahLst/>
            <a:rect l="l" t="t" r="r" b="b"/>
            <a:pathLst>
              <a:path w="1160" h="338">
                <a:moveTo>
                  <a:pt x="1158" y="0"/>
                </a:moveTo>
                <a:lnTo>
                  <a:pt x="1160" y="196"/>
                </a:lnTo>
                <a:lnTo>
                  <a:pt x="0" y="196"/>
                </a:lnTo>
                <a:lnTo>
                  <a:pt x="0" y="3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4648320"/>
            <a:ext cx="1066680" cy="304560"/>
          </a:xfrm>
          <a:custGeom>
            <a:avLst/>
            <a:gdLst/>
            <a:ahLst/>
            <a:rect l="l" t="t" r="r" b="b"/>
            <a:pathLst>
              <a:path w="1104" h="140">
                <a:moveTo>
                  <a:pt x="1104" y="140"/>
                </a:moveTo>
                <a:lnTo>
                  <a:pt x="110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653-2C87-4642-83CE-EBECA925E26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047E3-0145-4213-AD95-FE4A9A2A66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orta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2362320"/>
            <a:ext cx="2209680" cy="76176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3733920"/>
            <a:ext cx="37339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face de Por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4724280"/>
            <a:ext cx="1905120" cy="76212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lataform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4724280"/>
            <a:ext cx="1676520" cy="76212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4724280"/>
            <a:ext cx="1676520" cy="76212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5049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00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D63-5990-4945-9931-8651884CC8B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60AEC-210D-443D-AE8E-26AB7B1B5C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usa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Reuso d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plicação (p.ex. em diferentes plataforma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ubsistem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Módul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unçõ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5E2-17C3-4E78-B513-3B59A7EABA9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FE8BC-1DCA-49B2-8B60-4CE9781DCD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eguranç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08240" y="213336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dentificação (de usuários e objeto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utentificaç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ontrole de Acess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Garantia de Integrida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Garantia de Disponibilida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uditoria de Seguranç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etecção de Comportamento Suspeit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5D5-4ABC-4C03-965D-8C6798740F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7F36D-8716-432C-813E-7E44AA228C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 Narrow"/>
              </a:rPr>
              <a:t>Arquitetura de Software – Desenvolvimento orientado para arquitetura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. Antonio Mendes. Editora Campus, 2002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353-FB94-4A97-A716-44288C0A82E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202E5-036E-472C-ACF5-9096F2BDE5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dentificação de Requisito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quitetu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2057400"/>
            <a:ext cx="1828800" cy="1143000"/>
          </a:xfrm>
          <a:prstGeom prst="flowChartMultidocumen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ob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arquitet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exist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3809880"/>
            <a:ext cx="1371600" cy="990720"/>
          </a:xfrm>
          <a:prstGeom prst="foldedCorner">
            <a:avLst>
              <a:gd name="adj" fmla="val 37962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 domí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962520"/>
            <a:ext cx="1524240" cy="68580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dentif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s 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3962520"/>
            <a:ext cx="1523880" cy="685800"/>
          </a:xfrm>
          <a:prstGeom prst="flowChartProcess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nálise 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enários de 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5562720"/>
            <a:ext cx="190512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jeto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5334120"/>
            <a:ext cx="1828800" cy="914400"/>
          </a:xfrm>
          <a:prstGeom prst="wedgeEllipseCallout">
            <a:avLst>
              <a:gd name="adj1" fmla="val 37500"/>
              <a:gd name="adj2" fmla="val -121527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periência do arquit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4380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14800" y="4654440"/>
            <a:ext cx="1538280" cy="1289160"/>
          </a:xfrm>
          <a:custGeom>
            <a:avLst/>
            <a:gdLst/>
            <a:ahLst/>
            <a:rect l="l" t="t" r="r" b="b"/>
            <a:pathLst>
              <a:path w="969" h="812">
                <a:moveTo>
                  <a:pt x="969" y="812"/>
                </a:moveTo>
                <a:lnTo>
                  <a:pt x="0" y="80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08660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304812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9D0-D540-45AD-A4A4-22EE1FCFC78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9A486-404D-4C67-8941-34044E67C8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tributos de Proje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Norteiam o processo de desenvolvimento de softwa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Visam satisfazer os requisitos arquitetura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ão qualidades desejáveis em sistemas de softwar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eparação de Interes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bstra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odularida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ompartilhamento de Recurs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BBE-33AC-4230-91B0-A6FB7F222B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7E814-D3B1-4822-9BAF-7A273720E8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eparação de Inter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08240" y="2057040"/>
            <a:ext cx="64785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 Narrow"/>
              </a:rPr>
              <a:t>Separation of Concern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onsiste em separar/isolar os diferentes aspectos de um sistem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e todos os aspectos estão muito inter-relacionados, fica difícil tratar deles independentement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Exemplos de aspectos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egurança, confiabilidade, desempenho,.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A96-3F94-4191-8C2C-E96D76BFF5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0314D-C8B2-4A99-A365-663065C35B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odular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istemas de grande porte precisam ser divididos em módulos; caso contrário, tornam-se intratávei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juda em duas situaçõ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ffcc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demos lidar com os detalhes internos de cada módulo sem se preocupar com o mundo exterior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ffcc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quando lidamos com os inter-relacionamentos entre os vários módulos de um sistem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9B4-AF09-4649-9C29-6FA9DD5ADB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B3F7A-9F4E-4A52-A5CE-94D6A9734D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odular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904760" y="2057040"/>
            <a:ext cx="69339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 modularidade tenta atingir três met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apacidade de decompor um sistema complexo ou de grande porte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apacidade de compor um sistema a partir de um conjunto de módulos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acilitar a compreensão de sistemas complex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19A-8C0D-409C-9C74-936DCC2FD7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F09FF-FD6F-40DF-9525-6410B1AC39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bst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Uma forma poderosa de se lidar com complexidad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bstração consiste em um processo no qual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identificamos os aspectos essenciais de um fenômeno 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ignoramos os detalhes ou aspectos não relevant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oi o caminho percorrido pela pintura ao longo dos séculos XIX e XX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FD0-E54F-4A81-96E5-127FFBA675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B3A8C-0A12-4FB7-A73D-8800F0EEF4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tura figura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oussin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4064040" cy="2933640"/>
          </a:xfrm>
          <a:prstGeom prst="rect">
            <a:avLst/>
          </a:prstGeom>
          <a:ln w="0">
            <a:noFill/>
          </a:ln>
        </p:spPr>
      </p:pic>
      <p:pic>
        <p:nvPicPr>
          <p:cNvPr id="268" name="rembrandt-nightwatch" descr=""/>
          <p:cNvPicPr/>
          <p:nvPr/>
        </p:nvPicPr>
        <p:blipFill>
          <a:blip r:embed="rId2"/>
          <a:stretch/>
        </p:blipFill>
        <p:spPr>
          <a:xfrm>
            <a:off x="5486400" y="3402000"/>
            <a:ext cx="3657600" cy="3456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828800" y="44197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icolas Pouss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94-1665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'été ou Ruth et Boo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 1660-166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2760840"/>
            <a:ext cx="281952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onda Noturna   Rem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6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9E2-121D-4607-9A57-34535DC4042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7955A-C3DA-44AF-BC46-A7CECE4B6E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y Burton</cp:lastModifiedBy>
  <dcterms:modified xsi:type="dcterms:W3CDTF">2002-09-24T19:23:01Z</dcterms:modified>
  <cp:revision>13</cp:revision>
  <dc:subject/>
  <dc:title>Apresentação do PowerPoint</dc:title>
</cp:coreProperties>
</file>