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2B56-96B0-452B-AED5-21A9C485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9889-05C2-4951-8FAA-A8ACAB55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DB5F-FB3B-412D-A7DD-C5E9DA3B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8724-EE44-4FF9-AFAC-E9109722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64BC-72AA-42FB-B4DC-BD525A42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7086-957B-49A7-8681-BDC00B89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159E-07DB-487F-8A59-7506A67F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D557-A341-4665-A85E-E22DADEB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31E9-FEC7-4750-9814-72285355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354F-050E-4684-A6E6-5A4C5F2F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971D-54F3-4A29-B78D-200F904B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218-A12A-41B1-9BBF-8EA215FD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E670-469C-4860-8CA6-D3289C24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7522-2FEB-45B2-BF5A-E79700B0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B601-524A-4D5B-9899-61FB1693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4E56-D8FC-449E-AC9F-D6527A18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52B0-41A6-4325-8028-20ECB2CF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FA8B-FE76-4285-A898-654DFCC5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518-8A73-4F3D-A87F-834F33EC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E2A-9654-434D-B326-69BB7250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8C9D-6612-4074-BAB1-F78F9E10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44F7-8DB8-4022-A284-85C15BD7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A98-3761-469F-AD3B-B0D29D86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217-FA81-4498-8AD5-38D202BD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B682-7D77-466B-8139-5453DA0631B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42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43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AFAA-D943-44DA-B7C3-B17C752441C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sgi.com/Technology/STL/" TargetMode="External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xraylith.wisc.edu/~khan/software/stl/STL.newbie.html" TargetMode="External"/><Relationship Id="rId2" Type="http://schemas.openxmlformats.org/officeDocument/2006/relationships/hyperlink" Target="http://www.xraylith.wisc.edu/~khan/software/stl/STL.newbie.html" TargetMode="External"/><Relationship Id="rId3" Type="http://schemas.openxmlformats.org/officeDocument/2006/relationships/hyperlink" Target="http://www.xraylith.wisc.edu/~khan/software/stl/STL.newbie.html" TargetMode="External"/><Relationship Id="rId4" Type="http://schemas.openxmlformats.org/officeDocument/2006/relationships/hyperlink" Target="http://www.xraylith.wisc.edu/~khan/software/stl/STL.newbie.html" TargetMode="External"/><Relationship Id="rId5" Type="http://schemas.openxmlformats.org/officeDocument/2006/relationships/hyperlink" Target="http://www.xraylith.wisc.edu/~khan/software/stl/STL.newbie.html" TargetMode="External"/><Relationship Id="rId6" Type="http://schemas.openxmlformats.org/officeDocument/2006/relationships/hyperlink" Target="http://www.xraylith.wisc.edu/~khan/software/stl/STL.newbie.html" TargetMode="External"/><Relationship Id="rId7" Type="http://schemas.openxmlformats.org/officeDocument/2006/relationships/hyperlink" Target="http://www.xraylith.wisc.edu/~khan/software/stl/STL.newbie.html" TargetMode="External"/><Relationship Id="rId8" Type="http://schemas.openxmlformats.org/officeDocument/2006/relationships/hyperlink" Target="http://www.xraylith.wisc.edu/~khan/software/stl/STL.newbie.html" TargetMode="External"/><Relationship Id="rId9" Type="http://schemas.openxmlformats.org/officeDocument/2006/relationships/hyperlink" Target="http://www.xraylith.wisc.edu/~khan/software/stl/STL.newbie.html" TargetMode="External"/><Relationship Id="rId10" Type="http://schemas.openxmlformats.org/officeDocument/2006/relationships/hyperlink" Target="http://www.xraylith.wisc.edu/~khan/software/stl/STL.newbie.html" TargetMode="External"/><Relationship Id="rId11" Type="http://schemas.openxmlformats.org/officeDocument/2006/relationships/hyperlink" Target="http://www.xraylith.wisc.edu/~khan/software/stl/STL.newbie.html" TargetMode="External"/><Relationship Id="rId12" Type="http://schemas.openxmlformats.org/officeDocument/2006/relationships/hyperlink" Target="http://www.cs.brown.edu/people/jak/proglang/cpp/stltut/tut.htm" TargetMode="External"/><Relationship Id="rId13" Type="http://schemas.openxmlformats.org/officeDocument/2006/relationships/hyperlink" Target="http://www.cs.brown.edu/people/jak/proglang/cpp/stltut/tut.htm" TargetMode="External"/><Relationship Id="rId14" Type="http://schemas.openxmlformats.org/officeDocument/2006/relationships/hyperlink" Target="http://www.cs.brown.edu/people/jak/proglang/cpp/stltut/tut.htm" TargetMode="External"/><Relationship Id="rId15" Type="http://schemas.openxmlformats.org/officeDocument/2006/relationships/hyperlink" Target="http://www.cs.brown.edu/people/jak/proglang/cpp/stltut/tut.htm" TargetMode="External"/><Relationship Id="rId16" Type="http://schemas.openxmlformats.org/officeDocument/2006/relationships/hyperlink" Target="http://www.cs.brown.edu/people/jak/proglang/cpp/stltut/tut.htm" TargetMode="External"/><Relationship Id="rId17" Type="http://schemas.openxmlformats.org/officeDocument/2006/relationships/hyperlink" Target="http://www.cs.brown.edu/people/jak/proglang/cpp/stltut/tut.htm" TargetMode="External"/><Relationship Id="rId18" Type="http://schemas.openxmlformats.org/officeDocument/2006/relationships/hyperlink" Target="http://www.cs.brown.edu/people/jak/proglang/cpp/stltut/tut.htm" TargetMode="External"/><Relationship Id="rId19" Type="http://schemas.openxmlformats.org/officeDocument/2006/relationships/hyperlink" Target="http://www.cs.brown.edu/people/jak/proglang/cpp/stltut/tut.htm" TargetMode="External"/><Relationship Id="rId20" Type="http://schemas.openxmlformats.org/officeDocument/2006/relationships/hyperlink" Target="http://www.cs.brown.edu/people/jak/proglang/cpp/stltut/tut.htm" TargetMode="External"/><Relationship Id="rId21" Type="http://schemas.openxmlformats.org/officeDocument/2006/relationships/hyperlink" Target="http://www.cs.brown.edu/people/jak/proglang/cpp/stltut/tut.htm" TargetMode="External"/><Relationship Id="rId22" Type="http://schemas.openxmlformats.org/officeDocument/2006/relationships/hyperlink" Target="http://www.cs.brown.edu/people/jak/proglang/cpp/stltut/tut.htm" TargetMode="External"/><Relationship Id="rId23" Type="http://schemas.openxmlformats.org/officeDocument/2006/relationships/hyperlink" Target="http://www.cs.brown.edu/people/jak/proglang/cpp/stltut/tut.htm" TargetMode="External"/><Relationship Id="rId24" Type="http://schemas.openxmlformats.org/officeDocument/2006/relationships/hyperlink" Target="http://www.cs.brown.edu/people/jak/proglang/cpp/stltut/tut.htm" TargetMode="External"/><Relationship Id="rId25" Type="http://schemas.openxmlformats.org/officeDocument/2006/relationships/hyperlink" Target="http://www.cs.brown.edu/people/jak/proglang/cpp/stltut/tut.htm" TargetMode="External"/><Relationship Id="rId26" Type="http://schemas.openxmlformats.org/officeDocument/2006/relationships/hyperlink" Target="http://www.cs.brown.edu/people/jak/proglang/cpp/stltut/tut.htm" TargetMode="External"/><Relationship Id="rId27" Type="http://schemas.openxmlformats.org/officeDocument/2006/relationships/hyperlink" Target="http://www.cs.brown.edu/people/jak/proglang/cpp/stltut/tut.htm" TargetMode="External"/><Relationship Id="rId28" Type="http://schemas.openxmlformats.org/officeDocument/2006/relationships/hyperlink" Target="http://www.zeta.org.au/~jon/STL/views/doc/views.html" TargetMode="External"/><Relationship Id="rId29" Type="http://schemas.openxmlformats.org/officeDocument/2006/relationships/hyperlink" Target="http://www.zeta.org.au/~jon/STL/views/doc/views.html" TargetMode="External"/><Relationship Id="rId30" Type="http://schemas.openxmlformats.org/officeDocument/2006/relationships/hyperlink" Target="http://www.zeta.org.au/~jon/STL/views/doc/views.html" TargetMode="External"/><Relationship Id="rId31" Type="http://schemas.openxmlformats.org/officeDocument/2006/relationships/hyperlink" Target="http://www.zeta.org.au/~jon/STL/views/doc/views.html" TargetMode="External"/><Relationship Id="rId32" Type="http://schemas.openxmlformats.org/officeDocument/2006/relationships/hyperlink" Target="http://www.zeta.org.au/~jon/STL/views/doc/views.html" TargetMode="External"/><Relationship Id="rId33" Type="http://schemas.openxmlformats.org/officeDocument/2006/relationships/hyperlink" Target="http://www.cs.rpi.edu/~musser/stl.html" TargetMode="External"/><Relationship Id="rId34" Type="http://schemas.openxmlformats.org/officeDocument/2006/relationships/hyperlink" Target="http://www.cs.rpi.edu/~musser/stl.html" TargetMode="External"/><Relationship Id="rId35" Type="http://schemas.openxmlformats.org/officeDocument/2006/relationships/hyperlink" Target="http://www.cs.rpi.edu/~musser/stl.html" TargetMode="External"/><Relationship Id="rId36" Type="http://schemas.openxmlformats.org/officeDocument/2006/relationships/hyperlink" Target="http://www.cs.rpi.edu/~musser/stl.html" TargetMode="External"/><Relationship Id="rId37" Type="http://schemas.openxmlformats.org/officeDocument/2006/relationships/hyperlink" Target="http://www.cs.rpi.edu/~musser/stl.html" TargetMode="External"/><Relationship Id="rId38" Type="http://schemas.openxmlformats.org/officeDocument/2006/relationships/hyperlink" Target="http://www.cs.rpi.edu/~musser/stl.html" TargetMode="External"/><Relationship Id="rId39" Type="http://schemas.openxmlformats.org/officeDocument/2006/relationships/hyperlink" Target="http://www.cs.rpi.edu/~musser/stl.html" TargetMode="External"/><Relationship Id="rId40" Type="http://schemas.openxmlformats.org/officeDocument/2006/relationships/hyperlink" Target="http://www.cs.rpi.edu/~musser/stl.html" TargetMode="External"/><Relationship Id="rId41" Type="http://schemas.openxmlformats.org/officeDocument/2006/relationships/hyperlink" Target="http://www.cs.rpi.edu/~musser/stl.html" TargetMode="External"/><Relationship Id="rId42" Type="http://schemas.openxmlformats.org/officeDocument/2006/relationships/hyperlink" Target="http://www.cs.rpi.edu/~musser/stl.html" TargetMode="External"/><Relationship Id="rId43" Type="http://schemas.openxmlformats.org/officeDocument/2006/relationships/hyperlink" Target="http://www.cs.rpi.edu/~musser/stl.html" TargetMode="External"/><Relationship Id="rId44" Type="http://schemas.openxmlformats.org/officeDocument/2006/relationships/hyperlink" Target="http://www.cs.rpi.edu/~musser/stl-what.htm" TargetMode="External"/><Relationship Id="rId45" Type="http://schemas.openxmlformats.org/officeDocument/2006/relationships/hyperlink" Target="http://www.cs.rpi.edu/~musser/stl-what.htm" TargetMode="External"/><Relationship Id="rId46" Type="http://schemas.openxmlformats.org/officeDocument/2006/relationships/hyperlink" Target="http://www.cs.rpi.edu/~musser/stl-what.htm" TargetMode="External"/><Relationship Id="rId47" Type="http://schemas.openxmlformats.org/officeDocument/2006/relationships/hyperlink" Target="http://www.cs.rpi.edu/~musser/stl-what.htm" TargetMode="External"/><Relationship Id="rId48" Type="http://schemas.openxmlformats.org/officeDocument/2006/relationships/hyperlink" Target="http://www.cs.rpi.edu/~musser/stl-what.htm" TargetMode="External"/><Relationship Id="rId49" Type="http://schemas.openxmlformats.org/officeDocument/2006/relationships/hyperlink" Target="http://www.cs.rpi.edu/~musser/stl-what.htm" TargetMode="External"/><Relationship Id="rId50" Type="http://schemas.openxmlformats.org/officeDocument/2006/relationships/hyperlink" Target="http://www.cs.rpi.edu/~musser/stl-what.htm" TargetMode="External"/><Relationship Id="rId51" Type="http://schemas.openxmlformats.org/officeDocument/2006/relationships/hyperlink" Target="http://www.cs.rpi.edu/~musser/stl-what.htm" TargetMode="External"/><Relationship Id="rId52" Type="http://schemas.openxmlformats.org/officeDocument/2006/relationships/hyperlink" Target="http://www.cs.rpi.edu/~musser/stl-what.htm" TargetMode="External"/><Relationship Id="rId53" Type="http://schemas.openxmlformats.org/officeDocument/2006/relationships/hyperlink" Target="http://www.cs.rpi.edu/~musser/stl-what.htm" TargetMode="External"/><Relationship Id="rId54" Type="http://schemas.openxmlformats.org/officeDocument/2006/relationships/hyperlink" Target="http://www.cs.rpi.edu/~musser/stl-what.htm" TargetMode="External"/><Relationship Id="rId55" Type="http://schemas.openxmlformats.org/officeDocument/2006/relationships/hyperlink" Target="http://www.cs.rpi.edu/~musser/stl-what.htm" TargetMode="External"/><Relationship Id="rId56" Type="http://schemas.openxmlformats.org/officeDocument/2006/relationships/hyperlink" Target="http://www.cs.rpi.edu/~musser/stl-differences.html" TargetMode="External"/><Relationship Id="rId57" Type="http://schemas.openxmlformats.org/officeDocument/2006/relationships/hyperlink" Target="http://www.cs.rpi.edu/~musser/stl-differences.html" TargetMode="External"/><Relationship Id="rId58" Type="http://schemas.openxmlformats.org/officeDocument/2006/relationships/hyperlink" Target="http://www.cs.rpi.edu/~musser/stl-differences.html" TargetMode="External"/><Relationship Id="rId59" Type="http://schemas.openxmlformats.org/officeDocument/2006/relationships/hyperlink" Target="http://www.cs.rpi.edu/~musser/stl-differences.html" TargetMode="External"/><Relationship Id="rId60" Type="http://schemas.openxmlformats.org/officeDocument/2006/relationships/hyperlink" Target="http://www.cs.rpi.edu/~musser/stl-differences.html" TargetMode="External"/><Relationship Id="rId61" Type="http://schemas.openxmlformats.org/officeDocument/2006/relationships/hyperlink" Target="http://www.cs.rpi.edu/~musser/stl-differences.html" TargetMode="External"/><Relationship Id="rId62" Type="http://schemas.openxmlformats.org/officeDocument/2006/relationships/hyperlink" Target="http://www.cs.rpi.edu/~musser/stl-differences.html" TargetMode="External"/><Relationship Id="rId63" Type="http://schemas.openxmlformats.org/officeDocument/2006/relationships/hyperlink" Target="http://www.cs.rpi.edu/~musser/stl-differences.html" TargetMode="External"/><Relationship Id="rId64" Type="http://schemas.openxmlformats.org/officeDocument/2006/relationships/hyperlink" Target="http://www.cs.rpi.edu/~musser/stl-differences.html" TargetMode="External"/><Relationship Id="rId65" Type="http://schemas.openxmlformats.org/officeDocument/2006/relationships/hyperlink" Target="http://www.cs.rpi.edu/~musser/stl-differences.html" TargetMode="External"/><Relationship Id="rId66" Type="http://schemas.openxmlformats.org/officeDocument/2006/relationships/hyperlink" Target="http://www.cs.rpi.edu/~musser/stl-differences.html" TargetMode="External"/><Relationship Id="rId67" Type="http://schemas.openxmlformats.org/officeDocument/2006/relationships/hyperlink" Target="http://www.sgi.com/Technology/STL" TargetMode="External"/><Relationship Id="rId68" Type="http://schemas.openxmlformats.org/officeDocument/2006/relationships/hyperlink" Target="http://www.sgi.com/Technology/STL" TargetMode="External"/><Relationship Id="rId69" Type="http://schemas.openxmlformats.org/officeDocument/2006/relationships/hyperlink" Target="http://www.sgi.com/Technology/STL" TargetMode="External"/><Relationship Id="rId70" Type="http://schemas.openxmlformats.org/officeDocument/2006/relationships/hyperlink" Target="http://www.dinkumware.com/refcpp.html" TargetMode="External"/><Relationship Id="rId71" Type="http://schemas.openxmlformats.org/officeDocument/2006/relationships/hyperlink" Target="http://www.dinkumware.com/refcpp.html" TargetMode="External"/><Relationship Id="rId72" Type="http://schemas.openxmlformats.org/officeDocument/2006/relationships/hyperlink" Target="http://www.dinkumware.com/refcpp.html" TargetMode="External"/><Relationship Id="rId73" Type="http://schemas.openxmlformats.org/officeDocument/2006/relationships/hyperlink" Target="http://www.dinkumware.com/refcpp.html" TargetMode="External"/><Relationship Id="rId74" Type="http://schemas.openxmlformats.org/officeDocument/2006/relationships/hyperlink" Target="http://www.dinkumware.com/refcpp.html" TargetMode="External"/><Relationship Id="rId75" Type="http://schemas.openxmlformats.org/officeDocument/2006/relationships/hyperlink" Target="http://www.cs.rpi.edu/~musser" TargetMode="External"/><Relationship Id="rId76" Type="http://schemas.openxmlformats.org/officeDocument/2006/relationships/hyperlink" Target="http://www.cs.rpi.edu/~musser" TargetMode="External"/><Relationship Id="rId77" Type="http://schemas.openxmlformats.org/officeDocument/2006/relationships/hyperlink" Target="http://www.cs.rpi.edu/~musser" TargetMode="External"/><Relationship Id="rId78" Type="http://schemas.openxmlformats.org/officeDocument/2006/relationships/hyperlink" Target="http://www.cs.rpi.edu/~musser" TargetMode="External"/><Relationship Id="rId79" Type="http://schemas.openxmlformats.org/officeDocument/2006/relationships/hyperlink" Target="http://www.cs.rpi.edu/~musser" TargetMode="External"/><Relationship Id="rId80" Type="http://schemas.openxmlformats.org/officeDocument/2006/relationships/hyperlink" Target="http://www.cs.rpi.edu/~musser" TargetMode="External"/><Relationship Id="rId81" Type="http://schemas.openxmlformats.org/officeDocument/2006/relationships/hyperlink" Target="http://www.cs.rpi.edu/~musser" TargetMode="External"/><Relationship Id="rId82" Type="http://schemas.openxmlformats.org/officeDocument/2006/relationships/hyperlink" Target="http://www.cs.rpi.edu/~musser" TargetMode="External"/><Relationship Id="rId83" Type="http://schemas.openxmlformats.org/officeDocument/2006/relationships/hyperlink" Target="http://www.cs.rpi.edu/~musser/gp" TargetMode="External"/><Relationship Id="rId84" Type="http://schemas.openxmlformats.org/officeDocument/2006/relationships/hyperlink" Target="http://www.cs.rpi.edu/~musser/gp" TargetMode="External"/><Relationship Id="rId85" Type="http://schemas.openxmlformats.org/officeDocument/2006/relationships/hyperlink" Target="http://www.cs.rpi.edu/~musser/gp" TargetMode="External"/><Relationship Id="rId86" Type="http://schemas.openxmlformats.org/officeDocument/2006/relationships/hyperlink" Target="http://www.cs.rpi.edu/~musser/gp" TargetMode="External"/><Relationship Id="rId87" Type="http://schemas.openxmlformats.org/officeDocument/2006/relationships/hyperlink" Target="http://www.cs.rpi.edu/~musser/gp" TargetMode="External"/><Relationship Id="rId88" Type="http://schemas.openxmlformats.org/officeDocument/2006/relationships/hyperlink" Target="http://www.cs.rpi.edu/~musser/gp" TargetMode="External"/><Relationship Id="rId89" Type="http://schemas.openxmlformats.org/officeDocument/2006/relationships/hyperlink" Target="http://www.cs.rpi.edu/~musser/gp" TargetMode="External"/><Relationship Id="rId90" Type="http://schemas.openxmlformats.org/officeDocument/2006/relationships/hyperlink" Target="http://www.cs.rpi.edu/~musser/gp" TargetMode="External"/><Relationship Id="rId91" Type="http://schemas.openxmlformats.org/officeDocument/2006/relationships/hyperlink" Target="http://www.cs.rpi.edu/~musser/gp" TargetMode="External"/><Relationship Id="rId92" Type="http://schemas.openxmlformats.org/officeDocument/2006/relationships/hyperlink" Target="http://www.cs.rpi.edu/~musser/gp" TargetMode="External"/><Relationship Id="rId93" Type="http://schemas.openxmlformats.org/officeDocument/2006/relationships/hyperlink" Target="http://www.cyberport.com/~tangent/programming/stl/compatibility.html" TargetMode="External"/><Relationship Id="rId94" Type="http://schemas.openxmlformats.org/officeDocument/2006/relationships/hyperlink" Target="http://www.cyberport.com/~tangent/programming/stl/compatibility.html" TargetMode="External"/><Relationship Id="rId95" Type="http://schemas.openxmlformats.org/officeDocument/2006/relationships/hyperlink" Target="http://www.cyberport.com/~tangent/programming/stl/compatibility.html" TargetMode="External"/><Relationship Id="rId96" Type="http://schemas.openxmlformats.org/officeDocument/2006/relationships/hyperlink" Target="http://www.cyberport.com/~tangent/programming/stl/compatibility.html" TargetMode="External"/><Relationship Id="rId97" Type="http://schemas.openxmlformats.org/officeDocument/2006/relationships/hyperlink" Target="http://www.cyberport.com/~tangent/programming/stl/compatibility.html" TargetMode="External"/><Relationship Id="rId98" Type="http://schemas.openxmlformats.org/officeDocument/2006/relationships/hyperlink" Target="http://www.accesscom.com/~iburrell/cpp/stl.html" TargetMode="External"/><Relationship Id="rId99" Type="http://schemas.openxmlformats.org/officeDocument/2006/relationships/hyperlink" Target="http://www.accesscom.com/~iburrell/cpp/stl.html" TargetMode="External"/><Relationship Id="rId100" Type="http://schemas.openxmlformats.org/officeDocument/2006/relationships/hyperlink" Target="http://www.accesscom.com/~iburrell/cpp/stl.html" TargetMode="External"/><Relationship Id="rId101" Type="http://schemas.openxmlformats.org/officeDocument/2006/relationships/hyperlink" Target="http://www.accesscom.com/~iburrell/cpp/stl.html" TargetMode="External"/><Relationship Id="rId102" Type="http://schemas.openxmlformats.org/officeDocument/2006/relationships/hyperlink" Target="http://www.accesscom.com/~iburrell/cpp/stl.html" TargetMode="External"/><Relationship Id="rId103" Type="http://schemas.openxmlformats.org/officeDocument/2006/relationships/hyperlink" Target="http://www.accesscom.com/~iburrell/cpp/stl.html" TargetMode="External"/><Relationship Id="rId104" Type="http://schemas.openxmlformats.org/officeDocument/2006/relationships/hyperlink" Target="http://www.accesscom.com/~iburrell/cpp/stl.html" TargetMode="External"/><Relationship Id="rId105" Type="http://schemas.openxmlformats.org/officeDocument/2006/relationships/hyperlink" Target="http://www.accesscom.com/~iburrell/cpp/stl.html" TargetMode="External"/><Relationship Id="rId106" Type="http://schemas.openxmlformats.org/officeDocument/2006/relationships/hyperlink" Target="http://www.accesscom.com/~iburrell/cpp/stl.html" TargetMode="External"/><Relationship Id="rId107" Type="http://schemas.openxmlformats.org/officeDocument/2006/relationships/hyperlink" Target="http://www.sj-coop.net/~yotam/stl.html" TargetMode="External"/><Relationship Id="rId108" Type="http://schemas.openxmlformats.org/officeDocument/2006/relationships/hyperlink" Target="http://www.sj-coop.net/~yotam/stl.html" TargetMode="External"/><Relationship Id="rId109" Type="http://schemas.openxmlformats.org/officeDocument/2006/relationships/hyperlink" Target="http://www.sj-coop.net/~yotam/stl.html" TargetMode="External"/><Relationship Id="rId110" Type="http://schemas.openxmlformats.org/officeDocument/2006/relationships/hyperlink" Target="http://www.sj-coop.net/~yotam/stl.html" TargetMode="External"/><Relationship Id="rId111" Type="http://schemas.openxmlformats.org/officeDocument/2006/relationships/hyperlink" Target="http://www.sj-coop.net/~yotam/stl.html" TargetMode="External"/><Relationship Id="rId112" Type="http://schemas.openxmlformats.org/officeDocument/2006/relationships/hyperlink" Target="http://www.sj-coop.net/~yotam/stl.html" TargetMode="External"/><Relationship Id="rId113" Type="http://schemas.openxmlformats.org/officeDocument/2006/relationships/hyperlink" Target="http://www.sj-coop.net/~yotam/stl.html" TargetMode="External"/><Relationship Id="rId11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049040"/>
            <a:ext cx="74674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3366"/>
                </a:solidFill>
                <a:latin typeface="Times New Roman"/>
              </a:rPr>
              <a:t>Standard Template Library</a:t>
            </a:r>
            <a:br>
              <a:rPr sz="4800"/>
            </a:br>
            <a:br>
              <a:rPr sz="4800"/>
            </a:br>
            <a:br>
              <a:rPr sz="2000"/>
            </a:b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MAC 441 – MAC 5714 – Programação Orientada a Objetos</a:t>
            </a:r>
            <a:br>
              <a:rPr sz="1800"/>
            </a:b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Professor: Alan M. Durham</a:t>
            </a:r>
            <a:br>
              <a:rPr sz="1800"/>
            </a:b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Aluno: Adolfo Neto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Instituto de Matemática e Estatística – 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Universidade de São Paulo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odelo de Clas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template &lt;class 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badi MT Condensed Light"/>
              </a:rPr>
              <a:t>class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badi MT Condensed Light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badi MT Condensed Light"/>
              </a:rPr>
              <a:t>// detalhes omi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badi MT Condensed Light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vector &lt;double&gt; vetorRe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vector &lt;string&gt; vetorSt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ODELOS DE CLASSE – O PROCES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class intArray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publ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int &amp; operator [ ] (i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/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charArray, double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ODELOS DE CLASSE – O PROCES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template &lt;class 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class Array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public T&amp; operator [ ] (i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/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Ex.: </a:t>
            </a: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Array &lt;int&gt;</a:t>
            </a: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Array &lt;cha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badi MT Condensed Light"/>
              </a:rPr>
              <a:t>Array &lt;doubl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tandard Template Libr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ipos de compon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êineres (Contai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etidores (Iter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oritmos (Algorith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5029200"/>
            <a:ext cx="25146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êin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5029200"/>
            <a:ext cx="25146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gorit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5181480"/>
            <a:ext cx="1828800" cy="609840"/>
          </a:xfrm>
          <a:prstGeom prst="leftRightArrow">
            <a:avLst>
              <a:gd name="adj1" fmla="val 50000"/>
              <a:gd name="adj2" fmla="val 596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PETI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685800"/>
            <a:ext cx="7696440" cy="52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#include &lt;vecto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#include &lt;algorith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#include &lt;functiona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using namespace st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typedef vector&lt;int&gt;::iterator iterat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nt d1[10] = {0,1,2,2,3,4,2,2,6,7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685800"/>
            <a:ext cx="769644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// Set up a v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vector&lt;int&gt; v1(d1,d1 + 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// Try f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iterator it1 = find(v1.begin(),v1.end(),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// it1 = v1.begin() + 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// Try find_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iterator it2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find_if(v1.begin(),v1.end(),bind1st(equal_to&lt;int&gt;(),3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// it2 = v1.begin() +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38080" y="685800"/>
            <a:ext cx="7696440" cy="58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// Try both adjacent_find vari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iterator it3 = adjacent_find(v1.begin(),v1.end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// it3 = v1.begin() 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iterator it4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adjacent_find(v1.begin(),v1.end(),equal_to&lt;int&gt;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// it4 = v1.begin() +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// Output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cout &lt;&lt; *it1 &lt;&lt; " " &lt;&lt; *it2 &lt;&lt; " " &lt;&lt; *it3 &lt;&lt; " 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&lt;&lt; *it4 &lt;&lt; end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algorthm7v2" descr=""/>
          <p:cNvPicPr/>
          <p:nvPr/>
        </p:nvPicPr>
        <p:blipFill>
          <a:blip r:embed="rId1"/>
          <a:stretch/>
        </p:blipFill>
        <p:spPr>
          <a:xfrm>
            <a:off x="1447920" y="588960"/>
            <a:ext cx="632448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funct" descr=""/>
          <p:cNvPicPr/>
          <p:nvPr/>
        </p:nvPicPr>
        <p:blipFill>
          <a:blip r:embed="rId1"/>
          <a:stretch/>
        </p:blipFill>
        <p:spPr>
          <a:xfrm>
            <a:off x="990720" y="428760"/>
            <a:ext cx="655308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15328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tei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istórico e Motiv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resentação da ST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ntêine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grupo de modelos de classe que fornecem estrutu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ntas para us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néricas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droni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armazenar d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epetido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forma genérica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cessa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contrar o sucessor de e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contrar o predecessor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elemento de um contê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Algoritm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rupo de modelos de função que fornecem funçõ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ntas para us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enéricas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dron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executar muitas das operações mais comuns em objetos contêine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T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que os algoritmos sejam genéricos, funcionem para qualquer contêiner, cada contêiner fornece repetidores para os algoritmos usar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repetidores fornecem a interface necessária para os algoritmos STL operarem em contêineres ST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Mode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lasses modelo, parâmetros modelo padrão, funções-membro modelo, funções mod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3124080"/>
            <a:ext cx="4435560" cy="301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mplate &lt;class T, class Allocator = allocato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ass vecto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oid push_back (const T&amp;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mplate&lt;class InputIterato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oid insert (iterator position, InputIterator firs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Iterator la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mplate &lt;class 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 max(T x, T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turn x &lt; y ? y :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3124080"/>
            <a:ext cx="3886200" cy="25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ctor&lt;int&gt; v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.push_back(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/ vector&lt;int&gt;::iterator InputIt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.insert(2, v2.begin(), v2.end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 a=3, b=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oat c=3.14, d=6.2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ut &lt;&lt; max(a,b) &lt;&lt; endl;  // 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ut &lt;&lt; max(c,d) &lt;&lt; endl;  // corr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ut &lt;&lt; max(a,c) &lt;&lt; endl;  //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Contêin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ontêineres seqüenc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 a[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vector&lt;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deque&lt;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list&lt;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ontêineres ordenados associ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et&lt;Chav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ultiset&lt;Chav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ap&lt;Chave, 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ultimap&lt;Chave, 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Algoritmos Genéric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lgoritmos não modificadores de seqü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find, find_if, adjacent_find, count, for_each, mismatch, equal,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lgoritmos modificadores de seqü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copy, copy_backward, fill, generate, partition, random_shuffle, remove, replace, reverse, rotate, swap, swap_ranges, transform, u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lgoritmos relacionados a or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sort, stable_sort, partial_sort, nth_element, binary_search, lower_bound, upper_bound, equal_range, merge, set_union, set_intersection, set_difference, set_symmetric_difference, make_heap, pop_heap, push_heap, sort_heap, max_element, min_element, lexicographical_comparison, next_permutation, prev_perm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lgoritmos numéricos ge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accumulate, partial_sum, adjacent_difference, inner_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Repetido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O repetidor fornecido pelo contêiner deve ser mais poderoso que a necessidade do algorit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74880" y="3009960"/>
            <a:ext cx="6561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mplate&lt;class RandomAccessIterato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oid sort(RandomAccessIterator firs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ndomAccessIterator las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ctor&lt;T&gt;::iterator --&gt; acesso aleató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st&lt;T&gt;::ite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-&gt; bidire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ocê não pode aplicar o algoritmo de ordenação no contêiner li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s o contêiner lista fornece list&lt;T&gt;::sort(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Repetido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Repetidores são abstrações de pontei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xiste uma hierarquia de repetid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2666880"/>
            <a:ext cx="656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41148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Objetos-Fun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1752480"/>
            <a:ext cx="350532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ctor&lt;int&gt; v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 sum=accumulate(v1.begin(), v1.end(), 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2590920"/>
            <a:ext cx="358128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 mult(int x, int y) { return x*y 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ctor&lt;int&gt; v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 product=accumulate(v1.begin(), v1.end(), 1, mul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3400" y="4191120"/>
            <a:ext cx="3886200" cy="118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ass multiply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 operator()(int x, int y) const { return x*y 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ctor&lt;int&gt; v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 product=accumulate(v1.begin(), v1.end(), 1, multiply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313080" cy="16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Objetos função podem carregar com eles informação adicion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Objetos função fornecem eficiência sem overhead de chamada de fun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4191120"/>
            <a:ext cx="3962520" cy="7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ctor&lt;int&gt; v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 product=accumulate(v1.begin(), v1.end(), 1, times&lt;int&gt;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ício dos anos 90: Alex Stepanov e Meng Lee (Laboratórios H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iblioteca de modelos de classe e fun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drão C++ ISO/ANSI incluiu STL entre as bibliotecas de C++ padr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Adaptado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Um componente que modifica a interface de outro compo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daptadores de re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reverse_it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insert_it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daptadores de contêin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stack adap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queue adap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priority queue adap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daptadores de fun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negator: reverte uma seqüência de objetos função predic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binder: convertem objetos função binários em objetos função uná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pointer-to-function: transformam um apontador para uma função num objeto fun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2280" y="380880"/>
            <a:ext cx="41148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#include &lt;string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#include &lt;ma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namespace st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ypedef map&lt;string, int, less&lt;string&gt; &gt; months_typ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/ Print out a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mplate &lt;class First, class Secon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stream&amp; operator&lt;&lt;(ostream&amp; out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t pair&lt;First,Second&gt; &amp; 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ut &lt;&lt; p.first &lt;&lt; " has " &lt;&lt; p.second &lt;&lt; " days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turn 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/ Print out a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stream&amp; operator&lt;&lt;(ostream&amp; out, const months_type &amp; 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py(l.begin(),l.end(), ostream_it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months_type::value_type&gt;(cout,"\n"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turn 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 main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/ create a map of months and the number of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/ in the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s_type month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ypedef months_type::value_type value_typ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533520"/>
            <a:ext cx="40384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/ Put the months in the multi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s.insert(value_type(string("January"),   31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s.insert(value_type(string("February"),   28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s.insert(value_type(string("February"),   29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s.insert(value_type(string("March"),     31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s.insert(value_type(string("April"),     30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s.insert(value_type(string("May"),       31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s.insert(value_type(string("June"),      30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s.insert(value_type(string("July"),      31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s.insert(value_type(string("August"),    31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s.insert(value_type(string("September"), 30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s.insert(value_type(string("October"),   31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s.insert(value_type(string("November"),  30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s.insert(value_type(string("December"),  31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/ print out the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/ Second Febuary is not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ut &lt;&lt; months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/ Find the Number of days in J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s_type::iterator p = months.find(string("June"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/ print out the number of days in J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(p != months.end(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ut &lt;&lt; endl &lt;&lt; *p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 days = months[("December")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380880"/>
            <a:ext cx="0" cy="594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94760" y="639936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CEE2-1EEE-4241-B90D-3BD121F4CB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762120"/>
            <a:ext cx="7620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April has 30 day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August has 31 day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December has 31 day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February has 28 day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January has 31 day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July has 31 day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June has 30 day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arch has 31 day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May has 31 day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November has 30 day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October has 31 day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September has 30 days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MS Mincho"/>
              </a:rPr>
              <a:t>June has 30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1560" y="569880"/>
            <a:ext cx="380484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#include &lt;vect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#include &lt;algorith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namespace st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ypedef vector&lt;int&gt;::iterator iterat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 d1[10] = {0,1,2,2,3,4,2,2,6,7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/ Set up a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ctor&lt;int&gt; v1(d1,d1 + 1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/ Try fi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erator it1 = find(v1.begin(),v1.end(),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/ it1 = v1.begin() + 4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/ Try find_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erator it2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nd_if(v1.begin(),v1.end(),bind1st(equal_to&lt;int&gt;(),3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/ it2 = v1.begin()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/ Try both adjacent_find var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erator it3 = adjacent_find(v1.begin(),v1.end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/ it3 = v1.begin() +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10680" y="533520"/>
            <a:ext cx="35532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erator it4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jacent_find(v1.begin(),v1.end(),equal_to&lt;int&gt;(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/ it4 = v1.begin()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/ Output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ut &lt;&lt; *it1 &lt;&lt; " " &lt;&lt; *it2 &lt;&lt; " " &lt;&lt; *it3 &lt;&lt; "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&lt; *it4 &lt;&lt;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57200"/>
            <a:ext cx="0" cy="594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94760" y="639936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78CD-9B4F-4F35-B9CB-33B3CC16DE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NCLUS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TL fornece o que Smalltalk já fornecia: classes genéricas para colecionar diferentes tipos de objetos (Colle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ém, como C++ é fortemente tipado, não há tanta flexibilidade aqui quanto lá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eferênc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1828800"/>
            <a:ext cx="7772400" cy="38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oel Adams, Sandford Leestma, Larry Nyhoff;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++: An Introduction to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ichard Johnsonbaugh, Martin Kalin;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lications Programming in 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jarne Stroustrup;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he C++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anguageLippman &amp; Lajoie;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++ Pri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ruce Eckel,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hinking in C++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olumes 1 e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ambém disponível na web:  www.bruceecke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eferênc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1828800"/>
            <a:ext cx="7772400" cy="37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modest STL tuto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ttp://www.cs.brown.edu/people/jak/proglang/cpp/stltut/tut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ttp://www.dinkumwar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iblioteca alternativa e documentação: </a:t>
            </a:r>
            <a:r>
              <a:rPr b="0" lang="pt-BR" sz="24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sgi.com/Technology/ST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eferênc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1828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1600200"/>
            <a:ext cx="8564400" cy="47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xraylith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4"/>
              </a:rPr>
              <a:t>wisc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7"/>
              </a:rPr>
              <a:t>/~khan/software/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8"/>
              </a:rPr>
              <a:t>stl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9"/>
              </a:rPr>
              <a:t>/STL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0"/>
              </a:rPr>
              <a:t>newbie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1"/>
              </a:rPr>
              <a:t>.htm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-- The STL Newbie Guide 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2"/>
              </a:rPr>
              <a:t>http://www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3"/>
              </a:rPr>
              <a:t>cs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4"/>
              </a:rPr>
              <a:t>.brown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5"/>
              </a:rPr>
              <a:t>edu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6"/>
              </a:rPr>
              <a:t>/people/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7"/>
              </a:rPr>
              <a:t>jak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8"/>
              </a:rPr>
              <a:t>/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9"/>
              </a:rPr>
              <a:t>proglang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20"/>
              </a:rPr>
              <a:t>/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21"/>
              </a:rPr>
              <a:t>cpp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22"/>
              </a:rPr>
              <a:t>/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23"/>
              </a:rPr>
              <a:t>stltut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24"/>
              </a:rPr>
              <a:t>/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25"/>
              </a:rPr>
              <a:t>tut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26"/>
              </a:rPr>
              <a:t>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27"/>
              </a:rPr>
              <a:t>ht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-- A modest STL Tutor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28"/>
              </a:rPr>
              <a:t>http://www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29"/>
              </a:rPr>
              <a:t>zeta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30"/>
              </a:rPr>
              <a:t>.org.au/~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31"/>
              </a:rPr>
              <a:t>jon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32"/>
              </a:rPr>
              <a:t>/STL/views/doc/views.htm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-- Views - a C++ Standard Template Libr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33"/>
              </a:rPr>
              <a:t>http://www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34"/>
              </a:rPr>
              <a:t>cs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35"/>
              </a:rPr>
              <a:t>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36"/>
              </a:rPr>
              <a:t>rpi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37"/>
              </a:rPr>
              <a:t>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38"/>
              </a:rPr>
              <a:t>edu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39"/>
              </a:rPr>
              <a:t>/~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40"/>
              </a:rPr>
              <a:t>musser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41"/>
              </a:rPr>
              <a:t>/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42"/>
              </a:rPr>
              <a:t>stl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43"/>
              </a:rPr>
              <a:t>.htm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-- The  Standard Template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44"/>
              </a:rPr>
              <a:t>http://www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45"/>
              </a:rPr>
              <a:t>cs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46"/>
              </a:rPr>
              <a:t>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47"/>
              </a:rPr>
              <a:t>rpi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48"/>
              </a:rPr>
              <a:t>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49"/>
              </a:rPr>
              <a:t>edu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50"/>
              </a:rPr>
              <a:t>/~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51"/>
              </a:rPr>
              <a:t>musser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52"/>
              </a:rPr>
              <a:t>/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53"/>
              </a:rPr>
              <a:t>stl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54"/>
              </a:rPr>
              <a:t>-what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55"/>
              </a:rPr>
              <a:t>ht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-- STL, a new kind of library for C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56"/>
              </a:rPr>
              <a:t>http://www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57"/>
              </a:rPr>
              <a:t>cs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58"/>
              </a:rPr>
              <a:t>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59"/>
              </a:rPr>
              <a:t>rpi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60"/>
              </a:rPr>
              <a:t>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61"/>
              </a:rPr>
              <a:t>edu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62"/>
              </a:rPr>
              <a:t>/~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63"/>
              </a:rPr>
              <a:t>musser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64"/>
              </a:rPr>
              <a:t>/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65"/>
              </a:rPr>
              <a:t>stl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66"/>
              </a:rPr>
              <a:t>-differences.htm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--  How does STL differ from other C++ libraries? 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67"/>
              </a:rPr>
              <a:t>http://www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68"/>
              </a:rPr>
              <a:t>sgi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69"/>
              </a:rPr>
              <a:t>.com/Technology/ST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-- </a:t>
            </a:r>
            <a:r>
              <a:rPr b="1" lang="en-US" sz="1200" spc="-1" strike="noStrike">
                <a:solidFill>
                  <a:srgbClr val="ff99ff"/>
                </a:solidFill>
                <a:latin typeface="Times New Roman"/>
              </a:rPr>
              <a:t>The Standard Template Library Programmer's Gu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70"/>
              </a:rPr>
              <a:t>http://www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71"/>
              </a:rPr>
              <a:t>dinkumware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72"/>
              </a:rPr>
              <a:t>.com/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73"/>
              </a:rPr>
              <a:t>refcpp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74"/>
              </a:rPr>
              <a:t>.htm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-- The Dinkum C++ Libr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75"/>
              </a:rPr>
              <a:t>http://www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76"/>
              </a:rPr>
              <a:t>cs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77"/>
              </a:rPr>
              <a:t>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78"/>
              </a:rPr>
              <a:t>rpi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79"/>
              </a:rPr>
              <a:t>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80"/>
              </a:rPr>
              <a:t>edu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81"/>
              </a:rPr>
              <a:t>/~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82"/>
              </a:rPr>
              <a:t>musse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-- David R. Musser -- personal web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83"/>
              </a:rPr>
              <a:t>http://www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84"/>
              </a:rPr>
              <a:t>cs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85"/>
              </a:rPr>
              <a:t>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86"/>
              </a:rPr>
              <a:t>rpi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87"/>
              </a:rPr>
              <a:t>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88"/>
              </a:rPr>
              <a:t>edu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89"/>
              </a:rPr>
              <a:t>/~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90"/>
              </a:rPr>
              <a:t>musser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91"/>
              </a:rPr>
              <a:t>/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92"/>
              </a:rPr>
              <a:t>gp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-- Generic Program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93"/>
              </a:rPr>
              <a:t>http://www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94"/>
              </a:rPr>
              <a:t>cyberport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95"/>
              </a:rPr>
              <a:t>.com/~tangent/programming/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96"/>
              </a:rPr>
              <a:t>stl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97"/>
              </a:rPr>
              <a:t>/compatibility.htm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-- STL-compatible compiler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98"/>
              </a:rPr>
              <a:t>http://www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99"/>
              </a:rPr>
              <a:t>accesscom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00"/>
              </a:rPr>
              <a:t>.com/~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01"/>
              </a:rPr>
              <a:t>iburrell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02"/>
              </a:rPr>
              <a:t>/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03"/>
              </a:rPr>
              <a:t>cpp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04"/>
              </a:rPr>
              <a:t>/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05"/>
              </a:rPr>
              <a:t>stl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06"/>
              </a:rPr>
              <a:t>.htm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-- Standard  Template Library [stanford.edu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07"/>
              </a:rPr>
              <a:t>http://www.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08"/>
              </a:rPr>
              <a:t>sj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09"/>
              </a:rPr>
              <a:t>-coop.net/~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10"/>
              </a:rPr>
              <a:t>yotam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11"/>
              </a:rPr>
              <a:t>/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12"/>
              </a:rPr>
              <a:t>stl</a:t>
            </a:r>
            <a:r>
              <a:rPr b="0" lang="en-US" sz="1200" spc="-1" strike="noStrike" u="sng">
                <a:solidFill>
                  <a:srgbClr val="99ccff"/>
                </a:solidFill>
                <a:uFillTx/>
                <a:latin typeface="Times New Roman"/>
                <a:hlinkClick r:id="rId113"/>
              </a:rPr>
              <a:t>.htm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-- Standard Template Library Links and Quick 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cyberport.com/~tangent/programming/stl/resources.htm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-- STL Resource List&lt;/A&gt; &lt;/T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jacwiley.com.au/compbooks/catalog/97181-2.ht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-- STL for C++ Program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cs.rpi.edu/projects/STL/htdocs/stl.htm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-- Standard Template Library Online Reference Hom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cs.rpi.edu/~musser/stl-book-errata.htm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-- STL Tutorial and Reference Gu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newsville.com/news/groups/stl.htm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-- stl news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stlport.org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-- STLport Hom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techpubs.sgi.com/library/manuals/3000/007-3426-003/html/other_resources.htm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-- STL Links and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infosys.tuwien.ac.at/Research/Component/tutorial/prwmain.ht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-- The  STL tutorial at Technical University Vi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cs.rpi.edu/~wiseb/xrds/ovp2-3b.htm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-- Overview of  the STL by G. Bowden W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cpsc.ucalgary.ca/~kremer/STL/1024x768/index.htm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--  The Standard Template Library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http://tech.ilp.physik.uni-essen.de/www.debian.org/Packages/unstable/doc/stl-manual.htm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-- stl-manual - Link To S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490a8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新細明體"/>
              </a:rPr>
              <a:t>Histórico – Linha do temp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T&amp;T Bell Lab. e HP: Alexander Stepano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1979: pesquisa em programação gen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1987: primeira implementação em 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1992: Meng Lee (co-autor) junta-se ao pro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1993: apresentado ao comitê ANSI/ISO para C+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1994: proposta receb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1997: torna-se parte da Biblioteca Padrão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otiv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utilização de algoritmos e estruturas de d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algoritmos não dependem de todas as características das estru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OS (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TEMPLA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delos de funçã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padrões para fun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mpilador cria várias funções diferentes a partir de um mesmo modelo de fu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ebem parâmetros de 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m escrever funções genéricas – independentes de 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71625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badi MT Condensed Light"/>
              </a:rPr>
              <a:t>template &lt;class Item&gt;</a:t>
            </a:r>
            <a:br>
              <a:rPr sz="2800"/>
            </a:br>
            <a:r>
              <a:rPr b="0" lang="pt-BR" sz="2800" spc="-1" strike="noStrike">
                <a:solidFill>
                  <a:srgbClr val="003366"/>
                </a:solidFill>
                <a:latin typeface="Abadi MT Condensed Light"/>
              </a:rPr>
              <a:t>void Troca (Item &amp; primeiro, Item &amp; segundo)</a:t>
            </a:r>
            <a:br>
              <a:rPr sz="2800"/>
            </a:br>
            <a:r>
              <a:rPr b="0" lang="pt-BR" sz="2800" spc="-1" strike="noStrike">
                <a:solidFill>
                  <a:srgbClr val="003366"/>
                </a:solidFill>
                <a:latin typeface="Abadi MT Condensed Light"/>
              </a:rPr>
              <a:t>{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3366"/>
                </a:solidFill>
                <a:latin typeface="Abadi MT Condensed Light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Abadi MT Condensed Light"/>
              </a:rPr>
              <a:t>Item temporario = primeiro;</a:t>
            </a:r>
            <a:br>
              <a:rPr sz="2800"/>
            </a:br>
            <a:r>
              <a:rPr b="0" lang="pt-BR" sz="2800" spc="-1" strike="noStrike">
                <a:solidFill>
                  <a:srgbClr val="003366"/>
                </a:solidFill>
                <a:latin typeface="Abadi MT Condensed Light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Abadi MT Condensed Light"/>
              </a:rPr>
              <a:t>primeiro = segundo;</a:t>
            </a:r>
            <a:br>
              <a:rPr sz="2800"/>
            </a:br>
            <a:r>
              <a:rPr b="0" lang="pt-BR" sz="2800" spc="-1" strike="noStrike">
                <a:solidFill>
                  <a:srgbClr val="003366"/>
                </a:solidFill>
                <a:latin typeface="Abadi MT Condensed Light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Abadi MT Condensed Light"/>
              </a:rPr>
              <a:t>segundo = temporario;</a:t>
            </a:r>
            <a:br>
              <a:rPr sz="2800"/>
            </a:br>
            <a:r>
              <a:rPr b="0" lang="pt-BR" sz="2800" spc="-1" strike="noStrike">
                <a:solidFill>
                  <a:srgbClr val="003366"/>
                </a:solidFill>
                <a:latin typeface="Abadi MT Condensed Light"/>
              </a:rPr>
              <a:t>}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03536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 Black"/>
              </a:rPr>
              <a:t>Modelo de função - Ex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08040"/>
            <a:ext cx="716256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badi MT Condensed Light"/>
              </a:rPr>
              <a:t>Se chamarmos: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3366"/>
                </a:solidFill>
                <a:latin typeface="Abadi MT Condensed Light"/>
              </a:rPr>
              <a:t>&gt;Troca (int1, int2)</a:t>
            </a:r>
            <a:br>
              <a:rPr sz="2800"/>
            </a:br>
            <a:r>
              <a:rPr b="0" lang="pt-BR" sz="2800" spc="-1" strike="noStrike">
                <a:solidFill>
                  <a:srgbClr val="003366"/>
                </a:solidFill>
                <a:latin typeface="Abadi MT Condensed Light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Abadi MT Condensed Light"/>
              </a:rPr>
              <a:t> o compilador cria uma instância de Troca (int, int)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3366"/>
                </a:solidFill>
                <a:latin typeface="Abadi MT Condensed Light"/>
              </a:rPr>
              <a:t>&gt;Troca (char1, char2)</a:t>
            </a:r>
            <a:br>
              <a:rPr sz="2800"/>
            </a:br>
            <a:r>
              <a:rPr b="0" lang="pt-BR" sz="2800" spc="-1" strike="noStrike">
                <a:solidFill>
                  <a:srgbClr val="003366"/>
                </a:solidFill>
                <a:latin typeface="Abadi MT Condensed Light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Abadi MT Condensed Light"/>
              </a:rPr>
              <a:t> o compilador cria uma instância de Troca (char, char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03536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 Black"/>
              </a:rPr>
              <a:t>Modelo de função - Ex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ODELOS DE CLAS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ão padrões para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compilador cria várias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classes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ferentes a partir de um mesmo modelo de c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ebem parâmetros de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ermitem escrever classes genéricas – independentes de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21:17:15Z</dcterms:created>
  <dc:creator>User 1</dc:creator>
  <dc:description/>
  <dc:language>en-US</dc:language>
  <cp:lastModifiedBy>User 1</cp:lastModifiedBy>
  <dcterms:modified xsi:type="dcterms:W3CDTF">2003-05-09T07:37:30Z</dcterms:modified>
  <cp:revision>44</cp:revision>
  <dc:subject/>
  <dc:title>Standard Template Library  MAC 441 – MAC 5714 – Programação Orientada a Objetos Professor: Alan M. Durham Aluno: Adolfo Neto   IME – USP </dc:title>
</cp:coreProperties>
</file>